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8EB97-82FE-4CBF-A5DE-6915FFE03B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79280" y="387216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5FECC-3C77-4DF5-8D57-02550DCE9B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144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3D8F0-4F20-4397-B666-37938C33DF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4964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2000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7928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4964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2000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FD4DE-6C14-4A4E-A153-E6C021BB37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2050560" y="274680"/>
            <a:ext cx="69138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31143-AAC3-47AD-8166-B2F2CC2DBC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8144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79280" y="387216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8144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14964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12000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7928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14964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12000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8B4D1-72B4-4386-90E3-8DE9F44847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20468-6B43-4ABE-B0D3-1E78D6D503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441A6-6ED7-4312-80EB-E7209FF5BC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2050560" y="274680"/>
            <a:ext cx="69138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7872A-8566-4210-9B3A-E128F5D505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F6E32-C688-4C13-BA00-C50B04EA25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144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2964A-9F82-48BD-BE01-C56EA69197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C92AF-624D-4E7D-8067-EFB7CB6F5F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9280" y="6132600"/>
            <a:ext cx="8785440" cy="609480"/>
            <a:chOff x="179280" y="6132600"/>
            <a:chExt cx="8785440" cy="609480"/>
          </a:xfrm>
        </p:grpSpPr>
        <p:sp>
          <p:nvSpPr>
            <p:cNvPr id="1" name=""/>
            <p:cNvSpPr/>
            <p:nvPr/>
          </p:nvSpPr>
          <p:spPr>
            <a:xfrm>
              <a:off x="539640" y="6172200"/>
              <a:ext cx="8425080" cy="534960"/>
            </a:xfrm>
            <a:prstGeom prst="roundRect">
              <a:avLst>
                <a:gd name="adj" fmla="val 7120"/>
              </a:avLst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39640" y="6132600"/>
              <a:ext cx="2365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3" name=""/>
            <p:cNvGraphicFramePr/>
            <p:nvPr/>
          </p:nvGraphicFramePr>
          <p:xfrm>
            <a:off x="179280" y="6154560"/>
            <a:ext cx="576360" cy="571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9280" y="6154560"/>
                      <a:ext cx="576360" cy="57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344600" indent="-18396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797120" indent="-2732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152800" indent="-1764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152800" indent="-1764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152800" indent="-1764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7" name=""/>
          <p:cNvGraphicFramePr/>
          <p:nvPr/>
        </p:nvGraphicFramePr>
        <p:xfrm>
          <a:off x="136440" y="82440"/>
          <a:ext cx="1152720" cy="1143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6440" y="82440"/>
                    <a:ext cx="11527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" name=""/>
          <p:cNvSpPr/>
          <p:nvPr/>
        </p:nvSpPr>
        <p:spPr>
          <a:xfrm>
            <a:off x="0" y="1341360"/>
            <a:ext cx="91440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779400" y="6176880"/>
            <a:ext cx="756144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Design of Tubular Steel Structur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Lecture 6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hoice of structural analysis and consequences on desig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1"/>
          </p:nvPr>
        </p:nvSpPr>
        <p:spPr>
          <a:xfrm>
            <a:off x="8244000" y="6453000"/>
            <a:ext cx="65880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20F27-D104-4F21-BC10-019BAA3CB8C8}" type="slidenum">
              <a:rPr b="0" lang="en-GB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448120" y="6275520"/>
            <a:ext cx="459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66"/>
                </a:solidFill>
                <a:latin typeface="Arial"/>
              </a:rPr>
              <a:t>Feb. 2009</a:t>
            </a:r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341360"/>
            <a:ext cx="91440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76360" y="549360"/>
            <a:ext cx="7416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COMITE  INTERNATIONAL  POUR  LE  DEVELOPPEMEN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ET  L'ETUDE  DE  LA  CONSTRUCTION  TUBULAIR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36440" y="82440"/>
          <a:ext cx="115272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6440" y="82440"/>
                    <a:ext cx="11527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1258920" y="4508640"/>
            <a:ext cx="662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resentation by …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1608120"/>
            <a:ext cx="79214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Module 2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Structural analysis and design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2886120"/>
            <a:ext cx="79214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Lecture 6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hoice of structural analysis and consequences on desig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9280" y="6132600"/>
            <a:ext cx="8785440" cy="609480"/>
            <a:chOff x="179280" y="6132600"/>
            <a:chExt cx="8785440" cy="609480"/>
          </a:xfrm>
        </p:grpSpPr>
        <p:sp>
          <p:nvSpPr>
            <p:cNvPr id="58" name=""/>
            <p:cNvSpPr/>
            <p:nvPr/>
          </p:nvSpPr>
          <p:spPr>
            <a:xfrm>
              <a:off x="539640" y="6172200"/>
              <a:ext cx="8425080" cy="534960"/>
            </a:xfrm>
            <a:prstGeom prst="roundRect">
              <a:avLst>
                <a:gd name="adj" fmla="val 7120"/>
              </a:avLst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39640" y="6132600"/>
              <a:ext cx="2365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60" name=""/>
            <p:cNvGraphicFramePr/>
            <p:nvPr/>
          </p:nvGraphicFramePr>
          <p:xfrm>
            <a:off x="179280" y="6154560"/>
            <a:ext cx="576360" cy="571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79280" y="6154560"/>
                      <a:ext cx="576360" cy="57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2" name=""/>
          <p:cNvSpPr/>
          <p:nvPr/>
        </p:nvSpPr>
        <p:spPr>
          <a:xfrm>
            <a:off x="779400" y="6176880"/>
            <a:ext cx="756144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Design of Tubular Steel Structur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Training and Education for the Implementation of Eurocode 3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6318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60640" algn="ctr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523880" algn="ctr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4" marL="1976400" algn="ctr">
              <a:spcBef>
                <a:spcPts val="451"/>
              </a:spcBef>
              <a:buClr>
                <a:srgbClr val="00006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5" marL="1976400">
              <a:spcBef>
                <a:spcPts val="451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6" marL="1976400">
              <a:spcBef>
                <a:spcPts val="451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First order or second order elastic global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16160" indent="-41616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First order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elastic global analysis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02520" indent="-321120"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quilibrium with reference to the initial configuration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02520" indent="-321120"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ermitted when second order effects sufficiently small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16160" indent="-41616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Second order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elastic global analysis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02520" indent="-321120"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quilibrium with reference to the deflected configuration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02520" indent="-321120"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Due allowance made for second order effect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02520" indent="-321120"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wo ways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236960" indent="-16920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Actual second order elastic global analysi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236960" indent="-16920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Second order effects assessed approximately and reflected through magnification of results of first order elastic analysi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16160" indent="-41616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riterion : Classification as sway/non sway frame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B7441-B5A9-4C33-8F7D-2C81FE84AFF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Frame classification </a:t>
            </a:r>
            <a:br>
              <a:rPr sz="3600"/>
            </a:b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as sway or non sway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lassification criterion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Not an intrinsic frame property as depending on the load combination in consideration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709560" y="2357280"/>
          <a:ext cx="764532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9560" y="2357280"/>
                    <a:ext cx="76453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717480" y="3500280"/>
          <a:ext cx="7213680" cy="119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7480" y="3500280"/>
                    <a:ext cx="7213680" cy="11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738E5-E581-44E2-BB86-25127835968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Elastic global analysis </a:t>
            </a:r>
            <a:br>
              <a:rPr sz="3600"/>
            </a:b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of non sway frame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Non sway </a:t>
            </a:r>
            <a:r>
              <a:rPr b="0" lang="en-GB" sz="28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Second order effects negligibl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First order elastic global analysis is permitted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Member resistance (instability) based on buckling lengths associated to non sway buckling mode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onservatively system lengths may be taken as buckling lengths.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6D164-3C74-4AB0-94B9-F22273E119D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Elastic global analysis </a:t>
            </a:r>
            <a:br>
              <a:rPr sz="3600"/>
            </a:b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of sway frame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79880" indent="-47988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econd order analysis required when </a:t>
            </a:r>
            <a:r>
              <a:rPr b="0" lang="en-GB" sz="2800" spc="-1" strike="noStrike">
                <a:solidFill>
                  <a:srgbClr val="000066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000066"/>
                </a:solidFill>
                <a:latin typeface="Arial"/>
              </a:rPr>
              <a:t>cr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&lt; 3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79880" indent="-47988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implified method: Amplified sway moment method (ASMM) permitted when </a:t>
            </a:r>
            <a:r>
              <a:rPr b="0" lang="en-GB" sz="2800" spc="-1" strike="noStrike">
                <a:solidFill>
                  <a:srgbClr val="000066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000066"/>
                </a:solidFill>
                <a:latin typeface="Arial"/>
              </a:rPr>
              <a:t>cr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≥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3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79920" indent="-411480">
              <a:spcBef>
                <a:spcPts val="601"/>
              </a:spcBef>
              <a:buClr>
                <a:srgbClr val="000066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First order analysis under gravity load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79920" indent="-411480">
              <a:spcBef>
                <a:spcPts val="601"/>
              </a:spcBef>
              <a:buClr>
                <a:srgbClr val="000066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First order analysis under horizontal load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799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79920" indent="-411480">
              <a:spcBef>
                <a:spcPts val="601"/>
              </a:spcBef>
              <a:buClr>
                <a:srgbClr val="000066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mplification of the results of step 2) by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799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79920" indent="-411480">
              <a:spcBef>
                <a:spcPts val="601"/>
              </a:spcBef>
              <a:buClr>
                <a:srgbClr val="000066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uperimposition of results of steps 1) and 3)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79920" indent="-411480" algn="just">
              <a:spcBef>
                <a:spcPts val="601"/>
              </a:spcBef>
              <a:buClr>
                <a:srgbClr val="000066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ember resistance (instability) with buckling lengths associated to non sway buckling mode of the frame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6877080" y="3860640"/>
          <a:ext cx="946080" cy="11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77080" y="3860640"/>
                    <a:ext cx="94608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DB992-9F0C-4B6C-95E1-65F11F0D11B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Elastic global analysis </a:t>
            </a:r>
            <a:br>
              <a:rPr sz="3600"/>
            </a:b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of sway frame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implified method: Sway Mode Buckling Length Method (SMBL) permitted without restriction: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1089000" indent="-457200">
              <a:spcBef>
                <a:spcPts val="601"/>
              </a:spcBef>
              <a:buClr>
                <a:srgbClr val="000066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First order analysis under all the load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1089000" indent="-457200">
              <a:spcBef>
                <a:spcPts val="601"/>
              </a:spcBef>
              <a:buClr>
                <a:srgbClr val="000066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Use the results of step 1) for checking the member resistance (instability) with buckling lengths associated to sway buckling mode of the frame.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ccount for </a:t>
            </a:r>
            <a:r>
              <a:rPr b="0" i="1" lang="en-GB" sz="2800" spc="-1" strike="noStrike">
                <a:solidFill>
                  <a:srgbClr val="000066"/>
                </a:solidFill>
                <a:latin typeface="Arial"/>
              </a:rPr>
              <a:t>P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0" lang="en-GB" sz="28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effects with SMBL more erratic than with ASMM </a:t>
            </a:r>
            <a:r>
              <a:rPr b="0" lang="en-GB" sz="28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ASMM recommended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1089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D7E06-8298-4A9D-8F42-894DCA4D6A4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Implications for design of the choice of the global analysis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2514600"/>
            <a:ext cx="145080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System"/>
              </a:rPr>
              <a:t>Share of efforts between task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2195640" y="1628640"/>
            <a:ext cx="5341320" cy="3679200"/>
            <a:chOff x="2195640" y="1628640"/>
            <a:chExt cx="5341320" cy="3679200"/>
          </a:xfrm>
        </p:grpSpPr>
        <p:sp>
          <p:nvSpPr>
            <p:cNvPr id="159" name=""/>
            <p:cNvSpPr/>
            <p:nvPr/>
          </p:nvSpPr>
          <p:spPr>
            <a:xfrm>
              <a:off x="2198520" y="2781360"/>
              <a:ext cx="5338440" cy="1770120"/>
            </a:xfrm>
            <a:custGeom>
              <a:avLst/>
              <a:gdLst/>
              <a:ahLst/>
              <a:rect l="l" t="t" r="r" b="b"/>
              <a:pathLst>
                <a:path w="3517" h="1250">
                  <a:moveTo>
                    <a:pt x="0" y="925"/>
                  </a:moveTo>
                  <a:lnTo>
                    <a:pt x="3517" y="0"/>
                  </a:lnTo>
                  <a:lnTo>
                    <a:pt x="3517" y="1250"/>
                  </a:lnTo>
                  <a:lnTo>
                    <a:pt x="0" y="1250"/>
                  </a:lnTo>
                  <a:lnTo>
                    <a:pt x="0" y="925"/>
                  </a:lnTo>
                  <a:close/>
                </a:path>
              </a:pathLst>
            </a:custGeom>
            <a:solidFill>
              <a:srgbClr val="808080"/>
            </a:solidFill>
            <a:ln w="176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567160" y="4941720"/>
              <a:ext cx="4493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66"/>
                  </a:solidFill>
                  <a:latin typeface="System"/>
                </a:rPr>
                <a:t>Simplification of global analysis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76880" y="1628640"/>
              <a:ext cx="4575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66"/>
                  </a:solidFill>
                  <a:latin typeface="System"/>
                </a:rPr>
                <a:t>Sophistication of global analysis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2712600" y="4646520"/>
              <a:ext cx="3725640" cy="219240"/>
              <a:chOff x="2712600" y="4646520"/>
              <a:chExt cx="3725640" cy="219240"/>
            </a:xfrm>
          </p:grpSpPr>
          <p:sp>
            <p:nvSpPr>
              <p:cNvPr id="163" name=""/>
              <p:cNvSpPr/>
              <p:nvPr/>
            </p:nvSpPr>
            <p:spPr>
              <a:xfrm>
                <a:off x="2712600" y="4749840"/>
                <a:ext cx="3725640" cy="1080"/>
              </a:xfrm>
              <a:prstGeom prst="line">
                <a:avLst/>
              </a:prstGeom>
              <a:ln w="176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067440" y="4646520"/>
                <a:ext cx="370440" cy="219240"/>
              </a:xfrm>
              <a:custGeom>
                <a:avLst/>
                <a:gdLst/>
                <a:ahLst/>
                <a:rect l="l" t="t" r="r" b="b"/>
                <a:pathLst>
                  <a:path w="244" h="155">
                    <a:moveTo>
                      <a:pt x="0" y="0"/>
                    </a:moveTo>
                    <a:lnTo>
                      <a:pt x="244" y="73"/>
                    </a:lnTo>
                    <a:lnTo>
                      <a:pt x="0" y="15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66"/>
              </a:solidFill>
              <a:ln w="176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2553840" y="2060640"/>
              <a:ext cx="3858480" cy="217440"/>
              <a:chOff x="2553840" y="2060640"/>
              <a:chExt cx="3858480" cy="217440"/>
            </a:xfrm>
          </p:grpSpPr>
          <p:sp>
            <p:nvSpPr>
              <p:cNvPr id="166" name=""/>
              <p:cNvSpPr/>
              <p:nvPr/>
            </p:nvSpPr>
            <p:spPr>
              <a:xfrm flipH="1">
                <a:off x="2639880" y="2163600"/>
                <a:ext cx="3772440" cy="1080"/>
              </a:xfrm>
              <a:prstGeom prst="line">
                <a:avLst/>
              </a:prstGeom>
              <a:ln w="176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553840" y="2060640"/>
                <a:ext cx="369000" cy="217440"/>
              </a:xfrm>
              <a:custGeom>
                <a:avLst/>
                <a:gdLst/>
                <a:ahLst/>
                <a:rect l="l" t="t" r="r" b="b"/>
                <a:pathLst>
                  <a:path w="243" h="154">
                    <a:moveTo>
                      <a:pt x="243" y="0"/>
                    </a:moveTo>
                    <a:lnTo>
                      <a:pt x="0" y="73"/>
                    </a:lnTo>
                    <a:lnTo>
                      <a:pt x="243" y="154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66"/>
              </a:solidFill>
              <a:ln w="176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2195640" y="2359080"/>
              <a:ext cx="5314680" cy="1655640"/>
            </a:xfrm>
            <a:custGeom>
              <a:avLst/>
              <a:gdLst/>
              <a:ahLst/>
              <a:rect l="l" t="t" r="r" b="b"/>
              <a:pathLst>
                <a:path w="3501" h="1170">
                  <a:moveTo>
                    <a:pt x="0" y="1170"/>
                  </a:moveTo>
                  <a:lnTo>
                    <a:pt x="0" y="0"/>
                  </a:lnTo>
                  <a:lnTo>
                    <a:pt x="3501" y="0"/>
                  </a:lnTo>
                  <a:lnTo>
                    <a:pt x="3501" y="244"/>
                  </a:lnTo>
                  <a:lnTo>
                    <a:pt x="0" y="1170"/>
                  </a:lnTo>
                  <a:close/>
                </a:path>
              </a:pathLst>
            </a:custGeom>
            <a:noFill/>
            <a:ln w="176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744360" y="2637000"/>
              <a:ext cx="24926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cc3300"/>
                  </a:solidFill>
                  <a:latin typeface="System"/>
                </a:rPr>
                <a:t>Global analysis</a:t>
              </a:r>
              <a:endParaRPr b="0" lang="en-US" sz="2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3565080" y="2363400"/>
              <a:ext cx="233280" cy="1270080"/>
              <a:chOff x="3565080" y="2363400"/>
              <a:chExt cx="233280" cy="1270080"/>
            </a:xfrm>
          </p:grpSpPr>
          <p:sp>
            <p:nvSpPr>
              <p:cNvPr id="171" name=""/>
              <p:cNvSpPr/>
              <p:nvPr/>
            </p:nvSpPr>
            <p:spPr>
              <a:xfrm flipV="1">
                <a:off x="3675600" y="2363400"/>
                <a:ext cx="1080" cy="1172520"/>
              </a:xfrm>
              <a:prstGeom prst="line">
                <a:avLst/>
              </a:prstGeom>
              <a:ln w="176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565080" y="2374920"/>
                <a:ext cx="233280" cy="195120"/>
              </a:xfrm>
              <a:custGeom>
                <a:avLst/>
                <a:gdLst/>
                <a:ahLst/>
                <a:rect l="l" t="t" r="r" b="b"/>
                <a:pathLst>
                  <a:path w="154" h="138">
                    <a:moveTo>
                      <a:pt x="73" y="0"/>
                    </a:moveTo>
                    <a:lnTo>
                      <a:pt x="0" y="138"/>
                    </a:lnTo>
                    <a:lnTo>
                      <a:pt x="154" y="138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c3300"/>
              </a:solidFill>
              <a:ln w="1764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565080" y="3438360"/>
                <a:ext cx="233280" cy="195120"/>
              </a:xfrm>
              <a:custGeom>
                <a:avLst/>
                <a:gdLst/>
                <a:ahLst/>
                <a:rect l="l" t="t" r="r" b="b"/>
                <a:pathLst>
                  <a:path w="154" h="138">
                    <a:moveTo>
                      <a:pt x="73" y="138"/>
                    </a:moveTo>
                    <a:lnTo>
                      <a:pt x="0" y="0"/>
                    </a:lnTo>
                    <a:lnTo>
                      <a:pt x="154" y="0"/>
                    </a:lnTo>
                    <a:lnTo>
                      <a:pt x="73" y="138"/>
                    </a:lnTo>
                    <a:close/>
                  </a:path>
                </a:pathLst>
              </a:custGeom>
              <a:solidFill>
                <a:srgbClr val="cc3300"/>
              </a:solidFill>
              <a:ln w="1764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3547800" y="3724200"/>
              <a:ext cx="269640" cy="830160"/>
              <a:chOff x="3547800" y="3724200"/>
              <a:chExt cx="269640" cy="830160"/>
            </a:xfrm>
          </p:grpSpPr>
          <p:sp>
            <p:nvSpPr>
              <p:cNvPr id="175" name=""/>
              <p:cNvSpPr/>
              <p:nvPr/>
            </p:nvSpPr>
            <p:spPr>
              <a:xfrm>
                <a:off x="3559680" y="3724200"/>
                <a:ext cx="243720" cy="185400"/>
              </a:xfrm>
              <a:custGeom>
                <a:avLst/>
                <a:gdLst/>
                <a:ahLst/>
                <a:rect l="l" t="t" r="r" b="b"/>
                <a:pathLst>
                  <a:path w="161" h="131">
                    <a:moveTo>
                      <a:pt x="76" y="0"/>
                    </a:moveTo>
                    <a:lnTo>
                      <a:pt x="0" y="131"/>
                    </a:lnTo>
                    <a:lnTo>
                      <a:pt x="161" y="131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99cc00"/>
              </a:solidFill>
              <a:ln w="176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547800" y="4361760"/>
                <a:ext cx="269640" cy="185040"/>
              </a:xfrm>
              <a:custGeom>
                <a:avLst/>
                <a:gdLst/>
                <a:ahLst/>
                <a:rect l="l" t="t" r="r" b="b"/>
                <a:pathLst>
                  <a:path w="178" h="131">
                    <a:moveTo>
                      <a:pt x="84" y="131"/>
                    </a:moveTo>
                    <a:lnTo>
                      <a:pt x="0" y="0"/>
                    </a:lnTo>
                    <a:lnTo>
                      <a:pt x="178" y="0"/>
                    </a:lnTo>
                    <a:lnTo>
                      <a:pt x="84" y="131"/>
                    </a:lnTo>
                    <a:close/>
                  </a:path>
                </a:pathLst>
              </a:custGeom>
              <a:solidFill>
                <a:srgbClr val="99cc00"/>
              </a:solidFill>
              <a:ln w="176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3672000" y="3724200"/>
                <a:ext cx="1080" cy="830160"/>
              </a:xfrm>
              <a:prstGeom prst="line">
                <a:avLst/>
              </a:prstGeom>
              <a:ln w="176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3782880" y="3933720"/>
              <a:ext cx="3477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99cc00"/>
                  </a:solidFill>
                  <a:latin typeface="System"/>
                </a:rPr>
                <a:t>ULS design checks</a:t>
              </a:r>
              <a:endParaRPr b="0" lang="en-US" sz="2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613800" y="5516640"/>
            <a:ext cx="791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Overall Design Task = Analysis + Design Check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C440E-E2FA-425D-9AAD-EE4FD1D85B4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Implications for design of the choice of the global analysi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The more sophisticated the analysis tool employed, the less are the design check tasks following analysi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F518C-503E-410E-B18F-2D620A21B48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10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2016000" y="530280"/>
          <a:ext cx="6012000" cy="549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16000" y="530280"/>
                    <a:ext cx="6012000" cy="54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5" name=""/>
          <p:cNvGrpSpPr/>
          <p:nvPr/>
        </p:nvGrpSpPr>
        <p:grpSpPr>
          <a:xfrm>
            <a:off x="1403280" y="1125360"/>
            <a:ext cx="7732800" cy="432000"/>
            <a:chOff x="1403280" y="1125360"/>
            <a:chExt cx="7732800" cy="432000"/>
          </a:xfrm>
        </p:grpSpPr>
        <p:sp>
          <p:nvSpPr>
            <p:cNvPr id="186" name=""/>
            <p:cNvSpPr/>
            <p:nvPr/>
          </p:nvSpPr>
          <p:spPr>
            <a:xfrm>
              <a:off x="7443720" y="1125360"/>
              <a:ext cx="169236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403280" y="1197000"/>
              <a:ext cx="647640" cy="21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4AF0B-56C0-4572-AACB-349A019D187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Summary (1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569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rame design consists in global frame analysis followed by a series of design check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ue account shall be made of frame and member imperfections, where necessary.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re are still some reasons for recommending the practice of elastic global analysi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o which extent consideration of so-called second order effects (</a:t>
            </a:r>
            <a:r>
              <a:rPr b="0" i="1" lang="en-GB" sz="2800" spc="-1" strike="noStrike">
                <a:solidFill>
                  <a:srgbClr val="000066"/>
                </a:solidFill>
                <a:latin typeface="Arial"/>
              </a:rPr>
              <a:t>P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0" lang="en-GB" sz="28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effects) is required depends on the frame classification as sway or non sway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classification as sway or non sway is relative to the load combination in consideration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9FB34-70F0-4545-885E-97115F44110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Summary (2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569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4160" indent="-43416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For non sway frames, the </a:t>
            </a:r>
            <a:r>
              <a:rPr b="0" i="1" lang="en-GB" sz="2800" spc="-1" strike="noStrike">
                <a:solidFill>
                  <a:srgbClr val="000066"/>
                </a:solidFill>
                <a:latin typeface="Arial"/>
              </a:rPr>
              <a:t>P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0" lang="en-GB" sz="28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effects are negligible so that first order analysis suffices.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34160" indent="-43416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For sway frames, the </a:t>
            </a:r>
            <a:r>
              <a:rPr b="0" i="1" lang="en-GB" sz="2800" spc="-1" strike="noStrike">
                <a:solidFill>
                  <a:srgbClr val="000066"/>
                </a:solidFill>
                <a:latin typeface="Arial"/>
              </a:rPr>
              <a:t>P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0" lang="en-GB" sz="28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effects need to be accounted for either by performing a second order analysis or by using simplified approaches referring to first order analysis and indirect approximate account for </a:t>
            </a:r>
            <a:r>
              <a:rPr b="0" i="1" lang="en-GB" sz="2800" spc="-1" strike="noStrike">
                <a:solidFill>
                  <a:srgbClr val="000066"/>
                </a:solidFill>
                <a:latin typeface="Arial"/>
              </a:rPr>
              <a:t>P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0" lang="en-GB" sz="28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effect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34160" indent="-43416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most sophisticated the method of global analysis, the less the number and sophistication of the design checks still to be conducted.</a:t>
            </a: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4D594-C84D-49DE-BAAB-8261884211A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 flipV="1">
            <a:off x="4440240" y="4259160"/>
            <a:ext cx="0" cy="46224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Design proces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2216160"/>
            <a:ext cx="2167200" cy="1054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Architectura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requirement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16560" y="2216160"/>
            <a:ext cx="2311560" cy="1054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Execution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consideration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73360" y="2347920"/>
            <a:ext cx="1731960" cy="790560"/>
          </a:xfrm>
          <a:prstGeom prst="ellipse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Conceptio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6840" y="2678040"/>
            <a:ext cx="866520" cy="651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304960" y="2678040"/>
            <a:ext cx="1011240" cy="651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40240" y="3138480"/>
            <a:ext cx="0" cy="2635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4721400"/>
            <a:ext cx="7583400" cy="118584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64000" y="3402000"/>
            <a:ext cx="1733400" cy="922320"/>
          </a:xfrm>
          <a:prstGeom prst="ellipse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Preliminary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desig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78120" y="5313240"/>
            <a:ext cx="65088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100920" y="4917960"/>
            <a:ext cx="2022480" cy="85752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Design check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89040" y="1557360"/>
            <a:ext cx="3900600" cy="3952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Environmental consideration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440240" y="1952640"/>
            <a:ext cx="0" cy="3952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42920" y="4869000"/>
            <a:ext cx="1733760" cy="922320"/>
          </a:xfrm>
          <a:prstGeom prst="ellipse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Action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435640" y="5300640"/>
            <a:ext cx="65088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29000" y="4853160"/>
            <a:ext cx="2093760" cy="92232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48360" y="2997360"/>
            <a:ext cx="1871640" cy="1944360"/>
          </a:xfrm>
          <a:custGeom>
            <a:avLst/>
            <a:gdLst/>
            <a:ahLst/>
            <a:rect l="l" t="t" r="r" b="b"/>
            <a:pathLst>
              <a:path w="1179" h="1225">
                <a:moveTo>
                  <a:pt x="0" y="0"/>
                </a:moveTo>
                <a:cubicBezTo>
                  <a:pt x="181" y="83"/>
                  <a:pt x="374" y="188"/>
                  <a:pt x="544" y="317"/>
                </a:cubicBezTo>
                <a:cubicBezTo>
                  <a:pt x="714" y="446"/>
                  <a:pt x="913" y="625"/>
                  <a:pt x="1019" y="776"/>
                </a:cubicBezTo>
                <a:cubicBezTo>
                  <a:pt x="1125" y="927"/>
                  <a:pt x="1146" y="1132"/>
                  <a:pt x="1179" y="1225"/>
                </a:cubicBezTo>
              </a:path>
            </a:pathLst>
          </a:custGeom>
          <a:noFill/>
          <a:ln w="9360">
            <a:solidFill>
              <a:srgbClr val="000066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292720" y="3807000"/>
            <a:ext cx="1655640" cy="1062000"/>
          </a:xfrm>
          <a:custGeom>
            <a:avLst/>
            <a:gdLst/>
            <a:ahLst/>
            <a:rect l="l" t="t" r="r" b="b"/>
            <a:pathLst>
              <a:path w="1043" h="669">
                <a:moveTo>
                  <a:pt x="1043" y="669"/>
                </a:moveTo>
                <a:cubicBezTo>
                  <a:pt x="982" y="597"/>
                  <a:pt x="908" y="520"/>
                  <a:pt x="816" y="442"/>
                </a:cubicBezTo>
                <a:cubicBezTo>
                  <a:pt x="724" y="364"/>
                  <a:pt x="625" y="275"/>
                  <a:pt x="489" y="201"/>
                </a:cubicBezTo>
                <a:cubicBezTo>
                  <a:pt x="353" y="127"/>
                  <a:pt x="102" y="42"/>
                  <a:pt x="0" y="0"/>
                </a:cubicBezTo>
              </a:path>
            </a:pathLst>
          </a:custGeom>
          <a:noFill/>
          <a:ln w="9360">
            <a:solidFill>
              <a:srgbClr val="000066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907400" y="378936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178125"/>
              <a:gd name="adj4" fmla="val -75347"/>
            </a:avLst>
          </a:prstGeom>
          <a:solidFill>
            <a:srgbClr val="99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66"/>
                </a:solidFill>
                <a:latin typeface="Arial"/>
              </a:rPr>
              <a:t>UL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66"/>
                </a:solidFill>
                <a:latin typeface="Arial"/>
              </a:rPr>
              <a:t>SL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A89B0-B076-4577-9625-9A259A2CBB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Global frame analysi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im : Determination of internal forces and moment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everal options with increasing sophistication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Elastic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plastic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global analysi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 algn="just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First order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second order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global analysi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BABDB-F7FA-4EF6-A164-65D7D70355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Allowance for imperfection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wo types of imperfections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Structural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imperfections: residual stresse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Geometric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imperfections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344600" indent="-18396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Frame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imperfections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: initial out-of-plumb of the column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344600" indent="-18396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Member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imperfections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: initial out-of-straightnes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A1647-D1F6-4FBD-AEC3-1B1864453A1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Modelling of imperfections (1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Structural imperfections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onsist in residual stresse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Direct modelling too complex for practice purpose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lternative indirect modelling by magnifying the geometric imperfection of the compression members.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odelling required in all circumstance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C7925-016F-4BF2-93A9-89D1383598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Modelling of imperfections (2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Frame imperfections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70920" indent="-3456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Direct modelling as out-of-plumb depending on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330920" indent="-1818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Reference initial slope on the vertical direction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330920" indent="-1818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Number of bay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330920" indent="-1818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Number of storey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70920" indent="-3456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lternative indirect modelling by substituting above out-of-plumb by equivalent horizontal forces at the levels of the storeys (to be considered in addition to the external loads).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70920" indent="-3456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odelling required in all circumstances with the result that the effects are taken into account in the loading side of the design checks. 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70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4046B-B91B-4F44-B575-4905598064D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Modelling of imperfections (3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8840" indent="-43884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(Compression) member imperfections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51480" indent="-3384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Direct modelling as initial out-of-straightness (covering also the effects of residual stresses) the magnitude of which is a proportion of the system length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51480" indent="-3384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lternative indirect modelling by substituting above out-of-straightness by equivalent uniformly distributed transverse forces (to be considered in addition to the external loads).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51480" indent="-3384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odelling required in specific but are circumstance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51480" indent="-3384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ostly no need in practice but effects then taken into account in the resistance side of the design check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67FCB-49C7-486D-8FB9-5C57EFD2BE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Frame/Member imperfection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046160" y="1700280"/>
          <a:ext cx="6832440" cy="424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6160" y="1700280"/>
                    <a:ext cx="6832440" cy="42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34731-206F-4065-9843-E37ADD1E6CA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Elastic or plastic global analysi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4160" indent="-43416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Elastic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global analysis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41760" indent="-33516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No requirement for any ductile behaviour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41760" indent="-33516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ermitted in all circumstances.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41760" indent="-33516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ractised in the past and still today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34160" indent="-43416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Plastic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global analysis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41760" indent="-33516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Large demand in rotation capacity (ductility)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41760" indent="-33516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Never required in any circumstance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41760" indent="-33516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rior requirements on steel properties, joint properties, cross-section shape and cross-section classification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41760" indent="-33516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ossibility of making SLS more determinative than UL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4360" y="1484280"/>
            <a:ext cx="6264000" cy="187344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020000" y="1916280"/>
            <a:ext cx="194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 Narrow"/>
              </a:rPr>
              <a:t>Elastic global analysis recommended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D99EF-B0BD-4EF2-A770-7027DE54A1F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0T13:08:39Z</dcterms:created>
  <dc:creator>Oliver Rößler</dc:creator>
  <dc:description/>
  <dc:language>en-US</dc:language>
  <cp:lastModifiedBy>Klaus Weynand</cp:lastModifiedBy>
  <dcterms:modified xsi:type="dcterms:W3CDTF">2009-02-11T10:21:52Z</dcterms:modified>
  <cp:revision>19</cp:revision>
  <dc:subject/>
  <dc:title>Folie 1</dc:title>
</cp:coreProperties>
</file>