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50A9-0E77-4CDB-BA0B-5C46F8371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B41E-0248-4699-807B-4BA9947B9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A4A8-0FC0-43BE-AA03-DACEAF133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854F-DB94-4578-8765-EE043A5C0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2077-F873-4645-B002-ED1029B83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D935-8D6A-4093-9141-B7AD851CD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008B-648D-4B34-AC0F-435555634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0F16-9354-42DD-AE97-291B4037C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366D-8604-4B3F-8FC3-A74A133E3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DCB2-762D-40AA-A243-8E451410F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C74B-2DE4-4BAB-AB46-95EBC1018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349C-6AB8-4908-9A0E-089132BFB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5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troduction to fatigue design according to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AFC-E7B6-40D8-B6D5-85889CB432B5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5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roduction to fatigue design according to Eurocode 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7093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damage accumulation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amag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= 1 means fatigue failure provided crack effects and service inspections are reflected appropriately through partial safety factor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histogram composed of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tress blocks of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ycles with constant stress amplitude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igue verification: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1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7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554120" y="3860640"/>
          <a:ext cx="28908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3860640"/>
                    <a:ext cx="28908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73E9-93F5-41C9-AF06-D3FC3A7787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rinciples of fatigue resistance verifica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veral types of method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f fundamental nature : Fracture mechanic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f practical nature: Scope of EC3 Part 1-9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Classification method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Hot spot stress method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assification metho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pplicable to constructional welded details (joints) classified in several categories with about the same fatigue life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tail category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Nominal (constant amplitude) stress range for which the detail fails at 2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ycl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D00A-36CB-49FB-A869-13FAD6F3C8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rinciples of fatigue resistance verifica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t spot stress metho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so termed ‘geometric stress method’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lates the fatigue life of a joint to the hot spot stress at the joint, i.e. the maximum geometrical stress where the crack is likely to be initiated (weld toe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t spot stress includes influences of geometry and type of load but excludes effects of fabrication (weld configuration) and local condition of the weld toe (radius, undercut, …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ED0C-0942-487C-9F0C-2179C381E4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artial safety factor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accordance with semi-probabilistic approach, partial safety factors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Ff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fatigue loading and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Mf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ctor for fatigue strength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igue loading determined based on fatigue loads with partial safety factor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Ff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= 1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rtial safety factor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Ff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fatigue strength depends 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ype of fatigue assessme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gree of consequence of fatigue fail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A692-3376-407E-9913-D4ADECD9FB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artial safety factor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rtial safety factor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Ff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fatigue strength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*)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atisfactory performance for specified design life under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servation of inspection and maintenance regim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**)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atisfactory performance for specified design life without need of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gular in-service inspec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480" y="2284560"/>
          <a:ext cx="9053280" cy="265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2284560"/>
                    <a:ext cx="9053280" cy="26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3C19-2DAF-4458-B7BA-61DE7D5B47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154260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minal stress rang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standard joints (esp. in tubular construction) listed in EC3 Part 1-9 (see Table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alculated at site of potential crack initi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ffects of stress concentration accounted for through the fatigue strength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valu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757600" y="4943520"/>
          <a:ext cx="406224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7600" y="4943520"/>
                    <a:ext cx="40622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2195640" y="4292640"/>
            <a:ext cx="67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amage equivalent factor (see EC3) depending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n spectra and determined for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 = N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cycl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932360" y="4941360"/>
            <a:ext cx="144360" cy="287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5640" y="5799240"/>
            <a:ext cx="43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rresponding to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 = N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cycl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131640" y="5589720"/>
            <a:ext cx="287640" cy="215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53E3-0C8B-470B-AB27-56A5C11CC8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435800" cy="39798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9280" y="1542960"/>
            <a:ext cx="8785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structional details :Hollow sections (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2,5 m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47C4-FE40-4CAE-8A52-91315333F3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1413000"/>
            <a:ext cx="878544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structional details: Lattice girder node 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8560" y="1844640"/>
            <a:ext cx="7475400" cy="422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B5CB-D90A-4249-9830-3AC4B82EE6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4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486080"/>
            <a:ext cx="87138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dified nominal stress rang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abrupt changes of sections close to site of potential crack initi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ffects of stress concentration - other than those included yet in tables of constructional details - accounted for through stress concentration factor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value: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11480" y="4448160"/>
          <a:ext cx="436536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1480" y="4448160"/>
                    <a:ext cx="4365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4103-71C8-41B5-A57C-4A22A30FD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5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lattice girders: Simplified truss model with pinned connections may be used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      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lattice girders: Provided bending stresses  due to load applied between the nodes are computed and accounted for, effects of secondary moments due to connection stiffness allowed for through magnification factor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see Tables), so that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146320" y="4437000"/>
          <a:ext cx="370980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4437000"/>
                    <a:ext cx="37098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6116760" y="1889280"/>
          <a:ext cx="9363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6760" y="1889280"/>
                    <a:ext cx="936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DCED-04FB-4D7C-BF3F-5D415D6B86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n repeated fluctuating loading failure may occur before static resistance is exhaust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tigue results from cracks starting from pre-existent micro- or macro defects and resulting in failure when section becomes insufficient to resist peak loa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normal conditions cracks do not grow when stationary loading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ildings are normally not exposed to fatigue while bridges a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ckground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906B-DACD-4887-B0F1-9418B2D8D0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6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0" t="0" r="2911" b="0"/>
          <a:stretch/>
        </p:blipFill>
        <p:spPr>
          <a:xfrm>
            <a:off x="179280" y="4459320"/>
            <a:ext cx="8785440" cy="1425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rcRect l="0" t="0" r="2862" b="0"/>
          <a:stretch/>
        </p:blipFill>
        <p:spPr>
          <a:xfrm>
            <a:off x="179280" y="2071800"/>
            <a:ext cx="8785440" cy="1436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24000" y="1700280"/>
            <a:ext cx="84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 for CHS – In-plane loa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5440" y="4076640"/>
            <a:ext cx="84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 for RHS – In-plane loa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038A-B0D6-4991-AAAA-2ABCC48244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7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600200"/>
            <a:ext cx="8569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ange for hot spot stres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high stress gradients close to weld toe in joints listed in dedicated tab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tail categories of table are relative to crack initiating at toe of butt-welds, toe of fillet weld attachment and toe of fillet weld in cruciform joi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979640" y="4745160"/>
          <a:ext cx="338292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745160"/>
                    <a:ext cx="338292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003640" y="4365720"/>
            <a:ext cx="3527640" cy="576000"/>
          </a:xfrm>
          <a:custGeom>
            <a:avLst/>
            <a:gdLst/>
            <a:ahLst/>
            <a:rect l="l" t="t" r="r" b="b"/>
            <a:pathLst>
              <a:path w="1905" h="136">
                <a:moveTo>
                  <a:pt x="0" y="136"/>
                </a:moveTo>
                <a:lnTo>
                  <a:pt x="181" y="0"/>
                </a:lnTo>
                <a:lnTo>
                  <a:pt x="1905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35640" y="40194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btained from simplified truss model with pinned connectio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5300640"/>
            <a:ext cx="3529080" cy="360360"/>
          </a:xfrm>
          <a:custGeom>
            <a:avLst/>
            <a:gdLst/>
            <a:ahLst/>
            <a:rect l="l" t="t" r="r" b="b"/>
            <a:pathLst>
              <a:path w="2223" h="227">
                <a:moveTo>
                  <a:pt x="0" y="0"/>
                </a:moveTo>
                <a:lnTo>
                  <a:pt x="318" y="227"/>
                </a:lnTo>
                <a:lnTo>
                  <a:pt x="2223" y="227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48000" y="53578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tress concentration factor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(see charts, esp. CIDECT Design Guide 8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24E9-3935-4B1D-8050-4324F697E0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value of stress range (8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ail categories for hot spot stress meth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120680" y="1989000"/>
            <a:ext cx="6902640" cy="406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B171-C713-484D-A399-C1339BEF67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strength: Paris’ rul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rect stres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hear stres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012000" y="3343320"/>
          <a:ext cx="171612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43320"/>
                    <a:ext cx="17161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94000" y="3263760"/>
          <a:ext cx="172404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0" y="3263760"/>
                    <a:ext cx="17240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60240" y="4173480"/>
          <a:ext cx="36687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4173480"/>
                    <a:ext cx="3668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5003640" y="4197240"/>
          <a:ext cx="355284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4197240"/>
                    <a:ext cx="35528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4572000" y="1916280"/>
            <a:ext cx="0" cy="3816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2736720"/>
            <a:ext cx="86421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867C-09C5-4369-AAB7-5AD886C677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rinciple of </a:t>
            </a:r>
            <a:r>
              <a:rPr b="0" i="1" lang="en-GB" sz="3600" spc="-1" strike="noStrike">
                <a:solidFill>
                  <a:srgbClr val="000066"/>
                </a:solidFill>
                <a:latin typeface="Arial"/>
              </a:rPr>
              <a:t>S-N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curv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360" y="3143160"/>
            <a:ext cx="693720" cy="29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lang="en-GB" sz="1600" spc="-1" strike="noStrike" baseline="-25000">
                <a:solidFill>
                  <a:srgbClr val="000066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360" y="3352680"/>
            <a:ext cx="703440" cy="30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1600" spc="-1" strike="noStrike" baseline="-25000">
                <a:solidFill>
                  <a:srgbClr val="000066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360" y="3813120"/>
            <a:ext cx="722520" cy="27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1600" spc="-1" strike="noStrike" baseline="-25000">
                <a:solidFill>
                  <a:srgbClr val="000066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8400" y="1420920"/>
            <a:ext cx="4647960" cy="3954240"/>
            <a:chOff x="68400" y="1420920"/>
            <a:chExt cx="4647960" cy="3954240"/>
          </a:xfrm>
        </p:grpSpPr>
        <p:sp>
          <p:nvSpPr>
            <p:cNvPr id="403" name=""/>
            <p:cNvSpPr/>
            <p:nvPr/>
          </p:nvSpPr>
          <p:spPr>
            <a:xfrm>
              <a:off x="630360" y="47260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624960" y="1698480"/>
              <a:ext cx="9720" cy="30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354400" y="2763360"/>
              <a:ext cx="0" cy="196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106720" y="2763360"/>
              <a:ext cx="0" cy="196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192480" y="2763360"/>
              <a:ext cx="0" cy="196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360" y="2049480"/>
              <a:ext cx="3209760" cy="1914480"/>
            </a:xfrm>
            <a:custGeom>
              <a:avLst/>
              <a:gdLst/>
              <a:ahLst/>
              <a:rect l="l" t="t" r="r" b="b"/>
              <a:pathLst>
                <a:path w="5055" h="3015">
                  <a:moveTo>
                    <a:pt x="0" y="0"/>
                  </a:moveTo>
                  <a:lnTo>
                    <a:pt x="2730" y="2340"/>
                  </a:lnTo>
                  <a:lnTo>
                    <a:pt x="4050" y="3015"/>
                  </a:lnTo>
                  <a:lnTo>
                    <a:pt x="5055" y="30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54400" y="3525840"/>
              <a:ext cx="676080" cy="9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7120" y="5092560"/>
              <a:ext cx="188280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Number of cycle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400" y="1420920"/>
              <a:ext cx="2774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Direct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 stress range </a:t>
              </a: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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11240" y="2382840"/>
              <a:ext cx="304920" cy="266760"/>
            </a:xfrm>
            <a:custGeom>
              <a:avLst/>
              <a:gdLst/>
              <a:ahLst/>
              <a:rect l="l" t="t" r="r" b="b"/>
              <a:pathLst>
                <a:path w="480" h="420">
                  <a:moveTo>
                    <a:pt x="0" y="0"/>
                  </a:moveTo>
                  <a:lnTo>
                    <a:pt x="0" y="420"/>
                  </a:lnTo>
                  <a:lnTo>
                    <a:pt x="480" y="4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1080" y="2344680"/>
              <a:ext cx="181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3120" y="2600280"/>
              <a:ext cx="865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66"/>
                  </a:solidFill>
                  <a:latin typeface="Arial Narrow"/>
                  <a:ea typeface="Arial"/>
                </a:rPr>
                <a:t>m</a:t>
              </a:r>
              <a:r>
                <a:rPr b="0" i="1" lang="en-GB" sz="1600" spc="-1" strike="noStrike" baseline="-25000">
                  <a:solidFill>
                    <a:srgbClr val="000066"/>
                  </a:solidFill>
                  <a:latin typeface="Arial Narrow"/>
                  <a:ea typeface="Arial"/>
                </a:rPr>
                <a:t>1</a:t>
              </a:r>
              <a:r>
                <a:rPr b="0" i="1" lang="en-GB" sz="1600" spc="-1" strike="noStrike">
                  <a:solidFill>
                    <a:srgbClr val="000066"/>
                  </a:solidFill>
                  <a:latin typeface="Arial Narrow"/>
                  <a:ea typeface="Arial"/>
                </a:rPr>
                <a:t> 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  <a:ea typeface="Arial"/>
                </a:rPr>
                <a:t>= 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97120" y="3610080"/>
              <a:ext cx="890640" cy="261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66"/>
                  </a:solidFill>
                  <a:latin typeface="Arial Narrow"/>
                </a:rPr>
                <a:t>m</a:t>
              </a:r>
              <a:r>
                <a:rPr b="0" i="1" lang="en-GB" sz="1600" spc="-1" strike="noStrike" baseline="-25000">
                  <a:solidFill>
                    <a:srgbClr val="000066"/>
                  </a:solidFill>
                  <a:latin typeface="Arial Narrow"/>
                </a:rPr>
                <a:t>1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 = 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44680" y="3078000"/>
              <a:ext cx="1998720" cy="447840"/>
            </a:xfrm>
            <a:custGeom>
              <a:avLst/>
              <a:gdLst/>
              <a:ahLst/>
              <a:rect l="l" t="t" r="r" b="b"/>
              <a:pathLst>
                <a:path w="3149" h="704">
                  <a:moveTo>
                    <a:pt x="0" y="704"/>
                  </a:moveTo>
                  <a:lnTo>
                    <a:pt x="690" y="14"/>
                  </a:lnTo>
                  <a:lnTo>
                    <a:pt x="31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82760" y="3524400"/>
              <a:ext cx="1347840" cy="439560"/>
            </a:xfrm>
            <a:custGeom>
              <a:avLst/>
              <a:gdLst/>
              <a:ahLst/>
              <a:rect l="l" t="t" r="r" b="b"/>
              <a:pathLst>
                <a:path w="2121" h="692">
                  <a:moveTo>
                    <a:pt x="0" y="692"/>
                  </a:moveTo>
                  <a:lnTo>
                    <a:pt x="690" y="2"/>
                  </a:lnTo>
                  <a:lnTo>
                    <a:pt x="21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83080" y="3219480"/>
              <a:ext cx="1133280" cy="266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Cut-off limi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63720" y="2809800"/>
              <a:ext cx="1768680" cy="511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Constant  amplitude fatigue limi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00120" y="3316320"/>
              <a:ext cx="150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18840" y="3525840"/>
              <a:ext cx="1724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9200" y="3957480"/>
              <a:ext cx="2571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24040" y="4772160"/>
              <a:ext cx="662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2</a:t>
              </a:r>
              <a:r>
                <a:rPr b="0" lang="en-GB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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10</a:t>
              </a:r>
              <a:r>
                <a:rPr b="0" lang="en-GB" sz="1600" spc="-1" strike="noStrike" baseline="30000">
                  <a:solidFill>
                    <a:srgbClr val="000066"/>
                  </a:solidFill>
                  <a:latin typeface="Arial Narrow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90600" y="4773600"/>
              <a:ext cx="6858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5</a:t>
              </a:r>
              <a:r>
                <a:rPr b="0" lang="en-GB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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10</a:t>
              </a:r>
              <a:r>
                <a:rPr b="0" lang="en-GB" sz="1600" spc="-1" strike="noStrike" baseline="30000">
                  <a:solidFill>
                    <a:srgbClr val="000066"/>
                  </a:solidFill>
                  <a:latin typeface="Arial Narrow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38400" y="4770360"/>
              <a:ext cx="5335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10</a:t>
              </a:r>
              <a:r>
                <a:rPr b="0" lang="en-GB" sz="1600" spc="-1" strike="noStrike" baseline="30000">
                  <a:solidFill>
                    <a:srgbClr val="000066"/>
                  </a:solidFill>
                  <a:latin typeface="Arial Narrow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98800" y="2863800"/>
              <a:ext cx="1395360" cy="442800"/>
            </a:xfrm>
            <a:custGeom>
              <a:avLst/>
              <a:gdLst/>
              <a:ahLst/>
              <a:rect l="l" t="t" r="r" b="b"/>
              <a:pathLst>
                <a:path w="2198" h="698">
                  <a:moveTo>
                    <a:pt x="0" y="698"/>
                  </a:moveTo>
                  <a:lnTo>
                    <a:pt x="690" y="8"/>
                  </a:lnTo>
                  <a:lnTo>
                    <a:pt x="219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30360" y="2579760"/>
              <a:ext cx="1352520" cy="266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Detail category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4614840" y="1484280"/>
            <a:ext cx="0" cy="4537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697280" y="1420920"/>
            <a:ext cx="4713480" cy="3889440"/>
            <a:chOff x="4697280" y="1420920"/>
            <a:chExt cx="4713480" cy="3889440"/>
          </a:xfrm>
        </p:grpSpPr>
        <p:sp>
          <p:nvSpPr>
            <p:cNvPr id="430" name=""/>
            <p:cNvSpPr/>
            <p:nvPr/>
          </p:nvSpPr>
          <p:spPr>
            <a:xfrm>
              <a:off x="5178600" y="472284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5148360" y="1852200"/>
              <a:ext cx="39600" cy="288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659640" y="3111480"/>
              <a:ext cx="0" cy="1619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745400" y="3082680"/>
              <a:ext cx="0" cy="1647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78600" y="2627280"/>
              <a:ext cx="3209760" cy="1333440"/>
            </a:xfrm>
            <a:custGeom>
              <a:avLst/>
              <a:gdLst/>
              <a:ahLst/>
              <a:rect l="l" t="t" r="r" b="b"/>
              <a:pathLst>
                <a:path w="5056" h="2099">
                  <a:moveTo>
                    <a:pt x="0" y="0"/>
                  </a:moveTo>
                  <a:lnTo>
                    <a:pt x="4051" y="2099"/>
                  </a:lnTo>
                  <a:lnTo>
                    <a:pt x="5056" y="20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59640" y="5092560"/>
              <a:ext cx="176688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Number of cycle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45160" y="1420920"/>
              <a:ext cx="24908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Shear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 stress range </a:t>
              </a: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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83240" y="2854440"/>
              <a:ext cx="528480" cy="268200"/>
            </a:xfrm>
            <a:custGeom>
              <a:avLst/>
              <a:gdLst/>
              <a:ahLst/>
              <a:rect l="l" t="t" r="r" b="b"/>
              <a:pathLst>
                <a:path w="832" h="424">
                  <a:moveTo>
                    <a:pt x="0" y="0"/>
                  </a:moveTo>
                  <a:lnTo>
                    <a:pt x="0" y="420"/>
                  </a:lnTo>
                  <a:lnTo>
                    <a:pt x="832" y="4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54640" y="2844720"/>
              <a:ext cx="18108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9960" y="3062160"/>
              <a:ext cx="833400" cy="24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66"/>
                  </a:solidFill>
                  <a:latin typeface="Arial Narrow"/>
                </a:rPr>
                <a:t>m</a:t>
              </a:r>
              <a:r>
                <a:rPr b="0" i="1" lang="en-GB" sz="1600" spc="-1" strike="noStrike" baseline="-25000">
                  <a:solidFill>
                    <a:srgbClr val="000066"/>
                  </a:solidFill>
                  <a:latin typeface="Arial Narrow"/>
                </a:rPr>
                <a:t>2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 = 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59640" y="2941560"/>
              <a:ext cx="1481040" cy="441360"/>
            </a:xfrm>
            <a:custGeom>
              <a:avLst/>
              <a:gdLst/>
              <a:ahLst/>
              <a:rect l="l" t="t" r="r" b="b"/>
              <a:pathLst>
                <a:path w="2333" h="695">
                  <a:moveTo>
                    <a:pt x="0" y="695"/>
                  </a:moveTo>
                  <a:lnTo>
                    <a:pt x="690" y="5"/>
                  </a:lnTo>
                  <a:lnTo>
                    <a:pt x="23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36040" y="3530520"/>
              <a:ext cx="1180800" cy="438120"/>
            </a:xfrm>
            <a:custGeom>
              <a:avLst/>
              <a:gdLst/>
              <a:ahLst/>
              <a:rect l="l" t="t" r="r" b="b"/>
              <a:pathLst>
                <a:path w="1860" h="690">
                  <a:moveTo>
                    <a:pt x="0" y="690"/>
                  </a:moveTo>
                  <a:lnTo>
                    <a:pt x="690" y="0"/>
                  </a:lnTo>
                  <a:lnTo>
                    <a:pt x="18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05680" y="3219480"/>
              <a:ext cx="1405080" cy="287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Cut-off limi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93000" y="2630520"/>
              <a:ext cx="1395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Detail category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157720" y="3395520"/>
              <a:ext cx="149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167080" y="3954600"/>
              <a:ext cx="257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97280" y="3147840"/>
              <a:ext cx="671760" cy="293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</a:t>
              </a:r>
              <a:r>
                <a:rPr b="0" i="1" lang="en-GB" sz="1600" spc="-1" strike="noStrike" baseline="-25000">
                  <a:solidFill>
                    <a:srgbClr val="000066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11680" y="3743280"/>
              <a:ext cx="69552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</a:t>
              </a:r>
              <a:r>
                <a:rPr b="0" i="1" lang="en-GB" sz="1600" spc="-1" strike="noStrike" baseline="-25000">
                  <a:solidFill>
                    <a:srgbClr val="000066"/>
                  </a:solidFill>
                  <a:latin typeface="Arial Narrow"/>
                </a:rPr>
                <a:t>L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00720" y="4768920"/>
              <a:ext cx="635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2</a:t>
              </a:r>
              <a:r>
                <a:rPr b="0" lang="en-GB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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10</a:t>
              </a:r>
              <a:r>
                <a:rPr b="0" lang="en-GB" sz="1600" spc="-1" strike="noStrike" baseline="30000">
                  <a:solidFill>
                    <a:srgbClr val="000066"/>
                  </a:solidFill>
                  <a:latin typeface="Arial Narrow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86640" y="4767120"/>
              <a:ext cx="5335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 Narrow"/>
                </a:rPr>
                <a:t>10</a:t>
              </a:r>
              <a:r>
                <a:rPr b="0" lang="en-GB" sz="1600" spc="-1" strike="noStrike" baseline="30000">
                  <a:solidFill>
                    <a:srgbClr val="000066"/>
                  </a:solidFill>
                  <a:latin typeface="Arial Narrow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627280" y="1711440"/>
            <a:ext cx="1800360" cy="8604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000066"/>
                </a:solidFill>
                <a:latin typeface="Arial Narrow"/>
              </a:rPr>
              <a:t>0,737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000066"/>
                </a:solidFill>
                <a:latin typeface="Arial Narrow"/>
              </a:rPr>
              <a:t>0,549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93080" y="1722600"/>
            <a:ext cx="1800000" cy="405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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000066"/>
                </a:solidFill>
                <a:latin typeface="Arial Narrow"/>
              </a:rPr>
              <a:t>0,457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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0920" y="5442120"/>
            <a:ext cx="417672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= 5 for 0 &lt;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 5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cycle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or lattice girder node joi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9464-9ECA-4A30-B73C-25F5F121F5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Typical </a:t>
            </a:r>
            <a:r>
              <a:rPr b="0" i="1" lang="en-GB" sz="3600" spc="-1" strike="noStrike">
                <a:solidFill>
                  <a:srgbClr val="000066"/>
                </a:solidFill>
                <a:latin typeface="Arial"/>
              </a:rPr>
              <a:t>S-N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curv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31760" y="2637000"/>
            <a:ext cx="5303880" cy="347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708360" y="1460520"/>
            <a:ext cx="5303880" cy="3768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456" name=""/>
          <p:cNvSpPr/>
          <p:nvPr/>
        </p:nvSpPr>
        <p:spPr>
          <a:xfrm>
            <a:off x="108000" y="22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rect stress range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3640" y="522936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hear stress range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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3280" y="1870200"/>
            <a:ext cx="576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tail categories are given in previous tables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E67A-4B05-4574-B2B1-2799A755AA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7093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strength modification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n-welded or stress relieved welded details in compression: few or no residual stresses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Less penalty of part of stress range in compress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87280" y="2916360"/>
            <a:ext cx="8045640" cy="3001680"/>
            <a:chOff x="287280" y="2916360"/>
            <a:chExt cx="8045640" cy="3001680"/>
          </a:xfrm>
        </p:grpSpPr>
        <p:pic>
          <p:nvPicPr>
            <p:cNvPr id="463" name="" descr=""/>
            <p:cNvPicPr/>
            <p:nvPr/>
          </p:nvPicPr>
          <p:blipFill>
            <a:blip r:embed="rId1"/>
            <a:stretch/>
          </p:blipFill>
          <p:spPr>
            <a:xfrm>
              <a:off x="287280" y="2916360"/>
              <a:ext cx="6085080" cy="3001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4" name=""/>
            <p:cNvGraphicFramePr/>
            <p:nvPr/>
          </p:nvGraphicFramePr>
          <p:xfrm>
            <a:off x="4381560" y="3860640"/>
            <a:ext cx="3951360" cy="557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81560" y="3860640"/>
                      <a:ext cx="39513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76C0-29B7-455C-A898-75A92CA66E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7093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strength modification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me size effects due to thickness and other dimensional effec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r apply possible recommendations given in previous Tables for some constructional detail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531800" y="2568600"/>
          <a:ext cx="253548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2568600"/>
                    <a:ext cx="25354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0011-CDE8-4995-B06F-33F03D41A4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50920" y="274680"/>
            <a:ext cx="4826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imit of applications of EN1993-1-9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ress ranges (nominal, modified nominal, geometric) should not exce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9280" y="2492280"/>
            <a:ext cx="8785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rect stres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hear stres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0920" y="2781360"/>
            <a:ext cx="8642160" cy="2909880"/>
            <a:chOff x="250920" y="2781360"/>
            <a:chExt cx="8642160" cy="2909880"/>
          </a:xfrm>
        </p:grpSpPr>
        <p:graphicFrame>
          <p:nvGraphicFramePr>
            <p:cNvPr id="478" name=""/>
            <p:cNvGraphicFramePr/>
            <p:nvPr/>
          </p:nvGraphicFramePr>
          <p:xfrm>
            <a:off x="1503360" y="3800520"/>
            <a:ext cx="1847880" cy="60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3360" y="3800520"/>
                      <a:ext cx="184788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5481720" y="3743280"/>
            <a:ext cx="24508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1720" y="3743280"/>
                      <a:ext cx="24508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"/>
            <p:cNvSpPr/>
            <p:nvPr/>
          </p:nvSpPr>
          <p:spPr>
            <a:xfrm>
              <a:off x="4572000" y="2781360"/>
              <a:ext cx="0" cy="2909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0920" y="3471840"/>
              <a:ext cx="8642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6ADD-D4B4-4938-98F8-B880475A73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Verification format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hod 1- Comparison of action effects and fatigue strength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2492280"/>
            <a:ext cx="9144000" cy="3961080"/>
            <a:chOff x="0" y="2492280"/>
            <a:chExt cx="9144000" cy="3961080"/>
          </a:xfrm>
        </p:grpSpPr>
        <p:graphicFrame>
          <p:nvGraphicFramePr>
            <p:cNvPr id="488" name=""/>
            <p:cNvGraphicFramePr/>
            <p:nvPr/>
          </p:nvGraphicFramePr>
          <p:xfrm>
            <a:off x="1201680" y="3614760"/>
            <a:ext cx="248292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01680" y="3614760"/>
                      <a:ext cx="2482920" cy="1109520"/>
                    </a:xfrm>
                    <a:prstGeom prst="rect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0" y="3195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91" name=""/>
            <p:cNvGraphicFramePr/>
            <p:nvPr/>
          </p:nvGraphicFramePr>
          <p:xfrm>
            <a:off x="5618160" y="3614760"/>
            <a:ext cx="233856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18160" y="3614760"/>
                      <a:ext cx="2338560" cy="1109520"/>
                    </a:xfrm>
                    <a:prstGeom prst="rect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93" name=""/>
            <p:cNvSpPr/>
            <p:nvPr/>
          </p:nvSpPr>
          <p:spPr>
            <a:xfrm>
              <a:off x="179280" y="2492280"/>
              <a:ext cx="878544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2520" indent="-452520">
                <a:spcBef>
                  <a:spcPts val="601"/>
                </a:spcBef>
                <a:buClr>
                  <a:srgbClr val="000066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marL="452520" indent="-452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Direct stress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Shear stress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0" y="2751120"/>
              <a:ext cx="0" cy="2909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0920" y="3441600"/>
              <a:ext cx="8642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D8B5-9D22-4DBC-9405-D52A8A9801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lds are especially prone to such defects because of metallurgical discontinuities, rough weld profile and high residual stress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ckground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26920" y="2997360"/>
            <a:ext cx="6791400" cy="1944000"/>
            <a:chOff x="826920" y="2997360"/>
            <a:chExt cx="6791400" cy="1944000"/>
          </a:xfrm>
        </p:grpSpPr>
        <p:grpSp>
          <p:nvGrpSpPr>
            <p:cNvPr id="106" name=""/>
            <p:cNvGrpSpPr/>
            <p:nvPr/>
          </p:nvGrpSpPr>
          <p:grpSpPr>
            <a:xfrm>
              <a:off x="826920" y="3155760"/>
              <a:ext cx="3141360" cy="1232280"/>
              <a:chOff x="826920" y="3155760"/>
              <a:chExt cx="3141360" cy="12322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826920" y="3677400"/>
                <a:ext cx="3141360" cy="710640"/>
                <a:chOff x="826920" y="3677400"/>
                <a:chExt cx="3141360" cy="71064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1180440" y="3677400"/>
                  <a:ext cx="2428560" cy="710640"/>
                  <a:chOff x="1180440" y="3677400"/>
                  <a:chExt cx="2428560" cy="71064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1180440" y="3758400"/>
                    <a:ext cx="242856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43" h="855">
                        <a:moveTo>
                          <a:pt x="120" y="0"/>
                        </a:moveTo>
                        <a:lnTo>
                          <a:pt x="1260" y="0"/>
                        </a:lnTo>
                        <a:lnTo>
                          <a:pt x="1260" y="105"/>
                        </a:lnTo>
                        <a:lnTo>
                          <a:pt x="1305" y="240"/>
                        </a:lnTo>
                        <a:lnTo>
                          <a:pt x="1305" y="135"/>
                        </a:lnTo>
                        <a:lnTo>
                          <a:pt x="1305" y="0"/>
                        </a:lnTo>
                        <a:lnTo>
                          <a:pt x="2985" y="0"/>
                        </a:lnTo>
                        <a:lnTo>
                          <a:pt x="2993" y="262"/>
                        </a:lnTo>
                        <a:lnTo>
                          <a:pt x="3143" y="382"/>
                        </a:lnTo>
                        <a:lnTo>
                          <a:pt x="2888" y="397"/>
                        </a:lnTo>
                        <a:lnTo>
                          <a:pt x="2985" y="555"/>
                        </a:lnTo>
                        <a:lnTo>
                          <a:pt x="2985" y="855"/>
                        </a:lnTo>
                        <a:lnTo>
                          <a:pt x="120" y="855"/>
                        </a:lnTo>
                        <a:lnTo>
                          <a:pt x="135" y="435"/>
                        </a:lnTo>
                        <a:lnTo>
                          <a:pt x="210" y="345"/>
                        </a:lnTo>
                        <a:lnTo>
                          <a:pt x="0" y="285"/>
                        </a:lnTo>
                        <a:lnTo>
                          <a:pt x="135" y="210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217960" y="3677400"/>
                    <a:ext cx="377640" cy="358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9" h="547">
                        <a:moveTo>
                          <a:pt x="29" y="111"/>
                        </a:moveTo>
                        <a:cubicBezTo>
                          <a:pt x="56" y="69"/>
                          <a:pt x="84" y="26"/>
                          <a:pt x="134" y="13"/>
                        </a:cubicBezTo>
                        <a:cubicBezTo>
                          <a:pt x="184" y="0"/>
                          <a:pt x="282" y="13"/>
                          <a:pt x="329" y="29"/>
                        </a:cubicBezTo>
                        <a:cubicBezTo>
                          <a:pt x="376" y="46"/>
                          <a:pt x="409" y="60"/>
                          <a:pt x="419" y="111"/>
                        </a:cubicBezTo>
                        <a:cubicBezTo>
                          <a:pt x="429" y="162"/>
                          <a:pt x="424" y="269"/>
                          <a:pt x="389" y="340"/>
                        </a:cubicBezTo>
                        <a:cubicBezTo>
                          <a:pt x="354" y="411"/>
                          <a:pt x="259" y="525"/>
                          <a:pt x="209" y="536"/>
                        </a:cubicBezTo>
                        <a:cubicBezTo>
                          <a:pt x="159" y="547"/>
                          <a:pt x="124" y="472"/>
                          <a:pt x="89" y="405"/>
                        </a:cubicBezTo>
                        <a:cubicBezTo>
                          <a:pt x="54" y="338"/>
                          <a:pt x="19" y="188"/>
                          <a:pt x="0" y="131"/>
                        </a:cubicBez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228760" y="4010400"/>
                    <a:ext cx="3668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577">
                        <a:moveTo>
                          <a:pt x="0" y="460"/>
                        </a:moveTo>
                        <a:cubicBezTo>
                          <a:pt x="27" y="505"/>
                          <a:pt x="55" y="549"/>
                          <a:pt x="105" y="563"/>
                        </a:cubicBezTo>
                        <a:cubicBezTo>
                          <a:pt x="155" y="577"/>
                          <a:pt x="253" y="563"/>
                          <a:pt x="300" y="546"/>
                        </a:cubicBezTo>
                        <a:cubicBezTo>
                          <a:pt x="347" y="529"/>
                          <a:pt x="380" y="514"/>
                          <a:pt x="390" y="460"/>
                        </a:cubicBezTo>
                        <a:cubicBezTo>
                          <a:pt x="400" y="406"/>
                          <a:pt x="395" y="293"/>
                          <a:pt x="360" y="218"/>
                        </a:cubicBezTo>
                        <a:cubicBezTo>
                          <a:pt x="325" y="144"/>
                          <a:pt x="230" y="23"/>
                          <a:pt x="180" y="11"/>
                        </a:cubicBezTo>
                        <a:cubicBezTo>
                          <a:pt x="130" y="0"/>
                          <a:pt x="90" y="76"/>
                          <a:pt x="60" y="149"/>
                        </a:cubicBezTo>
                        <a:cubicBezTo>
                          <a:pt x="30" y="222"/>
                          <a:pt x="13" y="385"/>
                          <a:pt x="1" y="447"/>
                        </a:cubicBez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3702240" y="3998160"/>
                  <a:ext cx="266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826920" y="3998160"/>
                  <a:ext cx="266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1476360" y="3469680"/>
                <a:ext cx="754200" cy="283680"/>
              </a:xfrm>
              <a:custGeom>
                <a:avLst/>
                <a:gdLst/>
                <a:ahLst/>
                <a:rect l="l" t="t" r="r" b="b"/>
                <a:pathLst>
                  <a:path w="780" h="435">
                    <a:moveTo>
                      <a:pt x="780" y="435"/>
                    </a:moveTo>
                    <a:lnTo>
                      <a:pt x="58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65200" y="3890160"/>
                <a:ext cx="706680" cy="236160"/>
              </a:xfrm>
              <a:custGeom>
                <a:avLst/>
                <a:gdLst/>
                <a:ahLst/>
                <a:rect l="l" t="t" r="r" b="b"/>
                <a:pathLst>
                  <a:path w="915" h="360">
                    <a:moveTo>
                      <a:pt x="915" y="0"/>
                    </a:moveTo>
                    <a:lnTo>
                      <a:pt x="705" y="360"/>
                    </a:lnTo>
                    <a:lnTo>
                      <a:pt x="0" y="3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22280" y="3155760"/>
                <a:ext cx="127980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Weld toe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12920" y="3836160"/>
                <a:ext cx="8730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Crack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476240" y="2997360"/>
              <a:ext cx="3142080" cy="1320120"/>
              <a:chOff x="4476240" y="2997360"/>
              <a:chExt cx="3142080" cy="1320120"/>
            </a:xfrm>
          </p:grpSpPr>
          <p:sp>
            <p:nvSpPr>
              <p:cNvPr id="119" name=""/>
              <p:cNvSpPr/>
              <p:nvPr/>
            </p:nvSpPr>
            <p:spPr>
              <a:xfrm>
                <a:off x="6100920" y="2997360"/>
                <a:ext cx="428400" cy="766440"/>
              </a:xfrm>
              <a:custGeom>
                <a:avLst/>
                <a:gdLst/>
                <a:ahLst/>
                <a:rect l="l" t="t" r="r" b="b"/>
                <a:pathLst>
                  <a:path w="555" h="1170">
                    <a:moveTo>
                      <a:pt x="270" y="1170"/>
                    </a:moveTo>
                    <a:lnTo>
                      <a:pt x="555" y="1170"/>
                    </a:lnTo>
                    <a:lnTo>
                      <a:pt x="555" y="105"/>
                    </a:lnTo>
                    <a:lnTo>
                      <a:pt x="330" y="105"/>
                    </a:lnTo>
                    <a:lnTo>
                      <a:pt x="300" y="300"/>
                    </a:lnTo>
                    <a:lnTo>
                      <a:pt x="210" y="0"/>
                    </a:lnTo>
                    <a:lnTo>
                      <a:pt x="180" y="105"/>
                    </a:lnTo>
                    <a:lnTo>
                      <a:pt x="0" y="105"/>
                    </a:lnTo>
                    <a:lnTo>
                      <a:pt x="0" y="1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30840" y="3757320"/>
                <a:ext cx="2428920" cy="560160"/>
              </a:xfrm>
              <a:custGeom>
                <a:avLst/>
                <a:gdLst/>
                <a:ahLst/>
                <a:rect l="l" t="t" r="r" b="b"/>
                <a:pathLst>
                  <a:path w="3143" h="855">
                    <a:moveTo>
                      <a:pt x="120" y="0"/>
                    </a:moveTo>
                    <a:lnTo>
                      <a:pt x="1260" y="0"/>
                    </a:lnTo>
                    <a:lnTo>
                      <a:pt x="1260" y="105"/>
                    </a:lnTo>
                    <a:lnTo>
                      <a:pt x="1305" y="240"/>
                    </a:lnTo>
                    <a:lnTo>
                      <a:pt x="1305" y="135"/>
                    </a:lnTo>
                    <a:lnTo>
                      <a:pt x="1305" y="0"/>
                    </a:lnTo>
                    <a:lnTo>
                      <a:pt x="2985" y="0"/>
                    </a:lnTo>
                    <a:lnTo>
                      <a:pt x="2993" y="262"/>
                    </a:lnTo>
                    <a:lnTo>
                      <a:pt x="3143" y="382"/>
                    </a:lnTo>
                    <a:lnTo>
                      <a:pt x="2888" y="397"/>
                    </a:lnTo>
                    <a:lnTo>
                      <a:pt x="2985" y="555"/>
                    </a:lnTo>
                    <a:lnTo>
                      <a:pt x="2985" y="855"/>
                    </a:lnTo>
                    <a:lnTo>
                      <a:pt x="120" y="855"/>
                    </a:lnTo>
                    <a:lnTo>
                      <a:pt x="135" y="435"/>
                    </a:lnTo>
                    <a:lnTo>
                      <a:pt x="210" y="345"/>
                    </a:lnTo>
                    <a:lnTo>
                      <a:pt x="0" y="285"/>
                    </a:lnTo>
                    <a:lnTo>
                      <a:pt x="135" y="2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67280" y="3514320"/>
                <a:ext cx="284400" cy="317160"/>
              </a:xfrm>
              <a:custGeom>
                <a:avLst/>
                <a:gdLst/>
                <a:ahLst/>
                <a:rect l="l" t="t" r="r" b="b"/>
                <a:pathLst>
                  <a:path w="366" h="485">
                    <a:moveTo>
                      <a:pt x="33" y="359"/>
                    </a:moveTo>
                    <a:cubicBezTo>
                      <a:pt x="50" y="322"/>
                      <a:pt x="91" y="199"/>
                      <a:pt x="136" y="140"/>
                    </a:cubicBezTo>
                    <a:cubicBezTo>
                      <a:pt x="181" y="81"/>
                      <a:pt x="264" y="0"/>
                      <a:pt x="301" y="5"/>
                    </a:cubicBezTo>
                    <a:cubicBezTo>
                      <a:pt x="338" y="10"/>
                      <a:pt x="356" y="110"/>
                      <a:pt x="361" y="170"/>
                    </a:cubicBezTo>
                    <a:cubicBezTo>
                      <a:pt x="366" y="230"/>
                      <a:pt x="351" y="315"/>
                      <a:pt x="331" y="365"/>
                    </a:cubicBezTo>
                    <a:cubicBezTo>
                      <a:pt x="311" y="415"/>
                      <a:pt x="278" y="455"/>
                      <a:pt x="241" y="470"/>
                    </a:cubicBezTo>
                    <a:cubicBezTo>
                      <a:pt x="204" y="485"/>
                      <a:pt x="146" y="470"/>
                      <a:pt x="106" y="455"/>
                    </a:cubicBezTo>
                    <a:cubicBezTo>
                      <a:pt x="66" y="440"/>
                      <a:pt x="22" y="395"/>
                      <a:pt x="0" y="379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51560" y="399708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476240" y="3997080"/>
                <a:ext cx="26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76880" y="3468240"/>
                <a:ext cx="603360" cy="284040"/>
              </a:xfrm>
              <a:custGeom>
                <a:avLst/>
                <a:gdLst/>
                <a:ahLst/>
                <a:rect l="l" t="t" r="r" b="b"/>
                <a:pathLst>
                  <a:path w="780" h="435">
                    <a:moveTo>
                      <a:pt x="780" y="435"/>
                    </a:moveTo>
                    <a:lnTo>
                      <a:pt x="58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14880" y="3890520"/>
                <a:ext cx="706320" cy="234720"/>
              </a:xfrm>
              <a:custGeom>
                <a:avLst/>
                <a:gdLst/>
                <a:ahLst/>
                <a:rect l="l" t="t" r="r" b="b"/>
                <a:pathLst>
                  <a:path w="915" h="360">
                    <a:moveTo>
                      <a:pt x="915" y="0"/>
                    </a:moveTo>
                    <a:lnTo>
                      <a:pt x="705" y="360"/>
                    </a:lnTo>
                    <a:lnTo>
                      <a:pt x="0" y="3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56320" y="3159000"/>
                <a:ext cx="115092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Weld toe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23000" y="3812760"/>
                <a:ext cx="907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Cracks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02360" y="3739680"/>
                <a:ext cx="49320" cy="242640"/>
              </a:xfrm>
              <a:custGeom>
                <a:avLst/>
                <a:gdLst/>
                <a:ahLst/>
                <a:rect l="l" t="t" r="r" b="b"/>
                <a:pathLst>
                  <a:path w="62" h="370">
                    <a:moveTo>
                      <a:pt x="42" y="35"/>
                    </a:moveTo>
                    <a:cubicBezTo>
                      <a:pt x="49" y="0"/>
                      <a:pt x="62" y="88"/>
                      <a:pt x="57" y="140"/>
                    </a:cubicBezTo>
                    <a:cubicBezTo>
                      <a:pt x="52" y="192"/>
                      <a:pt x="24" y="370"/>
                      <a:pt x="12" y="350"/>
                    </a:cubicBezTo>
                    <a:cubicBezTo>
                      <a:pt x="0" y="330"/>
                      <a:pt x="35" y="70"/>
                      <a:pt x="42" y="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661000" y="3930120"/>
                <a:ext cx="41760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46720" y="3703320"/>
                <a:ext cx="131616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Weld roo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57800" y="3782880"/>
                <a:ext cx="893880" cy="196200"/>
              </a:xfrm>
              <a:custGeom>
                <a:avLst/>
                <a:gdLst/>
                <a:ahLst/>
                <a:rect l="l" t="t" r="r" b="b"/>
                <a:pathLst>
                  <a:path w="1155" h="300">
                    <a:moveTo>
                      <a:pt x="0" y="0"/>
                    </a:moveTo>
                    <a:lnTo>
                      <a:pt x="210" y="300"/>
                    </a:lnTo>
                    <a:lnTo>
                      <a:pt x="1155" y="3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26920" y="4509720"/>
              <a:ext cx="30243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  <a:ea typeface="Arial"/>
                </a:rPr>
                <a:t>Butt weld (full penetration)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564000" y="4581360"/>
            <a:ext cx="4127400" cy="1487520"/>
            <a:chOff x="3564000" y="4581360"/>
            <a:chExt cx="4127400" cy="1487520"/>
          </a:xfrm>
        </p:grpSpPr>
        <p:sp>
          <p:nvSpPr>
            <p:cNvPr id="134" name=""/>
            <p:cNvSpPr/>
            <p:nvPr/>
          </p:nvSpPr>
          <p:spPr>
            <a:xfrm>
              <a:off x="5599080" y="5294160"/>
              <a:ext cx="2779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6760" y="4581360"/>
              <a:ext cx="446040" cy="720720"/>
            </a:xfrm>
            <a:custGeom>
              <a:avLst/>
              <a:gdLst/>
              <a:ahLst/>
              <a:rect l="l" t="t" r="r" b="b"/>
              <a:pathLst>
                <a:path w="556" h="1186">
                  <a:moveTo>
                    <a:pt x="286" y="1186"/>
                  </a:moveTo>
                  <a:lnTo>
                    <a:pt x="556" y="1186"/>
                  </a:lnTo>
                  <a:lnTo>
                    <a:pt x="555" y="105"/>
                  </a:lnTo>
                  <a:lnTo>
                    <a:pt x="330" y="105"/>
                  </a:lnTo>
                  <a:lnTo>
                    <a:pt x="300" y="300"/>
                  </a:lnTo>
                  <a:lnTo>
                    <a:pt x="210" y="0"/>
                  </a:lnTo>
                  <a:lnTo>
                    <a:pt x="180" y="105"/>
                  </a:lnTo>
                  <a:lnTo>
                    <a:pt x="0" y="105"/>
                  </a:lnTo>
                  <a:lnTo>
                    <a:pt x="0" y="11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97360" y="5297040"/>
              <a:ext cx="2521080" cy="520920"/>
            </a:xfrm>
            <a:custGeom>
              <a:avLst/>
              <a:gdLst/>
              <a:ahLst/>
              <a:rect l="l" t="t" r="r" b="b"/>
              <a:pathLst>
                <a:path w="3143" h="855">
                  <a:moveTo>
                    <a:pt x="120" y="0"/>
                  </a:moveTo>
                  <a:lnTo>
                    <a:pt x="2980" y="9"/>
                  </a:lnTo>
                  <a:lnTo>
                    <a:pt x="2993" y="262"/>
                  </a:lnTo>
                  <a:lnTo>
                    <a:pt x="3143" y="382"/>
                  </a:lnTo>
                  <a:lnTo>
                    <a:pt x="2888" y="397"/>
                  </a:lnTo>
                  <a:lnTo>
                    <a:pt x="2985" y="555"/>
                  </a:lnTo>
                  <a:lnTo>
                    <a:pt x="2985" y="855"/>
                  </a:lnTo>
                  <a:lnTo>
                    <a:pt x="120" y="855"/>
                  </a:lnTo>
                  <a:lnTo>
                    <a:pt x="135" y="435"/>
                  </a:lnTo>
                  <a:lnTo>
                    <a:pt x="210" y="345"/>
                  </a:lnTo>
                  <a:lnTo>
                    <a:pt x="0" y="285"/>
                  </a:lnTo>
                  <a:lnTo>
                    <a:pt x="135" y="210"/>
                  </a:lnTo>
                  <a:lnTo>
                    <a:pt x="1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73760" y="5070240"/>
              <a:ext cx="295200" cy="295200"/>
            </a:xfrm>
            <a:custGeom>
              <a:avLst/>
              <a:gdLst/>
              <a:ahLst/>
              <a:rect l="l" t="t" r="r" b="b"/>
              <a:pathLst>
                <a:path w="366" h="485">
                  <a:moveTo>
                    <a:pt x="33" y="359"/>
                  </a:moveTo>
                  <a:cubicBezTo>
                    <a:pt x="50" y="322"/>
                    <a:pt x="91" y="199"/>
                    <a:pt x="136" y="140"/>
                  </a:cubicBezTo>
                  <a:cubicBezTo>
                    <a:pt x="181" y="81"/>
                    <a:pt x="264" y="0"/>
                    <a:pt x="301" y="5"/>
                  </a:cubicBezTo>
                  <a:cubicBezTo>
                    <a:pt x="338" y="10"/>
                    <a:pt x="356" y="110"/>
                    <a:pt x="361" y="170"/>
                  </a:cubicBezTo>
                  <a:cubicBezTo>
                    <a:pt x="366" y="230"/>
                    <a:pt x="351" y="315"/>
                    <a:pt x="331" y="365"/>
                  </a:cubicBezTo>
                  <a:cubicBezTo>
                    <a:pt x="311" y="415"/>
                    <a:pt x="278" y="455"/>
                    <a:pt x="241" y="470"/>
                  </a:cubicBezTo>
                  <a:cubicBezTo>
                    <a:pt x="204" y="485"/>
                    <a:pt x="146" y="470"/>
                    <a:pt x="106" y="455"/>
                  </a:cubicBezTo>
                  <a:cubicBezTo>
                    <a:pt x="66" y="440"/>
                    <a:pt x="22" y="395"/>
                    <a:pt x="0" y="379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13840" y="5519520"/>
              <a:ext cx="27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429080" y="5519520"/>
              <a:ext cx="27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9880" y="5302080"/>
              <a:ext cx="638280" cy="512640"/>
            </a:xfrm>
            <a:custGeom>
              <a:avLst/>
              <a:gdLst/>
              <a:ahLst/>
              <a:rect l="l" t="t" r="r" b="b"/>
              <a:pathLst>
                <a:path w="795" h="840">
                  <a:moveTo>
                    <a:pt x="780" y="0"/>
                  </a:moveTo>
                  <a:lnTo>
                    <a:pt x="0" y="0"/>
                  </a:lnTo>
                  <a:lnTo>
                    <a:pt x="285" y="75"/>
                  </a:lnTo>
                  <a:lnTo>
                    <a:pt x="435" y="135"/>
                  </a:lnTo>
                  <a:lnTo>
                    <a:pt x="495" y="300"/>
                  </a:lnTo>
                  <a:lnTo>
                    <a:pt x="510" y="420"/>
                  </a:lnTo>
                  <a:lnTo>
                    <a:pt x="495" y="660"/>
                  </a:lnTo>
                  <a:lnTo>
                    <a:pt x="435" y="840"/>
                  </a:lnTo>
                  <a:lnTo>
                    <a:pt x="795" y="840"/>
                  </a:lnTo>
                  <a:lnTo>
                    <a:pt x="78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97400" y="5622480"/>
              <a:ext cx="1197000" cy="446400"/>
            </a:xfrm>
            <a:custGeom>
              <a:avLst/>
              <a:gdLst/>
              <a:ahLst/>
              <a:rect l="l" t="t" r="r" b="b"/>
              <a:pathLst>
                <a:path w="1495" h="735">
                  <a:moveTo>
                    <a:pt x="1495" y="0"/>
                  </a:moveTo>
                  <a:lnTo>
                    <a:pt x="1180" y="720"/>
                  </a:lnTo>
                  <a:lnTo>
                    <a:pt x="0" y="7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14880" y="5356080"/>
              <a:ext cx="1198440" cy="374400"/>
            </a:xfrm>
            <a:custGeom>
              <a:avLst/>
              <a:gdLst/>
              <a:ahLst/>
              <a:rect l="l" t="t" r="r" b="b"/>
              <a:pathLst>
                <a:path w="1495" h="735">
                  <a:moveTo>
                    <a:pt x="1495" y="0"/>
                  </a:moveTo>
                  <a:lnTo>
                    <a:pt x="1180" y="720"/>
                  </a:lnTo>
                  <a:lnTo>
                    <a:pt x="0" y="7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4440" y="5775120"/>
              <a:ext cx="171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Mean stres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64000" y="5468760"/>
              <a:ext cx="18637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ctual stresse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284720" y="4581360"/>
            <a:ext cx="1512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  <a:ea typeface="Arial"/>
              </a:rPr>
              <a:t>Fillet we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B295-3629-46E8-8E3D-20E2D72E35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Verification format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170820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hod 2 - Assessment of damage accumul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70820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amage and endurance must incorporate the partial safety factors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or each stress block of  the spectrum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70820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</a:t>
            </a:r>
            <a:r>
              <a:rPr b="0" lang="en-GB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o be multiplied b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F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0">
              <a:lnSpc>
                <a:spcPct val="75000"/>
              </a:lnSpc>
              <a:spcBef>
                <a:spcPts val="1650"/>
              </a:spcBef>
              <a:buNone/>
              <a:tabLst>
                <a:tab algn="l" pos="0"/>
                <a:tab algn="l" pos="170820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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i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om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S-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urve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lnSpc>
                <a:spcPct val="100000"/>
              </a:lnSpc>
              <a:buNone/>
              <a:tabLst>
                <a:tab algn="l" pos="0"/>
                <a:tab algn="l" pos="170820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</a:t>
            </a:r>
            <a:r>
              <a:rPr b="0" lang="en-GB" sz="20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o be divided b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M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70820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buClr>
                <a:srgbClr val="000066"/>
              </a:buClr>
              <a:buFont typeface="Wingdings" charset="2"/>
              <a:buChar char=""/>
              <a:tabLst>
                <a:tab algn="l" pos="170820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mulated damage during specified design lif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19640" y="2924280"/>
            <a:ext cx="73080" cy="1368360"/>
          </a:xfrm>
          <a:custGeom>
            <a:avLst/>
            <a:gdLst>
              <a:gd name="textAreaLeft" fmla="*/ 0 w 73080"/>
              <a:gd name="textAreaRight" fmla="*/ 2628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430360" y="4967280"/>
          <a:ext cx="264636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4967280"/>
                    <a:ext cx="2646360" cy="105732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76D7-25A4-4B8C-BC5A-E9A42F1E0B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Verification format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ternative to Method 2 - Equivalent constant amplitude stress rang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ciple: Transform the design stress range spectrum (histogram) into an ‘equivalent’ constant amplitude design stress range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qu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o as to get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ame total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or a total number of cycle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N =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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.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ification criter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146400" y="4365720"/>
          <a:ext cx="247500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6400" y="4365720"/>
                    <a:ext cx="2475000" cy="148752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6084720" y="4797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ith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3 or 5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F788-9E29-41BF-85EC-4064EB7494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ncluding remark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repeated loads, fatigue is likely to produce cracks starting from local defects - such as especially welded details - and propagate till failu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igue resistance may prevail on static resistan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e to residual stresses, fatigue is checked in regions of tensile and compressive stress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tigue life of welded joints depends on type of joint, type of loading and structural detailing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rtial safety factors apply both fatigue loading and fatigue strength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0C58-5F9C-441A-849F-2E24A74C48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ues of partial safety factors for fatigue strength depend on the type of fatigue assessment and the degree of consequence of fatigue failu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spectrum is replaced by an accumulation of stress blocks with constant amplitude (histogram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mage is supposed to increase linearly with the number of cycl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tal damage is obtained as the sum of partial damages relative to the individual stress block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C3C4-2A5F-4CF0-81F8-CB70478E4E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0920" y="1484280"/>
            <a:ext cx="8569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tigue life is supposed to be exhausted when the total damage reaches unit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ethods for fatigue resistance verification are given in EC3 Part 1-9 : the ‘classification method’ and the ‘hot spot stress method’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7E87-5283-444F-AF89-DA04834958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 (4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1484280"/>
            <a:ext cx="85690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determining the stress range, due attention  should be paid to additional stresses the effects of which are included neither in the fatigue strength, nor in the calculated stress rang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pending on the situation, use is made of ‘nominal’ or ‘modified nominal’ or ‘geometric’ stress rang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ference is made to typical fatigue strength curves for respectively direct stresses and shear stresses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3481-EFE7-40CE-912F-D85C16CC4C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 (5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0920" y="1484280"/>
            <a:ext cx="85690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ail category is the value of stress range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ssociated to an endurance of 2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en-GB" sz="28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ycle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ail categories are given in EN1993-1-9 to most usual welded joints in hollow sections and welded nodes of lattice girders (not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= 5 for the latter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igue verification may be conducted based either on fatigue strength or on damage accumulation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02E4-3D4D-415F-9783-4BF7203800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normal conditions cracks do not grow when stationary load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lain material the growth of a fatigue crack presents three successive stag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propag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dden fail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ckground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1E3E-6AE2-4B39-976B-E886643A0A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ckground (4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lded details are more questionable than plain material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ack growth rate found about proportional to      , where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its depth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 fatigue crack remains a small hardly detectable crack for most of its life 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rinciple, only regions subjected to tensile stresses are susceptible to fatigu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ractice, because of residual stresses, regions subjected to compressive stresses are checked to fatigue too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947000" y="2387520"/>
          <a:ext cx="576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7000" y="2387520"/>
                    <a:ext cx="576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E78D-44FA-4F15-B815-BD17E476E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ckground (5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ce detected, cracks may be repair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urocode Part 1-9 is dedicated to fatigue desig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essment of fatigue resistance by means of fatigue strength curves for two types of detail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-3211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ndard details applicable t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ominal str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-3211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ference weld configurations applicable to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eometric str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luctuating stresses are either direct or shear stress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cture focusing on CHS and RHS welded joi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28CB-B96F-4D5C-8E85-E43BB84FE0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strength - Fatigue life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00560" y="1771560"/>
            <a:ext cx="4448160" cy="2033280"/>
            <a:chOff x="4300560" y="1771560"/>
            <a:chExt cx="4448160" cy="2033280"/>
          </a:xfrm>
        </p:grpSpPr>
        <p:grpSp>
          <p:nvGrpSpPr>
            <p:cNvPr id="156" name=""/>
            <p:cNvGrpSpPr/>
            <p:nvPr/>
          </p:nvGrpSpPr>
          <p:grpSpPr>
            <a:xfrm>
              <a:off x="6502320" y="1990800"/>
              <a:ext cx="1804680" cy="1296000"/>
              <a:chOff x="6502320" y="1990800"/>
              <a:chExt cx="1804680" cy="129600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6549840" y="2154600"/>
                <a:ext cx="9360" cy="10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502320" y="2635200"/>
                <a:ext cx="371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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12000" y="1990800"/>
                <a:ext cx="485640" cy="29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</a:t>
                </a:r>
                <a:r>
                  <a:rPr b="0" lang="fr-BE" sz="1200" spc="-1" strike="noStrike" baseline="-25000">
                    <a:solidFill>
                      <a:srgbClr val="000066"/>
                    </a:solidFill>
                    <a:latin typeface="Times New Roman"/>
                  </a:rPr>
                  <a:t>max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21360" y="2996640"/>
                <a:ext cx="485640" cy="29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</a:t>
                </a:r>
                <a:r>
                  <a:rPr b="0" lang="fr-BE" sz="1200" spc="-1" strike="noStrike" baseline="-25000">
                    <a:solidFill>
                      <a:srgbClr val="000066"/>
                    </a:solidFill>
                    <a:latin typeface="Times New Roman"/>
                  </a:rPr>
                  <a:t>min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821360" y="2493720"/>
                <a:ext cx="4856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</a:t>
                </a:r>
                <a:r>
                  <a:rPr b="0" lang="fr-BE" sz="1200" spc="-1" strike="noStrike" baseline="-25000">
                    <a:solidFill>
                      <a:srgbClr val="000066"/>
                    </a:solidFill>
                    <a:latin typeface="Times New Roman"/>
                  </a:rPr>
                  <a:t>mean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300560" y="1771560"/>
              <a:ext cx="3827520" cy="20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94040" y="1890720"/>
              <a:ext cx="3314880" cy="15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4040" y="3143160"/>
              <a:ext cx="3314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94040" y="2135160"/>
              <a:ext cx="3314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94040" y="1890720"/>
              <a:ext cx="3314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94040" y="1890720"/>
              <a:ext cx="3314880" cy="1507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94040" y="1890720"/>
              <a:ext cx="0" cy="150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94040" y="3398760"/>
              <a:ext cx="3314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694040" y="2560680"/>
              <a:ext cx="24120" cy="83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18160" y="2489040"/>
              <a:ext cx="1260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730760" y="241740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54520" y="2344680"/>
              <a:ext cx="23760" cy="7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78280" y="2286000"/>
              <a:ext cx="23760" cy="58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802040" y="2238120"/>
              <a:ext cx="12960" cy="4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815000" y="2201760"/>
              <a:ext cx="23760" cy="36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8760" y="2165400"/>
              <a:ext cx="2376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23"/>
                  </a:moveTo>
                  <a:lnTo>
                    <a:pt x="7" y="8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62520" y="2154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6280" y="21412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97440" y="214128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8" y="0"/>
                  </a:lnTo>
                  <a:lnTo>
                    <a:pt x="16" y="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2640" y="2154240"/>
              <a:ext cx="2412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7" y="0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6760" y="2165400"/>
              <a:ext cx="2376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7" y="8"/>
                  </a:lnTo>
                  <a:lnTo>
                    <a:pt x="15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0520" y="2201760"/>
              <a:ext cx="11160" cy="36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81680" y="2238120"/>
              <a:ext cx="23760" cy="4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05440" y="2286000"/>
              <a:ext cx="23760" cy="58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2344680"/>
              <a:ext cx="12600" cy="7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1800" y="241776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65560" y="2489040"/>
              <a:ext cx="2412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89680" y="2560680"/>
              <a:ext cx="23760" cy="83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13440" y="2644560"/>
              <a:ext cx="12600" cy="83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26040" y="2728800"/>
              <a:ext cx="2376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49800" y="280044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73560" y="287172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97320" y="2943000"/>
              <a:ext cx="1116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08480" y="3003480"/>
              <a:ext cx="25560" cy="47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4040" y="3051000"/>
              <a:ext cx="23760" cy="36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800" y="3087720"/>
              <a:ext cx="11160" cy="345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0"/>
                  </a:moveTo>
                  <a:lnTo>
                    <a:pt x="0" y="15"/>
                  </a:lnTo>
                  <a:lnTo>
                    <a:pt x="7" y="2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68960" y="3122640"/>
              <a:ext cx="2376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8" y="8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2720" y="3135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8" y="7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16480" y="3135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8" y="7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340240" y="3122640"/>
              <a:ext cx="12960" cy="12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53200" y="3087720"/>
              <a:ext cx="2376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lnTo>
                    <a:pt x="7" y="15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76960" y="3050640"/>
              <a:ext cx="23760" cy="36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400720" y="3003120"/>
              <a:ext cx="23760" cy="47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424480" y="2942640"/>
              <a:ext cx="1260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437080" y="287136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460840" y="2800080"/>
              <a:ext cx="2412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484960" y="2728800"/>
              <a:ext cx="2376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508720" y="2644200"/>
              <a:ext cx="11160" cy="83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519880" y="2560680"/>
              <a:ext cx="23760" cy="83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543640" y="2489040"/>
              <a:ext cx="2520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568840" y="2417400"/>
              <a:ext cx="111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580000" y="2344680"/>
              <a:ext cx="23760" cy="7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603760" y="2286000"/>
              <a:ext cx="23760" cy="58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627520" y="2238120"/>
              <a:ext cx="24120" cy="4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651640" y="2201760"/>
              <a:ext cx="12600" cy="36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4240" y="2165400"/>
              <a:ext cx="2376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23"/>
                  </a:moveTo>
                  <a:lnTo>
                    <a:pt x="7" y="8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88000" y="2154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11760" y="214128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5520" y="214128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48480" y="2154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7" y="0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72240" y="2165400"/>
              <a:ext cx="2376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7" y="8"/>
                  </a:lnTo>
                  <a:lnTo>
                    <a:pt x="15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6000" y="2201760"/>
              <a:ext cx="11160" cy="36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07160" y="2238120"/>
              <a:ext cx="23760" cy="4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30920" y="2286000"/>
              <a:ext cx="23760" cy="58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344680"/>
              <a:ext cx="23760" cy="7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8440" y="2417760"/>
              <a:ext cx="1260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91040" y="2489040"/>
              <a:ext cx="2412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15160" y="2560680"/>
              <a:ext cx="23760" cy="83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2644560"/>
              <a:ext cx="23760" cy="83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62680" y="2728800"/>
              <a:ext cx="1260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75280" y="280044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287172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2800" y="2943000"/>
              <a:ext cx="241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46920" y="3003480"/>
              <a:ext cx="12600" cy="47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59520" y="3051000"/>
              <a:ext cx="23760" cy="36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3280" y="3087720"/>
              <a:ext cx="2376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0"/>
                  </a:moveTo>
                  <a:lnTo>
                    <a:pt x="7" y="15"/>
                  </a:lnTo>
                  <a:lnTo>
                    <a:pt x="15" y="2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07040" y="3122640"/>
              <a:ext cx="11160" cy="12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8200" y="3135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8" y="7"/>
                  </a:lnTo>
                  <a:lnTo>
                    <a:pt x="15" y="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1960" y="3135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8" y="7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65720" y="3122640"/>
              <a:ext cx="2376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8" y="8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89480" y="3087720"/>
              <a:ext cx="12960" cy="345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22"/>
                  </a:moveTo>
                  <a:lnTo>
                    <a:pt x="0" y="15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202440" y="3050640"/>
              <a:ext cx="23760" cy="36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226200" y="3003120"/>
              <a:ext cx="23760" cy="47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249960" y="2942640"/>
              <a:ext cx="2376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273720" y="2871360"/>
              <a:ext cx="1260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286320" y="2800080"/>
              <a:ext cx="2412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310440" y="2728800"/>
              <a:ext cx="2376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334200" y="2644200"/>
              <a:ext cx="11160" cy="83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345360" y="2560680"/>
              <a:ext cx="23760" cy="83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369120" y="2489040"/>
              <a:ext cx="2520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394320" y="241740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418080" y="2344680"/>
              <a:ext cx="11160" cy="7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429240" y="2286000"/>
              <a:ext cx="23760" cy="58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3000" y="2238120"/>
              <a:ext cx="24120" cy="4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477120" y="2201760"/>
              <a:ext cx="23760" cy="36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00880" y="2165400"/>
              <a:ext cx="12600" cy="3600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3"/>
                  </a:move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3480" y="2154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7240" y="214128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000" y="214128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8" y="0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4760" y="2154240"/>
              <a:ext cx="12960" cy="10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97720" y="2165400"/>
              <a:ext cx="2376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7" y="8"/>
                  </a:lnTo>
                  <a:lnTo>
                    <a:pt x="15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21480" y="2201760"/>
              <a:ext cx="23760" cy="36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45240" y="2238120"/>
              <a:ext cx="11160" cy="4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56400" y="2286000"/>
              <a:ext cx="23760" cy="58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80160" y="2344680"/>
              <a:ext cx="23760" cy="7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3920" y="2417760"/>
              <a:ext cx="255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29480" y="2489040"/>
              <a:ext cx="1116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40640" y="2560680"/>
              <a:ext cx="23760" cy="83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64400" y="2644560"/>
              <a:ext cx="23760" cy="83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8160" y="2728800"/>
              <a:ext cx="2376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11920" y="2800440"/>
              <a:ext cx="1260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24520" y="287172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48280" y="2943000"/>
              <a:ext cx="241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72400" y="3003480"/>
              <a:ext cx="23760" cy="47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96160" y="3051000"/>
              <a:ext cx="12600" cy="36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08760" y="3087720"/>
              <a:ext cx="2376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0"/>
                  </a:moveTo>
                  <a:lnTo>
                    <a:pt x="7" y="15"/>
                  </a:lnTo>
                  <a:lnTo>
                    <a:pt x="15" y="2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2520" y="3122640"/>
              <a:ext cx="2376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7" y="8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56280" y="3135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67440" y="31352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8" y="7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91200" y="3122640"/>
              <a:ext cx="2412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8" y="8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15320" y="308772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8" y="15"/>
                  </a:lnTo>
                  <a:lnTo>
                    <a:pt x="1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040520" y="3050640"/>
              <a:ext cx="11160" cy="36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051680" y="3003120"/>
              <a:ext cx="23760" cy="47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5440" y="2942640"/>
              <a:ext cx="2376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99200" y="2871360"/>
              <a:ext cx="237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122960" y="2800080"/>
              <a:ext cx="1296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135920" y="2728800"/>
              <a:ext cx="2376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159680" y="2644200"/>
              <a:ext cx="23760" cy="83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183440" y="2560680"/>
              <a:ext cx="11160" cy="83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194600" y="2489040"/>
              <a:ext cx="25200" cy="71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219800" y="2417400"/>
              <a:ext cx="24120" cy="70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243920" y="2344680"/>
              <a:ext cx="23760" cy="7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267680" y="2286000"/>
              <a:ext cx="11160" cy="58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78840" y="2238120"/>
              <a:ext cx="23760" cy="47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302600" y="2201760"/>
              <a:ext cx="23760" cy="36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26360" y="2165400"/>
              <a:ext cx="2376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23"/>
                  </a:moveTo>
                  <a:lnTo>
                    <a:pt x="8" y="8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350120" y="2154240"/>
              <a:ext cx="12600" cy="10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62720" y="214128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86480" y="2141280"/>
              <a:ext cx="2412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8" y="0"/>
                  </a:lnTo>
                  <a:lnTo>
                    <a:pt x="15" y="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10600" y="2154240"/>
              <a:ext cx="23760" cy="10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59640" y="3433680"/>
              <a:ext cx="19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Number of cycle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3994200" y="2262960"/>
              <a:ext cx="111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3520" y="2622600"/>
              <a:ext cx="3314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49480" y="2114640"/>
              <a:ext cx="9720" cy="10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43760" y="2206440"/>
              <a:ext cx="57600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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69320" y="1912680"/>
              <a:ext cx="7794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</a:t>
              </a:r>
              <a:r>
                <a:rPr b="0" lang="fr-BE" sz="1800" spc="-1" strike="noStrike" baseline="-25000">
                  <a:solidFill>
                    <a:srgbClr val="000066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64640" y="2932200"/>
              <a:ext cx="69840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</a:t>
              </a:r>
              <a:r>
                <a:rPr b="0" lang="fr-BE" sz="1800" spc="-1" strike="noStrike" baseline="-25000">
                  <a:solidFill>
                    <a:srgbClr val="000066"/>
                  </a:solidFill>
                  <a:latin typeface="Times New Roman"/>
                </a:rPr>
                <a:t>mi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64640" y="2365200"/>
              <a:ext cx="698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</a:t>
              </a:r>
              <a:r>
                <a:rPr b="0" lang="fr-BE" sz="1800" spc="-1" strike="noStrike" baseline="-25000">
                  <a:solidFill>
                    <a:srgbClr val="000066"/>
                  </a:solidFill>
                  <a:latin typeface="Times New Roman"/>
                </a:rPr>
                <a:t>mea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79280" y="1484280"/>
            <a:ext cx="8569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ant amplitude stress rang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24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961200" indent="-342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ss amplitu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61200" indent="-342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atigue lif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number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cycles required to cause failure under giv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61200" indent="-342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atigue streng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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ing failure at given number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cycl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71640" y="2060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635280" y="3645000"/>
          <a:ext cx="259236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645000"/>
                    <a:ext cx="259236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FBA6-27AE-40EC-9DE0-DBCCE99CDE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strength - Fatigue life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8000" y="1484280"/>
            <a:ext cx="44640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9840" indent="-429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able amplitude stress rang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trum over a representative perio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trapolation to the expected service life of the struc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trum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istogram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ification based on the concept of fatigue damage accumul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2060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0" y="1803240"/>
            <a:ext cx="4537080" cy="36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4BF2-A7E6-4DF4-9B9D-F73E956BDC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7093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tigue damage accumulation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9840" indent="-429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ess range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governing paramete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ess ratio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ffect disregarded (due to residual stresses) except if stress relieved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tant amplitude stress range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 damage when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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&lt; Constant amplitude fatigue limi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ariable amplitude stress range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 damage when </a:t>
            </a: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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&lt; Cut-off fatigue limi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amage given by Palmgren-Miner rule when some stress ranges or maximum stress range exceeds the constant amplitude fatigue limi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0">
              <a:spcBef>
                <a:spcPts val="601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914560" y="1631880"/>
          <a:ext cx="2592360" cy="5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4560" y="1631880"/>
                    <a:ext cx="25923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700360" y="2135160"/>
          <a:ext cx="20876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2135160"/>
                    <a:ext cx="2087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B90E-2BFA-4D5F-9F71-1C39312A90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3-09T16:04:29Z</dcterms:modified>
  <cp:revision>41</cp:revision>
  <dc:subject/>
  <dc:title>asdasdsdsda</dc:title>
</cp:coreProperties>
</file>