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C07BD-84BF-4231-8ACC-72A85CEAD6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79280" y="3872160"/>
            <a:ext cx="87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85B62-07C5-41F5-ACFE-87F76F263C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7928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8144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F2BF7-7FCD-49CD-BE9E-D32CF61512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49640" y="159984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20000" y="159984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79280" y="387216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49640" y="387216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20000" y="387216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9A190-D0B6-4531-BEC5-5A878D538E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2050560" y="274680"/>
            <a:ext cx="69138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7928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E72E5-7663-4067-B5FE-48BFFE2399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8144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79280" y="3872160"/>
            <a:ext cx="87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79280" y="3872160"/>
            <a:ext cx="87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7928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8144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149640" y="159984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120000" y="159984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79280" y="387216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149640" y="387216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120000" y="387216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81D95-C4E4-45AF-891E-785CDAD1C4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A1296-E2FA-4A7D-BFE6-2E767C42EB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4F144-307A-4D71-BB0B-2BD1FE0186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2050560" y="274680"/>
            <a:ext cx="69138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6D664-DBD2-44E7-B33E-70C0D0475C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75E58-ED3F-4957-9A88-862779137B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144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8CA66-8B99-492C-8ED9-5075B39D6B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79280" y="3872160"/>
            <a:ext cx="87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ACB97-3282-43CF-86D3-7851AD8770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9280" y="6132600"/>
            <a:ext cx="8785440" cy="609480"/>
            <a:chOff x="179280" y="6132600"/>
            <a:chExt cx="8785440" cy="609480"/>
          </a:xfrm>
        </p:grpSpPr>
        <p:sp>
          <p:nvSpPr>
            <p:cNvPr id="1" name=""/>
            <p:cNvSpPr/>
            <p:nvPr/>
          </p:nvSpPr>
          <p:spPr>
            <a:xfrm>
              <a:off x="539640" y="6172200"/>
              <a:ext cx="8425080" cy="534960"/>
            </a:xfrm>
            <a:prstGeom prst="roundRect">
              <a:avLst>
                <a:gd name="adj" fmla="val 7120"/>
              </a:avLst>
            </a:prstGeom>
            <a:solidFill>
              <a:srgbClr val="ffff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39640" y="6132600"/>
              <a:ext cx="2365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3" name=""/>
            <p:cNvGraphicFramePr/>
            <p:nvPr/>
          </p:nvGraphicFramePr>
          <p:xfrm>
            <a:off x="179280" y="6154560"/>
            <a:ext cx="576360" cy="5716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79280" y="6154560"/>
                      <a:ext cx="576360" cy="57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344600" indent="-18396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797120" indent="-2732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152800" indent="-1764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152800" indent="-1764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152800" indent="-1764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7" name=""/>
          <p:cNvGraphicFramePr/>
          <p:nvPr/>
        </p:nvGraphicFramePr>
        <p:xfrm>
          <a:off x="136440" y="82440"/>
          <a:ext cx="1152720" cy="1143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6440" y="82440"/>
                    <a:ext cx="11527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" name=""/>
          <p:cNvSpPr/>
          <p:nvPr/>
        </p:nvSpPr>
        <p:spPr>
          <a:xfrm>
            <a:off x="0" y="1341360"/>
            <a:ext cx="91440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779400" y="6176880"/>
            <a:ext cx="756144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Design of Tubular Steel Structure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Lecture 19</a:t>
            </a: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Design of a welded joint in a lattice girder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1"/>
          </p:nvPr>
        </p:nvSpPr>
        <p:spPr>
          <a:xfrm>
            <a:off x="8244000" y="6453000"/>
            <a:ext cx="658800" cy="215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ADFBF-7EE6-4E24-9333-019F6A959C31}" type="slidenum">
              <a:rPr b="0" lang="en-GB" sz="10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448120" y="6275520"/>
            <a:ext cx="459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66"/>
                </a:solidFill>
                <a:latin typeface="Arial"/>
              </a:rPr>
              <a:t>Feb. 2009</a:t>
            </a:r>
            <a:endParaRPr b="0" lang="en-US" sz="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1341360"/>
            <a:ext cx="91440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76360" y="549360"/>
            <a:ext cx="7416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COMITE  INTERNATIONAL  POUR  LE  DEVELOPPEMEN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ET  L'ETUDE  DE  LA  CONSTRUCTION  TUBULAIR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36440" y="82440"/>
          <a:ext cx="115272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6440" y="82440"/>
                    <a:ext cx="11527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1258920" y="4508640"/>
            <a:ext cx="662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resentation by …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1608120"/>
            <a:ext cx="792144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Module 7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Worked example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2886120"/>
            <a:ext cx="792144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Lecture 19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Design of a welded joint in a lattice girde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9280" y="6132600"/>
            <a:ext cx="8785440" cy="609480"/>
            <a:chOff x="179280" y="6132600"/>
            <a:chExt cx="8785440" cy="609480"/>
          </a:xfrm>
        </p:grpSpPr>
        <p:sp>
          <p:nvSpPr>
            <p:cNvPr id="58" name=""/>
            <p:cNvSpPr/>
            <p:nvPr/>
          </p:nvSpPr>
          <p:spPr>
            <a:xfrm>
              <a:off x="539640" y="6172200"/>
              <a:ext cx="8425080" cy="534960"/>
            </a:xfrm>
            <a:prstGeom prst="roundRect">
              <a:avLst>
                <a:gd name="adj" fmla="val 7120"/>
              </a:avLst>
            </a:prstGeom>
            <a:solidFill>
              <a:srgbClr val="ffff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39640" y="6132600"/>
              <a:ext cx="2365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60" name=""/>
            <p:cNvGraphicFramePr/>
            <p:nvPr/>
          </p:nvGraphicFramePr>
          <p:xfrm>
            <a:off x="179280" y="6154560"/>
            <a:ext cx="576360" cy="5716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79280" y="6154560"/>
                      <a:ext cx="576360" cy="57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2" name=""/>
          <p:cNvSpPr/>
          <p:nvPr/>
        </p:nvSpPr>
        <p:spPr>
          <a:xfrm>
            <a:off x="779400" y="6176880"/>
            <a:ext cx="756144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Design of Tubular Steel Structure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Training and Education for the Implementation of Eurocode 3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6318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160640" algn="ctr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523880" algn="ctr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4" marL="1976400" algn="ctr">
              <a:spcBef>
                <a:spcPts val="451"/>
              </a:spcBef>
              <a:buClr>
                <a:srgbClr val="00006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5" marL="1976400">
              <a:spcBef>
                <a:spcPts val="451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6" marL="1976400">
              <a:spcBef>
                <a:spcPts val="451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Design check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xial resistance of vertical brace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868400" y="2274840"/>
          <a:ext cx="4851360" cy="100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2274840"/>
                    <a:ext cx="4851360" cy="10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1835280" y="3500280"/>
          <a:ext cx="4725720" cy="100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5280" y="3500280"/>
                    <a:ext cx="4725720" cy="10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493560" y="4803840"/>
          <a:ext cx="8220240" cy="857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3560" y="4803840"/>
                    <a:ext cx="822024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0C5ED-766F-4DB3-A32F-0D369D2C86D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Design check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Buckling resistance of vertical brace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HS section (hot finished), S355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3263760" y="2949480"/>
          <a:ext cx="1849680" cy="47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63760" y="2949480"/>
                    <a:ext cx="184968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3271680" y="3645000"/>
          <a:ext cx="1697040" cy="158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1680" y="3645000"/>
                    <a:ext cx="1697040" cy="15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2630520" y="5533920"/>
          <a:ext cx="3257640" cy="487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30520" y="5533920"/>
                    <a:ext cx="325764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5B4BD-3B94-44AF-8F3E-2166A4D0C59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Design check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3164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Resistance of diagonal and brace member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hord member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Diagonal in tension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2843280" y="4437000"/>
          <a:ext cx="3224160" cy="48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4437000"/>
                    <a:ext cx="322416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3416400" y="2637000"/>
          <a:ext cx="1731960" cy="157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16400" y="2637000"/>
                    <a:ext cx="1731960" cy="15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4427640" y="5297400"/>
          <a:ext cx="3073320" cy="4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27640" y="5297400"/>
                    <a:ext cx="30733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1FE4D-9B0A-45E7-91C8-BA983DA7B25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Design check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64072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Design check of diagonal brace weld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Horizontal force: assumed to be resisted by the welds parallel to the chor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Vertical force: assumed to be resisted by the welds perpendicular to the chor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454040" y="3068640"/>
          <a:ext cx="607068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4040" y="3068640"/>
                    <a:ext cx="607068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2233440" y="5068800"/>
          <a:ext cx="4565880" cy="906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33440" y="5068800"/>
                    <a:ext cx="4565880" cy="9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21070-3685-4E35-871C-DD0D59D7ACB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Portal frame with truss beam rafter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N-shape tapered truss (4.8% slope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HS sectio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Description of frame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08000" y="2631960"/>
            <a:ext cx="8642160" cy="1660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9E91D-3336-4396-BF15-75B34C11764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Overlapping N-joint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Description of joint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9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19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476360" y="2349360"/>
          <a:ext cx="5400720" cy="354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349360"/>
                    <a:ext cx="5400720" cy="354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ABC9B-463B-4207-B762-D64CFD36F7D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Loads arise from purlins: point load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Limit states loadings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F</a:t>
            </a:r>
            <a:r>
              <a:rPr b="0" lang="en-GB" sz="2400" spc="-1" strike="noStrike" baseline="-25000">
                <a:solidFill>
                  <a:srgbClr val="000066"/>
                </a:solidFill>
                <a:latin typeface="Arial"/>
              </a:rPr>
              <a:t>UL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= 42 kN in span, 21 kN at the edg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F</a:t>
            </a:r>
            <a:r>
              <a:rPr b="0" lang="en-GB" sz="2400" spc="-1" strike="noStrike" baseline="-25000">
                <a:solidFill>
                  <a:srgbClr val="000066"/>
                </a:solidFill>
                <a:latin typeface="Arial"/>
              </a:rPr>
              <a:t>SL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= 29 kN in span, 14,5 kN at the edg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Profile dimensions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hord: RHS 180x180x8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Vertical brace: RHS 140x140x8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Diagonal brace: RHS 140x140x8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Loading – Profile dimension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2FE60-D5B7-4CDA-90F3-EB5B5910D0C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lastic analysis performed by assuming that the elements are simply connecte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t ULS, the node under consideration is submitted to the following forces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hord: N</a:t>
            </a:r>
            <a:r>
              <a:rPr b="0" lang="en-GB" sz="2400" spc="-1" strike="noStrike" baseline="-25000">
                <a:solidFill>
                  <a:srgbClr val="000066"/>
                </a:solidFill>
                <a:latin typeface="Arial"/>
              </a:rPr>
              <a:t>Ed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= 784 k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Vertical brace: N</a:t>
            </a:r>
            <a:r>
              <a:rPr b="0" lang="en-GB" sz="2400" spc="-1" strike="noStrike" baseline="-25000">
                <a:solidFill>
                  <a:srgbClr val="000066"/>
                </a:solidFill>
                <a:latin typeface="Arial"/>
              </a:rPr>
              <a:t>Ed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= 294 k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Diagonal brace: N</a:t>
            </a:r>
            <a:r>
              <a:rPr b="0" lang="en-GB" sz="2400" spc="-1" strike="noStrike" baseline="-25000">
                <a:solidFill>
                  <a:srgbClr val="000066"/>
                </a:solidFill>
                <a:latin typeface="Arial"/>
              </a:rPr>
              <a:t>Ed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= 369 k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Material: S355 for all member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Internal forces - Material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C2176-7958-4F2F-801A-69817FB5162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Applicability of design method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Relative width ratio between braces and chord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Braces are Class 1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idth-to-thickness ratio for diagonal in tension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327400" y="2395440"/>
          <a:ext cx="366372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27400" y="2395440"/>
                    <a:ext cx="36637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2712960" y="3933720"/>
          <a:ext cx="299736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12960" y="3933720"/>
                    <a:ext cx="29973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2556000" y="5419800"/>
          <a:ext cx="3811320" cy="4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56000" y="5419800"/>
                    <a:ext cx="38113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49DFD-AE01-4675-8C41-E2F9EB223C4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Applicability of design method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lenderness of section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hord in Class 1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124000" y="2467080"/>
          <a:ext cx="457056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467080"/>
                    <a:ext cx="45705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2111400" y="3284640"/>
          <a:ext cx="451944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11400" y="3284640"/>
                    <a:ext cx="45194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2771640" y="5018040"/>
          <a:ext cx="2997360" cy="446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71640" y="5018040"/>
                    <a:ext cx="299736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C3187-F8E9-47D1-90A7-E487017FA2C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Applicability of design method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onditions on overlap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ll conditions fulfille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implified “reduced” design rules of Table 7.10 appl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23720" y="2289240"/>
          <a:ext cx="8256600" cy="86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3720" y="2289240"/>
                    <a:ext cx="8256600" cy="86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2637000" y="3429000"/>
          <a:ext cx="3447720" cy="47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37000" y="3429000"/>
                    <a:ext cx="344772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2E448-63DB-432F-A7E2-985C921D1E3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Applicability of design method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Possible secondary effects (moments)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Fulfil Table 7.8 conditions (done previously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Ratio system length – depth of member (fulfilled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ccentricities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Within certain limits. Here: 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e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441CA-4400-44E2-A142-D704E07B986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0T11:13:39Z</dcterms:created>
  <dc:creator>Klaus Weynand</dc:creator>
  <dc:description/>
  <dc:language>en-US</dc:language>
  <cp:lastModifiedBy>Klaus Weynand</cp:lastModifiedBy>
  <dcterms:modified xsi:type="dcterms:W3CDTF">2009-06-09T09:05:30Z</dcterms:modified>
  <cp:revision>170</cp:revision>
  <dc:subject/>
  <dc:title>asdasdsdsda</dc:title>
</cp:coreProperties>
</file>