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2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3341160" y="531360"/>
            <a:ext cx="35499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3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4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031708-A909-4713-94CE-A4E8D2722DB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3ACA5F-0DD1-4BAE-BEA6-81D0C2E1020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377F13-74B1-4731-A10F-26A26393D4CB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D181B5-D00D-4612-BCE1-4D3BA501598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074E38-A05A-4105-8FDA-D6569813BA9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191E4A-1AD2-404A-85D9-82F971BA611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29CE59-A91B-417F-9E4C-C474F09EF15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457000-B39C-4EE8-8EF1-C803CD9C0E5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1364760" y="3375000"/>
            <a:ext cx="7504200" cy="2989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1840" bIns="518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 practice,, this means that a joint is not only characterised by its design resist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t is, as the beams and columns, characteris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a rotational stiffness, named Sj,ini in the elastic range of behaviour, which varies between zero and infinity (zero means a pinned joint, infinity represents a fully stiff joint, and between the joint is said semi-rig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a bending resistance MRd. If itis equal to zero, the joint is pinned. If is a higher than the bending resistance of the coonected members, we have a full-strength joint, and in betwwen the joint is a partial-strength 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nally, for plastic analysis, the definition of a rotation capacity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3467160" y="623880"/>
            <a:ext cx="3303360" cy="247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125F-CA6E-43F6-9C42-9CE6E27E2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51DB-C6F0-4CD5-8F7C-5FC8B4FE3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DBAA-D64A-48D4-9F09-E4E249138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340D-DE22-47AC-9FB0-00C6EFEEA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3856-784B-4DB6-84F5-9BBE20458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3D8A-1723-4E47-A52F-9AF00D93E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C321-261F-4466-8555-34B6C2EF3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421A-975A-44ED-A909-CCEB181E4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DA65-8F10-4474-B54F-0474B6C0E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01D1-585E-459B-B8B6-364F64BF3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1617-5E66-4ABE-AF0C-422E6A5A4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88EE-B7B9-474F-BFF9-2CE514249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5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rame classification and joint represen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49CB-08F8-428E-92AC-ECAC5A365721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2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al analysis and desig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 classification and joint repres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20360" y="-360"/>
            <a:ext cx="7272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fluence of the joint behaviour on the structural respons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6360" y="1591920"/>
            <a:ext cx="6937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splace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nal for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llapse mode and loa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902040" y="3284640"/>
          <a:ext cx="4917960" cy="26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2040" y="3284640"/>
                    <a:ext cx="491796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1C9D-D6EA-4640-BA7D-0297D2E8A1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10920" y="1736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iffn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816360" y="1628640"/>
            <a:ext cx="4952880" cy="4416480"/>
            <a:chOff x="3816360" y="1628640"/>
            <a:chExt cx="4952880" cy="4416480"/>
          </a:xfrm>
        </p:grpSpPr>
        <p:pic>
          <p:nvPicPr>
            <p:cNvPr id="427" name="" descr=""/>
            <p:cNvPicPr/>
            <p:nvPr/>
          </p:nvPicPr>
          <p:blipFill>
            <a:blip r:embed="rId1"/>
            <a:stretch/>
          </p:blipFill>
          <p:spPr>
            <a:xfrm>
              <a:off x="3816360" y="1628640"/>
              <a:ext cx="495288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6559200" y="3152520"/>
              <a:ext cx="1599840" cy="3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</a:rPr>
                <a:t>Semi-rigid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11640" y="1780920"/>
              <a:ext cx="837720" cy="3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</a:rPr>
                <a:t>Rigid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40440" y="4295520"/>
              <a:ext cx="1599840" cy="3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33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49720" y="5438520"/>
              <a:ext cx="2819160" cy="3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lassification boundarie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ification of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B68D-2F16-4258-ABD5-CB7DB348A7B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358920" y="169992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is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780000" y="1700280"/>
            <a:ext cx="5105160" cy="4348080"/>
            <a:chOff x="3780000" y="1700280"/>
            <a:chExt cx="5105160" cy="434808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3780000" y="1700280"/>
              <a:ext cx="5105160" cy="43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4465440" y="1928880"/>
              <a:ext cx="2895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3300"/>
                  </a:solidFill>
                  <a:latin typeface="Arial"/>
                </a:rPr>
                <a:t>Full resistanc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65440" y="3452760"/>
              <a:ext cx="2895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3300"/>
                  </a:solidFill>
                  <a:latin typeface="Arial"/>
                </a:rPr>
                <a:t>Partial resistanc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65440" y="4672080"/>
              <a:ext cx="2895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3300"/>
                  </a:solidFill>
                  <a:latin typeface="Arial"/>
                </a:rPr>
                <a:t>Simpl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56160" y="5451480"/>
              <a:ext cx="3428640" cy="58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lassification boundarie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istance of the join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ification of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59640" y="6021360"/>
            <a:ext cx="28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9426-3282-4785-9B28-B82F5BDF34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9280" y="1736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ct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it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"Semi-ductile"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uct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038480" y="2440080"/>
            <a:ext cx="4800600" cy="36558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ification of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E8E1-F815-43B6-A5FE-F2EDF7BBD3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odelling of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ing and join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inuous framing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mi-continuous framing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mple framing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356000" y="4724280"/>
            <a:ext cx="1050840" cy="1395360"/>
            <a:chOff x="4356000" y="4724280"/>
            <a:chExt cx="1050840" cy="1395360"/>
          </a:xfrm>
        </p:grpSpPr>
        <p:grpSp>
          <p:nvGrpSpPr>
            <p:cNvPr id="448" name=""/>
            <p:cNvGrpSpPr/>
            <p:nvPr/>
          </p:nvGrpSpPr>
          <p:grpSpPr>
            <a:xfrm>
              <a:off x="4356000" y="4724280"/>
              <a:ext cx="1050840" cy="1395360"/>
              <a:chOff x="4356000" y="4724280"/>
              <a:chExt cx="1050840" cy="1395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356000" y="4724280"/>
                <a:ext cx="0" cy="139536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521240" y="5428800"/>
                <a:ext cx="885600" cy="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357440" y="5343480"/>
              <a:ext cx="179280" cy="164880"/>
            </a:xfrm>
            <a:prstGeom prst="ellipse">
              <a:avLst/>
            </a:prstGeom>
            <a:noFill/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6012000" y="3573360"/>
            <a:ext cx="1050840" cy="1395360"/>
            <a:chOff x="6012000" y="3573360"/>
            <a:chExt cx="1050840" cy="1395360"/>
          </a:xfrm>
        </p:grpSpPr>
        <p:grpSp>
          <p:nvGrpSpPr>
            <p:cNvPr id="453" name=""/>
            <p:cNvGrpSpPr/>
            <p:nvPr/>
          </p:nvGrpSpPr>
          <p:grpSpPr>
            <a:xfrm>
              <a:off x="6012000" y="3573360"/>
              <a:ext cx="1050840" cy="1395360"/>
              <a:chOff x="6012000" y="3573360"/>
              <a:chExt cx="1050840" cy="1395360"/>
            </a:xfrm>
          </p:grpSpPr>
          <p:sp>
            <p:nvSpPr>
              <p:cNvPr id="454" name=""/>
              <p:cNvSpPr/>
              <p:nvPr/>
            </p:nvSpPr>
            <p:spPr>
              <a:xfrm>
                <a:off x="6012000" y="3573360"/>
                <a:ext cx="0" cy="139536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77240" y="4277880"/>
                <a:ext cx="885600" cy="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6013440" y="4197240"/>
              <a:ext cx="179640" cy="164880"/>
            </a:xfrm>
            <a:prstGeom prst="ellipse">
              <a:avLst/>
            </a:prstGeom>
            <a:noFill/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43680" y="4217760"/>
              <a:ext cx="120600" cy="12852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034320" y="4227120"/>
              <a:ext cx="139680" cy="10800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219640" y="2033640"/>
            <a:ext cx="1052640" cy="1395360"/>
            <a:chOff x="5219640" y="2033640"/>
            <a:chExt cx="1052640" cy="1395360"/>
          </a:xfrm>
        </p:grpSpPr>
        <p:grpSp>
          <p:nvGrpSpPr>
            <p:cNvPr id="460" name=""/>
            <p:cNvGrpSpPr/>
            <p:nvPr/>
          </p:nvGrpSpPr>
          <p:grpSpPr>
            <a:xfrm>
              <a:off x="5221440" y="2033640"/>
              <a:ext cx="1050840" cy="1395360"/>
              <a:chOff x="5221440" y="2033640"/>
              <a:chExt cx="1050840" cy="1395360"/>
            </a:xfrm>
          </p:grpSpPr>
          <p:sp>
            <p:nvSpPr>
              <p:cNvPr id="461" name=""/>
              <p:cNvSpPr/>
              <p:nvPr/>
            </p:nvSpPr>
            <p:spPr>
              <a:xfrm>
                <a:off x="5221440" y="2033640"/>
                <a:ext cx="0" cy="139536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386680" y="2738160"/>
                <a:ext cx="885600" cy="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219640" y="2590920"/>
              <a:ext cx="181080" cy="303120"/>
            </a:xfrm>
            <a:custGeom>
              <a:avLst/>
              <a:gdLst/>
              <a:ahLst/>
              <a:rect l="l" t="t" r="r" b="b"/>
              <a:pathLst>
                <a:path w="114" h="191">
                  <a:moveTo>
                    <a:pt x="114" y="94"/>
                  </a:moveTo>
                  <a:lnTo>
                    <a:pt x="0" y="0"/>
                  </a:lnTo>
                  <a:lnTo>
                    <a:pt x="1" y="191"/>
                  </a:lnTo>
                  <a:lnTo>
                    <a:pt x="114" y="94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5732-C48A-4679-BCB9-FB8CBEFD3D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79280" y="1773360"/>
          <a:ext cx="883944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8394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6"/>
                </a:solidFill>
                <a:latin typeface="Arial"/>
              </a:rPr>
              <a:t>Modelling of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182A-7A95-4E9A-A7A5-DE4E59B132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66"/>
                </a:solidFill>
                <a:latin typeface="Arial"/>
              </a:rPr>
              <a:t>Modelling of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332000" y="2276640"/>
          <a:ext cx="7343640" cy="4424040"/>
        </p:xfrm>
        <a:graphic>
          <a:graphicData uri="http://schemas.openxmlformats.org/drawingml/2006/table">
            <a:tbl>
              <a:tblPr/>
              <a:tblGrid>
                <a:gridCol w="1484280"/>
                <a:gridCol w="1303200"/>
                <a:gridCol w="2036880"/>
                <a:gridCol w="25192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ethods of global analysi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ification of join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lastic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minally pinned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igid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mi-rigid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igid-plastic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minally pinned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ull-strength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tial-strength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lastic-plastic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minally pinned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igid and full-strength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mi-rigid and partial-strength - Semi-rigid and full-strength - Rigid and partial-strength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ype of joint mode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tinuou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mi-continuou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lection of joint model for frame analysi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8509-1C90-478C-A947-FFE033C5B87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fram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has first to b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ideali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join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re then to be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modelled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continuous / semi-continuous / simple framing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is depends on the stiffness and/or resistance class of the join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n a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fram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classificatio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 carried ou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70920" indent="-3456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way-non sway / braced-unbrac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 the basis of the frame class (and the type of steel and profiles), the </a:t>
            </a:r>
            <a:r>
              <a:rPr b="0" lang="en-GB" sz="2800" spc="-1" strike="noStrike" u="sng">
                <a:solidFill>
                  <a:srgbClr val="cc3300"/>
                </a:solidFill>
                <a:uFillTx/>
                <a:latin typeface="Arial"/>
              </a:rPr>
              <a:t>type of frame analysi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 finally selec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3772-274F-414E-A98B-8E4A23AF14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Frame classifica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6360" y="2249640"/>
          <a:ext cx="8531280" cy="2770200"/>
        </p:xfrm>
        <a:graphic>
          <a:graphicData uri="http://schemas.openxmlformats.org/drawingml/2006/table">
            <a:tbl>
              <a:tblPr/>
              <a:tblGrid>
                <a:gridCol w="2305080"/>
                <a:gridCol w="2076480"/>
                <a:gridCol w="2074680"/>
                <a:gridCol w="2075040"/>
              </a:tblGrid>
              <a:tr h="720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racing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rac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brac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92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teral displacemen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wa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</a:tr>
              <a:tr h="73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n-swa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C604-4DDA-4D2B-8B64-0ED67BCE4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55640" y="1557360"/>
            <a:ext cx="8520120" cy="3363840"/>
            <a:chOff x="755640" y="1557360"/>
            <a:chExt cx="8520120" cy="3363840"/>
          </a:xfrm>
        </p:grpSpPr>
        <p:graphicFrame>
          <p:nvGraphicFramePr>
            <p:cNvPr id="111" name=""/>
            <p:cNvGraphicFramePr/>
            <p:nvPr/>
          </p:nvGraphicFramePr>
          <p:xfrm>
            <a:off x="755640" y="1557360"/>
            <a:ext cx="8520120" cy="32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1557360"/>
                      <a:ext cx="8520120" cy="32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755640" y="4593960"/>
              <a:ext cx="852012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raced and unbraced fram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4652640"/>
            <a:ext cx="8569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frame without bracing is unbrac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frame with bracing is classified as braced only when the braced structure is sufficiently stiff later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D7C4-9FD3-4AE9-AF0C-8BF1EAE7F3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raced and unbraced fram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 without bracing is unbrac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 with bracing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nbraced whe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raced whe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837680"/>
            <a:ext cx="4705200" cy="1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here: </a:t>
            </a:r>
            <a:r>
              <a:rPr b="0" lang="el-GR" sz="2000" spc="-1" strike="noStrike">
                <a:solidFill>
                  <a:srgbClr val="000066"/>
                </a:solidFill>
                <a:latin typeface="Arial"/>
                <a:ea typeface="Arial"/>
              </a:rPr>
              <a:t>ψ</a:t>
            </a:r>
            <a:r>
              <a:rPr b="0" lang="de-DE" sz="20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br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Arial"/>
              </a:rPr>
              <a:t> and </a:t>
            </a:r>
            <a:r>
              <a:rPr b="0" lang="el-GR" sz="2000" spc="-1" strike="noStrike">
                <a:solidFill>
                  <a:srgbClr val="000066"/>
                </a:solidFill>
                <a:latin typeface="Arial"/>
                <a:ea typeface="Arial"/>
              </a:rPr>
              <a:t>ψ</a:t>
            </a:r>
            <a:r>
              <a:rPr b="0" lang="de-DE" sz="20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unbr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re the lateral flexibilities of the structure with and without the bracing respectivel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76720" y="2852640"/>
          <a:ext cx="177804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52640"/>
                    <a:ext cx="1778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276720" y="3573360"/>
          <a:ext cx="17888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73360"/>
                    <a:ext cx="17888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4860360" y="1731960"/>
            <a:ext cx="4187520" cy="3729960"/>
            <a:chOff x="4860360" y="1731960"/>
            <a:chExt cx="4187520" cy="3729960"/>
          </a:xfrm>
        </p:grpSpPr>
        <p:sp>
          <p:nvSpPr>
            <p:cNvPr id="124" name=""/>
            <p:cNvSpPr/>
            <p:nvPr/>
          </p:nvSpPr>
          <p:spPr>
            <a:xfrm>
              <a:off x="5683320" y="3606840"/>
              <a:ext cx="950760" cy="1174680"/>
            </a:xfrm>
            <a:prstGeom prst="rect">
              <a:avLst/>
            </a:prstGeom>
            <a:noFill/>
            <a:ln w="0">
              <a:solidFill>
                <a:srgbClr val="000066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61160" y="3606840"/>
              <a:ext cx="1800" cy="1047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749640" y="3606840"/>
              <a:ext cx="11160" cy="183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55680" y="5095800"/>
              <a:ext cx="301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Frame without brac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60360" y="180648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517720" y="2411280"/>
              <a:ext cx="1267200" cy="2458800"/>
              <a:chOff x="5517720" y="2411280"/>
              <a:chExt cx="1267200" cy="2458800"/>
            </a:xfrm>
          </p:grpSpPr>
          <p:sp>
            <p:nvSpPr>
              <p:cNvPr id="130" name=""/>
              <p:cNvSpPr/>
              <p:nvPr/>
            </p:nvSpPr>
            <p:spPr>
              <a:xfrm>
                <a:off x="5683320" y="2411280"/>
                <a:ext cx="950760" cy="1268280"/>
              </a:xfrm>
              <a:prstGeom prst="rect">
                <a:avLst/>
              </a:prstGeom>
              <a:noFill/>
              <a:ln w="0">
                <a:solidFill>
                  <a:srgbClr val="00006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726240" y="3790800"/>
                <a:ext cx="23760" cy="12528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710400" y="3916080"/>
                <a:ext cx="15840" cy="10800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692760" y="4012920"/>
                <a:ext cx="20880" cy="9360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674040" y="4113000"/>
                <a:ext cx="18720" cy="10008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6662520" y="4213080"/>
                <a:ext cx="4680" cy="6192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652800" y="4275000"/>
                <a:ext cx="9720" cy="8712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646680" y="4362120"/>
                <a:ext cx="6120" cy="8892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634080" y="4451040"/>
                <a:ext cx="12960" cy="6840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34080" y="4519440"/>
                <a:ext cx="1800" cy="5220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34080" y="4571640"/>
                <a:ext cx="1800" cy="4140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34080" y="4613040"/>
                <a:ext cx="1800" cy="4752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627600" y="4660560"/>
                <a:ext cx="6120" cy="112680"/>
              </a:xfrm>
              <a:prstGeom prst="line">
                <a:avLst/>
              </a:prstGeom>
              <a:ln w="144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5517720" y="4773240"/>
                <a:ext cx="50760" cy="8892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624280" y="4773240"/>
                <a:ext cx="58680" cy="968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5746320" y="4773240"/>
                <a:ext cx="65160" cy="8892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6405120" y="4773240"/>
                <a:ext cx="81000" cy="8892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521040" y="4773240"/>
                <a:ext cx="58680" cy="698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6653160" y="4773240"/>
                <a:ext cx="63720" cy="698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43640" y="4768560"/>
                <a:ext cx="149040" cy="180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637320" y="4768560"/>
                <a:ext cx="147600" cy="180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187400" y="1731960"/>
              <a:ext cx="1860480" cy="691200"/>
              <a:chOff x="7187400" y="1731960"/>
              <a:chExt cx="1860480" cy="691200"/>
            </a:xfrm>
          </p:grpSpPr>
          <p:sp>
            <p:nvSpPr>
              <p:cNvPr id="152" name=""/>
              <p:cNvSpPr/>
              <p:nvPr/>
            </p:nvSpPr>
            <p:spPr>
              <a:xfrm>
                <a:off x="7203240" y="2057040"/>
                <a:ext cx="184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Displacemen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87400" y="1731960"/>
                <a:ext cx="744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Swa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683320" y="2410920"/>
              <a:ext cx="1210680" cy="2361600"/>
              <a:chOff x="5683320" y="2410920"/>
              <a:chExt cx="1210680" cy="23616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5683320" y="3606480"/>
                <a:ext cx="135720" cy="1166040"/>
                <a:chOff x="5683320" y="3606480"/>
                <a:chExt cx="135720" cy="11660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816880" y="3606480"/>
                  <a:ext cx="2160" cy="1051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5810400" y="3606480"/>
                  <a:ext cx="6120" cy="1836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5778720" y="3790080"/>
                  <a:ext cx="31680" cy="1256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5763600" y="3916080"/>
                  <a:ext cx="14760" cy="1072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5747040" y="4017960"/>
                  <a:ext cx="16560" cy="889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5727600" y="4112280"/>
                  <a:ext cx="19080" cy="990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5714640" y="4212000"/>
                  <a:ext cx="6120" cy="626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5704200" y="4275000"/>
                  <a:ext cx="10440" cy="860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97720" y="4361040"/>
                  <a:ext cx="6120" cy="889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5686920" y="4450320"/>
                  <a:ext cx="10800" cy="680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686920" y="4518360"/>
                  <a:ext cx="2160" cy="522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686920" y="4570920"/>
                  <a:ext cx="2160" cy="421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686920" y="4613040"/>
                  <a:ext cx="2160" cy="468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5683320" y="4659840"/>
                  <a:ext cx="3600" cy="1126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818320" y="2442960"/>
                <a:ext cx="144000" cy="1163160"/>
                <a:chOff x="5818320" y="2442960"/>
                <a:chExt cx="144000" cy="1163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960520" y="2442960"/>
                  <a:ext cx="1800" cy="968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5945040" y="2442960"/>
                  <a:ext cx="6120" cy="1857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5920200" y="2628720"/>
                  <a:ext cx="25200" cy="1227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5900400" y="2751840"/>
                  <a:ext cx="19080" cy="1044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5882040" y="2856600"/>
                  <a:ext cx="18720" cy="867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5862960" y="2943360"/>
                  <a:ext cx="19080" cy="943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5851800" y="3037680"/>
                  <a:ext cx="10440" cy="705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5847840" y="3108600"/>
                  <a:ext cx="4320" cy="860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5837040" y="3194640"/>
                  <a:ext cx="10440" cy="889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5829120" y="3283920"/>
                  <a:ext cx="7920" cy="705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29120" y="3354480"/>
                  <a:ext cx="1800" cy="496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829120" y="3404520"/>
                  <a:ext cx="1800" cy="367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829120" y="3441240"/>
                  <a:ext cx="1800" cy="522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5818320" y="3493800"/>
                  <a:ext cx="10800" cy="1123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749640" y="2442960"/>
                <a:ext cx="144360" cy="1163160"/>
                <a:chOff x="6749640" y="2442960"/>
                <a:chExt cx="144360" cy="11631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892200" y="2442960"/>
                  <a:ext cx="1800" cy="968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6879240" y="2442960"/>
                  <a:ext cx="12960" cy="1857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6858000" y="2628720"/>
                  <a:ext cx="20880" cy="1227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6839280" y="2751840"/>
                  <a:ext cx="18720" cy="1044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6815160" y="2856600"/>
                  <a:ext cx="23400" cy="867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6798960" y="2943360"/>
                  <a:ext cx="20880" cy="943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6794640" y="3037680"/>
                  <a:ext cx="4320" cy="705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6779160" y="3108600"/>
                  <a:ext cx="14760" cy="860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6775200" y="3194640"/>
                  <a:ext cx="4320" cy="889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>
                  <a:off x="6760440" y="3283920"/>
                  <a:ext cx="8640" cy="705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760440" y="3354480"/>
                  <a:ext cx="2160" cy="496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760440" y="3404520"/>
                  <a:ext cx="2160" cy="367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760440" y="3441240"/>
                  <a:ext cx="2160" cy="522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749640" y="3493800"/>
                  <a:ext cx="10440" cy="1123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70600" y="2410920"/>
                <a:ext cx="914040" cy="139320"/>
                <a:chOff x="5970600" y="2410920"/>
                <a:chExt cx="914040" cy="1393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70600" y="2418840"/>
                  <a:ext cx="97560" cy="579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87240" y="2484720"/>
                  <a:ext cx="57600" cy="392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157440" y="2524320"/>
                  <a:ext cx="55440" cy="75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12880" y="2531880"/>
                  <a:ext cx="91080" cy="158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303960" y="2548080"/>
                  <a:ext cx="38520" cy="21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342840" y="2531880"/>
                  <a:ext cx="54720" cy="158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6397560" y="2531880"/>
                  <a:ext cx="89640" cy="158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6499800" y="2523960"/>
                  <a:ext cx="69840" cy="75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580800" y="2484360"/>
                  <a:ext cx="46440" cy="291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6654960" y="2460600"/>
                  <a:ext cx="19080" cy="158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6706440" y="2410920"/>
                  <a:ext cx="178200" cy="493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837400" y="3606480"/>
                <a:ext cx="923400" cy="180720"/>
                <a:chOff x="5837400" y="3606480"/>
                <a:chExt cx="923400" cy="1807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837400" y="3606480"/>
                  <a:ext cx="103680" cy="442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960520" y="3661560"/>
                  <a:ext cx="78480" cy="7056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53760" y="3732120"/>
                  <a:ext cx="50760" cy="234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04880" y="3755880"/>
                  <a:ext cx="76320" cy="284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200280" y="3784320"/>
                  <a:ext cx="27720" cy="28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34480" y="3784320"/>
                  <a:ext cx="50760" cy="28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6300000" y="3755520"/>
                  <a:ext cx="78840" cy="284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6387120" y="3731760"/>
                  <a:ext cx="74520" cy="234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6457320" y="3710880"/>
                  <a:ext cx="59040" cy="205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6527160" y="3692520"/>
                  <a:ext cx="17280" cy="104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6559200" y="3616920"/>
                  <a:ext cx="201600" cy="756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614640" y="3601800"/>
                <a:ext cx="135000" cy="1166040"/>
                <a:chOff x="6614640" y="3601800"/>
                <a:chExt cx="135000" cy="1166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747840" y="3601800"/>
                  <a:ext cx="1800" cy="1044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6743160" y="3601800"/>
                  <a:ext cx="3960" cy="1828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6709680" y="3784680"/>
                  <a:ext cx="33480" cy="1234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6694920" y="3908520"/>
                  <a:ext cx="14760" cy="1098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6677640" y="4010760"/>
                  <a:ext cx="16920" cy="914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6661080" y="4107240"/>
                  <a:ext cx="16560" cy="9684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6645960" y="4204440"/>
                  <a:ext cx="6120" cy="6300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6635520" y="4267440"/>
                  <a:ext cx="10440" cy="889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6631200" y="4356720"/>
                  <a:ext cx="3960" cy="889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6620760" y="4446000"/>
                  <a:ext cx="10440" cy="676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21120" y="4513680"/>
                  <a:ext cx="2160" cy="496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621120" y="4563720"/>
                  <a:ext cx="2160" cy="421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621120" y="4605840"/>
                  <a:ext cx="2160" cy="4932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6614640" y="4655160"/>
                  <a:ext cx="6120" cy="112680"/>
                </a:xfrm>
                <a:prstGeom prst="line">
                  <a:avLst/>
                </a:prstGeom>
                <a:ln w="63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5734080" y="2379600"/>
              <a:ext cx="15840" cy="7164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469120" y="2314440"/>
              <a:ext cx="236160" cy="193320"/>
              <a:chOff x="5469120" y="2314440"/>
              <a:chExt cx="236160" cy="193320"/>
            </a:xfrm>
          </p:grpSpPr>
          <p:sp>
            <p:nvSpPr>
              <p:cNvPr id="241" name=""/>
              <p:cNvSpPr/>
              <p:nvPr/>
            </p:nvSpPr>
            <p:spPr>
              <a:xfrm>
                <a:off x="5469120" y="2411280"/>
                <a:ext cx="236160" cy="216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16000" y="2314440"/>
                <a:ext cx="82800" cy="193320"/>
              </a:xfrm>
              <a:custGeom>
                <a:avLst/>
                <a:gdLst/>
                <a:ahLst/>
                <a:rect l="l" t="t" r="r" b="b"/>
                <a:pathLst>
                  <a:path w="39" h="74">
                    <a:moveTo>
                      <a:pt x="39" y="33"/>
                    </a:moveTo>
                    <a:lnTo>
                      <a:pt x="0" y="74"/>
                    </a:lnTo>
                    <a:lnTo>
                      <a:pt x="0" y="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437080" y="3481560"/>
              <a:ext cx="236520" cy="193320"/>
              <a:chOff x="5437080" y="3481560"/>
              <a:chExt cx="236520" cy="193320"/>
            </a:xfrm>
          </p:grpSpPr>
          <p:sp>
            <p:nvSpPr>
              <p:cNvPr id="244" name=""/>
              <p:cNvSpPr/>
              <p:nvPr/>
            </p:nvSpPr>
            <p:spPr>
              <a:xfrm>
                <a:off x="5437080" y="3578040"/>
                <a:ext cx="236520" cy="216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83960" y="3481560"/>
                <a:ext cx="82800" cy="193320"/>
              </a:xfrm>
              <a:custGeom>
                <a:avLst/>
                <a:gdLst/>
                <a:ahLst/>
                <a:rect l="l" t="t" r="r" b="b"/>
                <a:pathLst>
                  <a:path w="39" h="74">
                    <a:moveTo>
                      <a:pt x="39" y="33"/>
                    </a:moveTo>
                    <a:lnTo>
                      <a:pt x="0" y="74"/>
                    </a:lnTo>
                    <a:lnTo>
                      <a:pt x="0" y="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419880" y="1919160"/>
              <a:ext cx="601560" cy="212760"/>
              <a:chOff x="6419880" y="1919160"/>
              <a:chExt cx="601560" cy="212760"/>
            </a:xfrm>
          </p:grpSpPr>
          <p:sp>
            <p:nvSpPr>
              <p:cNvPr id="247" name=""/>
              <p:cNvSpPr/>
              <p:nvPr/>
            </p:nvSpPr>
            <p:spPr>
              <a:xfrm>
                <a:off x="6645240" y="1923840"/>
                <a:ext cx="0" cy="208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85000" y="1919160"/>
                <a:ext cx="0" cy="2077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6419880" y="2008080"/>
                <a:ext cx="225360" cy="14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00840" y="2022120"/>
                <a:ext cx="1206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5812920" y="5027760"/>
            <a:ext cx="25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 with brac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673240" y="2390760"/>
            <a:ext cx="1203480" cy="2436840"/>
            <a:chOff x="5673240" y="2390760"/>
            <a:chExt cx="1203480" cy="2436840"/>
          </a:xfrm>
        </p:grpSpPr>
        <p:sp>
          <p:nvSpPr>
            <p:cNvPr id="253" name=""/>
            <p:cNvSpPr/>
            <p:nvPr/>
          </p:nvSpPr>
          <p:spPr>
            <a:xfrm>
              <a:off x="5830560" y="2390760"/>
              <a:ext cx="903600" cy="1255680"/>
            </a:xfrm>
            <a:prstGeom prst="rect">
              <a:avLst/>
            </a:prstGeom>
            <a:noFill/>
            <a:ln w="0">
              <a:solidFill>
                <a:srgbClr val="000066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30560" y="3576600"/>
              <a:ext cx="903600" cy="1160640"/>
            </a:xfrm>
            <a:prstGeom prst="rect">
              <a:avLst/>
            </a:prstGeom>
            <a:noFill/>
            <a:ln w="0">
              <a:solidFill>
                <a:srgbClr val="000066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34160" y="4532400"/>
              <a:ext cx="1440" cy="410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34160" y="4573440"/>
              <a:ext cx="1440" cy="4608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729120" y="4619520"/>
              <a:ext cx="5040" cy="11268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73240" y="4732200"/>
              <a:ext cx="49320" cy="8568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776560" y="4732200"/>
              <a:ext cx="54000" cy="954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891040" y="4732200"/>
              <a:ext cx="63360" cy="8568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517800" y="4732200"/>
              <a:ext cx="75960" cy="8568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626160" y="4732200"/>
              <a:ext cx="56880" cy="6696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751440" y="4732200"/>
              <a:ext cx="60480" cy="6696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00600" y="4727520"/>
              <a:ext cx="13788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0280" y="4727520"/>
              <a:ext cx="136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167960" y="1943280"/>
            <a:ext cx="1844640" cy="775440"/>
            <a:chOff x="7167960" y="1943280"/>
            <a:chExt cx="1844640" cy="775440"/>
          </a:xfrm>
        </p:grpSpPr>
        <p:sp>
          <p:nvSpPr>
            <p:cNvPr id="267" name=""/>
            <p:cNvSpPr/>
            <p:nvPr/>
          </p:nvSpPr>
          <p:spPr>
            <a:xfrm>
              <a:off x="7167960" y="2352600"/>
              <a:ext cx="184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Displacemen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27000" y="1943280"/>
              <a:ext cx="74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Swa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998240" y="1757520"/>
            <a:ext cx="801720" cy="1869480"/>
            <a:chOff x="4998240" y="1757520"/>
            <a:chExt cx="801720" cy="1869480"/>
          </a:xfrm>
        </p:grpSpPr>
        <p:sp>
          <p:nvSpPr>
            <p:cNvPr id="270" name=""/>
            <p:cNvSpPr/>
            <p:nvPr/>
          </p:nvSpPr>
          <p:spPr>
            <a:xfrm>
              <a:off x="4998240" y="175752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546520" y="3435480"/>
              <a:ext cx="223200" cy="191520"/>
              <a:chOff x="5546520" y="3435480"/>
              <a:chExt cx="223200" cy="191520"/>
            </a:xfrm>
          </p:grpSpPr>
          <p:sp>
            <p:nvSpPr>
              <p:cNvPr id="272" name=""/>
              <p:cNvSpPr/>
              <p:nvPr/>
            </p:nvSpPr>
            <p:spPr>
              <a:xfrm>
                <a:off x="5546520" y="3528720"/>
                <a:ext cx="223200" cy="216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86920" y="3435480"/>
                <a:ext cx="78480" cy="191520"/>
              </a:xfrm>
              <a:custGeom>
                <a:avLst/>
                <a:gdLst/>
                <a:ahLst/>
                <a:rect l="l" t="t" r="r" b="b"/>
                <a:pathLst>
                  <a:path w="39" h="74">
                    <a:moveTo>
                      <a:pt x="39" y="33"/>
                    </a:moveTo>
                    <a:lnTo>
                      <a:pt x="0" y="74"/>
                    </a:lnTo>
                    <a:lnTo>
                      <a:pt x="0" y="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576760" y="2313000"/>
              <a:ext cx="223200" cy="194760"/>
              <a:chOff x="5576760" y="2313000"/>
              <a:chExt cx="223200" cy="194760"/>
            </a:xfrm>
          </p:grpSpPr>
          <p:sp>
            <p:nvSpPr>
              <p:cNvPr id="275" name=""/>
              <p:cNvSpPr/>
              <p:nvPr/>
            </p:nvSpPr>
            <p:spPr>
              <a:xfrm>
                <a:off x="5576760" y="2408760"/>
                <a:ext cx="223200" cy="288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17160" y="2313000"/>
                <a:ext cx="78480" cy="194760"/>
              </a:xfrm>
              <a:custGeom>
                <a:avLst/>
                <a:gdLst/>
                <a:ahLst/>
                <a:rect l="l" t="t" r="r" b="b"/>
                <a:pathLst>
                  <a:path w="39" h="75">
                    <a:moveTo>
                      <a:pt x="39" y="33"/>
                    </a:moveTo>
                    <a:lnTo>
                      <a:pt x="0" y="75"/>
                    </a:lnTo>
                    <a:lnTo>
                      <a:pt x="0" y="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5848200" y="2373480"/>
            <a:ext cx="1150560" cy="2353680"/>
            <a:chOff x="5848200" y="2373480"/>
            <a:chExt cx="1150560" cy="2353680"/>
          </a:xfrm>
        </p:grpSpPr>
        <p:grpSp>
          <p:nvGrpSpPr>
            <p:cNvPr id="278" name=""/>
            <p:cNvGrpSpPr/>
            <p:nvPr/>
          </p:nvGrpSpPr>
          <p:grpSpPr>
            <a:xfrm>
              <a:off x="5848200" y="3558960"/>
              <a:ext cx="129960" cy="1154880"/>
              <a:chOff x="5848200" y="3558960"/>
              <a:chExt cx="129960" cy="1154880"/>
            </a:xfrm>
          </p:grpSpPr>
          <p:sp>
            <p:nvSpPr>
              <p:cNvPr id="279" name=""/>
              <p:cNvSpPr/>
              <p:nvPr/>
            </p:nvSpPr>
            <p:spPr>
              <a:xfrm>
                <a:off x="5976360" y="3558960"/>
                <a:ext cx="1800" cy="1033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5972040" y="3558960"/>
                <a:ext cx="3960" cy="1818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941800" y="3740760"/>
                <a:ext cx="30240" cy="124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925600" y="3864960"/>
                <a:ext cx="15840" cy="106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909040" y="3963960"/>
                <a:ext cx="16560" cy="903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892840" y="4059720"/>
                <a:ext cx="15840" cy="986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5878440" y="4158720"/>
                <a:ext cx="5760" cy="615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5868360" y="4220640"/>
                <a:ext cx="10080" cy="856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863680" y="4306320"/>
                <a:ext cx="3960" cy="88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853960" y="4394880"/>
                <a:ext cx="10080" cy="669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53960" y="4461840"/>
                <a:ext cx="2160" cy="52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53960" y="4514400"/>
                <a:ext cx="2160" cy="410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53960" y="4555440"/>
                <a:ext cx="2160" cy="468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848200" y="4602600"/>
                <a:ext cx="5760" cy="1112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6873840" y="3558960"/>
              <a:ext cx="3240" cy="102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864480" y="3558960"/>
              <a:ext cx="9360" cy="18072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840000" y="3740040"/>
              <a:ext cx="24120" cy="12492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825960" y="3865320"/>
              <a:ext cx="14040" cy="10620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807240" y="3960360"/>
              <a:ext cx="20520" cy="932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789600" y="4060800"/>
              <a:ext cx="17640" cy="9792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779880" y="4159080"/>
              <a:ext cx="4680" cy="615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768720" y="4221000"/>
              <a:ext cx="11160" cy="8532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765480" y="4306680"/>
              <a:ext cx="3240" cy="885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751440" y="4395600"/>
              <a:ext cx="14040" cy="662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51800" y="4462200"/>
              <a:ext cx="1440" cy="5220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975280" y="2406600"/>
              <a:ext cx="137880" cy="1151280"/>
              <a:chOff x="5975280" y="2406600"/>
              <a:chExt cx="137880" cy="1151280"/>
            </a:xfrm>
          </p:grpSpPr>
          <p:sp>
            <p:nvSpPr>
              <p:cNvPr id="305" name=""/>
              <p:cNvSpPr/>
              <p:nvPr/>
            </p:nvSpPr>
            <p:spPr>
              <a:xfrm>
                <a:off x="6111000" y="2406600"/>
                <a:ext cx="2160" cy="932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098760" y="2406600"/>
                <a:ext cx="3960" cy="1839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072840" y="2590560"/>
                <a:ext cx="25920" cy="1191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054120" y="2710080"/>
                <a:ext cx="18360" cy="1033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035400" y="2813400"/>
                <a:ext cx="18360" cy="88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6019920" y="2901240"/>
                <a:ext cx="15840" cy="932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009480" y="2995200"/>
                <a:ext cx="10080" cy="673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003720" y="3062880"/>
                <a:ext cx="5760" cy="849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993640" y="3148200"/>
                <a:ext cx="10080" cy="903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985000" y="3238920"/>
                <a:ext cx="8280" cy="705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85360" y="3309480"/>
                <a:ext cx="1800" cy="464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85360" y="3355920"/>
                <a:ext cx="1800" cy="385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985360" y="3394800"/>
                <a:ext cx="1800" cy="514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975280" y="3446280"/>
                <a:ext cx="10080" cy="1116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864120" y="2406600"/>
              <a:ext cx="134640" cy="1151280"/>
              <a:chOff x="6864120" y="2406600"/>
              <a:chExt cx="134640" cy="1151280"/>
            </a:xfrm>
          </p:grpSpPr>
          <p:sp>
            <p:nvSpPr>
              <p:cNvPr id="320" name=""/>
              <p:cNvSpPr/>
              <p:nvPr/>
            </p:nvSpPr>
            <p:spPr>
              <a:xfrm>
                <a:off x="6996600" y="2406600"/>
                <a:ext cx="2160" cy="932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984720" y="2406600"/>
                <a:ext cx="11520" cy="1839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6964560" y="2590560"/>
                <a:ext cx="19800" cy="1191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946560" y="2710080"/>
                <a:ext cx="18000" cy="1033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923880" y="2813400"/>
                <a:ext cx="21960" cy="88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908400" y="2901240"/>
                <a:ext cx="19800" cy="932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904080" y="2995200"/>
                <a:ext cx="3960" cy="673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892560" y="3062880"/>
                <a:ext cx="11520" cy="849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886440" y="3148200"/>
                <a:ext cx="5760" cy="903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874200" y="3238920"/>
                <a:ext cx="7920" cy="705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74200" y="3309480"/>
                <a:ext cx="2160" cy="464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74200" y="3355920"/>
                <a:ext cx="2160" cy="385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74200" y="3394800"/>
                <a:ext cx="2160" cy="514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864120" y="3446280"/>
                <a:ext cx="9720" cy="1116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121440" y="2373480"/>
              <a:ext cx="869400" cy="138960"/>
              <a:chOff x="6121440" y="2373480"/>
              <a:chExt cx="869400" cy="138960"/>
            </a:xfrm>
          </p:grpSpPr>
          <p:sp>
            <p:nvSpPr>
              <p:cNvPr id="335" name=""/>
              <p:cNvSpPr/>
              <p:nvPr/>
            </p:nvSpPr>
            <p:spPr>
              <a:xfrm>
                <a:off x="6121440" y="2383200"/>
                <a:ext cx="95040" cy="540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32320" y="2448000"/>
                <a:ext cx="54360" cy="385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98920" y="2486520"/>
                <a:ext cx="54720" cy="75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353640" y="2494440"/>
                <a:ext cx="84600" cy="151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38240" y="2509560"/>
                <a:ext cx="36000" cy="28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474600" y="2494440"/>
                <a:ext cx="52560" cy="151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6527160" y="2494440"/>
                <a:ext cx="84600" cy="151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623640" y="2486160"/>
                <a:ext cx="66600" cy="75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6700320" y="2447640"/>
                <a:ext cx="46080" cy="277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770880" y="2424600"/>
                <a:ext cx="18000" cy="126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6819480" y="2373480"/>
                <a:ext cx="171360" cy="511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994360" y="3558960"/>
              <a:ext cx="879120" cy="175680"/>
              <a:chOff x="5994360" y="3558960"/>
              <a:chExt cx="879120" cy="175680"/>
            </a:xfrm>
          </p:grpSpPr>
          <p:sp>
            <p:nvSpPr>
              <p:cNvPr id="347" name=""/>
              <p:cNvSpPr/>
              <p:nvPr/>
            </p:nvSpPr>
            <p:spPr>
              <a:xfrm>
                <a:off x="5994360" y="3558960"/>
                <a:ext cx="98640" cy="439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11000" y="3612600"/>
                <a:ext cx="76680" cy="70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99560" y="3683160"/>
                <a:ext cx="48240" cy="226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48160" y="3705840"/>
                <a:ext cx="72720" cy="255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39240" y="3731760"/>
                <a:ext cx="25920" cy="28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373440" y="3731760"/>
                <a:ext cx="47880" cy="28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6433920" y="3705480"/>
                <a:ext cx="76320" cy="255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6516720" y="3682800"/>
                <a:ext cx="72000" cy="226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582960" y="3661920"/>
                <a:ext cx="56520" cy="208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6649920" y="3643560"/>
                <a:ext cx="17640" cy="104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680160" y="3566520"/>
                <a:ext cx="193320" cy="770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732720" y="3554280"/>
              <a:ext cx="129600" cy="1154880"/>
              <a:chOff x="6732720" y="3554280"/>
              <a:chExt cx="129600" cy="1154880"/>
            </a:xfrm>
          </p:grpSpPr>
          <p:sp>
            <p:nvSpPr>
              <p:cNvPr id="359" name=""/>
              <p:cNvSpPr/>
              <p:nvPr/>
            </p:nvSpPr>
            <p:spPr>
              <a:xfrm>
                <a:off x="6860160" y="3554280"/>
                <a:ext cx="2160" cy="1033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856560" y="3554280"/>
                <a:ext cx="3600" cy="1789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825240" y="3733200"/>
                <a:ext cx="30600" cy="1245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809400" y="3857760"/>
                <a:ext cx="15840" cy="106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6794640" y="3959280"/>
                <a:ext cx="14040" cy="882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777360" y="4055040"/>
                <a:ext cx="17640" cy="957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764400" y="4151160"/>
                <a:ext cx="3960" cy="622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754680" y="4213440"/>
                <a:ext cx="10080" cy="856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748560" y="4299480"/>
                <a:ext cx="5760" cy="903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738480" y="4390200"/>
                <a:ext cx="10080" cy="6768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38480" y="4457880"/>
                <a:ext cx="1800" cy="4860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38480" y="4506480"/>
                <a:ext cx="1800" cy="4176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38480" y="4548240"/>
                <a:ext cx="1800" cy="4932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6732720" y="4597920"/>
                <a:ext cx="5760" cy="111240"/>
              </a:xfrm>
              <a:prstGeom prst="line">
                <a:avLst/>
              </a:prstGeom>
              <a:ln w="63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6157800" y="2468520"/>
              <a:ext cx="655560" cy="106632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63840" y="2395440"/>
              <a:ext cx="901800" cy="112176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897520" y="3587400"/>
              <a:ext cx="946080" cy="110304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51600" y="3554280"/>
              <a:ext cx="655560" cy="117288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507000" y="1981080"/>
            <a:ext cx="601560" cy="212760"/>
            <a:chOff x="6507000" y="1981080"/>
            <a:chExt cx="601560" cy="212760"/>
          </a:xfrm>
        </p:grpSpPr>
        <p:sp>
          <p:nvSpPr>
            <p:cNvPr id="378" name=""/>
            <p:cNvSpPr/>
            <p:nvPr/>
          </p:nvSpPr>
          <p:spPr>
            <a:xfrm>
              <a:off x="6732360" y="1985760"/>
              <a:ext cx="0" cy="208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72120" y="1981080"/>
              <a:ext cx="0" cy="207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6507000" y="2070000"/>
              <a:ext cx="2253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87960" y="2084040"/>
              <a:ext cx="120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0C60-BFB2-4538-A3D1-0325070EC2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way and non-swa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8920" y="4762440"/>
            <a:ext cx="7812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67040" indent="-1967040"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here: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s the design value of the total vertical load applied to the structure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s the elastic critical vertical load producing sway instability of the struc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587840" y="1581120"/>
          <a:ext cx="167652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7840" y="1581120"/>
                    <a:ext cx="1676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484360" y="4683240"/>
                <a:ext cx="503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484360" y="5343480"/>
                <a:ext cx="446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762120" y="1858320"/>
            <a:ext cx="403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n-sway frame whe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37160" y="1555200"/>
            <a:ext cx="270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or elastic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29240" y="2275920"/>
            <a:ext cx="270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or plastic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3560" y="3550680"/>
            <a:ext cx="403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way frame whe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38960" y="3222000"/>
            <a:ext cx="270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or elastic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31040" y="3933000"/>
            <a:ext cx="270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or plastic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572000" y="2298600"/>
          <a:ext cx="168120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98600"/>
                    <a:ext cx="16812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4587840" y="3236760"/>
          <a:ext cx="16765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7840" y="3236760"/>
                    <a:ext cx="1676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4572000" y="3944880"/>
          <a:ext cx="168120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944880"/>
                    <a:ext cx="1681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4643280" y="2997360"/>
            <a:ext cx="4321440" cy="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2AFF-C957-4581-9EC3-AAEF59D89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rame classification and type of frame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79280" y="2421000"/>
          <a:ext cx="8785440" cy="3144600"/>
        </p:xfrm>
        <a:graphic>
          <a:graphicData uri="http://schemas.openxmlformats.org/drawingml/2006/table">
            <a:tbl>
              <a:tblPr/>
              <a:tblGrid>
                <a:gridCol w="2373480"/>
                <a:gridCol w="1731960"/>
                <a:gridCol w="2374920"/>
                <a:gridCol w="2305080"/>
              </a:tblGrid>
              <a:tr h="8236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racing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rac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braced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9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teral displacemen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wa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orde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orde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n-swa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orde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orde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AFAC-D6B7-49F6-AAF8-D1889C05D8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lastic critical loa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5640" y="4076640"/>
            <a:ext cx="8183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71720" indent="-107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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s the sway at the top of storey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71720" indent="-107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s the height of storey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71720" indent="-1079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re the total horizontal and vertical reactions respectively at the bottom of storey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247920" y="3068640"/>
          <a:ext cx="246708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7920" y="3068640"/>
                    <a:ext cx="246708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419040" y="1656000"/>
            <a:ext cx="504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marL="452520" indent="-452520">
              <a:buClr>
                <a:srgbClr val="0000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following approach may be  use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2558880"/>
            <a:ext cx="4172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roximate procedur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692360" y="4595760"/>
          <a:ext cx="20304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595760"/>
                    <a:ext cx="2030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6BEC-74BA-40A8-9A49-73FF3F5B56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lastic critical loa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following approaches may also be us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inter Frame Proced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ifurcation analysis: specific softw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ep-by-step elastic 2nd order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pecial charts for typical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515E-FBCF-41D7-A169-FE57173129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008000" y="1808280"/>
            <a:ext cx="7086600" cy="3504960"/>
            <a:chOff x="1008000" y="1808280"/>
            <a:chExt cx="7086600" cy="3504960"/>
          </a:xfrm>
        </p:grpSpPr>
        <p:graphicFrame>
          <p:nvGraphicFramePr>
            <p:cNvPr id="415" name=""/>
            <p:cNvGraphicFramePr/>
            <p:nvPr/>
          </p:nvGraphicFramePr>
          <p:xfrm>
            <a:off x="1008000" y="1808280"/>
            <a:ext cx="7086600" cy="350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8000" y="1808280"/>
                      <a:ext cx="7086600" cy="35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2312640" y="2368440"/>
              <a:ext cx="4145040" cy="2804760"/>
            </a:xfrm>
            <a:custGeom>
              <a:avLst/>
              <a:gdLst/>
              <a:ahLst/>
              <a:rect l="l" t="t" r="r" b="b"/>
              <a:pathLst>
                <a:path w="2400" h="1872">
                  <a:moveTo>
                    <a:pt x="0" y="1872"/>
                  </a:moveTo>
                  <a:cubicBezTo>
                    <a:pt x="204" y="1488"/>
                    <a:pt x="408" y="1104"/>
                    <a:pt x="528" y="912"/>
                  </a:cubicBezTo>
                  <a:cubicBezTo>
                    <a:pt x="648" y="720"/>
                    <a:pt x="640" y="800"/>
                    <a:pt x="720" y="720"/>
                  </a:cubicBezTo>
                  <a:cubicBezTo>
                    <a:pt x="800" y="640"/>
                    <a:pt x="808" y="536"/>
                    <a:pt x="1008" y="432"/>
                  </a:cubicBezTo>
                  <a:cubicBezTo>
                    <a:pt x="1208" y="328"/>
                    <a:pt x="1688" y="168"/>
                    <a:pt x="1920" y="96"/>
                  </a:cubicBezTo>
                  <a:cubicBezTo>
                    <a:pt x="2152" y="24"/>
                    <a:pt x="2276" y="12"/>
                    <a:pt x="240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91000" y="2228760"/>
              <a:ext cx="331920" cy="315360"/>
            </a:xfrm>
            <a:prstGeom prst="line">
              <a:avLst/>
            </a:prstGeom>
            <a:ln w="381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229080" y="2228760"/>
              <a:ext cx="331920" cy="315360"/>
            </a:xfrm>
            <a:prstGeom prst="line">
              <a:avLst/>
            </a:prstGeom>
            <a:ln w="381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ehaviour of structural joi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8808-E2B5-405D-8343-72835E34DC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3:03:01Z</dcterms:created>
  <dc:creator>Oliver Rößler</dc:creator>
  <dc:description/>
  <dc:language>en-US</dc:language>
  <cp:lastModifiedBy>Klaus Weynand</cp:lastModifiedBy>
  <dcterms:modified xsi:type="dcterms:W3CDTF">2009-02-11T10:09:55Z</dcterms:modified>
  <cp:revision>9</cp:revision>
  <dc:subject/>
  <dc:title>Folie 1</dc:title>
</cp:coreProperties>
</file>