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2.jpeg" ContentType="image/jpeg"/>
  <Override PartName="/ppt/media/image25.wmf" ContentType="image/x-wmf"/>
  <Override PartName="/ppt/media/image26.wmf" ContentType="image/x-wmf"/>
  <Override PartName="/ppt/media/image1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0C55-CCE8-48CD-8658-B2D05A978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41C4-2475-4E18-8886-5272E7CFD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520E-C53A-498D-9E50-DE070FDE4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6EE6-CF0B-480D-A6F3-DAE6867C0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E50D1-4350-42D8-BADE-83B21E8AC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72B6-6231-494E-9277-ADAF5B6ED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4E82-323B-4C5B-9513-B0F1DE158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7D9C-A1AA-443B-A293-B87ADD417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9E3B-5705-4D4B-922B-CFFB1FA54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CDFA-D020-43D5-B177-FC8AE4465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9C9B-401D-4F50-B508-7A69B1784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C8FFC-0189-40BE-BB3F-464AE02F3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1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797120" indent="-2732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ecture 7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ocal buckling and cross-section classifi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244000" y="6453000"/>
            <a:ext cx="6588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C69A-B7CC-4522-8C90-0DFB30DB37FC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48120" y="6275520"/>
            <a:ext cx="45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Feb. 2009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549360"/>
            <a:ext cx="74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ITE  INTERNATIONAL  POUR  LE  DEVELOPP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T  L'ETUDE  DE  LA  CONSTRUCTION  TUBULA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58920" y="450864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sentation by …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608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Module 3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of member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886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ecture 7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ocal buckling and cross-section classific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58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Training and Education for the Implementation of Eurocode 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6064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52388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976400" algn="ctr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lass 4 cross-sections (bending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629080" y="1425600"/>
            <a:ext cx="3887640" cy="2003400"/>
            <a:chOff x="2629080" y="1425600"/>
            <a:chExt cx="3887640" cy="2003400"/>
          </a:xfrm>
        </p:grpSpPr>
        <p:sp>
          <p:nvSpPr>
            <p:cNvPr id="324" name=""/>
            <p:cNvSpPr/>
            <p:nvPr/>
          </p:nvSpPr>
          <p:spPr>
            <a:xfrm>
              <a:off x="2629080" y="1425600"/>
              <a:ext cx="3887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Elastic moment on effective section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59960" y="1773360"/>
              <a:ext cx="131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r>
                <a:rPr b="0" lang="en-GB" sz="1800" spc="-1" strike="noStrike" baseline="-25000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92360" y="1989000"/>
              <a:ext cx="812880" cy="1440000"/>
            </a:xfrm>
            <a:custGeom>
              <a:avLst/>
              <a:gdLst/>
              <a:ahLst/>
              <a:rect l="l" t="t" r="r" b="b"/>
              <a:pathLst>
                <a:path w="512" h="907">
                  <a:moveTo>
                    <a:pt x="226" y="0"/>
                  </a:moveTo>
                  <a:lnTo>
                    <a:pt x="512" y="3"/>
                  </a:lnTo>
                  <a:lnTo>
                    <a:pt x="0" y="907"/>
                  </a:lnTo>
                  <a:lnTo>
                    <a:pt x="226" y="907"/>
                  </a:lnTo>
                  <a:lnTo>
                    <a:pt x="226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63880" y="2133720"/>
              <a:ext cx="360360" cy="215640"/>
            </a:xfrm>
            <a:custGeom>
              <a:avLst/>
              <a:gdLst/>
              <a:ahLst/>
              <a:rect l="l" t="t" r="r" b="b"/>
              <a:pathLst>
                <a:path w="227" h="136">
                  <a:moveTo>
                    <a:pt x="0" y="0"/>
                  </a:moveTo>
                  <a:lnTo>
                    <a:pt x="227" y="0"/>
                  </a:lnTo>
                  <a:lnTo>
                    <a:pt x="134" y="136"/>
                  </a:lnTo>
                  <a:lnTo>
                    <a:pt x="0" y="13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31200" y="2852640"/>
            <a:ext cx="2844000" cy="2867040"/>
            <a:chOff x="331200" y="2852640"/>
            <a:chExt cx="2844000" cy="2867040"/>
          </a:xfrm>
        </p:grpSpPr>
        <p:sp>
          <p:nvSpPr>
            <p:cNvPr id="329" name=""/>
            <p:cNvSpPr/>
            <p:nvPr/>
          </p:nvSpPr>
          <p:spPr>
            <a:xfrm>
              <a:off x="684360" y="4005360"/>
              <a:ext cx="2087280" cy="0"/>
            </a:xfrm>
            <a:prstGeom prst="line">
              <a:avLst/>
            </a:prstGeom>
            <a:ln w="19080">
              <a:solidFill>
                <a:srgbClr val="3333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4360" y="3716280"/>
              <a:ext cx="2232000" cy="0"/>
            </a:xfrm>
            <a:prstGeom prst="line">
              <a:avLst/>
            </a:prstGeom>
            <a:ln w="1908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0200" y="4280040"/>
              <a:ext cx="426960" cy="1125360"/>
            </a:xfrm>
            <a:custGeom>
              <a:avLst/>
              <a:gdLst/>
              <a:ahLst/>
              <a:rect l="l" t="t" r="r" b="b"/>
              <a:pathLst>
                <a:path w="440" h="1378">
                  <a:moveTo>
                    <a:pt x="35" y="1362"/>
                  </a:moveTo>
                  <a:lnTo>
                    <a:pt x="33" y="1365"/>
                  </a:lnTo>
                  <a:lnTo>
                    <a:pt x="33" y="1368"/>
                  </a:lnTo>
                  <a:lnTo>
                    <a:pt x="30" y="1373"/>
                  </a:lnTo>
                  <a:lnTo>
                    <a:pt x="25" y="1375"/>
                  </a:lnTo>
                  <a:lnTo>
                    <a:pt x="23" y="1375"/>
                  </a:lnTo>
                  <a:lnTo>
                    <a:pt x="20" y="1378"/>
                  </a:lnTo>
                  <a:lnTo>
                    <a:pt x="18" y="1378"/>
                  </a:lnTo>
                  <a:lnTo>
                    <a:pt x="15" y="1378"/>
                  </a:lnTo>
                  <a:lnTo>
                    <a:pt x="10" y="1375"/>
                  </a:lnTo>
                  <a:lnTo>
                    <a:pt x="7" y="1375"/>
                  </a:lnTo>
                  <a:lnTo>
                    <a:pt x="5" y="1373"/>
                  </a:lnTo>
                  <a:lnTo>
                    <a:pt x="2" y="1368"/>
                  </a:lnTo>
                  <a:lnTo>
                    <a:pt x="2" y="1365"/>
                  </a:lnTo>
                  <a:lnTo>
                    <a:pt x="0" y="1362"/>
                  </a:lnTo>
                  <a:lnTo>
                    <a:pt x="0" y="1360"/>
                  </a:lnTo>
                  <a:lnTo>
                    <a:pt x="0" y="1357"/>
                  </a:lnTo>
                  <a:lnTo>
                    <a:pt x="404" y="15"/>
                  </a:lnTo>
                  <a:lnTo>
                    <a:pt x="407" y="10"/>
                  </a:lnTo>
                  <a:lnTo>
                    <a:pt x="407" y="7"/>
                  </a:lnTo>
                  <a:lnTo>
                    <a:pt x="409" y="5"/>
                  </a:lnTo>
                  <a:lnTo>
                    <a:pt x="412" y="2"/>
                  </a:lnTo>
                  <a:lnTo>
                    <a:pt x="417" y="2"/>
                  </a:lnTo>
                  <a:lnTo>
                    <a:pt x="420" y="0"/>
                  </a:lnTo>
                  <a:lnTo>
                    <a:pt x="422" y="0"/>
                  </a:lnTo>
                  <a:lnTo>
                    <a:pt x="425" y="0"/>
                  </a:lnTo>
                  <a:lnTo>
                    <a:pt x="427" y="2"/>
                  </a:lnTo>
                  <a:lnTo>
                    <a:pt x="432" y="2"/>
                  </a:lnTo>
                  <a:lnTo>
                    <a:pt x="435" y="5"/>
                  </a:lnTo>
                  <a:lnTo>
                    <a:pt x="437" y="7"/>
                  </a:lnTo>
                  <a:lnTo>
                    <a:pt x="437" y="10"/>
                  </a:lnTo>
                  <a:lnTo>
                    <a:pt x="440" y="15"/>
                  </a:lnTo>
                  <a:lnTo>
                    <a:pt x="440" y="17"/>
                  </a:lnTo>
                  <a:lnTo>
                    <a:pt x="440" y="20"/>
                  </a:lnTo>
                  <a:lnTo>
                    <a:pt x="35" y="1362"/>
                  </a:lnTo>
                  <a:close/>
                </a:path>
              </a:pathLst>
            </a:custGeom>
            <a:solidFill>
              <a:srgbClr val="cc3300"/>
            </a:solidFill>
            <a:ln w="316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880" y="3797280"/>
              <a:ext cx="2934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r>
                <a:rPr b="0" lang="en-GB" sz="1800" spc="-1" strike="noStrike" baseline="-25000">
                  <a:solidFill>
                    <a:srgbClr val="000066"/>
                  </a:solidFill>
                  <a:latin typeface="Arial"/>
                </a:rPr>
                <a:t>el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85840" y="4408560"/>
              <a:ext cx="146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3300"/>
                  </a:solidFill>
                  <a:latin typeface="Arial"/>
                </a:rPr>
                <a:t>Local Buckling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5160" y="3098880"/>
              <a:ext cx="2403720" cy="2325600"/>
            </a:xfrm>
            <a:custGeom>
              <a:avLst/>
              <a:gdLst/>
              <a:ahLst/>
              <a:rect l="l" t="t" r="r" b="b"/>
              <a:pathLst>
                <a:path w="2853" h="2051">
                  <a:moveTo>
                    <a:pt x="0" y="0"/>
                  </a:moveTo>
                  <a:lnTo>
                    <a:pt x="0" y="2051"/>
                  </a:lnTo>
                  <a:lnTo>
                    <a:pt x="2853" y="2051"/>
                  </a:lnTo>
                </a:path>
              </a:pathLst>
            </a:custGeom>
            <a:noFill/>
            <a:ln w="3168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0840" y="2852640"/>
              <a:ext cx="82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Momen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1200" y="3459240"/>
              <a:ext cx="2934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r>
                <a:rPr b="0" lang="en-GB" sz="1800" spc="-1" strike="noStrike" baseline="-25000">
                  <a:solidFill>
                    <a:srgbClr val="000066"/>
                  </a:solidFill>
                  <a:latin typeface="Arial"/>
                </a:rPr>
                <a:t>pl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55680" y="544500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716360" y="3014640"/>
            <a:ext cx="4228920" cy="2863080"/>
            <a:chOff x="4716360" y="3014640"/>
            <a:chExt cx="4228920" cy="2863080"/>
          </a:xfrm>
        </p:grpSpPr>
        <p:sp>
          <p:nvSpPr>
            <p:cNvPr id="339" name=""/>
            <p:cNvSpPr/>
            <p:nvPr/>
          </p:nvSpPr>
          <p:spPr>
            <a:xfrm>
              <a:off x="5219640" y="4508640"/>
              <a:ext cx="1657440" cy="0"/>
            </a:xfrm>
            <a:prstGeom prst="line">
              <a:avLst/>
            </a:prstGeom>
            <a:ln w="19080">
              <a:solidFill>
                <a:srgbClr val="00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19640" y="4149720"/>
              <a:ext cx="1657440" cy="0"/>
            </a:xfrm>
            <a:prstGeom prst="line">
              <a:avLst/>
            </a:prstGeom>
            <a:ln w="1908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19640" y="4581360"/>
              <a:ext cx="1325520" cy="868680"/>
            </a:xfrm>
            <a:custGeom>
              <a:avLst/>
              <a:gdLst/>
              <a:ahLst/>
              <a:rect l="l" t="t" r="r" b="b"/>
              <a:pathLst>
                <a:path w="1171" h="848">
                  <a:moveTo>
                    <a:pt x="0" y="848"/>
                  </a:moveTo>
                  <a:lnTo>
                    <a:pt x="242" y="428"/>
                  </a:lnTo>
                  <a:lnTo>
                    <a:pt x="387" y="227"/>
                  </a:lnTo>
                  <a:lnTo>
                    <a:pt x="522" y="89"/>
                  </a:lnTo>
                  <a:lnTo>
                    <a:pt x="632" y="18"/>
                  </a:lnTo>
                  <a:lnTo>
                    <a:pt x="731" y="0"/>
                  </a:lnTo>
                  <a:lnTo>
                    <a:pt x="822" y="30"/>
                  </a:lnTo>
                  <a:lnTo>
                    <a:pt x="906" y="114"/>
                  </a:lnTo>
                  <a:lnTo>
                    <a:pt x="1013" y="293"/>
                  </a:lnTo>
                  <a:lnTo>
                    <a:pt x="1146" y="397"/>
                  </a:lnTo>
                  <a:lnTo>
                    <a:pt x="1171" y="41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11720" y="3135240"/>
              <a:ext cx="3233880" cy="2325600"/>
            </a:xfrm>
            <a:custGeom>
              <a:avLst/>
              <a:gdLst/>
              <a:ahLst/>
              <a:rect l="l" t="t" r="r" b="b"/>
              <a:pathLst>
                <a:path w="2853" h="2051">
                  <a:moveTo>
                    <a:pt x="0" y="0"/>
                  </a:moveTo>
                  <a:lnTo>
                    <a:pt x="0" y="2051"/>
                  </a:lnTo>
                  <a:lnTo>
                    <a:pt x="2853" y="2051"/>
                  </a:lnTo>
                </a:path>
              </a:pathLst>
            </a:custGeom>
            <a:noFill/>
            <a:ln w="3168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72040" y="4003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10040" y="3105000"/>
              <a:ext cx="195624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No capacity for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r>
                <a:rPr b="0" lang="en-GB" sz="1800" spc="-1" strike="noStrike" baseline="-25000">
                  <a:solidFill>
                    <a:srgbClr val="000066"/>
                  </a:solidFill>
                  <a:latin typeface="Arial"/>
                </a:rPr>
                <a:t>el</a:t>
              </a: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 of gross section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8532720" y="5272200"/>
              <a:ext cx="412560" cy="605520"/>
              <a:chOff x="8532720" y="5272200"/>
              <a:chExt cx="412560" cy="605520"/>
            </a:xfrm>
          </p:grpSpPr>
          <p:sp>
            <p:nvSpPr>
              <p:cNvPr id="346" name=""/>
              <p:cNvSpPr/>
              <p:nvPr/>
            </p:nvSpPr>
            <p:spPr>
              <a:xfrm>
                <a:off x="8685000" y="5272200"/>
                <a:ext cx="119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634960" y="5565600"/>
                <a:ext cx="22176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</a:t>
                </a:r>
                <a:r>
                  <a:rPr b="0" lang="en-GB" sz="1800" spc="-1" strike="noStrike" baseline="-25000">
                    <a:solidFill>
                      <a:srgbClr val="000066"/>
                    </a:solidFill>
                    <a:latin typeface="Arial"/>
                  </a:rPr>
                  <a:t>pl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532720" y="5573520"/>
                <a:ext cx="41256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4716360" y="3014640"/>
              <a:ext cx="412920" cy="594720"/>
              <a:chOff x="4716360" y="3014640"/>
              <a:chExt cx="412920" cy="59472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4787280" y="3014640"/>
                <a:ext cx="293400" cy="594720"/>
                <a:chOff x="4787280" y="3014640"/>
                <a:chExt cx="293400" cy="5947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4814640" y="3014640"/>
                  <a:ext cx="1911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66"/>
                      </a:solidFill>
                      <a:latin typeface="Arial"/>
                    </a:rPr>
                    <a:t>M</a:t>
                  </a: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787280" y="3297240"/>
                  <a:ext cx="293400" cy="31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66"/>
                      </a:solidFill>
                      <a:latin typeface="Arial"/>
                    </a:rPr>
                    <a:t>M</a:t>
                  </a:r>
                  <a:r>
                    <a:rPr b="0" lang="en-GB" sz="1800" spc="-1" strike="noStrike" baseline="-25000">
                      <a:solidFill>
                        <a:srgbClr val="000066"/>
                      </a:solidFill>
                      <a:latin typeface="Arial"/>
                    </a:rPr>
                    <a:t>pl</a:t>
                  </a: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>
                <a:off x="4716360" y="3303720"/>
                <a:ext cx="41292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4716360" y="4240080"/>
              <a:ext cx="412920" cy="594720"/>
              <a:chOff x="4716360" y="4240080"/>
              <a:chExt cx="412920" cy="59472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4787280" y="4240080"/>
                <a:ext cx="328320" cy="594720"/>
                <a:chOff x="4787280" y="4240080"/>
                <a:chExt cx="328320" cy="5947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822200" y="4240080"/>
                  <a:ext cx="293400" cy="31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66"/>
                      </a:solidFill>
                      <a:latin typeface="Arial"/>
                    </a:rPr>
                    <a:t>M</a:t>
                  </a:r>
                  <a:r>
                    <a:rPr b="0" lang="en-GB" sz="1800" spc="-1" strike="noStrike" baseline="-25000">
                      <a:solidFill>
                        <a:srgbClr val="000066"/>
                      </a:solidFill>
                      <a:latin typeface="Arial"/>
                    </a:rPr>
                    <a:t>el</a:t>
                  </a: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787280" y="4522680"/>
                  <a:ext cx="293400" cy="31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66"/>
                      </a:solidFill>
                      <a:latin typeface="Arial"/>
                    </a:rPr>
                    <a:t>M</a:t>
                  </a:r>
                  <a:r>
                    <a:rPr b="0" lang="en-GB" sz="1800" spc="-1" strike="noStrike" baseline="-25000">
                      <a:solidFill>
                        <a:srgbClr val="000066"/>
                      </a:solidFill>
                      <a:latin typeface="Arial"/>
                    </a:rPr>
                    <a:t>pl</a:t>
                  </a: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8" name=""/>
              <p:cNvSpPr/>
              <p:nvPr/>
            </p:nvSpPr>
            <p:spPr>
              <a:xfrm>
                <a:off x="4716360" y="4529160"/>
                <a:ext cx="41292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"/>
          <p:cNvSpPr/>
          <p:nvPr/>
        </p:nvSpPr>
        <p:spPr>
          <a:xfrm>
            <a:off x="684360" y="4292640"/>
            <a:ext cx="2090520" cy="0"/>
          </a:xfrm>
          <a:prstGeom prst="line">
            <a:avLst/>
          </a:prstGeom>
          <a:ln w="1908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9960" y="4091040"/>
            <a:ext cx="476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66"/>
                </a:solidFill>
                <a:latin typeface="Arial"/>
              </a:rPr>
              <a:t>el,e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250F-09EC-47E1-9A11-F02B908A49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Classes 1, 2 or 3 cross-sections </a:t>
            </a:r>
            <a:br>
              <a:rPr sz="3600"/>
            </a:b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(axial compression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43680" y="4097160"/>
            <a:ext cx="1904760" cy="0"/>
          </a:xfrm>
          <a:prstGeom prst="line">
            <a:avLst/>
          </a:prstGeom>
          <a:ln w="19080">
            <a:solidFill>
              <a:srgbClr val="99cc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11720" y="3100320"/>
            <a:ext cx="3233880" cy="2325600"/>
          </a:xfrm>
          <a:custGeom>
            <a:avLst/>
            <a:gdLst/>
            <a:ahLst/>
            <a:rect l="l" t="t" r="r" b="b"/>
            <a:pathLst>
              <a:path w="2853" h="2051">
                <a:moveTo>
                  <a:pt x="0" y="0"/>
                </a:moveTo>
                <a:lnTo>
                  <a:pt x="0" y="2051"/>
                </a:lnTo>
                <a:lnTo>
                  <a:pt x="2853" y="2051"/>
                </a:lnTo>
              </a:path>
            </a:pathLst>
          </a:custGeom>
          <a:noFill/>
          <a:ln w="3168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211720" y="4097160"/>
            <a:ext cx="828720" cy="0"/>
          </a:xfrm>
          <a:prstGeom prst="line">
            <a:avLst/>
          </a:prstGeom>
          <a:ln w="19080">
            <a:solidFill>
              <a:srgbClr val="00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40440" y="4097160"/>
            <a:ext cx="1440" cy="1328760"/>
          </a:xfrm>
          <a:prstGeom prst="line">
            <a:avLst/>
          </a:prstGeom>
          <a:ln w="19080">
            <a:solidFill>
              <a:srgbClr val="00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2040" y="40305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004080" y="5484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11720" y="4005360"/>
            <a:ext cx="1881360" cy="1420560"/>
          </a:xfrm>
          <a:custGeom>
            <a:avLst/>
            <a:gdLst/>
            <a:ahLst/>
            <a:rect l="l" t="t" r="r" b="b"/>
            <a:pathLst>
              <a:path w="1230" h="895">
                <a:moveTo>
                  <a:pt x="0" y="895"/>
                </a:moveTo>
                <a:lnTo>
                  <a:pt x="551" y="54"/>
                </a:lnTo>
                <a:lnTo>
                  <a:pt x="624" y="18"/>
                </a:lnTo>
                <a:lnTo>
                  <a:pt x="698" y="0"/>
                </a:lnTo>
                <a:lnTo>
                  <a:pt x="771" y="0"/>
                </a:lnTo>
                <a:lnTo>
                  <a:pt x="845" y="18"/>
                </a:lnTo>
                <a:lnTo>
                  <a:pt x="944" y="71"/>
                </a:lnTo>
                <a:lnTo>
                  <a:pt x="1042" y="155"/>
                </a:lnTo>
                <a:lnTo>
                  <a:pt x="1127" y="257"/>
                </a:lnTo>
                <a:lnTo>
                  <a:pt x="1230" y="356"/>
                </a:lnTo>
              </a:path>
            </a:pathLst>
          </a:custGeom>
          <a:noFill/>
          <a:ln w="316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716360" y="2979720"/>
            <a:ext cx="412920" cy="594720"/>
            <a:chOff x="4716360" y="2979720"/>
            <a:chExt cx="412920" cy="594720"/>
          </a:xfrm>
        </p:grpSpPr>
        <p:grpSp>
          <p:nvGrpSpPr>
            <p:cNvPr id="370" name=""/>
            <p:cNvGrpSpPr/>
            <p:nvPr/>
          </p:nvGrpSpPr>
          <p:grpSpPr>
            <a:xfrm>
              <a:off x="4787640" y="2979720"/>
              <a:ext cx="267480" cy="594720"/>
              <a:chOff x="4787640" y="2979720"/>
              <a:chExt cx="267480" cy="594720"/>
            </a:xfrm>
          </p:grpSpPr>
          <p:sp>
            <p:nvSpPr>
              <p:cNvPr id="371" name=""/>
              <p:cNvSpPr/>
              <p:nvPr/>
            </p:nvSpPr>
            <p:spPr>
              <a:xfrm>
                <a:off x="4815000" y="29797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66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87640" y="3262320"/>
                <a:ext cx="26748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66"/>
                    </a:solidFill>
                    <a:latin typeface="Arial"/>
                  </a:rPr>
                  <a:t>N</a:t>
                </a:r>
                <a:r>
                  <a:rPr b="0" lang="en-GB" sz="1800" spc="-1" strike="noStrike" baseline="-25000">
                    <a:solidFill>
                      <a:srgbClr val="000066"/>
                    </a:solidFill>
                    <a:latin typeface="Arial"/>
                  </a:rPr>
                  <a:t>pl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4716360" y="3268800"/>
              <a:ext cx="41292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8532720" y="5237280"/>
            <a:ext cx="412560" cy="605520"/>
            <a:chOff x="8532720" y="5237280"/>
            <a:chExt cx="412560" cy="605520"/>
          </a:xfrm>
        </p:grpSpPr>
        <p:sp>
          <p:nvSpPr>
            <p:cNvPr id="375" name=""/>
            <p:cNvSpPr/>
            <p:nvPr/>
          </p:nvSpPr>
          <p:spPr>
            <a:xfrm>
              <a:off x="8684640" y="5237280"/>
              <a:ext cx="11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634960" y="5530680"/>
              <a:ext cx="2156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</a:t>
              </a:r>
              <a:r>
                <a:rPr b="0" lang="en-GB" sz="1800" spc="-1" strike="noStrike" baseline="-25000">
                  <a:solidFill>
                    <a:srgbClr val="000066"/>
                  </a:solidFill>
                  <a:latin typeface="Arial"/>
                </a:rPr>
                <a:t>pl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32720" y="5538600"/>
              <a:ext cx="412560" cy="10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40840" y="2852640"/>
            <a:ext cx="3065760" cy="2867040"/>
            <a:chOff x="240840" y="2852640"/>
            <a:chExt cx="3065760" cy="2867040"/>
          </a:xfrm>
        </p:grpSpPr>
        <p:sp>
          <p:nvSpPr>
            <p:cNvPr id="379" name=""/>
            <p:cNvSpPr/>
            <p:nvPr/>
          </p:nvSpPr>
          <p:spPr>
            <a:xfrm>
              <a:off x="410040" y="2852640"/>
              <a:ext cx="106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Axial forc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5160" y="3855960"/>
              <a:ext cx="2270160" cy="1800"/>
            </a:xfrm>
            <a:prstGeom prst="line">
              <a:avLst/>
            </a:prstGeom>
            <a:ln w="316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98400" y="3841920"/>
              <a:ext cx="533520" cy="1576080"/>
            </a:xfrm>
            <a:custGeom>
              <a:avLst/>
              <a:gdLst/>
              <a:ahLst/>
              <a:rect l="l" t="t" r="r" b="b"/>
              <a:pathLst>
                <a:path w="471" h="1391">
                  <a:moveTo>
                    <a:pt x="35" y="1376"/>
                  </a:moveTo>
                  <a:lnTo>
                    <a:pt x="33" y="1381"/>
                  </a:lnTo>
                  <a:lnTo>
                    <a:pt x="30" y="1383"/>
                  </a:lnTo>
                  <a:lnTo>
                    <a:pt x="28" y="1386"/>
                  </a:lnTo>
                  <a:lnTo>
                    <a:pt x="23" y="1391"/>
                  </a:lnTo>
                  <a:lnTo>
                    <a:pt x="20" y="1391"/>
                  </a:lnTo>
                  <a:lnTo>
                    <a:pt x="18" y="1391"/>
                  </a:lnTo>
                  <a:lnTo>
                    <a:pt x="15" y="1391"/>
                  </a:lnTo>
                  <a:lnTo>
                    <a:pt x="7" y="1386"/>
                  </a:lnTo>
                  <a:lnTo>
                    <a:pt x="5" y="1383"/>
                  </a:lnTo>
                  <a:lnTo>
                    <a:pt x="2" y="1381"/>
                  </a:lnTo>
                  <a:lnTo>
                    <a:pt x="0" y="1378"/>
                  </a:lnTo>
                  <a:lnTo>
                    <a:pt x="0" y="1376"/>
                  </a:lnTo>
                  <a:lnTo>
                    <a:pt x="0" y="1371"/>
                  </a:lnTo>
                  <a:lnTo>
                    <a:pt x="0" y="1368"/>
                  </a:lnTo>
                  <a:lnTo>
                    <a:pt x="435" y="16"/>
                  </a:lnTo>
                  <a:lnTo>
                    <a:pt x="437" y="10"/>
                  </a:lnTo>
                  <a:lnTo>
                    <a:pt x="440" y="8"/>
                  </a:lnTo>
                  <a:lnTo>
                    <a:pt x="445" y="5"/>
                  </a:lnTo>
                  <a:lnTo>
                    <a:pt x="448" y="0"/>
                  </a:lnTo>
                  <a:lnTo>
                    <a:pt x="450" y="0"/>
                  </a:lnTo>
                  <a:lnTo>
                    <a:pt x="453" y="0"/>
                  </a:lnTo>
                  <a:lnTo>
                    <a:pt x="455" y="0"/>
                  </a:lnTo>
                  <a:lnTo>
                    <a:pt x="463" y="5"/>
                  </a:lnTo>
                  <a:lnTo>
                    <a:pt x="465" y="8"/>
                  </a:lnTo>
                  <a:lnTo>
                    <a:pt x="468" y="10"/>
                  </a:lnTo>
                  <a:lnTo>
                    <a:pt x="471" y="13"/>
                  </a:lnTo>
                  <a:lnTo>
                    <a:pt x="471" y="16"/>
                  </a:lnTo>
                  <a:lnTo>
                    <a:pt x="471" y="21"/>
                  </a:lnTo>
                  <a:lnTo>
                    <a:pt x="471" y="23"/>
                  </a:lnTo>
                  <a:lnTo>
                    <a:pt x="35" y="1376"/>
                  </a:lnTo>
                  <a:close/>
                </a:path>
              </a:pathLst>
            </a:custGeom>
            <a:solidFill>
              <a:srgbClr val="cc3300"/>
            </a:solidFill>
            <a:ln w="316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90520" y="3836880"/>
              <a:ext cx="1517760" cy="39960"/>
            </a:xfrm>
            <a:custGeom>
              <a:avLst/>
              <a:gdLst/>
              <a:ahLst/>
              <a:rect l="l" t="t" r="r" b="b"/>
              <a:pathLst>
                <a:path w="1338" h="36">
                  <a:moveTo>
                    <a:pt x="18" y="36"/>
                  </a:moveTo>
                  <a:lnTo>
                    <a:pt x="15" y="36"/>
                  </a:lnTo>
                  <a:lnTo>
                    <a:pt x="13" y="36"/>
                  </a:lnTo>
                  <a:lnTo>
                    <a:pt x="10" y="36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5" y="5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318" y="0"/>
                  </a:lnTo>
                  <a:lnTo>
                    <a:pt x="1323" y="0"/>
                  </a:lnTo>
                  <a:lnTo>
                    <a:pt x="1326" y="0"/>
                  </a:lnTo>
                  <a:lnTo>
                    <a:pt x="1328" y="3"/>
                  </a:lnTo>
                  <a:lnTo>
                    <a:pt x="1331" y="5"/>
                  </a:lnTo>
                  <a:lnTo>
                    <a:pt x="1333" y="5"/>
                  </a:lnTo>
                  <a:lnTo>
                    <a:pt x="1338" y="10"/>
                  </a:lnTo>
                  <a:lnTo>
                    <a:pt x="1338" y="13"/>
                  </a:lnTo>
                  <a:lnTo>
                    <a:pt x="1338" y="15"/>
                  </a:lnTo>
                  <a:lnTo>
                    <a:pt x="1338" y="18"/>
                  </a:lnTo>
                  <a:lnTo>
                    <a:pt x="1338" y="21"/>
                  </a:lnTo>
                  <a:lnTo>
                    <a:pt x="1338" y="26"/>
                  </a:lnTo>
                  <a:lnTo>
                    <a:pt x="1338" y="28"/>
                  </a:lnTo>
                  <a:lnTo>
                    <a:pt x="1333" y="31"/>
                  </a:lnTo>
                  <a:lnTo>
                    <a:pt x="1331" y="33"/>
                  </a:lnTo>
                  <a:lnTo>
                    <a:pt x="1328" y="36"/>
                  </a:lnTo>
                  <a:lnTo>
                    <a:pt x="1326" y="36"/>
                  </a:lnTo>
                  <a:lnTo>
                    <a:pt x="1323" y="36"/>
                  </a:lnTo>
                  <a:lnTo>
                    <a:pt x="1318" y="36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cc3300"/>
            </a:solidFill>
            <a:ln w="316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73360" y="3836880"/>
              <a:ext cx="291960" cy="222480"/>
            </a:xfrm>
            <a:custGeom>
              <a:avLst/>
              <a:gdLst/>
              <a:ahLst/>
              <a:rect l="l" t="t" r="r" b="b"/>
              <a:pathLst>
                <a:path w="257" h="196">
                  <a:moveTo>
                    <a:pt x="7" y="33"/>
                  </a:moveTo>
                  <a:lnTo>
                    <a:pt x="5" y="31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49" y="163"/>
                  </a:lnTo>
                  <a:lnTo>
                    <a:pt x="252" y="166"/>
                  </a:lnTo>
                  <a:lnTo>
                    <a:pt x="254" y="168"/>
                  </a:lnTo>
                  <a:lnTo>
                    <a:pt x="254" y="171"/>
                  </a:lnTo>
                  <a:lnTo>
                    <a:pt x="257" y="173"/>
                  </a:lnTo>
                  <a:lnTo>
                    <a:pt x="257" y="179"/>
                  </a:lnTo>
                  <a:lnTo>
                    <a:pt x="257" y="181"/>
                  </a:lnTo>
                  <a:lnTo>
                    <a:pt x="254" y="184"/>
                  </a:lnTo>
                  <a:lnTo>
                    <a:pt x="254" y="186"/>
                  </a:lnTo>
                  <a:lnTo>
                    <a:pt x="252" y="189"/>
                  </a:lnTo>
                  <a:lnTo>
                    <a:pt x="249" y="194"/>
                  </a:lnTo>
                  <a:lnTo>
                    <a:pt x="247" y="194"/>
                  </a:lnTo>
                  <a:lnTo>
                    <a:pt x="242" y="196"/>
                  </a:lnTo>
                  <a:lnTo>
                    <a:pt x="239" y="196"/>
                  </a:lnTo>
                  <a:lnTo>
                    <a:pt x="236" y="196"/>
                  </a:lnTo>
                  <a:lnTo>
                    <a:pt x="234" y="194"/>
                  </a:lnTo>
                  <a:lnTo>
                    <a:pt x="231" y="194"/>
                  </a:lnTo>
                  <a:lnTo>
                    <a:pt x="7" y="33"/>
                  </a:lnTo>
                  <a:close/>
                </a:path>
              </a:pathLst>
            </a:custGeom>
            <a:solidFill>
              <a:srgbClr val="cc3300"/>
            </a:solidFill>
            <a:ln w="316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36720" y="4064040"/>
              <a:ext cx="146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3300"/>
                  </a:solidFill>
                  <a:latin typeface="Arial"/>
                </a:rPr>
                <a:t>Local Buckling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0840" y="3755880"/>
              <a:ext cx="267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r>
                <a:rPr b="0" lang="en-GB" sz="1800" spc="-1" strike="noStrike" baseline="-25000">
                  <a:solidFill>
                    <a:srgbClr val="000066"/>
                  </a:solidFill>
                  <a:latin typeface="Arial"/>
                </a:rPr>
                <a:t>pl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44520" y="5445000"/>
              <a:ext cx="11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4360" y="3098880"/>
              <a:ext cx="2403360" cy="2325600"/>
            </a:xfrm>
            <a:custGeom>
              <a:avLst/>
              <a:gdLst/>
              <a:ahLst/>
              <a:rect l="l" t="t" r="r" b="b"/>
              <a:pathLst>
                <a:path w="2853" h="2051">
                  <a:moveTo>
                    <a:pt x="0" y="0"/>
                  </a:moveTo>
                  <a:lnTo>
                    <a:pt x="0" y="2051"/>
                  </a:lnTo>
                  <a:lnTo>
                    <a:pt x="2853" y="2051"/>
                  </a:lnTo>
                </a:path>
              </a:pathLst>
            </a:custGeom>
            <a:noFill/>
            <a:ln w="3168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340000" y="1413000"/>
            <a:ext cx="4465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lastic axial resistance on gross sec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948120" y="1722600"/>
            <a:ext cx="569160" cy="1706400"/>
            <a:chOff x="3948120" y="1722600"/>
            <a:chExt cx="569160" cy="1706400"/>
          </a:xfrm>
        </p:grpSpPr>
        <p:sp>
          <p:nvSpPr>
            <p:cNvPr id="390" name=""/>
            <p:cNvSpPr/>
            <p:nvPr/>
          </p:nvSpPr>
          <p:spPr>
            <a:xfrm>
              <a:off x="4385520" y="1722600"/>
              <a:ext cx="131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r>
                <a:rPr b="0" lang="en-GB" sz="1800" spc="-1" strike="noStrike" baseline="-25000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48120" y="1989000"/>
              <a:ext cx="365040" cy="1440000"/>
            </a:xfrm>
            <a:custGeom>
              <a:avLst/>
              <a:gdLst/>
              <a:ahLst/>
              <a:rect l="l" t="t" r="r" b="b"/>
              <a:pathLst>
                <a:path w="230" h="907">
                  <a:moveTo>
                    <a:pt x="0" y="0"/>
                  </a:moveTo>
                  <a:lnTo>
                    <a:pt x="227" y="0"/>
                  </a:lnTo>
                  <a:lnTo>
                    <a:pt x="230" y="891"/>
                  </a:lnTo>
                  <a:lnTo>
                    <a:pt x="0" y="90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01B9B-2C6F-464B-9906-8F3EA4395C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Class 4 cross-sections</a:t>
            </a:r>
            <a:br>
              <a:rPr sz="3600"/>
            </a:b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(axial compression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40840" y="2852640"/>
            <a:ext cx="2994120" cy="2867040"/>
            <a:chOff x="240840" y="2852640"/>
            <a:chExt cx="2994120" cy="2867040"/>
          </a:xfrm>
        </p:grpSpPr>
        <p:sp>
          <p:nvSpPr>
            <p:cNvPr id="394" name=""/>
            <p:cNvSpPr/>
            <p:nvPr/>
          </p:nvSpPr>
          <p:spPr>
            <a:xfrm>
              <a:off x="410040" y="2852640"/>
              <a:ext cx="106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Axial forc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5160" y="3855960"/>
              <a:ext cx="2270160" cy="180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65080" y="4365720"/>
              <a:ext cx="146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3300"/>
                  </a:solidFill>
                  <a:latin typeface="Arial"/>
                </a:rPr>
                <a:t>Local Buckling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40840" y="3654360"/>
              <a:ext cx="267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r>
                <a:rPr b="0" lang="en-GB" sz="1800" spc="-1" strike="noStrike" baseline="-25000">
                  <a:solidFill>
                    <a:srgbClr val="000066"/>
                  </a:solidFill>
                  <a:latin typeface="Arial"/>
                </a:rPr>
                <a:t>pl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445000"/>
              <a:ext cx="11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84360" y="3098880"/>
              <a:ext cx="2403360" cy="2325600"/>
            </a:xfrm>
            <a:custGeom>
              <a:avLst/>
              <a:gdLst/>
              <a:ahLst/>
              <a:rect l="l" t="t" r="r" b="b"/>
              <a:pathLst>
                <a:path w="2853" h="2051">
                  <a:moveTo>
                    <a:pt x="0" y="0"/>
                  </a:moveTo>
                  <a:lnTo>
                    <a:pt x="0" y="2051"/>
                  </a:lnTo>
                  <a:lnTo>
                    <a:pt x="2853" y="2051"/>
                  </a:lnTo>
                </a:path>
              </a:pathLst>
            </a:custGeom>
            <a:noFill/>
            <a:ln w="3168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V="1">
            <a:off x="684360" y="4221000"/>
            <a:ext cx="502920" cy="1224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4360" y="4221000"/>
            <a:ext cx="2232000" cy="0"/>
          </a:xfrm>
          <a:prstGeom prst="line">
            <a:avLst/>
          </a:prstGeom>
          <a:ln w="28440">
            <a:solidFill>
              <a:srgbClr val="00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0320" y="4005360"/>
            <a:ext cx="450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GB" sz="1800" spc="-1" strike="noStrike" baseline="-25000">
                <a:solidFill>
                  <a:srgbClr val="000066"/>
                </a:solidFill>
                <a:latin typeface="Arial"/>
              </a:rPr>
              <a:t>pl,e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716360" y="2979720"/>
            <a:ext cx="4228920" cy="2863080"/>
            <a:chOff x="4716360" y="2979720"/>
            <a:chExt cx="4228920" cy="2863080"/>
          </a:xfrm>
        </p:grpSpPr>
        <p:grpSp>
          <p:nvGrpSpPr>
            <p:cNvPr id="404" name=""/>
            <p:cNvGrpSpPr/>
            <p:nvPr/>
          </p:nvGrpSpPr>
          <p:grpSpPr>
            <a:xfrm>
              <a:off x="4716360" y="2979720"/>
              <a:ext cx="4228920" cy="2863080"/>
              <a:chOff x="4716360" y="2979720"/>
              <a:chExt cx="4228920" cy="2863080"/>
            </a:xfrm>
          </p:grpSpPr>
          <p:sp>
            <p:nvSpPr>
              <p:cNvPr id="405" name=""/>
              <p:cNvSpPr/>
              <p:nvPr/>
            </p:nvSpPr>
            <p:spPr>
              <a:xfrm>
                <a:off x="6043680" y="4097160"/>
                <a:ext cx="1904760" cy="0"/>
              </a:xfrm>
              <a:prstGeom prst="line">
                <a:avLst/>
              </a:prstGeom>
              <a:ln w="19080">
                <a:solidFill>
                  <a:srgbClr val="99cc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211720" y="3100320"/>
                <a:ext cx="3233880" cy="2325600"/>
              </a:xfrm>
              <a:custGeom>
                <a:avLst/>
                <a:gdLst/>
                <a:ahLst/>
                <a:rect l="l" t="t" r="r" b="b"/>
                <a:pathLst>
                  <a:path w="2853" h="2051">
                    <a:moveTo>
                      <a:pt x="0" y="0"/>
                    </a:moveTo>
                    <a:lnTo>
                      <a:pt x="0" y="2051"/>
                    </a:lnTo>
                    <a:lnTo>
                      <a:pt x="2853" y="2051"/>
                    </a:lnTo>
                  </a:path>
                </a:pathLst>
              </a:custGeom>
              <a:noFill/>
              <a:ln w="31680">
                <a:solidFill>
                  <a:srgbClr val="00006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211720" y="4097160"/>
                <a:ext cx="8287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040440" y="4097160"/>
                <a:ext cx="1440" cy="1328760"/>
              </a:xfrm>
              <a:prstGeom prst="line">
                <a:avLst/>
              </a:prstGeom>
              <a:ln w="19080">
                <a:solidFill>
                  <a:srgbClr val="0099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072040" y="4030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004080" y="54849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4716360" y="2979720"/>
                <a:ext cx="412920" cy="594720"/>
                <a:chOff x="4716360" y="2979720"/>
                <a:chExt cx="412920" cy="594720"/>
              </a:xfrm>
            </p:grpSpPr>
            <p:grpSp>
              <p:nvGrpSpPr>
                <p:cNvPr id="412" name=""/>
                <p:cNvGrpSpPr/>
                <p:nvPr/>
              </p:nvGrpSpPr>
              <p:grpSpPr>
                <a:xfrm>
                  <a:off x="4787640" y="2979720"/>
                  <a:ext cx="267480" cy="594720"/>
                  <a:chOff x="4787640" y="2979720"/>
                  <a:chExt cx="267480" cy="59472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4815000" y="2979720"/>
                    <a:ext cx="16524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66"/>
                        </a:solidFill>
                        <a:latin typeface="Arial"/>
                      </a:rPr>
                      <a:t>N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787640" y="3262320"/>
                    <a:ext cx="267480" cy="31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66"/>
                        </a:solidFill>
                        <a:latin typeface="Arial"/>
                      </a:rPr>
                      <a:t>N</a:t>
                    </a:r>
                    <a:r>
                      <a:rPr b="0" lang="en-GB" sz="1800" spc="-1" strike="noStrike" baseline="-25000">
                        <a:solidFill>
                          <a:srgbClr val="000066"/>
                        </a:solidFill>
                        <a:latin typeface="Arial"/>
                      </a:rPr>
                      <a:t>pl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5" name=""/>
                <p:cNvSpPr/>
                <p:nvPr/>
              </p:nvSpPr>
              <p:spPr>
                <a:xfrm>
                  <a:off x="4716360" y="3268800"/>
                  <a:ext cx="41292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8532720" y="5237280"/>
                <a:ext cx="412560" cy="605520"/>
                <a:chOff x="8532720" y="5237280"/>
                <a:chExt cx="412560" cy="6055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8684640" y="5237280"/>
                  <a:ext cx="1134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66"/>
                      </a:solidFill>
                      <a:latin typeface="Symbol"/>
                      <a:ea typeface="Symbol"/>
                    </a:rPr>
                    <a:t></a:t>
                  </a: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634960" y="5530680"/>
                  <a:ext cx="215640" cy="31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66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0" lang="en-GB" sz="1800" spc="-1" strike="noStrike" baseline="-25000">
                      <a:solidFill>
                        <a:srgbClr val="000066"/>
                      </a:solidFill>
                      <a:latin typeface="Arial"/>
                    </a:rPr>
                    <a:t>pl</a:t>
                  </a: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532720" y="5538600"/>
                  <a:ext cx="412560" cy="108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0" name=""/>
            <p:cNvSpPr/>
            <p:nvPr/>
          </p:nvSpPr>
          <p:spPr>
            <a:xfrm>
              <a:off x="5211720" y="4429080"/>
              <a:ext cx="1150920" cy="996840"/>
            </a:xfrm>
            <a:custGeom>
              <a:avLst/>
              <a:gdLst/>
              <a:ahLst/>
              <a:rect l="l" t="t" r="r" b="b"/>
              <a:pathLst>
                <a:path w="725" h="628">
                  <a:moveTo>
                    <a:pt x="0" y="628"/>
                  </a:moveTo>
                  <a:lnTo>
                    <a:pt x="531" y="0"/>
                  </a:lnTo>
                  <a:lnTo>
                    <a:pt x="725" y="106"/>
                  </a:lnTo>
                </a:path>
              </a:pathLst>
            </a:custGeom>
            <a:noFill/>
            <a:ln w="316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24000" y="1413000"/>
            <a:ext cx="8351640" cy="1295280"/>
            <a:chOff x="324000" y="1413000"/>
            <a:chExt cx="8351640" cy="1295280"/>
          </a:xfrm>
        </p:grpSpPr>
        <p:sp>
          <p:nvSpPr>
            <p:cNvPr id="422" name=""/>
            <p:cNvSpPr/>
            <p:nvPr/>
          </p:nvSpPr>
          <p:spPr>
            <a:xfrm>
              <a:off x="324000" y="1413000"/>
              <a:ext cx="8351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Limited axial resistance on gross section = Plastic resistance on effective section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84800" y="1722600"/>
              <a:ext cx="329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&lt; f</a:t>
              </a:r>
              <a:r>
                <a:rPr b="0" lang="en-GB" sz="1800" spc="-1" strike="noStrike" baseline="-25000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48120" y="1989000"/>
              <a:ext cx="365040" cy="719280"/>
            </a:xfrm>
            <a:custGeom>
              <a:avLst/>
              <a:gdLst/>
              <a:ahLst/>
              <a:rect l="l" t="t" r="r" b="b"/>
              <a:pathLst>
                <a:path w="230" h="907">
                  <a:moveTo>
                    <a:pt x="0" y="0"/>
                  </a:moveTo>
                  <a:lnTo>
                    <a:pt x="227" y="0"/>
                  </a:lnTo>
                  <a:lnTo>
                    <a:pt x="230" y="891"/>
                  </a:lnTo>
                  <a:lnTo>
                    <a:pt x="0" y="90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86240" y="1989000"/>
              <a:ext cx="365400" cy="719280"/>
            </a:xfrm>
            <a:custGeom>
              <a:avLst/>
              <a:gdLst/>
              <a:ahLst/>
              <a:rect l="l" t="t" r="r" b="b"/>
              <a:pathLst>
                <a:path w="230" h="907">
                  <a:moveTo>
                    <a:pt x="0" y="0"/>
                  </a:moveTo>
                  <a:lnTo>
                    <a:pt x="227" y="0"/>
                  </a:lnTo>
                  <a:lnTo>
                    <a:pt x="230" y="891"/>
                  </a:lnTo>
                  <a:lnTo>
                    <a:pt x="0" y="90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05320" y="2230560"/>
              <a:ext cx="32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52440" y="1714680"/>
              <a:ext cx="131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r>
                <a:rPr b="0" lang="en-GB" sz="1800" spc="-1" strike="noStrike" baseline="-25000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8CFEF-206E-4C35-AC0F-45768E64C2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Plate behaviour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ctangular flat plate subjected to linear direct stress distribution partly in compre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late elastic critical buckling stres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or RH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 = b – 3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 = h – 3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late buckling factor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k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Arial"/>
              </a:rPr>
              <a:t>σ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depends on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Edge support conditio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tress distribution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late aspect rati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uckling by bifurcation (postcritical reserv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2484360" y="2637000"/>
          <a:ext cx="2590920" cy="9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637000"/>
                    <a:ext cx="259092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2031840" y="2717640"/>
          <a:ext cx="914400" cy="3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31840" y="2717640"/>
                    <a:ext cx="914400" cy="3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5940360" y="2781360"/>
            <a:ext cx="0" cy="10080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3003-57AE-4225-99F5-03C62B5F27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Plate buckling factor </a:t>
            </a:r>
            <a:r>
              <a:rPr b="0" i="1" lang="fr-FR" sz="36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i="1" lang="fr-FR" sz="36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32520" y="2106720"/>
            <a:ext cx="3727440" cy="33415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73760" y="5392800"/>
            <a:ext cx="0" cy="66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621480" y="5392800"/>
            <a:ext cx="1440" cy="66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72440" y="5392800"/>
            <a:ext cx="1440" cy="66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120160" y="5392800"/>
            <a:ext cx="0" cy="66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794800" y="4788000"/>
            <a:ext cx="745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794800" y="4114800"/>
            <a:ext cx="745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794800" y="3443400"/>
            <a:ext cx="74520" cy="14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794800" y="2770200"/>
            <a:ext cx="74520" cy="14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372440" y="2097000"/>
            <a:ext cx="1440" cy="684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621480" y="2097000"/>
            <a:ext cx="1440" cy="684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73760" y="2097000"/>
            <a:ext cx="0" cy="684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22800" y="2770200"/>
            <a:ext cx="76320" cy="14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22800" y="3443400"/>
            <a:ext cx="76320" cy="14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122800" y="4114800"/>
            <a:ext cx="763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122800" y="4788000"/>
            <a:ext cx="763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6545160" y="5156280"/>
            <a:ext cx="2324160" cy="14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284880" y="3376440"/>
            <a:ext cx="44784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284880" y="3711600"/>
            <a:ext cx="447840" cy="1440"/>
          </a:xfrm>
          <a:prstGeom prst="line">
            <a:avLst/>
          </a:prstGeom>
          <a:ln w="2844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182000" y="2336760"/>
            <a:ext cx="842760" cy="420840"/>
          </a:xfrm>
          <a:prstGeom prst="rect">
            <a:avLst/>
          </a:prstGeom>
          <a:solidFill>
            <a:srgbClr val="99cc00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184880" y="2849400"/>
            <a:ext cx="1800" cy="169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047080" y="2849400"/>
            <a:ext cx="1440" cy="169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184880" y="2949480"/>
            <a:ext cx="862200" cy="18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50000" y="4653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950000" y="40053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950000" y="3290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950000" y="2637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50000" y="1989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810400" y="54594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564240" y="5456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308720" y="54594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950000" y="54594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69400" y="54594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807400" y="5526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3512160" y="3889800"/>
            <a:ext cx="24667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uckling coefficient k</a:t>
            </a:r>
            <a:r>
              <a:rPr b="0" lang="en-GB" sz="20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623080" y="24019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570800" y="2990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199360" y="304308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860880" y="32940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xa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70960" y="3619440"/>
            <a:ext cx="174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k = 0,425 + (c²/a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934600" y="4987800"/>
            <a:ext cx="57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0,42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437080" y="2109960"/>
            <a:ext cx="3411720" cy="2992320"/>
          </a:xfrm>
          <a:custGeom>
            <a:avLst/>
            <a:gdLst/>
            <a:ahLst/>
            <a:rect l="l" t="t" r="r" b="b"/>
            <a:pathLst>
              <a:path w="2637" h="2586">
                <a:moveTo>
                  <a:pt x="0" y="0"/>
                </a:moveTo>
                <a:lnTo>
                  <a:pt x="28" y="562"/>
                </a:lnTo>
                <a:lnTo>
                  <a:pt x="64" y="1020"/>
                </a:lnTo>
                <a:lnTo>
                  <a:pt x="111" y="1339"/>
                </a:lnTo>
                <a:lnTo>
                  <a:pt x="175" y="1618"/>
                </a:lnTo>
                <a:lnTo>
                  <a:pt x="248" y="1804"/>
                </a:lnTo>
                <a:lnTo>
                  <a:pt x="349" y="2010"/>
                </a:lnTo>
                <a:lnTo>
                  <a:pt x="431" y="2127"/>
                </a:lnTo>
                <a:lnTo>
                  <a:pt x="552" y="2238"/>
                </a:lnTo>
                <a:lnTo>
                  <a:pt x="691" y="2315"/>
                </a:lnTo>
                <a:lnTo>
                  <a:pt x="967" y="2410"/>
                </a:lnTo>
                <a:lnTo>
                  <a:pt x="1332" y="2491"/>
                </a:lnTo>
                <a:lnTo>
                  <a:pt x="1666" y="2533"/>
                </a:lnTo>
                <a:lnTo>
                  <a:pt x="2295" y="2580"/>
                </a:lnTo>
                <a:lnTo>
                  <a:pt x="2637" y="2586"/>
                </a:lnTo>
              </a:path>
            </a:pathLst>
          </a:cu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647040" y="4905360"/>
            <a:ext cx="2136600" cy="235080"/>
          </a:xfrm>
          <a:custGeom>
            <a:avLst/>
            <a:gdLst/>
            <a:ahLst/>
            <a:rect l="l" t="t" r="r" b="b"/>
            <a:pathLst>
              <a:path w="1652" h="204">
                <a:moveTo>
                  <a:pt x="0" y="0"/>
                </a:moveTo>
                <a:lnTo>
                  <a:pt x="135" y="59"/>
                </a:lnTo>
                <a:lnTo>
                  <a:pt x="347" y="111"/>
                </a:lnTo>
                <a:lnTo>
                  <a:pt x="663" y="149"/>
                </a:lnTo>
                <a:lnTo>
                  <a:pt x="1312" y="194"/>
                </a:lnTo>
                <a:lnTo>
                  <a:pt x="1652" y="204"/>
                </a:lnTo>
              </a:path>
            </a:pathLst>
          </a:custGeom>
          <a:noFill/>
          <a:ln w="2844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24360" y="573408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spect ratio </a:t>
            </a:r>
            <a:r>
              <a:rPr b="0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= a/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69080" y="2816280"/>
            <a:ext cx="500040" cy="426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72400" y="2411280"/>
            <a:ext cx="2491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72400" y="2571840"/>
            <a:ext cx="2491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72400" y="2741760"/>
            <a:ext cx="2491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8083080" y="2363760"/>
            <a:ext cx="249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8093160" y="2549520"/>
            <a:ext cx="2491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8083080" y="2719440"/>
            <a:ext cx="249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95280" y="2513160"/>
          <a:ext cx="3816360" cy="183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13160"/>
                    <a:ext cx="3816360" cy="18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3376440" y="5688000"/>
            <a:ext cx="74880" cy="14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954080" y="4341960"/>
            <a:ext cx="1800" cy="680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03480" y="4341960"/>
            <a:ext cx="1440" cy="680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763640" y="4581360"/>
            <a:ext cx="843120" cy="420840"/>
          </a:xfrm>
          <a:prstGeom prst="rect">
            <a:avLst/>
          </a:prstGeom>
          <a:solidFill>
            <a:srgbClr val="99cc00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766880" y="5094360"/>
            <a:ext cx="1440" cy="169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629080" y="5094360"/>
            <a:ext cx="1440" cy="169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766880" y="5194440"/>
            <a:ext cx="862200" cy="14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3162240" y="4567320"/>
            <a:ext cx="152280" cy="446040"/>
            <a:chOff x="3162240" y="4567320"/>
            <a:chExt cx="152280" cy="446040"/>
          </a:xfrm>
        </p:grpSpPr>
        <p:sp>
          <p:nvSpPr>
            <p:cNvPr id="497" name=""/>
            <p:cNvSpPr/>
            <p:nvPr/>
          </p:nvSpPr>
          <p:spPr>
            <a:xfrm>
              <a:off x="3164040" y="4567320"/>
              <a:ext cx="15048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162240" y="5011560"/>
              <a:ext cx="1508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241800" y="4576680"/>
              <a:ext cx="1440" cy="4366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295440" y="46162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152800" y="52354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782080" y="528804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upport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251080" y="5060880"/>
            <a:ext cx="500040" cy="426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454040" y="4656240"/>
            <a:ext cx="249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54040" y="4816440"/>
            <a:ext cx="249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454040" y="4986360"/>
            <a:ext cx="249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2665440" y="4608360"/>
            <a:ext cx="2491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674440" y="4794120"/>
            <a:ext cx="249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665440" y="4964040"/>
            <a:ext cx="2491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195640" y="4581360"/>
            <a:ext cx="576000" cy="935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7380000" y="1916280"/>
            <a:ext cx="500040" cy="426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236720" y="162864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upport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8483760" y="2324160"/>
            <a:ext cx="152280" cy="446040"/>
            <a:chOff x="8483760" y="2324160"/>
            <a:chExt cx="152280" cy="446040"/>
          </a:xfrm>
        </p:grpSpPr>
        <p:sp>
          <p:nvSpPr>
            <p:cNvPr id="514" name=""/>
            <p:cNvSpPr/>
            <p:nvPr/>
          </p:nvSpPr>
          <p:spPr>
            <a:xfrm>
              <a:off x="8485560" y="2324160"/>
              <a:ext cx="15048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83760" y="2768400"/>
              <a:ext cx="1508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563320" y="2333520"/>
              <a:ext cx="1440" cy="4366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6F53-AB8E-445F-A5CF-46FE3EE387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alculating elastic critical stres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or a plate to yield, </a:t>
            </a:r>
            <a:r>
              <a:rPr b="0" lang="el-GR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σ</a:t>
            </a:r>
            <a:r>
              <a:rPr b="0" lang="en-GB" sz="2800" spc="-1" strike="noStrike" baseline="-25000">
                <a:solidFill>
                  <a:srgbClr val="000066"/>
                </a:solidFill>
                <a:latin typeface="Arial"/>
              </a:rPr>
              <a:t>cr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f</a:t>
            </a:r>
            <a:r>
              <a:rPr b="0" lang="en-GB" sz="2800" spc="-1" strike="noStrike" baseline="-25000">
                <a:solidFill>
                  <a:srgbClr val="000066"/>
                </a:solidFill>
                <a:latin typeface="Arial"/>
              </a:rPr>
              <a:t>y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is occurs whe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is expression is general as the effects of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tress gradient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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Arial"/>
              </a:rPr>
              <a:t>mi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/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oundary conditions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in practice: free or simply supporte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Aspect ratio</a:t>
            </a: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re all encompassed within the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buckling parameter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lang="el-GR" sz="2800" spc="-1" strike="noStrike" baseline="-25000">
                <a:solidFill>
                  <a:srgbClr val="000066"/>
                </a:solidFill>
                <a:latin typeface="Arial Unicode MS"/>
                <a:ea typeface="Arial Unicode MS"/>
              </a:rPr>
              <a:t>σ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3203640" y="2133720"/>
          <a:ext cx="2516040" cy="84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133720"/>
                    <a:ext cx="2516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FEDE-4AEF-4602-AA91-B431056AB6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Buckling parameter k</a:t>
            </a:r>
            <a:r>
              <a:rPr b="0" lang="el-GR" sz="3600" spc="-1" strike="noStrike" baseline="-25000">
                <a:solidFill>
                  <a:srgbClr val="000066"/>
                </a:solidFill>
                <a:latin typeface="Arial Unicode MS"/>
                <a:ea typeface="Arial Unicode MS"/>
              </a:rPr>
              <a:t>σ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619200" y="1413000"/>
          <a:ext cx="8118360" cy="49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1413000"/>
                    <a:ext cx="811836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AA502-CF00-4ACA-8584-91D0DC8CC7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Normalised load-slendernes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1165320" y="1413000"/>
          <a:ext cx="814320" cy="8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1413000"/>
                    <a:ext cx="8143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6516720" y="3429000"/>
          <a:ext cx="151128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3429000"/>
                    <a:ext cx="1511280" cy="677880"/>
                  </a:xfrm>
                  <a:prstGeom prst="rect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1474920" y="1890720"/>
            <a:ext cx="1440" cy="3797280"/>
          </a:xfrm>
          <a:prstGeom prst="line">
            <a:avLst/>
          </a:prstGeom>
          <a:ln w="19080">
            <a:solidFill>
              <a:srgbClr val="00006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74920" y="5688000"/>
            <a:ext cx="4925880" cy="1440"/>
          </a:xfrm>
          <a:prstGeom prst="line">
            <a:avLst/>
          </a:prstGeom>
          <a:ln w="1908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40000" y="2793960"/>
            <a:ext cx="2927160" cy="180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79560" y="2793960"/>
            <a:ext cx="1800" cy="2894040"/>
          </a:xfrm>
          <a:prstGeom prst="line">
            <a:avLst/>
          </a:prstGeom>
          <a:ln w="20880">
            <a:solidFill>
              <a:srgbClr val="00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070080" y="2793960"/>
            <a:ext cx="1800" cy="2894040"/>
          </a:xfrm>
          <a:prstGeom prst="line">
            <a:avLst/>
          </a:prstGeom>
          <a:ln w="20880">
            <a:solidFill>
              <a:srgbClr val="00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083120" y="2793960"/>
            <a:ext cx="1440" cy="2855880"/>
          </a:xfrm>
          <a:prstGeom prst="line">
            <a:avLst/>
          </a:prstGeom>
          <a:ln w="20880">
            <a:solidFill>
              <a:srgbClr val="00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4371480" y="2793600"/>
            <a:ext cx="3240" cy="2886120"/>
          </a:xfrm>
          <a:prstGeom prst="line">
            <a:avLst/>
          </a:prstGeom>
          <a:ln w="20880">
            <a:solidFill>
              <a:srgbClr val="00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779560" y="2505240"/>
            <a:ext cx="1800" cy="28872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0080" y="2214720"/>
            <a:ext cx="1800" cy="5792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067280" y="1557360"/>
            <a:ext cx="17280" cy="1236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779560" y="5649840"/>
            <a:ext cx="1800" cy="18252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70080" y="5649840"/>
            <a:ext cx="1800" cy="18252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083120" y="5649840"/>
            <a:ext cx="1440" cy="18252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71840" y="5688000"/>
            <a:ext cx="1800" cy="14436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332000" y="2793960"/>
            <a:ext cx="142920" cy="18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371840" y="2801880"/>
            <a:ext cx="1847880" cy="1919520"/>
          </a:xfrm>
          <a:custGeom>
            <a:avLst/>
            <a:gdLst/>
            <a:ahLst/>
            <a:rect l="l" t="t" r="r" b="b"/>
            <a:pathLst>
              <a:path w="1164" h="1209">
                <a:moveTo>
                  <a:pt x="0" y="0"/>
                </a:moveTo>
                <a:lnTo>
                  <a:pt x="140" y="268"/>
                </a:lnTo>
                <a:lnTo>
                  <a:pt x="296" y="506"/>
                </a:lnTo>
                <a:lnTo>
                  <a:pt x="467" y="714"/>
                </a:lnTo>
                <a:lnTo>
                  <a:pt x="634" y="877"/>
                </a:lnTo>
                <a:lnTo>
                  <a:pt x="833" y="1031"/>
                </a:lnTo>
                <a:lnTo>
                  <a:pt x="1027" y="1145"/>
                </a:lnTo>
                <a:lnTo>
                  <a:pt x="1164" y="1209"/>
                </a:ln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4951080" y="2997360"/>
            <a:ext cx="988920" cy="663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344680" y="2647800"/>
            <a:ext cx="398520" cy="1800"/>
          </a:xfrm>
          <a:prstGeom prst="line">
            <a:avLst/>
          </a:prstGeom>
          <a:ln w="316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490840" y="2395440"/>
            <a:ext cx="579240" cy="1800"/>
          </a:xfrm>
          <a:prstGeom prst="line">
            <a:avLst/>
          </a:prstGeom>
          <a:ln w="316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503520" y="1628640"/>
            <a:ext cx="579600" cy="1800"/>
          </a:xfrm>
          <a:prstGeom prst="line">
            <a:avLst/>
          </a:prstGeom>
          <a:ln w="316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548000" y="2505240"/>
            <a:ext cx="76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lass 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692720" y="2251080"/>
            <a:ext cx="76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lass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700720" y="1484280"/>
            <a:ext cx="76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lass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946120" y="2762280"/>
            <a:ext cx="21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uler Buckling Stres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593800" y="587700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0,5 0,6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967200" y="58672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0,9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39760" y="2692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357800" y="58723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1,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6516720" y="5305320"/>
          <a:ext cx="2187720" cy="71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720" y="5305320"/>
                    <a:ext cx="21877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4067280" y="2421000"/>
            <a:ext cx="2887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4356000" y="2276280"/>
            <a:ext cx="0" cy="4316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0" y="1989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Effects of imperfection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564000" y="2781000"/>
            <a:ext cx="0" cy="2879640"/>
          </a:xfrm>
          <a:prstGeom prst="line">
            <a:avLst/>
          </a:prstGeom>
          <a:ln w="19080">
            <a:solidFill>
              <a:srgbClr val="00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3564000" y="1988640"/>
            <a:ext cx="0" cy="7923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68720" y="1976400"/>
            <a:ext cx="76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lass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119400" y="2133720"/>
            <a:ext cx="433440" cy="0"/>
          </a:xfrm>
          <a:prstGeom prst="line">
            <a:avLst/>
          </a:prstGeom>
          <a:ln w="316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348000" y="587700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0920" y="465300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059280" y="1879560"/>
          <a:ext cx="444240" cy="25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9280" y="1879560"/>
                    <a:ext cx="44424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"/>
          <p:cNvSpPr/>
          <p:nvPr/>
        </p:nvSpPr>
        <p:spPr>
          <a:xfrm>
            <a:off x="6948360" y="1700280"/>
            <a:ext cx="10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C79F-D53C-43F6-BD71-087BC2CB18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Determination of (</a:t>
            </a:r>
            <a:r>
              <a:rPr b="0" i="1" lang="fr-FR" sz="3600" spc="-1" strike="noStrike">
                <a:solidFill>
                  <a:srgbClr val="000066"/>
                </a:solidFill>
                <a:latin typeface="Arial"/>
              </a:rPr>
              <a:t>b/t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i="1" lang="fr-FR" sz="3600" spc="-1" strike="noStrike" baseline="-25000">
                <a:solidFill>
                  <a:srgbClr val="000066"/>
                </a:solidFill>
                <a:latin typeface="Arial"/>
              </a:rPr>
              <a:t>lim</a:t>
            </a:r>
            <a:r>
              <a:rPr b="0" lang="fr-FR" sz="36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valu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684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ol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i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or Class 1: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or Class 2: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or Class 3: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en subject to stress gradi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en compression throughout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3276720" y="2687760"/>
          <a:ext cx="129528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687760"/>
                    <a:ext cx="12952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>
            <a:off x="179280" y="4005360"/>
            <a:ext cx="741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2195640" y="1484280"/>
          <a:ext cx="32130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1484280"/>
                    <a:ext cx="3213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"/>
          <p:cNvGraphicFramePr/>
          <p:nvPr/>
        </p:nvGraphicFramePr>
        <p:xfrm>
          <a:off x="6516720" y="4724280"/>
          <a:ext cx="1295280" cy="5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720" y="4724280"/>
                    <a:ext cx="129528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3292560" y="3479760"/>
          <a:ext cx="1292040" cy="57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92560" y="3479760"/>
                    <a:ext cx="12920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"/>
          <p:cNvGraphicFramePr/>
          <p:nvPr/>
        </p:nvGraphicFramePr>
        <p:xfrm>
          <a:off x="6531120" y="5297400"/>
          <a:ext cx="1471320" cy="57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31120" y="5297400"/>
                    <a:ext cx="147132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B6EB-6EB6-4BEA-80C0-5AD145A7F0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Shell behaviour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2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9840" indent="-42984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ylindrical shell to uniform longitudinal compression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29840" indent="-42984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late elastic critical buckling stress for compression or bending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2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 : radius of the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 cylindrical shel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29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29840" indent="-429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uckling by limit point (no post-critical reserv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re severe limitations than for plat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29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29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900000" y="3645000"/>
          <a:ext cx="309564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645000"/>
                    <a:ext cx="30956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4572000" y="3573360"/>
            <a:ext cx="0" cy="107964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6220-C4A8-49C1-B2CB-DAEA7CE890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Basis of section classification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ction = Assembly of individual plate elemen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349360"/>
            <a:ext cx="4537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379800" indent="-3798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ome are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outstan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82560" indent="-15192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langes of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beam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2560" indent="-15192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Legs of angles and te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2560" indent="-15192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lange part of welded section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2349360"/>
            <a:ext cx="4249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334800" indent="-3348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ome are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internal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01200" indent="-13392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Webs of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beams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01200" indent="-13392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Walls of hollow section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01200" indent="-13392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lange part/Web of welded box section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488280" y="3989520"/>
            <a:ext cx="2331720" cy="2103480"/>
            <a:chOff x="6488280" y="3989520"/>
            <a:chExt cx="2331720" cy="2103480"/>
          </a:xfrm>
        </p:grpSpPr>
        <p:sp>
          <p:nvSpPr>
            <p:cNvPr id="106" name=""/>
            <p:cNvSpPr/>
            <p:nvPr/>
          </p:nvSpPr>
          <p:spPr>
            <a:xfrm>
              <a:off x="7053120" y="4681440"/>
              <a:ext cx="1800" cy="932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30880" y="4681440"/>
              <a:ext cx="1800" cy="932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66200" y="4681440"/>
              <a:ext cx="0" cy="932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20680" y="5818320"/>
              <a:ext cx="2149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66"/>
                  </a:solidFill>
                  <a:latin typeface="Arial"/>
                </a:rPr>
                <a:t>Welded box section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16880" y="4597560"/>
              <a:ext cx="1363320" cy="7920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43960" y="4681440"/>
              <a:ext cx="0" cy="932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16880" y="5618160"/>
              <a:ext cx="1363320" cy="7632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43960" y="4681440"/>
              <a:ext cx="93600" cy="131760"/>
            </a:xfrm>
            <a:custGeom>
              <a:avLst/>
              <a:gdLst/>
              <a:ahLst/>
              <a:rect l="l" t="t" r="r" b="b"/>
              <a:pathLst>
                <a:path w="141" h="170">
                  <a:moveTo>
                    <a:pt x="0" y="170"/>
                  </a:moveTo>
                  <a:lnTo>
                    <a:pt x="55" y="57"/>
                  </a:lnTo>
                  <a:lnTo>
                    <a:pt x="141" y="0"/>
                  </a:lnTo>
                  <a:lnTo>
                    <a:pt x="0" y="0"/>
                  </a:lnTo>
                  <a:lnTo>
                    <a:pt x="0" y="170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58080" y="5478480"/>
              <a:ext cx="95040" cy="135000"/>
            </a:xfrm>
            <a:custGeom>
              <a:avLst/>
              <a:gdLst/>
              <a:ahLst/>
              <a:rect l="l" t="t" r="r" b="b"/>
              <a:pathLst>
                <a:path w="142" h="170">
                  <a:moveTo>
                    <a:pt x="0" y="170"/>
                  </a:moveTo>
                  <a:lnTo>
                    <a:pt x="57" y="142"/>
                  </a:lnTo>
                  <a:lnTo>
                    <a:pt x="142" y="0"/>
                  </a:lnTo>
                  <a:lnTo>
                    <a:pt x="142" y="170"/>
                  </a:lnTo>
                  <a:lnTo>
                    <a:pt x="0" y="170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43960" y="5478480"/>
              <a:ext cx="93600" cy="135000"/>
            </a:xfrm>
            <a:custGeom>
              <a:avLst/>
              <a:gdLst/>
              <a:ahLst/>
              <a:rect l="l" t="t" r="r" b="b"/>
              <a:pathLst>
                <a:path w="141" h="170">
                  <a:moveTo>
                    <a:pt x="0" y="0"/>
                  </a:moveTo>
                  <a:lnTo>
                    <a:pt x="55" y="112"/>
                  </a:lnTo>
                  <a:lnTo>
                    <a:pt x="141" y="170"/>
                  </a:lnTo>
                  <a:lnTo>
                    <a:pt x="0" y="1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87240" y="416232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9900"/>
                  </a:solidFill>
                  <a:latin typeface="Arial Narrow"/>
                </a:rPr>
                <a:t>Internal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88280" y="3989520"/>
              <a:ext cx="75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66ff"/>
                  </a:solidFill>
                  <a:latin typeface="Arial Narrow"/>
                </a:rPr>
                <a:t>Outstand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55000" y="4797360"/>
              <a:ext cx="76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9900"/>
                  </a:solidFill>
                  <a:latin typeface="Arial Narrow"/>
                </a:rPr>
                <a:t>Internal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43680" y="4689360"/>
              <a:ext cx="104760" cy="130320"/>
            </a:xfrm>
            <a:custGeom>
              <a:avLst/>
              <a:gdLst/>
              <a:ahLst/>
              <a:rect l="l" t="t" r="r" b="b"/>
              <a:pathLst>
                <a:path w="154" h="165">
                  <a:moveTo>
                    <a:pt x="0" y="0"/>
                  </a:moveTo>
                  <a:lnTo>
                    <a:pt x="91" y="55"/>
                  </a:lnTo>
                  <a:lnTo>
                    <a:pt x="154" y="165"/>
                  </a:lnTo>
                  <a:lnTo>
                    <a:pt x="15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7563960" y="4365720"/>
              <a:ext cx="281160" cy="195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48480" y="4281480"/>
              <a:ext cx="228600" cy="2998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7740720" y="5013360"/>
              <a:ext cx="304560" cy="1872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181760" y="4133880"/>
            <a:ext cx="1951560" cy="1930320"/>
            <a:chOff x="4181760" y="4133880"/>
            <a:chExt cx="1951560" cy="1930320"/>
          </a:xfrm>
        </p:grpSpPr>
        <p:grpSp>
          <p:nvGrpSpPr>
            <p:cNvPr id="124" name=""/>
            <p:cNvGrpSpPr/>
            <p:nvPr/>
          </p:nvGrpSpPr>
          <p:grpSpPr>
            <a:xfrm>
              <a:off x="4398840" y="4133880"/>
              <a:ext cx="1734480" cy="1611360"/>
              <a:chOff x="4398840" y="4133880"/>
              <a:chExt cx="1734480" cy="1611360"/>
            </a:xfrm>
          </p:grpSpPr>
          <p:sp>
            <p:nvSpPr>
              <p:cNvPr id="125" name=""/>
              <p:cNvSpPr/>
              <p:nvPr/>
            </p:nvSpPr>
            <p:spPr>
              <a:xfrm>
                <a:off x="4398840" y="4672080"/>
                <a:ext cx="925560" cy="10731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473720" y="4761000"/>
                <a:ext cx="774720" cy="896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510880" y="4133880"/>
                <a:ext cx="622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9900"/>
                    </a:solidFill>
                    <a:latin typeface="Arial Narrow"/>
                  </a:rPr>
                  <a:t>Internal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5003280" y="4365720"/>
                <a:ext cx="505080" cy="2872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5311440" y="4395960"/>
                <a:ext cx="235080" cy="5457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4181760" y="5789520"/>
              <a:ext cx="1616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66"/>
                  </a:solidFill>
                  <a:latin typeface="Arial"/>
                </a:rPr>
                <a:t>Hollow section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55640" y="3979800"/>
            <a:ext cx="1945800" cy="2084400"/>
            <a:chOff x="755640" y="3979800"/>
            <a:chExt cx="1945800" cy="2084400"/>
          </a:xfrm>
        </p:grpSpPr>
        <p:sp>
          <p:nvSpPr>
            <p:cNvPr id="132" name=""/>
            <p:cNvSpPr/>
            <p:nvPr/>
          </p:nvSpPr>
          <p:spPr>
            <a:xfrm>
              <a:off x="997200" y="3979800"/>
              <a:ext cx="75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66ff"/>
                  </a:solidFill>
                  <a:latin typeface="Arial Narrow"/>
                </a:rPr>
                <a:t>Outstand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640" y="4384800"/>
              <a:ext cx="460440" cy="1350720"/>
            </a:xfrm>
            <a:custGeom>
              <a:avLst/>
              <a:gdLst/>
              <a:ahLst/>
              <a:rect l="l" t="t" r="r" b="b"/>
              <a:pathLst>
                <a:path w="680" h="1729">
                  <a:moveTo>
                    <a:pt x="680" y="1729"/>
                  </a:moveTo>
                  <a:lnTo>
                    <a:pt x="0" y="1729"/>
                  </a:lnTo>
                  <a:lnTo>
                    <a:pt x="0" y="1616"/>
                  </a:lnTo>
                  <a:lnTo>
                    <a:pt x="284" y="1616"/>
                  </a:lnTo>
                  <a:lnTo>
                    <a:pt x="312" y="1593"/>
                  </a:lnTo>
                  <a:lnTo>
                    <a:pt x="312" y="142"/>
                  </a:lnTo>
                  <a:lnTo>
                    <a:pt x="284" y="114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680" y="0"/>
                  </a:lnTo>
                  <a:lnTo>
                    <a:pt x="680" y="114"/>
                  </a:lnTo>
                  <a:lnTo>
                    <a:pt x="397" y="114"/>
                  </a:lnTo>
                  <a:lnTo>
                    <a:pt x="369" y="142"/>
                  </a:lnTo>
                  <a:lnTo>
                    <a:pt x="369" y="1587"/>
                  </a:lnTo>
                  <a:lnTo>
                    <a:pt x="397" y="1616"/>
                  </a:lnTo>
                  <a:lnTo>
                    <a:pt x="680" y="1616"/>
                  </a:lnTo>
                  <a:lnTo>
                    <a:pt x="680" y="1729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32640" y="465948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9900"/>
                  </a:solidFill>
                  <a:latin typeface="Arial Narrow"/>
                </a:rPr>
                <a:t>Internal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54800" y="5789520"/>
              <a:ext cx="164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66"/>
                  </a:solidFill>
                  <a:latin typeface="Times New Roman"/>
                </a:rPr>
                <a:t>  </a:t>
              </a:r>
              <a:r>
                <a:rPr b="1" lang="en-GB" sz="1800" spc="-1" strike="noStrike">
                  <a:solidFill>
                    <a:srgbClr val="000066"/>
                  </a:solidFill>
                  <a:latin typeface="Arial"/>
                </a:rPr>
                <a:t>Rolled section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769680" y="4221000"/>
              <a:ext cx="215640" cy="2160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985320" y="4941720"/>
              <a:ext cx="235080" cy="255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425680" y="4437000"/>
            <a:ext cx="432000" cy="504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91"/>
                </a:lnTo>
                <a:lnTo>
                  <a:pt x="91" y="91"/>
                </a:lnTo>
                <a:lnTo>
                  <a:pt x="91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5157720"/>
            <a:ext cx="505080" cy="57636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0" y="0"/>
                </a:moveTo>
                <a:lnTo>
                  <a:pt x="908" y="0"/>
                </a:lnTo>
                <a:lnTo>
                  <a:pt x="908" y="91"/>
                </a:lnTo>
                <a:lnTo>
                  <a:pt x="545" y="91"/>
                </a:lnTo>
                <a:lnTo>
                  <a:pt x="545" y="454"/>
                </a:lnTo>
                <a:lnTo>
                  <a:pt x="363" y="454"/>
                </a:lnTo>
                <a:lnTo>
                  <a:pt x="363" y="91"/>
                </a:lnTo>
                <a:lnTo>
                  <a:pt x="0" y="91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87840" y="4005360"/>
            <a:ext cx="70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 Narrow"/>
              </a:rPr>
              <a:t>Oustan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548080" y="4149720"/>
            <a:ext cx="234720" cy="255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87920" y="465300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 Narrow"/>
              </a:rPr>
              <a:t>Outstan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620440" y="4869000"/>
            <a:ext cx="235080" cy="255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35120" y="4221000"/>
            <a:ext cx="70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 Narrow"/>
              </a:rPr>
              <a:t>Oustan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38400" y="4508640"/>
            <a:ext cx="235080" cy="255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87920" y="52419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 Narrow"/>
              </a:rPr>
              <a:t>Outstan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98400" y="5445000"/>
            <a:ext cx="360360" cy="18432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038C-8602-4132-822C-FF3C2C3CBD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aximum (</a:t>
            </a:r>
            <a:r>
              <a:rPr b="0" i="1" lang="en-GB" sz="3600" spc="-1" strike="noStrike">
                <a:solidFill>
                  <a:srgbClr val="000066"/>
                </a:solidFill>
                <a:latin typeface="Arial"/>
              </a:rPr>
              <a:t>b/t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) ratios (internal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713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HS (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re the wall depth and thickness)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S (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is the diameter and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the wall thickness)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1763640" y="1955880"/>
          <a:ext cx="6451560" cy="1834920"/>
        </p:xfrm>
        <a:graphic>
          <a:graphicData uri="http://schemas.openxmlformats.org/drawingml/2006/table">
            <a:tbl>
              <a:tblPr/>
              <a:tblGrid>
                <a:gridCol w="1800360"/>
                <a:gridCol w="1512720"/>
                <a:gridCol w="1511280"/>
                <a:gridCol w="162720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oading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lass 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lass 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lass 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ure bending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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= -1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/t</a:t>
                      </a:r>
                      <a:r>
                        <a:rPr b="0" lang="en-GB" sz="20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w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≤ 72</a:t>
                      </a:r>
                      <a:r>
                        <a:rPr b="0" lang="el-GR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ε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/t</a:t>
                      </a:r>
                      <a:r>
                        <a:rPr b="0" lang="en-GB" sz="20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w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≤ 83</a:t>
                      </a:r>
                      <a:r>
                        <a:rPr b="0" lang="el-GR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ε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/t</a:t>
                      </a:r>
                      <a:r>
                        <a:rPr b="0" lang="en-GB" sz="20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w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≤ 124</a:t>
                      </a:r>
                      <a:r>
                        <a:rPr b="0" lang="el-GR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ε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press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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= 1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/t</a:t>
                      </a:r>
                      <a:r>
                        <a:rPr b="0" lang="en-GB" sz="20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w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≤ 33</a:t>
                      </a:r>
                      <a:r>
                        <a:rPr b="0" lang="el-GR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ε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/t</a:t>
                      </a:r>
                      <a:r>
                        <a:rPr b="0" lang="en-GB" sz="20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w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≤ 38</a:t>
                      </a:r>
                      <a:r>
                        <a:rPr b="0" lang="el-GR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ε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/t</a:t>
                      </a:r>
                      <a:r>
                        <a:rPr b="0" lang="en-GB" sz="20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w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≤ 42</a:t>
                      </a:r>
                      <a:r>
                        <a:rPr b="0" lang="el-GR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ε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2" name=""/>
          <p:cNvGraphicFramePr/>
          <p:nvPr/>
        </p:nvGraphicFramePr>
        <p:xfrm>
          <a:off x="1762200" y="4524480"/>
          <a:ext cx="6481800" cy="1425600"/>
        </p:xfrm>
        <a:graphic>
          <a:graphicData uri="http://schemas.openxmlformats.org/drawingml/2006/table">
            <a:tbl>
              <a:tblPr/>
              <a:tblGrid>
                <a:gridCol w="1801800"/>
                <a:gridCol w="1512720"/>
                <a:gridCol w="1511280"/>
                <a:gridCol w="1656000"/>
              </a:tblGrid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oading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lass 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lass 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lass 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01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pression and/or bending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/t</a:t>
                      </a:r>
                      <a:r>
                        <a:rPr b="0" lang="en-GB" sz="20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w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≤ 50</a:t>
                      </a:r>
                      <a:r>
                        <a:rPr b="0" lang="el-GR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ε</a:t>
                      </a:r>
                      <a:r>
                        <a:rPr b="0" lang="fr-BE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²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/t</a:t>
                      </a:r>
                      <a:r>
                        <a:rPr b="0" lang="en-GB" sz="20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w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≤ 70</a:t>
                      </a:r>
                      <a:r>
                        <a:rPr b="0" lang="el-GR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ε</a:t>
                      </a:r>
                      <a:r>
                        <a:rPr b="0" lang="fr-BE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²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/t</a:t>
                      </a:r>
                      <a:r>
                        <a:rPr b="0" lang="en-GB" sz="20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w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≤ 90</a:t>
                      </a:r>
                      <a:r>
                        <a:rPr b="0" lang="el-GR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ε</a:t>
                      </a:r>
                      <a:r>
                        <a:rPr b="0" lang="fr-BE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²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See EN1993-1-6 when </a:t>
                      </a:r>
                      <a:r>
                        <a:rPr b="0" lang="en-GB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/t</a:t>
                      </a:r>
                      <a:r>
                        <a:rPr b="0" lang="en-GB" sz="14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w</a:t>
                      </a:r>
                      <a:r>
                        <a:rPr b="0" lang="en-GB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&gt;90</a:t>
                      </a:r>
                      <a:r>
                        <a:rPr b="0" lang="el-GR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ε</a:t>
                      </a:r>
                      <a:r>
                        <a:rPr b="0" lang="fr-BE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Arial Unicode MS"/>
                        </a:rPr>
                        <a:t>²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2BFF1-C20A-438E-9565-845AAE445A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353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lass 4 cross section is substituted by an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effective cross section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ffective cross section taken as the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gross section minus hole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where the buckles may occur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ffective cross section designed as Class 3 section, i.e. using elastic section resistance limited by yield strength at the extreme fibr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ffective width approach for </a:t>
            </a:r>
            <a:br>
              <a:rPr sz="3600"/>
            </a:b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lass 4 sections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AADE-86D2-4D9F-A904-4A805ACF43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2771280" y="3429000"/>
            <a:ext cx="6048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centroidal axis of effective cross section may shift relative to that for the gross cross sec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or a member subject to an axial force, the shift of the centroidal axis will give rise to a moment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1" lang="en-GB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hich should be accounted for in member desig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324000" y="1484280"/>
            <a:ext cx="5975280" cy="2881080"/>
            <a:chOff x="324000" y="1484280"/>
            <a:chExt cx="5975280" cy="2881080"/>
          </a:xfrm>
        </p:grpSpPr>
        <p:sp>
          <p:nvSpPr>
            <p:cNvPr id="597" name=""/>
            <p:cNvSpPr/>
            <p:nvPr/>
          </p:nvSpPr>
          <p:spPr>
            <a:xfrm>
              <a:off x="941400" y="1484280"/>
              <a:ext cx="1306440" cy="2881080"/>
            </a:xfrm>
            <a:custGeom>
              <a:avLst/>
              <a:gdLst>
                <a:gd name="textAreaLeft" fmla="*/ 63720 w 1306440"/>
                <a:gd name="textAreaRight" fmla="*/ 1242720 w 1306440"/>
                <a:gd name="textAreaTop" fmla="*/ 63720 h 2881080"/>
                <a:gd name="textAreaBottom" fmla="*/ 2817360 h 2881080"/>
              </a:gdLst>
              <a:ahLst/>
              <a:rect l="textAreaLeft" t="textAreaTop" r="textAreaRight" b="textAreaBottom"/>
              <a:pathLst>
                <a:path w="21600" h="47627">
                  <a:moveTo>
                    <a:pt x="3600" y="0"/>
                  </a:moveTo>
                  <a:arcTo wR="3600" hR="3600" stAng="16200000" swAng="-5400000"/>
                  <a:lnTo>
                    <a:pt x="0" y="44027"/>
                  </a:lnTo>
                  <a:arcTo wR="3600" hR="3600" stAng="10800000" swAng="-5400000"/>
                  <a:lnTo>
                    <a:pt x="18000" y="476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042920" y="1590480"/>
              <a:ext cx="1112760" cy="2648160"/>
            </a:xfrm>
            <a:custGeom>
              <a:avLst/>
              <a:gdLst>
                <a:gd name="textAreaLeft" fmla="*/ 54000 w 1112760"/>
                <a:gd name="textAreaRight" fmla="*/ 1058760 w 1112760"/>
                <a:gd name="textAreaTop" fmla="*/ 54000 h 2648160"/>
                <a:gd name="textAreaBottom" fmla="*/ 2594160 h 2648160"/>
              </a:gdLst>
              <a:ahLst/>
              <a:rect l="textAreaLeft" t="textAreaTop" r="textAreaRight" b="textAreaBottom"/>
              <a:pathLst>
                <a:path w="21600" h="51394">
                  <a:moveTo>
                    <a:pt x="3600" y="0"/>
                  </a:moveTo>
                  <a:arcTo wR="3600" hR="3600" stAng="16200000" swAng="-5400000"/>
                  <a:lnTo>
                    <a:pt x="0" y="47794"/>
                  </a:lnTo>
                  <a:arcTo wR="3600" hR="3600" stAng="10800000" swAng="-5400000"/>
                  <a:lnTo>
                    <a:pt x="18000" y="513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24000" y="2701800"/>
              <a:ext cx="2727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41400" y="1950840"/>
              <a:ext cx="92160" cy="61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54240" y="1965240"/>
              <a:ext cx="93600" cy="61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0120" y="2998800"/>
              <a:ext cx="272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03680" y="270180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457360" y="2624040"/>
              <a:ext cx="4939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e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048120" y="2789280"/>
              <a:ext cx="325116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N.A. of effective cross section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040200" y="2482920"/>
              <a:ext cx="304308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N.A. of gross cross section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2340000" y="1915560"/>
              <a:ext cx="503280" cy="360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916360" y="1700280"/>
              <a:ext cx="28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Non effective parts due to plate buckling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6588000" y="1844640"/>
            <a:ext cx="2376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fr-FR" sz="2800" spc="-1" strike="noStrike" baseline="-25000">
                <a:solidFill>
                  <a:srgbClr val="000066"/>
                </a:solidFill>
                <a:latin typeface="Arial"/>
              </a:rPr>
              <a:t>eff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, I</a:t>
            </a:r>
            <a:r>
              <a:rPr b="0" lang="fr-FR" sz="2800" spc="-1" strike="noStrike" baseline="-25000">
                <a:solidFill>
                  <a:srgbClr val="000066"/>
                </a:solidFill>
                <a:latin typeface="Arial"/>
              </a:rPr>
              <a:t>eff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, W</a:t>
            </a:r>
            <a:r>
              <a:rPr b="0" lang="fr-FR" sz="2800" spc="-1" strike="noStrike" baseline="-25000">
                <a:solidFill>
                  <a:srgbClr val="000066"/>
                </a:solidFill>
                <a:latin typeface="Arial"/>
              </a:rPr>
              <a:t>eff,sup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, W</a:t>
            </a:r>
            <a:r>
              <a:rPr b="0" lang="fr-FR" sz="2800" spc="-1" strike="noStrike" baseline="-25000">
                <a:solidFill>
                  <a:srgbClr val="000066"/>
                </a:solidFill>
                <a:latin typeface="Arial"/>
              </a:rPr>
              <a:t>eff,inf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24360" y="2205000"/>
            <a:ext cx="719280" cy="287280"/>
          </a:xfrm>
          <a:custGeom>
            <a:avLst/>
            <a:gdLst>
              <a:gd name="textAreaLeft" fmla="*/ 89640 w 719280"/>
              <a:gd name="textAreaRight" fmla="*/ 629640 w 7192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ffective width approach for </a:t>
            </a:r>
            <a:br>
              <a:rPr sz="3600"/>
            </a:b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lass 4 sections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C5BF-FE1E-4D17-99FC-1E8A9157D2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ension zone of plate element is fully effectiv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Effective width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i="1" lang="en-GB" sz="2800" spc="-1" strike="noStrike" baseline="-25000">
                <a:solidFill>
                  <a:srgbClr val="000066"/>
                </a:solidFill>
                <a:latin typeface="Arial"/>
              </a:rPr>
              <a:t>c,eff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f the compression zone of width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i="1" lang="en-GB" sz="2800" spc="-1" strike="noStrike" baseline="-25000">
                <a:solidFill>
                  <a:srgbClr val="000066"/>
                </a:solidFill>
                <a:latin typeface="Arial"/>
              </a:rPr>
              <a:t>c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(see figures)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alculated a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Reduction factor </a:t>
            </a:r>
            <a:r>
              <a:rPr b="0" lang="el-GR" sz="28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ρ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depends on stress distribution and normalised plate slenderness 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which in turn depends on the stress distribution and support conditions though buckling parameter k</a:t>
            </a:r>
            <a:r>
              <a:rPr b="0" lang="el-GR" sz="2400" spc="-1" strike="noStrike" baseline="-25000">
                <a:solidFill>
                  <a:srgbClr val="000066"/>
                </a:solidFill>
                <a:latin typeface="Arial Unicode MS"/>
                <a:ea typeface="Arial Unicode MS"/>
              </a:rPr>
              <a:t>σ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as follows: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987640" y="5157720"/>
          <a:ext cx="369576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5157720"/>
                    <a:ext cx="369576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3276720" y="2852640"/>
          <a:ext cx="1846080" cy="66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852640"/>
                    <a:ext cx="184608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ffective width approach for </a:t>
            </a:r>
            <a:br>
              <a:rPr sz="3600"/>
            </a:b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lass 4 sections (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B49FB-E927-4C6D-BA9E-F4159040C9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ffective width: outstand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2146320" y="2548080"/>
          <a:ext cx="380880" cy="20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6320" y="2548080"/>
                    <a:ext cx="38088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5348160" y="2266920"/>
          <a:ext cx="1417680" cy="2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48160" y="2266920"/>
                    <a:ext cx="141768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5364000" y="3933720"/>
          <a:ext cx="1079640" cy="29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3933720"/>
                    <a:ext cx="107964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1638360" y="1498680"/>
            <a:ext cx="586404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638360" y="1498680"/>
            <a:ext cx="1440" cy="44211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502400" y="1498680"/>
            <a:ext cx="1800" cy="44164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536200" y="1601640"/>
            <a:ext cx="134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Stress distribu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83920" y="1779480"/>
            <a:ext cx="167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(compression positive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592600" y="1601640"/>
            <a:ext cx="13204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Effective width b</a:t>
            </a:r>
            <a:r>
              <a:rPr b="1" lang="en-GB" sz="12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eff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38360" y="2028960"/>
            <a:ext cx="588492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635360" y="1498680"/>
            <a:ext cx="1800" cy="3773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013120" y="2933640"/>
            <a:ext cx="1939680" cy="439920"/>
            <a:chOff x="2013120" y="2933640"/>
            <a:chExt cx="1939680" cy="439920"/>
          </a:xfrm>
        </p:grpSpPr>
        <p:sp>
          <p:nvSpPr>
            <p:cNvPr id="634" name=""/>
            <p:cNvSpPr/>
            <p:nvPr/>
          </p:nvSpPr>
          <p:spPr>
            <a:xfrm>
              <a:off x="2543040" y="2933640"/>
              <a:ext cx="1409760" cy="131760"/>
            </a:xfrm>
            <a:custGeom>
              <a:avLst/>
              <a:gdLst/>
              <a:ahLst/>
              <a:rect l="l" t="t" r="r" b="b"/>
              <a:pathLst>
                <a:path w="1776" h="166">
                  <a:moveTo>
                    <a:pt x="0" y="0"/>
                  </a:moveTo>
                  <a:lnTo>
                    <a:pt x="1776" y="0"/>
                  </a:lnTo>
                  <a:lnTo>
                    <a:pt x="1776" y="166"/>
                  </a:lnTo>
                  <a:lnTo>
                    <a:pt x="166" y="166"/>
                  </a:lnTo>
                </a:path>
              </a:pathLst>
            </a:custGeom>
            <a:noFill/>
            <a:ln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08200" y="3154320"/>
              <a:ext cx="1800" cy="219240"/>
            </a:xfrm>
            <a:prstGeom prst="line">
              <a:avLst/>
            </a:prstGeom>
            <a:ln w="0">
              <a:solidFill>
                <a:srgbClr val="cc33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08200" y="3065400"/>
              <a:ext cx="66600" cy="88920"/>
            </a:xfrm>
            <a:custGeom>
              <a:avLst/>
              <a:gdLst/>
              <a:ahLst/>
              <a:rect l="l" t="t" r="r" b="b"/>
              <a:pathLst>
                <a:path w="83" h="112">
                  <a:moveTo>
                    <a:pt x="0" y="112"/>
                  </a:moveTo>
                  <a:lnTo>
                    <a:pt x="17" y="42"/>
                  </a:lnTo>
                  <a:lnTo>
                    <a:pt x="50" y="8"/>
                  </a:lnTo>
                  <a:lnTo>
                    <a:pt x="83" y="0"/>
                  </a:lnTo>
                </a:path>
              </a:pathLst>
            </a:custGeom>
            <a:noFill/>
            <a:ln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013120" y="2933640"/>
              <a:ext cx="529920" cy="1800"/>
            </a:xfrm>
            <a:prstGeom prst="line">
              <a:avLst/>
            </a:prstGeom>
            <a:ln w="0">
              <a:solidFill>
                <a:srgbClr val="cc33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013120" y="3065400"/>
              <a:ext cx="419040" cy="1800"/>
            </a:xfrm>
            <a:prstGeom prst="line">
              <a:avLst/>
            </a:prstGeom>
            <a:ln w="0">
              <a:solidFill>
                <a:srgbClr val="cc33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475000" y="3154320"/>
              <a:ext cx="1440" cy="198360"/>
            </a:xfrm>
            <a:prstGeom prst="line">
              <a:avLst/>
            </a:prstGeom>
            <a:ln w="0">
              <a:solidFill>
                <a:srgbClr val="cc33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409840" y="3065400"/>
              <a:ext cx="65160" cy="88920"/>
            </a:xfrm>
            <a:custGeom>
              <a:avLst/>
              <a:gdLst/>
              <a:ahLst/>
              <a:rect l="l" t="t" r="r" b="b"/>
              <a:pathLst>
                <a:path w="83" h="112">
                  <a:moveTo>
                    <a:pt x="0" y="0"/>
                  </a:moveTo>
                  <a:lnTo>
                    <a:pt x="36" y="10"/>
                  </a:lnTo>
                  <a:lnTo>
                    <a:pt x="67" y="48"/>
                  </a:lnTo>
                  <a:lnTo>
                    <a:pt x="83" y="112"/>
                  </a:lnTo>
                </a:path>
              </a:pathLst>
            </a:custGeom>
            <a:noFill/>
            <a:ln w="0">
              <a:solidFill>
                <a:srgbClr val="cc33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2674800" y="2930400"/>
            <a:ext cx="1800" cy="57312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52800" y="3154320"/>
            <a:ext cx="1800" cy="21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256200" y="3084480"/>
            <a:ext cx="6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2668680" y="2359080"/>
            <a:ext cx="1285920" cy="574560"/>
            <a:chOff x="2668680" y="2359080"/>
            <a:chExt cx="1285920" cy="574560"/>
          </a:xfrm>
        </p:grpSpPr>
        <p:sp>
          <p:nvSpPr>
            <p:cNvPr id="645" name=""/>
            <p:cNvSpPr/>
            <p:nvPr/>
          </p:nvSpPr>
          <p:spPr>
            <a:xfrm>
              <a:off x="3952800" y="2359080"/>
              <a:ext cx="1800" cy="57456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2668680" y="2359080"/>
              <a:ext cx="1284120" cy="28080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673360" y="2646360"/>
              <a:ext cx="1440" cy="2872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54360" y="2624040"/>
              <a:ext cx="1440" cy="30960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36800" y="2611440"/>
              <a:ext cx="1800" cy="32220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19240" y="2592360"/>
              <a:ext cx="1800" cy="3412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00240" y="2570040"/>
              <a:ext cx="1800" cy="36360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83040" y="2556000"/>
              <a:ext cx="1440" cy="3776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165480" y="2535120"/>
              <a:ext cx="1440" cy="3985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247920" y="2514600"/>
              <a:ext cx="1800" cy="4190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2793600" y="2336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875680" y="24098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66"/>
                </a:solidFill>
                <a:latin typeface="Times New Roman"/>
              </a:rPr>
              <a:t>eff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987720" y="2470320"/>
            <a:ext cx="9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92480" y="258912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333520" y="2690640"/>
            <a:ext cx="9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444400" y="28098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493960" y="2708280"/>
            <a:ext cx="10537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GB" sz="1800" spc="-1" strike="noStrike" baseline="-25000">
                <a:solidFill>
                  <a:srgbClr val="000066"/>
                </a:solidFill>
                <a:latin typeface="Arial"/>
              </a:rPr>
              <a:t>eff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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638360" y="3639960"/>
            <a:ext cx="586404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79720" y="4567320"/>
            <a:ext cx="1939680" cy="439560"/>
            <a:chOff x="2079720" y="4567320"/>
            <a:chExt cx="1939680" cy="439560"/>
          </a:xfrm>
        </p:grpSpPr>
        <p:sp>
          <p:nvSpPr>
            <p:cNvPr id="664" name=""/>
            <p:cNvSpPr/>
            <p:nvPr/>
          </p:nvSpPr>
          <p:spPr>
            <a:xfrm>
              <a:off x="2608200" y="4567320"/>
              <a:ext cx="1411200" cy="131760"/>
            </a:xfrm>
            <a:custGeom>
              <a:avLst/>
              <a:gdLst/>
              <a:ahLst/>
              <a:rect l="l" t="t" r="r" b="b"/>
              <a:pathLst>
                <a:path w="1776" h="167">
                  <a:moveTo>
                    <a:pt x="0" y="0"/>
                  </a:moveTo>
                  <a:lnTo>
                    <a:pt x="1776" y="0"/>
                  </a:lnTo>
                  <a:lnTo>
                    <a:pt x="1776" y="167"/>
                  </a:lnTo>
                  <a:lnTo>
                    <a:pt x="166" y="167"/>
                  </a:lnTo>
                </a:path>
              </a:pathLst>
            </a:custGeom>
            <a:noFill/>
            <a:ln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674800" y="4786200"/>
              <a:ext cx="1800" cy="220680"/>
            </a:xfrm>
            <a:prstGeom prst="line">
              <a:avLst/>
            </a:prstGeom>
            <a:ln w="0">
              <a:solidFill>
                <a:srgbClr val="cc33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674800" y="4699080"/>
              <a:ext cx="66960" cy="8712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0" y="110"/>
                  </a:moveTo>
                  <a:lnTo>
                    <a:pt x="17" y="42"/>
                  </a:lnTo>
                  <a:lnTo>
                    <a:pt x="50" y="7"/>
                  </a:lnTo>
                  <a:lnTo>
                    <a:pt x="83" y="0"/>
                  </a:lnTo>
                </a:path>
              </a:pathLst>
            </a:custGeom>
            <a:noFill/>
            <a:ln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079720" y="4567320"/>
              <a:ext cx="528480" cy="1440"/>
            </a:xfrm>
            <a:prstGeom prst="line">
              <a:avLst/>
            </a:prstGeom>
            <a:ln w="0">
              <a:solidFill>
                <a:srgbClr val="cc33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79720" y="4699080"/>
              <a:ext cx="419040" cy="1440"/>
            </a:xfrm>
            <a:prstGeom prst="line">
              <a:avLst/>
            </a:prstGeom>
            <a:ln w="0">
              <a:solidFill>
                <a:srgbClr val="cc33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543040" y="4786200"/>
              <a:ext cx="1800" cy="200160"/>
            </a:xfrm>
            <a:prstGeom prst="line">
              <a:avLst/>
            </a:prstGeom>
            <a:ln w="0">
              <a:solidFill>
                <a:srgbClr val="cc33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475000" y="4699080"/>
              <a:ext cx="68040" cy="87120"/>
            </a:xfrm>
            <a:custGeom>
              <a:avLst/>
              <a:gdLst/>
              <a:ahLst/>
              <a:rect l="l" t="t" r="r" b="b"/>
              <a:pathLst>
                <a:path w="85" h="110">
                  <a:moveTo>
                    <a:pt x="0" y="0"/>
                  </a:moveTo>
                  <a:lnTo>
                    <a:pt x="38" y="9"/>
                  </a:lnTo>
                  <a:lnTo>
                    <a:pt x="67" y="48"/>
                  </a:lnTo>
                  <a:lnTo>
                    <a:pt x="85" y="110"/>
                  </a:lnTo>
                </a:path>
              </a:pathLst>
            </a:custGeom>
            <a:noFill/>
            <a:ln w="0">
              <a:solidFill>
                <a:srgbClr val="cc33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4054320" y="4146480"/>
            <a:ext cx="9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159080" y="426564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382840" y="4662360"/>
            <a:ext cx="9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489040" y="479592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019400" y="3992400"/>
            <a:ext cx="1800" cy="5749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2743200" y="3992400"/>
            <a:ext cx="1276200" cy="7812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41760" y="4567320"/>
            <a:ext cx="1440" cy="20304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840040" y="4567320"/>
            <a:ext cx="1440" cy="13176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2937960" y="4566960"/>
            <a:ext cx="1800" cy="889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159000" y="4522680"/>
            <a:ext cx="1800" cy="4464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247920" y="4456080"/>
            <a:ext cx="1800" cy="11124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336840" y="4411800"/>
            <a:ext cx="1800" cy="1555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424320" y="4367160"/>
            <a:ext cx="1440" cy="20016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513240" y="4300560"/>
            <a:ext cx="1440" cy="26676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598920" y="4249800"/>
            <a:ext cx="1440" cy="3175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689280" y="4191120"/>
            <a:ext cx="1800" cy="3762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54080" y="39276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938320" y="40035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489480" y="38894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571920" y="39654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300120" y="4919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83640" y="49957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66"/>
                </a:solidFill>
                <a:latin typeface="Times New Roman"/>
              </a:rPr>
              <a:t>eff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709720" y="3241800"/>
            <a:ext cx="124308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673360" y="3186000"/>
            <a:ext cx="108000" cy="111240"/>
          </a:xfrm>
          <a:custGeom>
            <a:avLst/>
            <a:gdLst/>
            <a:ahLst/>
            <a:rect l="l" t="t" r="r" b="b"/>
            <a:pathLst>
              <a:path w="137" h="139">
                <a:moveTo>
                  <a:pt x="137" y="0"/>
                </a:moveTo>
                <a:lnTo>
                  <a:pt x="0" y="69"/>
                </a:lnTo>
                <a:lnTo>
                  <a:pt x="137" y="139"/>
                </a:lnTo>
                <a:lnTo>
                  <a:pt x="137" y="0"/>
                </a:lnTo>
                <a:close/>
              </a:path>
            </a:pathLst>
          </a:custGeom>
          <a:solidFill>
            <a:srgbClr val="000066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843360" y="3186000"/>
            <a:ext cx="109440" cy="111240"/>
          </a:xfrm>
          <a:custGeom>
            <a:avLst/>
            <a:gdLst/>
            <a:ahLst/>
            <a:rect l="l" t="t" r="r" b="b"/>
            <a:pathLst>
              <a:path w="139" h="139">
                <a:moveTo>
                  <a:pt x="0" y="0"/>
                </a:moveTo>
                <a:lnTo>
                  <a:pt x="139" y="69"/>
                </a:lnTo>
                <a:lnTo>
                  <a:pt x="0" y="139"/>
                </a:lnTo>
                <a:lnTo>
                  <a:pt x="0" y="0"/>
                </a:lnTo>
                <a:close/>
              </a:path>
            </a:pathLst>
          </a:custGeom>
          <a:solidFill>
            <a:srgbClr val="000066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247920" y="2227320"/>
            <a:ext cx="1800" cy="1760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670120" y="2227320"/>
            <a:ext cx="1800" cy="1760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00360" y="2314440"/>
            <a:ext cx="54756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671920" y="2259000"/>
            <a:ext cx="107640" cy="111240"/>
          </a:xfrm>
          <a:custGeom>
            <a:avLst/>
            <a:gdLst/>
            <a:ahLst/>
            <a:rect l="l" t="t" r="r" b="b"/>
            <a:pathLst>
              <a:path w="137" h="139">
                <a:moveTo>
                  <a:pt x="137" y="0"/>
                </a:moveTo>
                <a:lnTo>
                  <a:pt x="0" y="69"/>
                </a:lnTo>
                <a:lnTo>
                  <a:pt x="137" y="139"/>
                </a:lnTo>
                <a:lnTo>
                  <a:pt x="137" y="0"/>
                </a:lnTo>
                <a:close/>
              </a:path>
            </a:pathLst>
          </a:custGeom>
          <a:solidFill>
            <a:srgbClr val="000066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137040" y="2259000"/>
            <a:ext cx="110880" cy="111240"/>
          </a:xfrm>
          <a:custGeom>
            <a:avLst/>
            <a:gdLst/>
            <a:ahLst/>
            <a:rect l="l" t="t" r="r" b="b"/>
            <a:pathLst>
              <a:path w="139" h="139">
                <a:moveTo>
                  <a:pt x="0" y="0"/>
                </a:moveTo>
                <a:lnTo>
                  <a:pt x="139" y="69"/>
                </a:lnTo>
                <a:lnTo>
                  <a:pt x="0" y="139"/>
                </a:lnTo>
                <a:lnTo>
                  <a:pt x="0" y="0"/>
                </a:lnTo>
                <a:close/>
              </a:path>
            </a:pathLst>
          </a:custGeom>
          <a:solidFill>
            <a:srgbClr val="000066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070080" y="4764240"/>
            <a:ext cx="1800" cy="2664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89280" y="4764240"/>
            <a:ext cx="1800" cy="2664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736720" y="3798720"/>
            <a:ext cx="1800" cy="1764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070080" y="3794040"/>
            <a:ext cx="1800" cy="1764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019400" y="3794040"/>
            <a:ext cx="1800" cy="1764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752560" y="3881520"/>
            <a:ext cx="31752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735280" y="3827520"/>
            <a:ext cx="109440" cy="109440"/>
          </a:xfrm>
          <a:custGeom>
            <a:avLst/>
            <a:gdLst/>
            <a:ahLst/>
            <a:rect l="l" t="t" r="r" b="b"/>
            <a:pathLst>
              <a:path w="137" h="139">
                <a:moveTo>
                  <a:pt x="137" y="0"/>
                </a:moveTo>
                <a:lnTo>
                  <a:pt x="0" y="70"/>
                </a:lnTo>
                <a:lnTo>
                  <a:pt x="137" y="139"/>
                </a:lnTo>
                <a:lnTo>
                  <a:pt x="137" y="0"/>
                </a:lnTo>
                <a:close/>
              </a:path>
            </a:pathLst>
          </a:custGeom>
          <a:solidFill>
            <a:srgbClr val="000066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962440" y="3827520"/>
            <a:ext cx="107640" cy="109440"/>
          </a:xfrm>
          <a:custGeom>
            <a:avLst/>
            <a:gdLst/>
            <a:ahLst/>
            <a:rect l="l" t="t" r="r" b="b"/>
            <a:pathLst>
              <a:path w="138" h="139">
                <a:moveTo>
                  <a:pt x="0" y="0"/>
                </a:moveTo>
                <a:lnTo>
                  <a:pt x="138" y="70"/>
                </a:lnTo>
                <a:lnTo>
                  <a:pt x="0" y="139"/>
                </a:lnTo>
                <a:lnTo>
                  <a:pt x="0" y="0"/>
                </a:lnTo>
                <a:close/>
              </a:path>
            </a:pathLst>
          </a:custGeom>
          <a:solidFill>
            <a:srgbClr val="000066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070080" y="3881520"/>
            <a:ext cx="94932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0080" y="3827520"/>
            <a:ext cx="111240" cy="109440"/>
          </a:xfrm>
          <a:custGeom>
            <a:avLst/>
            <a:gdLst/>
            <a:ahLst/>
            <a:rect l="l" t="t" r="r" b="b"/>
            <a:pathLst>
              <a:path w="139" h="139">
                <a:moveTo>
                  <a:pt x="139" y="0"/>
                </a:moveTo>
                <a:lnTo>
                  <a:pt x="0" y="70"/>
                </a:lnTo>
                <a:lnTo>
                  <a:pt x="139" y="139"/>
                </a:lnTo>
                <a:lnTo>
                  <a:pt x="139" y="0"/>
                </a:lnTo>
                <a:close/>
              </a:path>
            </a:pathLst>
          </a:custGeom>
          <a:solidFill>
            <a:srgbClr val="000066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908520" y="3827520"/>
            <a:ext cx="110880" cy="109440"/>
          </a:xfrm>
          <a:custGeom>
            <a:avLst/>
            <a:gdLst/>
            <a:ahLst/>
            <a:rect l="l" t="t" r="r" b="b"/>
            <a:pathLst>
              <a:path w="139" h="139">
                <a:moveTo>
                  <a:pt x="0" y="0"/>
                </a:moveTo>
                <a:lnTo>
                  <a:pt x="139" y="70"/>
                </a:lnTo>
                <a:lnTo>
                  <a:pt x="0" y="139"/>
                </a:lnTo>
                <a:lnTo>
                  <a:pt x="0" y="0"/>
                </a:lnTo>
                <a:close/>
              </a:path>
            </a:pathLst>
          </a:custGeom>
          <a:solidFill>
            <a:srgbClr val="000066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070080" y="4897440"/>
            <a:ext cx="61920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070080" y="4842000"/>
            <a:ext cx="111240" cy="10944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139" y="0"/>
                </a:moveTo>
                <a:lnTo>
                  <a:pt x="0" y="70"/>
                </a:lnTo>
                <a:lnTo>
                  <a:pt x="139" y="140"/>
                </a:lnTo>
                <a:lnTo>
                  <a:pt x="139" y="0"/>
                </a:lnTo>
                <a:close/>
              </a:path>
            </a:pathLst>
          </a:custGeom>
          <a:solidFill>
            <a:srgbClr val="000066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578400" y="4842000"/>
            <a:ext cx="110880" cy="10944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0" y="0"/>
                </a:moveTo>
                <a:lnTo>
                  <a:pt x="139" y="70"/>
                </a:lnTo>
                <a:lnTo>
                  <a:pt x="0" y="140"/>
                </a:lnTo>
                <a:lnTo>
                  <a:pt x="0" y="0"/>
                </a:lnTo>
                <a:close/>
              </a:path>
            </a:pathLst>
          </a:custGeom>
          <a:solidFill>
            <a:srgbClr val="000066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638360" y="5272200"/>
            <a:ext cx="586404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219040" y="5295960"/>
            <a:ext cx="10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66"/>
                </a:solidFill>
                <a:latin typeface="Symbol"/>
                <a:ea typeface="Symbol"/>
              </a:rPr>
              <a:t>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487600" y="5295960"/>
            <a:ext cx="9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743200" y="5295960"/>
            <a:ext cx="9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359800" y="5295960"/>
            <a:ext cx="1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Symbol"/>
                <a:ea typeface="Symbol"/>
              </a:rPr>
              <a:t>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603520" y="54151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854080" y="541512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687400" y="5327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638360" y="5559480"/>
            <a:ext cx="586404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98720" y="5657760"/>
            <a:ext cx="1166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Buckling factor k</a:t>
            </a:r>
            <a:r>
              <a:rPr b="0" lang="en-GB" sz="12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638360" y="5913360"/>
            <a:ext cx="586404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402000" y="5272200"/>
            <a:ext cx="1440" cy="6411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833280" y="5327640"/>
            <a:ext cx="70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 Narrow"/>
                <a:ea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728160" y="565632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 Narrow"/>
                <a:ea typeface="Arial"/>
              </a:rPr>
              <a:t>0,4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284720" y="5272200"/>
            <a:ext cx="1440" cy="6411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644720" y="5319720"/>
            <a:ext cx="70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 Narrow"/>
                <a:ea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541040" y="564192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 Narrow"/>
                <a:ea typeface="Arial"/>
              </a:rPr>
              <a:t>0,57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078520" y="5272200"/>
            <a:ext cx="1440" cy="6411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0640" y="5319720"/>
            <a:ext cx="11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 Narrow"/>
                <a:ea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331600" y="564192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 Narrow"/>
                <a:ea typeface="Arial"/>
              </a:rPr>
              <a:t>0,85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781600" y="5272200"/>
            <a:ext cx="1800" cy="6411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300000" y="5300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883200" y="53006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383880" y="5300640"/>
            <a:ext cx="1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Symbol"/>
                <a:ea typeface="Symbol"/>
              </a:rPr>
              <a:t>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657120" y="5300640"/>
            <a:ext cx="1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Symbol"/>
                <a:ea typeface="Symbol"/>
              </a:rPr>
              <a:t>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802560" y="5300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-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511680" y="5302080"/>
            <a:ext cx="10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66"/>
                </a:solidFill>
                <a:latin typeface="Symbol"/>
                <a:ea typeface="Symbol"/>
              </a:rPr>
              <a:t>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51360" y="4437000"/>
            <a:ext cx="2375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GB" sz="1800" spc="-1" strike="noStrike" baseline="-25000">
                <a:solidFill>
                  <a:srgbClr val="000066"/>
                </a:solidFill>
                <a:latin typeface="Arial"/>
              </a:rPr>
              <a:t>eff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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 b</a:t>
            </a:r>
            <a:r>
              <a:rPr b="0" lang="en-GB" sz="1800" spc="-1" strike="noStrike" baseline="-25000">
                <a:solidFill>
                  <a:srgbClr val="000066"/>
                </a:solidFill>
                <a:latin typeface="Arial"/>
              </a:rPr>
              <a:t>c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c (1- </a:t>
            </a: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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292720" y="328464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372360" y="486900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5907240" y="5602320"/>
          <a:ext cx="1506240" cy="27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7240" y="5602320"/>
                    <a:ext cx="150624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D6B0-467F-4B4E-B647-18E5EEAF468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ffective width: outstand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82600" y="1413000"/>
            <a:ext cx="0" cy="471312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985160" y="1413000"/>
            <a:ext cx="0" cy="471312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659480" y="1366920"/>
            <a:ext cx="1440" cy="38894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181160" y="1413000"/>
            <a:ext cx="6802200" cy="14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43360" y="2697120"/>
            <a:ext cx="1440" cy="25560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40000" y="2852640"/>
            <a:ext cx="144000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1590840" y="2440080"/>
            <a:ext cx="2252520" cy="512640"/>
            <a:chOff x="1590840" y="2440080"/>
            <a:chExt cx="2252520" cy="512640"/>
          </a:xfrm>
        </p:grpSpPr>
        <p:sp>
          <p:nvSpPr>
            <p:cNvPr id="755" name=""/>
            <p:cNvSpPr/>
            <p:nvPr/>
          </p:nvSpPr>
          <p:spPr>
            <a:xfrm>
              <a:off x="2205000" y="2440080"/>
              <a:ext cx="1638360" cy="155520"/>
            </a:xfrm>
            <a:custGeom>
              <a:avLst/>
              <a:gdLst/>
              <a:ahLst/>
              <a:rect l="l" t="t" r="r" b="b"/>
              <a:pathLst>
                <a:path w="1032" h="98">
                  <a:moveTo>
                    <a:pt x="0" y="0"/>
                  </a:moveTo>
                  <a:lnTo>
                    <a:pt x="1032" y="0"/>
                  </a:lnTo>
                  <a:lnTo>
                    <a:pt x="1032" y="98"/>
                  </a:lnTo>
                  <a:lnTo>
                    <a:pt x="97" y="98"/>
                  </a:lnTo>
                </a:path>
              </a:pathLst>
            </a:custGeom>
            <a:noFill/>
            <a:ln w="144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281320" y="2697120"/>
              <a:ext cx="1440" cy="255600"/>
            </a:xfrm>
            <a:prstGeom prst="line">
              <a:avLst/>
            </a:prstGeom>
            <a:ln w="0">
              <a:solidFill>
                <a:srgbClr val="cc33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281320" y="2595600"/>
              <a:ext cx="77760" cy="101520"/>
            </a:xfrm>
            <a:custGeom>
              <a:avLst/>
              <a:gdLst/>
              <a:ahLst/>
              <a:rect l="l" t="t" r="r" b="b"/>
              <a:pathLst>
                <a:path w="49" h="64">
                  <a:moveTo>
                    <a:pt x="0" y="64"/>
                  </a:moveTo>
                  <a:lnTo>
                    <a:pt x="12" y="23"/>
                  </a:lnTo>
                  <a:lnTo>
                    <a:pt x="31" y="3"/>
                  </a:lnTo>
                  <a:lnTo>
                    <a:pt x="49" y="0"/>
                  </a:lnTo>
                </a:path>
              </a:pathLst>
            </a:custGeom>
            <a:noFill/>
            <a:ln w="144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590840" y="2440080"/>
              <a:ext cx="614160" cy="1440"/>
            </a:xfrm>
            <a:prstGeom prst="line">
              <a:avLst/>
            </a:prstGeom>
            <a:ln w="0">
              <a:solidFill>
                <a:srgbClr val="cc33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590840" y="2595600"/>
              <a:ext cx="485640" cy="1440"/>
            </a:xfrm>
            <a:prstGeom prst="line">
              <a:avLst/>
            </a:prstGeom>
            <a:ln w="0">
              <a:solidFill>
                <a:srgbClr val="cc33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128680" y="2697120"/>
              <a:ext cx="1800" cy="230400"/>
            </a:xfrm>
            <a:prstGeom prst="line">
              <a:avLst/>
            </a:prstGeom>
            <a:ln w="0">
              <a:solidFill>
                <a:srgbClr val="cc33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052720" y="2595600"/>
              <a:ext cx="75960" cy="10152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0" y="0"/>
                  </a:moveTo>
                  <a:lnTo>
                    <a:pt x="21" y="4"/>
                  </a:lnTo>
                  <a:lnTo>
                    <a:pt x="39" y="28"/>
                  </a:lnTo>
                  <a:lnTo>
                    <a:pt x="48" y="64"/>
                  </a:lnTo>
                </a:path>
              </a:pathLst>
            </a:custGeom>
            <a:noFill/>
            <a:ln w="0">
              <a:solidFill>
                <a:srgbClr val="cc33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2340000" y="2781360"/>
            <a:ext cx="127080" cy="128520"/>
          </a:xfrm>
          <a:custGeom>
            <a:avLst/>
            <a:gdLst/>
            <a:ahLst/>
            <a:rect l="l" t="t" r="r" b="b"/>
            <a:pathLst>
              <a:path w="80" h="81">
                <a:moveTo>
                  <a:pt x="80" y="0"/>
                </a:moveTo>
                <a:lnTo>
                  <a:pt x="0" y="41"/>
                </a:lnTo>
                <a:lnTo>
                  <a:pt x="80" y="81"/>
                </a:lnTo>
                <a:lnTo>
                  <a:pt x="80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708360" y="2781360"/>
            <a:ext cx="128520" cy="128520"/>
          </a:xfrm>
          <a:custGeom>
            <a:avLst/>
            <a:gdLst/>
            <a:ahLst/>
            <a:rect l="l" t="t" r="r" b="b"/>
            <a:pathLst>
              <a:path w="81" h="81">
                <a:moveTo>
                  <a:pt x="0" y="0"/>
                </a:moveTo>
                <a:lnTo>
                  <a:pt x="81" y="41"/>
                </a:lnTo>
                <a:lnTo>
                  <a:pt x="0" y="81"/>
                </a:lnTo>
                <a:lnTo>
                  <a:pt x="0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035160" y="261612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2338560" y="1770120"/>
            <a:ext cx="1504800" cy="663480"/>
            <a:chOff x="2338560" y="1770120"/>
            <a:chExt cx="1504800" cy="663480"/>
          </a:xfrm>
        </p:grpSpPr>
        <p:sp>
          <p:nvSpPr>
            <p:cNvPr id="766" name=""/>
            <p:cNvSpPr/>
            <p:nvPr/>
          </p:nvSpPr>
          <p:spPr>
            <a:xfrm>
              <a:off x="2338560" y="1770120"/>
              <a:ext cx="1440" cy="66348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36880" y="2092320"/>
              <a:ext cx="1800" cy="33804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38560" y="1770120"/>
              <a:ext cx="1504800" cy="32220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41520" y="1793880"/>
              <a:ext cx="1800" cy="63972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543040" y="1819440"/>
              <a:ext cx="1800" cy="61416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646360" y="1846440"/>
              <a:ext cx="1440" cy="58716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746440" y="1862280"/>
              <a:ext cx="1440" cy="57132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2851200" y="1884240"/>
              <a:ext cx="1440" cy="54936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2952720" y="1900080"/>
              <a:ext cx="1440" cy="53352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3054240" y="1925280"/>
              <a:ext cx="1800" cy="50796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157560" y="1947960"/>
              <a:ext cx="1440" cy="48564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3157560" y="1512720"/>
            <a:ext cx="1440" cy="2048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338560" y="1512720"/>
            <a:ext cx="1440" cy="2048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365200" y="1614600"/>
            <a:ext cx="766800" cy="14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338560" y="1550880"/>
            <a:ext cx="126720" cy="128520"/>
          </a:xfrm>
          <a:custGeom>
            <a:avLst/>
            <a:gdLst/>
            <a:ahLst/>
            <a:rect l="l" t="t" r="r" b="b"/>
            <a:pathLst>
              <a:path w="80" h="81">
                <a:moveTo>
                  <a:pt x="80" y="0"/>
                </a:moveTo>
                <a:lnTo>
                  <a:pt x="0" y="40"/>
                </a:lnTo>
                <a:lnTo>
                  <a:pt x="80" y="81"/>
                </a:lnTo>
                <a:lnTo>
                  <a:pt x="80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025800" y="1550880"/>
            <a:ext cx="128520" cy="128520"/>
          </a:xfrm>
          <a:custGeom>
            <a:avLst/>
            <a:gdLst/>
            <a:ahLst/>
            <a:rect l="l" t="t" r="r" b="b"/>
            <a:pathLst>
              <a:path w="81" h="81">
                <a:moveTo>
                  <a:pt x="0" y="0"/>
                </a:moveTo>
                <a:lnTo>
                  <a:pt x="81" y="40"/>
                </a:lnTo>
                <a:lnTo>
                  <a:pt x="0" y="81"/>
                </a:lnTo>
                <a:lnTo>
                  <a:pt x="0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656800" y="16398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761200" y="173196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Times New Roman"/>
              </a:rPr>
              <a:t>eff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988640" y="20048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113920" y="21448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881160" y="21337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014000" y="22716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181160" y="3259080"/>
            <a:ext cx="6802200" cy="180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1541520" y="4334040"/>
            <a:ext cx="2249280" cy="512640"/>
            <a:chOff x="1541520" y="4334040"/>
            <a:chExt cx="2249280" cy="512640"/>
          </a:xfrm>
        </p:grpSpPr>
        <p:sp>
          <p:nvSpPr>
            <p:cNvPr id="790" name=""/>
            <p:cNvSpPr/>
            <p:nvPr/>
          </p:nvSpPr>
          <p:spPr>
            <a:xfrm>
              <a:off x="2154240" y="4334040"/>
              <a:ext cx="1636560" cy="153720"/>
            </a:xfrm>
            <a:custGeom>
              <a:avLst/>
              <a:gdLst/>
              <a:ahLst/>
              <a:rect l="l" t="t" r="r" b="b"/>
              <a:pathLst>
                <a:path w="1031" h="97">
                  <a:moveTo>
                    <a:pt x="0" y="0"/>
                  </a:moveTo>
                  <a:lnTo>
                    <a:pt x="1031" y="0"/>
                  </a:lnTo>
                  <a:lnTo>
                    <a:pt x="1031" y="97"/>
                  </a:lnTo>
                  <a:lnTo>
                    <a:pt x="97" y="97"/>
                  </a:lnTo>
                </a:path>
              </a:pathLst>
            </a:custGeom>
            <a:noFill/>
            <a:ln w="144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32000" y="4591080"/>
              <a:ext cx="1440" cy="255600"/>
            </a:xfrm>
            <a:prstGeom prst="line">
              <a:avLst/>
            </a:prstGeom>
            <a:ln w="0">
              <a:solidFill>
                <a:srgbClr val="cc33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32000" y="4487760"/>
              <a:ext cx="76320" cy="103320"/>
            </a:xfrm>
            <a:custGeom>
              <a:avLst/>
              <a:gdLst/>
              <a:ahLst/>
              <a:rect l="l" t="t" r="r" b="b"/>
              <a:pathLst>
                <a:path w="48" h="65">
                  <a:moveTo>
                    <a:pt x="0" y="65"/>
                  </a:moveTo>
                  <a:lnTo>
                    <a:pt x="10" y="25"/>
                  </a:lnTo>
                  <a:lnTo>
                    <a:pt x="29" y="4"/>
                  </a:lnTo>
                  <a:lnTo>
                    <a:pt x="48" y="0"/>
                  </a:lnTo>
                </a:path>
              </a:pathLst>
            </a:custGeom>
            <a:noFill/>
            <a:ln w="144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541520" y="4334040"/>
              <a:ext cx="612720" cy="1440"/>
            </a:xfrm>
            <a:prstGeom prst="line">
              <a:avLst/>
            </a:prstGeom>
            <a:ln w="0">
              <a:solidFill>
                <a:srgbClr val="cc33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41520" y="4487760"/>
              <a:ext cx="485640" cy="1800"/>
            </a:xfrm>
            <a:prstGeom prst="line">
              <a:avLst/>
            </a:prstGeom>
            <a:ln w="0">
              <a:solidFill>
                <a:srgbClr val="cc33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076480" y="4591080"/>
              <a:ext cx="1440" cy="230040"/>
            </a:xfrm>
            <a:prstGeom prst="line">
              <a:avLst/>
            </a:prstGeom>
            <a:ln w="0">
              <a:solidFill>
                <a:srgbClr val="cc33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000160" y="4487760"/>
              <a:ext cx="76320" cy="103320"/>
            </a:xfrm>
            <a:custGeom>
              <a:avLst/>
              <a:gdLst/>
              <a:ahLst/>
              <a:rect l="l" t="t" r="r" b="b"/>
              <a:pathLst>
                <a:path w="48" h="65">
                  <a:moveTo>
                    <a:pt x="0" y="0"/>
                  </a:moveTo>
                  <a:lnTo>
                    <a:pt x="21" y="6"/>
                  </a:lnTo>
                  <a:lnTo>
                    <a:pt x="39" y="29"/>
                  </a:lnTo>
                  <a:lnTo>
                    <a:pt x="48" y="65"/>
                  </a:lnTo>
                </a:path>
              </a:pathLst>
            </a:custGeom>
            <a:noFill/>
            <a:ln w="0">
              <a:solidFill>
                <a:srgbClr val="cc33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2870280" y="3414600"/>
            <a:ext cx="1440" cy="2048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271600" y="3414600"/>
            <a:ext cx="1800" cy="2048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341440" y="3516480"/>
            <a:ext cx="503280" cy="14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276640" y="3448080"/>
            <a:ext cx="128520" cy="128520"/>
          </a:xfrm>
          <a:custGeom>
            <a:avLst/>
            <a:gdLst/>
            <a:ahLst/>
            <a:rect l="l" t="t" r="r" b="b"/>
            <a:pathLst>
              <a:path w="81" h="81">
                <a:moveTo>
                  <a:pt x="81" y="0"/>
                </a:moveTo>
                <a:lnTo>
                  <a:pt x="0" y="41"/>
                </a:lnTo>
                <a:lnTo>
                  <a:pt x="81" y="81"/>
                </a:lnTo>
                <a:lnTo>
                  <a:pt x="81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744640" y="3451320"/>
            <a:ext cx="125640" cy="128520"/>
          </a:xfrm>
          <a:custGeom>
            <a:avLst/>
            <a:gdLst/>
            <a:ahLst/>
            <a:rect l="l" t="t" r="r" b="b"/>
            <a:pathLst>
              <a:path w="79" h="81">
                <a:moveTo>
                  <a:pt x="0" y="0"/>
                </a:moveTo>
                <a:lnTo>
                  <a:pt x="79" y="41"/>
                </a:lnTo>
                <a:lnTo>
                  <a:pt x="0" y="81"/>
                </a:lnTo>
                <a:lnTo>
                  <a:pt x="0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31160" y="3627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626200" y="37162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Times New Roman"/>
              </a:rPr>
              <a:t>eff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912680" y="38750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032920" y="40132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855600" y="43610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987000" y="44989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2289240" y="3732120"/>
            <a:ext cx="1503360" cy="960480"/>
            <a:chOff x="2289240" y="3732120"/>
            <a:chExt cx="1503360" cy="960480"/>
          </a:xfrm>
        </p:grpSpPr>
        <p:sp>
          <p:nvSpPr>
            <p:cNvPr id="809" name=""/>
            <p:cNvSpPr/>
            <p:nvPr/>
          </p:nvSpPr>
          <p:spPr>
            <a:xfrm flipV="1">
              <a:off x="3790800" y="4334040"/>
              <a:ext cx="1800" cy="35856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292480" y="3736800"/>
              <a:ext cx="1498320" cy="95580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89240" y="3732120"/>
              <a:ext cx="3240" cy="60192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386080" y="3794040"/>
              <a:ext cx="1440" cy="53676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2482920" y="3865680"/>
              <a:ext cx="1440" cy="46836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579760" y="3925800"/>
              <a:ext cx="1440" cy="40824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674800" y="3983040"/>
              <a:ext cx="1800" cy="35100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71640" y="4038480"/>
              <a:ext cx="1800" cy="29556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67040" y="4102200"/>
              <a:ext cx="3240" cy="23184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3686040" y="4333680"/>
              <a:ext cx="1800" cy="28548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586320" y="4334040"/>
              <a:ext cx="1440" cy="23148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3483000" y="4334040"/>
              <a:ext cx="1440" cy="16344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381480" y="4334040"/>
              <a:ext cx="1440" cy="10476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3279600" y="4336920"/>
              <a:ext cx="1800" cy="36720"/>
            </a:xfrm>
            <a:prstGeom prst="line">
              <a:avLst/>
            </a:prstGeom>
            <a:ln w="14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3790800" y="4795920"/>
            <a:ext cx="1800" cy="2300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228840" y="4795920"/>
            <a:ext cx="1800" cy="2300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322360" y="4897440"/>
            <a:ext cx="879480" cy="14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293920" y="4832280"/>
            <a:ext cx="128520" cy="127080"/>
          </a:xfrm>
          <a:custGeom>
            <a:avLst/>
            <a:gdLst/>
            <a:ahLst/>
            <a:rect l="l" t="t" r="r" b="b"/>
            <a:pathLst>
              <a:path w="81" h="80">
                <a:moveTo>
                  <a:pt x="81" y="0"/>
                </a:moveTo>
                <a:lnTo>
                  <a:pt x="0" y="40"/>
                </a:lnTo>
                <a:lnTo>
                  <a:pt x="81" y="80"/>
                </a:lnTo>
                <a:lnTo>
                  <a:pt x="81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102120" y="4835520"/>
            <a:ext cx="126720" cy="125280"/>
          </a:xfrm>
          <a:custGeom>
            <a:avLst/>
            <a:gdLst/>
            <a:ahLst/>
            <a:rect l="l" t="t" r="r" b="b"/>
            <a:pathLst>
              <a:path w="80" h="79">
                <a:moveTo>
                  <a:pt x="0" y="0"/>
                </a:moveTo>
                <a:lnTo>
                  <a:pt x="80" y="3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252960" y="4897440"/>
            <a:ext cx="512640" cy="14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232080" y="4835520"/>
            <a:ext cx="128520" cy="125280"/>
          </a:xfrm>
          <a:custGeom>
            <a:avLst/>
            <a:gdLst/>
            <a:ahLst/>
            <a:rect l="l" t="t" r="r" b="b"/>
            <a:pathLst>
              <a:path w="81" h="79">
                <a:moveTo>
                  <a:pt x="81" y="0"/>
                </a:moveTo>
                <a:lnTo>
                  <a:pt x="0" y="39"/>
                </a:lnTo>
                <a:lnTo>
                  <a:pt x="81" y="79"/>
                </a:lnTo>
                <a:lnTo>
                  <a:pt x="81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664080" y="4835520"/>
            <a:ext cx="128520" cy="125280"/>
          </a:xfrm>
          <a:custGeom>
            <a:avLst/>
            <a:gdLst/>
            <a:ahLst/>
            <a:rect l="l" t="t" r="r" b="b"/>
            <a:pathLst>
              <a:path w="81" h="79">
                <a:moveTo>
                  <a:pt x="0" y="0"/>
                </a:moveTo>
                <a:lnTo>
                  <a:pt x="81" y="3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483720" y="4932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579480" y="50198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639160" y="4932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734200" y="5019840"/>
            <a:ext cx="4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181160" y="5256360"/>
            <a:ext cx="6802200" cy="14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00200" y="5283360"/>
            <a:ext cx="1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Symbol"/>
                <a:ea typeface="Symbol"/>
              </a:rPr>
              <a:t>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910880" y="52833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209320" y="52833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763280" y="5283360"/>
            <a:ext cx="14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Symbol"/>
                <a:ea typeface="Symbol"/>
              </a:rPr>
              <a:t>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044080" y="54212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336040" y="54212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42360" y="53211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/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181160" y="5614920"/>
            <a:ext cx="6802200" cy="180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331640" y="5751360"/>
            <a:ext cx="125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Buckling factor k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603160" y="5818320"/>
            <a:ext cx="69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181160" y="6126120"/>
            <a:ext cx="6802200" cy="180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870280" y="5256360"/>
            <a:ext cx="1440" cy="86976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197160" y="5337000"/>
            <a:ext cx="8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086280" y="5762520"/>
            <a:ext cx="28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 Narrow"/>
              </a:rPr>
              <a:t>0,43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586320" y="5256360"/>
            <a:ext cx="1440" cy="86976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33720" y="5319720"/>
            <a:ext cx="8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508640" y="5319720"/>
            <a:ext cx="8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 Narrow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046040" y="530388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Symbol"/>
                <a:ea typeface="Symbol"/>
              </a:rPr>
              <a:t>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360320" y="530388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Symbol"/>
                <a:ea typeface="Symbol"/>
              </a:rPr>
              <a:t>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173480" y="5292720"/>
            <a:ext cx="1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Symbol"/>
                <a:ea typeface="Symbol"/>
              </a:rPr>
              <a:t>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863960" y="5256360"/>
            <a:ext cx="1800" cy="86976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184720" y="5327640"/>
            <a:ext cx="8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 Narrow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073480" y="5756400"/>
            <a:ext cx="28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 Narrow"/>
              </a:rPr>
              <a:t>1,70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581800" y="5256360"/>
            <a:ext cx="1440" cy="86976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017400" y="5319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697800" y="5307120"/>
            <a:ext cx="8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140160" y="530388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Symbol"/>
                <a:ea typeface="Symbol"/>
              </a:rPr>
              <a:t>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455880" y="530388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Symbol"/>
                <a:ea typeface="Symbol"/>
              </a:rPr>
              <a:t>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602400" y="5291280"/>
            <a:ext cx="4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 Narrow"/>
              </a:rPr>
              <a:t>-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269040" y="5292720"/>
            <a:ext cx="1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Symbol"/>
                <a:ea typeface="Symbol"/>
              </a:rPr>
              <a:t>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269120" y="5256360"/>
            <a:ext cx="1800" cy="86976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577280" y="5337000"/>
            <a:ext cx="13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 Narrow"/>
              </a:rPr>
              <a:t>-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477200" y="5756400"/>
            <a:ext cx="28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 Narrow"/>
              </a:rPr>
              <a:t>23,8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69" name=""/>
          <p:cNvGraphicFramePr/>
          <p:nvPr/>
        </p:nvGraphicFramePr>
        <p:xfrm>
          <a:off x="5530680" y="1773360"/>
          <a:ext cx="1417680" cy="2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0680" y="1773360"/>
                    <a:ext cx="141768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1" name=""/>
          <p:cNvGraphicFramePr/>
          <p:nvPr/>
        </p:nvGraphicFramePr>
        <p:xfrm>
          <a:off x="5597640" y="3716280"/>
          <a:ext cx="1079280" cy="2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97640" y="3716280"/>
                    <a:ext cx="107928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3" name=""/>
          <p:cNvSpPr/>
          <p:nvPr/>
        </p:nvSpPr>
        <p:spPr>
          <a:xfrm>
            <a:off x="5676480" y="2214720"/>
            <a:ext cx="10537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GB" sz="1800" spc="-1" strike="noStrike" baseline="-25000">
                <a:solidFill>
                  <a:srgbClr val="000066"/>
                </a:solidFill>
                <a:latin typeface="Arial"/>
              </a:rPr>
              <a:t>eff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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084640" y="4219560"/>
            <a:ext cx="2375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GB" sz="1800" spc="-1" strike="noStrike" baseline="-25000">
                <a:solidFill>
                  <a:srgbClr val="000066"/>
                </a:solidFill>
                <a:latin typeface="Arial"/>
              </a:rPr>
              <a:t>eff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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 b</a:t>
            </a:r>
            <a:r>
              <a:rPr b="0" lang="en-GB" sz="1800" spc="-1" strike="noStrike" baseline="-25000">
                <a:solidFill>
                  <a:srgbClr val="000066"/>
                </a:solidFill>
                <a:latin typeface="Arial"/>
              </a:rPr>
              <a:t>c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c (1- </a:t>
            </a: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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292720" y="328464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76" name=""/>
          <p:cNvGraphicFramePr/>
          <p:nvPr/>
        </p:nvGraphicFramePr>
        <p:xfrm>
          <a:off x="5816520" y="5743440"/>
          <a:ext cx="1131840" cy="26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16520" y="5743440"/>
                    <a:ext cx="1131840" cy="2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8" name=""/>
          <p:cNvSpPr/>
          <p:nvPr/>
        </p:nvSpPr>
        <p:spPr>
          <a:xfrm>
            <a:off x="3635280" y="57340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3959280" y="5680080"/>
          <a:ext cx="600120" cy="39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9280" y="5680080"/>
                    <a:ext cx="6001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1" name=""/>
          <p:cNvSpPr/>
          <p:nvPr/>
        </p:nvSpPr>
        <p:spPr>
          <a:xfrm>
            <a:off x="2340000" y="2421000"/>
            <a:ext cx="1440" cy="66672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293920" y="4334040"/>
            <a:ext cx="1440" cy="66672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9E7C-EC18-469B-B1C3-166A8E6F37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ffective width: internal elements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5508720" y="1413000"/>
          <a:ext cx="136836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1413000"/>
                    <a:ext cx="136836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6" name=""/>
          <p:cNvSpPr/>
          <p:nvPr/>
        </p:nvSpPr>
        <p:spPr>
          <a:xfrm>
            <a:off x="1476360" y="1407960"/>
            <a:ext cx="1440" cy="471492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924680" y="1407960"/>
            <a:ext cx="12960" cy="471492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586400" y="1407960"/>
            <a:ext cx="1440" cy="471492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476360" y="1407960"/>
            <a:ext cx="6465960" cy="180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081160" y="2114640"/>
            <a:ext cx="1839960" cy="1440"/>
          </a:xfrm>
          <a:prstGeom prst="line">
            <a:avLst/>
          </a:prstGeom>
          <a:ln w="144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130480" y="2263680"/>
            <a:ext cx="1741320" cy="1800"/>
          </a:xfrm>
          <a:prstGeom prst="line">
            <a:avLst/>
          </a:prstGeom>
          <a:ln w="144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981080" y="2365200"/>
            <a:ext cx="1800" cy="297000"/>
          </a:xfrm>
          <a:prstGeom prst="line">
            <a:avLst/>
          </a:prstGeom>
          <a:ln w="144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019400" y="2365200"/>
            <a:ext cx="1800" cy="297000"/>
          </a:xfrm>
          <a:prstGeom prst="line">
            <a:avLst/>
          </a:prstGeom>
          <a:ln w="144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2263680"/>
            <a:ext cx="149400" cy="101520"/>
          </a:xfrm>
          <a:custGeom>
            <a:avLst/>
            <a:gdLst/>
            <a:ahLst/>
            <a:rect l="l" t="t" r="r" b="b"/>
            <a:pathLst>
              <a:path w="100" h="67">
                <a:moveTo>
                  <a:pt x="0" y="67"/>
                </a:moveTo>
                <a:lnTo>
                  <a:pt x="16" y="33"/>
                </a:lnTo>
                <a:lnTo>
                  <a:pt x="48" y="9"/>
                </a:lnTo>
                <a:lnTo>
                  <a:pt x="94" y="0"/>
                </a:lnTo>
                <a:lnTo>
                  <a:pt x="100" y="0"/>
                </a:lnTo>
              </a:path>
            </a:pathLst>
          </a:custGeom>
          <a:noFill/>
          <a:ln w="144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871800" y="2263680"/>
            <a:ext cx="147600" cy="101520"/>
          </a:xfrm>
          <a:custGeom>
            <a:avLst/>
            <a:gdLst/>
            <a:ahLst/>
            <a:rect l="l" t="t" r="r" b="b"/>
            <a:pathLst>
              <a:path w="99" h="67">
                <a:moveTo>
                  <a:pt x="0" y="0"/>
                </a:moveTo>
                <a:lnTo>
                  <a:pt x="42" y="5"/>
                </a:lnTo>
                <a:lnTo>
                  <a:pt x="76" y="25"/>
                </a:lnTo>
                <a:lnTo>
                  <a:pt x="95" y="54"/>
                </a:lnTo>
                <a:lnTo>
                  <a:pt x="99" y="67"/>
                </a:lnTo>
              </a:path>
            </a:pathLst>
          </a:custGeom>
          <a:noFill/>
          <a:ln w="144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832040" y="2263680"/>
            <a:ext cx="1440" cy="398520"/>
          </a:xfrm>
          <a:prstGeom prst="line">
            <a:avLst/>
          </a:prstGeom>
          <a:ln w="144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170240" y="2263680"/>
            <a:ext cx="1800" cy="398520"/>
          </a:xfrm>
          <a:prstGeom prst="line">
            <a:avLst/>
          </a:prstGeom>
          <a:ln w="144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832040" y="2114640"/>
            <a:ext cx="249120" cy="149040"/>
          </a:xfrm>
          <a:custGeom>
            <a:avLst/>
            <a:gdLst/>
            <a:ahLst/>
            <a:rect l="l" t="t" r="r" b="b"/>
            <a:pathLst>
              <a:path w="167" h="100">
                <a:moveTo>
                  <a:pt x="0" y="100"/>
                </a:moveTo>
                <a:lnTo>
                  <a:pt x="18" y="63"/>
                </a:lnTo>
                <a:lnTo>
                  <a:pt x="50" y="34"/>
                </a:lnTo>
                <a:lnTo>
                  <a:pt x="107" y="12"/>
                </a:lnTo>
                <a:lnTo>
                  <a:pt x="167" y="0"/>
                </a:lnTo>
              </a:path>
            </a:pathLst>
          </a:custGeom>
          <a:noFill/>
          <a:ln w="144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921120" y="2114640"/>
            <a:ext cx="249120" cy="149040"/>
          </a:xfrm>
          <a:custGeom>
            <a:avLst/>
            <a:gdLst/>
            <a:ahLst/>
            <a:rect l="l" t="t" r="r" b="b"/>
            <a:pathLst>
              <a:path w="166" h="100">
                <a:moveTo>
                  <a:pt x="166" y="100"/>
                </a:moveTo>
                <a:lnTo>
                  <a:pt x="128" y="54"/>
                </a:lnTo>
                <a:lnTo>
                  <a:pt x="83" y="26"/>
                </a:lnTo>
                <a:lnTo>
                  <a:pt x="24" y="5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052720" y="2022480"/>
            <a:ext cx="193356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100240" y="1487520"/>
            <a:ext cx="1839960" cy="522360"/>
          </a:xfrm>
          <a:custGeom>
            <a:avLst/>
            <a:gdLst/>
            <a:ahLst/>
            <a:rect l="l" t="t" r="r" b="b"/>
            <a:pathLst>
              <a:path w="1229" h="349">
                <a:moveTo>
                  <a:pt x="0" y="349"/>
                </a:moveTo>
                <a:lnTo>
                  <a:pt x="0" y="0"/>
                </a:lnTo>
                <a:lnTo>
                  <a:pt x="1229" y="200"/>
                </a:lnTo>
                <a:lnTo>
                  <a:pt x="1229" y="349"/>
                </a:lnTo>
              </a:path>
            </a:pathLst>
          </a:custGeom>
          <a:noFill/>
          <a:ln w="1440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198520" y="1512720"/>
            <a:ext cx="1800" cy="497160"/>
          </a:xfrm>
          <a:prstGeom prst="line">
            <a:avLst/>
          </a:prstGeom>
          <a:ln w="14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300400" y="1525680"/>
            <a:ext cx="3240" cy="490320"/>
          </a:xfrm>
          <a:prstGeom prst="line">
            <a:avLst/>
          </a:prstGeom>
          <a:ln w="14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97240" y="1536840"/>
            <a:ext cx="1440" cy="473040"/>
          </a:xfrm>
          <a:prstGeom prst="line">
            <a:avLst/>
          </a:prstGeom>
          <a:ln w="14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496960" y="1560600"/>
            <a:ext cx="1800" cy="449280"/>
          </a:xfrm>
          <a:prstGeom prst="line">
            <a:avLst/>
          </a:prstGeom>
          <a:ln w="14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2596680" y="1569960"/>
            <a:ext cx="1800" cy="439920"/>
          </a:xfrm>
          <a:prstGeom prst="line">
            <a:avLst/>
          </a:prstGeom>
          <a:ln w="14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838680" y="1770120"/>
            <a:ext cx="1440" cy="239760"/>
          </a:xfrm>
          <a:prstGeom prst="line">
            <a:avLst/>
          </a:prstGeom>
          <a:ln w="14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740040" y="1749600"/>
            <a:ext cx="1800" cy="260280"/>
          </a:xfrm>
          <a:prstGeom prst="line">
            <a:avLst/>
          </a:prstGeom>
          <a:ln w="14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641760" y="1735200"/>
            <a:ext cx="1440" cy="274680"/>
          </a:xfrm>
          <a:prstGeom prst="line">
            <a:avLst/>
          </a:prstGeom>
          <a:ln w="14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541680" y="1728720"/>
            <a:ext cx="1800" cy="281160"/>
          </a:xfrm>
          <a:prstGeom prst="line">
            <a:avLst/>
          </a:prstGeom>
          <a:ln w="14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441600" y="1711440"/>
            <a:ext cx="1800" cy="298440"/>
          </a:xfrm>
          <a:prstGeom prst="line">
            <a:avLst/>
          </a:prstGeom>
          <a:ln w="14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104920" y="2365200"/>
            <a:ext cx="1800" cy="54612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944880" y="2365200"/>
            <a:ext cx="1800" cy="54612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604960" y="2365200"/>
            <a:ext cx="1800" cy="19872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449520" y="2365200"/>
            <a:ext cx="1800" cy="19872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130480" y="2463840"/>
            <a:ext cx="4474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120760" y="2400480"/>
            <a:ext cx="122400" cy="125280"/>
          </a:xfrm>
          <a:custGeom>
            <a:avLst/>
            <a:gdLst/>
            <a:ahLst/>
            <a:rect l="l" t="t" r="r" b="b"/>
            <a:pathLst>
              <a:path w="82" h="83">
                <a:moveTo>
                  <a:pt x="82" y="0"/>
                </a:moveTo>
                <a:lnTo>
                  <a:pt x="0" y="42"/>
                </a:lnTo>
                <a:lnTo>
                  <a:pt x="82" y="83"/>
                </a:lnTo>
                <a:lnTo>
                  <a:pt x="82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470320" y="2400480"/>
            <a:ext cx="123480" cy="125280"/>
          </a:xfrm>
          <a:custGeom>
            <a:avLst/>
            <a:gdLst/>
            <a:ahLst/>
            <a:rect l="l" t="t" r="r" b="b"/>
            <a:pathLst>
              <a:path w="83" h="83">
                <a:moveTo>
                  <a:pt x="0" y="0"/>
                </a:moveTo>
                <a:lnTo>
                  <a:pt x="83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73280" y="2463840"/>
            <a:ext cx="4478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452760" y="2400480"/>
            <a:ext cx="123840" cy="125280"/>
          </a:xfrm>
          <a:custGeom>
            <a:avLst/>
            <a:gdLst/>
            <a:ahLst/>
            <a:rect l="l" t="t" r="r" b="b"/>
            <a:pathLst>
              <a:path w="83" h="83">
                <a:moveTo>
                  <a:pt x="83" y="0"/>
                </a:moveTo>
                <a:lnTo>
                  <a:pt x="0" y="42"/>
                </a:lnTo>
                <a:lnTo>
                  <a:pt x="83" y="83"/>
                </a:lnTo>
                <a:lnTo>
                  <a:pt x="83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817800" y="2400480"/>
            <a:ext cx="123840" cy="125280"/>
          </a:xfrm>
          <a:custGeom>
            <a:avLst/>
            <a:gdLst/>
            <a:ahLst/>
            <a:rect l="l" t="t" r="r" b="b"/>
            <a:pathLst>
              <a:path w="83" h="83">
                <a:moveTo>
                  <a:pt x="0" y="0"/>
                </a:moveTo>
                <a:lnTo>
                  <a:pt x="83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130480" y="2813040"/>
            <a:ext cx="1790640" cy="14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109960" y="2749680"/>
            <a:ext cx="123480" cy="125280"/>
          </a:xfrm>
          <a:custGeom>
            <a:avLst/>
            <a:gdLst/>
            <a:ahLst/>
            <a:rect l="l" t="t" r="r" b="b"/>
            <a:pathLst>
              <a:path w="82" h="84">
                <a:moveTo>
                  <a:pt x="82" y="0"/>
                </a:moveTo>
                <a:lnTo>
                  <a:pt x="0" y="42"/>
                </a:lnTo>
                <a:lnTo>
                  <a:pt x="82" y="84"/>
                </a:lnTo>
                <a:lnTo>
                  <a:pt x="82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807000" y="2749680"/>
            <a:ext cx="125280" cy="125280"/>
          </a:xfrm>
          <a:custGeom>
            <a:avLst/>
            <a:gdLst/>
            <a:ahLst/>
            <a:rect l="l" t="t" r="r" b="b"/>
            <a:pathLst>
              <a:path w="83" h="84">
                <a:moveTo>
                  <a:pt x="0" y="0"/>
                </a:moveTo>
                <a:lnTo>
                  <a:pt x="83" y="42"/>
                </a:lnTo>
                <a:lnTo>
                  <a:pt x="0" y="84"/>
                </a:lnTo>
                <a:lnTo>
                  <a:pt x="0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273400" y="2492280"/>
            <a:ext cx="8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b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67000" y="2579760"/>
            <a:ext cx="10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66"/>
                </a:solidFill>
                <a:latin typeface="Arial Narrow"/>
              </a:rPr>
              <a:t>e1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605040" y="2492280"/>
            <a:ext cx="8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b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695760" y="2577960"/>
            <a:ext cx="10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66"/>
                </a:solidFill>
                <a:latin typeface="Arial Narrow"/>
              </a:rPr>
              <a:t>e2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47520" y="15955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964520" y="1730520"/>
            <a:ext cx="4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985920" y="17431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109400" y="1878120"/>
            <a:ext cx="4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058920" y="2852640"/>
            <a:ext cx="7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76360" y="3130560"/>
            <a:ext cx="6465960" cy="14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849280" y="17938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c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018480" y="1787400"/>
            <a:ext cx="60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= b - 3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835240" y="20318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b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927040" y="21193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66"/>
                </a:solidFill>
                <a:latin typeface="Arial"/>
                <a:ea typeface="Arial"/>
              </a:rPr>
              <a:t>eff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034320" y="2031840"/>
            <a:ext cx="21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= 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208200" y="2000160"/>
            <a:ext cx="10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Symbol"/>
                <a:ea typeface="Symbol"/>
              </a:rPr>
              <a:t>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325560" y="20178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c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855040" y="2389320"/>
            <a:ext cx="2293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b</a:t>
            </a:r>
            <a:r>
              <a:rPr b="0" lang="en-GB" sz="15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e1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090840" y="238932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=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227640" y="2503440"/>
            <a:ext cx="373320" cy="180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237000" y="25401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5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178320" y="2243160"/>
            <a:ext cx="3895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2b</a:t>
            </a:r>
            <a:r>
              <a:rPr b="0" lang="en-GB" sz="15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eff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338160" y="252108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-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431760" y="2502000"/>
            <a:ext cx="13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Symbol"/>
                <a:ea typeface="Symbol"/>
              </a:rPr>
              <a:t>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862960" y="2765520"/>
            <a:ext cx="2293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b</a:t>
            </a:r>
            <a:r>
              <a:rPr b="0" lang="en-GB" sz="15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e2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106680" y="2765520"/>
            <a:ext cx="3942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= b</a:t>
            </a:r>
            <a:r>
              <a:rPr b="0" lang="en-GB" sz="15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eff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449400" y="2765520"/>
            <a:ext cx="3999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- b</a:t>
            </a:r>
            <a:r>
              <a:rPr b="0" lang="en-GB" sz="15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e1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104920" y="4287960"/>
            <a:ext cx="1839960" cy="1440"/>
          </a:xfrm>
          <a:prstGeom prst="line">
            <a:avLst/>
          </a:prstGeom>
          <a:ln w="144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154240" y="4438800"/>
            <a:ext cx="1743120" cy="1440"/>
          </a:xfrm>
          <a:prstGeom prst="line">
            <a:avLst/>
          </a:prstGeom>
          <a:ln w="144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006640" y="4537080"/>
            <a:ext cx="1440" cy="299880"/>
          </a:xfrm>
          <a:prstGeom prst="line">
            <a:avLst/>
          </a:prstGeom>
          <a:ln w="144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044960" y="4537080"/>
            <a:ext cx="1440" cy="299880"/>
          </a:xfrm>
          <a:prstGeom prst="line">
            <a:avLst/>
          </a:prstGeom>
          <a:ln w="144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006640" y="4438800"/>
            <a:ext cx="147600" cy="98280"/>
          </a:xfrm>
          <a:custGeom>
            <a:avLst/>
            <a:gdLst/>
            <a:ahLst/>
            <a:rect l="l" t="t" r="r" b="b"/>
            <a:pathLst>
              <a:path w="99" h="66">
                <a:moveTo>
                  <a:pt x="0" y="66"/>
                </a:moveTo>
                <a:lnTo>
                  <a:pt x="15" y="33"/>
                </a:lnTo>
                <a:lnTo>
                  <a:pt x="49" y="9"/>
                </a:lnTo>
                <a:lnTo>
                  <a:pt x="94" y="0"/>
                </a:lnTo>
                <a:lnTo>
                  <a:pt x="99" y="0"/>
                </a:lnTo>
              </a:path>
            </a:pathLst>
          </a:custGeom>
          <a:noFill/>
          <a:ln w="144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897360" y="4438800"/>
            <a:ext cx="147600" cy="98280"/>
          </a:xfrm>
          <a:custGeom>
            <a:avLst/>
            <a:gdLst/>
            <a:ahLst/>
            <a:rect l="l" t="t" r="r" b="b"/>
            <a:pathLst>
              <a:path w="99" h="66">
                <a:moveTo>
                  <a:pt x="0" y="0"/>
                </a:moveTo>
                <a:lnTo>
                  <a:pt x="43" y="5"/>
                </a:lnTo>
                <a:lnTo>
                  <a:pt x="75" y="25"/>
                </a:lnTo>
                <a:lnTo>
                  <a:pt x="95" y="54"/>
                </a:lnTo>
                <a:lnTo>
                  <a:pt x="99" y="66"/>
                </a:lnTo>
              </a:path>
            </a:pathLst>
          </a:custGeom>
          <a:noFill/>
          <a:ln w="144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859040" y="4438800"/>
            <a:ext cx="1440" cy="398160"/>
          </a:xfrm>
          <a:prstGeom prst="line">
            <a:avLst/>
          </a:prstGeom>
          <a:ln w="144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195800" y="4438800"/>
            <a:ext cx="1440" cy="398160"/>
          </a:xfrm>
          <a:prstGeom prst="line">
            <a:avLst/>
          </a:prstGeom>
          <a:ln w="144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859040" y="4287960"/>
            <a:ext cx="245880" cy="150840"/>
          </a:xfrm>
          <a:custGeom>
            <a:avLst/>
            <a:gdLst/>
            <a:ahLst/>
            <a:rect l="l" t="t" r="r" b="b"/>
            <a:pathLst>
              <a:path w="165" h="100">
                <a:moveTo>
                  <a:pt x="0" y="100"/>
                </a:moveTo>
                <a:lnTo>
                  <a:pt x="16" y="62"/>
                </a:lnTo>
                <a:lnTo>
                  <a:pt x="49" y="33"/>
                </a:lnTo>
                <a:lnTo>
                  <a:pt x="106" y="11"/>
                </a:lnTo>
                <a:lnTo>
                  <a:pt x="165" y="0"/>
                </a:lnTo>
              </a:path>
            </a:pathLst>
          </a:custGeom>
          <a:noFill/>
          <a:ln w="144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944880" y="4287960"/>
            <a:ext cx="250920" cy="150840"/>
          </a:xfrm>
          <a:custGeom>
            <a:avLst/>
            <a:gdLst/>
            <a:ahLst/>
            <a:rect l="l" t="t" r="r" b="b"/>
            <a:pathLst>
              <a:path w="167" h="100">
                <a:moveTo>
                  <a:pt x="167" y="100"/>
                </a:moveTo>
                <a:lnTo>
                  <a:pt x="130" y="54"/>
                </a:lnTo>
                <a:lnTo>
                  <a:pt x="83" y="25"/>
                </a:lnTo>
                <a:lnTo>
                  <a:pt x="26" y="5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125800" y="3925800"/>
            <a:ext cx="1838160" cy="180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125800" y="3411360"/>
            <a:ext cx="1838160" cy="812880"/>
          </a:xfrm>
          <a:custGeom>
            <a:avLst/>
            <a:gdLst/>
            <a:ahLst/>
            <a:rect l="l" t="t" r="r" b="b"/>
            <a:pathLst>
              <a:path w="1228" h="542">
                <a:moveTo>
                  <a:pt x="0" y="340"/>
                </a:moveTo>
                <a:lnTo>
                  <a:pt x="0" y="0"/>
                </a:lnTo>
                <a:lnTo>
                  <a:pt x="1228" y="542"/>
                </a:lnTo>
                <a:lnTo>
                  <a:pt x="1228" y="349"/>
                </a:lnTo>
              </a:path>
            </a:pathLst>
          </a:custGeom>
          <a:noFill/>
          <a:ln w="1440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2222640" y="3454200"/>
            <a:ext cx="1440" cy="471240"/>
          </a:xfrm>
          <a:prstGeom prst="line">
            <a:avLst/>
          </a:prstGeom>
          <a:ln w="14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2320920" y="3502080"/>
            <a:ext cx="1440" cy="412560"/>
          </a:xfrm>
          <a:prstGeom prst="line">
            <a:avLst/>
          </a:prstGeom>
          <a:ln w="14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2421000" y="3552480"/>
            <a:ext cx="0" cy="368280"/>
          </a:xfrm>
          <a:prstGeom prst="line">
            <a:avLst/>
          </a:prstGeom>
          <a:ln w="14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3865680" y="3935520"/>
            <a:ext cx="1440" cy="241200"/>
          </a:xfrm>
          <a:prstGeom prst="line">
            <a:avLst/>
          </a:prstGeom>
          <a:ln w="14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3765600" y="3935160"/>
            <a:ext cx="1440" cy="190440"/>
          </a:xfrm>
          <a:prstGeom prst="line">
            <a:avLst/>
          </a:prstGeom>
          <a:ln w="14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3666960" y="3935520"/>
            <a:ext cx="1800" cy="163440"/>
          </a:xfrm>
          <a:prstGeom prst="line">
            <a:avLst/>
          </a:prstGeom>
          <a:ln w="14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3565440" y="3935520"/>
            <a:ext cx="1800" cy="115920"/>
          </a:xfrm>
          <a:prstGeom prst="line">
            <a:avLst/>
          </a:prstGeom>
          <a:ln w="14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3467160" y="3935160"/>
            <a:ext cx="1440" cy="65160"/>
          </a:xfrm>
          <a:prstGeom prst="line">
            <a:avLst/>
          </a:prstGeom>
          <a:ln w="14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130480" y="4537080"/>
            <a:ext cx="1440" cy="54756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963960" y="4897440"/>
            <a:ext cx="1440" cy="17316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527200" y="4537080"/>
            <a:ext cx="1800" cy="20016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876400" y="4537080"/>
            <a:ext cx="1800" cy="20016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5160" y="4648320"/>
            <a:ext cx="387360" cy="14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135160" y="4586400"/>
            <a:ext cx="125280" cy="125280"/>
          </a:xfrm>
          <a:custGeom>
            <a:avLst/>
            <a:gdLst/>
            <a:ahLst/>
            <a:rect l="l" t="t" r="r" b="b"/>
            <a:pathLst>
              <a:path w="83" h="83">
                <a:moveTo>
                  <a:pt x="83" y="0"/>
                </a:moveTo>
                <a:lnTo>
                  <a:pt x="0" y="41"/>
                </a:lnTo>
                <a:lnTo>
                  <a:pt x="83" y="83"/>
                </a:lnTo>
                <a:lnTo>
                  <a:pt x="83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397240" y="4586400"/>
            <a:ext cx="125280" cy="125280"/>
          </a:xfrm>
          <a:custGeom>
            <a:avLst/>
            <a:gdLst/>
            <a:ahLst/>
            <a:rect l="l" t="t" r="r" b="b"/>
            <a:pathLst>
              <a:path w="83" h="83">
                <a:moveTo>
                  <a:pt x="0" y="0"/>
                </a:moveTo>
                <a:lnTo>
                  <a:pt x="83" y="41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895480" y="4648320"/>
            <a:ext cx="398520" cy="14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895480" y="4586400"/>
            <a:ext cx="123840" cy="125280"/>
          </a:xfrm>
          <a:custGeom>
            <a:avLst/>
            <a:gdLst/>
            <a:ahLst/>
            <a:rect l="l" t="t" r="r" b="b"/>
            <a:pathLst>
              <a:path w="83" h="83">
                <a:moveTo>
                  <a:pt x="83" y="0"/>
                </a:moveTo>
                <a:lnTo>
                  <a:pt x="0" y="41"/>
                </a:lnTo>
                <a:lnTo>
                  <a:pt x="83" y="83"/>
                </a:lnTo>
                <a:lnTo>
                  <a:pt x="83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166920" y="4586400"/>
            <a:ext cx="127080" cy="125280"/>
          </a:xfrm>
          <a:custGeom>
            <a:avLst/>
            <a:gdLst/>
            <a:ahLst/>
            <a:rect l="l" t="t" r="r" b="b"/>
            <a:pathLst>
              <a:path w="84" h="83">
                <a:moveTo>
                  <a:pt x="0" y="0"/>
                </a:moveTo>
                <a:lnTo>
                  <a:pt x="84" y="41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154240" y="4986360"/>
            <a:ext cx="1790640" cy="14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139840" y="4924440"/>
            <a:ext cx="123840" cy="123840"/>
          </a:xfrm>
          <a:custGeom>
            <a:avLst/>
            <a:gdLst/>
            <a:ahLst/>
            <a:rect l="l" t="t" r="r" b="b"/>
            <a:pathLst>
              <a:path w="83" h="83">
                <a:moveTo>
                  <a:pt x="83" y="0"/>
                </a:moveTo>
                <a:lnTo>
                  <a:pt x="0" y="42"/>
                </a:lnTo>
                <a:lnTo>
                  <a:pt x="83" y="83"/>
                </a:lnTo>
                <a:lnTo>
                  <a:pt x="83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835440" y="4924440"/>
            <a:ext cx="127080" cy="123840"/>
          </a:xfrm>
          <a:custGeom>
            <a:avLst/>
            <a:gdLst/>
            <a:ahLst/>
            <a:rect l="l" t="t" r="r" b="b"/>
            <a:pathLst>
              <a:path w="84" h="83">
                <a:moveTo>
                  <a:pt x="0" y="0"/>
                </a:moveTo>
                <a:lnTo>
                  <a:pt x="84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273400" y="4691160"/>
            <a:ext cx="8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b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367000" y="4776840"/>
            <a:ext cx="10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66"/>
                </a:solidFill>
                <a:latin typeface="Arial Narrow"/>
              </a:rPr>
              <a:t>e1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046320" y="4691160"/>
            <a:ext cx="8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b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138480" y="4776840"/>
            <a:ext cx="10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66"/>
                </a:solidFill>
                <a:latin typeface="Arial Narrow"/>
              </a:rPr>
              <a:t>e2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895040" y="35672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15280" y="3701880"/>
            <a:ext cx="4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009680" y="39416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133160" y="4076640"/>
            <a:ext cx="4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058920" y="5013360"/>
            <a:ext cx="7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166920" y="3876840"/>
            <a:ext cx="1800" cy="48960"/>
          </a:xfrm>
          <a:prstGeom prst="line">
            <a:avLst/>
          </a:prstGeom>
          <a:ln w="14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3069720" y="3830760"/>
            <a:ext cx="1800" cy="95040"/>
          </a:xfrm>
          <a:prstGeom prst="line">
            <a:avLst/>
          </a:prstGeom>
          <a:ln w="14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2971800" y="3797280"/>
            <a:ext cx="1440" cy="130320"/>
          </a:xfrm>
          <a:prstGeom prst="line">
            <a:avLst/>
          </a:prstGeom>
          <a:ln w="14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871720" y="3753000"/>
            <a:ext cx="1800" cy="172800"/>
          </a:xfrm>
          <a:prstGeom prst="line">
            <a:avLst/>
          </a:prstGeom>
          <a:ln w="14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125800" y="3254400"/>
            <a:ext cx="1440" cy="10008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94000" y="3254400"/>
            <a:ext cx="1800" cy="10008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963960" y="3254400"/>
            <a:ext cx="1440" cy="10008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125800" y="3301920"/>
            <a:ext cx="1168200" cy="180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125800" y="3243240"/>
            <a:ext cx="123840" cy="122400"/>
          </a:xfrm>
          <a:custGeom>
            <a:avLst/>
            <a:gdLst/>
            <a:ahLst/>
            <a:rect l="l" t="t" r="r" b="b"/>
            <a:pathLst>
              <a:path w="83" h="82">
                <a:moveTo>
                  <a:pt x="83" y="0"/>
                </a:moveTo>
                <a:lnTo>
                  <a:pt x="0" y="40"/>
                </a:lnTo>
                <a:lnTo>
                  <a:pt x="83" y="82"/>
                </a:lnTo>
                <a:lnTo>
                  <a:pt x="83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166920" y="3243240"/>
            <a:ext cx="127080" cy="122400"/>
          </a:xfrm>
          <a:custGeom>
            <a:avLst/>
            <a:gdLst/>
            <a:ahLst/>
            <a:rect l="l" t="t" r="r" b="b"/>
            <a:pathLst>
              <a:path w="84" h="82">
                <a:moveTo>
                  <a:pt x="0" y="0"/>
                </a:moveTo>
                <a:lnTo>
                  <a:pt x="84" y="40"/>
                </a:lnTo>
                <a:lnTo>
                  <a:pt x="0" y="82"/>
                </a:lnTo>
                <a:lnTo>
                  <a:pt x="0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294000" y="3301920"/>
            <a:ext cx="669960" cy="180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294000" y="3243240"/>
            <a:ext cx="123840" cy="122400"/>
          </a:xfrm>
          <a:custGeom>
            <a:avLst/>
            <a:gdLst/>
            <a:ahLst/>
            <a:rect l="l" t="t" r="r" b="b"/>
            <a:pathLst>
              <a:path w="83" h="82">
                <a:moveTo>
                  <a:pt x="83" y="0"/>
                </a:moveTo>
                <a:lnTo>
                  <a:pt x="0" y="40"/>
                </a:lnTo>
                <a:lnTo>
                  <a:pt x="83" y="82"/>
                </a:lnTo>
                <a:lnTo>
                  <a:pt x="83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840120" y="3243240"/>
            <a:ext cx="123840" cy="122400"/>
          </a:xfrm>
          <a:custGeom>
            <a:avLst/>
            <a:gdLst/>
            <a:ahLst/>
            <a:rect l="l" t="t" r="r" b="b"/>
            <a:pathLst>
              <a:path w="83" h="82">
                <a:moveTo>
                  <a:pt x="0" y="0"/>
                </a:moveTo>
                <a:lnTo>
                  <a:pt x="83" y="40"/>
                </a:lnTo>
                <a:lnTo>
                  <a:pt x="0" y="82"/>
                </a:lnTo>
                <a:lnTo>
                  <a:pt x="0" y="0"/>
                </a:lnTo>
                <a:close/>
              </a:path>
            </a:pathLst>
          </a:custGeom>
          <a:solidFill>
            <a:srgbClr val="000066"/>
          </a:solidFill>
          <a:ln w="144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640960" y="33098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735280" y="3395520"/>
            <a:ext cx="5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598200" y="33098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690720" y="33973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294000" y="4548240"/>
            <a:ext cx="1800" cy="19836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76360" y="5294160"/>
            <a:ext cx="6465960" cy="180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974560" y="38084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c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142320" y="3803760"/>
            <a:ext cx="60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= b - 3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561280" y="4056120"/>
            <a:ext cx="2293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b</a:t>
            </a:r>
            <a:r>
              <a:rPr b="0" i="1" lang="en-GB" sz="15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eff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050520" y="4056120"/>
            <a:ext cx="1620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b</a:t>
            </a:r>
            <a:r>
              <a:rPr b="0" i="1" lang="en-GB" sz="15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c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65240" y="40561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c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811480" y="404028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=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224400" y="404028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=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813000" y="404028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-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924160" y="4019400"/>
            <a:ext cx="10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Symbol"/>
                <a:ea typeface="Symbol"/>
              </a:rPr>
              <a:t>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338520" y="4019400"/>
            <a:ext cx="10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66"/>
                </a:solidFill>
                <a:latin typeface="Symbol"/>
                <a:ea typeface="Symbol"/>
              </a:rPr>
              <a:t>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893640" y="4019400"/>
            <a:ext cx="13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Symbol"/>
                <a:ea typeface="Symbol"/>
              </a:rPr>
              <a:t>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581160" y="405612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/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665400" y="40561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(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7073280" y="405612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)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711480" y="4056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988240" y="4334040"/>
            <a:ext cx="2293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b</a:t>
            </a:r>
            <a:r>
              <a:rPr b="0" lang="en-GB" sz="15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e1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231600" y="4334040"/>
            <a:ext cx="6606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= 0,4b</a:t>
            </a:r>
            <a:r>
              <a:rPr b="0" lang="en-GB" sz="15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eff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988240" y="4579920"/>
            <a:ext cx="2293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b</a:t>
            </a:r>
            <a:r>
              <a:rPr b="0" lang="en-GB" sz="15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e2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224760" y="4579920"/>
            <a:ext cx="6746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"/>
                <a:ea typeface="Arial"/>
              </a:rPr>
              <a:t>= 0,6b</a:t>
            </a:r>
            <a:r>
              <a:rPr b="0" lang="en-GB" sz="15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eff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585800" y="5321160"/>
            <a:ext cx="1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Symbol"/>
                <a:ea typeface="Symbol"/>
              </a:rPr>
              <a:t>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904760" y="53211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199960" y="53211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771560" y="5338800"/>
            <a:ext cx="86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 Narrow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031120" y="5454720"/>
            <a:ext cx="4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321640" y="5454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Symbol"/>
                <a:ea typeface="Symbol"/>
              </a:rPr>
              <a:t>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131200" y="53578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Symbol"/>
                <a:ea typeface="Symbol"/>
              </a:rPr>
              <a:t>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476360" y="5592600"/>
            <a:ext cx="6465960" cy="180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659600" y="5691240"/>
            <a:ext cx="59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Buckling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656720" y="5889600"/>
            <a:ext cx="558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factor  k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195280" y="598500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476360" y="6122880"/>
            <a:ext cx="6465960" cy="180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522520" y="5294160"/>
            <a:ext cx="1440" cy="82872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705040" y="5361120"/>
            <a:ext cx="8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1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647440" y="5765760"/>
            <a:ext cx="21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4,0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995560" y="5294160"/>
            <a:ext cx="1800" cy="82872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184560" y="5343480"/>
            <a:ext cx="8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1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743280" y="5343480"/>
            <a:ext cx="8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0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295080" y="5322960"/>
            <a:ext cx="9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&gt;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601440" y="5322960"/>
            <a:ext cx="9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&gt;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417120" y="5303880"/>
            <a:ext cx="13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Symbol"/>
                <a:ea typeface="Symbol"/>
              </a:rPr>
              <a:t>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219480" y="5864400"/>
            <a:ext cx="563400" cy="14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398760" y="5657760"/>
            <a:ext cx="8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8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521160" y="5657760"/>
            <a:ext cx="8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2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219480" y="5897520"/>
            <a:ext cx="8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1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335400" y="5897520"/>
            <a:ext cx="17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05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481920" y="5657760"/>
            <a:ext cx="4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,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297600" y="5897520"/>
            <a:ext cx="4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,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521880" y="5878440"/>
            <a:ext cx="9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+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634560" y="5857920"/>
            <a:ext cx="13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Symbol"/>
                <a:ea typeface="Symbol"/>
              </a:rPr>
              <a:t>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040280" y="5294160"/>
            <a:ext cx="1440" cy="82872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276800" y="5343480"/>
            <a:ext cx="8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0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167000" y="5761080"/>
            <a:ext cx="30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7,81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935600" y="5343480"/>
            <a:ext cx="8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0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597640" y="5343480"/>
            <a:ext cx="8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1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056920" y="5322960"/>
            <a:ext cx="9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&gt;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365080" y="5322960"/>
            <a:ext cx="9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&gt;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506920" y="5322960"/>
            <a:ext cx="52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-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180760" y="5303880"/>
            <a:ext cx="13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Symbol"/>
                <a:ea typeface="Symbol"/>
              </a:rPr>
              <a:t>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662360" y="5783400"/>
            <a:ext cx="8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7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788000" y="5783400"/>
            <a:ext cx="17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81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102280" y="5783400"/>
            <a:ext cx="8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6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224320" y="5783400"/>
            <a:ext cx="17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92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686560" y="5783400"/>
            <a:ext cx="8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9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813280" y="5783400"/>
            <a:ext cx="17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78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149880" y="5770440"/>
            <a:ext cx="52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66"/>
                </a:solidFill>
                <a:latin typeface="Arial Narrow"/>
              </a:rPr>
              <a:t>2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753440" y="5783400"/>
            <a:ext cx="4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,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185440" y="5783400"/>
            <a:ext cx="4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,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772600" y="5783400"/>
            <a:ext cx="4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,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971960" y="5764320"/>
            <a:ext cx="52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-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554080" y="5764320"/>
            <a:ext cx="9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+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379480" y="5742000"/>
            <a:ext cx="13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Symbol"/>
                <a:ea typeface="Symbol"/>
              </a:rPr>
              <a:t>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5981040" y="5751360"/>
            <a:ext cx="13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Symbol"/>
                <a:ea typeface="Symbol"/>
              </a:rPr>
              <a:t>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278400" y="5294160"/>
            <a:ext cx="0" cy="82872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411960" y="5351400"/>
            <a:ext cx="13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-1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337080" y="5770440"/>
            <a:ext cx="30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23,9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726240" y="5294160"/>
            <a:ext cx="1440" cy="82872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923160" y="5322960"/>
            <a:ext cx="52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-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128720" y="5322960"/>
            <a:ext cx="9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&gt;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433640" y="5322960"/>
            <a:ext cx="9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&gt;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7572240" y="5322960"/>
            <a:ext cx="52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-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015320" y="5330880"/>
            <a:ext cx="8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1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662960" y="5330880"/>
            <a:ext cx="8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2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251120" y="5303880"/>
            <a:ext cx="13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Symbol"/>
                <a:ea typeface="Symbol"/>
              </a:rPr>
              <a:t>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907320" y="5759280"/>
            <a:ext cx="8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5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024680" y="5759280"/>
            <a:ext cx="17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98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272360" y="5759280"/>
            <a:ext cx="8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1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689960" y="5742000"/>
            <a:ext cx="52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66"/>
                </a:solidFill>
                <a:latin typeface="Arial Narrow"/>
              </a:rPr>
              <a:t>2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982200" y="5759280"/>
            <a:ext cx="4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,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7224840" y="5759280"/>
            <a:ext cx="52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(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7631280" y="5759280"/>
            <a:ext cx="52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)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7372440" y="5738760"/>
            <a:ext cx="52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Arial Narrow"/>
              </a:rPr>
              <a:t>-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431840" y="5726160"/>
            <a:ext cx="13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Symbol"/>
                <a:ea typeface="Symbol"/>
              </a:rPr>
              <a:t>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522520" y="3602160"/>
            <a:ext cx="1440" cy="323640"/>
          </a:xfrm>
          <a:prstGeom prst="line">
            <a:avLst/>
          </a:prstGeom>
          <a:ln w="14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5580000" y="148428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07" name=""/>
          <p:cNvGraphicFramePr/>
          <p:nvPr/>
        </p:nvGraphicFramePr>
        <p:xfrm>
          <a:off x="5740560" y="3213000"/>
          <a:ext cx="1063440" cy="2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0560" y="3213000"/>
                    <a:ext cx="1063440" cy="2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9" name=""/>
          <p:cNvSpPr/>
          <p:nvPr/>
        </p:nvSpPr>
        <p:spPr>
          <a:xfrm>
            <a:off x="179280" y="342900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c,eff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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b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e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59B38-CE77-4950-A153-BF6C9BDA5A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oncluding remarks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ructural section = Assembly of plate elemen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or RHS plate elements are only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internal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pression plate elements may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buckl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locally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ocal buckling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limits the carrying capacity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f the section by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preventing attainment of yiel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strength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ocal buckling is avoided by limiting the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width to thickness ratio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f compression plate elements within the cross sectio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1D7F-5305-4705-8483-8CF8A7A52D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oncluding remarks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C3 defines four classes of cross sectio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ocal plate buckling is likely to affect both resistance and rotation capacity of sections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ction class is given as the worst class of compression elemen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lass of compression plate element depends upon the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slendernes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f the element and the compressive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stress distribution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04AA-E350-4D26-965F-D37A75EC78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Basis of section classification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Rectangular (RHS) and circular (CHS) hollow sectio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508720" y="3230640"/>
            <a:ext cx="2295360" cy="1589040"/>
            <a:chOff x="5508720" y="3230640"/>
            <a:chExt cx="2295360" cy="1589040"/>
          </a:xfrm>
        </p:grpSpPr>
        <p:grpSp>
          <p:nvGrpSpPr>
            <p:cNvPr id="151" name=""/>
            <p:cNvGrpSpPr/>
            <p:nvPr/>
          </p:nvGrpSpPr>
          <p:grpSpPr>
            <a:xfrm>
              <a:off x="5508720" y="3255840"/>
              <a:ext cx="1417680" cy="1546200"/>
              <a:chOff x="5508720" y="3255840"/>
              <a:chExt cx="1417680" cy="1546200"/>
            </a:xfrm>
          </p:grpSpPr>
          <p:sp>
            <p:nvSpPr>
              <p:cNvPr id="152" name=""/>
              <p:cNvSpPr/>
              <p:nvPr/>
            </p:nvSpPr>
            <p:spPr>
              <a:xfrm>
                <a:off x="5508720" y="3255840"/>
                <a:ext cx="1417680" cy="1546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60200" y="3312720"/>
                <a:ext cx="1319040" cy="143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6203880" y="3259080"/>
              <a:ext cx="1517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37360" y="4798800"/>
              <a:ext cx="1517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50280" y="3230640"/>
              <a:ext cx="0" cy="15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97640" y="4002120"/>
              <a:ext cx="38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6926400" y="3997080"/>
              <a:ext cx="25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04040" y="3768480"/>
              <a:ext cx="50004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66"/>
                  </a:solidFill>
                  <a:latin typeface="Arial Narrow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27880" y="3665520"/>
              <a:ext cx="48744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66"/>
                  </a:solidFill>
                  <a:latin typeface="Arial Narrow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258920" y="2583000"/>
            <a:ext cx="2894040" cy="2595600"/>
            <a:chOff x="1258920" y="2583000"/>
            <a:chExt cx="2894040" cy="2595600"/>
          </a:xfrm>
        </p:grpSpPr>
        <p:grpSp>
          <p:nvGrpSpPr>
            <p:cNvPr id="162" name=""/>
            <p:cNvGrpSpPr/>
            <p:nvPr/>
          </p:nvGrpSpPr>
          <p:grpSpPr>
            <a:xfrm>
              <a:off x="1258920" y="2583000"/>
              <a:ext cx="2894040" cy="2595600"/>
              <a:chOff x="1258920" y="2583000"/>
              <a:chExt cx="2894040" cy="259560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2631960" y="2583000"/>
                <a:ext cx="1521000" cy="2595600"/>
                <a:chOff x="2631960" y="2583000"/>
                <a:chExt cx="1521000" cy="2595600"/>
              </a:xfrm>
            </p:grpSpPr>
            <p:grpSp>
              <p:nvGrpSpPr>
                <p:cNvPr id="164" name=""/>
                <p:cNvGrpSpPr/>
                <p:nvPr/>
              </p:nvGrpSpPr>
              <p:grpSpPr>
                <a:xfrm>
                  <a:off x="2631960" y="2867400"/>
                  <a:ext cx="1457280" cy="2311200"/>
                  <a:chOff x="2631960" y="2867400"/>
                  <a:chExt cx="1457280" cy="2311200"/>
                </a:xfrm>
              </p:grpSpPr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633760" y="3191040"/>
                    <a:ext cx="885600" cy="1987560"/>
                    <a:chOff x="2633760" y="3191040"/>
                    <a:chExt cx="885600" cy="19875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874240" y="3264840"/>
                      <a:ext cx="214920" cy="271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2633760" y="3191040"/>
                      <a:ext cx="885600" cy="1987560"/>
                    </a:xfrm>
                    <a:custGeom>
                      <a:avLst/>
                      <a:gdLst>
                        <a:gd name="textAreaLeft" fmla="*/ 43200 w 885600"/>
                        <a:gd name="textAreaRight" fmla="*/ 842400 w 885600"/>
                        <a:gd name="textAreaTop" fmla="*/ 43200 h 1987560"/>
                        <a:gd name="textAreaBottom" fmla="*/ 1944360 h 1987560"/>
                      </a:gdLst>
                      <a:ahLst/>
                      <a:rect l="textAreaLeft" t="textAreaTop" r="textAreaRight" b="textAreaBottom"/>
                      <a:pathLst>
                        <a:path w="21600" h="4846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4866"/>
                          </a:lnTo>
                          <a:arcTo wR="3600" hR="3600" stAng="10800000" swAng="-5400000"/>
                          <a:lnTo>
                            <a:pt x="18000" y="4846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2702520" y="3264120"/>
                      <a:ext cx="754200" cy="1825920"/>
                    </a:xfrm>
                    <a:custGeom>
                      <a:avLst/>
                      <a:gdLst>
                        <a:gd name="textAreaLeft" fmla="*/ 36720 w 754200"/>
                        <a:gd name="textAreaRight" fmla="*/ 717480 w 754200"/>
                        <a:gd name="textAreaTop" fmla="*/ 36720 h 1825920"/>
                        <a:gd name="textAreaBottom" fmla="*/ 1789200 h 1825920"/>
                      </a:gdLst>
                      <a:ahLst/>
                      <a:rect l="textAreaLeft" t="textAreaTop" r="textAreaRight" b="textAreaBottom"/>
                      <a:pathLst>
                        <a:path w="21600" h="52279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8679"/>
                          </a:lnTo>
                          <a:arcTo wR="3600" hR="3600" stAng="10800000" swAng="-5400000"/>
                          <a:lnTo>
                            <a:pt x="18000" y="52279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9" name=""/>
                  <p:cNvSpPr/>
                  <p:nvPr/>
                </p:nvSpPr>
                <p:spPr>
                  <a:xfrm>
                    <a:off x="3089160" y="3197520"/>
                    <a:ext cx="100008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3086280" y="5169240"/>
                    <a:ext cx="100008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960720" y="3197520"/>
                    <a:ext cx="0" cy="195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lg" type="triangle" w="lg"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H="1">
                    <a:off x="2638440" y="2883240"/>
                    <a:ext cx="14400" cy="71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>
                    <a:off x="3516120" y="2867400"/>
                    <a:ext cx="14040" cy="71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2631960" y="2911680"/>
                    <a:ext cx="8859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lg" type="triangle" w="lg"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" name=""/>
                <p:cNvSpPr/>
                <p:nvPr/>
              </p:nvSpPr>
              <p:spPr>
                <a:xfrm>
                  <a:off x="3638520" y="3978720"/>
                  <a:ext cx="5144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BE" sz="1800" spc="-1" strike="noStrike">
                      <a:solidFill>
                        <a:srgbClr val="000066"/>
                      </a:solidFill>
                      <a:latin typeface="Arial Narrow"/>
                    </a:rPr>
                    <a:t>h</a:t>
                  </a: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987640" y="2583000"/>
                  <a:ext cx="685800" cy="67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BE" sz="1800" spc="-1" strike="noStrike">
                      <a:solidFill>
                        <a:srgbClr val="000066"/>
                      </a:solidFill>
                      <a:latin typeface="Arial Narrow"/>
                    </a:rPr>
                    <a:t>b</a:t>
                  </a: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1258920" y="4137480"/>
                <a:ext cx="1415880" cy="401400"/>
              </a:xfrm>
              <a:custGeom>
                <a:avLst/>
                <a:gdLst/>
                <a:ahLst/>
                <a:rect l="l" t="t" r="r" b="b"/>
                <a:pathLst>
                  <a:path w="1485" h="420">
                    <a:moveTo>
                      <a:pt x="1485" y="0"/>
                    </a:moveTo>
                    <a:lnTo>
                      <a:pt x="825" y="420"/>
                    </a:lnTo>
                    <a:lnTo>
                      <a:pt x="0" y="42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16040" y="3279960"/>
                <a:ext cx="1414440" cy="400320"/>
              </a:xfrm>
              <a:custGeom>
                <a:avLst/>
                <a:gdLst/>
                <a:ahLst/>
                <a:rect l="l" t="t" r="r" b="b"/>
                <a:pathLst>
                  <a:path w="1485" h="420">
                    <a:moveTo>
                      <a:pt x="1485" y="0"/>
                    </a:moveTo>
                    <a:lnTo>
                      <a:pt x="825" y="420"/>
                    </a:lnTo>
                    <a:lnTo>
                      <a:pt x="0" y="42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58880" y="3322800"/>
                <a:ext cx="959040" cy="37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2000" spc="-1" strike="noStrike">
                    <a:solidFill>
                      <a:srgbClr val="000066"/>
                    </a:solidFill>
                    <a:latin typeface="Arial Narrow"/>
                  </a:rPr>
                  <a:t>Flange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28760" y="4208760"/>
                <a:ext cx="95868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2000" spc="-1" strike="noStrike">
                    <a:solidFill>
                      <a:srgbClr val="000066"/>
                    </a:solidFill>
                    <a:latin typeface="Arial Narrow"/>
                  </a:rPr>
                  <a:t>Web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2259000" y="4672440"/>
              <a:ext cx="38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687760" y="4667400"/>
              <a:ext cx="25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4335840"/>
              <a:ext cx="48744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66"/>
                  </a:solidFill>
                  <a:latin typeface="Arial Narrow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90F0-9E71-4CB7-923A-F958899A69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Basis of section classification (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352800" indent="-35280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in plate element totally or partially compressed (compression plate element) is prone to buckle.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800" indent="-35280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ocal plate buckling influences adversely the load carrying capacity of the section by preventing the attainment of yield strength.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800" indent="-35280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late buckling may be avoided by limiting the width-to-thickness ratio of compression plate elements within the cross section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5445000"/>
            <a:ext cx="8785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This is the basis of the section classification approach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C20F-C949-4442-8FAD-EC8E4B4712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ross-section classification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7840" indent="-447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dentify how much resistance and rotation capacity of a section are affected by local plate buckling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cedur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ist the compression plate elements within the cross sec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lassify separately each of these compression element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lass of cross sectio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given as the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orst class of the compression plate element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ow to classify a compression plate element 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13D5-33DB-4CE9-BCB6-BACD69A691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ross-section classification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4160" indent="-434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lass of a compression element depends on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41760" indent="-3351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lenderness measured by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depth-to-thickness ratio </a:t>
            </a:r>
            <a:r>
              <a:rPr b="0" i="1" lang="en-GB" sz="2400" spc="-1" strike="noStrike">
                <a:solidFill>
                  <a:srgbClr val="cc3300"/>
                </a:solidFill>
                <a:latin typeface="Arial"/>
              </a:rPr>
              <a:t>b/t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41760" indent="-3351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irect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tress distributio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Not intrinsic plate element propert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4160" indent="-434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C3 defines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4 classe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f compression elements, basically defined in terms of performance requirements for rotation capacity and resistance to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bending momen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34160" indent="-434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nly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2 classe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are required for resistance to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xial compression.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4739-7DF1-45DA-8F8D-A51B9E0309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lass 1 cross-sections (bending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716360" y="2879640"/>
            <a:ext cx="4228920" cy="3185280"/>
            <a:chOff x="4716360" y="2879640"/>
            <a:chExt cx="4228920" cy="3185280"/>
          </a:xfrm>
        </p:grpSpPr>
        <p:sp>
          <p:nvSpPr>
            <p:cNvPr id="193" name=""/>
            <p:cNvSpPr/>
            <p:nvPr/>
          </p:nvSpPr>
          <p:spPr>
            <a:xfrm>
              <a:off x="7947000" y="4097160"/>
              <a:ext cx="1440" cy="1328760"/>
            </a:xfrm>
            <a:prstGeom prst="line">
              <a:avLst/>
            </a:prstGeom>
            <a:ln w="1908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43680" y="4097160"/>
              <a:ext cx="1904760" cy="0"/>
            </a:xfrm>
            <a:prstGeom prst="line">
              <a:avLst/>
            </a:prstGeom>
            <a:ln w="1908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11720" y="3100320"/>
              <a:ext cx="3233880" cy="2325600"/>
            </a:xfrm>
            <a:custGeom>
              <a:avLst/>
              <a:gdLst/>
              <a:ahLst/>
              <a:rect l="l" t="t" r="r" b="b"/>
              <a:pathLst>
                <a:path w="2853" h="2051">
                  <a:moveTo>
                    <a:pt x="0" y="0"/>
                  </a:moveTo>
                  <a:lnTo>
                    <a:pt x="0" y="2051"/>
                  </a:lnTo>
                  <a:lnTo>
                    <a:pt x="2853" y="2051"/>
                  </a:lnTo>
                </a:path>
              </a:pathLst>
            </a:custGeom>
            <a:noFill/>
            <a:ln w="3168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11720" y="4097160"/>
              <a:ext cx="828720" cy="0"/>
            </a:xfrm>
            <a:prstGeom prst="line">
              <a:avLst/>
            </a:prstGeom>
            <a:ln w="1908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40440" y="4097160"/>
              <a:ext cx="1440" cy="1328760"/>
            </a:xfrm>
            <a:prstGeom prst="line">
              <a:avLst/>
            </a:prstGeom>
            <a:ln w="1908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72040" y="4030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04080" y="5484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35640" y="2879640"/>
              <a:ext cx="34574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Sufficient plastic rotation capacity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for plastic mechanism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11720" y="3562200"/>
              <a:ext cx="2986200" cy="1863720"/>
            </a:xfrm>
            <a:custGeom>
              <a:avLst/>
              <a:gdLst/>
              <a:ahLst/>
              <a:rect l="l" t="t" r="r" b="b"/>
              <a:pathLst>
                <a:path w="2634" h="1643">
                  <a:moveTo>
                    <a:pt x="0" y="1643"/>
                  </a:moveTo>
                  <a:lnTo>
                    <a:pt x="382" y="970"/>
                  </a:lnTo>
                  <a:lnTo>
                    <a:pt x="614" y="616"/>
                  </a:lnTo>
                  <a:lnTo>
                    <a:pt x="812" y="387"/>
                  </a:lnTo>
                  <a:lnTo>
                    <a:pt x="993" y="221"/>
                  </a:lnTo>
                  <a:lnTo>
                    <a:pt x="1179" y="99"/>
                  </a:lnTo>
                  <a:lnTo>
                    <a:pt x="1336" y="33"/>
                  </a:lnTo>
                  <a:lnTo>
                    <a:pt x="1494" y="0"/>
                  </a:lnTo>
                  <a:lnTo>
                    <a:pt x="1652" y="0"/>
                  </a:lnTo>
                  <a:lnTo>
                    <a:pt x="1810" y="33"/>
                  </a:lnTo>
                  <a:lnTo>
                    <a:pt x="2021" y="130"/>
                  </a:lnTo>
                  <a:lnTo>
                    <a:pt x="2232" y="285"/>
                  </a:lnTo>
                  <a:lnTo>
                    <a:pt x="2413" y="471"/>
                  </a:lnTo>
                  <a:lnTo>
                    <a:pt x="2634" y="654"/>
                  </a:lnTo>
                </a:path>
              </a:pathLst>
            </a:custGeom>
            <a:noFill/>
            <a:ln w="316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4716360" y="2979720"/>
              <a:ext cx="412920" cy="594720"/>
              <a:chOff x="4716360" y="2979720"/>
              <a:chExt cx="412920" cy="59472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4787280" y="2979720"/>
                <a:ext cx="293400" cy="594720"/>
                <a:chOff x="4787280" y="2979720"/>
                <a:chExt cx="293400" cy="59472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814640" y="2979720"/>
                  <a:ext cx="1911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66"/>
                      </a:solidFill>
                      <a:latin typeface="Arial"/>
                    </a:rPr>
                    <a:t>M</a:t>
                  </a: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787280" y="3262320"/>
                  <a:ext cx="293400" cy="31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66"/>
                      </a:solidFill>
                      <a:latin typeface="Arial"/>
                    </a:rPr>
                    <a:t>M</a:t>
                  </a:r>
                  <a:r>
                    <a:rPr b="0" lang="en-GB" sz="1800" spc="-1" strike="noStrike" baseline="-25000">
                      <a:solidFill>
                        <a:srgbClr val="000066"/>
                      </a:solidFill>
                      <a:latin typeface="Arial"/>
                    </a:rPr>
                    <a:t>pl</a:t>
                  </a: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4716360" y="3268800"/>
                <a:ext cx="41292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8532720" y="5237280"/>
              <a:ext cx="412560" cy="605520"/>
              <a:chOff x="8532720" y="5237280"/>
              <a:chExt cx="412560" cy="605520"/>
            </a:xfrm>
          </p:grpSpPr>
          <p:sp>
            <p:nvSpPr>
              <p:cNvPr id="208" name=""/>
              <p:cNvSpPr/>
              <p:nvPr/>
            </p:nvSpPr>
            <p:spPr>
              <a:xfrm>
                <a:off x="8685000" y="5237280"/>
                <a:ext cx="119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634960" y="5530680"/>
                <a:ext cx="22176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</a:t>
                </a:r>
                <a:r>
                  <a:rPr b="0" lang="en-GB" sz="1800" spc="-1" strike="noStrike" baseline="-25000">
                    <a:solidFill>
                      <a:srgbClr val="000066"/>
                    </a:solidFill>
                    <a:latin typeface="Arial"/>
                  </a:rPr>
                  <a:t>pl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532720" y="5538600"/>
                <a:ext cx="41256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7756560" y="5438880"/>
              <a:ext cx="415800" cy="612000"/>
              <a:chOff x="7756560" y="5438880"/>
              <a:chExt cx="415800" cy="612000"/>
            </a:xfrm>
          </p:grpSpPr>
          <p:sp>
            <p:nvSpPr>
              <p:cNvPr id="212" name=""/>
              <p:cNvSpPr/>
              <p:nvPr/>
            </p:nvSpPr>
            <p:spPr>
              <a:xfrm>
                <a:off x="7815600" y="5438880"/>
                <a:ext cx="27360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99cc00"/>
                    </a:solidFill>
                    <a:latin typeface="Symbol"/>
                    <a:ea typeface="Symbol"/>
                  </a:rPr>
                  <a:t></a:t>
                </a:r>
                <a:r>
                  <a:rPr b="0" lang="en-GB" sz="1800" spc="-1" strike="noStrike" baseline="-25000">
                    <a:solidFill>
                      <a:srgbClr val="99cc00"/>
                    </a:solidFill>
                    <a:latin typeface="Arial"/>
                  </a:rPr>
                  <a:t>rot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841520" y="5738760"/>
                <a:ext cx="22176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99cc00"/>
                    </a:solidFill>
                    <a:latin typeface="Symbol"/>
                    <a:ea typeface="Symbol"/>
                  </a:rPr>
                  <a:t></a:t>
                </a:r>
                <a:r>
                  <a:rPr b="0" lang="en-GB" sz="1800" spc="-1" strike="noStrike" baseline="-25000">
                    <a:solidFill>
                      <a:srgbClr val="99cc00"/>
                    </a:solidFill>
                    <a:latin typeface="Arial"/>
                  </a:rPr>
                  <a:t>pl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56560" y="5753160"/>
                <a:ext cx="415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7236000" y="4084560"/>
              <a:ext cx="0" cy="1368360"/>
            </a:xfrm>
            <a:prstGeom prst="line">
              <a:avLst/>
            </a:prstGeom>
            <a:ln w="1908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7020000" y="5452920"/>
              <a:ext cx="450000" cy="612000"/>
              <a:chOff x="7020000" y="5452920"/>
              <a:chExt cx="450000" cy="612000"/>
            </a:xfrm>
          </p:grpSpPr>
          <p:sp>
            <p:nvSpPr>
              <p:cNvPr id="217" name=""/>
              <p:cNvSpPr/>
              <p:nvPr/>
            </p:nvSpPr>
            <p:spPr>
              <a:xfrm>
                <a:off x="7086960" y="5452920"/>
                <a:ext cx="38304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</a:t>
                </a:r>
                <a:r>
                  <a:rPr b="0" lang="en-GB" sz="1800" spc="-1" strike="noStrike" baseline="-25000">
                    <a:solidFill>
                      <a:srgbClr val="ff0000"/>
                    </a:solidFill>
                    <a:latin typeface="Arial"/>
                  </a:rPr>
                  <a:t>requ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104960" y="5752800"/>
                <a:ext cx="22176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</a:t>
                </a:r>
                <a:r>
                  <a:rPr b="0" lang="en-GB" sz="1800" spc="-1" strike="noStrike" baseline="-25000">
                    <a:solidFill>
                      <a:srgbClr val="ff0000"/>
                    </a:solidFill>
                    <a:latin typeface="Arial"/>
                  </a:rPr>
                  <a:t>pl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020000" y="5767200"/>
                <a:ext cx="415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220" name=""/>
          <p:cNvGrpSpPr/>
          <p:nvPr/>
        </p:nvGrpSpPr>
        <p:grpSpPr>
          <a:xfrm>
            <a:off x="240480" y="2852640"/>
            <a:ext cx="3066120" cy="2934720"/>
            <a:chOff x="240480" y="2852640"/>
            <a:chExt cx="3066120" cy="2934720"/>
          </a:xfrm>
        </p:grpSpPr>
        <p:sp>
          <p:nvSpPr>
            <p:cNvPr id="221" name=""/>
            <p:cNvSpPr/>
            <p:nvPr/>
          </p:nvSpPr>
          <p:spPr>
            <a:xfrm>
              <a:off x="409680" y="2852640"/>
              <a:ext cx="82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Momen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5160" y="3855960"/>
              <a:ext cx="2270160" cy="1440"/>
            </a:xfrm>
            <a:prstGeom prst="line">
              <a:avLst/>
            </a:prstGeom>
            <a:ln w="316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8400" y="3841560"/>
              <a:ext cx="533520" cy="1576440"/>
            </a:xfrm>
            <a:custGeom>
              <a:avLst/>
              <a:gdLst/>
              <a:ahLst/>
              <a:rect l="l" t="t" r="r" b="b"/>
              <a:pathLst>
                <a:path w="471" h="1391">
                  <a:moveTo>
                    <a:pt x="35" y="1376"/>
                  </a:moveTo>
                  <a:lnTo>
                    <a:pt x="33" y="1381"/>
                  </a:lnTo>
                  <a:lnTo>
                    <a:pt x="30" y="1383"/>
                  </a:lnTo>
                  <a:lnTo>
                    <a:pt x="28" y="1386"/>
                  </a:lnTo>
                  <a:lnTo>
                    <a:pt x="23" y="1391"/>
                  </a:lnTo>
                  <a:lnTo>
                    <a:pt x="20" y="1391"/>
                  </a:lnTo>
                  <a:lnTo>
                    <a:pt x="18" y="1391"/>
                  </a:lnTo>
                  <a:lnTo>
                    <a:pt x="15" y="1391"/>
                  </a:lnTo>
                  <a:lnTo>
                    <a:pt x="7" y="1386"/>
                  </a:lnTo>
                  <a:lnTo>
                    <a:pt x="5" y="1383"/>
                  </a:lnTo>
                  <a:lnTo>
                    <a:pt x="2" y="1381"/>
                  </a:lnTo>
                  <a:lnTo>
                    <a:pt x="0" y="1378"/>
                  </a:lnTo>
                  <a:lnTo>
                    <a:pt x="0" y="1376"/>
                  </a:lnTo>
                  <a:lnTo>
                    <a:pt x="0" y="1371"/>
                  </a:lnTo>
                  <a:lnTo>
                    <a:pt x="0" y="1368"/>
                  </a:lnTo>
                  <a:lnTo>
                    <a:pt x="435" y="16"/>
                  </a:lnTo>
                  <a:lnTo>
                    <a:pt x="437" y="10"/>
                  </a:lnTo>
                  <a:lnTo>
                    <a:pt x="440" y="8"/>
                  </a:lnTo>
                  <a:lnTo>
                    <a:pt x="445" y="5"/>
                  </a:lnTo>
                  <a:lnTo>
                    <a:pt x="448" y="0"/>
                  </a:lnTo>
                  <a:lnTo>
                    <a:pt x="450" y="0"/>
                  </a:lnTo>
                  <a:lnTo>
                    <a:pt x="453" y="0"/>
                  </a:lnTo>
                  <a:lnTo>
                    <a:pt x="455" y="0"/>
                  </a:lnTo>
                  <a:lnTo>
                    <a:pt x="463" y="5"/>
                  </a:lnTo>
                  <a:lnTo>
                    <a:pt x="465" y="8"/>
                  </a:lnTo>
                  <a:lnTo>
                    <a:pt x="468" y="10"/>
                  </a:lnTo>
                  <a:lnTo>
                    <a:pt x="471" y="13"/>
                  </a:lnTo>
                  <a:lnTo>
                    <a:pt x="471" y="16"/>
                  </a:lnTo>
                  <a:lnTo>
                    <a:pt x="471" y="21"/>
                  </a:lnTo>
                  <a:lnTo>
                    <a:pt x="471" y="23"/>
                  </a:lnTo>
                  <a:lnTo>
                    <a:pt x="35" y="1376"/>
                  </a:lnTo>
                  <a:close/>
                </a:path>
              </a:pathLst>
            </a:custGeom>
            <a:solidFill>
              <a:srgbClr val="cc3300"/>
            </a:solidFill>
            <a:ln w="316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90520" y="3836880"/>
              <a:ext cx="1517760" cy="39600"/>
            </a:xfrm>
            <a:custGeom>
              <a:avLst/>
              <a:gdLst/>
              <a:ahLst/>
              <a:rect l="l" t="t" r="r" b="b"/>
              <a:pathLst>
                <a:path w="1338" h="36">
                  <a:moveTo>
                    <a:pt x="18" y="36"/>
                  </a:moveTo>
                  <a:lnTo>
                    <a:pt x="15" y="36"/>
                  </a:lnTo>
                  <a:lnTo>
                    <a:pt x="13" y="36"/>
                  </a:lnTo>
                  <a:lnTo>
                    <a:pt x="10" y="36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5" y="5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318" y="0"/>
                  </a:lnTo>
                  <a:lnTo>
                    <a:pt x="1323" y="0"/>
                  </a:lnTo>
                  <a:lnTo>
                    <a:pt x="1326" y="0"/>
                  </a:lnTo>
                  <a:lnTo>
                    <a:pt x="1328" y="3"/>
                  </a:lnTo>
                  <a:lnTo>
                    <a:pt x="1331" y="5"/>
                  </a:lnTo>
                  <a:lnTo>
                    <a:pt x="1333" y="5"/>
                  </a:lnTo>
                  <a:lnTo>
                    <a:pt x="1338" y="10"/>
                  </a:lnTo>
                  <a:lnTo>
                    <a:pt x="1338" y="13"/>
                  </a:lnTo>
                  <a:lnTo>
                    <a:pt x="1338" y="15"/>
                  </a:lnTo>
                  <a:lnTo>
                    <a:pt x="1338" y="18"/>
                  </a:lnTo>
                  <a:lnTo>
                    <a:pt x="1338" y="21"/>
                  </a:lnTo>
                  <a:lnTo>
                    <a:pt x="1338" y="26"/>
                  </a:lnTo>
                  <a:lnTo>
                    <a:pt x="1338" y="28"/>
                  </a:lnTo>
                  <a:lnTo>
                    <a:pt x="1333" y="31"/>
                  </a:lnTo>
                  <a:lnTo>
                    <a:pt x="1331" y="33"/>
                  </a:lnTo>
                  <a:lnTo>
                    <a:pt x="1328" y="36"/>
                  </a:lnTo>
                  <a:lnTo>
                    <a:pt x="1326" y="36"/>
                  </a:lnTo>
                  <a:lnTo>
                    <a:pt x="1323" y="36"/>
                  </a:lnTo>
                  <a:lnTo>
                    <a:pt x="1318" y="36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cc3300"/>
            </a:solidFill>
            <a:ln w="316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836880"/>
              <a:ext cx="291960" cy="222120"/>
            </a:xfrm>
            <a:custGeom>
              <a:avLst/>
              <a:gdLst/>
              <a:ahLst/>
              <a:rect l="l" t="t" r="r" b="b"/>
              <a:pathLst>
                <a:path w="257" h="196">
                  <a:moveTo>
                    <a:pt x="7" y="33"/>
                  </a:moveTo>
                  <a:lnTo>
                    <a:pt x="5" y="31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49" y="163"/>
                  </a:lnTo>
                  <a:lnTo>
                    <a:pt x="252" y="166"/>
                  </a:lnTo>
                  <a:lnTo>
                    <a:pt x="254" y="168"/>
                  </a:lnTo>
                  <a:lnTo>
                    <a:pt x="254" y="171"/>
                  </a:lnTo>
                  <a:lnTo>
                    <a:pt x="257" y="173"/>
                  </a:lnTo>
                  <a:lnTo>
                    <a:pt x="257" y="179"/>
                  </a:lnTo>
                  <a:lnTo>
                    <a:pt x="257" y="181"/>
                  </a:lnTo>
                  <a:lnTo>
                    <a:pt x="254" y="184"/>
                  </a:lnTo>
                  <a:lnTo>
                    <a:pt x="254" y="186"/>
                  </a:lnTo>
                  <a:lnTo>
                    <a:pt x="252" y="189"/>
                  </a:lnTo>
                  <a:lnTo>
                    <a:pt x="249" y="194"/>
                  </a:lnTo>
                  <a:lnTo>
                    <a:pt x="247" y="194"/>
                  </a:lnTo>
                  <a:lnTo>
                    <a:pt x="242" y="196"/>
                  </a:lnTo>
                  <a:lnTo>
                    <a:pt x="239" y="196"/>
                  </a:lnTo>
                  <a:lnTo>
                    <a:pt x="236" y="196"/>
                  </a:lnTo>
                  <a:lnTo>
                    <a:pt x="234" y="194"/>
                  </a:lnTo>
                  <a:lnTo>
                    <a:pt x="231" y="194"/>
                  </a:lnTo>
                  <a:lnTo>
                    <a:pt x="7" y="33"/>
                  </a:lnTo>
                  <a:close/>
                </a:path>
              </a:pathLst>
            </a:custGeom>
            <a:solidFill>
              <a:srgbClr val="cc3300"/>
            </a:solidFill>
            <a:ln w="316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36720" y="4063680"/>
              <a:ext cx="146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3300"/>
                  </a:solidFill>
                  <a:latin typeface="Arial"/>
                </a:rPr>
                <a:t>Local Buckling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0480" y="3755880"/>
              <a:ext cx="2934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r>
                <a:rPr b="0" lang="en-GB" sz="1800" spc="-1" strike="noStrike" baseline="-25000">
                  <a:solidFill>
                    <a:srgbClr val="000066"/>
                  </a:solidFill>
                  <a:latin typeface="Arial"/>
                </a:rPr>
                <a:t>pl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4880" y="544500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4360" y="3098520"/>
              <a:ext cx="2403360" cy="2325960"/>
            </a:xfrm>
            <a:custGeom>
              <a:avLst/>
              <a:gdLst/>
              <a:ahLst/>
              <a:rect l="l" t="t" r="r" b="b"/>
              <a:pathLst>
                <a:path w="2853" h="2051">
                  <a:moveTo>
                    <a:pt x="0" y="0"/>
                  </a:moveTo>
                  <a:lnTo>
                    <a:pt x="0" y="2051"/>
                  </a:lnTo>
                  <a:lnTo>
                    <a:pt x="2853" y="2051"/>
                  </a:lnTo>
                </a:path>
              </a:pathLst>
            </a:custGeom>
            <a:noFill/>
            <a:ln w="3168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78040" y="3840120"/>
              <a:ext cx="0" cy="1582560"/>
            </a:xfrm>
            <a:prstGeom prst="line">
              <a:avLst/>
            </a:prstGeom>
            <a:ln w="1908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57800" y="5475240"/>
              <a:ext cx="2736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9cc00"/>
                  </a:solidFill>
                  <a:latin typeface="Symbol"/>
                  <a:ea typeface="Symbol"/>
                </a:rPr>
                <a:t></a:t>
              </a:r>
              <a:r>
                <a:rPr b="0" lang="en-GB" sz="1800" spc="-1" strike="noStrike" baseline="-25000">
                  <a:solidFill>
                    <a:srgbClr val="99cc00"/>
                  </a:solidFill>
                  <a:latin typeface="Arial"/>
                </a:rPr>
                <a:t>ro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54720" y="5475240"/>
              <a:ext cx="383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</a:t>
              </a:r>
              <a:r>
                <a:rPr b="0" lang="en-GB" sz="1800" spc="-1" strike="noStrike" baseline="-25000">
                  <a:solidFill>
                    <a:srgbClr val="ff0000"/>
                  </a:solidFill>
                  <a:latin typeface="Arial"/>
                </a:rPr>
                <a:t>requ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95640" y="3890880"/>
              <a:ext cx="0" cy="1511280"/>
            </a:xfrm>
            <a:prstGeom prst="line">
              <a:avLst/>
            </a:prstGeom>
            <a:ln w="1908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843280" y="1413000"/>
            <a:ext cx="3313080" cy="2016000"/>
            <a:chOff x="2843280" y="1413000"/>
            <a:chExt cx="3313080" cy="2016000"/>
          </a:xfrm>
        </p:grpSpPr>
        <p:sp>
          <p:nvSpPr>
            <p:cNvPr id="235" name=""/>
            <p:cNvSpPr/>
            <p:nvPr/>
          </p:nvSpPr>
          <p:spPr>
            <a:xfrm>
              <a:off x="4288680" y="1722600"/>
              <a:ext cx="131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r>
                <a:rPr b="0" lang="en-GB" sz="1800" spc="-1" strike="noStrike" baseline="-25000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43280" y="1413000"/>
              <a:ext cx="3313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Plastic moment on gross section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92360" y="1989000"/>
              <a:ext cx="719280" cy="1440000"/>
            </a:xfrm>
            <a:custGeom>
              <a:avLst/>
              <a:gdLst/>
              <a:ahLst/>
              <a:rect l="l" t="t" r="r" b="b"/>
              <a:pathLst>
                <a:path w="907" h="907">
                  <a:moveTo>
                    <a:pt x="453" y="0"/>
                  </a:moveTo>
                  <a:lnTo>
                    <a:pt x="907" y="0"/>
                  </a:lnTo>
                  <a:lnTo>
                    <a:pt x="907" y="453"/>
                  </a:lnTo>
                  <a:lnTo>
                    <a:pt x="0" y="453"/>
                  </a:lnTo>
                  <a:lnTo>
                    <a:pt x="0" y="907"/>
                  </a:lnTo>
                  <a:lnTo>
                    <a:pt x="453" y="907"/>
                  </a:lnTo>
                  <a:lnTo>
                    <a:pt x="453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C8306-7AE6-4D87-8636-9B9EE9C46B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lass 2 cross-sections (bending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716360" y="2951280"/>
            <a:ext cx="4228920" cy="2990160"/>
            <a:chOff x="4716360" y="2951280"/>
            <a:chExt cx="4228920" cy="2990160"/>
          </a:xfrm>
        </p:grpSpPr>
        <p:sp>
          <p:nvSpPr>
            <p:cNvPr id="240" name=""/>
            <p:cNvSpPr/>
            <p:nvPr/>
          </p:nvSpPr>
          <p:spPr>
            <a:xfrm>
              <a:off x="5229360" y="4059360"/>
              <a:ext cx="841320" cy="7920"/>
            </a:xfrm>
            <a:prstGeom prst="line">
              <a:avLst/>
            </a:prstGeom>
            <a:ln w="1908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58080" y="4067280"/>
              <a:ext cx="0" cy="1328760"/>
            </a:xfrm>
            <a:prstGeom prst="line">
              <a:avLst/>
            </a:prstGeom>
            <a:ln w="1908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13520" y="3911760"/>
              <a:ext cx="1653840" cy="1484280"/>
            </a:xfrm>
            <a:custGeom>
              <a:avLst/>
              <a:gdLst/>
              <a:ahLst/>
              <a:rect l="l" t="t" r="r" b="b"/>
              <a:pathLst>
                <a:path w="1460" h="1106">
                  <a:moveTo>
                    <a:pt x="0" y="1106"/>
                  </a:moveTo>
                  <a:lnTo>
                    <a:pt x="193" y="742"/>
                  </a:lnTo>
                  <a:lnTo>
                    <a:pt x="376" y="469"/>
                  </a:lnTo>
                  <a:lnTo>
                    <a:pt x="547" y="270"/>
                  </a:lnTo>
                  <a:lnTo>
                    <a:pt x="717" y="123"/>
                  </a:lnTo>
                  <a:lnTo>
                    <a:pt x="888" y="31"/>
                  </a:lnTo>
                  <a:lnTo>
                    <a:pt x="1025" y="0"/>
                  </a:lnTo>
                  <a:lnTo>
                    <a:pt x="1132" y="8"/>
                  </a:lnTo>
                  <a:lnTo>
                    <a:pt x="1254" y="54"/>
                  </a:lnTo>
                  <a:lnTo>
                    <a:pt x="1366" y="146"/>
                  </a:lnTo>
                  <a:lnTo>
                    <a:pt x="1460" y="263"/>
                  </a:lnTo>
                </a:path>
              </a:pathLst>
            </a:custGeom>
            <a:noFill/>
            <a:ln w="316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67360" y="4272120"/>
              <a:ext cx="292320" cy="207720"/>
            </a:xfrm>
            <a:custGeom>
              <a:avLst/>
              <a:gdLst/>
              <a:ahLst/>
              <a:rect l="l" t="t" r="r" b="b"/>
              <a:pathLst>
                <a:path w="257" h="183">
                  <a:moveTo>
                    <a:pt x="0" y="0"/>
                  </a:moveTo>
                  <a:lnTo>
                    <a:pt x="115" y="114"/>
                  </a:lnTo>
                  <a:lnTo>
                    <a:pt x="247" y="181"/>
                  </a:lnTo>
                  <a:lnTo>
                    <a:pt x="257" y="183"/>
                  </a:lnTo>
                </a:path>
              </a:pathLst>
            </a:custGeom>
            <a:noFill/>
            <a:ln w="316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11720" y="3071880"/>
              <a:ext cx="3233880" cy="2325600"/>
            </a:xfrm>
            <a:custGeom>
              <a:avLst/>
              <a:gdLst/>
              <a:ahLst/>
              <a:rect l="l" t="t" r="r" b="b"/>
              <a:pathLst>
                <a:path w="2853" h="2051">
                  <a:moveTo>
                    <a:pt x="0" y="0"/>
                  </a:moveTo>
                  <a:lnTo>
                    <a:pt x="0" y="2051"/>
                  </a:lnTo>
                  <a:lnTo>
                    <a:pt x="2853" y="2051"/>
                  </a:lnTo>
                </a:path>
              </a:pathLst>
            </a:custGeom>
            <a:noFill/>
            <a:ln w="3168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72040" y="390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85000" y="5456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37800" y="3041640"/>
              <a:ext cx="317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Limited plastic rotation capacity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4716360" y="2951280"/>
              <a:ext cx="412920" cy="594360"/>
              <a:chOff x="4716360" y="2951280"/>
              <a:chExt cx="412920" cy="59436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4787280" y="2951280"/>
                <a:ext cx="293400" cy="594360"/>
                <a:chOff x="4787280" y="2951280"/>
                <a:chExt cx="293400" cy="5943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814640" y="2951280"/>
                  <a:ext cx="1911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66"/>
                      </a:solidFill>
                      <a:latin typeface="Arial"/>
                    </a:rPr>
                    <a:t>M</a:t>
                  </a: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787280" y="3233520"/>
                  <a:ext cx="293400" cy="31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66"/>
                      </a:solidFill>
                      <a:latin typeface="Arial"/>
                    </a:rPr>
                    <a:t>M</a:t>
                  </a:r>
                  <a:r>
                    <a:rPr b="0" lang="en-GB" sz="1800" spc="-1" strike="noStrike" baseline="-25000">
                      <a:solidFill>
                        <a:srgbClr val="000066"/>
                      </a:solidFill>
                      <a:latin typeface="Arial"/>
                    </a:rPr>
                    <a:t>pl</a:t>
                  </a: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4716360" y="3240000"/>
                <a:ext cx="41292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8532720" y="5208480"/>
              <a:ext cx="412560" cy="605880"/>
              <a:chOff x="8532720" y="5208480"/>
              <a:chExt cx="412560" cy="605880"/>
            </a:xfrm>
          </p:grpSpPr>
          <p:sp>
            <p:nvSpPr>
              <p:cNvPr id="254" name=""/>
              <p:cNvSpPr/>
              <p:nvPr/>
            </p:nvSpPr>
            <p:spPr>
              <a:xfrm>
                <a:off x="8685000" y="5208480"/>
                <a:ext cx="119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34960" y="5502240"/>
                <a:ext cx="22176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</a:t>
                </a:r>
                <a:r>
                  <a:rPr b="0" lang="en-GB" sz="1800" spc="-1" strike="noStrike" baseline="-25000">
                    <a:solidFill>
                      <a:srgbClr val="000066"/>
                    </a:solidFill>
                    <a:latin typeface="Arial"/>
                  </a:rPr>
                  <a:t>pl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532720" y="5510160"/>
                <a:ext cx="412560" cy="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6012000" y="4056120"/>
              <a:ext cx="1224000" cy="0"/>
            </a:xfrm>
            <a:prstGeom prst="line">
              <a:avLst/>
            </a:prstGeom>
            <a:ln w="1908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23000" y="4056120"/>
              <a:ext cx="0" cy="1328760"/>
            </a:xfrm>
            <a:prstGeom prst="line">
              <a:avLst/>
            </a:prstGeom>
            <a:ln w="1908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36000" y="4033800"/>
              <a:ext cx="0" cy="1368360"/>
            </a:xfrm>
            <a:prstGeom prst="line">
              <a:avLst/>
            </a:prstGeom>
            <a:ln w="1908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7020000" y="5327640"/>
              <a:ext cx="450000" cy="612000"/>
              <a:chOff x="7020000" y="5327640"/>
              <a:chExt cx="450000" cy="612000"/>
            </a:xfrm>
          </p:grpSpPr>
          <p:sp>
            <p:nvSpPr>
              <p:cNvPr id="261" name=""/>
              <p:cNvSpPr/>
              <p:nvPr/>
            </p:nvSpPr>
            <p:spPr>
              <a:xfrm>
                <a:off x="7086960" y="5327640"/>
                <a:ext cx="38304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</a:t>
                </a:r>
                <a:r>
                  <a:rPr b="0" lang="en-GB" sz="1800" spc="-1" strike="noStrike" baseline="-25000">
                    <a:solidFill>
                      <a:srgbClr val="ff0000"/>
                    </a:solidFill>
                    <a:latin typeface="Arial"/>
                  </a:rPr>
                  <a:t>requ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104960" y="5627520"/>
                <a:ext cx="22176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</a:t>
                </a:r>
                <a:r>
                  <a:rPr b="0" lang="en-GB" sz="1800" spc="-1" strike="noStrike" baseline="-25000">
                    <a:solidFill>
                      <a:srgbClr val="ff0000"/>
                    </a:solidFill>
                    <a:latin typeface="Arial"/>
                  </a:rPr>
                  <a:t>pl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020000" y="5641920"/>
                <a:ext cx="415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6591600" y="5329080"/>
              <a:ext cx="2736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9cc00"/>
                  </a:solidFill>
                  <a:latin typeface="Symbol"/>
                  <a:ea typeface="Symbol"/>
                </a:rPr>
                <a:t></a:t>
              </a:r>
              <a:r>
                <a:rPr b="0" lang="en-GB" sz="1800" spc="-1" strike="noStrike" baseline="-25000">
                  <a:solidFill>
                    <a:srgbClr val="99cc00"/>
                  </a:solidFill>
                  <a:latin typeface="Arial"/>
                </a:rPr>
                <a:t>ro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17520" y="5629320"/>
              <a:ext cx="221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9cc00"/>
                  </a:solidFill>
                  <a:latin typeface="Symbol"/>
                  <a:ea typeface="Symbol"/>
                </a:rPr>
                <a:t></a:t>
              </a:r>
              <a:r>
                <a:rPr b="0" lang="en-GB" sz="1800" spc="-1" strike="noStrike" baseline="-25000">
                  <a:solidFill>
                    <a:srgbClr val="99cc00"/>
                  </a:solidFill>
                  <a:latin typeface="Arial"/>
                </a:rPr>
                <a:t>pl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32560" y="5643720"/>
              <a:ext cx="415800" cy="144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40480" y="2801880"/>
            <a:ext cx="2923920" cy="2942640"/>
            <a:chOff x="240480" y="2801880"/>
            <a:chExt cx="2923920" cy="2942640"/>
          </a:xfrm>
        </p:grpSpPr>
        <p:sp>
          <p:nvSpPr>
            <p:cNvPr id="268" name=""/>
            <p:cNvSpPr/>
            <p:nvPr/>
          </p:nvSpPr>
          <p:spPr>
            <a:xfrm>
              <a:off x="674640" y="3578040"/>
              <a:ext cx="2305080" cy="1800"/>
            </a:xfrm>
            <a:prstGeom prst="line">
              <a:avLst/>
            </a:prstGeom>
            <a:ln w="316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4360" y="3566880"/>
              <a:ext cx="539640" cy="1803600"/>
            </a:xfrm>
            <a:custGeom>
              <a:avLst/>
              <a:gdLst/>
              <a:ahLst/>
              <a:rect l="l" t="t" r="r" b="b"/>
              <a:pathLst>
                <a:path w="476" h="1592">
                  <a:moveTo>
                    <a:pt x="38" y="1577"/>
                  </a:moveTo>
                  <a:lnTo>
                    <a:pt x="33" y="1579"/>
                  </a:lnTo>
                  <a:lnTo>
                    <a:pt x="33" y="1582"/>
                  </a:lnTo>
                  <a:lnTo>
                    <a:pt x="30" y="1587"/>
                  </a:lnTo>
                  <a:lnTo>
                    <a:pt x="28" y="1590"/>
                  </a:lnTo>
                  <a:lnTo>
                    <a:pt x="25" y="1590"/>
                  </a:lnTo>
                  <a:lnTo>
                    <a:pt x="23" y="1592"/>
                  </a:lnTo>
                  <a:lnTo>
                    <a:pt x="18" y="1592"/>
                  </a:lnTo>
                  <a:lnTo>
                    <a:pt x="15" y="1592"/>
                  </a:lnTo>
                  <a:lnTo>
                    <a:pt x="13" y="1590"/>
                  </a:lnTo>
                  <a:lnTo>
                    <a:pt x="10" y="1590"/>
                  </a:lnTo>
                  <a:lnTo>
                    <a:pt x="8" y="1587"/>
                  </a:lnTo>
                  <a:lnTo>
                    <a:pt x="2" y="1582"/>
                  </a:lnTo>
                  <a:lnTo>
                    <a:pt x="2" y="1579"/>
                  </a:lnTo>
                  <a:lnTo>
                    <a:pt x="0" y="1577"/>
                  </a:lnTo>
                  <a:lnTo>
                    <a:pt x="0" y="1574"/>
                  </a:lnTo>
                  <a:lnTo>
                    <a:pt x="0" y="1572"/>
                  </a:lnTo>
                  <a:lnTo>
                    <a:pt x="440" y="15"/>
                  </a:lnTo>
                  <a:lnTo>
                    <a:pt x="443" y="10"/>
                  </a:lnTo>
                  <a:lnTo>
                    <a:pt x="443" y="8"/>
                  </a:lnTo>
                  <a:lnTo>
                    <a:pt x="445" y="5"/>
                  </a:lnTo>
                  <a:lnTo>
                    <a:pt x="448" y="3"/>
                  </a:lnTo>
                  <a:lnTo>
                    <a:pt x="450" y="3"/>
                  </a:lnTo>
                  <a:lnTo>
                    <a:pt x="455" y="0"/>
                  </a:lnTo>
                  <a:lnTo>
                    <a:pt x="458" y="0"/>
                  </a:lnTo>
                  <a:lnTo>
                    <a:pt x="460" y="0"/>
                  </a:lnTo>
                  <a:lnTo>
                    <a:pt x="463" y="3"/>
                  </a:lnTo>
                  <a:lnTo>
                    <a:pt x="466" y="3"/>
                  </a:lnTo>
                  <a:lnTo>
                    <a:pt x="471" y="5"/>
                  </a:lnTo>
                  <a:lnTo>
                    <a:pt x="473" y="8"/>
                  </a:lnTo>
                  <a:lnTo>
                    <a:pt x="473" y="10"/>
                  </a:lnTo>
                  <a:lnTo>
                    <a:pt x="476" y="15"/>
                  </a:lnTo>
                  <a:lnTo>
                    <a:pt x="476" y="18"/>
                  </a:lnTo>
                  <a:lnTo>
                    <a:pt x="476" y="20"/>
                  </a:lnTo>
                  <a:lnTo>
                    <a:pt x="38" y="1577"/>
                  </a:lnTo>
                  <a:close/>
                </a:path>
              </a:pathLst>
            </a:custGeom>
            <a:solidFill>
              <a:srgbClr val="cc3300"/>
            </a:solidFill>
            <a:ln w="316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84400" y="3557520"/>
              <a:ext cx="466560" cy="46080"/>
            </a:xfrm>
            <a:custGeom>
              <a:avLst/>
              <a:gdLst/>
              <a:ahLst/>
              <a:rect l="l" t="t" r="r" b="b"/>
              <a:pathLst>
                <a:path w="412" h="41">
                  <a:moveTo>
                    <a:pt x="18" y="39"/>
                  </a:moveTo>
                  <a:lnTo>
                    <a:pt x="15" y="39"/>
                  </a:lnTo>
                  <a:lnTo>
                    <a:pt x="10" y="39"/>
                  </a:lnTo>
                  <a:lnTo>
                    <a:pt x="8" y="33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3" y="11"/>
                  </a:lnTo>
                  <a:lnTo>
                    <a:pt x="5" y="8"/>
                  </a:lnTo>
                  <a:lnTo>
                    <a:pt x="5" y="3"/>
                  </a:lnTo>
                  <a:lnTo>
                    <a:pt x="8" y="3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395" y="3"/>
                  </a:lnTo>
                  <a:lnTo>
                    <a:pt x="397" y="3"/>
                  </a:lnTo>
                  <a:lnTo>
                    <a:pt x="402" y="3"/>
                  </a:lnTo>
                  <a:lnTo>
                    <a:pt x="405" y="8"/>
                  </a:lnTo>
                  <a:lnTo>
                    <a:pt x="407" y="11"/>
                  </a:lnTo>
                  <a:lnTo>
                    <a:pt x="410" y="11"/>
                  </a:lnTo>
                  <a:lnTo>
                    <a:pt x="410" y="13"/>
                  </a:lnTo>
                  <a:lnTo>
                    <a:pt x="412" y="16"/>
                  </a:lnTo>
                  <a:lnTo>
                    <a:pt x="412" y="18"/>
                  </a:lnTo>
                  <a:lnTo>
                    <a:pt x="412" y="23"/>
                  </a:lnTo>
                  <a:lnTo>
                    <a:pt x="412" y="26"/>
                  </a:lnTo>
                  <a:lnTo>
                    <a:pt x="412" y="28"/>
                  </a:lnTo>
                  <a:lnTo>
                    <a:pt x="410" y="31"/>
                  </a:lnTo>
                  <a:lnTo>
                    <a:pt x="407" y="33"/>
                  </a:lnTo>
                  <a:lnTo>
                    <a:pt x="407" y="39"/>
                  </a:lnTo>
                  <a:lnTo>
                    <a:pt x="405" y="39"/>
                  </a:lnTo>
                  <a:lnTo>
                    <a:pt x="402" y="41"/>
                  </a:lnTo>
                  <a:lnTo>
                    <a:pt x="397" y="41"/>
                  </a:lnTo>
                  <a:lnTo>
                    <a:pt x="395" y="41"/>
                  </a:lnTo>
                  <a:lnTo>
                    <a:pt x="18" y="39"/>
                  </a:lnTo>
                  <a:close/>
                </a:path>
              </a:pathLst>
            </a:custGeom>
            <a:solidFill>
              <a:srgbClr val="cc3300"/>
            </a:solidFill>
            <a:ln w="316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16040" y="3566880"/>
              <a:ext cx="297000" cy="247680"/>
            </a:xfrm>
            <a:custGeom>
              <a:avLst/>
              <a:gdLst/>
              <a:ahLst/>
              <a:rect l="l" t="t" r="r" b="b"/>
              <a:pathLst>
                <a:path w="262" h="219">
                  <a:moveTo>
                    <a:pt x="7" y="33"/>
                  </a:moveTo>
                  <a:lnTo>
                    <a:pt x="7" y="31"/>
                  </a:lnTo>
                  <a:lnTo>
                    <a:pt x="5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5" y="8"/>
                  </a:lnTo>
                  <a:lnTo>
                    <a:pt x="5" y="5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257" y="186"/>
                  </a:lnTo>
                  <a:lnTo>
                    <a:pt x="257" y="189"/>
                  </a:lnTo>
                  <a:lnTo>
                    <a:pt x="259" y="191"/>
                  </a:lnTo>
                  <a:lnTo>
                    <a:pt x="262" y="194"/>
                  </a:lnTo>
                  <a:lnTo>
                    <a:pt x="262" y="199"/>
                  </a:lnTo>
                  <a:lnTo>
                    <a:pt x="262" y="201"/>
                  </a:lnTo>
                  <a:lnTo>
                    <a:pt x="262" y="204"/>
                  </a:lnTo>
                  <a:lnTo>
                    <a:pt x="262" y="206"/>
                  </a:lnTo>
                  <a:lnTo>
                    <a:pt x="259" y="209"/>
                  </a:lnTo>
                  <a:lnTo>
                    <a:pt x="259" y="214"/>
                  </a:lnTo>
                  <a:lnTo>
                    <a:pt x="257" y="214"/>
                  </a:lnTo>
                  <a:lnTo>
                    <a:pt x="254" y="217"/>
                  </a:lnTo>
                  <a:lnTo>
                    <a:pt x="252" y="219"/>
                  </a:lnTo>
                  <a:lnTo>
                    <a:pt x="247" y="219"/>
                  </a:lnTo>
                  <a:lnTo>
                    <a:pt x="244" y="219"/>
                  </a:lnTo>
                  <a:lnTo>
                    <a:pt x="242" y="219"/>
                  </a:lnTo>
                  <a:lnTo>
                    <a:pt x="239" y="219"/>
                  </a:lnTo>
                  <a:lnTo>
                    <a:pt x="236" y="217"/>
                  </a:lnTo>
                  <a:lnTo>
                    <a:pt x="231" y="217"/>
                  </a:lnTo>
                  <a:lnTo>
                    <a:pt x="7" y="33"/>
                  </a:lnTo>
                  <a:close/>
                </a:path>
              </a:pathLst>
            </a:custGeom>
            <a:solidFill>
              <a:srgbClr val="cc3300"/>
            </a:solidFill>
            <a:ln w="316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22520" y="3894120"/>
              <a:ext cx="146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3300"/>
                  </a:solidFill>
                  <a:latin typeface="Arial"/>
                </a:rPr>
                <a:t>Local Buckling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4360" y="3047760"/>
              <a:ext cx="2403360" cy="2325960"/>
            </a:xfrm>
            <a:custGeom>
              <a:avLst/>
              <a:gdLst/>
              <a:ahLst/>
              <a:rect l="l" t="t" r="r" b="b"/>
              <a:pathLst>
                <a:path w="2853" h="2051">
                  <a:moveTo>
                    <a:pt x="0" y="0"/>
                  </a:moveTo>
                  <a:lnTo>
                    <a:pt x="0" y="2051"/>
                  </a:lnTo>
                  <a:lnTo>
                    <a:pt x="2853" y="2051"/>
                  </a:lnTo>
                </a:path>
              </a:pathLst>
            </a:custGeom>
            <a:noFill/>
            <a:ln w="3168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9680" y="2801880"/>
              <a:ext cx="82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Momen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0480" y="3408120"/>
              <a:ext cx="2934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r>
                <a:rPr b="0" lang="en-GB" sz="1800" spc="-1" strike="noStrike" baseline="-25000">
                  <a:solidFill>
                    <a:srgbClr val="000066"/>
                  </a:solidFill>
                  <a:latin typeface="Arial"/>
                </a:rPr>
                <a:t>pl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44880" y="539424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19280" y="3551040"/>
              <a:ext cx="0" cy="1873440"/>
            </a:xfrm>
            <a:prstGeom prst="line">
              <a:avLst/>
            </a:prstGeom>
            <a:ln w="1908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40000" y="3624120"/>
              <a:ext cx="0" cy="1727280"/>
            </a:xfrm>
            <a:prstGeom prst="line">
              <a:avLst/>
            </a:prstGeom>
            <a:ln w="1908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87880" y="5424480"/>
              <a:ext cx="2736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99cc00"/>
                  </a:solidFill>
                  <a:latin typeface="Symbol"/>
                  <a:ea typeface="Symbol"/>
                </a:rPr>
                <a:t></a:t>
              </a:r>
              <a:r>
                <a:rPr b="0" lang="en-GB" sz="1800" spc="-1" strike="noStrike" baseline="-25000">
                  <a:solidFill>
                    <a:srgbClr val="99cc00"/>
                  </a:solidFill>
                  <a:latin typeface="Arial"/>
                </a:rPr>
                <a:t>ro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43440" y="5432400"/>
              <a:ext cx="383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</a:t>
              </a:r>
              <a:r>
                <a:rPr b="0" lang="en-GB" sz="1800" spc="-1" strike="noStrike" baseline="-25000">
                  <a:solidFill>
                    <a:srgbClr val="ff0000"/>
                  </a:solidFill>
                  <a:latin typeface="Arial"/>
                </a:rPr>
                <a:t>requ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865600" y="1413000"/>
            <a:ext cx="3384360" cy="2016000"/>
            <a:chOff x="2865600" y="1413000"/>
            <a:chExt cx="3384360" cy="2016000"/>
          </a:xfrm>
        </p:grpSpPr>
        <p:sp>
          <p:nvSpPr>
            <p:cNvPr id="282" name=""/>
            <p:cNvSpPr/>
            <p:nvPr/>
          </p:nvSpPr>
          <p:spPr>
            <a:xfrm>
              <a:off x="2865600" y="1413000"/>
              <a:ext cx="338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Plastic moment on gross section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66360" y="1700280"/>
              <a:ext cx="131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r>
                <a:rPr b="0" lang="en-GB" sz="1800" spc="-1" strike="noStrike" baseline="-25000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92360" y="1989000"/>
              <a:ext cx="719280" cy="1440000"/>
            </a:xfrm>
            <a:custGeom>
              <a:avLst/>
              <a:gdLst/>
              <a:ahLst/>
              <a:rect l="l" t="t" r="r" b="b"/>
              <a:pathLst>
                <a:path w="907" h="907">
                  <a:moveTo>
                    <a:pt x="453" y="0"/>
                  </a:moveTo>
                  <a:lnTo>
                    <a:pt x="907" y="0"/>
                  </a:lnTo>
                  <a:lnTo>
                    <a:pt x="907" y="453"/>
                  </a:lnTo>
                  <a:lnTo>
                    <a:pt x="0" y="453"/>
                  </a:lnTo>
                  <a:lnTo>
                    <a:pt x="0" y="907"/>
                  </a:lnTo>
                  <a:lnTo>
                    <a:pt x="453" y="907"/>
                  </a:lnTo>
                  <a:lnTo>
                    <a:pt x="453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3552-A047-4999-BEBD-AF8F7C432A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lass 3 cross-sections (bending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843280" y="1413000"/>
            <a:ext cx="3384360" cy="2016000"/>
            <a:chOff x="2843280" y="1413000"/>
            <a:chExt cx="3384360" cy="2016000"/>
          </a:xfrm>
        </p:grpSpPr>
        <p:sp>
          <p:nvSpPr>
            <p:cNvPr id="287" name=""/>
            <p:cNvSpPr/>
            <p:nvPr/>
          </p:nvSpPr>
          <p:spPr>
            <a:xfrm>
              <a:off x="2843280" y="1413000"/>
              <a:ext cx="338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Elastic moment on gross section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91920" y="1700280"/>
              <a:ext cx="131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r>
                <a:rPr b="0" lang="en-GB" sz="1800" spc="-1" strike="noStrike" baseline="-25000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92360" y="1989000"/>
              <a:ext cx="719280" cy="1440000"/>
            </a:xfrm>
            <a:custGeom>
              <a:avLst/>
              <a:gdLst/>
              <a:ahLst/>
              <a:rect l="l" t="t" r="r" b="b"/>
              <a:pathLst>
                <a:path w="453" h="907">
                  <a:moveTo>
                    <a:pt x="226" y="0"/>
                  </a:moveTo>
                  <a:lnTo>
                    <a:pt x="453" y="0"/>
                  </a:lnTo>
                  <a:lnTo>
                    <a:pt x="0" y="907"/>
                  </a:lnTo>
                  <a:lnTo>
                    <a:pt x="226" y="907"/>
                  </a:lnTo>
                  <a:lnTo>
                    <a:pt x="226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20040" y="2865600"/>
            <a:ext cx="8625240" cy="3012120"/>
            <a:chOff x="320040" y="2865600"/>
            <a:chExt cx="8625240" cy="3012120"/>
          </a:xfrm>
        </p:grpSpPr>
        <p:grpSp>
          <p:nvGrpSpPr>
            <p:cNvPr id="291" name=""/>
            <p:cNvGrpSpPr/>
            <p:nvPr/>
          </p:nvGrpSpPr>
          <p:grpSpPr>
            <a:xfrm>
              <a:off x="320040" y="2865600"/>
              <a:ext cx="2844360" cy="2867040"/>
              <a:chOff x="320040" y="2865600"/>
              <a:chExt cx="2844360" cy="2867040"/>
            </a:xfrm>
          </p:grpSpPr>
          <p:sp>
            <p:nvSpPr>
              <p:cNvPr id="292" name=""/>
              <p:cNvSpPr/>
              <p:nvPr/>
            </p:nvSpPr>
            <p:spPr>
              <a:xfrm flipV="1">
                <a:off x="681120" y="4037040"/>
                <a:ext cx="2090520" cy="14400"/>
              </a:xfrm>
              <a:prstGeom prst="line">
                <a:avLst/>
              </a:prstGeom>
              <a:ln w="19080">
                <a:solidFill>
                  <a:srgbClr val="3333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1120" y="3740040"/>
                <a:ext cx="2200320" cy="1800"/>
              </a:xfrm>
              <a:prstGeom prst="line">
                <a:avLst/>
              </a:prstGeom>
              <a:ln w="19080">
                <a:solidFill>
                  <a:srgbClr val="0099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89040" y="4048200"/>
                <a:ext cx="426960" cy="1369800"/>
              </a:xfrm>
              <a:custGeom>
                <a:avLst/>
                <a:gdLst/>
                <a:ahLst/>
                <a:rect l="l" t="t" r="r" b="b"/>
                <a:pathLst>
                  <a:path w="440" h="1378">
                    <a:moveTo>
                      <a:pt x="35" y="1362"/>
                    </a:moveTo>
                    <a:lnTo>
                      <a:pt x="33" y="1365"/>
                    </a:lnTo>
                    <a:lnTo>
                      <a:pt x="33" y="1368"/>
                    </a:lnTo>
                    <a:lnTo>
                      <a:pt x="30" y="1373"/>
                    </a:lnTo>
                    <a:lnTo>
                      <a:pt x="25" y="1375"/>
                    </a:lnTo>
                    <a:lnTo>
                      <a:pt x="23" y="1375"/>
                    </a:lnTo>
                    <a:lnTo>
                      <a:pt x="20" y="1378"/>
                    </a:lnTo>
                    <a:lnTo>
                      <a:pt x="18" y="1378"/>
                    </a:lnTo>
                    <a:lnTo>
                      <a:pt x="15" y="1378"/>
                    </a:lnTo>
                    <a:lnTo>
                      <a:pt x="10" y="1375"/>
                    </a:lnTo>
                    <a:lnTo>
                      <a:pt x="7" y="1375"/>
                    </a:lnTo>
                    <a:lnTo>
                      <a:pt x="5" y="1373"/>
                    </a:lnTo>
                    <a:lnTo>
                      <a:pt x="2" y="1368"/>
                    </a:lnTo>
                    <a:lnTo>
                      <a:pt x="2" y="1365"/>
                    </a:lnTo>
                    <a:lnTo>
                      <a:pt x="0" y="1362"/>
                    </a:lnTo>
                    <a:lnTo>
                      <a:pt x="0" y="1360"/>
                    </a:lnTo>
                    <a:lnTo>
                      <a:pt x="0" y="1357"/>
                    </a:lnTo>
                    <a:lnTo>
                      <a:pt x="404" y="15"/>
                    </a:lnTo>
                    <a:lnTo>
                      <a:pt x="407" y="10"/>
                    </a:lnTo>
                    <a:lnTo>
                      <a:pt x="407" y="7"/>
                    </a:lnTo>
                    <a:lnTo>
                      <a:pt x="409" y="5"/>
                    </a:lnTo>
                    <a:lnTo>
                      <a:pt x="412" y="2"/>
                    </a:lnTo>
                    <a:lnTo>
                      <a:pt x="417" y="2"/>
                    </a:lnTo>
                    <a:lnTo>
                      <a:pt x="420" y="0"/>
                    </a:lnTo>
                    <a:lnTo>
                      <a:pt x="422" y="0"/>
                    </a:lnTo>
                    <a:lnTo>
                      <a:pt x="425" y="0"/>
                    </a:lnTo>
                    <a:lnTo>
                      <a:pt x="427" y="2"/>
                    </a:lnTo>
                    <a:lnTo>
                      <a:pt x="432" y="2"/>
                    </a:lnTo>
                    <a:lnTo>
                      <a:pt x="435" y="5"/>
                    </a:lnTo>
                    <a:lnTo>
                      <a:pt x="437" y="7"/>
                    </a:lnTo>
                    <a:lnTo>
                      <a:pt x="437" y="10"/>
                    </a:lnTo>
                    <a:lnTo>
                      <a:pt x="440" y="15"/>
                    </a:lnTo>
                    <a:lnTo>
                      <a:pt x="440" y="17"/>
                    </a:lnTo>
                    <a:lnTo>
                      <a:pt x="440" y="20"/>
                    </a:lnTo>
                    <a:lnTo>
                      <a:pt x="35" y="1362"/>
                    </a:lnTo>
                    <a:close/>
                  </a:path>
                </a:pathLst>
              </a:custGeom>
              <a:solidFill>
                <a:srgbClr val="cc3300"/>
              </a:solidFill>
              <a:ln w="3168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4720" y="3809880"/>
                <a:ext cx="29340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r>
                  <a:rPr b="0" lang="en-GB" sz="1800" spc="-1" strike="noStrike" baseline="-25000">
                    <a:solidFill>
                      <a:srgbClr val="000066"/>
                    </a:solidFill>
                    <a:latin typeface="Arial"/>
                  </a:rPr>
                  <a:t>el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74680" y="4421160"/>
                <a:ext cx="1469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cc3300"/>
                    </a:solidFill>
                    <a:latin typeface="Arial"/>
                  </a:rPr>
                  <a:t>Local Buckling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84360" y="3111480"/>
                <a:ext cx="2403360" cy="2325600"/>
              </a:xfrm>
              <a:custGeom>
                <a:avLst/>
                <a:gdLst/>
                <a:ahLst/>
                <a:rect l="l" t="t" r="r" b="b"/>
                <a:pathLst>
                  <a:path w="2853" h="2051">
                    <a:moveTo>
                      <a:pt x="0" y="0"/>
                    </a:moveTo>
                    <a:lnTo>
                      <a:pt x="0" y="2051"/>
                    </a:lnTo>
                    <a:lnTo>
                      <a:pt x="2853" y="2051"/>
                    </a:lnTo>
                  </a:path>
                </a:pathLst>
              </a:custGeom>
              <a:noFill/>
              <a:ln w="31680">
                <a:solidFill>
                  <a:srgbClr val="00006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9680" y="2865600"/>
                <a:ext cx="825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66"/>
                    </a:solidFill>
                    <a:latin typeface="Arial"/>
                  </a:rPr>
                  <a:t>Moment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0040" y="3471840"/>
                <a:ext cx="29340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r>
                  <a:rPr b="0" lang="en-GB" sz="1800" spc="-1" strike="noStrike" baseline="-25000">
                    <a:solidFill>
                      <a:srgbClr val="000066"/>
                    </a:solidFill>
                    <a:latin typeface="Arial"/>
                  </a:rPr>
                  <a:t>pl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044880" y="5457960"/>
                <a:ext cx="119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4716360" y="3014640"/>
              <a:ext cx="4228920" cy="2863080"/>
              <a:chOff x="4716360" y="3014640"/>
              <a:chExt cx="4228920" cy="2863080"/>
            </a:xfrm>
          </p:grpSpPr>
          <p:sp>
            <p:nvSpPr>
              <p:cNvPr id="302" name=""/>
              <p:cNvSpPr/>
              <p:nvPr/>
            </p:nvSpPr>
            <p:spPr>
              <a:xfrm flipV="1">
                <a:off x="5211720" y="4479480"/>
                <a:ext cx="1665360" cy="27000"/>
              </a:xfrm>
              <a:prstGeom prst="line">
                <a:avLst/>
              </a:prstGeom>
              <a:ln w="19080">
                <a:solidFill>
                  <a:srgbClr val="00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5232240" y="4119480"/>
                <a:ext cx="1644840" cy="15840"/>
              </a:xfrm>
              <a:prstGeom prst="line">
                <a:avLst/>
              </a:prstGeom>
              <a:ln w="19080">
                <a:solidFill>
                  <a:srgbClr val="0099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19640" y="4406760"/>
                <a:ext cx="1325520" cy="1043280"/>
              </a:xfrm>
              <a:custGeom>
                <a:avLst/>
                <a:gdLst/>
                <a:ahLst/>
                <a:rect l="l" t="t" r="r" b="b"/>
                <a:pathLst>
                  <a:path w="1171" h="848">
                    <a:moveTo>
                      <a:pt x="0" y="848"/>
                    </a:moveTo>
                    <a:lnTo>
                      <a:pt x="242" y="428"/>
                    </a:lnTo>
                    <a:lnTo>
                      <a:pt x="387" y="227"/>
                    </a:lnTo>
                    <a:lnTo>
                      <a:pt x="522" y="89"/>
                    </a:lnTo>
                    <a:lnTo>
                      <a:pt x="632" y="18"/>
                    </a:lnTo>
                    <a:lnTo>
                      <a:pt x="731" y="0"/>
                    </a:lnTo>
                    <a:lnTo>
                      <a:pt x="822" y="30"/>
                    </a:lnTo>
                    <a:lnTo>
                      <a:pt x="906" y="114"/>
                    </a:lnTo>
                    <a:lnTo>
                      <a:pt x="1013" y="293"/>
                    </a:lnTo>
                    <a:lnTo>
                      <a:pt x="1146" y="397"/>
                    </a:lnTo>
                    <a:lnTo>
                      <a:pt x="1171" y="410"/>
                    </a:ln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11720" y="3135240"/>
                <a:ext cx="3233880" cy="2325600"/>
              </a:xfrm>
              <a:custGeom>
                <a:avLst/>
                <a:gdLst/>
                <a:ahLst/>
                <a:rect l="l" t="t" r="r" b="b"/>
                <a:pathLst>
                  <a:path w="2853" h="2051">
                    <a:moveTo>
                      <a:pt x="0" y="0"/>
                    </a:moveTo>
                    <a:lnTo>
                      <a:pt x="0" y="2051"/>
                    </a:lnTo>
                    <a:lnTo>
                      <a:pt x="2853" y="2051"/>
                    </a:lnTo>
                  </a:path>
                </a:pathLst>
              </a:custGeom>
              <a:noFill/>
              <a:ln w="31680">
                <a:solidFill>
                  <a:srgbClr val="00006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072040" y="4003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804280" y="3105000"/>
                <a:ext cx="28537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66"/>
                    </a:solidFill>
                    <a:latin typeface="Arial"/>
                  </a:rPr>
                  <a:t>No plastic rotation capacity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66"/>
                    </a:solidFill>
                    <a:latin typeface="Arial"/>
                  </a:rPr>
                  <a:t>No capacity for plastic hinge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8532720" y="5272200"/>
                <a:ext cx="412560" cy="605520"/>
                <a:chOff x="8532720" y="5272200"/>
                <a:chExt cx="412560" cy="6055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8685000" y="5272200"/>
                  <a:ext cx="119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66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8634960" y="5565600"/>
                  <a:ext cx="221760" cy="31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66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GB" sz="1800" spc="-1" strike="noStrike" baseline="-25000">
                      <a:solidFill>
                        <a:srgbClr val="000066"/>
                      </a:solidFill>
                      <a:latin typeface="Arial"/>
                    </a:rPr>
                    <a:t>pl</a:t>
                  </a: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532720" y="5573520"/>
                  <a:ext cx="412560" cy="108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716360" y="3014640"/>
                <a:ext cx="412920" cy="594720"/>
                <a:chOff x="4716360" y="3014640"/>
                <a:chExt cx="412920" cy="594720"/>
              </a:xfrm>
            </p:grpSpPr>
            <p:grpSp>
              <p:nvGrpSpPr>
                <p:cNvPr id="313" name=""/>
                <p:cNvGrpSpPr/>
                <p:nvPr/>
              </p:nvGrpSpPr>
              <p:grpSpPr>
                <a:xfrm>
                  <a:off x="4787280" y="3014640"/>
                  <a:ext cx="293400" cy="594720"/>
                  <a:chOff x="4787280" y="3014640"/>
                  <a:chExt cx="293400" cy="59472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4814640" y="3014640"/>
                    <a:ext cx="19116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66"/>
                        </a:solidFill>
                        <a:latin typeface="Arial"/>
                      </a:rPr>
                      <a:t>M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4787280" y="3297240"/>
                    <a:ext cx="293400" cy="31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66"/>
                        </a:solidFill>
                        <a:latin typeface="Arial"/>
                      </a:rPr>
                      <a:t>M</a:t>
                    </a:r>
                    <a:r>
                      <a:rPr b="0" lang="en-GB" sz="1800" spc="-1" strike="noStrike" baseline="-25000">
                        <a:solidFill>
                          <a:srgbClr val="000066"/>
                        </a:solidFill>
                        <a:latin typeface="Arial"/>
                      </a:rPr>
                      <a:t>pl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"/>
                <p:cNvSpPr/>
                <p:nvPr/>
              </p:nvSpPr>
              <p:spPr>
                <a:xfrm>
                  <a:off x="4716360" y="3303720"/>
                  <a:ext cx="41292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4716360" y="4264200"/>
                <a:ext cx="412920" cy="594360"/>
                <a:chOff x="4716360" y="4264200"/>
                <a:chExt cx="412920" cy="59436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4787280" y="4264200"/>
                  <a:ext cx="328320" cy="594360"/>
                  <a:chOff x="4787280" y="4264200"/>
                  <a:chExt cx="328320" cy="5943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4822200" y="4264200"/>
                    <a:ext cx="293400" cy="31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66"/>
                        </a:solidFill>
                        <a:latin typeface="Arial"/>
                      </a:rPr>
                      <a:t>M</a:t>
                    </a:r>
                    <a:r>
                      <a:rPr b="0" lang="en-GB" sz="1800" spc="-1" strike="noStrike" baseline="-25000">
                        <a:solidFill>
                          <a:srgbClr val="000066"/>
                        </a:solidFill>
                        <a:latin typeface="Arial"/>
                      </a:rPr>
                      <a:t>el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4787280" y="4546440"/>
                    <a:ext cx="293400" cy="31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66"/>
                        </a:solidFill>
                        <a:latin typeface="Arial"/>
                      </a:rPr>
                      <a:t>M</a:t>
                    </a:r>
                    <a:r>
                      <a:rPr b="0" lang="en-GB" sz="1800" spc="-1" strike="noStrike" baseline="-25000">
                        <a:solidFill>
                          <a:srgbClr val="000066"/>
                        </a:solidFill>
                        <a:latin typeface="Arial"/>
                      </a:rPr>
                      <a:t>pl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1" name=""/>
                <p:cNvSpPr/>
                <p:nvPr/>
              </p:nvSpPr>
              <p:spPr>
                <a:xfrm>
                  <a:off x="4716360" y="4552920"/>
                  <a:ext cx="41292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4043-F9D7-4DAC-8A6C-4A528D4EF4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3:08:39Z</dcterms:created>
  <dc:creator>Oliver Rößler</dc:creator>
  <dc:description/>
  <dc:language>en-US</dc:language>
  <cp:lastModifiedBy>Klaus Weynand</cp:lastModifiedBy>
  <dcterms:modified xsi:type="dcterms:W3CDTF">2009-02-12T15:00:07Z</dcterms:modified>
  <cp:revision>26</cp:revision>
  <dc:subject/>
  <dc:title>Folie 1</dc:title>
</cp:coreProperties>
</file>