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0ACC-7BC2-4534-BDDE-BA99BFF31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5E47-B75E-4141-9570-26BFDCC6A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F3FC-3451-46C2-A888-270D129B3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08FB-9042-4250-9E5A-86BC6543A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5A04-B6E6-4F4B-943E-627B42E47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367C-2B10-4A9A-8B35-92A72342B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B72A-877A-4AA9-BD85-04BE36864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3014-C060-4423-8BD3-684BDE5B3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2995-2416-4578-A969-6EF596E14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AB71-CF3F-47C9-B40F-39856E644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6014-2FEC-40F6-B6F1-03F5B264F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4686-7A34-4F05-8212-3B1883620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20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tigue in a lattice girder join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567A-4216-4F99-8405-C7AACBF0F7EC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7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Worked examp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2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tigue in lattice girder joi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55640" y="623736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-joint in lattice girder truss with overla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cription of join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92360" y="2349360"/>
          <a:ext cx="54007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54007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92E3-21DD-4439-ACEB-5208355C06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cription of join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terial: S35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ly diagonal brace check is illustra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tions: damage tolerant method adop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3213000"/>
          <a:ext cx="8569080" cy="273672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minal stress ran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umber of cycles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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70 </a:t>
                      </a: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/mm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1 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10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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50 </a:t>
                      </a: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/mm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1 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10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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30 </a:t>
                      </a: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/mm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1 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10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6AC7-E565-4906-9738-D5BCAC8C6D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Applicability of Metho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25480" y="1635120"/>
          <a:ext cx="53913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5480" y="1635120"/>
                    <a:ext cx="5391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316320" y="2781360"/>
          <a:ext cx="21924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6320" y="2781360"/>
                    <a:ext cx="2192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355920" y="3548160"/>
          <a:ext cx="21528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5920" y="3548160"/>
                    <a:ext cx="2152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233880" y="4365720"/>
          <a:ext cx="241776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33880" y="4365720"/>
                    <a:ext cx="24177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682720" y="5092560"/>
          <a:ext cx="3510000" cy="85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82720" y="5092560"/>
                    <a:ext cx="35100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1FB5-AFD4-4C9C-9B3B-635E6CE13A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Applicability of Metho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 out-of-plane eccentric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conditions fulfilled: method appl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00360" y="1708200"/>
          <a:ext cx="33321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08200"/>
                    <a:ext cx="33321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916360" y="2971800"/>
          <a:ext cx="28400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971800"/>
                    <a:ext cx="2840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344600" y="3960720"/>
          <a:ext cx="616428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44600" y="3960720"/>
                    <a:ext cx="61642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58E3-C9B8-4424-8725-DF6ECED990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econdary moments - Safe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ffect of secondary moments in join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rtial safety factor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349360"/>
          <a:ext cx="128592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349360"/>
                    <a:ext cx="1285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635280" y="3863880"/>
          <a:ext cx="1728720" cy="11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863880"/>
                    <a:ext cx="172872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D482-C31F-43DA-A4F7-8E0256E64B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tigue assessmen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tail category 50: </a:t>
            </a: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50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N/mm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umber of stress fluctuations per </a:t>
            </a: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73480" y="2565360"/>
          <a:ext cx="348768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2565360"/>
                    <a:ext cx="34876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79280" y="3789360"/>
          <a:ext cx="8713440" cy="2303280"/>
        </p:xfrm>
        <a:graphic>
          <a:graphicData uri="http://schemas.openxmlformats.org/drawingml/2006/table">
            <a:tbl>
              <a:tblPr/>
              <a:tblGrid>
                <a:gridCol w="4356720"/>
                <a:gridCol w="435672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minal stress ran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nduranc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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70 </a:t>
                      </a: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/mm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3,44 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10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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50 </a:t>
                      </a: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/mm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1,85 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10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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30 </a:t>
                      </a: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/mm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0" lang="pt-BR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2,38 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pt-B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10</a:t>
                      </a:r>
                      <a:r>
                        <a:rPr b="0" lang="pt-BR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F5CF-9232-4D18-9231-CE4D2D80E5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umulative damag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rtial damage D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d,i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aused by n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ycles of stress range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549600" y="2205000"/>
          <a:ext cx="12384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9600" y="2205000"/>
                    <a:ext cx="12384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564000" y="3429000"/>
          <a:ext cx="1601640" cy="15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429000"/>
                    <a:ext cx="160164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970360" y="5373720"/>
          <a:ext cx="3225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0360" y="5373720"/>
                    <a:ext cx="3225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B939-04A5-450C-8455-281583938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6-09T12:01:50Z</dcterms:modified>
  <cp:revision>170</cp:revision>
  <dc:subject/>
  <dc:title>asdasdsdsda</dc:title>
</cp:coreProperties>
</file>