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1411-DCFE-456C-B091-E45BF3CE1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2AC6-5ACA-4656-A240-57F9873D1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7FC0-5AE6-4217-B5BD-0265F14C3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3765-9B76-4909-BE5F-7E77169DB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3880-E71F-4BEE-AE10-E84AE5140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38A5-C47B-4788-B91A-E04CBE7D5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DF6F-A63B-42F6-9C28-CCB5C530B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824E-683E-410E-A886-49D7064A4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D6A3-A681-41FA-8453-ACFF8A1F6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237E-ED28-4F21-AA94-CA7B884A8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FE41-2353-494F-AB8C-2D48892BC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65E2-3C45-4570-8041-9F46DCDB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21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ultiplanar join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86A8-FE29-4984-9B2A-3C03D7E0667C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7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orked examp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2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ultiplanar joi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ometr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6920" y="1587600"/>
            <a:ext cx="8696160" cy="4217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01800" y="4632480"/>
            <a:ext cx="57636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9C01-7B48-4194-BDB7-C49538345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mens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pan: 36 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tal height: 2,08 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ength of equilateral triangle: 2,4 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 38,7°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ords: CHS 219,1x1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aces: CHS 114,3x4,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erial: S235 ste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ometr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DB5D-6FCB-4322-A8F7-149967CC2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dal load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lf-weight: G = 15 k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ariable loads: Q = 10 k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LS combination: 1,35 G + 1,5 Q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fety facto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1,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1,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1,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A503-EBDE-4D3A-BD59-20137FEE5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7280" y="1419120"/>
            <a:ext cx="8532720" cy="46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08F5-7D94-43E0-9B55-13D8891C9D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ording to EN 1993-1-8 Table 7.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ange of valid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68360" y="2349360"/>
          <a:ext cx="46929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349360"/>
                    <a:ext cx="4692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478240" y="4076640"/>
          <a:ext cx="4038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8240" y="4076640"/>
                    <a:ext cx="4038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15840" y="29541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ord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449440" y="4724280"/>
          <a:ext cx="41641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9440" y="4724280"/>
                    <a:ext cx="4164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962000" y="5373720"/>
          <a:ext cx="5112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2000" y="5373720"/>
                    <a:ext cx="5112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390760" y="2971800"/>
          <a:ext cx="436248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0760" y="2971800"/>
                    <a:ext cx="436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411280" y="3429000"/>
          <a:ext cx="41068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3429000"/>
                    <a:ext cx="4106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39960" y="3402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ac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4850-93AC-4A05-983D-12EC51655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duction factor: </a:t>
            </a:r>
            <a:r>
              <a:rPr b="0" i="1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= 0.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KK joi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24200" y="2276640"/>
          <a:ext cx="35481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4200" y="2276640"/>
                    <a:ext cx="35481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19280" y="5079960"/>
          <a:ext cx="5967360" cy="9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079960"/>
                    <a:ext cx="596736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1"/>
          <p:cNvGraphicFramePr/>
          <p:nvPr/>
        </p:nvGraphicFramePr>
        <p:xfrm>
          <a:off x="1560600" y="2967120"/>
          <a:ext cx="60166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60600" y="2967120"/>
                    <a:ext cx="6016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3"/>
          <p:cNvGraphicFramePr/>
          <p:nvPr/>
        </p:nvGraphicFramePr>
        <p:xfrm>
          <a:off x="1608120" y="4029120"/>
          <a:ext cx="5938920" cy="8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8120" y="4029120"/>
                    <a:ext cx="59389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3DA1-1123-4B0D-977B-4BD93761B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hord face failure - K joi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66880" y="1700280"/>
          <a:ext cx="356688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700280"/>
                    <a:ext cx="3566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037120" y="1700280"/>
          <a:ext cx="315612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7120" y="1700280"/>
                    <a:ext cx="31561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47720" y="2276640"/>
          <a:ext cx="3881520" cy="87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2276640"/>
                    <a:ext cx="388152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784840" y="2492280"/>
          <a:ext cx="123516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4840" y="2492280"/>
                    <a:ext cx="1235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908000" y="3357720"/>
          <a:ext cx="5434200" cy="87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3357720"/>
                    <a:ext cx="54342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021120" y="4457880"/>
          <a:ext cx="320652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1120" y="4457880"/>
                    <a:ext cx="32065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1"/>
          <p:cNvGraphicFramePr/>
          <p:nvPr/>
        </p:nvGraphicFramePr>
        <p:xfrm>
          <a:off x="1187280" y="5445000"/>
          <a:ext cx="7059960" cy="501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5445000"/>
                    <a:ext cx="70599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AC53-A681-4932-9F0D-E501F23544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unching shear fail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050920" y="1819440"/>
          <a:ext cx="4552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19440"/>
                    <a:ext cx="4552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84360" y="2492280"/>
          <a:ext cx="7281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492280"/>
                    <a:ext cx="7281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tisfac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E6E5-70B2-4A8B-900D-BD47D2A9C8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6-09T18:03:06Z</dcterms:modified>
  <cp:revision>71</cp:revision>
  <dc:subject/>
  <dc:title>asdasdsdsda</dc:title>
</cp:coreProperties>
</file>