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.jpeg" ContentType="image/jpeg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E81A-9CBF-47BE-A8CF-2C9678589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36AA-B8CF-4C4A-AE1A-E5B4B1D25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EF8B-6B7A-463D-95A5-85CB4814F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0072-E2A9-41DF-9EFD-837FCED8D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0589-01FC-4813-AB08-6065E9850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9647-7FEF-432E-87C6-526EAB148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50E5-560F-41AC-A0FD-A07C75D59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8A25-532B-480F-9B39-1F21D2C46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720A-501B-466D-85F7-6401CCCFF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9A7C-3211-48EB-A17C-FDAE50358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A4C4-EB42-4D1C-BBCF-2E4F2EBB2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B043-CD76-43CC-8AEC-8C3108AB9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1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97120" indent="-2732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cture 18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Design of beam-to-column bolted join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244000" y="6453000"/>
            <a:ext cx="6588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EBB6-326A-46C3-BB71-46674D04BE27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48120" y="6275520"/>
            <a:ext cx="45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Feb. 2009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4936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ITE  INTERNATIONAL  POUR  LE  DEVELOPP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  L'ETUDE  DE  LA  CONSTRUCTION  TUB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58920" y="45086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sentation by …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08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odule 7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Worked examp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886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ecture 18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ign of beam-to-column bolted joi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58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Training and Education for the Implementation of Eurocode 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6064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52388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976400" algn="ctr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3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iffness and resistanc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lumn web in compression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sistanc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517680" y="3141720"/>
          <a:ext cx="85309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3141720"/>
                    <a:ext cx="853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116000" y="3933720"/>
          <a:ext cx="700740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3933720"/>
                    <a:ext cx="70074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3719520" y="4653000"/>
          <a:ext cx="85248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9520" y="4653000"/>
                    <a:ext cx="852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881520" y="5300640"/>
          <a:ext cx="69048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1520" y="5300640"/>
                    <a:ext cx="6904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E492-4B9F-43EF-97F1-BF67571078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iffness and resistanc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lumn web in compression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sistanc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24000" y="3141720"/>
          <a:ext cx="3678120" cy="25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141720"/>
                    <a:ext cx="3678120" cy="25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4356000" y="3141720"/>
          <a:ext cx="4638600" cy="203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141720"/>
                    <a:ext cx="463860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4140360" y="3141720"/>
            <a:ext cx="0" cy="2808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617D-E42F-4C53-B7BE-CD27D225EB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iffness and resistanc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lumn web in compression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tiffnes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476360" y="3213000"/>
          <a:ext cx="7435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13000"/>
                    <a:ext cx="7435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5521-828A-4EE1-8902-084788951F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iffness and resistanc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lumn web in tension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sistanc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042920" y="3068640"/>
          <a:ext cx="650088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068640"/>
                    <a:ext cx="65008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2786040" y="4292640"/>
          <a:ext cx="17524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4292640"/>
                    <a:ext cx="1752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776160" y="5084640"/>
          <a:ext cx="8048880" cy="4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6160" y="5084640"/>
                    <a:ext cx="8048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BCC3-D94C-4E05-BB5F-B2C041212E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iffness and resistanc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lumn web in tension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tiffnes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1547640" y="3213000"/>
          <a:ext cx="6589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213000"/>
                    <a:ext cx="6589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1EC3-3FDD-417F-8A93-8EF264F725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iffness and resistanc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nd-plate in bending (column side)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sistanc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2640" y="2971800"/>
          <a:ext cx="61707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2640" y="2971800"/>
                    <a:ext cx="61707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2205000" y="3780000"/>
          <a:ext cx="63993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5000" y="3780000"/>
                    <a:ext cx="6399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1482840" y="4292640"/>
          <a:ext cx="6500520" cy="19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82840" y="4292640"/>
                    <a:ext cx="65005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6152-5690-477B-BE09-2EC9432335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iffness and resistanc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nd-plate in bending (column side)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sistanc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692360" y="2997360"/>
          <a:ext cx="6530760" cy="16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997360"/>
                    <a:ext cx="653076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1835280" y="4797360"/>
          <a:ext cx="5078160" cy="10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797360"/>
                    <a:ext cx="507816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25FEF-C2D6-49B1-81AF-C77A8AA8BB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iffness and resistanc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nd-plate in bending (column side)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tiffnes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835280" y="3429000"/>
          <a:ext cx="560376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429000"/>
                    <a:ext cx="56037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ECB5-FEC1-4AE5-B1CB-9BDEA6710E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iffness and resistanc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nd-plate in bending (beam side)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sistanc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2214720" y="3429000"/>
          <a:ext cx="654984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3429000"/>
                    <a:ext cx="65498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1865160" y="2946240"/>
          <a:ext cx="388476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65160" y="2946240"/>
                    <a:ext cx="3884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1566720" y="4005360"/>
          <a:ext cx="657540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66720" y="4005360"/>
                    <a:ext cx="65754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97C4-7C74-4A18-AB08-AB04A320A9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iffness and resistanc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nd-plate in bending (beam side)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sistanc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763640" y="2997360"/>
          <a:ext cx="6504120" cy="16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997360"/>
                    <a:ext cx="6504120" cy="16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2316240" y="4761000"/>
          <a:ext cx="4976640" cy="106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6240" y="4761000"/>
                    <a:ext cx="497664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0B237-4C3B-4979-884C-17EDB548A5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orked example illustrates two bolted connections (from the Frame Analysis Worked Exampl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igid” double-sided beam-to-column joint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inned” beam-to-column joi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igid joint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figuration with no dedicated rules in EN 1993-1-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uidelines, recommend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inned joint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ign according to European recommend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1DF4-82A7-4714-9EF8-1C5913F2ED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iffness and resistanc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nd-plate in bending (beam side)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tiffnes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835280" y="3429000"/>
          <a:ext cx="51530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429000"/>
                    <a:ext cx="5153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8354-B8C3-4E56-9983-03DF8BEA5F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iffness and resistanc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am flange in compression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sistanc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tiffnes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2519280" y="3068640"/>
          <a:ext cx="498168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9280" y="3068640"/>
                    <a:ext cx="49816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843280" y="4653000"/>
          <a:ext cx="871560" cy="45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4653000"/>
                    <a:ext cx="8715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D3CC-5EAB-4160-B6F1-BFE7936EAC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iffness and resistanc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olts in tension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sistanc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tiffnes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2589120" y="3284640"/>
          <a:ext cx="474840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9120" y="3284640"/>
                    <a:ext cx="47484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2523960" y="4724280"/>
          <a:ext cx="515484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3960" y="4724280"/>
                    <a:ext cx="51548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F954-1C85-4D50-8BF0-6D0FE29ED1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iffness and resistanc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lumn web panel in shear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sistanc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tiffnes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3732120" y="3284640"/>
          <a:ext cx="241164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2120" y="3284640"/>
                    <a:ext cx="24116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876840" y="4581360"/>
          <a:ext cx="210816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6840" y="4581360"/>
                    <a:ext cx="21081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C053-C386-48C2-94CD-757DF7097B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aluation of mechanical properti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sistanc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iffnes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059280" y="2276640"/>
          <a:ext cx="350352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276640"/>
                    <a:ext cx="35035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2916360" y="2946240"/>
          <a:ext cx="583884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2946240"/>
                    <a:ext cx="58388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2268360" y="3716280"/>
          <a:ext cx="660276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3716280"/>
                    <a:ext cx="66027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0132-EB6A-4695-9574-1B5A72A36F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Verification of joint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sistanc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tiffnes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Joint is rigid, assumption validated a posterior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12920" y="2658960"/>
          <a:ext cx="471816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2920" y="2658960"/>
                    <a:ext cx="47181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1332000" y="4033800"/>
          <a:ext cx="655164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033800"/>
                    <a:ext cx="655164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DEB7-9C6C-438B-A1E2-95D72A7FD3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am-to-column joi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ssumed as pinn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n plate conn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urocode 3: no specific ru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CCS recommend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(no major contradiction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4001-F4CC-4F46-9EC5-39BC08DF2C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eometrical descrip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lumn RHS 260x180x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am IPE 33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in plate 250x110x1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olts M22 10.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teri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355 for a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rcRect l="0" t="0" r="43727" b="0"/>
          <a:stretch/>
        </p:blipFill>
        <p:spPr>
          <a:xfrm>
            <a:off x="4859280" y="1628640"/>
            <a:ext cx="387180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957E-EC6F-4B51-AF69-55A4C40837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imension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50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m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75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m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75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m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1n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50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m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50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m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2b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50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m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z =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60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m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rcRect l="70408" t="0" r="0" b="0"/>
          <a:stretch/>
        </p:blipFill>
        <p:spPr>
          <a:xfrm>
            <a:off x="4284720" y="1282680"/>
            <a:ext cx="2097000" cy="45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BD64-F03A-4AEB-802D-EDE52F9760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ist of potential failure mod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olts in she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in plate in bea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in plate in shear: gross cross-s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in plate in shear: net cross-s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in plate in shear: shear blo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late in ben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AB42-2E49-49E0-87A6-BE05F5C30B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ructure of lectur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bolted connections (“rigid”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sistance and stiffness propert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Verification of resistance and modellin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bolted connection (“pinned”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List of failure mod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hecks for individual failure mod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dditional requirem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7356-D3A0-4F5B-835B-D3741FB063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ist of potential failure mod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uckling of the fin pl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am web in bea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am web in shear: gross cross-s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am web in shear: net cross-s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am web in shear: shear blo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HS wall in shear: shear failure adjacent to wel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AC91-8C31-4E1B-A21A-E623F45BB9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dditional requirement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ufficient rotation capac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mature weld fail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lastic redistribution of internal for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CB0E-1294-4B3F-9604-FD86ECD3E6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olts in shear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2208240" y="2708280"/>
          <a:ext cx="403056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2708280"/>
                    <a:ext cx="40305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2124000" y="3860640"/>
          <a:ext cx="4592880" cy="15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3860640"/>
                    <a:ext cx="459288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51EC-AFEA-41A2-B29C-1EEF0DDC98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n plate in bearing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717560" y="2370240"/>
          <a:ext cx="537696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370240"/>
                    <a:ext cx="53769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1644480" y="3306600"/>
          <a:ext cx="541980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4480" y="3306600"/>
                    <a:ext cx="54198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1619280" y="4149720"/>
          <a:ext cx="5700600" cy="154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4149720"/>
                    <a:ext cx="570060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D066-3329-48C1-8FAD-5DCC76D7C2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n plate in shear: gross cross-s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n plate in shear: net cross-s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2195640" y="2351160"/>
          <a:ext cx="38685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351160"/>
                    <a:ext cx="386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1" name=""/>
          <p:cNvGraphicFramePr/>
          <p:nvPr/>
        </p:nvGraphicFramePr>
        <p:xfrm>
          <a:off x="2151000" y="4581360"/>
          <a:ext cx="3429000" cy="9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51000" y="4581360"/>
                    <a:ext cx="34290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623C-F9B4-4274-9CCE-8D0B7377E32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n plate in shear: shear bloc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2359080" y="2347920"/>
          <a:ext cx="38685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9080" y="2347920"/>
                    <a:ext cx="38685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1704960" y="3230640"/>
          <a:ext cx="52498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4960" y="3230640"/>
                    <a:ext cx="52498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1020600" y="4043520"/>
          <a:ext cx="6936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0600" y="4043520"/>
                    <a:ext cx="6936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2771640" y="5084640"/>
          <a:ext cx="319896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5084640"/>
                    <a:ext cx="31989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F7B6-5534-4EDB-B915-61E9E3C191F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late in bending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uckling of the fin plat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762360" y="3303720"/>
          <a:ext cx="1170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360" y="3303720"/>
                    <a:ext cx="1170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2217600" y="2438280"/>
          <a:ext cx="434844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7600" y="2438280"/>
                    <a:ext cx="434844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2784600" y="4948200"/>
          <a:ext cx="307980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84600" y="4948200"/>
                    <a:ext cx="30798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2B7C-729B-495B-A9F1-08B255834AD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am web in bearing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704960" y="2367000"/>
          <a:ext cx="54165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2367000"/>
                    <a:ext cx="54165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1631880" y="3306600"/>
          <a:ext cx="548172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3306600"/>
                    <a:ext cx="54817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1476360" y="4149720"/>
          <a:ext cx="5697720" cy="154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4149720"/>
                    <a:ext cx="56977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2E3F-9065-43A9-8B23-3E4F5981537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am web in shear: gross cross-s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am web in shear: net cross-s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2281320" y="2424240"/>
          <a:ext cx="38433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2424240"/>
                    <a:ext cx="3843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2585880" y="4508640"/>
          <a:ext cx="3714840" cy="9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5880" y="4508640"/>
                    <a:ext cx="37148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7511-B4B5-4D95-A0D4-FFF747CEAC2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am web in shear: shear bloc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2313000" y="2344680"/>
          <a:ext cx="405936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3000" y="2344680"/>
                    <a:ext cx="40593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1271520" y="3211560"/>
          <a:ext cx="631980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1520" y="3211560"/>
                    <a:ext cx="63198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968400" y="4043520"/>
          <a:ext cx="69166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68400" y="4043520"/>
                    <a:ext cx="6916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2784600" y="5113440"/>
          <a:ext cx="325260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84600" y="5113440"/>
                    <a:ext cx="32526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5DB9-7FDD-452C-BEF1-DD6B58609D8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uble-sided beam-to-column joi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00000" y="2309760"/>
            <a:ext cx="7128000" cy="3440160"/>
            <a:chOff x="900000" y="2309760"/>
            <a:chExt cx="7128000" cy="3440160"/>
          </a:xfrm>
        </p:grpSpPr>
        <p:sp>
          <p:nvSpPr>
            <p:cNvPr id="108" name=""/>
            <p:cNvSpPr/>
            <p:nvPr/>
          </p:nvSpPr>
          <p:spPr>
            <a:xfrm>
              <a:off x="5590080" y="3322800"/>
              <a:ext cx="54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66"/>
                  </a:solidFill>
                  <a:latin typeface="Arial"/>
                </a:rPr>
                <a:t>IPE 400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63840" y="5192640"/>
              <a:ext cx="121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66"/>
                  </a:solidFill>
                  <a:latin typeface="Arial"/>
                </a:rPr>
                <a:t>RHS 260x180x1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74760" y="3516480"/>
              <a:ext cx="14860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49800" y="3516480"/>
              <a:ext cx="14860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74760" y="4249800"/>
              <a:ext cx="14860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49800" y="4249800"/>
              <a:ext cx="14860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60840" y="3368520"/>
              <a:ext cx="0" cy="735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49800" y="3516480"/>
              <a:ext cx="0" cy="733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660840" y="3222360"/>
              <a:ext cx="0" cy="14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3076560"/>
              <a:ext cx="0" cy="132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660840" y="4397400"/>
              <a:ext cx="1490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660840" y="4103640"/>
              <a:ext cx="0" cy="293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000760" y="4249800"/>
              <a:ext cx="0" cy="293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49800" y="3222720"/>
              <a:ext cx="0" cy="1174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00760" y="3222720"/>
              <a:ext cx="1490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000760" y="3222720"/>
              <a:ext cx="0" cy="293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00760" y="3516480"/>
              <a:ext cx="0" cy="733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809880" y="3003120"/>
              <a:ext cx="0" cy="219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000760" y="3003120"/>
              <a:ext cx="0" cy="219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4543560"/>
              <a:ext cx="0" cy="220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00760" y="4543560"/>
              <a:ext cx="0" cy="220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4760" y="2489040"/>
              <a:ext cx="0" cy="3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84760" y="2612880"/>
              <a:ext cx="0" cy="60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84760" y="2766960"/>
              <a:ext cx="0" cy="60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84760" y="292104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84760" y="3075120"/>
              <a:ext cx="0" cy="6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84760" y="322884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84760" y="338292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4760" y="353700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84760" y="369108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84760" y="384480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84760" y="399888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4760" y="415296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84760" y="430704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4760" y="446076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4760" y="4616280"/>
              <a:ext cx="0" cy="60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84760" y="476892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84760" y="492444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84760" y="507672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84760" y="523224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84760" y="538632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84760" y="5540400"/>
              <a:ext cx="0" cy="3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25880" y="2489040"/>
              <a:ext cx="0" cy="3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25880" y="2612880"/>
              <a:ext cx="0" cy="60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25880" y="2766960"/>
              <a:ext cx="0" cy="60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25880" y="292104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25880" y="3075120"/>
              <a:ext cx="0" cy="6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25880" y="322884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25880" y="338292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25880" y="353700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25880" y="369108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25880" y="384480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25880" y="399888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25880" y="415296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25880" y="430704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25880" y="446076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25880" y="4616280"/>
              <a:ext cx="0" cy="60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25880" y="476892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25880" y="492444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25880" y="507672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25880" y="523224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25880" y="5386320"/>
              <a:ext cx="0" cy="61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25880" y="5540400"/>
              <a:ext cx="0" cy="3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174760" y="3589200"/>
              <a:ext cx="14860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174760" y="4176720"/>
              <a:ext cx="14860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149800" y="3589200"/>
              <a:ext cx="14860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149800" y="4176720"/>
              <a:ext cx="14860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36800" y="3222720"/>
              <a:ext cx="0" cy="1174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73480" y="3222720"/>
              <a:ext cx="0" cy="1174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09880" y="2488680"/>
              <a:ext cx="0" cy="514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9880" y="4764240"/>
              <a:ext cx="0" cy="806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00760" y="4764240"/>
              <a:ext cx="0" cy="806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000760" y="2488680"/>
              <a:ext cx="0" cy="514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60840" y="3222720"/>
              <a:ext cx="1490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000760" y="4397400"/>
              <a:ext cx="1490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0840" y="3297240"/>
              <a:ext cx="1490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60840" y="3333600"/>
              <a:ext cx="1490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60840" y="3686040"/>
              <a:ext cx="1490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60840" y="3649680"/>
              <a:ext cx="1490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60840" y="4056120"/>
              <a:ext cx="1490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60840" y="4094280"/>
              <a:ext cx="1490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00760" y="4094280"/>
              <a:ext cx="1490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00760" y="4056120"/>
              <a:ext cx="1490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00760" y="3649680"/>
              <a:ext cx="1490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00760" y="3686040"/>
              <a:ext cx="1490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00760" y="3333600"/>
              <a:ext cx="1490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00760" y="3297240"/>
              <a:ext cx="1490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60840" y="3649680"/>
              <a:ext cx="7596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8" y="23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48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60840" y="3649680"/>
              <a:ext cx="7596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8" y="23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48" y="23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60840" y="3649680"/>
              <a:ext cx="7596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0"/>
                  </a:moveTo>
                  <a:lnTo>
                    <a:pt x="0" y="23"/>
                  </a:lnTo>
                  <a:lnTo>
                    <a:pt x="48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60840" y="3649680"/>
              <a:ext cx="7596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0"/>
                  </a:moveTo>
                  <a:lnTo>
                    <a:pt x="0" y="23"/>
                  </a:lnTo>
                  <a:lnTo>
                    <a:pt x="48" y="2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60840" y="3297240"/>
              <a:ext cx="7596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23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60840" y="3297240"/>
              <a:ext cx="7596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23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3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60840" y="3297240"/>
              <a:ext cx="7596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8" y="0"/>
                  </a:moveTo>
                  <a:lnTo>
                    <a:pt x="0" y="23"/>
                  </a:lnTo>
                  <a:lnTo>
                    <a:pt x="48" y="2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60840" y="3297240"/>
              <a:ext cx="7596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8" y="0"/>
                  </a:moveTo>
                  <a:lnTo>
                    <a:pt x="0" y="23"/>
                  </a:lnTo>
                  <a:lnTo>
                    <a:pt x="48" y="23"/>
                  </a:lnTo>
                  <a:lnTo>
                    <a:pt x="48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60840" y="4056120"/>
              <a:ext cx="75960" cy="381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0" y="0"/>
                  </a:moveTo>
                  <a:lnTo>
                    <a:pt x="0" y="24"/>
                  </a:lnTo>
                  <a:lnTo>
                    <a:pt x="48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60840" y="4056120"/>
              <a:ext cx="75960" cy="381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0" y="0"/>
                  </a:moveTo>
                  <a:lnTo>
                    <a:pt x="0" y="24"/>
                  </a:lnTo>
                  <a:lnTo>
                    <a:pt x="48" y="2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60840" y="4056120"/>
              <a:ext cx="75960" cy="381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48" y="0"/>
                  </a:moveTo>
                  <a:lnTo>
                    <a:pt x="0" y="0"/>
                  </a:lnTo>
                  <a:lnTo>
                    <a:pt x="48" y="2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60840" y="4056120"/>
              <a:ext cx="75960" cy="381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48" y="0"/>
                  </a:moveTo>
                  <a:lnTo>
                    <a:pt x="0" y="0"/>
                  </a:lnTo>
                  <a:lnTo>
                    <a:pt x="48" y="24"/>
                  </a:lnTo>
                  <a:lnTo>
                    <a:pt x="48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36800" y="3649680"/>
              <a:ext cx="7308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6" y="0"/>
                  </a:moveTo>
                  <a:lnTo>
                    <a:pt x="0" y="23"/>
                  </a:lnTo>
                  <a:lnTo>
                    <a:pt x="46" y="2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6800" y="3649680"/>
              <a:ext cx="7308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6" y="0"/>
                  </a:moveTo>
                  <a:lnTo>
                    <a:pt x="0" y="23"/>
                  </a:lnTo>
                  <a:lnTo>
                    <a:pt x="46" y="23"/>
                  </a:lnTo>
                  <a:lnTo>
                    <a:pt x="46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36800" y="3649680"/>
              <a:ext cx="7308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0"/>
                  </a:moveTo>
                  <a:lnTo>
                    <a:pt x="0" y="23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6800" y="3649680"/>
              <a:ext cx="7308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0"/>
                  </a:moveTo>
                  <a:lnTo>
                    <a:pt x="0" y="23"/>
                  </a:lnTo>
                  <a:lnTo>
                    <a:pt x="46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36800" y="3297240"/>
              <a:ext cx="7308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6" y="0"/>
                  </a:moveTo>
                  <a:lnTo>
                    <a:pt x="0" y="23"/>
                  </a:lnTo>
                  <a:lnTo>
                    <a:pt x="46" y="2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36800" y="3297240"/>
              <a:ext cx="7308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6" y="0"/>
                  </a:moveTo>
                  <a:lnTo>
                    <a:pt x="0" y="23"/>
                  </a:lnTo>
                  <a:lnTo>
                    <a:pt x="46" y="23"/>
                  </a:lnTo>
                  <a:lnTo>
                    <a:pt x="46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36800" y="3297240"/>
              <a:ext cx="7308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0"/>
                  </a:moveTo>
                  <a:lnTo>
                    <a:pt x="0" y="23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36800" y="3297240"/>
              <a:ext cx="7308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0"/>
                  </a:moveTo>
                  <a:lnTo>
                    <a:pt x="0" y="23"/>
                  </a:lnTo>
                  <a:lnTo>
                    <a:pt x="46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36800" y="405612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24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36800" y="405612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24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24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36800" y="405612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46" y="0"/>
                  </a:moveTo>
                  <a:lnTo>
                    <a:pt x="0" y="24"/>
                  </a:lnTo>
                  <a:lnTo>
                    <a:pt x="46" y="2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36800" y="405612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46" y="0"/>
                  </a:moveTo>
                  <a:lnTo>
                    <a:pt x="0" y="24"/>
                  </a:lnTo>
                  <a:lnTo>
                    <a:pt x="46" y="24"/>
                  </a:lnTo>
                  <a:lnTo>
                    <a:pt x="46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0760" y="4056120"/>
              <a:ext cx="7272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0"/>
                  </a:moveTo>
                  <a:lnTo>
                    <a:pt x="0" y="24"/>
                  </a:lnTo>
                  <a:lnTo>
                    <a:pt x="46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0760" y="4056120"/>
              <a:ext cx="7272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0"/>
                  </a:moveTo>
                  <a:lnTo>
                    <a:pt x="0" y="24"/>
                  </a:lnTo>
                  <a:lnTo>
                    <a:pt x="46" y="2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00760" y="4056120"/>
              <a:ext cx="7272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46" y="0"/>
                  </a:moveTo>
                  <a:lnTo>
                    <a:pt x="0" y="0"/>
                  </a:lnTo>
                  <a:lnTo>
                    <a:pt x="46" y="2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0760" y="4056120"/>
              <a:ext cx="7272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46" y="0"/>
                  </a:moveTo>
                  <a:lnTo>
                    <a:pt x="0" y="0"/>
                  </a:lnTo>
                  <a:lnTo>
                    <a:pt x="46" y="24"/>
                  </a:lnTo>
                  <a:lnTo>
                    <a:pt x="46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73480" y="4056120"/>
              <a:ext cx="76320" cy="381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0" y="0"/>
                  </a:moveTo>
                  <a:lnTo>
                    <a:pt x="0" y="24"/>
                  </a:lnTo>
                  <a:lnTo>
                    <a:pt x="48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73480" y="4056120"/>
              <a:ext cx="76320" cy="381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0" y="0"/>
                  </a:moveTo>
                  <a:lnTo>
                    <a:pt x="0" y="24"/>
                  </a:lnTo>
                  <a:lnTo>
                    <a:pt x="48" y="2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73480" y="4056120"/>
              <a:ext cx="76320" cy="381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48" y="0"/>
                  </a:moveTo>
                  <a:lnTo>
                    <a:pt x="0" y="0"/>
                  </a:lnTo>
                  <a:lnTo>
                    <a:pt x="48" y="2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73480" y="4056120"/>
              <a:ext cx="76320" cy="381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48" y="0"/>
                  </a:moveTo>
                  <a:lnTo>
                    <a:pt x="0" y="0"/>
                  </a:lnTo>
                  <a:lnTo>
                    <a:pt x="48" y="24"/>
                  </a:lnTo>
                  <a:lnTo>
                    <a:pt x="48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73480" y="364968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8" y="0"/>
                  </a:moveTo>
                  <a:lnTo>
                    <a:pt x="0" y="23"/>
                  </a:lnTo>
                  <a:lnTo>
                    <a:pt x="48" y="2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73480" y="364968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8" y="0"/>
                  </a:moveTo>
                  <a:lnTo>
                    <a:pt x="0" y="23"/>
                  </a:lnTo>
                  <a:lnTo>
                    <a:pt x="48" y="23"/>
                  </a:lnTo>
                  <a:lnTo>
                    <a:pt x="48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73480" y="364968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0"/>
                  </a:moveTo>
                  <a:lnTo>
                    <a:pt x="0" y="23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73480" y="364968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0"/>
                  </a:moveTo>
                  <a:lnTo>
                    <a:pt x="0" y="23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0760" y="3649680"/>
              <a:ext cx="7272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6" y="0"/>
                  </a:moveTo>
                  <a:lnTo>
                    <a:pt x="0" y="23"/>
                  </a:lnTo>
                  <a:lnTo>
                    <a:pt x="46" y="2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00760" y="3649680"/>
              <a:ext cx="7272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6" y="0"/>
                  </a:moveTo>
                  <a:lnTo>
                    <a:pt x="0" y="23"/>
                  </a:lnTo>
                  <a:lnTo>
                    <a:pt x="46" y="23"/>
                  </a:lnTo>
                  <a:lnTo>
                    <a:pt x="46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00760" y="3649680"/>
              <a:ext cx="7272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0"/>
                  </a:moveTo>
                  <a:lnTo>
                    <a:pt x="0" y="23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00760" y="3649680"/>
              <a:ext cx="7272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0"/>
                  </a:moveTo>
                  <a:lnTo>
                    <a:pt x="0" y="23"/>
                  </a:lnTo>
                  <a:lnTo>
                    <a:pt x="46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00760" y="3297240"/>
              <a:ext cx="7272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6" y="0"/>
                  </a:moveTo>
                  <a:lnTo>
                    <a:pt x="0" y="23"/>
                  </a:lnTo>
                  <a:lnTo>
                    <a:pt x="46" y="2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00760" y="3297240"/>
              <a:ext cx="7272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6" y="0"/>
                  </a:moveTo>
                  <a:lnTo>
                    <a:pt x="0" y="23"/>
                  </a:lnTo>
                  <a:lnTo>
                    <a:pt x="46" y="23"/>
                  </a:lnTo>
                  <a:lnTo>
                    <a:pt x="46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00760" y="3297240"/>
              <a:ext cx="7272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0"/>
                  </a:moveTo>
                  <a:lnTo>
                    <a:pt x="0" y="23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00760" y="3297240"/>
              <a:ext cx="7272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0"/>
                  </a:moveTo>
                  <a:lnTo>
                    <a:pt x="0" y="23"/>
                  </a:lnTo>
                  <a:lnTo>
                    <a:pt x="46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73480" y="329724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8" y="0"/>
                  </a:moveTo>
                  <a:lnTo>
                    <a:pt x="48" y="23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73480" y="329724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8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48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73480" y="3297240"/>
              <a:ext cx="76320" cy="3636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32080" y="3562200"/>
              <a:ext cx="193680" cy="567000"/>
            </a:xfrm>
            <a:custGeom>
              <a:avLst/>
              <a:gdLst/>
              <a:ahLst/>
              <a:rect l="l" t="t" r="r" b="b"/>
              <a:pathLst>
                <a:path w="122" h="357">
                  <a:moveTo>
                    <a:pt x="122" y="0"/>
                  </a:moveTo>
                  <a:lnTo>
                    <a:pt x="101" y="12"/>
                  </a:lnTo>
                  <a:lnTo>
                    <a:pt x="82" y="28"/>
                  </a:lnTo>
                  <a:lnTo>
                    <a:pt x="63" y="44"/>
                  </a:lnTo>
                  <a:lnTo>
                    <a:pt x="48" y="63"/>
                  </a:lnTo>
                  <a:lnTo>
                    <a:pt x="34" y="84"/>
                  </a:lnTo>
                  <a:lnTo>
                    <a:pt x="22" y="105"/>
                  </a:lnTo>
                  <a:lnTo>
                    <a:pt x="13" y="128"/>
                  </a:lnTo>
                  <a:lnTo>
                    <a:pt x="6" y="152"/>
                  </a:lnTo>
                  <a:lnTo>
                    <a:pt x="2" y="176"/>
                  </a:lnTo>
                  <a:lnTo>
                    <a:pt x="0" y="201"/>
                  </a:lnTo>
                  <a:lnTo>
                    <a:pt x="2" y="225"/>
                  </a:lnTo>
                  <a:lnTo>
                    <a:pt x="5" y="249"/>
                  </a:lnTo>
                  <a:lnTo>
                    <a:pt x="11" y="273"/>
                  </a:lnTo>
                  <a:lnTo>
                    <a:pt x="21" y="296"/>
                  </a:lnTo>
                  <a:lnTo>
                    <a:pt x="32" y="317"/>
                  </a:lnTo>
                  <a:lnTo>
                    <a:pt x="45" y="338"/>
                  </a:lnTo>
                  <a:lnTo>
                    <a:pt x="61" y="357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528920" y="4105440"/>
              <a:ext cx="28440" cy="23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500120" y="4129200"/>
              <a:ext cx="28800" cy="23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1557360" y="4105440"/>
              <a:ext cx="68400" cy="117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1499760" y="4105440"/>
              <a:ext cx="57240" cy="47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00120" y="4152960"/>
              <a:ext cx="125640" cy="6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00120" y="410544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35"/>
                  </a:moveTo>
                  <a:lnTo>
                    <a:pt x="36" y="0"/>
                  </a:lnTo>
                  <a:lnTo>
                    <a:pt x="0" y="30"/>
                  </a:lnTo>
                  <a:lnTo>
                    <a:pt x="39" y="3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00120" y="410544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35"/>
                  </a:moveTo>
                  <a:lnTo>
                    <a:pt x="36" y="0"/>
                  </a:lnTo>
                  <a:lnTo>
                    <a:pt x="0" y="30"/>
                  </a:lnTo>
                  <a:lnTo>
                    <a:pt x="39" y="35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120" y="4152960"/>
              <a:ext cx="125640" cy="6984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39" y="5"/>
                  </a:moveTo>
                  <a:lnTo>
                    <a:pt x="0" y="0"/>
                  </a:lnTo>
                  <a:lnTo>
                    <a:pt x="79" y="44"/>
                  </a:lnTo>
                  <a:lnTo>
                    <a:pt x="39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00120" y="4152960"/>
              <a:ext cx="125640" cy="6984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39" y="5"/>
                  </a:moveTo>
                  <a:lnTo>
                    <a:pt x="0" y="0"/>
                  </a:lnTo>
                  <a:lnTo>
                    <a:pt x="79" y="44"/>
                  </a:lnTo>
                  <a:lnTo>
                    <a:pt x="39" y="5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57360" y="4105440"/>
              <a:ext cx="68400" cy="11736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3" y="35"/>
                  </a:moveTo>
                  <a:lnTo>
                    <a:pt x="43" y="74"/>
                  </a:lnTo>
                  <a:lnTo>
                    <a:pt x="0" y="0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57360" y="4105440"/>
              <a:ext cx="68400" cy="11736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3" y="35"/>
                  </a:moveTo>
                  <a:lnTo>
                    <a:pt x="43" y="74"/>
                  </a:lnTo>
                  <a:lnTo>
                    <a:pt x="0" y="0"/>
                  </a:lnTo>
                  <a:lnTo>
                    <a:pt x="3" y="35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84880" y="4105440"/>
              <a:ext cx="68400" cy="11736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41" y="35"/>
                  </a:moveTo>
                  <a:lnTo>
                    <a:pt x="43" y="0"/>
                  </a:lnTo>
                  <a:lnTo>
                    <a:pt x="0" y="74"/>
                  </a:lnTo>
                  <a:lnTo>
                    <a:pt x="41" y="3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84880" y="4105440"/>
              <a:ext cx="68400" cy="11736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41" y="35"/>
                  </a:moveTo>
                  <a:lnTo>
                    <a:pt x="43" y="0"/>
                  </a:lnTo>
                  <a:lnTo>
                    <a:pt x="0" y="74"/>
                  </a:lnTo>
                  <a:lnTo>
                    <a:pt x="41" y="35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84880" y="4152960"/>
              <a:ext cx="125640" cy="6984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41" y="5"/>
                  </a:moveTo>
                  <a:lnTo>
                    <a:pt x="0" y="44"/>
                  </a:lnTo>
                  <a:lnTo>
                    <a:pt x="79" y="0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84880" y="4152960"/>
              <a:ext cx="125640" cy="6984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41" y="5"/>
                  </a:moveTo>
                  <a:lnTo>
                    <a:pt x="0" y="44"/>
                  </a:lnTo>
                  <a:lnTo>
                    <a:pt x="79" y="0"/>
                  </a:lnTo>
                  <a:lnTo>
                    <a:pt x="41" y="5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50040" y="410544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35"/>
                  </a:moveTo>
                  <a:lnTo>
                    <a:pt x="38" y="30"/>
                  </a:lnTo>
                  <a:lnTo>
                    <a:pt x="2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50040" y="410544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0" y="35"/>
                  </a:moveTo>
                  <a:lnTo>
                    <a:pt x="38" y="30"/>
                  </a:lnTo>
                  <a:lnTo>
                    <a:pt x="2" y="0"/>
                  </a:lnTo>
                  <a:lnTo>
                    <a:pt x="0" y="35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00000" y="3716280"/>
              <a:ext cx="4716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r>
                <a:rPr b="1" lang="en-GB" sz="1200" spc="-1" strike="noStrike" baseline="-25000">
                  <a:solidFill>
                    <a:srgbClr val="000066"/>
                  </a:solidFill>
                  <a:latin typeface="Arial"/>
                </a:rPr>
                <a:t>Ed,lef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7184520" y="4152960"/>
              <a:ext cx="125640" cy="6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53280" y="4105440"/>
              <a:ext cx="57240" cy="47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7184880" y="4105440"/>
              <a:ext cx="68400" cy="117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7281720" y="4129200"/>
              <a:ext cx="28800" cy="23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7252920" y="4105440"/>
              <a:ext cx="28440" cy="23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84880" y="3562200"/>
              <a:ext cx="193680" cy="567000"/>
            </a:xfrm>
            <a:custGeom>
              <a:avLst/>
              <a:gdLst/>
              <a:ahLst/>
              <a:rect l="l" t="t" r="r" b="b"/>
              <a:pathLst>
                <a:path w="122" h="357">
                  <a:moveTo>
                    <a:pt x="61" y="357"/>
                  </a:moveTo>
                  <a:lnTo>
                    <a:pt x="77" y="338"/>
                  </a:lnTo>
                  <a:lnTo>
                    <a:pt x="90" y="317"/>
                  </a:lnTo>
                  <a:lnTo>
                    <a:pt x="101" y="296"/>
                  </a:lnTo>
                  <a:lnTo>
                    <a:pt x="111" y="273"/>
                  </a:lnTo>
                  <a:lnTo>
                    <a:pt x="117" y="249"/>
                  </a:lnTo>
                  <a:lnTo>
                    <a:pt x="121" y="225"/>
                  </a:lnTo>
                  <a:lnTo>
                    <a:pt x="122" y="201"/>
                  </a:lnTo>
                  <a:lnTo>
                    <a:pt x="120" y="176"/>
                  </a:lnTo>
                  <a:lnTo>
                    <a:pt x="116" y="152"/>
                  </a:lnTo>
                  <a:lnTo>
                    <a:pt x="109" y="128"/>
                  </a:lnTo>
                  <a:lnTo>
                    <a:pt x="100" y="105"/>
                  </a:lnTo>
                  <a:lnTo>
                    <a:pt x="88" y="84"/>
                  </a:lnTo>
                  <a:lnTo>
                    <a:pt x="74" y="63"/>
                  </a:lnTo>
                  <a:lnTo>
                    <a:pt x="59" y="44"/>
                  </a:lnTo>
                  <a:lnTo>
                    <a:pt x="41" y="28"/>
                  </a:lnTo>
                  <a:lnTo>
                    <a:pt x="21" y="12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09880" y="4397400"/>
              <a:ext cx="0" cy="146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9880" y="2489040"/>
              <a:ext cx="5558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405320" y="2309760"/>
              <a:ext cx="0" cy="160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349880" y="2309760"/>
              <a:ext cx="55440" cy="160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67240" y="248904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4386240" y="2424240"/>
              <a:ext cx="0" cy="46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809880" y="2470320"/>
              <a:ext cx="0" cy="18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09880" y="2470320"/>
              <a:ext cx="5400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00760" y="2470320"/>
              <a:ext cx="0" cy="18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371840" y="2424240"/>
              <a:ext cx="14400" cy="46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27640" y="2470320"/>
              <a:ext cx="5731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405320" y="2309760"/>
              <a:ext cx="0" cy="160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86240" y="2489040"/>
              <a:ext cx="0" cy="160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386240" y="2489040"/>
              <a:ext cx="55440" cy="160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86240" y="2489040"/>
              <a:ext cx="0" cy="160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05320" y="2489040"/>
              <a:ext cx="0" cy="46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4405320" y="2489040"/>
              <a:ext cx="15840" cy="46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441320" y="2489040"/>
              <a:ext cx="255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86240" y="2470320"/>
              <a:ext cx="0" cy="18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05320" y="2470320"/>
              <a:ext cx="0" cy="18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365360" y="2470320"/>
              <a:ext cx="6120" cy="18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4421160" y="2470320"/>
              <a:ext cx="6480" cy="18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86240" y="2489040"/>
              <a:ext cx="19080" cy="160560"/>
            </a:xfrm>
            <a:custGeom>
              <a:avLst/>
              <a:gdLst/>
              <a:ahLst/>
              <a:rect l="l" t="t" r="r" b="b"/>
              <a:pathLst>
                <a:path w="12" h="101">
                  <a:moveTo>
                    <a:pt x="12" y="0"/>
                  </a:moveTo>
                  <a:lnTo>
                    <a:pt x="0" y="101"/>
                  </a:lnTo>
                  <a:lnTo>
                    <a:pt x="12" y="2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86240" y="2489040"/>
              <a:ext cx="19080" cy="160560"/>
            </a:xfrm>
            <a:custGeom>
              <a:avLst/>
              <a:gdLst/>
              <a:ahLst/>
              <a:rect l="l" t="t" r="r" b="b"/>
              <a:pathLst>
                <a:path w="12" h="101">
                  <a:moveTo>
                    <a:pt x="12" y="0"/>
                  </a:moveTo>
                  <a:lnTo>
                    <a:pt x="0" y="101"/>
                  </a:lnTo>
                  <a:lnTo>
                    <a:pt x="12" y="29"/>
                  </a:lnTo>
                  <a:lnTo>
                    <a:pt x="12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86240" y="2489040"/>
              <a:ext cx="55440" cy="160560"/>
            </a:xfrm>
            <a:custGeom>
              <a:avLst/>
              <a:gdLst/>
              <a:ahLst/>
              <a:rect l="l" t="t" r="r" b="b"/>
              <a:pathLst>
                <a:path w="35" h="101">
                  <a:moveTo>
                    <a:pt x="35" y="0"/>
                  </a:moveTo>
                  <a:lnTo>
                    <a:pt x="12" y="29"/>
                  </a:lnTo>
                  <a:lnTo>
                    <a:pt x="0" y="10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86240" y="2489040"/>
              <a:ext cx="55440" cy="160560"/>
            </a:xfrm>
            <a:custGeom>
              <a:avLst/>
              <a:gdLst/>
              <a:ahLst/>
              <a:rect l="l" t="t" r="r" b="b"/>
              <a:pathLst>
                <a:path w="35" h="101">
                  <a:moveTo>
                    <a:pt x="35" y="0"/>
                  </a:moveTo>
                  <a:lnTo>
                    <a:pt x="12" y="29"/>
                  </a:lnTo>
                  <a:lnTo>
                    <a:pt x="0" y="101"/>
                  </a:lnTo>
                  <a:lnTo>
                    <a:pt x="35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05320" y="2489040"/>
              <a:ext cx="36360" cy="46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0" y="0"/>
                  </a:moveTo>
                  <a:lnTo>
                    <a:pt x="0" y="29"/>
                  </a:lnTo>
                  <a:lnTo>
                    <a:pt x="2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05320" y="2489040"/>
              <a:ext cx="36360" cy="46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0" y="0"/>
                  </a:moveTo>
                  <a:lnTo>
                    <a:pt x="0" y="29"/>
                  </a:lnTo>
                  <a:lnTo>
                    <a:pt x="23" y="0"/>
                  </a:lnTo>
                  <a:lnTo>
                    <a:pt x="1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21160" y="2489040"/>
              <a:ext cx="46080" cy="36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29" y="0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21160" y="2489040"/>
              <a:ext cx="46080" cy="36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29" y="0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29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6240" y="2489040"/>
              <a:ext cx="19080" cy="160560"/>
            </a:xfrm>
            <a:custGeom>
              <a:avLst/>
              <a:gdLst/>
              <a:ahLst/>
              <a:rect l="l" t="t" r="r" b="b"/>
              <a:pathLst>
                <a:path w="12" h="101">
                  <a:moveTo>
                    <a:pt x="0" y="0"/>
                  </a:moveTo>
                  <a:lnTo>
                    <a:pt x="0" y="101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86240" y="2489040"/>
              <a:ext cx="19080" cy="160560"/>
            </a:xfrm>
            <a:custGeom>
              <a:avLst/>
              <a:gdLst/>
              <a:ahLst/>
              <a:rect l="l" t="t" r="r" b="b"/>
              <a:pathLst>
                <a:path w="12" h="101">
                  <a:moveTo>
                    <a:pt x="0" y="0"/>
                  </a:moveTo>
                  <a:lnTo>
                    <a:pt x="0" y="101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67240" y="2470320"/>
              <a:ext cx="533520" cy="18720"/>
            </a:xfrm>
            <a:custGeom>
              <a:avLst/>
              <a:gdLst/>
              <a:ahLst/>
              <a:rect l="l" t="t" r="r" b="b"/>
              <a:pathLst>
                <a:path w="336" h="12">
                  <a:moveTo>
                    <a:pt x="336" y="0"/>
                  </a:moveTo>
                  <a:lnTo>
                    <a:pt x="0" y="12"/>
                  </a:lnTo>
                  <a:lnTo>
                    <a:pt x="336" y="12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67240" y="2470320"/>
              <a:ext cx="533520" cy="18720"/>
            </a:xfrm>
            <a:custGeom>
              <a:avLst/>
              <a:gdLst/>
              <a:ahLst/>
              <a:rect l="l" t="t" r="r" b="b"/>
              <a:pathLst>
                <a:path w="336" h="12">
                  <a:moveTo>
                    <a:pt x="336" y="0"/>
                  </a:moveTo>
                  <a:lnTo>
                    <a:pt x="0" y="12"/>
                  </a:lnTo>
                  <a:lnTo>
                    <a:pt x="336" y="12"/>
                  </a:lnTo>
                  <a:lnTo>
                    <a:pt x="336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21160" y="2470320"/>
              <a:ext cx="579600" cy="18720"/>
            </a:xfrm>
            <a:custGeom>
              <a:avLst/>
              <a:gdLst/>
              <a:ahLst/>
              <a:rect l="l" t="t" r="r" b="b"/>
              <a:pathLst>
                <a:path w="365" h="12">
                  <a:moveTo>
                    <a:pt x="365" y="0"/>
                  </a:moveTo>
                  <a:lnTo>
                    <a:pt x="0" y="12"/>
                  </a:lnTo>
                  <a:lnTo>
                    <a:pt x="29" y="12"/>
                  </a:lnTo>
                  <a:lnTo>
                    <a:pt x="36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21160" y="2470320"/>
              <a:ext cx="579600" cy="18720"/>
            </a:xfrm>
            <a:custGeom>
              <a:avLst/>
              <a:gdLst/>
              <a:ahLst/>
              <a:rect l="l" t="t" r="r" b="b"/>
              <a:pathLst>
                <a:path w="365" h="12">
                  <a:moveTo>
                    <a:pt x="365" y="0"/>
                  </a:moveTo>
                  <a:lnTo>
                    <a:pt x="0" y="12"/>
                  </a:lnTo>
                  <a:lnTo>
                    <a:pt x="29" y="12"/>
                  </a:lnTo>
                  <a:lnTo>
                    <a:pt x="365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09880" y="2470320"/>
              <a:ext cx="555840" cy="18720"/>
            </a:xfrm>
            <a:custGeom>
              <a:avLst/>
              <a:gdLst/>
              <a:ahLst/>
              <a:rect l="l" t="t" r="r" b="b"/>
              <a:pathLst>
                <a:path w="350" h="12">
                  <a:moveTo>
                    <a:pt x="340" y="0"/>
                  </a:moveTo>
                  <a:lnTo>
                    <a:pt x="0" y="12"/>
                  </a:lnTo>
                  <a:lnTo>
                    <a:pt x="350" y="12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09880" y="2470320"/>
              <a:ext cx="555840" cy="18720"/>
            </a:xfrm>
            <a:custGeom>
              <a:avLst/>
              <a:gdLst/>
              <a:ahLst/>
              <a:rect l="l" t="t" r="r" b="b"/>
              <a:pathLst>
                <a:path w="350" h="12">
                  <a:moveTo>
                    <a:pt x="340" y="0"/>
                  </a:moveTo>
                  <a:lnTo>
                    <a:pt x="0" y="12"/>
                  </a:lnTo>
                  <a:lnTo>
                    <a:pt x="350" y="12"/>
                  </a:lnTo>
                  <a:lnTo>
                    <a:pt x="34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09880" y="2470320"/>
              <a:ext cx="540000" cy="18720"/>
            </a:xfrm>
            <a:custGeom>
              <a:avLst/>
              <a:gdLst/>
              <a:ahLst/>
              <a:rect l="l" t="t" r="r" b="b"/>
              <a:pathLst>
                <a:path w="340" h="12">
                  <a:moveTo>
                    <a:pt x="0" y="0"/>
                  </a:moveTo>
                  <a:lnTo>
                    <a:pt x="0" y="12"/>
                  </a:lnTo>
                  <a:lnTo>
                    <a:pt x="34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09880" y="2470320"/>
              <a:ext cx="540000" cy="18720"/>
            </a:xfrm>
            <a:custGeom>
              <a:avLst/>
              <a:gdLst/>
              <a:ahLst/>
              <a:rect l="l" t="t" r="r" b="b"/>
              <a:pathLst>
                <a:path w="340" h="12">
                  <a:moveTo>
                    <a:pt x="0" y="0"/>
                  </a:moveTo>
                  <a:lnTo>
                    <a:pt x="0" y="12"/>
                  </a:lnTo>
                  <a:lnTo>
                    <a:pt x="340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49880" y="2470320"/>
              <a:ext cx="2196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0"/>
                  </a:moveTo>
                  <a:lnTo>
                    <a:pt x="0" y="0"/>
                  </a:lnTo>
                  <a:lnTo>
                    <a:pt x="10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49880" y="2470320"/>
              <a:ext cx="2196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0"/>
                  </a:moveTo>
                  <a:lnTo>
                    <a:pt x="0" y="0"/>
                  </a:lnTo>
                  <a:lnTo>
                    <a:pt x="10" y="12"/>
                  </a:lnTo>
                  <a:lnTo>
                    <a:pt x="14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86240" y="2470320"/>
              <a:ext cx="19080" cy="18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12"/>
                  </a:lnTo>
                  <a:lnTo>
                    <a:pt x="12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86240" y="2470320"/>
              <a:ext cx="19080" cy="18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12"/>
                  </a:lnTo>
                  <a:lnTo>
                    <a:pt x="12" y="12"/>
                  </a:lnTo>
                  <a:lnTo>
                    <a:pt x="12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86240" y="2470320"/>
              <a:ext cx="19080" cy="18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0" y="1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86240" y="2470320"/>
              <a:ext cx="19080" cy="18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0" y="12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21160" y="2470320"/>
              <a:ext cx="579600" cy="18720"/>
            </a:xfrm>
            <a:custGeom>
              <a:avLst/>
              <a:gdLst/>
              <a:ahLst/>
              <a:rect l="l" t="t" r="r" b="b"/>
              <a:pathLst>
                <a:path w="365" h="12">
                  <a:moveTo>
                    <a:pt x="4" y="0"/>
                  </a:moveTo>
                  <a:lnTo>
                    <a:pt x="0" y="12"/>
                  </a:lnTo>
                  <a:lnTo>
                    <a:pt x="36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21160" y="2470320"/>
              <a:ext cx="579600" cy="18720"/>
            </a:xfrm>
            <a:custGeom>
              <a:avLst/>
              <a:gdLst/>
              <a:ahLst/>
              <a:rect l="l" t="t" r="r" b="b"/>
              <a:pathLst>
                <a:path w="365" h="12">
                  <a:moveTo>
                    <a:pt x="4" y="0"/>
                  </a:moveTo>
                  <a:lnTo>
                    <a:pt x="0" y="12"/>
                  </a:lnTo>
                  <a:lnTo>
                    <a:pt x="365" y="0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49880" y="2424240"/>
              <a:ext cx="36360" cy="46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23" y="0"/>
                  </a:moveTo>
                  <a:lnTo>
                    <a:pt x="0" y="29"/>
                  </a:lnTo>
                  <a:lnTo>
                    <a:pt x="14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49880" y="2424240"/>
              <a:ext cx="36360" cy="46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23" y="0"/>
                  </a:moveTo>
                  <a:lnTo>
                    <a:pt x="0" y="29"/>
                  </a:lnTo>
                  <a:lnTo>
                    <a:pt x="14" y="29"/>
                  </a:lnTo>
                  <a:lnTo>
                    <a:pt x="23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86240" y="2424240"/>
              <a:ext cx="19080" cy="4608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0" y="0"/>
                  </a:moveTo>
                  <a:lnTo>
                    <a:pt x="0" y="29"/>
                  </a:lnTo>
                  <a:lnTo>
                    <a:pt x="12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86240" y="2424240"/>
              <a:ext cx="19080" cy="4608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0" y="0"/>
                  </a:moveTo>
                  <a:lnTo>
                    <a:pt x="0" y="29"/>
                  </a:lnTo>
                  <a:lnTo>
                    <a:pt x="12" y="2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9880" y="2309760"/>
              <a:ext cx="55440" cy="160560"/>
            </a:xfrm>
            <a:custGeom>
              <a:avLst/>
              <a:gdLst/>
              <a:ahLst/>
              <a:rect l="l" t="t" r="r" b="b"/>
              <a:pathLst>
                <a:path w="35" h="101">
                  <a:moveTo>
                    <a:pt x="35" y="0"/>
                  </a:moveTo>
                  <a:lnTo>
                    <a:pt x="0" y="101"/>
                  </a:lnTo>
                  <a:lnTo>
                    <a:pt x="23" y="7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49880" y="2309760"/>
              <a:ext cx="55440" cy="160560"/>
            </a:xfrm>
            <a:custGeom>
              <a:avLst/>
              <a:gdLst/>
              <a:ahLst/>
              <a:rect l="l" t="t" r="r" b="b"/>
              <a:pathLst>
                <a:path w="35" h="101">
                  <a:moveTo>
                    <a:pt x="35" y="0"/>
                  </a:moveTo>
                  <a:lnTo>
                    <a:pt x="0" y="101"/>
                  </a:lnTo>
                  <a:lnTo>
                    <a:pt x="23" y="72"/>
                  </a:lnTo>
                  <a:lnTo>
                    <a:pt x="35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86240" y="2309760"/>
              <a:ext cx="19080" cy="160560"/>
            </a:xfrm>
            <a:custGeom>
              <a:avLst/>
              <a:gdLst/>
              <a:ahLst/>
              <a:rect l="l" t="t" r="r" b="b"/>
              <a:pathLst>
                <a:path w="12" h="101">
                  <a:moveTo>
                    <a:pt x="12" y="0"/>
                  </a:moveTo>
                  <a:lnTo>
                    <a:pt x="0" y="72"/>
                  </a:lnTo>
                  <a:lnTo>
                    <a:pt x="12" y="10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86240" y="2309760"/>
              <a:ext cx="19080" cy="160560"/>
            </a:xfrm>
            <a:custGeom>
              <a:avLst/>
              <a:gdLst/>
              <a:ahLst/>
              <a:rect l="l" t="t" r="r" b="b"/>
              <a:pathLst>
                <a:path w="12" h="101">
                  <a:moveTo>
                    <a:pt x="12" y="0"/>
                  </a:moveTo>
                  <a:lnTo>
                    <a:pt x="0" y="72"/>
                  </a:lnTo>
                  <a:lnTo>
                    <a:pt x="12" y="101"/>
                  </a:lnTo>
                  <a:lnTo>
                    <a:pt x="12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86240" y="5589720"/>
              <a:ext cx="19080" cy="160200"/>
            </a:xfrm>
            <a:custGeom>
              <a:avLst/>
              <a:gdLst/>
              <a:ahLst/>
              <a:rect l="l" t="t" r="r" b="b"/>
              <a:pathLst>
                <a:path w="12" h="101">
                  <a:moveTo>
                    <a:pt x="12" y="0"/>
                  </a:moveTo>
                  <a:lnTo>
                    <a:pt x="0" y="101"/>
                  </a:lnTo>
                  <a:lnTo>
                    <a:pt x="12" y="2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86240" y="5589720"/>
              <a:ext cx="19080" cy="160200"/>
            </a:xfrm>
            <a:custGeom>
              <a:avLst/>
              <a:gdLst/>
              <a:ahLst/>
              <a:rect l="l" t="t" r="r" b="b"/>
              <a:pathLst>
                <a:path w="12" h="101">
                  <a:moveTo>
                    <a:pt x="12" y="0"/>
                  </a:moveTo>
                  <a:lnTo>
                    <a:pt x="0" y="101"/>
                  </a:lnTo>
                  <a:lnTo>
                    <a:pt x="12" y="29"/>
                  </a:lnTo>
                  <a:lnTo>
                    <a:pt x="12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86240" y="5589720"/>
              <a:ext cx="55440" cy="160200"/>
            </a:xfrm>
            <a:custGeom>
              <a:avLst/>
              <a:gdLst/>
              <a:ahLst/>
              <a:rect l="l" t="t" r="r" b="b"/>
              <a:pathLst>
                <a:path w="35" h="101">
                  <a:moveTo>
                    <a:pt x="35" y="0"/>
                  </a:moveTo>
                  <a:lnTo>
                    <a:pt x="12" y="29"/>
                  </a:lnTo>
                  <a:lnTo>
                    <a:pt x="0" y="10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86240" y="5589720"/>
              <a:ext cx="55440" cy="160200"/>
            </a:xfrm>
            <a:custGeom>
              <a:avLst/>
              <a:gdLst/>
              <a:ahLst/>
              <a:rect l="l" t="t" r="r" b="b"/>
              <a:pathLst>
                <a:path w="35" h="101">
                  <a:moveTo>
                    <a:pt x="35" y="0"/>
                  </a:moveTo>
                  <a:lnTo>
                    <a:pt x="12" y="29"/>
                  </a:lnTo>
                  <a:lnTo>
                    <a:pt x="0" y="101"/>
                  </a:lnTo>
                  <a:lnTo>
                    <a:pt x="35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05320" y="5589720"/>
              <a:ext cx="36360" cy="46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0" y="0"/>
                  </a:moveTo>
                  <a:lnTo>
                    <a:pt x="0" y="29"/>
                  </a:lnTo>
                  <a:lnTo>
                    <a:pt x="2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05320" y="5589720"/>
              <a:ext cx="36360" cy="46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0" y="0"/>
                  </a:moveTo>
                  <a:lnTo>
                    <a:pt x="0" y="29"/>
                  </a:lnTo>
                  <a:lnTo>
                    <a:pt x="23" y="0"/>
                  </a:lnTo>
                  <a:lnTo>
                    <a:pt x="1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21160" y="5589720"/>
              <a:ext cx="46080" cy="36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29" y="0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21160" y="5589720"/>
              <a:ext cx="46080" cy="36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29" y="0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29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86240" y="5589720"/>
              <a:ext cx="19080" cy="160200"/>
            </a:xfrm>
            <a:custGeom>
              <a:avLst/>
              <a:gdLst/>
              <a:ahLst/>
              <a:rect l="l" t="t" r="r" b="b"/>
              <a:pathLst>
                <a:path w="12" h="101">
                  <a:moveTo>
                    <a:pt x="0" y="0"/>
                  </a:moveTo>
                  <a:lnTo>
                    <a:pt x="0" y="101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86240" y="5589720"/>
              <a:ext cx="19080" cy="160200"/>
            </a:xfrm>
            <a:custGeom>
              <a:avLst/>
              <a:gdLst/>
              <a:ahLst/>
              <a:rect l="l" t="t" r="r" b="b"/>
              <a:pathLst>
                <a:path w="12" h="101">
                  <a:moveTo>
                    <a:pt x="0" y="0"/>
                  </a:moveTo>
                  <a:lnTo>
                    <a:pt x="0" y="101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67240" y="5570640"/>
              <a:ext cx="533520" cy="19080"/>
            </a:xfrm>
            <a:custGeom>
              <a:avLst/>
              <a:gdLst/>
              <a:ahLst/>
              <a:rect l="l" t="t" r="r" b="b"/>
              <a:pathLst>
                <a:path w="336" h="12">
                  <a:moveTo>
                    <a:pt x="336" y="0"/>
                  </a:moveTo>
                  <a:lnTo>
                    <a:pt x="0" y="12"/>
                  </a:lnTo>
                  <a:lnTo>
                    <a:pt x="336" y="12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67240" y="5570640"/>
              <a:ext cx="533520" cy="19080"/>
            </a:xfrm>
            <a:custGeom>
              <a:avLst/>
              <a:gdLst/>
              <a:ahLst/>
              <a:rect l="l" t="t" r="r" b="b"/>
              <a:pathLst>
                <a:path w="336" h="12">
                  <a:moveTo>
                    <a:pt x="336" y="0"/>
                  </a:moveTo>
                  <a:lnTo>
                    <a:pt x="0" y="12"/>
                  </a:lnTo>
                  <a:lnTo>
                    <a:pt x="336" y="12"/>
                  </a:lnTo>
                  <a:lnTo>
                    <a:pt x="336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21160" y="5570640"/>
              <a:ext cx="579600" cy="19080"/>
            </a:xfrm>
            <a:custGeom>
              <a:avLst/>
              <a:gdLst/>
              <a:ahLst/>
              <a:rect l="l" t="t" r="r" b="b"/>
              <a:pathLst>
                <a:path w="365" h="12">
                  <a:moveTo>
                    <a:pt x="365" y="0"/>
                  </a:moveTo>
                  <a:lnTo>
                    <a:pt x="0" y="12"/>
                  </a:lnTo>
                  <a:lnTo>
                    <a:pt x="29" y="12"/>
                  </a:lnTo>
                  <a:lnTo>
                    <a:pt x="36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21160" y="5570640"/>
              <a:ext cx="579600" cy="19080"/>
            </a:xfrm>
            <a:custGeom>
              <a:avLst/>
              <a:gdLst/>
              <a:ahLst/>
              <a:rect l="l" t="t" r="r" b="b"/>
              <a:pathLst>
                <a:path w="365" h="12">
                  <a:moveTo>
                    <a:pt x="365" y="0"/>
                  </a:moveTo>
                  <a:lnTo>
                    <a:pt x="0" y="12"/>
                  </a:lnTo>
                  <a:lnTo>
                    <a:pt x="29" y="12"/>
                  </a:lnTo>
                  <a:lnTo>
                    <a:pt x="365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09880" y="5570640"/>
              <a:ext cx="555840" cy="19080"/>
            </a:xfrm>
            <a:custGeom>
              <a:avLst/>
              <a:gdLst/>
              <a:ahLst/>
              <a:rect l="l" t="t" r="r" b="b"/>
              <a:pathLst>
                <a:path w="350" h="12">
                  <a:moveTo>
                    <a:pt x="340" y="0"/>
                  </a:moveTo>
                  <a:lnTo>
                    <a:pt x="0" y="12"/>
                  </a:lnTo>
                  <a:lnTo>
                    <a:pt x="350" y="12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09880" y="5570640"/>
              <a:ext cx="555840" cy="19080"/>
            </a:xfrm>
            <a:custGeom>
              <a:avLst/>
              <a:gdLst/>
              <a:ahLst/>
              <a:rect l="l" t="t" r="r" b="b"/>
              <a:pathLst>
                <a:path w="350" h="12">
                  <a:moveTo>
                    <a:pt x="340" y="0"/>
                  </a:moveTo>
                  <a:lnTo>
                    <a:pt x="0" y="12"/>
                  </a:lnTo>
                  <a:lnTo>
                    <a:pt x="350" y="12"/>
                  </a:lnTo>
                  <a:lnTo>
                    <a:pt x="34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09880" y="5570640"/>
              <a:ext cx="540000" cy="19080"/>
            </a:xfrm>
            <a:custGeom>
              <a:avLst/>
              <a:gdLst/>
              <a:ahLst/>
              <a:rect l="l" t="t" r="r" b="b"/>
              <a:pathLst>
                <a:path w="340" h="12">
                  <a:moveTo>
                    <a:pt x="0" y="0"/>
                  </a:moveTo>
                  <a:lnTo>
                    <a:pt x="0" y="12"/>
                  </a:lnTo>
                  <a:lnTo>
                    <a:pt x="34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09880" y="5570640"/>
              <a:ext cx="540000" cy="19080"/>
            </a:xfrm>
            <a:custGeom>
              <a:avLst/>
              <a:gdLst/>
              <a:ahLst/>
              <a:rect l="l" t="t" r="r" b="b"/>
              <a:pathLst>
                <a:path w="340" h="12">
                  <a:moveTo>
                    <a:pt x="0" y="0"/>
                  </a:moveTo>
                  <a:lnTo>
                    <a:pt x="0" y="12"/>
                  </a:lnTo>
                  <a:lnTo>
                    <a:pt x="340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9880" y="5570640"/>
              <a:ext cx="2196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0"/>
                  </a:moveTo>
                  <a:lnTo>
                    <a:pt x="0" y="0"/>
                  </a:lnTo>
                  <a:lnTo>
                    <a:pt x="10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9880" y="5570640"/>
              <a:ext cx="2196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0"/>
                  </a:moveTo>
                  <a:lnTo>
                    <a:pt x="0" y="0"/>
                  </a:lnTo>
                  <a:lnTo>
                    <a:pt x="10" y="12"/>
                  </a:lnTo>
                  <a:lnTo>
                    <a:pt x="14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86240" y="55706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12"/>
                  </a:lnTo>
                  <a:lnTo>
                    <a:pt x="12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86240" y="55706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0" y="12"/>
                  </a:lnTo>
                  <a:lnTo>
                    <a:pt x="12" y="12"/>
                  </a:lnTo>
                  <a:lnTo>
                    <a:pt x="12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86240" y="55706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0" y="1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86240" y="55706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0" y="12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1160" y="5570640"/>
              <a:ext cx="579600" cy="19080"/>
            </a:xfrm>
            <a:custGeom>
              <a:avLst/>
              <a:gdLst/>
              <a:ahLst/>
              <a:rect l="l" t="t" r="r" b="b"/>
              <a:pathLst>
                <a:path w="365" h="12">
                  <a:moveTo>
                    <a:pt x="4" y="0"/>
                  </a:moveTo>
                  <a:lnTo>
                    <a:pt x="0" y="12"/>
                  </a:lnTo>
                  <a:lnTo>
                    <a:pt x="36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21160" y="5570640"/>
              <a:ext cx="579600" cy="19080"/>
            </a:xfrm>
            <a:custGeom>
              <a:avLst/>
              <a:gdLst/>
              <a:ahLst/>
              <a:rect l="l" t="t" r="r" b="b"/>
              <a:pathLst>
                <a:path w="365" h="12">
                  <a:moveTo>
                    <a:pt x="4" y="0"/>
                  </a:moveTo>
                  <a:lnTo>
                    <a:pt x="0" y="12"/>
                  </a:lnTo>
                  <a:lnTo>
                    <a:pt x="365" y="0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49880" y="5524560"/>
              <a:ext cx="36360" cy="46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23" y="0"/>
                  </a:moveTo>
                  <a:lnTo>
                    <a:pt x="0" y="29"/>
                  </a:lnTo>
                  <a:lnTo>
                    <a:pt x="14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49880" y="5524560"/>
              <a:ext cx="36360" cy="46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23" y="0"/>
                  </a:moveTo>
                  <a:lnTo>
                    <a:pt x="0" y="29"/>
                  </a:lnTo>
                  <a:lnTo>
                    <a:pt x="14" y="29"/>
                  </a:lnTo>
                  <a:lnTo>
                    <a:pt x="23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86240" y="5524560"/>
              <a:ext cx="19080" cy="4608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0" y="0"/>
                  </a:moveTo>
                  <a:lnTo>
                    <a:pt x="0" y="29"/>
                  </a:lnTo>
                  <a:lnTo>
                    <a:pt x="12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86240" y="5524560"/>
              <a:ext cx="19080" cy="4608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0" y="0"/>
                  </a:moveTo>
                  <a:lnTo>
                    <a:pt x="0" y="29"/>
                  </a:lnTo>
                  <a:lnTo>
                    <a:pt x="12" y="2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49880" y="5410080"/>
              <a:ext cx="55440" cy="160560"/>
            </a:xfrm>
            <a:custGeom>
              <a:avLst/>
              <a:gdLst/>
              <a:ahLst/>
              <a:rect l="l" t="t" r="r" b="b"/>
              <a:pathLst>
                <a:path w="35" h="101">
                  <a:moveTo>
                    <a:pt x="35" y="0"/>
                  </a:moveTo>
                  <a:lnTo>
                    <a:pt x="0" y="101"/>
                  </a:lnTo>
                  <a:lnTo>
                    <a:pt x="23" y="7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49880" y="5410080"/>
              <a:ext cx="55440" cy="160560"/>
            </a:xfrm>
            <a:custGeom>
              <a:avLst/>
              <a:gdLst/>
              <a:ahLst/>
              <a:rect l="l" t="t" r="r" b="b"/>
              <a:pathLst>
                <a:path w="35" h="101">
                  <a:moveTo>
                    <a:pt x="35" y="0"/>
                  </a:moveTo>
                  <a:lnTo>
                    <a:pt x="0" y="101"/>
                  </a:lnTo>
                  <a:lnTo>
                    <a:pt x="23" y="72"/>
                  </a:lnTo>
                  <a:lnTo>
                    <a:pt x="35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86240" y="5410080"/>
              <a:ext cx="19080" cy="160560"/>
            </a:xfrm>
            <a:custGeom>
              <a:avLst/>
              <a:gdLst/>
              <a:ahLst/>
              <a:rect l="l" t="t" r="r" b="b"/>
              <a:pathLst>
                <a:path w="12" h="101">
                  <a:moveTo>
                    <a:pt x="12" y="0"/>
                  </a:moveTo>
                  <a:lnTo>
                    <a:pt x="0" y="72"/>
                  </a:lnTo>
                  <a:lnTo>
                    <a:pt x="12" y="10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86240" y="5410080"/>
              <a:ext cx="19080" cy="160560"/>
            </a:xfrm>
            <a:custGeom>
              <a:avLst/>
              <a:gdLst/>
              <a:ahLst/>
              <a:rect l="l" t="t" r="r" b="b"/>
              <a:pathLst>
                <a:path w="12" h="101">
                  <a:moveTo>
                    <a:pt x="12" y="0"/>
                  </a:moveTo>
                  <a:lnTo>
                    <a:pt x="0" y="72"/>
                  </a:lnTo>
                  <a:lnTo>
                    <a:pt x="12" y="101"/>
                  </a:lnTo>
                  <a:lnTo>
                    <a:pt x="12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421160" y="5570280"/>
              <a:ext cx="6480" cy="19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4365360" y="5570640"/>
              <a:ext cx="6120" cy="19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5320" y="5570640"/>
              <a:ext cx="0" cy="19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86240" y="5570640"/>
              <a:ext cx="0" cy="19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441320" y="5589720"/>
              <a:ext cx="255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405320" y="5589720"/>
              <a:ext cx="15840" cy="46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05320" y="5589720"/>
              <a:ext cx="0" cy="46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86240" y="5589720"/>
              <a:ext cx="0" cy="160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4386240" y="5589720"/>
              <a:ext cx="55440" cy="160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86240" y="5589720"/>
              <a:ext cx="0" cy="160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4405320" y="5410080"/>
              <a:ext cx="0" cy="160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27640" y="5570640"/>
              <a:ext cx="5731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4371840" y="5524560"/>
              <a:ext cx="14400" cy="46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9880" y="5570640"/>
              <a:ext cx="5400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386240" y="5524560"/>
              <a:ext cx="0" cy="46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67240" y="55897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349880" y="5410080"/>
              <a:ext cx="55440" cy="160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4405320" y="5410080"/>
              <a:ext cx="0" cy="160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09880" y="5589720"/>
              <a:ext cx="5558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51640" y="3789360"/>
              <a:ext cx="5763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r>
                <a:rPr b="1" lang="en-GB" sz="1200" spc="-1" strike="noStrike" baseline="-25000">
                  <a:solidFill>
                    <a:srgbClr val="000066"/>
                  </a:solidFill>
                  <a:latin typeface="Arial"/>
                </a:rPr>
                <a:t>Ed,righ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ECB2-D58F-4F8C-91CE-F624C3CA75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HS wall in shear: shear failure adjacent to wel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 specific formula from EC3 or ECC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ISC code formula for CHS sections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adapte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to the case of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RH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section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1603440" y="4314960"/>
          <a:ext cx="564516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4314960"/>
                    <a:ext cx="56451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E57B-C33B-4965-8E57-9E812E94D50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539640" y="1393920"/>
          <a:ext cx="8064360" cy="4746600"/>
        </p:xfrm>
        <a:graphic>
          <a:graphicData uri="http://schemas.openxmlformats.org/drawingml/2006/table">
            <a:tbl>
              <a:tblPr/>
              <a:tblGrid>
                <a:gridCol w="5254560"/>
                <a:gridCol w="28098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ummary of result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ax. resistanc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olts in shea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9,3 </a:t>
                      </a: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in plate in bearing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99,3 </a:t>
                      </a: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in plate in shear: gross cross-sec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3,5 </a:t>
                      </a: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in plate in shear: net cross-sec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19,3 </a:t>
                      </a: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in plate in shear: shear block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64,5 </a:t>
                      </a: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late in bending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∞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uckling of the fin plat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18,0 </a:t>
                      </a: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eam web in bearing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35,9 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kN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V</a:t>
                      </a:r>
                      <a:r>
                        <a:rPr b="0" i="1" lang="en-US" sz="1800" spc="-1" strike="noStrike" baseline="-25000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d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 = 194 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k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eam web in shear: gross cross-sec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31,5 </a:t>
                      </a: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eam web in shear: net cross-sec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98,5 </a:t>
                      </a: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eam web in shear: shear block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44,8 </a:t>
                      </a: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HS wall in shear: shear failure adjacent to weld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41,2 </a:t>
                      </a: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273A-7B00-41A6-9ECB-27BDDAD7ED6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dditional requirements: sufficient rotation capac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ssumed to be fulfill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763640" y="2511360"/>
          <a:ext cx="543096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511360"/>
                    <a:ext cx="54309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3419640" y="4005360"/>
          <a:ext cx="198252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005360"/>
                    <a:ext cx="19825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4E0D-6275-4C44-9A2E-B555FA2D621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dditional requirements: premature weld fail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lastic redistribution of internal for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dditional inequality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1676520" y="2133720"/>
          <a:ext cx="548784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548784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69840" y="3740040"/>
          <a:ext cx="9012240" cy="5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40" y="3740040"/>
                    <a:ext cx="90122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1390680" y="4599000"/>
          <a:ext cx="637056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90680" y="4599000"/>
                    <a:ext cx="63705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4500720" y="5373720"/>
          <a:ext cx="27637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5373720"/>
                    <a:ext cx="2763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5000-546F-491D-9BF4-EA1D46FAF2D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724560" cy="39592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3673440" cy="41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4BCE-0A6B-4E5E-802B-D3F424A1F3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elded extended end-pla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olts positioned “outside” with of hollow s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eliminary calculation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lumn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am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82" name="Object 8"/>
          <p:cNvGraphicFramePr/>
          <p:nvPr/>
        </p:nvGraphicFramePr>
        <p:xfrm>
          <a:off x="2131920" y="5229360"/>
          <a:ext cx="6883560" cy="91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1920" y="5229360"/>
                    <a:ext cx="6883560" cy="9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268360" y="3573360"/>
          <a:ext cx="61945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573360"/>
                    <a:ext cx="6194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195640" y="4292640"/>
          <a:ext cx="6603840" cy="48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4292640"/>
                    <a:ext cx="66038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195640" y="4724280"/>
          <a:ext cx="6649920" cy="4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4724280"/>
                    <a:ext cx="66499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B367-B61A-4A1D-8AA0-2727AC6654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eliminary calculation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nd-plate (column side)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2131920" y="3141720"/>
          <a:ext cx="3938760" cy="21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1920" y="3141720"/>
                    <a:ext cx="393876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1835280" y="5157720"/>
          <a:ext cx="6805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5157720"/>
                    <a:ext cx="680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124000" y="2637000"/>
          <a:ext cx="1446120" cy="48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2637000"/>
                    <a:ext cx="14461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72BD-C9DD-40A5-9E5B-FCC516DAF3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eliminary calculation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nd-plate (beam side)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835280" y="5229360"/>
          <a:ext cx="68086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5229360"/>
                    <a:ext cx="6808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2211480" y="3141720"/>
          <a:ext cx="2360520" cy="21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1480" y="3141720"/>
                    <a:ext cx="236052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2124000" y="2637000"/>
          <a:ext cx="1446120" cy="48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2637000"/>
                    <a:ext cx="14461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47FB-D31A-4225-921C-ACDAAE3E31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eliminary calculation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olt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bolted conn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403280" y="4149720"/>
          <a:ext cx="340056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4149720"/>
                    <a:ext cx="34005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1116000" y="5084640"/>
          <a:ext cx="63738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5084640"/>
                    <a:ext cx="6373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332000" y="2637000"/>
          <a:ext cx="554652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2637000"/>
                    <a:ext cx="5546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332000" y="3645000"/>
          <a:ext cx="17445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3645000"/>
                    <a:ext cx="1744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5C2B-7314-46E7-9D44-CF56EE1F37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1:13:39Z</dcterms:created>
  <dc:creator>Klaus Weynand</dc:creator>
  <dc:description/>
  <dc:language>en-US</dc:language>
  <cp:lastModifiedBy>Klaus Weynand</cp:lastModifiedBy>
  <dcterms:modified xsi:type="dcterms:W3CDTF">2009-06-08T10:15:59Z</dcterms:modified>
  <cp:revision>171</cp:revision>
  <dc:subject/>
  <dc:title>asdasdsdsda</dc:title>
</cp:coreProperties>
</file>