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7AB7-44D5-4742-BF54-DC1A5ECDE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B8C5-D33B-4700-85AA-84395FDF0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E32B-D1D4-4A2D-AE36-0982FAA08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2D9A-A194-4252-A01C-762831A53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FD84-43AF-40AC-9107-6594C2E63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8A3C-7D3F-42BD-A492-D0F8EFDA0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5B97-A8AC-46C4-B746-C88D2DE53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ADF1-0099-426C-9E53-A46C8C6EB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E692-B6E0-4AC8-AC18-B8A8EE883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7809-DEB7-49CF-BEDD-F32D4C27D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3381-37B4-4580-83A0-CDC881FFA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8144-DE76-4B56-9C3F-0C6E03B39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8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embers in tens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455F-D6EE-4BD7-9E55-37A454410718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3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of member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s in ten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7093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dditional provisions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equirement for ductili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49520" y="4659480"/>
          <a:ext cx="3102120" cy="122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9520" y="4659480"/>
                    <a:ext cx="310212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9840" indent="-42984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pecial requirement for ductility when, for instance (a) Seismic design (energy dissipation) or (b) Robustness design (substantial elongation without rupture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 algn="just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Yielding resistance of gross section required to be less than ultimate resistance of net section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zing requirement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249228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A44F-5547-46A7-9C84-68E507C4B9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Net area of cross section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t area = gross area less deductions for fastener holes and other possible opening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a single fastener hol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duction = gross cross-sectional area of the ho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NOT staggered fasteners 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tal area to be deducted for fastener holes = maximum sum of the cross-sectional areas of the holes in any section perpendicular to member ax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ction of maximum sum = critical fracture li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27C0-8453-48BF-B713-6817895BE6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Net area of cross section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42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staggered fasteners 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tal area to be deducted for fastener holes = Max of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duction for non staggered holes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ction of maximum deduction = critical fracture l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692360" y="2982960"/>
          <a:ext cx="2016000" cy="50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82960"/>
                    <a:ext cx="20160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757440" y="3789360"/>
            <a:ext cx="5835240" cy="2365200"/>
            <a:chOff x="757440" y="3789360"/>
            <a:chExt cx="5835240" cy="2365200"/>
          </a:xfrm>
        </p:grpSpPr>
        <p:sp>
          <p:nvSpPr>
            <p:cNvPr id="219" name=""/>
            <p:cNvSpPr/>
            <p:nvPr/>
          </p:nvSpPr>
          <p:spPr>
            <a:xfrm>
              <a:off x="2519280" y="4117320"/>
              <a:ext cx="3591720" cy="158796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99400" y="4117320"/>
              <a:ext cx="3723840" cy="880200"/>
            </a:xfrm>
            <a:custGeom>
              <a:avLst/>
              <a:gdLst/>
              <a:ahLst/>
              <a:rect l="l" t="t" r="r" b="b"/>
              <a:pathLst>
                <a:path w="6748" h="1758">
                  <a:moveTo>
                    <a:pt x="218" y="1758"/>
                  </a:moveTo>
                  <a:lnTo>
                    <a:pt x="436" y="1650"/>
                  </a:lnTo>
                  <a:lnTo>
                    <a:pt x="0" y="1545"/>
                  </a:lnTo>
                  <a:lnTo>
                    <a:pt x="218" y="1411"/>
                  </a:lnTo>
                  <a:lnTo>
                    <a:pt x="218" y="0"/>
                  </a:lnTo>
                  <a:lnTo>
                    <a:pt x="6748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19280" y="4989240"/>
              <a:ext cx="1440" cy="7207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91120" y="4113720"/>
              <a:ext cx="241560" cy="880560"/>
            </a:xfrm>
            <a:custGeom>
              <a:avLst/>
              <a:gdLst/>
              <a:ahLst/>
              <a:rect l="l" t="t" r="r" b="b"/>
              <a:pathLst>
                <a:path w="435" h="1758">
                  <a:moveTo>
                    <a:pt x="217" y="1758"/>
                  </a:moveTo>
                  <a:lnTo>
                    <a:pt x="435" y="1650"/>
                  </a:lnTo>
                  <a:lnTo>
                    <a:pt x="0" y="1545"/>
                  </a:lnTo>
                  <a:lnTo>
                    <a:pt x="217" y="1411"/>
                  </a:lnTo>
                  <a:lnTo>
                    <a:pt x="217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1360" y="4996080"/>
              <a:ext cx="0" cy="720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16040" y="5703120"/>
              <a:ext cx="3602520" cy="18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85840" y="4538160"/>
              <a:ext cx="241200" cy="213120"/>
            </a:xfrm>
            <a:custGeom>
              <a:avLst/>
              <a:gdLst/>
              <a:ahLst/>
              <a:rect l="l" t="t" r="r" b="b"/>
              <a:pathLst>
                <a:path w="435" h="425">
                  <a:moveTo>
                    <a:pt x="435" y="213"/>
                  </a:moveTo>
                  <a:lnTo>
                    <a:pt x="433" y="243"/>
                  </a:lnTo>
                  <a:lnTo>
                    <a:pt x="428" y="273"/>
                  </a:lnTo>
                  <a:lnTo>
                    <a:pt x="416" y="301"/>
                  </a:lnTo>
                  <a:lnTo>
                    <a:pt x="401" y="329"/>
                  </a:lnTo>
                  <a:lnTo>
                    <a:pt x="384" y="353"/>
                  </a:lnTo>
                  <a:lnTo>
                    <a:pt x="361" y="373"/>
                  </a:lnTo>
                  <a:lnTo>
                    <a:pt x="337" y="392"/>
                  </a:lnTo>
                  <a:lnTo>
                    <a:pt x="308" y="407"/>
                  </a:lnTo>
                  <a:lnTo>
                    <a:pt x="280" y="418"/>
                  </a:lnTo>
                  <a:lnTo>
                    <a:pt x="250" y="423"/>
                  </a:lnTo>
                  <a:lnTo>
                    <a:pt x="218" y="425"/>
                  </a:lnTo>
                  <a:lnTo>
                    <a:pt x="187" y="423"/>
                  </a:lnTo>
                  <a:lnTo>
                    <a:pt x="157" y="418"/>
                  </a:lnTo>
                  <a:lnTo>
                    <a:pt x="127" y="407"/>
                  </a:lnTo>
                  <a:lnTo>
                    <a:pt x="100" y="392"/>
                  </a:lnTo>
                  <a:lnTo>
                    <a:pt x="76" y="375"/>
                  </a:lnTo>
                  <a:lnTo>
                    <a:pt x="55" y="353"/>
                  </a:lnTo>
                  <a:lnTo>
                    <a:pt x="34" y="329"/>
                  </a:lnTo>
                  <a:lnTo>
                    <a:pt x="21" y="301"/>
                  </a:lnTo>
                  <a:lnTo>
                    <a:pt x="9" y="273"/>
                  </a:lnTo>
                  <a:lnTo>
                    <a:pt x="4" y="243"/>
                  </a:lnTo>
                  <a:lnTo>
                    <a:pt x="0" y="213"/>
                  </a:lnTo>
                  <a:lnTo>
                    <a:pt x="4" y="182"/>
                  </a:lnTo>
                  <a:lnTo>
                    <a:pt x="9" y="152"/>
                  </a:lnTo>
                  <a:lnTo>
                    <a:pt x="21" y="124"/>
                  </a:lnTo>
                  <a:lnTo>
                    <a:pt x="34" y="96"/>
                  </a:lnTo>
                  <a:lnTo>
                    <a:pt x="53" y="72"/>
                  </a:lnTo>
                  <a:lnTo>
                    <a:pt x="76" y="54"/>
                  </a:lnTo>
                  <a:lnTo>
                    <a:pt x="100" y="33"/>
                  </a:lnTo>
                  <a:lnTo>
                    <a:pt x="127" y="20"/>
                  </a:lnTo>
                  <a:lnTo>
                    <a:pt x="157" y="9"/>
                  </a:lnTo>
                  <a:lnTo>
                    <a:pt x="187" y="2"/>
                  </a:lnTo>
                  <a:lnTo>
                    <a:pt x="218" y="0"/>
                  </a:lnTo>
                  <a:lnTo>
                    <a:pt x="250" y="2"/>
                  </a:lnTo>
                  <a:lnTo>
                    <a:pt x="280" y="9"/>
                  </a:lnTo>
                  <a:lnTo>
                    <a:pt x="308" y="20"/>
                  </a:lnTo>
                  <a:lnTo>
                    <a:pt x="337" y="33"/>
                  </a:lnTo>
                  <a:lnTo>
                    <a:pt x="361" y="50"/>
                  </a:lnTo>
                  <a:lnTo>
                    <a:pt x="382" y="72"/>
                  </a:lnTo>
                  <a:lnTo>
                    <a:pt x="401" y="96"/>
                  </a:lnTo>
                  <a:lnTo>
                    <a:pt x="416" y="124"/>
                  </a:lnTo>
                  <a:lnTo>
                    <a:pt x="428" y="152"/>
                  </a:lnTo>
                  <a:lnTo>
                    <a:pt x="433" y="182"/>
                  </a:lnTo>
                  <a:lnTo>
                    <a:pt x="435" y="2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9200" y="5072400"/>
              <a:ext cx="242640" cy="212760"/>
            </a:xfrm>
            <a:custGeom>
              <a:avLst/>
              <a:gdLst/>
              <a:ahLst/>
              <a:rect l="l" t="t" r="r" b="b"/>
              <a:pathLst>
                <a:path w="436" h="425">
                  <a:moveTo>
                    <a:pt x="436" y="212"/>
                  </a:moveTo>
                  <a:lnTo>
                    <a:pt x="434" y="243"/>
                  </a:lnTo>
                  <a:lnTo>
                    <a:pt x="428" y="273"/>
                  </a:lnTo>
                  <a:lnTo>
                    <a:pt x="417" y="301"/>
                  </a:lnTo>
                  <a:lnTo>
                    <a:pt x="401" y="329"/>
                  </a:lnTo>
                  <a:lnTo>
                    <a:pt x="384" y="353"/>
                  </a:lnTo>
                  <a:lnTo>
                    <a:pt x="362" y="373"/>
                  </a:lnTo>
                  <a:lnTo>
                    <a:pt x="337" y="392"/>
                  </a:lnTo>
                  <a:lnTo>
                    <a:pt x="309" y="405"/>
                  </a:lnTo>
                  <a:lnTo>
                    <a:pt x="280" y="416"/>
                  </a:lnTo>
                  <a:lnTo>
                    <a:pt x="250" y="423"/>
                  </a:lnTo>
                  <a:lnTo>
                    <a:pt x="218" y="425"/>
                  </a:lnTo>
                  <a:lnTo>
                    <a:pt x="188" y="423"/>
                  </a:lnTo>
                  <a:lnTo>
                    <a:pt x="157" y="416"/>
                  </a:lnTo>
                  <a:lnTo>
                    <a:pt x="127" y="405"/>
                  </a:lnTo>
                  <a:lnTo>
                    <a:pt x="101" y="392"/>
                  </a:lnTo>
                  <a:lnTo>
                    <a:pt x="76" y="375"/>
                  </a:lnTo>
                  <a:lnTo>
                    <a:pt x="55" y="353"/>
                  </a:lnTo>
                  <a:lnTo>
                    <a:pt x="34" y="329"/>
                  </a:lnTo>
                  <a:lnTo>
                    <a:pt x="21" y="301"/>
                  </a:lnTo>
                  <a:lnTo>
                    <a:pt x="10" y="273"/>
                  </a:lnTo>
                  <a:lnTo>
                    <a:pt x="4" y="243"/>
                  </a:lnTo>
                  <a:lnTo>
                    <a:pt x="0" y="212"/>
                  </a:lnTo>
                  <a:lnTo>
                    <a:pt x="4" y="182"/>
                  </a:lnTo>
                  <a:lnTo>
                    <a:pt x="10" y="152"/>
                  </a:lnTo>
                  <a:lnTo>
                    <a:pt x="21" y="124"/>
                  </a:lnTo>
                  <a:lnTo>
                    <a:pt x="34" y="96"/>
                  </a:lnTo>
                  <a:lnTo>
                    <a:pt x="53" y="72"/>
                  </a:lnTo>
                  <a:lnTo>
                    <a:pt x="76" y="52"/>
                  </a:lnTo>
                  <a:lnTo>
                    <a:pt x="101" y="33"/>
                  </a:lnTo>
                  <a:lnTo>
                    <a:pt x="127" y="18"/>
                  </a:lnTo>
                  <a:lnTo>
                    <a:pt x="157" y="7"/>
                  </a:lnTo>
                  <a:lnTo>
                    <a:pt x="188" y="2"/>
                  </a:lnTo>
                  <a:lnTo>
                    <a:pt x="218" y="0"/>
                  </a:lnTo>
                  <a:lnTo>
                    <a:pt x="250" y="2"/>
                  </a:lnTo>
                  <a:lnTo>
                    <a:pt x="280" y="7"/>
                  </a:lnTo>
                  <a:lnTo>
                    <a:pt x="309" y="18"/>
                  </a:lnTo>
                  <a:lnTo>
                    <a:pt x="337" y="33"/>
                  </a:lnTo>
                  <a:lnTo>
                    <a:pt x="362" y="50"/>
                  </a:lnTo>
                  <a:lnTo>
                    <a:pt x="383" y="72"/>
                  </a:lnTo>
                  <a:lnTo>
                    <a:pt x="401" y="96"/>
                  </a:lnTo>
                  <a:lnTo>
                    <a:pt x="417" y="124"/>
                  </a:lnTo>
                  <a:lnTo>
                    <a:pt x="428" y="152"/>
                  </a:lnTo>
                  <a:lnTo>
                    <a:pt x="434" y="182"/>
                  </a:lnTo>
                  <a:lnTo>
                    <a:pt x="436" y="21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95080" y="4538160"/>
              <a:ext cx="241200" cy="213120"/>
            </a:xfrm>
            <a:custGeom>
              <a:avLst/>
              <a:gdLst/>
              <a:ahLst/>
              <a:rect l="l" t="t" r="r" b="b"/>
              <a:pathLst>
                <a:path w="435" h="425">
                  <a:moveTo>
                    <a:pt x="435" y="213"/>
                  </a:moveTo>
                  <a:lnTo>
                    <a:pt x="433" y="243"/>
                  </a:lnTo>
                  <a:lnTo>
                    <a:pt x="425" y="273"/>
                  </a:lnTo>
                  <a:lnTo>
                    <a:pt x="414" y="301"/>
                  </a:lnTo>
                  <a:lnTo>
                    <a:pt x="401" y="329"/>
                  </a:lnTo>
                  <a:lnTo>
                    <a:pt x="384" y="353"/>
                  </a:lnTo>
                  <a:lnTo>
                    <a:pt x="361" y="373"/>
                  </a:lnTo>
                  <a:lnTo>
                    <a:pt x="337" y="392"/>
                  </a:lnTo>
                  <a:lnTo>
                    <a:pt x="308" y="407"/>
                  </a:lnTo>
                  <a:lnTo>
                    <a:pt x="280" y="418"/>
                  </a:lnTo>
                  <a:lnTo>
                    <a:pt x="249" y="423"/>
                  </a:lnTo>
                  <a:lnTo>
                    <a:pt x="217" y="425"/>
                  </a:lnTo>
                  <a:lnTo>
                    <a:pt x="187" y="423"/>
                  </a:lnTo>
                  <a:lnTo>
                    <a:pt x="157" y="418"/>
                  </a:lnTo>
                  <a:lnTo>
                    <a:pt x="126" y="407"/>
                  </a:lnTo>
                  <a:lnTo>
                    <a:pt x="100" y="392"/>
                  </a:lnTo>
                  <a:lnTo>
                    <a:pt x="75" y="375"/>
                  </a:lnTo>
                  <a:lnTo>
                    <a:pt x="54" y="353"/>
                  </a:lnTo>
                  <a:lnTo>
                    <a:pt x="34" y="329"/>
                  </a:lnTo>
                  <a:lnTo>
                    <a:pt x="20" y="301"/>
                  </a:lnTo>
                  <a:lnTo>
                    <a:pt x="9" y="273"/>
                  </a:lnTo>
                  <a:lnTo>
                    <a:pt x="1" y="243"/>
                  </a:lnTo>
                  <a:lnTo>
                    <a:pt x="0" y="213"/>
                  </a:lnTo>
                  <a:lnTo>
                    <a:pt x="1" y="182"/>
                  </a:lnTo>
                  <a:lnTo>
                    <a:pt x="9" y="152"/>
                  </a:lnTo>
                  <a:lnTo>
                    <a:pt x="20" y="124"/>
                  </a:lnTo>
                  <a:lnTo>
                    <a:pt x="34" y="96"/>
                  </a:lnTo>
                  <a:lnTo>
                    <a:pt x="53" y="72"/>
                  </a:lnTo>
                  <a:lnTo>
                    <a:pt x="75" y="54"/>
                  </a:lnTo>
                  <a:lnTo>
                    <a:pt x="100" y="33"/>
                  </a:lnTo>
                  <a:lnTo>
                    <a:pt x="126" y="20"/>
                  </a:lnTo>
                  <a:lnTo>
                    <a:pt x="157" y="9"/>
                  </a:lnTo>
                  <a:lnTo>
                    <a:pt x="187" y="2"/>
                  </a:lnTo>
                  <a:lnTo>
                    <a:pt x="217" y="0"/>
                  </a:lnTo>
                  <a:lnTo>
                    <a:pt x="249" y="2"/>
                  </a:lnTo>
                  <a:lnTo>
                    <a:pt x="280" y="9"/>
                  </a:lnTo>
                  <a:lnTo>
                    <a:pt x="308" y="20"/>
                  </a:lnTo>
                  <a:lnTo>
                    <a:pt x="337" y="33"/>
                  </a:lnTo>
                  <a:lnTo>
                    <a:pt x="361" y="50"/>
                  </a:lnTo>
                  <a:lnTo>
                    <a:pt x="382" y="72"/>
                  </a:lnTo>
                  <a:lnTo>
                    <a:pt x="401" y="96"/>
                  </a:lnTo>
                  <a:lnTo>
                    <a:pt x="414" y="124"/>
                  </a:lnTo>
                  <a:lnTo>
                    <a:pt x="425" y="152"/>
                  </a:lnTo>
                  <a:lnTo>
                    <a:pt x="433" y="182"/>
                  </a:lnTo>
                  <a:lnTo>
                    <a:pt x="435" y="2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98440" y="5072400"/>
              <a:ext cx="242640" cy="212760"/>
            </a:xfrm>
            <a:custGeom>
              <a:avLst/>
              <a:gdLst/>
              <a:ahLst/>
              <a:rect l="l" t="t" r="r" b="b"/>
              <a:pathLst>
                <a:path w="435" h="425">
                  <a:moveTo>
                    <a:pt x="435" y="212"/>
                  </a:moveTo>
                  <a:lnTo>
                    <a:pt x="433" y="243"/>
                  </a:lnTo>
                  <a:lnTo>
                    <a:pt x="426" y="273"/>
                  </a:lnTo>
                  <a:lnTo>
                    <a:pt x="414" y="301"/>
                  </a:lnTo>
                  <a:lnTo>
                    <a:pt x="401" y="329"/>
                  </a:lnTo>
                  <a:lnTo>
                    <a:pt x="384" y="353"/>
                  </a:lnTo>
                  <a:lnTo>
                    <a:pt x="361" y="373"/>
                  </a:lnTo>
                  <a:lnTo>
                    <a:pt x="337" y="392"/>
                  </a:lnTo>
                  <a:lnTo>
                    <a:pt x="308" y="405"/>
                  </a:lnTo>
                  <a:lnTo>
                    <a:pt x="280" y="416"/>
                  </a:lnTo>
                  <a:lnTo>
                    <a:pt x="250" y="423"/>
                  </a:lnTo>
                  <a:lnTo>
                    <a:pt x="218" y="425"/>
                  </a:lnTo>
                  <a:lnTo>
                    <a:pt x="185" y="423"/>
                  </a:lnTo>
                  <a:lnTo>
                    <a:pt x="157" y="416"/>
                  </a:lnTo>
                  <a:lnTo>
                    <a:pt x="127" y="405"/>
                  </a:lnTo>
                  <a:lnTo>
                    <a:pt x="100" y="392"/>
                  </a:lnTo>
                  <a:lnTo>
                    <a:pt x="76" y="375"/>
                  </a:lnTo>
                  <a:lnTo>
                    <a:pt x="55" y="353"/>
                  </a:lnTo>
                  <a:lnTo>
                    <a:pt x="34" y="329"/>
                  </a:lnTo>
                  <a:lnTo>
                    <a:pt x="21" y="301"/>
                  </a:lnTo>
                  <a:lnTo>
                    <a:pt x="9" y="273"/>
                  </a:lnTo>
                  <a:lnTo>
                    <a:pt x="2" y="243"/>
                  </a:lnTo>
                  <a:lnTo>
                    <a:pt x="0" y="212"/>
                  </a:lnTo>
                  <a:lnTo>
                    <a:pt x="2" y="182"/>
                  </a:lnTo>
                  <a:lnTo>
                    <a:pt x="9" y="152"/>
                  </a:lnTo>
                  <a:lnTo>
                    <a:pt x="21" y="124"/>
                  </a:lnTo>
                  <a:lnTo>
                    <a:pt x="34" y="96"/>
                  </a:lnTo>
                  <a:lnTo>
                    <a:pt x="53" y="72"/>
                  </a:lnTo>
                  <a:lnTo>
                    <a:pt x="76" y="52"/>
                  </a:lnTo>
                  <a:lnTo>
                    <a:pt x="100" y="33"/>
                  </a:lnTo>
                  <a:lnTo>
                    <a:pt x="127" y="18"/>
                  </a:lnTo>
                  <a:lnTo>
                    <a:pt x="157" y="7"/>
                  </a:lnTo>
                  <a:lnTo>
                    <a:pt x="185" y="2"/>
                  </a:lnTo>
                  <a:lnTo>
                    <a:pt x="218" y="0"/>
                  </a:lnTo>
                  <a:lnTo>
                    <a:pt x="250" y="2"/>
                  </a:lnTo>
                  <a:lnTo>
                    <a:pt x="280" y="7"/>
                  </a:lnTo>
                  <a:lnTo>
                    <a:pt x="308" y="18"/>
                  </a:lnTo>
                  <a:lnTo>
                    <a:pt x="337" y="33"/>
                  </a:lnTo>
                  <a:lnTo>
                    <a:pt x="361" y="50"/>
                  </a:lnTo>
                  <a:lnTo>
                    <a:pt x="380" y="72"/>
                  </a:lnTo>
                  <a:lnTo>
                    <a:pt x="401" y="96"/>
                  </a:lnTo>
                  <a:lnTo>
                    <a:pt x="414" y="124"/>
                  </a:lnTo>
                  <a:lnTo>
                    <a:pt x="426" y="152"/>
                  </a:lnTo>
                  <a:lnTo>
                    <a:pt x="433" y="182"/>
                  </a:lnTo>
                  <a:lnTo>
                    <a:pt x="435" y="21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04680" y="4538160"/>
              <a:ext cx="241200" cy="213120"/>
            </a:xfrm>
            <a:custGeom>
              <a:avLst/>
              <a:gdLst/>
              <a:ahLst/>
              <a:rect l="l" t="t" r="r" b="b"/>
              <a:pathLst>
                <a:path w="436" h="425">
                  <a:moveTo>
                    <a:pt x="436" y="213"/>
                  </a:moveTo>
                  <a:lnTo>
                    <a:pt x="434" y="243"/>
                  </a:lnTo>
                  <a:lnTo>
                    <a:pt x="426" y="273"/>
                  </a:lnTo>
                  <a:lnTo>
                    <a:pt x="415" y="301"/>
                  </a:lnTo>
                  <a:lnTo>
                    <a:pt x="402" y="329"/>
                  </a:lnTo>
                  <a:lnTo>
                    <a:pt x="385" y="353"/>
                  </a:lnTo>
                  <a:lnTo>
                    <a:pt x="362" y="373"/>
                  </a:lnTo>
                  <a:lnTo>
                    <a:pt x="335" y="392"/>
                  </a:lnTo>
                  <a:lnTo>
                    <a:pt x="309" y="407"/>
                  </a:lnTo>
                  <a:lnTo>
                    <a:pt x="280" y="418"/>
                  </a:lnTo>
                  <a:lnTo>
                    <a:pt x="250" y="423"/>
                  </a:lnTo>
                  <a:lnTo>
                    <a:pt x="218" y="425"/>
                  </a:lnTo>
                  <a:lnTo>
                    <a:pt x="186" y="423"/>
                  </a:lnTo>
                  <a:lnTo>
                    <a:pt x="157" y="418"/>
                  </a:lnTo>
                  <a:lnTo>
                    <a:pt x="127" y="407"/>
                  </a:lnTo>
                  <a:lnTo>
                    <a:pt x="101" y="392"/>
                  </a:lnTo>
                  <a:lnTo>
                    <a:pt x="76" y="375"/>
                  </a:lnTo>
                  <a:lnTo>
                    <a:pt x="55" y="353"/>
                  </a:lnTo>
                  <a:lnTo>
                    <a:pt x="34" y="329"/>
                  </a:lnTo>
                  <a:lnTo>
                    <a:pt x="21" y="301"/>
                  </a:lnTo>
                  <a:lnTo>
                    <a:pt x="10" y="273"/>
                  </a:lnTo>
                  <a:lnTo>
                    <a:pt x="2" y="243"/>
                  </a:lnTo>
                  <a:lnTo>
                    <a:pt x="0" y="213"/>
                  </a:lnTo>
                  <a:lnTo>
                    <a:pt x="2" y="182"/>
                  </a:lnTo>
                  <a:lnTo>
                    <a:pt x="10" y="152"/>
                  </a:lnTo>
                  <a:lnTo>
                    <a:pt x="21" y="124"/>
                  </a:lnTo>
                  <a:lnTo>
                    <a:pt x="34" y="96"/>
                  </a:lnTo>
                  <a:lnTo>
                    <a:pt x="53" y="72"/>
                  </a:lnTo>
                  <a:lnTo>
                    <a:pt x="76" y="54"/>
                  </a:lnTo>
                  <a:lnTo>
                    <a:pt x="101" y="33"/>
                  </a:lnTo>
                  <a:lnTo>
                    <a:pt x="127" y="20"/>
                  </a:lnTo>
                  <a:lnTo>
                    <a:pt x="157" y="9"/>
                  </a:lnTo>
                  <a:lnTo>
                    <a:pt x="186" y="2"/>
                  </a:lnTo>
                  <a:lnTo>
                    <a:pt x="218" y="0"/>
                  </a:lnTo>
                  <a:lnTo>
                    <a:pt x="250" y="2"/>
                  </a:lnTo>
                  <a:lnTo>
                    <a:pt x="280" y="9"/>
                  </a:lnTo>
                  <a:lnTo>
                    <a:pt x="309" y="20"/>
                  </a:lnTo>
                  <a:lnTo>
                    <a:pt x="335" y="33"/>
                  </a:lnTo>
                  <a:lnTo>
                    <a:pt x="362" y="50"/>
                  </a:lnTo>
                  <a:lnTo>
                    <a:pt x="381" y="72"/>
                  </a:lnTo>
                  <a:lnTo>
                    <a:pt x="402" y="96"/>
                  </a:lnTo>
                  <a:lnTo>
                    <a:pt x="415" y="124"/>
                  </a:lnTo>
                  <a:lnTo>
                    <a:pt x="426" y="152"/>
                  </a:lnTo>
                  <a:lnTo>
                    <a:pt x="434" y="182"/>
                  </a:lnTo>
                  <a:lnTo>
                    <a:pt x="436" y="21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07520" y="4431600"/>
              <a:ext cx="0" cy="42732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4160" y="4644720"/>
              <a:ext cx="483120" cy="144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10520" y="4966200"/>
              <a:ext cx="1080" cy="42588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68960" y="5178960"/>
              <a:ext cx="483120" cy="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5320" y="4431600"/>
              <a:ext cx="1080" cy="42732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73400" y="4644720"/>
              <a:ext cx="484560" cy="144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20120" y="4966200"/>
              <a:ext cx="1080" cy="42588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78200" y="5178960"/>
              <a:ext cx="484560" cy="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26000" y="4431600"/>
              <a:ext cx="1440" cy="42732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84440" y="4644720"/>
              <a:ext cx="482760" cy="144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919760" y="4644720"/>
              <a:ext cx="605880" cy="53388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69720" y="4644720"/>
              <a:ext cx="694080" cy="144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69720" y="5178960"/>
              <a:ext cx="1298880" cy="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08120" y="4644720"/>
              <a:ext cx="605880" cy="144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14360" y="5178960"/>
              <a:ext cx="604800" cy="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3960" y="5178960"/>
              <a:ext cx="785160" cy="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15320" y="4859280"/>
              <a:ext cx="1080" cy="117324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10520" y="5392440"/>
              <a:ext cx="1080" cy="64044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07520" y="4912920"/>
              <a:ext cx="0" cy="111960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9160" y="4644720"/>
              <a:ext cx="604440" cy="144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0120" y="5392440"/>
              <a:ext cx="1080" cy="48060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6000" y="4859280"/>
              <a:ext cx="1440" cy="101376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526000" y="4005000"/>
              <a:ext cx="1440" cy="37260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74480" y="4644720"/>
              <a:ext cx="1440" cy="53388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36680" y="4644720"/>
              <a:ext cx="75960" cy="67680"/>
            </a:xfrm>
            <a:custGeom>
              <a:avLst/>
              <a:gdLst/>
              <a:ahLst/>
              <a:rect l="l" t="t" r="r" b="b"/>
              <a:pathLst>
                <a:path w="136" h="132">
                  <a:moveTo>
                    <a:pt x="136" y="132"/>
                  </a:moveTo>
                  <a:lnTo>
                    <a:pt x="68" y="0"/>
                  </a:lnTo>
                  <a:lnTo>
                    <a:pt x="0" y="132"/>
                  </a:lnTo>
                  <a:lnTo>
                    <a:pt x="136" y="132"/>
                  </a:lnTo>
                  <a:close/>
                </a:path>
              </a:pathLst>
            </a:custGeom>
            <a:solidFill>
              <a:srgbClr val="cc330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36680" y="5112720"/>
              <a:ext cx="75960" cy="66240"/>
            </a:xfrm>
            <a:custGeom>
              <a:avLst/>
              <a:gdLst/>
              <a:ahLst/>
              <a:rect l="l" t="t" r="r" b="b"/>
              <a:pathLst>
                <a:path w="136" h="132">
                  <a:moveTo>
                    <a:pt x="136" y="0"/>
                  </a:moveTo>
                  <a:lnTo>
                    <a:pt x="68" y="132"/>
                  </a:lnTo>
                  <a:lnTo>
                    <a:pt x="0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07520" y="5994720"/>
              <a:ext cx="603000" cy="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07520" y="5961600"/>
              <a:ext cx="74160" cy="6624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136" y="0"/>
                  </a:moveTo>
                  <a:lnTo>
                    <a:pt x="0" y="67"/>
                  </a:lnTo>
                  <a:lnTo>
                    <a:pt x="136" y="13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6000" y="5961600"/>
              <a:ext cx="74520" cy="6624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0"/>
                  </a:moveTo>
                  <a:lnTo>
                    <a:pt x="136" y="67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10520" y="5994720"/>
              <a:ext cx="604440" cy="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10520" y="5961600"/>
              <a:ext cx="75600" cy="6624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136" y="0"/>
                  </a:moveTo>
                  <a:lnTo>
                    <a:pt x="0" y="67"/>
                  </a:lnTo>
                  <a:lnTo>
                    <a:pt x="136" y="13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39360" y="5961600"/>
              <a:ext cx="75960" cy="6624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0"/>
                  </a:moveTo>
                  <a:lnTo>
                    <a:pt x="136" y="67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330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526000" y="3897000"/>
              <a:ext cx="1440" cy="10764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26000" y="5873040"/>
              <a:ext cx="1440" cy="10620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20120" y="5873040"/>
              <a:ext cx="1080" cy="10620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755600" y="5979600"/>
              <a:ext cx="164160" cy="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5600" y="5946480"/>
              <a:ext cx="74160" cy="6624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136" y="133"/>
                  </a:moveTo>
                  <a:lnTo>
                    <a:pt x="0" y="66"/>
                  </a:lnTo>
                  <a:lnTo>
                    <a:pt x="136" y="0"/>
                  </a:lnTo>
                  <a:lnTo>
                    <a:pt x="136" y="133"/>
                  </a:lnTo>
                  <a:close/>
                </a:path>
              </a:pathLst>
            </a:custGeom>
            <a:solidFill>
              <a:srgbClr val="cc330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345280" y="5979600"/>
              <a:ext cx="180720" cy="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45280" y="5946480"/>
              <a:ext cx="74160" cy="6624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137" y="133"/>
                  </a:moveTo>
                  <a:lnTo>
                    <a:pt x="0" y="66"/>
                  </a:lnTo>
                  <a:lnTo>
                    <a:pt x="137" y="0"/>
                  </a:lnTo>
                  <a:lnTo>
                    <a:pt x="137" y="133"/>
                  </a:lnTo>
                  <a:close/>
                </a:path>
              </a:pathLst>
            </a:custGeom>
            <a:solidFill>
              <a:srgbClr val="cc330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345280" y="3897360"/>
              <a:ext cx="180720" cy="1440"/>
            </a:xfrm>
            <a:prstGeom prst="line">
              <a:avLst/>
            </a:prstGeom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45280" y="3863880"/>
              <a:ext cx="74160" cy="6804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137" y="133"/>
                  </a:moveTo>
                  <a:lnTo>
                    <a:pt x="0" y="66"/>
                  </a:lnTo>
                  <a:lnTo>
                    <a:pt x="137" y="0"/>
                  </a:lnTo>
                  <a:lnTo>
                    <a:pt x="137" y="133"/>
                  </a:lnTo>
                  <a:close/>
                </a:path>
              </a:pathLst>
            </a:custGeom>
            <a:solidFill>
              <a:srgbClr val="cc3300"/>
            </a:solidFill>
            <a:ln w="0">
              <a:solidFill>
                <a:srgbClr val="cc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7440" y="3979080"/>
              <a:ext cx="160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Hole diameter d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7960" y="5771520"/>
              <a:ext cx="166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Plate thickness 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35160" y="4849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95520" y="5715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01400" y="5715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54040" y="37893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1,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08360" y="5879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6920" y="5879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226560" y="4020480"/>
              <a:ext cx="366120" cy="1759320"/>
              <a:chOff x="6226560" y="4020480"/>
              <a:chExt cx="366120" cy="1759320"/>
            </a:xfrm>
          </p:grpSpPr>
          <p:sp>
            <p:nvSpPr>
              <p:cNvPr id="280" name=""/>
              <p:cNvSpPr/>
              <p:nvPr/>
            </p:nvSpPr>
            <p:spPr>
              <a:xfrm>
                <a:off x="6226560" y="4100400"/>
                <a:ext cx="361440" cy="72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26560" y="5699520"/>
                <a:ext cx="361440" cy="108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06200" y="4020480"/>
                <a:ext cx="720" cy="175932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346080" y="4046400"/>
                <a:ext cx="120600" cy="10656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346080" y="5646600"/>
                <a:ext cx="120600" cy="106920"/>
              </a:xfrm>
              <a:prstGeom prst="line">
                <a:avLst/>
              </a:prstGeom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65600" y="47941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33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201760" y="4280400"/>
              <a:ext cx="797400" cy="2775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BCEE-7307-4DBB-A4DB-EFF178F4B4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ccentric conne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1480" indent="-4114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metimes difficult or even impossible to prevent eccentricity in connec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1480" indent="-4114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ccentric connections often met where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92440" indent="-31752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ymmetrically connected members;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92440" indent="-31752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symmetric members (angles, tees, channels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11480" indent="-4114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ccentricity induces parasitic bending mo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1480" indent="-4114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nding stresses superimpose stresses due to axial forc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1480" indent="-41148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 principle, bending moment reduce the admissible tensile forc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8A67-B52E-40B5-BA19-3A883033FF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ccentric conne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6944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 practice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ffects of small eccentricity may generally be disregarded when static loading (plastic redistribution) but to be accounted for when cycling loading (fatigue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ffects of significant eccentricity 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nding stresses great compared to tensile stress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) to be accounted through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duced tension resistance in accordance with Chapter on ‘Combined axial force and bending’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sign as axially loaded but with a modified net section when angles connected by one leg with single bolt row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count for shear lag 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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ee CIDECT Design Guide 3 for 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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58920" y="5592600"/>
          <a:ext cx="194472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592600"/>
                    <a:ext cx="19447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881D-3876-409A-9188-4A7B5DFE2B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6"/>
                </a:solidFill>
                <a:latin typeface="Arial"/>
              </a:rPr>
              <a:t>Block tearing resistanc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5761080" cy="30686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79280" y="1413000"/>
            <a:ext cx="856944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ailure line = association of tensile surfaces and shear surface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sider the probable failure lines and check the design block tearing resistance in each case (see Connections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EA63-94CE-4D98-95AA-37B12236ED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erviceability, corrosion and fatigu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nsion members transfer load very efficiently with the result of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latively small cross-sectional areas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sceptibility of ties to significant elongation under axial load (large drift)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sceptibility to transverse deflection under self-weight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oneness to vibrations or flutter under wind loading or simply exploitation of the struc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ght rolled sections are easily damaged in transpor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F203-E01E-43E8-8C11-1A217AB027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erviceability, corrosion and fatigu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ood practice is to limit the slenderness of tension member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 limit values specified in most standard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ome recommended values in foreign standard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300 for members in buildings and 200 in bridges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ometimes less severe limitations for secondary members (for instance 400 for members in building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rrosion:  consequences of loss of material the greatest for tension members because they are usually relatively highly stress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AB16-45A4-4CD4-BE8F-62489FE1B3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LS of a tension member is characteris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y excessive elongation of the member 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y material failure or separation in possible weakened sec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design tension resistance of a member with welded connections (full penetration) is given as the design gross cross-sectional resistanc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bolted connections, account for bolt holes result in the concept of net cross se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534A-47FB-4050-AB05-CD757B2D8E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7840" indent="-44784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design tension resistance of a member with bolted connections is taken as the lesser o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yielding of gross section (ductile) 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nset of tensile ultimate strength in the net section (brittle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ductile behaviour is required, yielding of gross section should be more determinative than  failure in net se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all eccentricity in connections may be disregarded when static loading on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ccentricity in connections of angles by one leg only may be accounted for by considering a modified net se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A7BB-058E-4A89-9844-A90487FF1F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4160" indent="-4341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nsion member is subjected to axial tensile forc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34160" indent="-4341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xamples of tension members: ‘pin-ended’ members in trusses, lattice girders and bracing members, ( cables, ropes)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34160" indent="-43416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ery simple basic design: provision of sufficient cross-sectional area to resist the applied forc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341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34160" indent="-434160" algn="just">
              <a:spcBef>
                <a:spcPts val="2625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ortance of end connections which often govern the design (when bolted connections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341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24000" y="4292640"/>
          <a:ext cx="431640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292640"/>
                    <a:ext cx="43164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432A-D0DE-4360-9A16-5674081D6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attention is paid to shear lag effects in the connections through an appropriate penalty on the net se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large eccentricity (eccentric connections) or when eccentricity may not be disregarded, members should be designed as subjected to combined axial force and bend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re should be taken of block tearing where necessar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iceability conditions are mainly related to consequences of significant elongation, transverse deflection under self-weight and vibr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mit the slenderness of tension member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4C47-11AB-4F4F-9D87-5DF306C965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8840" indent="-43884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nections in tubular construction are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51480" indent="-3384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ery often welded connections with full penetration join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1480" indent="-3384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ldom bolted connectio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welded connec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51480" indent="-3384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 weakening of the cross section due to connectio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1480" indent="-3384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sisting cross-sectional area = gross cross-sectional are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bolted connections: detailing affects the tensile member design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388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ne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DC6B-DF55-4300-B225-371F1D160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ual to assume uniform stress distribu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lted connection details affect stress distribu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duction of cross-sectional area at bolt hol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ome stress concentration due to bolt holes with peak stresses around the hol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ften inevitable small eccentricity in connections resulting in secondary bending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olted connection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68360" y="2155680"/>
            <a:ext cx="3929040" cy="1376280"/>
            <a:chOff x="2268360" y="2155680"/>
            <a:chExt cx="3929040" cy="1376280"/>
          </a:xfrm>
        </p:grpSpPr>
        <p:sp>
          <p:nvSpPr>
            <p:cNvPr id="110" name=""/>
            <p:cNvSpPr/>
            <p:nvPr/>
          </p:nvSpPr>
          <p:spPr>
            <a:xfrm>
              <a:off x="5861160" y="3396960"/>
              <a:ext cx="48960" cy="49320"/>
            </a:xfrm>
            <a:custGeom>
              <a:avLst/>
              <a:gdLst/>
              <a:ahLst/>
              <a:rect l="l" t="t" r="r" b="b"/>
              <a:pathLst>
                <a:path w="108" h="73">
                  <a:moveTo>
                    <a:pt x="0" y="0"/>
                  </a:moveTo>
                  <a:lnTo>
                    <a:pt x="108" y="3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726160" y="2155680"/>
              <a:ext cx="185400" cy="1267920"/>
              <a:chOff x="5726160" y="2155680"/>
              <a:chExt cx="185400" cy="1267920"/>
            </a:xfrm>
          </p:grpSpPr>
          <p:sp>
            <p:nvSpPr>
              <p:cNvPr id="112" name=""/>
              <p:cNvSpPr/>
              <p:nvPr/>
            </p:nvSpPr>
            <p:spPr>
              <a:xfrm>
                <a:off x="5726160" y="2179440"/>
                <a:ext cx="1080" cy="12427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26160" y="2179440"/>
                <a:ext cx="184320" cy="1080"/>
              </a:xfrm>
              <a:custGeom>
                <a:avLst/>
                <a:gdLst/>
                <a:ahLst/>
                <a:rect l="l" t="t" r="r" b="b"/>
                <a:pathLst>
                  <a:path w="410" h="0">
                    <a:moveTo>
                      <a:pt x="0" y="0"/>
                    </a:moveTo>
                    <a:lnTo>
                      <a:pt x="237" y="0"/>
                    </a:lnTo>
                    <a:lnTo>
                      <a:pt x="410" y="0"/>
                    </a:lnTo>
                  </a:path>
                </a:pathLst>
              </a:custGeom>
              <a:noFill/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1880" y="21556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108" h="74">
                    <a:moveTo>
                      <a:pt x="0" y="0"/>
                    </a:moveTo>
                    <a:lnTo>
                      <a:pt x="108" y="37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726160" y="3422520"/>
                <a:ext cx="184320" cy="108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726160" y="2732400"/>
                <a:ext cx="184320" cy="144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1880" y="2708280"/>
                <a:ext cx="48240" cy="48240"/>
              </a:xfrm>
              <a:custGeom>
                <a:avLst/>
                <a:gdLst/>
                <a:ahLst/>
                <a:rect l="l" t="t" r="r" b="b"/>
                <a:pathLst>
                  <a:path w="108" h="74">
                    <a:moveTo>
                      <a:pt x="0" y="0"/>
                    </a:moveTo>
                    <a:lnTo>
                      <a:pt x="108" y="37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26160" y="2318040"/>
                <a:ext cx="184320" cy="144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1880" y="2293920"/>
                <a:ext cx="48240" cy="48240"/>
              </a:xfrm>
              <a:custGeom>
                <a:avLst/>
                <a:gdLst/>
                <a:ahLst/>
                <a:rect l="l" t="t" r="r" b="b"/>
                <a:pathLst>
                  <a:path w="108" h="73">
                    <a:moveTo>
                      <a:pt x="0" y="0"/>
                    </a:moveTo>
                    <a:lnTo>
                      <a:pt x="108" y="37"/>
                    </a:lnTo>
                    <a:lnTo>
                      <a:pt x="0" y="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26160" y="2456640"/>
                <a:ext cx="184320" cy="144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61880" y="2432520"/>
                <a:ext cx="48240" cy="48240"/>
              </a:xfrm>
              <a:custGeom>
                <a:avLst/>
                <a:gdLst/>
                <a:ahLst/>
                <a:rect l="l" t="t" r="r" b="b"/>
                <a:pathLst>
                  <a:path w="108" h="74">
                    <a:moveTo>
                      <a:pt x="0" y="0"/>
                    </a:moveTo>
                    <a:lnTo>
                      <a:pt x="108" y="37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26160" y="2593800"/>
                <a:ext cx="184320" cy="144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1880" y="25696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108" h="74">
                    <a:moveTo>
                      <a:pt x="0" y="0"/>
                    </a:moveTo>
                    <a:lnTo>
                      <a:pt x="108" y="37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26160" y="2871000"/>
                <a:ext cx="184320" cy="108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1880" y="284544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108" h="74">
                    <a:moveTo>
                      <a:pt x="0" y="0"/>
                    </a:moveTo>
                    <a:lnTo>
                      <a:pt x="108" y="37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26160" y="3008160"/>
                <a:ext cx="184320" cy="144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1880" y="2984040"/>
                <a:ext cx="48240" cy="48240"/>
              </a:xfrm>
              <a:custGeom>
                <a:avLst/>
                <a:gdLst/>
                <a:ahLst/>
                <a:rect l="l" t="t" r="r" b="b"/>
                <a:pathLst>
                  <a:path w="108" h="74">
                    <a:moveTo>
                      <a:pt x="0" y="0"/>
                    </a:moveTo>
                    <a:lnTo>
                      <a:pt x="108" y="37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26160" y="3146760"/>
                <a:ext cx="184320" cy="108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1880" y="312120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108" h="74">
                    <a:moveTo>
                      <a:pt x="0" y="0"/>
                    </a:moveTo>
                    <a:lnTo>
                      <a:pt x="108" y="37"/>
                    </a:lnTo>
                    <a:lnTo>
                      <a:pt x="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26160" y="3285360"/>
                <a:ext cx="184320" cy="108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1880" y="3259800"/>
                <a:ext cx="48240" cy="48240"/>
              </a:xfrm>
              <a:custGeom>
                <a:avLst/>
                <a:gdLst/>
                <a:ahLst/>
                <a:rect l="l" t="t" r="r" b="b"/>
                <a:pathLst>
                  <a:path w="108" h="73">
                    <a:moveTo>
                      <a:pt x="0" y="0"/>
                    </a:moveTo>
                    <a:lnTo>
                      <a:pt x="108" y="37"/>
                    </a:lnTo>
                    <a:lnTo>
                      <a:pt x="0" y="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10480" y="2179440"/>
                <a:ext cx="1080" cy="1242720"/>
              </a:xfrm>
              <a:custGeom>
                <a:avLst/>
                <a:gdLst/>
                <a:ahLst/>
                <a:rect l="l" t="t" r="r" b="b"/>
                <a:pathLst>
                  <a:path w="0" h="1847">
                    <a:moveTo>
                      <a:pt x="0" y="0"/>
                    </a:moveTo>
                    <a:lnTo>
                      <a:pt x="0" y="1158"/>
                    </a:lnTo>
                    <a:lnTo>
                      <a:pt x="0" y="1847"/>
                    </a:lnTo>
                  </a:path>
                </a:pathLst>
              </a:custGeom>
              <a:noFill/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869080" y="3163680"/>
              <a:ext cx="32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68360" y="2674800"/>
              <a:ext cx="484200" cy="258480"/>
            </a:xfrm>
            <a:prstGeom prst="leftArrow">
              <a:avLst>
                <a:gd name="adj1" fmla="val 50000"/>
                <a:gd name="adj2" fmla="val 46831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03400" y="2201760"/>
              <a:ext cx="1903680" cy="124776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002920" y="2714400"/>
              <a:ext cx="484200" cy="258840"/>
            </a:xfrm>
            <a:prstGeom prst="leftArrow">
              <a:avLst>
                <a:gd name="adj1" fmla="val 50000"/>
                <a:gd name="adj2" fmla="val 467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9729-E744-4D52-88B4-B0A599C3F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olted connection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65400" y="1996920"/>
            <a:ext cx="1904760" cy="1247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4280" y="1628640"/>
            <a:ext cx="3111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lastic stress distribu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33560" y="2413080"/>
            <a:ext cx="417600" cy="384120"/>
          </a:xfrm>
          <a:custGeom>
            <a:avLst/>
            <a:gdLst/>
            <a:ahLst/>
            <a:rect l="l" t="t" r="r" b="b"/>
            <a:pathLst>
              <a:path w="689" h="469">
                <a:moveTo>
                  <a:pt x="689" y="235"/>
                </a:moveTo>
                <a:lnTo>
                  <a:pt x="688" y="258"/>
                </a:lnTo>
                <a:lnTo>
                  <a:pt x="682" y="280"/>
                </a:lnTo>
                <a:lnTo>
                  <a:pt x="673" y="304"/>
                </a:lnTo>
                <a:lnTo>
                  <a:pt x="662" y="327"/>
                </a:lnTo>
                <a:lnTo>
                  <a:pt x="646" y="348"/>
                </a:lnTo>
                <a:lnTo>
                  <a:pt x="628" y="367"/>
                </a:lnTo>
                <a:lnTo>
                  <a:pt x="607" y="388"/>
                </a:lnTo>
                <a:lnTo>
                  <a:pt x="581" y="404"/>
                </a:lnTo>
                <a:lnTo>
                  <a:pt x="556" y="420"/>
                </a:lnTo>
                <a:lnTo>
                  <a:pt x="527" y="433"/>
                </a:lnTo>
                <a:lnTo>
                  <a:pt x="497" y="445"/>
                </a:lnTo>
                <a:lnTo>
                  <a:pt x="464" y="454"/>
                </a:lnTo>
                <a:lnTo>
                  <a:pt x="431" y="462"/>
                </a:lnTo>
                <a:lnTo>
                  <a:pt x="397" y="466"/>
                </a:lnTo>
                <a:lnTo>
                  <a:pt x="362" y="469"/>
                </a:lnTo>
                <a:lnTo>
                  <a:pt x="328" y="469"/>
                </a:lnTo>
                <a:lnTo>
                  <a:pt x="292" y="466"/>
                </a:lnTo>
                <a:lnTo>
                  <a:pt x="259" y="462"/>
                </a:lnTo>
                <a:lnTo>
                  <a:pt x="226" y="454"/>
                </a:lnTo>
                <a:lnTo>
                  <a:pt x="193" y="445"/>
                </a:lnTo>
                <a:lnTo>
                  <a:pt x="163" y="433"/>
                </a:lnTo>
                <a:lnTo>
                  <a:pt x="134" y="420"/>
                </a:lnTo>
                <a:lnTo>
                  <a:pt x="107" y="404"/>
                </a:lnTo>
                <a:lnTo>
                  <a:pt x="82" y="388"/>
                </a:lnTo>
                <a:lnTo>
                  <a:pt x="63" y="369"/>
                </a:lnTo>
                <a:lnTo>
                  <a:pt x="43" y="348"/>
                </a:lnTo>
                <a:lnTo>
                  <a:pt x="28" y="327"/>
                </a:lnTo>
                <a:lnTo>
                  <a:pt x="16" y="305"/>
                </a:lnTo>
                <a:lnTo>
                  <a:pt x="7" y="282"/>
                </a:lnTo>
                <a:lnTo>
                  <a:pt x="1" y="259"/>
                </a:lnTo>
                <a:lnTo>
                  <a:pt x="0" y="235"/>
                </a:lnTo>
                <a:lnTo>
                  <a:pt x="1" y="211"/>
                </a:lnTo>
                <a:lnTo>
                  <a:pt x="7" y="188"/>
                </a:lnTo>
                <a:lnTo>
                  <a:pt x="16" y="165"/>
                </a:lnTo>
                <a:lnTo>
                  <a:pt x="27" y="142"/>
                </a:lnTo>
                <a:lnTo>
                  <a:pt x="43" y="121"/>
                </a:lnTo>
                <a:lnTo>
                  <a:pt x="61" y="101"/>
                </a:lnTo>
                <a:lnTo>
                  <a:pt x="82" y="82"/>
                </a:lnTo>
                <a:lnTo>
                  <a:pt x="107" y="65"/>
                </a:lnTo>
                <a:lnTo>
                  <a:pt x="133" y="49"/>
                </a:lnTo>
                <a:lnTo>
                  <a:pt x="161" y="36"/>
                </a:lnTo>
                <a:lnTo>
                  <a:pt x="191" y="24"/>
                </a:lnTo>
                <a:lnTo>
                  <a:pt x="224" y="14"/>
                </a:lnTo>
                <a:lnTo>
                  <a:pt x="259" y="7"/>
                </a:lnTo>
                <a:lnTo>
                  <a:pt x="292" y="2"/>
                </a:lnTo>
                <a:lnTo>
                  <a:pt x="326" y="0"/>
                </a:lnTo>
                <a:lnTo>
                  <a:pt x="361" y="0"/>
                </a:lnTo>
                <a:lnTo>
                  <a:pt x="397" y="2"/>
                </a:lnTo>
                <a:lnTo>
                  <a:pt x="431" y="7"/>
                </a:lnTo>
                <a:lnTo>
                  <a:pt x="463" y="14"/>
                </a:lnTo>
                <a:lnTo>
                  <a:pt x="496" y="24"/>
                </a:lnTo>
                <a:lnTo>
                  <a:pt x="526" y="36"/>
                </a:lnTo>
                <a:lnTo>
                  <a:pt x="554" y="49"/>
                </a:lnTo>
                <a:lnTo>
                  <a:pt x="581" y="65"/>
                </a:lnTo>
                <a:lnTo>
                  <a:pt x="607" y="82"/>
                </a:lnTo>
                <a:lnTo>
                  <a:pt x="626" y="100"/>
                </a:lnTo>
                <a:lnTo>
                  <a:pt x="646" y="121"/>
                </a:lnTo>
                <a:lnTo>
                  <a:pt x="661" y="142"/>
                </a:lnTo>
                <a:lnTo>
                  <a:pt x="673" y="164"/>
                </a:lnTo>
                <a:lnTo>
                  <a:pt x="682" y="187"/>
                </a:lnTo>
                <a:lnTo>
                  <a:pt x="688" y="210"/>
                </a:lnTo>
                <a:lnTo>
                  <a:pt x="689" y="235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66840" y="1996920"/>
            <a:ext cx="1800" cy="40032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66840" y="2397240"/>
            <a:ext cx="727200" cy="1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8920" y="2814480"/>
            <a:ext cx="1800" cy="4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58920" y="2814480"/>
            <a:ext cx="727200" cy="18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76360" y="1996920"/>
            <a:ext cx="517680" cy="400320"/>
          </a:xfrm>
          <a:custGeom>
            <a:avLst/>
            <a:gdLst/>
            <a:ahLst/>
            <a:rect l="l" t="t" r="r" b="b"/>
            <a:pathLst>
              <a:path w="863" h="528">
                <a:moveTo>
                  <a:pt x="863" y="528"/>
                </a:moveTo>
                <a:lnTo>
                  <a:pt x="680" y="501"/>
                </a:lnTo>
                <a:lnTo>
                  <a:pt x="518" y="462"/>
                </a:lnTo>
                <a:lnTo>
                  <a:pt x="378" y="414"/>
                </a:lnTo>
                <a:lnTo>
                  <a:pt x="260" y="352"/>
                </a:lnTo>
                <a:lnTo>
                  <a:pt x="162" y="281"/>
                </a:lnTo>
                <a:lnTo>
                  <a:pt x="87" y="198"/>
                </a:lnTo>
                <a:lnTo>
                  <a:pt x="33" y="106"/>
                </a:lnTo>
                <a:lnTo>
                  <a:pt x="5" y="1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7000" y="2814480"/>
            <a:ext cx="519120" cy="432000"/>
          </a:xfrm>
          <a:custGeom>
            <a:avLst/>
            <a:gdLst/>
            <a:ahLst/>
            <a:rect l="l" t="t" r="r" b="b"/>
            <a:pathLst>
              <a:path w="863" h="528">
                <a:moveTo>
                  <a:pt x="863" y="0"/>
                </a:moveTo>
                <a:lnTo>
                  <a:pt x="680" y="34"/>
                </a:lnTo>
                <a:lnTo>
                  <a:pt x="518" y="77"/>
                </a:lnTo>
                <a:lnTo>
                  <a:pt x="378" y="130"/>
                </a:lnTo>
                <a:lnTo>
                  <a:pt x="260" y="191"/>
                </a:lnTo>
                <a:lnTo>
                  <a:pt x="152" y="269"/>
                </a:lnTo>
                <a:lnTo>
                  <a:pt x="71" y="361"/>
                </a:lnTo>
                <a:lnTo>
                  <a:pt x="23" y="453"/>
                </a:lnTo>
                <a:lnTo>
                  <a:pt x="0" y="528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6840" y="2036880"/>
            <a:ext cx="220680" cy="1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6840" y="2108160"/>
            <a:ext cx="246240" cy="18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66840" y="2179800"/>
            <a:ext cx="285840" cy="1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66840" y="2252520"/>
            <a:ext cx="363600" cy="18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2324160"/>
            <a:ext cx="480960" cy="32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2884320"/>
            <a:ext cx="493920" cy="32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58920" y="2957400"/>
            <a:ext cx="376200" cy="18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58920" y="3030480"/>
            <a:ext cx="298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58920" y="3103560"/>
            <a:ext cx="260280" cy="1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58920" y="3173400"/>
            <a:ext cx="220680" cy="1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7760" y="3241800"/>
            <a:ext cx="22716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73320" y="2001960"/>
            <a:ext cx="22716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424240"/>
            <a:ext cx="484200" cy="258480"/>
          </a:xfrm>
          <a:prstGeom prst="leftArrow">
            <a:avLst>
              <a:gd name="adj1" fmla="val 50000"/>
              <a:gd name="adj2" fmla="val 46831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5840" y="2463840"/>
            <a:ext cx="484200" cy="258840"/>
          </a:xfrm>
          <a:prstGeom prst="leftArrow">
            <a:avLst>
              <a:gd name="adj1" fmla="val 50000"/>
              <a:gd name="adj2" fmla="val 46766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460600"/>
            <a:ext cx="484200" cy="258840"/>
          </a:xfrm>
          <a:prstGeom prst="leftArrow">
            <a:avLst>
              <a:gd name="adj1" fmla="val 50000"/>
              <a:gd name="adj2" fmla="val 46766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7400" y="1987560"/>
            <a:ext cx="1903320" cy="12477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666920" y="2500200"/>
            <a:ext cx="484200" cy="258840"/>
          </a:xfrm>
          <a:prstGeom prst="leftArrow">
            <a:avLst>
              <a:gd name="adj1" fmla="val 50000"/>
              <a:gd name="adj2" fmla="val 46766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3160" y="1628640"/>
            <a:ext cx="402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deal’ uniform stress distribu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91360" y="2428920"/>
            <a:ext cx="393480" cy="384120"/>
          </a:xfrm>
          <a:custGeom>
            <a:avLst/>
            <a:gdLst/>
            <a:ahLst/>
            <a:rect l="l" t="t" r="r" b="b"/>
            <a:pathLst>
              <a:path w="690" h="469">
                <a:moveTo>
                  <a:pt x="690" y="235"/>
                </a:moveTo>
                <a:lnTo>
                  <a:pt x="688" y="258"/>
                </a:lnTo>
                <a:lnTo>
                  <a:pt x="682" y="280"/>
                </a:lnTo>
                <a:lnTo>
                  <a:pt x="673" y="304"/>
                </a:lnTo>
                <a:lnTo>
                  <a:pt x="663" y="327"/>
                </a:lnTo>
                <a:lnTo>
                  <a:pt x="646" y="348"/>
                </a:lnTo>
                <a:lnTo>
                  <a:pt x="628" y="367"/>
                </a:lnTo>
                <a:lnTo>
                  <a:pt x="607" y="388"/>
                </a:lnTo>
                <a:lnTo>
                  <a:pt x="582" y="404"/>
                </a:lnTo>
                <a:lnTo>
                  <a:pt x="556" y="420"/>
                </a:lnTo>
                <a:lnTo>
                  <a:pt x="528" y="433"/>
                </a:lnTo>
                <a:lnTo>
                  <a:pt x="498" y="445"/>
                </a:lnTo>
                <a:lnTo>
                  <a:pt x="465" y="454"/>
                </a:lnTo>
                <a:lnTo>
                  <a:pt x="430" y="462"/>
                </a:lnTo>
                <a:lnTo>
                  <a:pt x="396" y="466"/>
                </a:lnTo>
                <a:lnTo>
                  <a:pt x="363" y="469"/>
                </a:lnTo>
                <a:lnTo>
                  <a:pt x="328" y="469"/>
                </a:lnTo>
                <a:lnTo>
                  <a:pt x="292" y="466"/>
                </a:lnTo>
                <a:lnTo>
                  <a:pt x="258" y="462"/>
                </a:lnTo>
                <a:lnTo>
                  <a:pt x="226" y="454"/>
                </a:lnTo>
                <a:lnTo>
                  <a:pt x="193" y="445"/>
                </a:lnTo>
                <a:lnTo>
                  <a:pt x="163" y="433"/>
                </a:lnTo>
                <a:lnTo>
                  <a:pt x="135" y="420"/>
                </a:lnTo>
                <a:lnTo>
                  <a:pt x="108" y="404"/>
                </a:lnTo>
                <a:lnTo>
                  <a:pt x="82" y="388"/>
                </a:lnTo>
                <a:lnTo>
                  <a:pt x="63" y="369"/>
                </a:lnTo>
                <a:lnTo>
                  <a:pt x="42" y="348"/>
                </a:lnTo>
                <a:lnTo>
                  <a:pt x="28" y="327"/>
                </a:lnTo>
                <a:lnTo>
                  <a:pt x="16" y="305"/>
                </a:lnTo>
                <a:lnTo>
                  <a:pt x="7" y="282"/>
                </a:lnTo>
                <a:lnTo>
                  <a:pt x="1" y="259"/>
                </a:lnTo>
                <a:lnTo>
                  <a:pt x="0" y="235"/>
                </a:lnTo>
                <a:lnTo>
                  <a:pt x="1" y="211"/>
                </a:lnTo>
                <a:lnTo>
                  <a:pt x="7" y="188"/>
                </a:lnTo>
                <a:lnTo>
                  <a:pt x="16" y="165"/>
                </a:lnTo>
                <a:lnTo>
                  <a:pt x="27" y="142"/>
                </a:lnTo>
                <a:lnTo>
                  <a:pt x="42" y="121"/>
                </a:lnTo>
                <a:lnTo>
                  <a:pt x="60" y="101"/>
                </a:lnTo>
                <a:lnTo>
                  <a:pt x="82" y="82"/>
                </a:lnTo>
                <a:lnTo>
                  <a:pt x="108" y="65"/>
                </a:lnTo>
                <a:lnTo>
                  <a:pt x="132" y="49"/>
                </a:lnTo>
                <a:lnTo>
                  <a:pt x="162" y="36"/>
                </a:lnTo>
                <a:lnTo>
                  <a:pt x="192" y="24"/>
                </a:lnTo>
                <a:lnTo>
                  <a:pt x="223" y="14"/>
                </a:lnTo>
                <a:lnTo>
                  <a:pt x="258" y="7"/>
                </a:lnTo>
                <a:lnTo>
                  <a:pt x="292" y="2"/>
                </a:lnTo>
                <a:lnTo>
                  <a:pt x="327" y="0"/>
                </a:lnTo>
                <a:lnTo>
                  <a:pt x="361" y="0"/>
                </a:lnTo>
                <a:lnTo>
                  <a:pt x="396" y="2"/>
                </a:lnTo>
                <a:lnTo>
                  <a:pt x="430" y="7"/>
                </a:lnTo>
                <a:lnTo>
                  <a:pt x="463" y="14"/>
                </a:lnTo>
                <a:lnTo>
                  <a:pt x="495" y="24"/>
                </a:lnTo>
                <a:lnTo>
                  <a:pt x="526" y="36"/>
                </a:lnTo>
                <a:lnTo>
                  <a:pt x="555" y="49"/>
                </a:lnTo>
                <a:lnTo>
                  <a:pt x="582" y="65"/>
                </a:lnTo>
                <a:lnTo>
                  <a:pt x="607" y="82"/>
                </a:lnTo>
                <a:lnTo>
                  <a:pt x="627" y="100"/>
                </a:lnTo>
                <a:lnTo>
                  <a:pt x="646" y="121"/>
                </a:lnTo>
                <a:lnTo>
                  <a:pt x="661" y="142"/>
                </a:lnTo>
                <a:lnTo>
                  <a:pt x="673" y="164"/>
                </a:lnTo>
                <a:lnTo>
                  <a:pt x="682" y="187"/>
                </a:lnTo>
                <a:lnTo>
                  <a:pt x="688" y="210"/>
                </a:lnTo>
                <a:lnTo>
                  <a:pt x="690" y="235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496200" y="2018880"/>
            <a:ext cx="1440" cy="360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96200" y="2379600"/>
            <a:ext cx="690480" cy="18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96200" y="2019240"/>
            <a:ext cx="690480" cy="18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96200" y="2092320"/>
            <a:ext cx="690480" cy="1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96200" y="2163600"/>
            <a:ext cx="690480" cy="18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96200" y="2235240"/>
            <a:ext cx="690480" cy="32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6200" y="2308320"/>
            <a:ext cx="690480" cy="1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178760" y="2010960"/>
            <a:ext cx="0" cy="3841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3213000"/>
            <a:ext cx="34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504120" y="2847600"/>
            <a:ext cx="1440" cy="360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04120" y="3208320"/>
            <a:ext cx="690480" cy="1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04120" y="2847960"/>
            <a:ext cx="690480" cy="1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04120" y="2919240"/>
            <a:ext cx="690480" cy="18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04120" y="2990880"/>
            <a:ext cx="690480" cy="32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04120" y="3063960"/>
            <a:ext cx="690480" cy="1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04120" y="3135240"/>
            <a:ext cx="690480" cy="18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186680" y="2839680"/>
            <a:ext cx="0" cy="3841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13840" y="386064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ess redistribution in the ‘weakened’ cross section made possible because of material ductilit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e of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et cross-sectional area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stead of gross cross-sectional area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162F-88AA-4FD5-8C08-EE7AC2A759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resistance of tensile members (welded connections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343800" indent="-34380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tension resistanc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t.R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members with welded connection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5560" indent="-265320" algn="just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oss-sectional area = gross area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whole length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5560" indent="-265320" algn="just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aching yield strength means uniform yielding and further substantial elongation (10 to 15 %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5560" indent="-265320" algn="just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ch an elongation is considered unacceptab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5560" indent="-265320" algn="just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LS therefore associated to material yield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5560" indent="-265320" algn="just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LS does not mean ‘failure’ of the memb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5560" indent="-265320" algn="just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tension resistance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14280" y="5157720"/>
          <a:ext cx="242100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5157720"/>
                    <a:ext cx="2421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138560" y="5300640"/>
            <a:ext cx="4826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ecommended value of partial safety factor :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fr-FR" sz="1800" spc="-1" strike="noStrike" baseline="-25000">
                <a:solidFill>
                  <a:srgbClr val="000066"/>
                </a:solidFill>
                <a:latin typeface="Arial"/>
              </a:rPr>
              <a:t>M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= 1,00 (to be specified in National Annex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70DD-EAED-4DC9-8129-61867A34F9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resistance of tensile members (bolted connections)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resistance of members with bolted connections (non preloaded bolts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oss-section area = gross area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most of the length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oss-sectional area at connection = net area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ne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aching yield strength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y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 the net area means only slight elongation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not critical at all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aching yield strength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y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 gross area means excessive elongation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LS type 1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ucti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70080" y="5072040"/>
          <a:ext cx="250992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5072040"/>
                    <a:ext cx="25099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138560" y="5229360"/>
            <a:ext cx="4826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ecommended value of partial safety factor :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fr-FR" sz="1800" spc="-1" strike="noStrike" baseline="-25000">
                <a:solidFill>
                  <a:srgbClr val="000066"/>
                </a:solidFill>
                <a:latin typeface="Arial"/>
              </a:rPr>
              <a:t>M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= 1,00 (to be specified in National Annex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4BBB-1AE9-44CE-98C1-9836186F9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7093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resistance of tensile members (bolted connections)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39840" y="4923000"/>
          <a:ext cx="64278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4923000"/>
                    <a:ext cx="64278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6407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804240" indent="-286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aching tensile strength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i="1" lang="en-GB" sz="2400" spc="-1" strike="noStrike" baseline="-25000">
                <a:solidFill>
                  <a:srgbClr val="000066"/>
                </a:solidFill>
                <a:latin typeface="Arial"/>
              </a:rPr>
              <a:t>u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 net area means loss of  strength and failure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LS type 2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Britt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24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24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24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24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24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240" indent="-286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tension resistanc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249228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2349360"/>
            <a:ext cx="496872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ecommended value of partial safety factor: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fr-FR" sz="1800" spc="-1" strike="noStrike" baseline="-25000">
                <a:solidFill>
                  <a:srgbClr val="000066"/>
                </a:solidFill>
                <a:latin typeface="Arial"/>
              </a:rPr>
              <a:t>M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= 1,25, larger than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i="1" lang="fr-FR" sz="1800" spc="-1" strike="noStrike" baseline="-25000">
                <a:solidFill>
                  <a:srgbClr val="000066"/>
                </a:solidFill>
                <a:latin typeface="Arial"/>
              </a:rPr>
              <a:t>M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because relative to connection (to be specified in National Annex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enalty factor 0,9 to account for unavoidable small eccentricity and still possible stress concentration due to partial redistribution at rupture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58920" y="2349360"/>
          <a:ext cx="230508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349360"/>
                    <a:ext cx="230508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BD55-3FA4-465A-9F62-640EE9B5B5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dditional provisions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ategory C bolted conne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tigue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reloaded bo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, in addition, connections designed to be slip resistant at ULS (Category C connections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ress in the net area limited to yield strength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resistance of net are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1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sistance to be in principle compared with force present in the net section (somewhat less than the force in the gross area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249228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58920" y="3749760"/>
          <a:ext cx="280836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749760"/>
                    <a:ext cx="28083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7090-5628-475C-9C2D-A2BCD5D239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3:08:39Z</dcterms:created>
  <dc:creator>Oliver Rößler</dc:creator>
  <dc:description/>
  <dc:language>en-US</dc:language>
  <cp:lastModifiedBy>Klaus Weynand</cp:lastModifiedBy>
  <dcterms:modified xsi:type="dcterms:W3CDTF">2009-03-09T14:26:11Z</dcterms:modified>
  <cp:revision>31</cp:revision>
  <dc:subject/>
  <dc:title>Folie 1</dc:title>
</cp:coreProperties>
</file>