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553C-8FDF-4C44-82DA-457338AAA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24F5-D621-44D7-B39A-E5992CDCA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E677-3659-4F0F-8C39-59974578B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9C0E-EBB5-429C-BB8C-9609C2198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0201-2433-4896-88E3-5C4161E4C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1307-AC8D-44D4-A25A-2B748FE87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EC6E-D4C2-4104-9915-E4FC8029F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6D58-D334-4416-99BD-E2D5E8D91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6343-7277-4B0F-AB0A-18180668A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A868-8B59-46B8-A90D-D2AF82BF1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763E-5825-433A-99FD-E12E49E33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8791-ED67-45B7-8FA4-93B392B64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12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Generalities on joint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A2A9-D433-4CAE-BA95-AD7CA962724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92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3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2462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 indent="1522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indent="1476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 indent="147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 indent="147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92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odule 4</a:t>
            </a:r>
            <a:br>
              <a:rPr sz="3200"/>
            </a:b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Design of joi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2887200"/>
            <a:ext cx="792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Lecture 1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neralities on joint desig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ilure mod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. Pl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f the chord width-to-thickness ratio b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/t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s low and the material has sufficient ductility, the yield capacity of the plate can be reach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. Wel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f the strength of the fillet welds is lower than that of the plate, the welds may fai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nerally it is recommended that the welds should preferably be designed to be stronger than the connected ele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3D4A-E8AE-40F8-BE6E-D515489258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ilure mod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3. Chord fa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pecially for thick material, cracking can occur due to MnS inclusions, called lamellar tea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f b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&lt; b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other failure modes can be obtained for the chord, i.e.: top face plastification or chord punching she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unching shear of the hollow section face can only occur if the plate width b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s smaller than b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2t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EFB0-900F-445C-AF70-EAEAEE1A6D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ilure mod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4. Chord side wal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ll the stresses have to be transmitted through the side walls over a limited width, thus this may be a critical failure m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f the loading is compression instead of tension, the stability of the side wall may be critic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839A-5534-4F6F-B3F6-EF2FB5199C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4924440" y="1828800"/>
            <a:ext cx="4219560" cy="3581280"/>
            <a:chOff x="4924440" y="1828800"/>
            <a:chExt cx="4219560" cy="35812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4924440" y="1828800"/>
              <a:ext cx="42195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221520" y="2590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587080" y="23047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35920" y="3047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</a:t>
            </a: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ilure criteria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 general, the static strength can be characterized by various criteria, i.e.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ltimate load resistance (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3%d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eformation limit (2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visually observed) cr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52456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74720" y="525780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567684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5981760"/>
            <a:ext cx="380880" cy="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AEFE-CC72-4485-89F3-DDFFED879A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sic jo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-jo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Y-jo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-jo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-joint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with gap or overla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bined jo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-joi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with gap or overla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T-joi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with gap or overla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Types of planar CHS joi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053" t="366" r="608" b="0"/>
          <a:stretch/>
        </p:blipFill>
        <p:spPr>
          <a:xfrm>
            <a:off x="4522680" y="1393920"/>
            <a:ext cx="4419720" cy="47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A764-1B19-498C-BC38-87D1BF8A85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2678" t="716" r="3061" b="358"/>
          <a:stretch/>
        </p:blipFill>
        <p:spPr>
          <a:xfrm>
            <a:off x="4672080" y="1371600"/>
            <a:ext cx="4243320" cy="4762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lded RHS conn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-joi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Y-joi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-joi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-joints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with gap and overla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bined jo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-joi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with gap and overla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T-joi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with gap and overla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Types of planar RHS joi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54EC-AC1F-4360-B863-C43431CED8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failure mod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arious failure modes for a K-joint of rectangular hollow section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lastification of the chord fac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hord punching sh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race failure (effective width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hord shear fail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local buckling of the compression brac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local buckling of the chord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f the welds are not strong enough, weld failure can also occur or if the material does not have sufficient through thickness properties (TTP) lamellar tearing is possib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7137-83E6-4DC7-A9E2-778587C3B4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failure modes (RHS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Plastification of the chord fa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5479" t="12154" r="0" b="6833"/>
          <a:stretch/>
        </p:blipFill>
        <p:spPr>
          <a:xfrm>
            <a:off x="1676520" y="2057400"/>
            <a:ext cx="5181480" cy="40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BBF7-CD80-480C-A3E7-1CE5F5CA2C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failure modes (RHS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Chord punching she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19933" r="31708" b="0"/>
          <a:stretch/>
        </p:blipFill>
        <p:spPr>
          <a:xfrm>
            <a:off x="1600200" y="2133720"/>
            <a:ext cx="5410080" cy="36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72C8-123D-450C-9376-06BE2DA57F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failure modes (RHS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Brace failure (effective width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5662" t="11809" r="3771" b="13061"/>
          <a:stretch/>
        </p:blipFill>
        <p:spPr>
          <a:xfrm>
            <a:off x="1523880" y="2057400"/>
            <a:ext cx="5867640" cy="35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734E-9A90-4670-BCBA-168C7ED1DD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introdu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600200"/>
            <a:ext cx="8785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oint parame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530064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lor pictures taken from Wardenier, “Hollow sections in structural applications”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734544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86B1-6880-4F11-AE3C-F511569FE9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failure modes (RHS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Chord shear fail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0" t="3024" r="21755" b="9429"/>
          <a:stretch/>
        </p:blipFill>
        <p:spPr>
          <a:xfrm>
            <a:off x="1600200" y="2133720"/>
            <a:ext cx="5486400" cy="32464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267080" y="5105520"/>
            <a:ext cx="26856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5257800"/>
            <a:ext cx="17928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208D-CDF2-4AAA-B7FE-E07E7000BE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failure modes (RHS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Lokal buckling of the compression bra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5095" t="6221" r="0" b="9735"/>
          <a:stretch/>
        </p:blipFill>
        <p:spPr>
          <a:xfrm>
            <a:off x="1676520" y="2209680"/>
            <a:ext cx="5410080" cy="32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5F47-5D93-41D4-9CA3-B9E3F31E60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failure modes (RHS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cal buckling of the ch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0" t="1995" r="25619" b="16009"/>
          <a:stretch/>
        </p:blipFill>
        <p:spPr>
          <a:xfrm>
            <a:off x="1676520" y="2362320"/>
            <a:ext cx="5410080" cy="30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655E-4DB7-4A3F-A11D-06B27BF50F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failure modes (RHS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ld failure (left) and lamellar tearing (right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086600" cy="3693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14400" y="5257800"/>
            <a:ext cx="6705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C1AA-3F16-45C8-9917-76598825C9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9280" y="1600200"/>
            <a:ext cx="8785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/t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limits for the compression brace or limits for efficiency to avoid local buckling of the compression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ximum width to thickness ratios for compression parts (Table 5.2 EN 1993-1-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ange of validity for CH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4712-343D-4521-9EEA-97303A12B8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79280" y="1600200"/>
            <a:ext cx="8785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ange of validity for CH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1031" t="33471" r="0" b="2706"/>
          <a:stretch/>
        </p:blipFill>
        <p:spPr>
          <a:xfrm>
            <a:off x="3191040" y="1380960"/>
            <a:ext cx="5790960" cy="477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rcRect l="70549" t="7520" r="1201" b="66415"/>
          <a:stretch/>
        </p:blipFill>
        <p:spPr>
          <a:xfrm>
            <a:off x="914400" y="1409760"/>
            <a:ext cx="1676520" cy="197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5238720" y="1371600"/>
            <a:ext cx="0" cy="2819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96200" y="1371600"/>
            <a:ext cx="0" cy="2819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40160" y="1390680"/>
            <a:ext cx="1262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40160" y="4210200"/>
            <a:ext cx="1262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9B02-6F4F-4907-BAFE-D1FC71C4BC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79280" y="1600200"/>
            <a:ext cx="8785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ange of validity for CH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0" t="1098" r="0" b="1042"/>
          <a:stretch/>
        </p:blipFill>
        <p:spPr>
          <a:xfrm>
            <a:off x="1641600" y="2154240"/>
            <a:ext cx="5857920" cy="2535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76520" y="3781440"/>
            <a:ext cx="57909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3219480"/>
            <a:ext cx="57909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3200400"/>
            <a:ext cx="0" cy="6094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86560" y="3200400"/>
            <a:ext cx="0" cy="6094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199A-F5ED-41E2-B53F-B0507E01C1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simplified method for design resistance of a fillet weld according to Eurocode 3 (EN 1993-1-8, 4.5.3.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design resistance of a fillet weld may be assumed to be adequate if, at every point along its length, the resultant of all forces transmitted by the weld satisfy the following criter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of Wel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69" name=""/>
          <p:cNvGraphicFramePr/>
          <p:nvPr/>
        </p:nvGraphicFramePr>
        <p:xfrm>
          <a:off x="762120" y="4890960"/>
          <a:ext cx="134136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90960"/>
                    <a:ext cx="13413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716400" y="5405400"/>
            <a:ext cx="549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where: F</a:t>
            </a:r>
            <a:r>
              <a:rPr b="0" lang="en-GB" sz="1600" spc="-1" strike="noStrike" baseline="-25000">
                <a:solidFill>
                  <a:srgbClr val="000066"/>
                </a:solidFill>
                <a:latin typeface="Arial"/>
              </a:rPr>
              <a:t>w,Ed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= design value of the weld force per unit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03920" y="5710320"/>
            <a:ext cx="425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lang="en-GB" sz="1600" spc="-1" strike="noStrike" baseline="-25000">
                <a:solidFill>
                  <a:srgbClr val="000066"/>
                </a:solidFill>
                <a:latin typeface="Arial"/>
              </a:rPr>
              <a:t>w,Rd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= design weld resistance per unit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F625-CF57-4A98-8615-A1DAD83EC1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introdu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8785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oint parameters: The geometry of a particular joint is also generally defined by the non-dimensional joint para-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ters α, β,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nd g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4370" t="1318" r="5827" b="0"/>
          <a:stretch/>
        </p:blipFill>
        <p:spPr>
          <a:xfrm>
            <a:off x="3203640" y="2565360"/>
            <a:ext cx="5734080" cy="348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AF20-373A-4516-8FFC-A41CA06629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 a proper understanding of the behaviour of tubular joints or welded connections between hollow sections it is important to consi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load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internal stiffness distribution in 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material proper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introdu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94D3-874B-4096-BBEA-BF81EBAD0C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oad path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oad path shows what parts the loads have to pass and where failure may occu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oad has to pass the following parts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ollow section face (through thickne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ollow section side wa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us, in principle failures can occur in these par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765C-B94E-451A-A60F-2523905029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ernal stiffness distribu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stiffness distribution in the joint determines the elastic stress distribu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sider the stiffness of the plate and the connected face of the hollow sec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esulting elastic stress pattern in the plate can be determined in two way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sider the deformations under a uniform st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sume rigid p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ED3A-B51D-4168-A9EE-F56D803F49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ernal stiffness distribu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astic stress distribution in an X-joi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905120" y="2286000"/>
            <a:ext cx="4087440" cy="3419280"/>
            <a:chOff x="1905120" y="2286000"/>
            <a:chExt cx="4087440" cy="3419280"/>
          </a:xfrm>
        </p:grpSpPr>
        <p:sp>
          <p:nvSpPr>
            <p:cNvPr id="117" name=""/>
            <p:cNvSpPr/>
            <p:nvPr/>
          </p:nvSpPr>
          <p:spPr>
            <a:xfrm>
              <a:off x="3253320" y="2523960"/>
              <a:ext cx="0" cy="3024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97000" y="4311720"/>
              <a:ext cx="0" cy="9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39120" y="4345920"/>
              <a:ext cx="0" cy="109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495240" y="4351320"/>
              <a:ext cx="0" cy="103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999520" y="5374440"/>
              <a:ext cx="541440" cy="109080"/>
            </a:xfrm>
            <a:custGeom>
              <a:avLst/>
              <a:gdLst/>
              <a:ahLst/>
              <a:rect l="l" t="t" r="r" b="b"/>
              <a:pathLst>
                <a:path w="385" h="82">
                  <a:moveTo>
                    <a:pt x="0" y="45"/>
                  </a:moveTo>
                  <a:cubicBezTo>
                    <a:pt x="20" y="38"/>
                    <a:pt x="72" y="0"/>
                    <a:pt x="120" y="6"/>
                  </a:cubicBezTo>
                  <a:cubicBezTo>
                    <a:pt x="181" y="6"/>
                    <a:pt x="227" y="80"/>
                    <a:pt x="288" y="81"/>
                  </a:cubicBezTo>
                  <a:cubicBezTo>
                    <a:pt x="349" y="82"/>
                    <a:pt x="365" y="53"/>
                    <a:pt x="385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303360" y="5420880"/>
              <a:ext cx="242640" cy="30240"/>
            </a:xfrm>
            <a:custGeom>
              <a:avLst/>
              <a:gdLst/>
              <a:ahLst/>
              <a:rect l="l" t="t" r="r" b="b"/>
              <a:pathLst>
                <a:path w="172" h="23">
                  <a:moveTo>
                    <a:pt x="172" y="23"/>
                  </a:moveTo>
                  <a:cubicBezTo>
                    <a:pt x="156" y="19"/>
                    <a:pt x="104" y="0"/>
                    <a:pt x="75" y="0"/>
                  </a:cubicBezTo>
                  <a:cubicBezTo>
                    <a:pt x="46" y="0"/>
                    <a:pt x="16" y="18"/>
                    <a:pt x="0" y="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58000" y="5267880"/>
              <a:ext cx="0" cy="437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6200" y="4013640"/>
              <a:ext cx="2703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41200" y="3670200"/>
              <a:ext cx="250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41200" y="4365000"/>
              <a:ext cx="250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94120" y="4570920"/>
              <a:ext cx="544320" cy="3196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0" y="54"/>
                  </a:lnTo>
                  <a:lnTo>
                    <a:pt x="54" y="56"/>
                  </a:lnTo>
                  <a:lnTo>
                    <a:pt x="82" y="70"/>
                  </a:lnTo>
                  <a:lnTo>
                    <a:pt x="96" y="88"/>
                  </a:lnTo>
                  <a:cubicBezTo>
                    <a:pt x="96" y="88"/>
                    <a:pt x="116" y="116"/>
                    <a:pt x="116" y="116"/>
                  </a:cubicBezTo>
                  <a:cubicBezTo>
                    <a:pt x="123" y="133"/>
                    <a:pt x="131" y="172"/>
                    <a:pt x="138" y="190"/>
                  </a:cubicBezTo>
                  <a:lnTo>
                    <a:pt x="160" y="224"/>
                  </a:lnTo>
                  <a:lnTo>
                    <a:pt x="192" y="240"/>
                  </a:lnTo>
                  <a:lnTo>
                    <a:pt x="228" y="226"/>
                  </a:lnTo>
                  <a:lnTo>
                    <a:pt x="250" y="192"/>
                  </a:lnTo>
                  <a:lnTo>
                    <a:pt x="282" y="114"/>
                  </a:lnTo>
                  <a:lnTo>
                    <a:pt x="292" y="86"/>
                  </a:lnTo>
                  <a:lnTo>
                    <a:pt x="306" y="66"/>
                  </a:lnTo>
                  <a:lnTo>
                    <a:pt x="330" y="50"/>
                  </a:lnTo>
                  <a:lnTo>
                    <a:pt x="380" y="50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7000" y="2809440"/>
              <a:ext cx="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39120" y="284364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95240" y="2849400"/>
              <a:ext cx="0" cy="85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95920" y="3067920"/>
              <a:ext cx="532800" cy="3196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0" y="54"/>
                  </a:lnTo>
                  <a:lnTo>
                    <a:pt x="54" y="56"/>
                  </a:lnTo>
                  <a:lnTo>
                    <a:pt x="82" y="70"/>
                  </a:lnTo>
                  <a:lnTo>
                    <a:pt x="96" y="88"/>
                  </a:lnTo>
                  <a:cubicBezTo>
                    <a:pt x="96" y="88"/>
                    <a:pt x="116" y="116"/>
                    <a:pt x="116" y="116"/>
                  </a:cubicBezTo>
                  <a:cubicBezTo>
                    <a:pt x="123" y="133"/>
                    <a:pt x="131" y="172"/>
                    <a:pt x="138" y="190"/>
                  </a:cubicBezTo>
                  <a:lnTo>
                    <a:pt x="160" y="224"/>
                  </a:lnTo>
                  <a:lnTo>
                    <a:pt x="192" y="240"/>
                  </a:lnTo>
                  <a:lnTo>
                    <a:pt x="228" y="226"/>
                  </a:lnTo>
                  <a:lnTo>
                    <a:pt x="250" y="192"/>
                  </a:lnTo>
                  <a:lnTo>
                    <a:pt x="282" y="114"/>
                  </a:lnTo>
                  <a:lnTo>
                    <a:pt x="292" y="86"/>
                  </a:lnTo>
                  <a:lnTo>
                    <a:pt x="306" y="66"/>
                  </a:lnTo>
                  <a:lnTo>
                    <a:pt x="330" y="50"/>
                  </a:lnTo>
                  <a:lnTo>
                    <a:pt x="380" y="50"/>
                  </a:ln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997000" y="2550600"/>
              <a:ext cx="541440" cy="108000"/>
            </a:xfrm>
            <a:custGeom>
              <a:avLst/>
              <a:gdLst/>
              <a:ahLst/>
              <a:rect l="l" t="t" r="r" b="b"/>
              <a:pathLst>
                <a:path w="385" h="82">
                  <a:moveTo>
                    <a:pt x="0" y="45"/>
                  </a:moveTo>
                  <a:cubicBezTo>
                    <a:pt x="20" y="38"/>
                    <a:pt x="72" y="0"/>
                    <a:pt x="120" y="6"/>
                  </a:cubicBezTo>
                  <a:cubicBezTo>
                    <a:pt x="181" y="6"/>
                    <a:pt x="227" y="80"/>
                    <a:pt x="288" y="81"/>
                  </a:cubicBezTo>
                  <a:cubicBezTo>
                    <a:pt x="349" y="82"/>
                    <a:pt x="365" y="53"/>
                    <a:pt x="385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91240" y="2523960"/>
              <a:ext cx="284040" cy="81360"/>
            </a:xfrm>
            <a:custGeom>
              <a:avLst/>
              <a:gdLst/>
              <a:ahLst/>
              <a:rect l="l" t="t" r="r" b="b"/>
              <a:pathLst>
                <a:path w="172" h="23">
                  <a:moveTo>
                    <a:pt x="172" y="23"/>
                  </a:moveTo>
                  <a:cubicBezTo>
                    <a:pt x="156" y="19"/>
                    <a:pt x="104" y="0"/>
                    <a:pt x="75" y="0"/>
                  </a:cubicBezTo>
                  <a:cubicBezTo>
                    <a:pt x="46" y="0"/>
                    <a:pt x="16" y="18"/>
                    <a:pt x="0" y="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7000" y="3731040"/>
              <a:ext cx="540360" cy="67320"/>
            </a:xfrm>
            <a:custGeom>
              <a:avLst/>
              <a:gdLst/>
              <a:ahLst/>
              <a:rect l="l" t="t" r="r" b="b"/>
              <a:pathLst>
                <a:path w="384" h="50">
                  <a:moveTo>
                    <a:pt x="0" y="0"/>
                  </a:moveTo>
                  <a:lnTo>
                    <a:pt x="96" y="38"/>
                  </a:lnTo>
                  <a:cubicBezTo>
                    <a:pt x="126" y="46"/>
                    <a:pt x="148" y="50"/>
                    <a:pt x="180" y="50"/>
                  </a:cubicBezTo>
                  <a:cubicBezTo>
                    <a:pt x="212" y="50"/>
                    <a:pt x="256" y="44"/>
                    <a:pt x="290" y="36"/>
                  </a:cubicBezTo>
                  <a:lnTo>
                    <a:pt x="384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994120" y="4253760"/>
              <a:ext cx="540360" cy="66240"/>
            </a:xfrm>
            <a:custGeom>
              <a:avLst/>
              <a:gdLst/>
              <a:ahLst/>
              <a:rect l="l" t="t" r="r" b="b"/>
              <a:pathLst>
                <a:path w="384" h="50">
                  <a:moveTo>
                    <a:pt x="0" y="0"/>
                  </a:moveTo>
                  <a:lnTo>
                    <a:pt x="96" y="38"/>
                  </a:lnTo>
                  <a:cubicBezTo>
                    <a:pt x="126" y="46"/>
                    <a:pt x="148" y="50"/>
                    <a:pt x="180" y="50"/>
                  </a:cubicBezTo>
                  <a:cubicBezTo>
                    <a:pt x="212" y="50"/>
                    <a:pt x="256" y="44"/>
                    <a:pt x="290" y="36"/>
                  </a:cubicBezTo>
                  <a:lnTo>
                    <a:pt x="384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41200" y="371016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41200" y="433332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06280" y="4080240"/>
              <a:ext cx="706680" cy="290160"/>
            </a:xfrm>
            <a:custGeom>
              <a:avLst/>
              <a:gdLst/>
              <a:ahLst/>
              <a:rect l="l" t="t" r="r" b="b"/>
              <a:pathLst>
                <a:path w="502" h="218">
                  <a:moveTo>
                    <a:pt x="8" y="218"/>
                  </a:moveTo>
                  <a:cubicBezTo>
                    <a:pt x="0" y="209"/>
                    <a:pt x="0" y="178"/>
                    <a:pt x="18" y="160"/>
                  </a:cubicBezTo>
                  <a:cubicBezTo>
                    <a:pt x="34" y="142"/>
                    <a:pt x="88" y="122"/>
                    <a:pt x="114" y="108"/>
                  </a:cubicBezTo>
                  <a:lnTo>
                    <a:pt x="174" y="76"/>
                  </a:lnTo>
                  <a:lnTo>
                    <a:pt x="224" y="6"/>
                  </a:lnTo>
                  <a:lnTo>
                    <a:pt x="246" y="0"/>
                  </a:lnTo>
                  <a:lnTo>
                    <a:pt x="264" y="0"/>
                  </a:lnTo>
                  <a:lnTo>
                    <a:pt x="276" y="8"/>
                  </a:lnTo>
                  <a:lnTo>
                    <a:pt x="324" y="72"/>
                  </a:lnTo>
                  <a:lnTo>
                    <a:pt x="374" y="104"/>
                  </a:lnTo>
                  <a:lnTo>
                    <a:pt x="442" y="128"/>
                  </a:lnTo>
                  <a:cubicBezTo>
                    <a:pt x="461" y="135"/>
                    <a:pt x="478" y="138"/>
                    <a:pt x="488" y="148"/>
                  </a:cubicBezTo>
                  <a:cubicBezTo>
                    <a:pt x="498" y="158"/>
                    <a:pt x="500" y="177"/>
                    <a:pt x="502" y="188"/>
                  </a:cubicBezTo>
                  <a:lnTo>
                    <a:pt x="502" y="216"/>
                  </a:lnTo>
                  <a:lnTo>
                    <a:pt x="452" y="216"/>
                  </a:lnTo>
                  <a:lnTo>
                    <a:pt x="450" y="180"/>
                  </a:lnTo>
                  <a:lnTo>
                    <a:pt x="366" y="150"/>
                  </a:lnTo>
                  <a:cubicBezTo>
                    <a:pt x="339" y="142"/>
                    <a:pt x="316" y="137"/>
                    <a:pt x="290" y="134"/>
                  </a:cubicBezTo>
                  <a:cubicBezTo>
                    <a:pt x="264" y="131"/>
                    <a:pt x="232" y="133"/>
                    <a:pt x="210" y="134"/>
                  </a:cubicBezTo>
                  <a:cubicBezTo>
                    <a:pt x="188" y="135"/>
                    <a:pt x="184" y="134"/>
                    <a:pt x="160" y="142"/>
                  </a:cubicBezTo>
                  <a:cubicBezTo>
                    <a:pt x="136" y="150"/>
                    <a:pt x="80" y="170"/>
                    <a:pt x="64" y="182"/>
                  </a:cubicBezTo>
                  <a:lnTo>
                    <a:pt x="64" y="216"/>
                  </a:lnTo>
                  <a:lnTo>
                    <a:pt x="8" y="21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903760" y="3670200"/>
              <a:ext cx="706680" cy="290160"/>
            </a:xfrm>
            <a:custGeom>
              <a:avLst/>
              <a:gdLst/>
              <a:ahLst/>
              <a:rect l="l" t="t" r="r" b="b"/>
              <a:pathLst>
                <a:path w="502" h="218">
                  <a:moveTo>
                    <a:pt x="8" y="218"/>
                  </a:moveTo>
                  <a:cubicBezTo>
                    <a:pt x="0" y="209"/>
                    <a:pt x="0" y="178"/>
                    <a:pt x="18" y="160"/>
                  </a:cubicBezTo>
                  <a:cubicBezTo>
                    <a:pt x="34" y="142"/>
                    <a:pt x="88" y="122"/>
                    <a:pt x="114" y="108"/>
                  </a:cubicBezTo>
                  <a:lnTo>
                    <a:pt x="174" y="76"/>
                  </a:lnTo>
                  <a:lnTo>
                    <a:pt x="224" y="6"/>
                  </a:lnTo>
                  <a:lnTo>
                    <a:pt x="246" y="0"/>
                  </a:lnTo>
                  <a:lnTo>
                    <a:pt x="264" y="0"/>
                  </a:lnTo>
                  <a:lnTo>
                    <a:pt x="276" y="8"/>
                  </a:lnTo>
                  <a:lnTo>
                    <a:pt x="324" y="72"/>
                  </a:lnTo>
                  <a:lnTo>
                    <a:pt x="374" y="104"/>
                  </a:lnTo>
                  <a:lnTo>
                    <a:pt x="442" y="128"/>
                  </a:lnTo>
                  <a:cubicBezTo>
                    <a:pt x="461" y="135"/>
                    <a:pt x="478" y="138"/>
                    <a:pt x="488" y="148"/>
                  </a:cubicBezTo>
                  <a:cubicBezTo>
                    <a:pt x="498" y="158"/>
                    <a:pt x="500" y="177"/>
                    <a:pt x="502" y="188"/>
                  </a:cubicBezTo>
                  <a:lnTo>
                    <a:pt x="502" y="216"/>
                  </a:lnTo>
                  <a:lnTo>
                    <a:pt x="452" y="216"/>
                  </a:lnTo>
                  <a:lnTo>
                    <a:pt x="450" y="180"/>
                  </a:lnTo>
                  <a:lnTo>
                    <a:pt x="366" y="150"/>
                  </a:lnTo>
                  <a:cubicBezTo>
                    <a:pt x="339" y="142"/>
                    <a:pt x="316" y="137"/>
                    <a:pt x="290" y="134"/>
                  </a:cubicBezTo>
                  <a:cubicBezTo>
                    <a:pt x="264" y="131"/>
                    <a:pt x="232" y="133"/>
                    <a:pt x="210" y="134"/>
                  </a:cubicBezTo>
                  <a:cubicBezTo>
                    <a:pt x="188" y="135"/>
                    <a:pt x="184" y="134"/>
                    <a:pt x="160" y="142"/>
                  </a:cubicBezTo>
                  <a:cubicBezTo>
                    <a:pt x="136" y="150"/>
                    <a:pt x="80" y="170"/>
                    <a:pt x="64" y="182"/>
                  </a:cubicBezTo>
                  <a:lnTo>
                    <a:pt x="64" y="216"/>
                  </a:lnTo>
                  <a:lnTo>
                    <a:pt x="8" y="21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5120" y="3666240"/>
              <a:ext cx="217080" cy="698400"/>
            </a:xfrm>
            <a:custGeom>
              <a:avLst/>
              <a:gdLst/>
              <a:ahLst/>
              <a:rect l="l" t="t" r="r" b="b"/>
              <a:pathLst>
                <a:path w="154" h="525">
                  <a:moveTo>
                    <a:pt x="97" y="0"/>
                  </a:moveTo>
                  <a:cubicBezTo>
                    <a:pt x="82" y="22"/>
                    <a:pt x="0" y="77"/>
                    <a:pt x="7" y="141"/>
                  </a:cubicBezTo>
                  <a:cubicBezTo>
                    <a:pt x="14" y="205"/>
                    <a:pt x="124" y="323"/>
                    <a:pt x="139" y="387"/>
                  </a:cubicBezTo>
                  <a:cubicBezTo>
                    <a:pt x="154" y="451"/>
                    <a:pt x="107" y="496"/>
                    <a:pt x="98" y="5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26000" y="4013640"/>
              <a:ext cx="106560" cy="359640"/>
            </a:xfrm>
            <a:custGeom>
              <a:avLst/>
              <a:gdLst/>
              <a:ahLst/>
              <a:rect l="l" t="t" r="r" b="b"/>
              <a:pathLst>
                <a:path w="76" h="270">
                  <a:moveTo>
                    <a:pt x="55" y="0"/>
                  </a:moveTo>
                  <a:cubicBezTo>
                    <a:pt x="47" y="24"/>
                    <a:pt x="0" y="102"/>
                    <a:pt x="4" y="147"/>
                  </a:cubicBezTo>
                  <a:cubicBezTo>
                    <a:pt x="8" y="192"/>
                    <a:pt x="61" y="244"/>
                    <a:pt x="76" y="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407480" y="3666240"/>
              <a:ext cx="216720" cy="698400"/>
            </a:xfrm>
            <a:custGeom>
              <a:avLst/>
              <a:gdLst/>
              <a:ahLst/>
              <a:rect l="l" t="t" r="r" b="b"/>
              <a:pathLst>
                <a:path w="154" h="525">
                  <a:moveTo>
                    <a:pt x="97" y="0"/>
                  </a:moveTo>
                  <a:cubicBezTo>
                    <a:pt x="82" y="22"/>
                    <a:pt x="0" y="77"/>
                    <a:pt x="7" y="141"/>
                  </a:cubicBezTo>
                  <a:cubicBezTo>
                    <a:pt x="14" y="205"/>
                    <a:pt x="124" y="323"/>
                    <a:pt x="139" y="387"/>
                  </a:cubicBezTo>
                  <a:cubicBezTo>
                    <a:pt x="154" y="451"/>
                    <a:pt x="107" y="496"/>
                    <a:pt x="98" y="5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504320" y="4001400"/>
              <a:ext cx="107280" cy="359640"/>
            </a:xfrm>
            <a:custGeom>
              <a:avLst/>
              <a:gdLst/>
              <a:ahLst/>
              <a:rect l="l" t="t" r="r" b="b"/>
              <a:pathLst>
                <a:path w="76" h="270">
                  <a:moveTo>
                    <a:pt x="55" y="0"/>
                  </a:moveTo>
                  <a:cubicBezTo>
                    <a:pt x="47" y="24"/>
                    <a:pt x="0" y="102"/>
                    <a:pt x="4" y="147"/>
                  </a:cubicBezTo>
                  <a:cubicBezTo>
                    <a:pt x="8" y="192"/>
                    <a:pt x="61" y="244"/>
                    <a:pt x="76" y="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50440" y="2287800"/>
              <a:ext cx="0" cy="437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97720" y="2799360"/>
              <a:ext cx="531000" cy="191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1680" y="4973040"/>
              <a:ext cx="532800" cy="191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07720" y="2617920"/>
              <a:ext cx="0" cy="2833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33320" y="3655080"/>
              <a:ext cx="759240" cy="717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1840" y="3690360"/>
              <a:ext cx="682560" cy="64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169960" y="3773880"/>
              <a:ext cx="235800" cy="127080"/>
              <a:chOff x="5169960" y="3773880"/>
              <a:chExt cx="235800" cy="127080"/>
            </a:xfrm>
          </p:grpSpPr>
          <p:sp>
            <p:nvSpPr>
              <p:cNvPr id="151" name=""/>
              <p:cNvSpPr/>
              <p:nvPr/>
            </p:nvSpPr>
            <p:spPr>
              <a:xfrm>
                <a:off x="5238360" y="3811320"/>
                <a:ext cx="121320" cy="65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69960" y="3773880"/>
                <a:ext cx="11052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5324040" y="3855960"/>
                <a:ext cx="8172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360040" y="2989800"/>
              <a:ext cx="502200" cy="418320"/>
            </a:xfrm>
            <a:custGeom>
              <a:avLst/>
              <a:gdLst/>
              <a:ahLst/>
              <a:rect l="l" t="t" r="r" b="b"/>
              <a:pathLst>
                <a:path w="381" h="252">
                  <a:moveTo>
                    <a:pt x="2" y="0"/>
                  </a:moveTo>
                  <a:lnTo>
                    <a:pt x="42" y="54"/>
                  </a:lnTo>
                  <a:lnTo>
                    <a:pt x="75" y="106"/>
                  </a:lnTo>
                  <a:lnTo>
                    <a:pt x="110" y="154"/>
                  </a:lnTo>
                  <a:lnTo>
                    <a:pt x="147" y="196"/>
                  </a:lnTo>
                  <a:lnTo>
                    <a:pt x="170" y="211"/>
                  </a:lnTo>
                  <a:lnTo>
                    <a:pt x="189" y="219"/>
                  </a:lnTo>
                  <a:lnTo>
                    <a:pt x="213" y="214"/>
                  </a:lnTo>
                  <a:lnTo>
                    <a:pt x="243" y="195"/>
                  </a:lnTo>
                  <a:lnTo>
                    <a:pt x="281" y="148"/>
                  </a:lnTo>
                  <a:lnTo>
                    <a:pt x="326" y="84"/>
                  </a:lnTo>
                  <a:lnTo>
                    <a:pt x="362" y="31"/>
                  </a:lnTo>
                  <a:lnTo>
                    <a:pt x="381" y="0"/>
                  </a:lnTo>
                  <a:lnTo>
                    <a:pt x="381" y="252"/>
                  </a:lnTo>
                  <a:lnTo>
                    <a:pt x="0" y="252"/>
                  </a:lnTo>
                  <a:lnTo>
                    <a:pt x="2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60040" y="2585880"/>
              <a:ext cx="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66200" y="2585880"/>
              <a:ext cx="0" cy="11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99640" y="255708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26600" y="2615040"/>
              <a:ext cx="0" cy="106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60040" y="2585880"/>
              <a:ext cx="1800" cy="116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61840" y="2508840"/>
              <a:ext cx="507960" cy="135720"/>
            </a:xfrm>
            <a:custGeom>
              <a:avLst/>
              <a:gdLst/>
              <a:ahLst/>
              <a:rect l="l" t="t" r="r" b="b"/>
              <a:pathLst>
                <a:path w="385" h="82">
                  <a:moveTo>
                    <a:pt x="0" y="45"/>
                  </a:moveTo>
                  <a:cubicBezTo>
                    <a:pt x="20" y="38"/>
                    <a:pt x="72" y="0"/>
                    <a:pt x="120" y="6"/>
                  </a:cubicBezTo>
                  <a:cubicBezTo>
                    <a:pt x="181" y="6"/>
                    <a:pt x="227" y="80"/>
                    <a:pt x="288" y="81"/>
                  </a:cubicBezTo>
                  <a:cubicBezTo>
                    <a:pt x="349" y="82"/>
                    <a:pt x="365" y="53"/>
                    <a:pt x="385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7320" y="2550600"/>
              <a:ext cx="226440" cy="36720"/>
            </a:xfrm>
            <a:custGeom>
              <a:avLst/>
              <a:gdLst/>
              <a:ahLst/>
              <a:rect l="l" t="t" r="r" b="b"/>
              <a:pathLst>
                <a:path w="172" h="23">
                  <a:moveTo>
                    <a:pt x="172" y="23"/>
                  </a:moveTo>
                  <a:cubicBezTo>
                    <a:pt x="156" y="19"/>
                    <a:pt x="104" y="0"/>
                    <a:pt x="75" y="0"/>
                  </a:cubicBezTo>
                  <a:cubicBezTo>
                    <a:pt x="46" y="0"/>
                    <a:pt x="16" y="18"/>
                    <a:pt x="0" y="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51400" y="34084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60040" y="2982240"/>
              <a:ext cx="505800" cy="370800"/>
            </a:xfrm>
            <a:custGeom>
              <a:avLst/>
              <a:gdLst/>
              <a:ahLst/>
              <a:rect l="l" t="t" r="r" b="b"/>
              <a:pathLst>
                <a:path w="384" h="224">
                  <a:moveTo>
                    <a:pt x="0" y="0"/>
                  </a:moveTo>
                  <a:cubicBezTo>
                    <a:pt x="32" y="37"/>
                    <a:pt x="130" y="224"/>
                    <a:pt x="194" y="224"/>
                  </a:cubicBezTo>
                  <a:cubicBezTo>
                    <a:pt x="258" y="224"/>
                    <a:pt x="344" y="48"/>
                    <a:pt x="384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43600" y="3654000"/>
              <a:ext cx="267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12080" y="2820960"/>
              <a:ext cx="139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399280" y="2822760"/>
              <a:ext cx="14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2520" y="2673000"/>
              <a:ext cx="248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351400" y="4290840"/>
              <a:ext cx="522000" cy="1202400"/>
              <a:chOff x="5351400" y="4290840"/>
              <a:chExt cx="522000" cy="120240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5358960" y="4606920"/>
                <a:ext cx="502560" cy="411480"/>
              </a:xfrm>
              <a:custGeom>
                <a:avLst/>
                <a:gdLst/>
                <a:ahLst/>
                <a:rect l="l" t="t" r="r" b="b"/>
                <a:pathLst>
                  <a:path w="381" h="252">
                    <a:moveTo>
                      <a:pt x="2" y="0"/>
                    </a:moveTo>
                    <a:lnTo>
                      <a:pt x="42" y="54"/>
                    </a:lnTo>
                    <a:lnTo>
                      <a:pt x="75" y="106"/>
                    </a:lnTo>
                    <a:lnTo>
                      <a:pt x="110" y="154"/>
                    </a:lnTo>
                    <a:lnTo>
                      <a:pt x="147" y="196"/>
                    </a:lnTo>
                    <a:lnTo>
                      <a:pt x="170" y="211"/>
                    </a:lnTo>
                    <a:lnTo>
                      <a:pt x="189" y="219"/>
                    </a:lnTo>
                    <a:lnTo>
                      <a:pt x="213" y="214"/>
                    </a:lnTo>
                    <a:lnTo>
                      <a:pt x="243" y="195"/>
                    </a:lnTo>
                    <a:lnTo>
                      <a:pt x="281" y="148"/>
                    </a:lnTo>
                    <a:lnTo>
                      <a:pt x="326" y="84"/>
                    </a:lnTo>
                    <a:lnTo>
                      <a:pt x="362" y="31"/>
                    </a:lnTo>
                    <a:lnTo>
                      <a:pt x="381" y="0"/>
                    </a:lnTo>
                    <a:lnTo>
                      <a:pt x="381" y="252"/>
                    </a:lnTo>
                    <a:lnTo>
                      <a:pt x="0" y="252"/>
                    </a:lnTo>
                    <a:lnTo>
                      <a:pt x="2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5358960" y="4292280"/>
                <a:ext cx="0" cy="11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5865480" y="4290840"/>
                <a:ext cx="0" cy="112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5398560" y="4333320"/>
                <a:ext cx="0" cy="11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5826240" y="4341600"/>
                <a:ext cx="0" cy="10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5358960" y="4292280"/>
                <a:ext cx="0" cy="112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5361840" y="5359320"/>
                <a:ext cx="507960" cy="133920"/>
              </a:xfrm>
              <a:custGeom>
                <a:avLst/>
                <a:gdLst/>
                <a:ahLst/>
                <a:rect l="l" t="t" r="r" b="b"/>
                <a:pathLst>
                  <a:path w="385" h="82">
                    <a:moveTo>
                      <a:pt x="0" y="45"/>
                    </a:moveTo>
                    <a:cubicBezTo>
                      <a:pt x="20" y="38"/>
                      <a:pt x="72" y="0"/>
                      <a:pt x="120" y="6"/>
                    </a:cubicBezTo>
                    <a:cubicBezTo>
                      <a:pt x="181" y="6"/>
                      <a:pt x="227" y="80"/>
                      <a:pt x="288" y="81"/>
                    </a:cubicBezTo>
                    <a:cubicBezTo>
                      <a:pt x="349" y="82"/>
                      <a:pt x="365" y="53"/>
                      <a:pt x="385" y="4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5646600" y="5415120"/>
                <a:ext cx="226800" cy="37440"/>
              </a:xfrm>
              <a:custGeom>
                <a:avLst/>
                <a:gdLst/>
                <a:ahLst/>
                <a:rect l="l" t="t" r="r" b="b"/>
                <a:pathLst>
                  <a:path w="172" h="23">
                    <a:moveTo>
                      <a:pt x="172" y="23"/>
                    </a:moveTo>
                    <a:cubicBezTo>
                      <a:pt x="156" y="19"/>
                      <a:pt x="104" y="0"/>
                      <a:pt x="75" y="0"/>
                    </a:cubicBezTo>
                    <a:cubicBezTo>
                      <a:pt x="46" y="0"/>
                      <a:pt x="16" y="18"/>
                      <a:pt x="0" y="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51400" y="4606920"/>
                <a:ext cx="51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358960" y="4660920"/>
                <a:ext cx="506520" cy="365400"/>
              </a:xfrm>
              <a:custGeom>
                <a:avLst/>
                <a:gdLst/>
                <a:ahLst/>
                <a:rect l="l" t="t" r="r" b="b"/>
                <a:pathLst>
                  <a:path w="384" h="224">
                    <a:moveTo>
                      <a:pt x="0" y="0"/>
                    </a:moveTo>
                    <a:cubicBezTo>
                      <a:pt x="32" y="37"/>
                      <a:pt x="130" y="224"/>
                      <a:pt x="194" y="224"/>
                    </a:cubicBezTo>
                    <a:cubicBezTo>
                      <a:pt x="258" y="224"/>
                      <a:pt x="344" y="48"/>
                      <a:pt x="384" y="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609880" y="2286000"/>
              <a:ext cx="0" cy="437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609880" y="5267160"/>
              <a:ext cx="0" cy="437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49360" y="366156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097520" y="3611160"/>
              <a:ext cx="10332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102920" y="4307760"/>
              <a:ext cx="10332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45400" y="375948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91240" y="3525120"/>
              <a:ext cx="55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475080" y="3480120"/>
              <a:ext cx="10332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945160" y="3482280"/>
              <a:ext cx="10332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74920" y="3387600"/>
              <a:ext cx="281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68080" y="3424680"/>
              <a:ext cx="5522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92440" y="3467160"/>
              <a:ext cx="33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537720" y="4310640"/>
              <a:ext cx="0" cy="110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997000" y="4311360"/>
              <a:ext cx="0" cy="11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28720" y="2607480"/>
              <a:ext cx="8640" cy="112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97000" y="2607480"/>
              <a:ext cx="0" cy="112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96AE-4BFF-48AD-9F17-FE8B447636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ffect of material properti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ortant for static design 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yiel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formation capac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A624-6007-4E97-9259-7880437640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ailure mod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ossible failure modes for the plate to RHS connection of this example will be consider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4648320" cy="252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ED3E-7133-475C-98F1-D342B4D135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2-18T14:37:57Z</dcterms:modified>
  <cp:revision>49</cp:revision>
  <dc:subject/>
  <dc:title>asdasdsdsda</dc:title>
</cp:coreProperties>
</file>