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F7BB-E903-4965-A9A0-91DC1D91E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9545-AD8E-4B87-AC65-96634BBFE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28AA-DCF7-4434-B34B-20007D6CF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B23A-285A-4C6F-AD28-8F5B4D37F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D25A-AE98-4289-96FB-EB9AB166B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7928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4964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828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18C9-3BBF-4E8C-9233-7F006E9F7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6D19-6837-4482-9934-467D35B08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3FCF-B76A-49CE-ADC3-A32B97DBD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0560" y="274680"/>
            <a:ext cx="6913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0B7F-F2FD-4AB8-B61D-BC1BB8BE8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25B4-E5AD-4C41-88ED-62275F2A7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87216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EBD6-CEB0-423D-82AC-2B941A801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87216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8D73-F704-4840-BE52-67228446E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1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797120" indent="-2732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52800" indent="-1764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244000" y="6453000"/>
            <a:ext cx="6588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E854-F8CD-4D75-B1FB-05E2DF9B9270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ecture 1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Introduction to the new Eurocode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448120" y="6275520"/>
            <a:ext cx="45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Feb. 2009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54936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ITE  INTERNATIONAL  POUR  LE  DEVELOPP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T  L'ETUDE  DE  LA  CONSTRUCTION  TUBUL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6440" y="82440"/>
          <a:ext cx="11527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82440"/>
                    <a:ext cx="1152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58920" y="450864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sentation by …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08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odule 1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Introduction to the new Eurocod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886120"/>
            <a:ext cx="7921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ecture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troduction to the new Eurocod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9280" y="6132600"/>
            <a:ext cx="8785440" cy="609480"/>
            <a:chOff x="179280" y="6132600"/>
            <a:chExt cx="8785440" cy="609480"/>
          </a:xfrm>
        </p:grpSpPr>
        <p:sp>
          <p:nvSpPr>
            <p:cNvPr id="58" name=""/>
            <p:cNvSpPr/>
            <p:nvPr/>
          </p:nvSpPr>
          <p:spPr>
            <a:xfrm>
              <a:off x="539640" y="6172200"/>
              <a:ext cx="8425080" cy="534960"/>
            </a:xfrm>
            <a:prstGeom prst="roundRect">
              <a:avLst>
                <a:gd name="adj" fmla="val 712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9640" y="6132600"/>
              <a:ext cx="236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179280" y="6154560"/>
            <a:ext cx="576360" cy="57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9280" y="6154560"/>
                      <a:ext cx="576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779400" y="6176880"/>
            <a:ext cx="7561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Design of Tubular Steel Structu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Training and Education for the Implementation of Eurocode 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6064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52388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976400" algn="ctr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9764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Design approach of EC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56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sed on limit state design philosoph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incipal limit states for steel structur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ltimate Limit States (ULS), concerned with carrying capacity and overall equilibrium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istance : Yielding, buckling, formation of mechanism, overturning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terial fatigue and brittle fractur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rviceability limit state (SLS), concerned with ‘function’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eflec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Vibra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ree design situations: (a) normal, (b) transient, (c) accidental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CE18-4A69-4CA2-976F-72778F31C4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Limit state design principl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69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fine relevant limit stat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termine appropriate actions for each limit state in consideratio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alyze using appropriate methods and structural models accounting for variability of parameters to determin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 effects {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}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 resistance {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}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sure no limit state is exceeded: {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&gt;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}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801C-8538-4493-ACC6-BD3AC991F3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haracteristic and design valu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aracteristic’ values for data are typical rather than saf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sign’ values should be used to check limit state condition: {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&lt;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}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rtial safety factors are applied to characteristic values to obtain design valu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 algn="just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ffices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re used to mean ‘characteristic’ and ‘design’ values respectivel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70A1D-B12C-4D33-AA4A-8AB46E0237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Partial (safety) factor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rtial (safety) factors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re applied to characteristic values for both actions (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d resistance model (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 to account for variabilit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value of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depends 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limit state under consider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variable to which it is applie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context - e.g. is an action beneficial in relation to the considered effec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00BA-E5E6-422F-A626-21B94578A7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Variability of action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69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ecision of modeling actions vari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ad loads related to material density and thicknes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osed loads based on type of occupanc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nd and snow loads based on meteorological data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bability of load combinations varies (additional combination factors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alues of partial (safety) factors reflect these differenc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5EFF-1577-4836-AD99-C12209FD6B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Variability of material and section properti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69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istance is related principally to material and section geometr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ield strength and ultimate tensile strength of steel are ‘minimum guaranteed’ values, and therefore taken as ‘characteristic’ valu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ther properties, notably Young’s modulus, shear modulus and Poisson’s ratio are much less variabl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ariations in section geometry are accounted for by partial safety factors used elsewher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D4AC-5569-4D7F-A125-8B7682DEE2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Ultimate Limit Stat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following conditions should be considere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ss of static equilibrium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haustion of resistance under static loadings because of excessive deformation, formation of mechanism, rupture, loss of stability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tigue under repeated loading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5282-5E07-483C-8273-4F519245C3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erviceability Limit Stat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69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following conditions may need to be considere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cessive deformations or deflections, affecting adversely appearance or causing damage to non structural elements or to supported finish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cessive vibrations causing discomfort or damage or limiting functional effectiveness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oth conditions are associated with stiffness rather than strength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most buildings, providing stiffness to control deflections normally limit vibrations too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8F41-84EB-48AF-8B04-44C7FC7926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Concluding remark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52676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7840" indent="-447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EC = Harmonized European standard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10 structural EC’s : Structured documents with principles and application rul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Only some EC’s relevant to steelwork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Based on limit state philosophy : ULS </a:t>
            </a:r>
            <a:r>
              <a:rPr b="0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 ‘carrying capacity’ and SLS </a:t>
            </a:r>
            <a:r>
              <a:rPr b="0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 ’functionality’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EC + National Annex = Registered national cod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Choices or parameter values let free in EC fixed in National Annex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A2CC-D56C-4D57-A144-23A258B122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569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10 Structural Eurocodes developed for CE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 are directly relevant to steelwork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C 0 - Structural safety, Combination of action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C 1 - Actions (loads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C 3 - Steel structur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C 4 - Composite structur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nded to establish consistent and harmonized standards throughout Europ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imed at favoring cross-border interactions and enabling wider fair competitio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09F8-76D7-43A0-98B7-823A784B98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8569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3160" indent="-443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1: Pre-standard ENV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+ NAD (National Application Document)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31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ep 2: Standard EN + National Annex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31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= Registered national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andard (alternative to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gular national standard)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31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esent state of development 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ll the EN available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inalisation of the National Annex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56180-1DCD-47A1-A6AD-25A93E77B5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tructure of EC’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69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C’s are published in parts, divided into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pters and Appendi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ctions {N.n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797120" indent="-27324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lauses {N.n.n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152800" indent="-17640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ub clauses {N.n.n.n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152800" indent="0">
              <a:spcBef>
                <a:spcPts val="499"/>
              </a:spcBef>
              <a:buNone/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•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aragraphs {N.n.n.n.(p)}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istinction is made between: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inciples (P)” which must be obeyed (no alternative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lication rules” which follow the principles but alternative methods are allowe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A98D-68F6-45B4-9A73-21B4CF5781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General Eurocod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N 1990 - Basis of structural design (EC 0)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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N 1991 - Actions on structures (EC 1):</a:t>
            </a: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art 1:  General action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.1 Densities, self-weight and imposed loads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.2 Actions on structures exposed to fire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.3 Snow loads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.4 Wind actions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.5 Thermal actions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.6 Actions during execution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.7 Accidental actions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art 2: Traffic loads on bridg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art 3: Actions induced by cranes and machinery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-183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art 4: Silos and tank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N 1090 - Execution of steel structures.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0082-A41F-4DBB-97CF-05666DC8D5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urocode 3: EN 1993</a:t>
            </a:r>
            <a:br>
              <a:rPr sz="3600"/>
            </a:b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teel Structur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9840" indent="-429840">
              <a:spcBef>
                <a:spcPts val="799"/>
              </a:spcBef>
              <a:buClr>
                <a:srgbClr val="000066"/>
              </a:buClr>
              <a:buFont typeface="Wingdings" charset="2"/>
              <a:buChar char="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C 3 - Design of steel structu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-33156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rt 1-1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eneral Rules and rules for building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-33156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rt 1-2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re resistan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-33156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rt 1-3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upplementary rules for cold-formed members and sheet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-33156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rt 1-4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upplementary rules for stainless steel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-33156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rt 1-5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lated structural elemen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-33156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rt 1-6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rength/Stability of shell structur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-33156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rt 1-7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lanar plated structures subject to out of plane load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-33156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rt 1-8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sign of join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-33156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rt 1-9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atigu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-33156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rt 1-10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terial toughness and through-thickness proper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-33156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rt 1-11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sign of structures with tension componen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31680" indent="-33156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rt 1-12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igh strength steel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EE2D-2866-49C0-9407-67323EB1B4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urocode 3: EN 1993</a:t>
            </a:r>
            <a:br>
              <a:rPr sz="3600"/>
            </a:b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Steel Structur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99"/>
              </a:spcBef>
              <a:buClr>
                <a:srgbClr val="000066"/>
              </a:buClr>
              <a:buFont typeface="Wingdings" charset="2"/>
              <a:buChar char="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C 3 - Design of steel structures  (cont.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art 2: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teel bridg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art 3: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(3.1) Towers, masts, and (3.2) Chimney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art 4: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(4.1) Silos, (4.2) Tanks and (4.3) Pipelin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art 5: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il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art 6: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rane supporting structur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0C3D-D3F6-42DC-96B1-A4C523BE51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Eurocode 4: EN 1994</a:t>
            </a:r>
            <a:br>
              <a:rPr sz="3600"/>
            </a:b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Composite Structur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99"/>
              </a:spcBef>
              <a:buClr>
                <a:srgbClr val="000066"/>
              </a:buClr>
              <a:buFont typeface="Wingdings" charset="2"/>
              <a:buChar char="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C 4 - Design of composite steel and concrete structu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rt 1-1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eneral Rules and rules for building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rt 1-2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eneral rules - Structural fire desig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-34920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art 2: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eneral rules and rules for bridg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44600" indent="0">
              <a:spcBef>
                <a:spcPts val="451"/>
              </a:spcBef>
              <a:buNone/>
              <a:tabLst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3934-D78E-40FE-9D58-6EF2533E9D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9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Eurocodes for steel produc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EN 10025, EN 10133 and EN 10164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Hot-rolled section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EN 10210 and EN 10219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81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Hollow section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4245-E0DF-426D-B6A6-5DD282302E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1:13:39Z</dcterms:created>
  <dc:creator>Klaus Weynand</dc:creator>
  <dc:description/>
  <dc:language>en-US</dc:language>
  <cp:lastModifiedBy>Klaus Weynand</cp:lastModifiedBy>
  <dcterms:modified xsi:type="dcterms:W3CDTF">2009-02-11T08:31:33Z</dcterms:modified>
  <cp:revision>34</cp:revision>
  <dc:subject/>
  <dc:title>asdasdsdsda</dc:title>
</cp:coreProperties>
</file>