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0980-B7EA-4CA7-B2D3-485AB44D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E646-AC99-4445-9C63-E3C4E64C0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E6C2-993D-4C51-AA5F-42DA24C87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4123-5E25-40E3-B30A-EF96AD54A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EC28-E7F5-4E74-BB9E-A99808D75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A193-40D5-4E21-8697-4CE80A764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C7E5-7185-4141-9A79-27ACFDEBF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3F2F-0C3C-41E6-AA48-A39CDF931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6A3B-D94B-466D-87FE-BB5C33C3B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AC22-7E12-45CE-AED2-1CE1656E9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2CD9-B14C-4FC9-821A-3C32F7CFA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04C7-B46E-4AA3-A315-063EBA714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0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embers in compress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B0D-8DB8-4BC3-9F54-D8A79849B05F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of membe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s in compre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ehaviour of ideal colum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62560" y="1627200"/>
          <a:ext cx="213228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2560" y="1627200"/>
                    <a:ext cx="2132280" cy="164160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2789280"/>
            <a:ext cx="9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42920" y="1341360"/>
            <a:ext cx="7058160" cy="4743360"/>
            <a:chOff x="1042920" y="1341360"/>
            <a:chExt cx="7058160" cy="4743360"/>
          </a:xfrm>
        </p:grpSpPr>
        <p:graphicFrame>
          <p:nvGraphicFramePr>
            <p:cNvPr id="134" name=""/>
            <p:cNvGraphicFramePr/>
            <p:nvPr/>
          </p:nvGraphicFramePr>
          <p:xfrm>
            <a:off x="2154240" y="5270400"/>
            <a:ext cx="1130400" cy="81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4240" y="5270400"/>
                      <a:ext cx="113040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1477800" y="3400560"/>
              <a:ext cx="1121040" cy="1834920"/>
            </a:xfrm>
            <a:prstGeom prst="rect">
              <a:avLst/>
            </a:prstGeom>
            <a:solidFill>
              <a:srgbClr val="66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73560" y="4711680"/>
              <a:ext cx="123840" cy="98280"/>
            </a:xfrm>
            <a:custGeom>
              <a:avLst/>
              <a:gdLst/>
              <a:ahLst/>
              <a:rect l="l" t="t" r="r" b="b"/>
              <a:pathLst>
                <a:path w="268" h="223">
                  <a:moveTo>
                    <a:pt x="268" y="0"/>
                  </a:moveTo>
                  <a:lnTo>
                    <a:pt x="106" y="223"/>
                  </a:lnTo>
                  <a:lnTo>
                    <a:pt x="160" y="73"/>
                  </a:lnTo>
                  <a:lnTo>
                    <a:pt x="0" y="66"/>
                  </a:lnTo>
                  <a:lnTo>
                    <a:pt x="268" y="0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156200" y="4711680"/>
              <a:ext cx="241200" cy="15552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9440" y="3992400"/>
              <a:ext cx="171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uler buckling curv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486080" y="1860480"/>
              <a:ext cx="0" cy="3368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007720" y="2448000"/>
              <a:ext cx="2534040" cy="1168200"/>
              <a:chOff x="2007720" y="2448000"/>
              <a:chExt cx="2534040" cy="116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2771640" y="2448000"/>
                <a:ext cx="177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yield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007720" y="2789280"/>
                <a:ext cx="763560" cy="826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616120" y="3375000"/>
              <a:ext cx="3907080" cy="1843200"/>
            </a:xfrm>
            <a:custGeom>
              <a:avLst/>
              <a:gdLst/>
              <a:ahLst/>
              <a:rect l="l" t="t" r="r" b="b"/>
              <a:pathLst>
                <a:path w="2464" h="1161">
                  <a:moveTo>
                    <a:pt x="5" y="0"/>
                  </a:moveTo>
                  <a:lnTo>
                    <a:pt x="0" y="1161"/>
                  </a:lnTo>
                  <a:lnTo>
                    <a:pt x="2464" y="1161"/>
                  </a:lnTo>
                  <a:lnTo>
                    <a:pt x="2456" y="1022"/>
                  </a:lnTo>
                  <a:lnTo>
                    <a:pt x="2080" y="1025"/>
                  </a:lnTo>
                  <a:lnTo>
                    <a:pt x="1694" y="978"/>
                  </a:lnTo>
                  <a:lnTo>
                    <a:pt x="1192" y="825"/>
                  </a:lnTo>
                  <a:lnTo>
                    <a:pt x="893" y="702"/>
                  </a:lnTo>
                  <a:lnTo>
                    <a:pt x="684" y="582"/>
                  </a:lnTo>
                  <a:lnTo>
                    <a:pt x="458" y="429"/>
                  </a:lnTo>
                  <a:lnTo>
                    <a:pt x="193" y="206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86080" y="3395520"/>
              <a:ext cx="5045040" cy="1800"/>
            </a:xfrm>
            <a:prstGeom prst="line">
              <a:avLst/>
            </a:prstGeom>
            <a:ln w="324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6200" y="4867200"/>
              <a:ext cx="144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48640" y="3743280"/>
              <a:ext cx="144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55800" y="2101680"/>
              <a:ext cx="546120" cy="1005120"/>
            </a:xfrm>
            <a:custGeom>
              <a:avLst/>
              <a:gdLst/>
              <a:ahLst/>
              <a:rect l="l" t="t" r="r" b="b"/>
              <a:pathLst>
                <a:path w="296" h="571">
                  <a:moveTo>
                    <a:pt x="0" y="0"/>
                  </a:moveTo>
                  <a:cubicBezTo>
                    <a:pt x="7" y="17"/>
                    <a:pt x="30" y="74"/>
                    <a:pt x="41" y="103"/>
                  </a:cubicBezTo>
                  <a:cubicBezTo>
                    <a:pt x="52" y="132"/>
                    <a:pt x="59" y="152"/>
                    <a:pt x="69" y="175"/>
                  </a:cubicBezTo>
                  <a:cubicBezTo>
                    <a:pt x="79" y="198"/>
                    <a:pt x="91" y="222"/>
                    <a:pt x="102" y="244"/>
                  </a:cubicBezTo>
                  <a:cubicBezTo>
                    <a:pt x="113" y="266"/>
                    <a:pt x="125" y="287"/>
                    <a:pt x="137" y="310"/>
                  </a:cubicBezTo>
                  <a:cubicBezTo>
                    <a:pt x="149" y="333"/>
                    <a:pt x="161" y="357"/>
                    <a:pt x="173" y="379"/>
                  </a:cubicBezTo>
                  <a:cubicBezTo>
                    <a:pt x="185" y="401"/>
                    <a:pt x="199" y="419"/>
                    <a:pt x="212" y="440"/>
                  </a:cubicBezTo>
                  <a:cubicBezTo>
                    <a:pt x="225" y="461"/>
                    <a:pt x="240" y="484"/>
                    <a:pt x="254" y="506"/>
                  </a:cubicBezTo>
                  <a:cubicBezTo>
                    <a:pt x="268" y="528"/>
                    <a:pt x="282" y="549"/>
                    <a:pt x="296" y="571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1920" y="3106800"/>
              <a:ext cx="852480" cy="896760"/>
            </a:xfrm>
            <a:custGeom>
              <a:avLst/>
              <a:gdLst/>
              <a:ahLst/>
              <a:rect l="l" t="t" r="r" b="b"/>
              <a:pathLst>
                <a:path w="463" h="510">
                  <a:moveTo>
                    <a:pt x="0" y="0"/>
                  </a:moveTo>
                  <a:cubicBezTo>
                    <a:pt x="15" y="22"/>
                    <a:pt x="30" y="45"/>
                    <a:pt x="45" y="66"/>
                  </a:cubicBezTo>
                  <a:cubicBezTo>
                    <a:pt x="60" y="87"/>
                    <a:pt x="77" y="109"/>
                    <a:pt x="93" y="129"/>
                  </a:cubicBezTo>
                  <a:cubicBezTo>
                    <a:pt x="109" y="149"/>
                    <a:pt x="123" y="169"/>
                    <a:pt x="139" y="188"/>
                  </a:cubicBezTo>
                  <a:cubicBezTo>
                    <a:pt x="155" y="207"/>
                    <a:pt x="172" y="224"/>
                    <a:pt x="189" y="243"/>
                  </a:cubicBezTo>
                  <a:cubicBezTo>
                    <a:pt x="206" y="262"/>
                    <a:pt x="224" y="283"/>
                    <a:pt x="241" y="302"/>
                  </a:cubicBezTo>
                  <a:cubicBezTo>
                    <a:pt x="258" y="321"/>
                    <a:pt x="276" y="338"/>
                    <a:pt x="294" y="356"/>
                  </a:cubicBezTo>
                  <a:cubicBezTo>
                    <a:pt x="312" y="374"/>
                    <a:pt x="332" y="393"/>
                    <a:pt x="351" y="410"/>
                  </a:cubicBezTo>
                  <a:cubicBezTo>
                    <a:pt x="370" y="427"/>
                    <a:pt x="387" y="444"/>
                    <a:pt x="406" y="461"/>
                  </a:cubicBezTo>
                  <a:cubicBezTo>
                    <a:pt x="425" y="478"/>
                    <a:pt x="444" y="494"/>
                    <a:pt x="463" y="510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0880" y="4003560"/>
              <a:ext cx="823680" cy="519120"/>
            </a:xfrm>
            <a:custGeom>
              <a:avLst/>
              <a:gdLst/>
              <a:ahLst/>
              <a:rect l="l" t="t" r="r" b="b"/>
              <a:pathLst>
                <a:path w="447" h="294">
                  <a:moveTo>
                    <a:pt x="0" y="0"/>
                  </a:moveTo>
                  <a:cubicBezTo>
                    <a:pt x="19" y="16"/>
                    <a:pt x="39" y="32"/>
                    <a:pt x="59" y="48"/>
                  </a:cubicBezTo>
                  <a:cubicBezTo>
                    <a:pt x="79" y="64"/>
                    <a:pt x="101" y="80"/>
                    <a:pt x="122" y="95"/>
                  </a:cubicBezTo>
                  <a:cubicBezTo>
                    <a:pt x="143" y="110"/>
                    <a:pt x="165" y="124"/>
                    <a:pt x="186" y="138"/>
                  </a:cubicBezTo>
                  <a:cubicBezTo>
                    <a:pt x="207" y="152"/>
                    <a:pt x="225" y="167"/>
                    <a:pt x="246" y="180"/>
                  </a:cubicBezTo>
                  <a:cubicBezTo>
                    <a:pt x="267" y="193"/>
                    <a:pt x="290" y="206"/>
                    <a:pt x="312" y="219"/>
                  </a:cubicBezTo>
                  <a:cubicBezTo>
                    <a:pt x="334" y="232"/>
                    <a:pt x="359" y="244"/>
                    <a:pt x="381" y="257"/>
                  </a:cubicBezTo>
                  <a:cubicBezTo>
                    <a:pt x="403" y="270"/>
                    <a:pt x="436" y="288"/>
                    <a:pt x="447" y="294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76640" y="4522680"/>
              <a:ext cx="1757520" cy="473040"/>
            </a:xfrm>
            <a:custGeom>
              <a:avLst/>
              <a:gdLst/>
              <a:ahLst/>
              <a:rect l="l" t="t" r="r" b="b"/>
              <a:pathLst>
                <a:path w="954" h="269">
                  <a:moveTo>
                    <a:pt x="0" y="0"/>
                  </a:moveTo>
                  <a:cubicBezTo>
                    <a:pt x="23" y="11"/>
                    <a:pt x="46" y="22"/>
                    <a:pt x="69" y="33"/>
                  </a:cubicBezTo>
                  <a:cubicBezTo>
                    <a:pt x="92" y="44"/>
                    <a:pt x="115" y="55"/>
                    <a:pt x="138" y="65"/>
                  </a:cubicBezTo>
                  <a:cubicBezTo>
                    <a:pt x="161" y="75"/>
                    <a:pt x="184" y="85"/>
                    <a:pt x="208" y="95"/>
                  </a:cubicBezTo>
                  <a:cubicBezTo>
                    <a:pt x="232" y="105"/>
                    <a:pt x="259" y="114"/>
                    <a:pt x="283" y="123"/>
                  </a:cubicBezTo>
                  <a:cubicBezTo>
                    <a:pt x="307" y="132"/>
                    <a:pt x="330" y="141"/>
                    <a:pt x="354" y="149"/>
                  </a:cubicBezTo>
                  <a:cubicBezTo>
                    <a:pt x="378" y="157"/>
                    <a:pt x="402" y="164"/>
                    <a:pt x="426" y="171"/>
                  </a:cubicBezTo>
                  <a:cubicBezTo>
                    <a:pt x="450" y="178"/>
                    <a:pt x="476" y="185"/>
                    <a:pt x="501" y="191"/>
                  </a:cubicBezTo>
                  <a:cubicBezTo>
                    <a:pt x="526" y="197"/>
                    <a:pt x="553" y="204"/>
                    <a:pt x="577" y="210"/>
                  </a:cubicBezTo>
                  <a:cubicBezTo>
                    <a:pt x="601" y="216"/>
                    <a:pt x="623" y="220"/>
                    <a:pt x="648" y="225"/>
                  </a:cubicBezTo>
                  <a:cubicBezTo>
                    <a:pt x="673" y="230"/>
                    <a:pt x="700" y="236"/>
                    <a:pt x="726" y="240"/>
                  </a:cubicBezTo>
                  <a:cubicBezTo>
                    <a:pt x="752" y="244"/>
                    <a:pt x="777" y="249"/>
                    <a:pt x="802" y="252"/>
                  </a:cubicBezTo>
                  <a:cubicBezTo>
                    <a:pt x="827" y="255"/>
                    <a:pt x="852" y="258"/>
                    <a:pt x="877" y="261"/>
                  </a:cubicBezTo>
                  <a:cubicBezTo>
                    <a:pt x="902" y="264"/>
                    <a:pt x="942" y="268"/>
                    <a:pt x="954" y="269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4160" y="4995720"/>
              <a:ext cx="691920" cy="12960"/>
            </a:xfrm>
            <a:custGeom>
              <a:avLst/>
              <a:gdLst/>
              <a:ahLst/>
              <a:rect l="l" t="t" r="r" b="b"/>
              <a:pathLst>
                <a:path w="375" h="7">
                  <a:moveTo>
                    <a:pt x="0" y="0"/>
                  </a:moveTo>
                  <a:cubicBezTo>
                    <a:pt x="25" y="1"/>
                    <a:pt x="51" y="3"/>
                    <a:pt x="76" y="4"/>
                  </a:cubicBezTo>
                  <a:cubicBezTo>
                    <a:pt x="101" y="5"/>
                    <a:pt x="125" y="7"/>
                    <a:pt x="150" y="7"/>
                  </a:cubicBezTo>
                  <a:cubicBezTo>
                    <a:pt x="175" y="7"/>
                    <a:pt x="202" y="6"/>
                    <a:pt x="228" y="6"/>
                  </a:cubicBezTo>
                  <a:cubicBezTo>
                    <a:pt x="254" y="6"/>
                    <a:pt x="289" y="6"/>
                    <a:pt x="307" y="6"/>
                  </a:cubicBezTo>
                  <a:cubicBezTo>
                    <a:pt x="325" y="6"/>
                    <a:pt x="328" y="6"/>
                    <a:pt x="339" y="6"/>
                  </a:cubicBezTo>
                  <a:cubicBezTo>
                    <a:pt x="350" y="6"/>
                    <a:pt x="368" y="6"/>
                    <a:pt x="375" y="6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357360" y="3743280"/>
              <a:ext cx="2904840" cy="825480"/>
              <a:chOff x="3357360" y="3743280"/>
              <a:chExt cx="2904840" cy="82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4404960" y="3743280"/>
                <a:ext cx="1857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buckl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357360" y="4302000"/>
                <a:ext cx="1014120" cy="204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616120" y="3395520"/>
              <a:ext cx="0" cy="1822680"/>
            </a:xfrm>
            <a:prstGeom prst="line">
              <a:avLst/>
            </a:prstGeom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86080" y="5229360"/>
              <a:ext cx="53625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3560" y="4711680"/>
              <a:ext cx="123840" cy="98280"/>
            </a:xfrm>
            <a:custGeom>
              <a:avLst/>
              <a:gdLst/>
              <a:ahLst/>
              <a:rect l="l" t="t" r="r" b="b"/>
              <a:pathLst>
                <a:path w="268" h="223">
                  <a:moveTo>
                    <a:pt x="268" y="0"/>
                  </a:moveTo>
                  <a:lnTo>
                    <a:pt x="106" y="223"/>
                  </a:lnTo>
                  <a:lnTo>
                    <a:pt x="160" y="73"/>
                  </a:lnTo>
                  <a:lnTo>
                    <a:pt x="0" y="66"/>
                  </a:lnTo>
                  <a:lnTo>
                    <a:pt x="268" y="0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56200" y="4711680"/>
              <a:ext cx="241200" cy="15552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9440" y="3992400"/>
              <a:ext cx="171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uler buckling curv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0080" y="4951440"/>
              <a:ext cx="12510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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L</a:t>
              </a:r>
              <a:r>
                <a:rPr b="0" i="1" lang="en-US" sz="2400" spc="-1" strike="noStrike" baseline="-25000">
                  <a:solidFill>
                    <a:srgbClr val="000066"/>
                  </a:solidFill>
                  <a:latin typeface="Arial"/>
                </a:rPr>
                <a:t>cr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/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0840" y="134136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486080" y="1860480"/>
              <a:ext cx="0" cy="3368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007720" y="2448000"/>
              <a:ext cx="2534040" cy="1168200"/>
              <a:chOff x="2007720" y="2448000"/>
              <a:chExt cx="2534040" cy="1168200"/>
            </a:xfrm>
          </p:grpSpPr>
          <p:sp>
            <p:nvSpPr>
              <p:cNvPr id="165" name=""/>
              <p:cNvSpPr/>
              <p:nvPr/>
            </p:nvSpPr>
            <p:spPr>
              <a:xfrm>
                <a:off x="2771640" y="2448000"/>
                <a:ext cx="177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yield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007720" y="2789280"/>
                <a:ext cx="763560" cy="826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616120" y="3375000"/>
              <a:ext cx="3907080" cy="1843200"/>
            </a:xfrm>
            <a:custGeom>
              <a:avLst/>
              <a:gdLst/>
              <a:ahLst/>
              <a:rect l="l" t="t" r="r" b="b"/>
              <a:pathLst>
                <a:path w="2464" h="1161">
                  <a:moveTo>
                    <a:pt x="5" y="0"/>
                  </a:moveTo>
                  <a:lnTo>
                    <a:pt x="0" y="1161"/>
                  </a:lnTo>
                  <a:lnTo>
                    <a:pt x="2464" y="1161"/>
                  </a:lnTo>
                  <a:lnTo>
                    <a:pt x="2456" y="1022"/>
                  </a:lnTo>
                  <a:lnTo>
                    <a:pt x="2080" y="1025"/>
                  </a:lnTo>
                  <a:lnTo>
                    <a:pt x="1694" y="978"/>
                  </a:lnTo>
                  <a:lnTo>
                    <a:pt x="1192" y="825"/>
                  </a:lnTo>
                  <a:lnTo>
                    <a:pt x="893" y="702"/>
                  </a:lnTo>
                  <a:lnTo>
                    <a:pt x="684" y="582"/>
                  </a:lnTo>
                  <a:lnTo>
                    <a:pt x="458" y="429"/>
                  </a:lnTo>
                  <a:lnTo>
                    <a:pt x="193" y="206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486080" y="3395520"/>
              <a:ext cx="5045040" cy="1800"/>
            </a:xfrm>
            <a:prstGeom prst="line">
              <a:avLst/>
            </a:prstGeom>
            <a:ln w="324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6200" y="4867200"/>
              <a:ext cx="144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8640" y="3743280"/>
              <a:ext cx="144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5800" y="2101680"/>
              <a:ext cx="546120" cy="1005120"/>
            </a:xfrm>
            <a:custGeom>
              <a:avLst/>
              <a:gdLst/>
              <a:ahLst/>
              <a:rect l="l" t="t" r="r" b="b"/>
              <a:pathLst>
                <a:path w="296" h="571">
                  <a:moveTo>
                    <a:pt x="0" y="0"/>
                  </a:moveTo>
                  <a:cubicBezTo>
                    <a:pt x="7" y="17"/>
                    <a:pt x="30" y="74"/>
                    <a:pt x="41" y="103"/>
                  </a:cubicBezTo>
                  <a:cubicBezTo>
                    <a:pt x="52" y="132"/>
                    <a:pt x="59" y="152"/>
                    <a:pt x="69" y="175"/>
                  </a:cubicBezTo>
                  <a:cubicBezTo>
                    <a:pt x="79" y="198"/>
                    <a:pt x="91" y="222"/>
                    <a:pt x="102" y="244"/>
                  </a:cubicBezTo>
                  <a:cubicBezTo>
                    <a:pt x="113" y="266"/>
                    <a:pt x="125" y="287"/>
                    <a:pt x="137" y="310"/>
                  </a:cubicBezTo>
                  <a:cubicBezTo>
                    <a:pt x="149" y="333"/>
                    <a:pt x="161" y="357"/>
                    <a:pt x="173" y="379"/>
                  </a:cubicBezTo>
                  <a:cubicBezTo>
                    <a:pt x="185" y="401"/>
                    <a:pt x="199" y="419"/>
                    <a:pt x="212" y="440"/>
                  </a:cubicBezTo>
                  <a:cubicBezTo>
                    <a:pt x="225" y="461"/>
                    <a:pt x="240" y="484"/>
                    <a:pt x="254" y="506"/>
                  </a:cubicBezTo>
                  <a:cubicBezTo>
                    <a:pt x="268" y="528"/>
                    <a:pt x="282" y="549"/>
                    <a:pt x="296" y="571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01920" y="3106800"/>
              <a:ext cx="852480" cy="896760"/>
            </a:xfrm>
            <a:custGeom>
              <a:avLst/>
              <a:gdLst/>
              <a:ahLst/>
              <a:rect l="l" t="t" r="r" b="b"/>
              <a:pathLst>
                <a:path w="463" h="510">
                  <a:moveTo>
                    <a:pt x="0" y="0"/>
                  </a:moveTo>
                  <a:cubicBezTo>
                    <a:pt x="15" y="22"/>
                    <a:pt x="30" y="45"/>
                    <a:pt x="45" y="66"/>
                  </a:cubicBezTo>
                  <a:cubicBezTo>
                    <a:pt x="60" y="87"/>
                    <a:pt x="77" y="109"/>
                    <a:pt x="93" y="129"/>
                  </a:cubicBezTo>
                  <a:cubicBezTo>
                    <a:pt x="109" y="149"/>
                    <a:pt x="123" y="169"/>
                    <a:pt x="139" y="188"/>
                  </a:cubicBezTo>
                  <a:cubicBezTo>
                    <a:pt x="155" y="207"/>
                    <a:pt x="172" y="224"/>
                    <a:pt x="189" y="243"/>
                  </a:cubicBezTo>
                  <a:cubicBezTo>
                    <a:pt x="206" y="262"/>
                    <a:pt x="224" y="283"/>
                    <a:pt x="241" y="302"/>
                  </a:cubicBezTo>
                  <a:cubicBezTo>
                    <a:pt x="258" y="321"/>
                    <a:pt x="276" y="338"/>
                    <a:pt x="294" y="356"/>
                  </a:cubicBezTo>
                  <a:cubicBezTo>
                    <a:pt x="312" y="374"/>
                    <a:pt x="332" y="393"/>
                    <a:pt x="351" y="410"/>
                  </a:cubicBezTo>
                  <a:cubicBezTo>
                    <a:pt x="370" y="427"/>
                    <a:pt x="387" y="444"/>
                    <a:pt x="406" y="461"/>
                  </a:cubicBezTo>
                  <a:cubicBezTo>
                    <a:pt x="425" y="478"/>
                    <a:pt x="444" y="494"/>
                    <a:pt x="463" y="510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60880" y="4003560"/>
              <a:ext cx="823680" cy="519120"/>
            </a:xfrm>
            <a:custGeom>
              <a:avLst/>
              <a:gdLst/>
              <a:ahLst/>
              <a:rect l="l" t="t" r="r" b="b"/>
              <a:pathLst>
                <a:path w="447" h="294">
                  <a:moveTo>
                    <a:pt x="0" y="0"/>
                  </a:moveTo>
                  <a:cubicBezTo>
                    <a:pt x="19" y="16"/>
                    <a:pt x="39" y="32"/>
                    <a:pt x="59" y="48"/>
                  </a:cubicBezTo>
                  <a:cubicBezTo>
                    <a:pt x="79" y="64"/>
                    <a:pt x="101" y="80"/>
                    <a:pt x="122" y="95"/>
                  </a:cubicBezTo>
                  <a:cubicBezTo>
                    <a:pt x="143" y="110"/>
                    <a:pt x="165" y="124"/>
                    <a:pt x="186" y="138"/>
                  </a:cubicBezTo>
                  <a:cubicBezTo>
                    <a:pt x="207" y="152"/>
                    <a:pt x="225" y="167"/>
                    <a:pt x="246" y="180"/>
                  </a:cubicBezTo>
                  <a:cubicBezTo>
                    <a:pt x="267" y="193"/>
                    <a:pt x="290" y="206"/>
                    <a:pt x="312" y="219"/>
                  </a:cubicBezTo>
                  <a:cubicBezTo>
                    <a:pt x="334" y="232"/>
                    <a:pt x="359" y="244"/>
                    <a:pt x="381" y="257"/>
                  </a:cubicBezTo>
                  <a:cubicBezTo>
                    <a:pt x="403" y="270"/>
                    <a:pt x="436" y="288"/>
                    <a:pt x="447" y="294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6640" y="4522680"/>
              <a:ext cx="1757520" cy="473040"/>
            </a:xfrm>
            <a:custGeom>
              <a:avLst/>
              <a:gdLst/>
              <a:ahLst/>
              <a:rect l="l" t="t" r="r" b="b"/>
              <a:pathLst>
                <a:path w="954" h="269">
                  <a:moveTo>
                    <a:pt x="0" y="0"/>
                  </a:moveTo>
                  <a:cubicBezTo>
                    <a:pt x="23" y="11"/>
                    <a:pt x="46" y="22"/>
                    <a:pt x="69" y="33"/>
                  </a:cubicBezTo>
                  <a:cubicBezTo>
                    <a:pt x="92" y="44"/>
                    <a:pt x="115" y="55"/>
                    <a:pt x="138" y="65"/>
                  </a:cubicBezTo>
                  <a:cubicBezTo>
                    <a:pt x="161" y="75"/>
                    <a:pt x="184" y="85"/>
                    <a:pt x="208" y="95"/>
                  </a:cubicBezTo>
                  <a:cubicBezTo>
                    <a:pt x="232" y="105"/>
                    <a:pt x="259" y="114"/>
                    <a:pt x="283" y="123"/>
                  </a:cubicBezTo>
                  <a:cubicBezTo>
                    <a:pt x="307" y="132"/>
                    <a:pt x="330" y="141"/>
                    <a:pt x="354" y="149"/>
                  </a:cubicBezTo>
                  <a:cubicBezTo>
                    <a:pt x="378" y="157"/>
                    <a:pt x="402" y="164"/>
                    <a:pt x="426" y="171"/>
                  </a:cubicBezTo>
                  <a:cubicBezTo>
                    <a:pt x="450" y="178"/>
                    <a:pt x="476" y="185"/>
                    <a:pt x="501" y="191"/>
                  </a:cubicBezTo>
                  <a:cubicBezTo>
                    <a:pt x="526" y="197"/>
                    <a:pt x="553" y="204"/>
                    <a:pt x="577" y="210"/>
                  </a:cubicBezTo>
                  <a:cubicBezTo>
                    <a:pt x="601" y="216"/>
                    <a:pt x="623" y="220"/>
                    <a:pt x="648" y="225"/>
                  </a:cubicBezTo>
                  <a:cubicBezTo>
                    <a:pt x="673" y="230"/>
                    <a:pt x="700" y="236"/>
                    <a:pt x="726" y="240"/>
                  </a:cubicBezTo>
                  <a:cubicBezTo>
                    <a:pt x="752" y="244"/>
                    <a:pt x="777" y="249"/>
                    <a:pt x="802" y="252"/>
                  </a:cubicBezTo>
                  <a:cubicBezTo>
                    <a:pt x="827" y="255"/>
                    <a:pt x="852" y="258"/>
                    <a:pt x="877" y="261"/>
                  </a:cubicBezTo>
                  <a:cubicBezTo>
                    <a:pt x="902" y="264"/>
                    <a:pt x="942" y="268"/>
                    <a:pt x="954" y="269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34160" y="4995720"/>
              <a:ext cx="691920" cy="12960"/>
            </a:xfrm>
            <a:custGeom>
              <a:avLst/>
              <a:gdLst/>
              <a:ahLst/>
              <a:rect l="l" t="t" r="r" b="b"/>
              <a:pathLst>
                <a:path w="375" h="7">
                  <a:moveTo>
                    <a:pt x="0" y="0"/>
                  </a:moveTo>
                  <a:cubicBezTo>
                    <a:pt x="25" y="1"/>
                    <a:pt x="51" y="3"/>
                    <a:pt x="76" y="4"/>
                  </a:cubicBezTo>
                  <a:cubicBezTo>
                    <a:pt x="101" y="5"/>
                    <a:pt x="125" y="7"/>
                    <a:pt x="150" y="7"/>
                  </a:cubicBezTo>
                  <a:cubicBezTo>
                    <a:pt x="175" y="7"/>
                    <a:pt x="202" y="6"/>
                    <a:pt x="228" y="6"/>
                  </a:cubicBezTo>
                  <a:cubicBezTo>
                    <a:pt x="254" y="6"/>
                    <a:pt x="289" y="6"/>
                    <a:pt x="307" y="6"/>
                  </a:cubicBezTo>
                  <a:cubicBezTo>
                    <a:pt x="325" y="6"/>
                    <a:pt x="328" y="6"/>
                    <a:pt x="339" y="6"/>
                  </a:cubicBezTo>
                  <a:cubicBezTo>
                    <a:pt x="350" y="6"/>
                    <a:pt x="368" y="6"/>
                    <a:pt x="375" y="6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357360" y="3743280"/>
              <a:ext cx="2904840" cy="825480"/>
              <a:chOff x="3357360" y="3743280"/>
              <a:chExt cx="2904840" cy="825480"/>
            </a:xfrm>
          </p:grpSpPr>
          <p:sp>
            <p:nvSpPr>
              <p:cNvPr id="177" name=""/>
              <p:cNvSpPr/>
              <p:nvPr/>
            </p:nvSpPr>
            <p:spPr>
              <a:xfrm>
                <a:off x="4404960" y="3743280"/>
                <a:ext cx="1857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buckl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357360" y="4302000"/>
                <a:ext cx="1014120" cy="204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616120" y="3395520"/>
              <a:ext cx="0" cy="1822680"/>
            </a:xfrm>
            <a:prstGeom prst="line">
              <a:avLst/>
            </a:prstGeom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6080" y="5229360"/>
              <a:ext cx="53625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59080" y="3355920"/>
              <a:ext cx="698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83000" y="3357720"/>
              <a:ext cx="69840" cy="95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042920" y="3083040"/>
            <a:ext cx="333360" cy="54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083040"/>
                      <a:ext cx="33336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2592360" y="5175360"/>
              <a:ext cx="69840" cy="95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65FC-1913-44ED-95D2-9EC4E9F58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ehaviour of ideal colum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5280" y="1346040"/>
            <a:ext cx="6831000" cy="4771440"/>
            <a:chOff x="395280" y="1346040"/>
            <a:chExt cx="6831000" cy="4771440"/>
          </a:xfrm>
        </p:grpSpPr>
        <p:graphicFrame>
          <p:nvGraphicFramePr>
            <p:cNvPr id="188" name=""/>
            <p:cNvGraphicFramePr/>
            <p:nvPr/>
          </p:nvGraphicFramePr>
          <p:xfrm>
            <a:off x="6257880" y="5176800"/>
            <a:ext cx="968400" cy="9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7880" y="5176800"/>
                      <a:ext cx="968400" cy="9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>
              <a:off x="765000" y="3765600"/>
              <a:ext cx="1121040" cy="1835280"/>
            </a:xfrm>
            <a:prstGeom prst="rect">
              <a:avLst/>
            </a:prstGeom>
            <a:solidFill>
              <a:srgbClr val="0000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43480" y="5076720"/>
              <a:ext cx="123480" cy="98640"/>
            </a:xfrm>
            <a:custGeom>
              <a:avLst/>
              <a:gdLst/>
              <a:ahLst/>
              <a:rect l="l" t="t" r="r" b="b"/>
              <a:pathLst>
                <a:path w="268" h="223">
                  <a:moveTo>
                    <a:pt x="268" y="0"/>
                  </a:moveTo>
                  <a:lnTo>
                    <a:pt x="106" y="223"/>
                  </a:lnTo>
                  <a:lnTo>
                    <a:pt x="160" y="73"/>
                  </a:lnTo>
                  <a:lnTo>
                    <a:pt x="0" y="66"/>
                  </a:lnTo>
                  <a:lnTo>
                    <a:pt x="268" y="0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425760" y="5076720"/>
              <a:ext cx="241200" cy="15552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9000" y="4357800"/>
              <a:ext cx="171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uler buckling curv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4640" y="3552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55640" y="2225520"/>
              <a:ext cx="0" cy="3368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77640" y="2813040"/>
              <a:ext cx="2534040" cy="1168200"/>
              <a:chOff x="1277640" y="2813040"/>
              <a:chExt cx="2534040" cy="1168200"/>
            </a:xfrm>
          </p:grpSpPr>
          <p:sp>
            <p:nvSpPr>
              <p:cNvPr id="197" name=""/>
              <p:cNvSpPr/>
              <p:nvPr/>
            </p:nvSpPr>
            <p:spPr>
              <a:xfrm>
                <a:off x="2041560" y="2813040"/>
                <a:ext cx="177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yield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277640" y="3154320"/>
                <a:ext cx="763560" cy="826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886040" y="3740040"/>
              <a:ext cx="3906720" cy="1843200"/>
            </a:xfrm>
            <a:custGeom>
              <a:avLst/>
              <a:gdLst/>
              <a:ahLst/>
              <a:rect l="l" t="t" r="r" b="b"/>
              <a:pathLst>
                <a:path w="2464" h="1161">
                  <a:moveTo>
                    <a:pt x="5" y="0"/>
                  </a:moveTo>
                  <a:lnTo>
                    <a:pt x="0" y="1161"/>
                  </a:lnTo>
                  <a:lnTo>
                    <a:pt x="2464" y="1161"/>
                  </a:lnTo>
                  <a:lnTo>
                    <a:pt x="2456" y="1022"/>
                  </a:lnTo>
                  <a:lnTo>
                    <a:pt x="2080" y="1025"/>
                  </a:lnTo>
                  <a:lnTo>
                    <a:pt x="1694" y="978"/>
                  </a:lnTo>
                  <a:lnTo>
                    <a:pt x="1192" y="825"/>
                  </a:lnTo>
                  <a:lnTo>
                    <a:pt x="893" y="702"/>
                  </a:lnTo>
                  <a:lnTo>
                    <a:pt x="684" y="582"/>
                  </a:lnTo>
                  <a:lnTo>
                    <a:pt x="458" y="429"/>
                  </a:lnTo>
                  <a:lnTo>
                    <a:pt x="193" y="206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55640" y="3760920"/>
              <a:ext cx="5045040" cy="1440"/>
            </a:xfrm>
            <a:prstGeom prst="line">
              <a:avLst/>
            </a:prstGeom>
            <a:ln w="324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5760" y="5232240"/>
              <a:ext cx="180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8200" y="4108320"/>
              <a:ext cx="1440" cy="180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25360" y="2467080"/>
              <a:ext cx="546120" cy="1004760"/>
            </a:xfrm>
            <a:custGeom>
              <a:avLst/>
              <a:gdLst/>
              <a:ahLst/>
              <a:rect l="l" t="t" r="r" b="b"/>
              <a:pathLst>
                <a:path w="296" h="571">
                  <a:moveTo>
                    <a:pt x="0" y="0"/>
                  </a:moveTo>
                  <a:cubicBezTo>
                    <a:pt x="7" y="17"/>
                    <a:pt x="30" y="74"/>
                    <a:pt x="41" y="103"/>
                  </a:cubicBezTo>
                  <a:cubicBezTo>
                    <a:pt x="52" y="132"/>
                    <a:pt x="59" y="152"/>
                    <a:pt x="69" y="175"/>
                  </a:cubicBezTo>
                  <a:cubicBezTo>
                    <a:pt x="79" y="198"/>
                    <a:pt x="91" y="222"/>
                    <a:pt x="102" y="244"/>
                  </a:cubicBezTo>
                  <a:cubicBezTo>
                    <a:pt x="113" y="266"/>
                    <a:pt x="125" y="287"/>
                    <a:pt x="137" y="310"/>
                  </a:cubicBezTo>
                  <a:cubicBezTo>
                    <a:pt x="149" y="333"/>
                    <a:pt x="161" y="357"/>
                    <a:pt x="173" y="379"/>
                  </a:cubicBezTo>
                  <a:cubicBezTo>
                    <a:pt x="185" y="401"/>
                    <a:pt x="199" y="419"/>
                    <a:pt x="212" y="440"/>
                  </a:cubicBezTo>
                  <a:cubicBezTo>
                    <a:pt x="225" y="461"/>
                    <a:pt x="240" y="484"/>
                    <a:pt x="254" y="506"/>
                  </a:cubicBezTo>
                  <a:cubicBezTo>
                    <a:pt x="268" y="528"/>
                    <a:pt x="282" y="549"/>
                    <a:pt x="296" y="571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1480" y="3471840"/>
              <a:ext cx="852480" cy="897120"/>
            </a:xfrm>
            <a:custGeom>
              <a:avLst/>
              <a:gdLst/>
              <a:ahLst/>
              <a:rect l="l" t="t" r="r" b="b"/>
              <a:pathLst>
                <a:path w="463" h="510">
                  <a:moveTo>
                    <a:pt x="0" y="0"/>
                  </a:moveTo>
                  <a:cubicBezTo>
                    <a:pt x="15" y="22"/>
                    <a:pt x="30" y="45"/>
                    <a:pt x="45" y="66"/>
                  </a:cubicBezTo>
                  <a:cubicBezTo>
                    <a:pt x="60" y="87"/>
                    <a:pt x="77" y="109"/>
                    <a:pt x="93" y="129"/>
                  </a:cubicBezTo>
                  <a:cubicBezTo>
                    <a:pt x="109" y="149"/>
                    <a:pt x="123" y="169"/>
                    <a:pt x="139" y="188"/>
                  </a:cubicBezTo>
                  <a:cubicBezTo>
                    <a:pt x="155" y="207"/>
                    <a:pt x="172" y="224"/>
                    <a:pt x="189" y="243"/>
                  </a:cubicBezTo>
                  <a:cubicBezTo>
                    <a:pt x="206" y="262"/>
                    <a:pt x="224" y="283"/>
                    <a:pt x="241" y="302"/>
                  </a:cubicBezTo>
                  <a:cubicBezTo>
                    <a:pt x="258" y="321"/>
                    <a:pt x="276" y="338"/>
                    <a:pt x="294" y="356"/>
                  </a:cubicBezTo>
                  <a:cubicBezTo>
                    <a:pt x="312" y="374"/>
                    <a:pt x="332" y="393"/>
                    <a:pt x="351" y="410"/>
                  </a:cubicBezTo>
                  <a:cubicBezTo>
                    <a:pt x="370" y="427"/>
                    <a:pt x="387" y="444"/>
                    <a:pt x="406" y="461"/>
                  </a:cubicBezTo>
                  <a:cubicBezTo>
                    <a:pt x="425" y="478"/>
                    <a:pt x="444" y="494"/>
                    <a:pt x="463" y="510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30440" y="4368960"/>
              <a:ext cx="824040" cy="519120"/>
            </a:xfrm>
            <a:custGeom>
              <a:avLst/>
              <a:gdLst/>
              <a:ahLst/>
              <a:rect l="l" t="t" r="r" b="b"/>
              <a:pathLst>
                <a:path w="447" h="294">
                  <a:moveTo>
                    <a:pt x="0" y="0"/>
                  </a:moveTo>
                  <a:cubicBezTo>
                    <a:pt x="19" y="16"/>
                    <a:pt x="39" y="32"/>
                    <a:pt x="59" y="48"/>
                  </a:cubicBezTo>
                  <a:cubicBezTo>
                    <a:pt x="79" y="64"/>
                    <a:pt x="101" y="80"/>
                    <a:pt x="122" y="95"/>
                  </a:cubicBezTo>
                  <a:cubicBezTo>
                    <a:pt x="143" y="110"/>
                    <a:pt x="165" y="124"/>
                    <a:pt x="186" y="138"/>
                  </a:cubicBezTo>
                  <a:cubicBezTo>
                    <a:pt x="207" y="152"/>
                    <a:pt x="225" y="167"/>
                    <a:pt x="246" y="180"/>
                  </a:cubicBezTo>
                  <a:cubicBezTo>
                    <a:pt x="267" y="193"/>
                    <a:pt x="290" y="206"/>
                    <a:pt x="312" y="219"/>
                  </a:cubicBezTo>
                  <a:cubicBezTo>
                    <a:pt x="334" y="232"/>
                    <a:pt x="359" y="244"/>
                    <a:pt x="381" y="257"/>
                  </a:cubicBezTo>
                  <a:cubicBezTo>
                    <a:pt x="403" y="270"/>
                    <a:pt x="436" y="288"/>
                    <a:pt x="447" y="294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6560" y="4888080"/>
              <a:ext cx="1757160" cy="473040"/>
            </a:xfrm>
            <a:custGeom>
              <a:avLst/>
              <a:gdLst/>
              <a:ahLst/>
              <a:rect l="l" t="t" r="r" b="b"/>
              <a:pathLst>
                <a:path w="954" h="269">
                  <a:moveTo>
                    <a:pt x="0" y="0"/>
                  </a:moveTo>
                  <a:cubicBezTo>
                    <a:pt x="23" y="11"/>
                    <a:pt x="46" y="22"/>
                    <a:pt x="69" y="33"/>
                  </a:cubicBezTo>
                  <a:cubicBezTo>
                    <a:pt x="92" y="44"/>
                    <a:pt x="115" y="55"/>
                    <a:pt x="138" y="65"/>
                  </a:cubicBezTo>
                  <a:cubicBezTo>
                    <a:pt x="161" y="75"/>
                    <a:pt x="184" y="85"/>
                    <a:pt x="208" y="95"/>
                  </a:cubicBezTo>
                  <a:cubicBezTo>
                    <a:pt x="232" y="105"/>
                    <a:pt x="259" y="114"/>
                    <a:pt x="283" y="123"/>
                  </a:cubicBezTo>
                  <a:cubicBezTo>
                    <a:pt x="307" y="132"/>
                    <a:pt x="330" y="141"/>
                    <a:pt x="354" y="149"/>
                  </a:cubicBezTo>
                  <a:cubicBezTo>
                    <a:pt x="378" y="157"/>
                    <a:pt x="402" y="164"/>
                    <a:pt x="426" y="171"/>
                  </a:cubicBezTo>
                  <a:cubicBezTo>
                    <a:pt x="450" y="178"/>
                    <a:pt x="476" y="185"/>
                    <a:pt x="501" y="191"/>
                  </a:cubicBezTo>
                  <a:cubicBezTo>
                    <a:pt x="526" y="197"/>
                    <a:pt x="553" y="204"/>
                    <a:pt x="577" y="210"/>
                  </a:cubicBezTo>
                  <a:cubicBezTo>
                    <a:pt x="601" y="216"/>
                    <a:pt x="623" y="220"/>
                    <a:pt x="648" y="225"/>
                  </a:cubicBezTo>
                  <a:cubicBezTo>
                    <a:pt x="673" y="230"/>
                    <a:pt x="700" y="236"/>
                    <a:pt x="726" y="240"/>
                  </a:cubicBezTo>
                  <a:cubicBezTo>
                    <a:pt x="752" y="244"/>
                    <a:pt x="777" y="249"/>
                    <a:pt x="802" y="252"/>
                  </a:cubicBezTo>
                  <a:cubicBezTo>
                    <a:pt x="827" y="255"/>
                    <a:pt x="852" y="258"/>
                    <a:pt x="877" y="261"/>
                  </a:cubicBezTo>
                  <a:cubicBezTo>
                    <a:pt x="902" y="264"/>
                    <a:pt x="942" y="268"/>
                    <a:pt x="954" y="269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3720" y="5361120"/>
              <a:ext cx="692280" cy="12600"/>
            </a:xfrm>
            <a:custGeom>
              <a:avLst/>
              <a:gdLst/>
              <a:ahLst/>
              <a:rect l="l" t="t" r="r" b="b"/>
              <a:pathLst>
                <a:path w="375" h="7">
                  <a:moveTo>
                    <a:pt x="0" y="0"/>
                  </a:moveTo>
                  <a:cubicBezTo>
                    <a:pt x="25" y="1"/>
                    <a:pt x="51" y="3"/>
                    <a:pt x="76" y="4"/>
                  </a:cubicBezTo>
                  <a:cubicBezTo>
                    <a:pt x="101" y="5"/>
                    <a:pt x="125" y="7"/>
                    <a:pt x="150" y="7"/>
                  </a:cubicBezTo>
                  <a:cubicBezTo>
                    <a:pt x="175" y="7"/>
                    <a:pt x="202" y="6"/>
                    <a:pt x="228" y="6"/>
                  </a:cubicBezTo>
                  <a:cubicBezTo>
                    <a:pt x="254" y="6"/>
                    <a:pt x="289" y="6"/>
                    <a:pt x="307" y="6"/>
                  </a:cubicBezTo>
                  <a:cubicBezTo>
                    <a:pt x="325" y="6"/>
                    <a:pt x="328" y="6"/>
                    <a:pt x="339" y="6"/>
                  </a:cubicBezTo>
                  <a:cubicBezTo>
                    <a:pt x="350" y="6"/>
                    <a:pt x="368" y="6"/>
                    <a:pt x="375" y="6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627280" y="4108320"/>
              <a:ext cx="2905200" cy="825480"/>
              <a:chOff x="2627280" y="4108320"/>
              <a:chExt cx="2905200" cy="825480"/>
            </a:xfrm>
          </p:grpSpPr>
          <p:sp>
            <p:nvSpPr>
              <p:cNvPr id="209" name=""/>
              <p:cNvSpPr/>
              <p:nvPr/>
            </p:nvSpPr>
            <p:spPr>
              <a:xfrm>
                <a:off x="3674880" y="4108320"/>
                <a:ext cx="1857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Failure by buckling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627280" y="4667040"/>
                <a:ext cx="1014480" cy="204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886040" y="3760920"/>
              <a:ext cx="0" cy="1822320"/>
            </a:xfrm>
            <a:prstGeom prst="line">
              <a:avLst/>
            </a:prstGeom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640" y="5594400"/>
              <a:ext cx="53625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31960" y="56577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395280" y="1346040"/>
            <a:ext cx="925560" cy="98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5280" y="1346040"/>
                      <a:ext cx="925560" cy="9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9040" y="5535720"/>
              <a:ext cx="69840" cy="95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0080" y="3699000"/>
              <a:ext cx="70200" cy="95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52560" y="3710160"/>
              <a:ext cx="69840" cy="95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258920" y="1585800"/>
            <a:ext cx="31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66"/>
                </a:solidFill>
                <a:latin typeface="Arial"/>
              </a:rPr>
              <a:t>= Relative 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26280" y="5364000"/>
            <a:ext cx="19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66"/>
                </a:solidFill>
                <a:latin typeface="Arial"/>
              </a:rPr>
              <a:t>= Relative slendern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2CDC-2262-42A1-B0A0-792F29EC2E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ehavior of industrial column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elastic buckling occurs prior to Euler buckling load due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l out-of-straight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dual stress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idental eccentricity of axial loa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ffects of strain-hardening in low slenderness rang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wer bound curve resulting from statistical analysis of test resul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CC38-12E0-4A18-8DE8-8054D61DE5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Test results </a:t>
            </a:r>
            <a:br>
              <a:rPr sz="3600"/>
            </a:b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and lower boun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19240" y="1484280"/>
            <a:ext cx="6908040" cy="4294080"/>
            <a:chOff x="1119240" y="1484280"/>
            <a:chExt cx="6908040" cy="4294080"/>
          </a:xfrm>
        </p:grpSpPr>
        <p:grpSp>
          <p:nvGrpSpPr>
            <p:cNvPr id="225" name=""/>
            <p:cNvGrpSpPr/>
            <p:nvPr/>
          </p:nvGrpSpPr>
          <p:grpSpPr>
            <a:xfrm>
              <a:off x="1547640" y="1484280"/>
              <a:ext cx="6479640" cy="3502080"/>
              <a:chOff x="1547640" y="1484280"/>
              <a:chExt cx="6479640" cy="35020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12320" y="4566960"/>
                <a:ext cx="437976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1901160" y="1892520"/>
                <a:ext cx="10800" cy="267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6200" y="2952720"/>
                <a:ext cx="1723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23760" y="2940120"/>
                <a:ext cx="2120400" cy="1471680"/>
              </a:xfrm>
              <a:custGeom>
                <a:avLst/>
                <a:gdLst/>
                <a:ahLst/>
                <a:rect l="l" t="t" r="r" b="b"/>
                <a:pathLst>
                  <a:path w="2993" h="2170">
                    <a:moveTo>
                      <a:pt x="0" y="0"/>
                    </a:moveTo>
                    <a:cubicBezTo>
                      <a:pt x="112" y="186"/>
                      <a:pt x="225" y="373"/>
                      <a:pt x="345" y="540"/>
                    </a:cubicBezTo>
                    <a:cubicBezTo>
                      <a:pt x="465" y="707"/>
                      <a:pt x="579" y="858"/>
                      <a:pt x="720" y="1005"/>
                    </a:cubicBezTo>
                    <a:cubicBezTo>
                      <a:pt x="861" y="1152"/>
                      <a:pt x="1028" y="1300"/>
                      <a:pt x="1193" y="1420"/>
                    </a:cubicBezTo>
                    <a:cubicBezTo>
                      <a:pt x="1358" y="1540"/>
                      <a:pt x="1552" y="1642"/>
                      <a:pt x="1710" y="1725"/>
                    </a:cubicBezTo>
                    <a:cubicBezTo>
                      <a:pt x="1868" y="1808"/>
                      <a:pt x="1986" y="1861"/>
                      <a:pt x="2145" y="1920"/>
                    </a:cubicBezTo>
                    <a:cubicBezTo>
                      <a:pt x="2304" y="1979"/>
                      <a:pt x="2522" y="2038"/>
                      <a:pt x="2663" y="2080"/>
                    </a:cubicBezTo>
                    <a:cubicBezTo>
                      <a:pt x="2804" y="2122"/>
                      <a:pt x="2924" y="2151"/>
                      <a:pt x="2993" y="2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12320" y="2949840"/>
                <a:ext cx="3858840" cy="1504800"/>
              </a:xfrm>
              <a:custGeom>
                <a:avLst/>
                <a:gdLst/>
                <a:ahLst/>
                <a:rect l="l" t="t" r="r" b="b"/>
                <a:pathLst>
                  <a:path w="5445" h="2220">
                    <a:moveTo>
                      <a:pt x="0" y="0"/>
                    </a:moveTo>
                    <a:lnTo>
                      <a:pt x="540" y="0"/>
                    </a:lnTo>
                    <a:cubicBezTo>
                      <a:pt x="695" y="12"/>
                      <a:pt x="798" y="38"/>
                      <a:pt x="930" y="75"/>
                    </a:cubicBezTo>
                    <a:cubicBezTo>
                      <a:pt x="1062" y="112"/>
                      <a:pt x="1208" y="175"/>
                      <a:pt x="1335" y="225"/>
                    </a:cubicBezTo>
                    <a:cubicBezTo>
                      <a:pt x="1462" y="275"/>
                      <a:pt x="1583" y="324"/>
                      <a:pt x="1695" y="375"/>
                    </a:cubicBezTo>
                    <a:cubicBezTo>
                      <a:pt x="1807" y="426"/>
                      <a:pt x="1903" y="472"/>
                      <a:pt x="2011" y="530"/>
                    </a:cubicBezTo>
                    <a:cubicBezTo>
                      <a:pt x="2119" y="588"/>
                      <a:pt x="2233" y="655"/>
                      <a:pt x="2341" y="725"/>
                    </a:cubicBezTo>
                    <a:cubicBezTo>
                      <a:pt x="2449" y="795"/>
                      <a:pt x="2559" y="878"/>
                      <a:pt x="2656" y="950"/>
                    </a:cubicBezTo>
                    <a:cubicBezTo>
                      <a:pt x="2753" y="1022"/>
                      <a:pt x="2829" y="1083"/>
                      <a:pt x="2926" y="1160"/>
                    </a:cubicBezTo>
                    <a:cubicBezTo>
                      <a:pt x="3023" y="1237"/>
                      <a:pt x="3119" y="1328"/>
                      <a:pt x="3241" y="1415"/>
                    </a:cubicBezTo>
                    <a:cubicBezTo>
                      <a:pt x="3363" y="1502"/>
                      <a:pt x="3534" y="1613"/>
                      <a:pt x="3661" y="1685"/>
                    </a:cubicBezTo>
                    <a:cubicBezTo>
                      <a:pt x="3788" y="1757"/>
                      <a:pt x="3889" y="1803"/>
                      <a:pt x="4006" y="1850"/>
                    </a:cubicBezTo>
                    <a:cubicBezTo>
                      <a:pt x="4123" y="1897"/>
                      <a:pt x="4246" y="1933"/>
                      <a:pt x="4366" y="1970"/>
                    </a:cubicBezTo>
                    <a:cubicBezTo>
                      <a:pt x="4486" y="2007"/>
                      <a:pt x="4579" y="2038"/>
                      <a:pt x="4726" y="2075"/>
                    </a:cubicBezTo>
                    <a:cubicBezTo>
                      <a:pt x="4873" y="2112"/>
                      <a:pt x="5131" y="2171"/>
                      <a:pt x="5251" y="2195"/>
                    </a:cubicBezTo>
                    <a:cubicBezTo>
                      <a:pt x="5371" y="2219"/>
                      <a:pt x="5405" y="2215"/>
                      <a:pt x="5445" y="222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34720" y="26384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85400" y="279396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45960" y="272268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56760" y="28148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15520" y="278460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17120" y="280368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41040" y="29768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22120" y="29876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38040" y="311940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44160" y="30211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98240" y="314028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420720" y="325116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25320" y="31496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49240" y="33433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42720" y="365760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28600" y="40957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77960" y="396396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27080" y="40687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66680" y="35197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96840" y="33800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81000" y="34592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49360" y="381492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63320" y="37022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79480" y="400680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339800" y="2203560"/>
                <a:ext cx="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53960" y="2573280"/>
                <a:ext cx="11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344480" y="2573280"/>
                <a:ext cx="11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1040" y="2229120"/>
                <a:ext cx="148068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Medium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slendernes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09720" y="2229120"/>
                <a:ext cx="14472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Large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slendernes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34920" y="2940120"/>
                <a:ext cx="0" cy="16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65000" y="458784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85960" y="4407120"/>
                <a:ext cx="18396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484280"/>
                <a:ext cx="1001520" cy="2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0066"/>
                    </a:solidFill>
                    <a:latin typeface="Arial"/>
                  </a:rPr>
                  <a:t>Stress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88680" y="2708280"/>
                <a:ext cx="36144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r>
                  <a:rPr b="0" lang="fr-BE" sz="2000" spc="-1" strike="noStrike" baseline="-25000">
                    <a:solidFill>
                      <a:srgbClr val="000066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91920" y="3946680"/>
                <a:ext cx="101520" cy="96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04880" y="3692520"/>
                <a:ext cx="1572840" cy="284400"/>
              </a:xfrm>
              <a:custGeom>
                <a:avLst/>
                <a:gdLst/>
                <a:ahLst/>
                <a:rect l="l" t="t" r="r" b="b"/>
                <a:pathLst>
                  <a:path w="2220" h="420">
                    <a:moveTo>
                      <a:pt x="0" y="420"/>
                    </a:moveTo>
                    <a:lnTo>
                      <a:pt x="570" y="0"/>
                    </a:lnTo>
                    <a:lnTo>
                      <a:pt x="22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1640" y="3355920"/>
                <a:ext cx="19011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Point of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contra flexure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70000" y="415296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98520" y="418320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66760" y="357372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23720" y="30751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33040" y="296388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93640" y="326556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66760" y="351324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36320" y="367524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08040" y="383868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77960" y="400068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47320" y="30481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2280" y="30481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83920" y="2925720"/>
                <a:ext cx="7272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79320" y="2886120"/>
                <a:ext cx="72360" cy="6984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92440" y="4292640"/>
                <a:ext cx="173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800" spc="-1" strike="noStrike">
                    <a:solidFill>
                      <a:srgbClr val="000066"/>
                    </a:solidFill>
                    <a:latin typeface="Arial"/>
                  </a:rPr>
                  <a:t>Slendernes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90560" y="4579920"/>
                <a:ext cx="64404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4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</a:t>
                </a:r>
                <a:r>
                  <a:rPr b="0" lang="fr-BE" sz="2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384200" y="3932280"/>
              <a:ext cx="2898360" cy="1549440"/>
            </a:xfrm>
            <a:custGeom>
              <a:avLst/>
              <a:gdLst/>
              <a:ahLst/>
              <a:rect l="l" t="t" r="r" b="b"/>
              <a:pathLst>
                <a:path w="1826" h="976">
                  <a:moveTo>
                    <a:pt x="1826" y="0"/>
                  </a:moveTo>
                  <a:lnTo>
                    <a:pt x="1536" y="976"/>
                  </a:lnTo>
                  <a:lnTo>
                    <a:pt x="0" y="97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19240" y="513576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"/>
                </a:rPr>
                <a:t>Column buckling curve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"/>
                </a:rPr>
                <a:t>= Lower boun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0BCF-A7F3-4AE8-A036-D57DE730B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ffect of imperfections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 relation to slendernes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umns of ‘large’ slendernes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ly unaffected by imperfe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ltimate failure load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lastic Euler critical loa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cr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rying capacity independent of the yield str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umns of ‘medium’ slenderness (most columns in practice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fected by both imperfections and material yield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load less than both Euler load and squash loa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l out-of-straightness and residual stresses are the most significant imperfe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9652-E437-4980-A8C0-38142780F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sidual stress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006880"/>
            <a:ext cx="8569440" cy="1051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Due to differential cooling down during hot-rolling or welding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bove distribution is typical for hot-rolled sec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eak residual stress larger (approaching 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US" sz="22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) when welded section)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014120" y="1557360"/>
            <a:ext cx="5945400" cy="3168360"/>
            <a:chOff x="1014120" y="1557360"/>
            <a:chExt cx="5945400" cy="3168360"/>
          </a:xfrm>
        </p:grpSpPr>
        <p:grpSp>
          <p:nvGrpSpPr>
            <p:cNvPr id="291" name=""/>
            <p:cNvGrpSpPr/>
            <p:nvPr/>
          </p:nvGrpSpPr>
          <p:grpSpPr>
            <a:xfrm>
              <a:off x="1014120" y="1557360"/>
              <a:ext cx="1584360" cy="2339640"/>
              <a:chOff x="1014120" y="1557360"/>
              <a:chExt cx="1584360" cy="233964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1669320" y="3411000"/>
                <a:ext cx="927720" cy="485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1669320" y="2345400"/>
                <a:ext cx="1800" cy="763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69320" y="3818880"/>
                <a:ext cx="1800" cy="78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97040" y="3334680"/>
                <a:ext cx="1440" cy="763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669320" y="1859400"/>
                <a:ext cx="927720" cy="485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597040" y="1859400"/>
                <a:ext cx="1440" cy="78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669320" y="2197800"/>
                <a:ext cx="430560" cy="22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171520" y="1937880"/>
                <a:ext cx="425160" cy="222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96640" y="2199600"/>
                <a:ext cx="1440" cy="13960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71520" y="2161080"/>
                <a:ext cx="1440" cy="13964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171160" y="3334680"/>
                <a:ext cx="425160" cy="222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84480" y="3117600"/>
                <a:ext cx="412200" cy="2170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668960" y="3596040"/>
                <a:ext cx="427320" cy="222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1014120" y="2001240"/>
                <a:ext cx="654840" cy="343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1014120" y="2079360"/>
                <a:ext cx="654840" cy="3423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1014480" y="3030480"/>
                <a:ext cx="1082160" cy="5652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1014120" y="3476160"/>
                <a:ext cx="654840" cy="3423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1014120" y="3552840"/>
                <a:ext cx="653400" cy="3423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2016720" y="1557360"/>
                <a:ext cx="580320" cy="302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82960" y="4025880"/>
              <a:ext cx="1149120" cy="664920"/>
              <a:chOff x="2982960" y="4025880"/>
              <a:chExt cx="1149120" cy="664920"/>
            </a:xfrm>
          </p:grpSpPr>
          <p:sp>
            <p:nvSpPr>
              <p:cNvPr id="312" name=""/>
              <p:cNvSpPr/>
              <p:nvPr/>
            </p:nvSpPr>
            <p:spPr>
              <a:xfrm>
                <a:off x="3868920" y="4537800"/>
                <a:ext cx="55440" cy="38520"/>
              </a:xfrm>
              <a:custGeom>
                <a:avLst/>
                <a:gdLst/>
                <a:ahLst/>
                <a:rect l="l" t="t" r="r" b="b"/>
                <a:pathLst>
                  <a:path w="134" h="105">
                    <a:moveTo>
                      <a:pt x="134" y="105"/>
                    </a:moveTo>
                    <a:lnTo>
                      <a:pt x="0" y="81"/>
                    </a:lnTo>
                    <a:lnTo>
                      <a:pt x="79" y="72"/>
                    </a:lnTo>
                    <a:lnTo>
                      <a:pt x="46" y="0"/>
                    </a:lnTo>
                    <a:lnTo>
                      <a:pt x="134" y="105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68920" y="4537800"/>
                <a:ext cx="55440" cy="38520"/>
              </a:xfrm>
              <a:custGeom>
                <a:avLst/>
                <a:gdLst/>
                <a:ahLst/>
                <a:rect l="l" t="t" r="r" b="b"/>
                <a:pathLst>
                  <a:path w="134" h="105">
                    <a:moveTo>
                      <a:pt x="134" y="105"/>
                    </a:moveTo>
                    <a:lnTo>
                      <a:pt x="0" y="81"/>
                    </a:lnTo>
                    <a:lnTo>
                      <a:pt x="79" y="72"/>
                    </a:lnTo>
                    <a:lnTo>
                      <a:pt x="46" y="0"/>
                    </a:lnTo>
                    <a:lnTo>
                      <a:pt x="134" y="105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709080" y="4465440"/>
                <a:ext cx="215280" cy="1105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09080" y="4465800"/>
                <a:ext cx="216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24360" y="435492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35" y="104"/>
                    </a:moveTo>
                    <a:lnTo>
                      <a:pt x="0" y="82"/>
                    </a:lnTo>
                    <a:lnTo>
                      <a:pt x="79" y="71"/>
                    </a:lnTo>
                    <a:lnTo>
                      <a:pt x="47" y="0"/>
                    </a:lnTo>
                    <a:lnTo>
                      <a:pt x="135" y="104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24360" y="435492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35" y="104"/>
                    </a:moveTo>
                    <a:lnTo>
                      <a:pt x="0" y="82"/>
                    </a:lnTo>
                    <a:lnTo>
                      <a:pt x="79" y="71"/>
                    </a:lnTo>
                    <a:lnTo>
                      <a:pt x="47" y="0"/>
                    </a:lnTo>
                    <a:lnTo>
                      <a:pt x="135" y="104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3907800" y="4357440"/>
                <a:ext cx="70560" cy="349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07800" y="435780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14280" y="441936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133" y="105"/>
                    </a:moveTo>
                    <a:lnTo>
                      <a:pt x="0" y="79"/>
                    </a:lnTo>
                    <a:lnTo>
                      <a:pt x="78" y="73"/>
                    </a:lnTo>
                    <a:lnTo>
                      <a:pt x="46" y="0"/>
                    </a:lnTo>
                    <a:lnTo>
                      <a:pt x="133" y="105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14280" y="441936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133" y="105"/>
                    </a:moveTo>
                    <a:lnTo>
                      <a:pt x="0" y="79"/>
                    </a:lnTo>
                    <a:lnTo>
                      <a:pt x="78" y="73"/>
                    </a:lnTo>
                    <a:lnTo>
                      <a:pt x="46" y="0"/>
                    </a:lnTo>
                    <a:lnTo>
                      <a:pt x="133" y="105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3845880" y="4392360"/>
                <a:ext cx="122040" cy="6660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46240" y="439272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98080" y="448344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35" y="104"/>
                    </a:moveTo>
                    <a:lnTo>
                      <a:pt x="0" y="80"/>
                    </a:lnTo>
                    <a:lnTo>
                      <a:pt x="80" y="73"/>
                    </a:lnTo>
                    <a:lnTo>
                      <a:pt x="47" y="0"/>
                    </a:lnTo>
                    <a:lnTo>
                      <a:pt x="135" y="104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98080" y="448344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35" y="104"/>
                    </a:moveTo>
                    <a:lnTo>
                      <a:pt x="0" y="80"/>
                    </a:lnTo>
                    <a:lnTo>
                      <a:pt x="80" y="73"/>
                    </a:lnTo>
                    <a:lnTo>
                      <a:pt x="47" y="0"/>
                    </a:lnTo>
                    <a:lnTo>
                      <a:pt x="135" y="104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3775680" y="4428000"/>
                <a:ext cx="176400" cy="928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75680" y="4428000"/>
                <a:ext cx="2520" cy="25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783240" y="457020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135" y="106"/>
                    </a:moveTo>
                    <a:lnTo>
                      <a:pt x="0" y="79"/>
                    </a:lnTo>
                    <a:lnTo>
                      <a:pt x="79" y="72"/>
                    </a:lnTo>
                    <a:lnTo>
                      <a:pt x="48" y="0"/>
                    </a:lnTo>
                    <a:lnTo>
                      <a:pt x="135" y="106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83240" y="457020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135" y="106"/>
                    </a:moveTo>
                    <a:lnTo>
                      <a:pt x="0" y="79"/>
                    </a:lnTo>
                    <a:lnTo>
                      <a:pt x="79" y="72"/>
                    </a:lnTo>
                    <a:lnTo>
                      <a:pt x="48" y="0"/>
                    </a:lnTo>
                    <a:lnTo>
                      <a:pt x="135" y="106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3644280" y="4503240"/>
                <a:ext cx="194040" cy="1054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44640" y="450360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63360" y="458532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4" h="106">
                    <a:moveTo>
                      <a:pt x="134" y="106"/>
                    </a:moveTo>
                    <a:lnTo>
                      <a:pt x="0" y="79"/>
                    </a:lnTo>
                    <a:lnTo>
                      <a:pt x="79" y="73"/>
                    </a:lnTo>
                    <a:lnTo>
                      <a:pt x="50" y="0"/>
                    </a:lnTo>
                    <a:lnTo>
                      <a:pt x="134" y="106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63360" y="4585320"/>
                <a:ext cx="54000" cy="37440"/>
              </a:xfrm>
              <a:custGeom>
                <a:avLst/>
                <a:gdLst/>
                <a:ahLst/>
                <a:rect l="l" t="t" r="r" b="b"/>
                <a:pathLst>
                  <a:path w="134" h="106">
                    <a:moveTo>
                      <a:pt x="134" y="106"/>
                    </a:moveTo>
                    <a:lnTo>
                      <a:pt x="0" y="79"/>
                    </a:lnTo>
                    <a:lnTo>
                      <a:pt x="79" y="73"/>
                    </a:lnTo>
                    <a:lnTo>
                      <a:pt x="50" y="0"/>
                    </a:lnTo>
                    <a:lnTo>
                      <a:pt x="134" y="106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3567600" y="4538520"/>
                <a:ext cx="149760" cy="838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67600" y="4538880"/>
                <a:ext cx="1080" cy="25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03520" y="457272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32" h="110">
                    <a:moveTo>
                      <a:pt x="132" y="110"/>
                    </a:moveTo>
                    <a:lnTo>
                      <a:pt x="0" y="77"/>
                    </a:lnTo>
                    <a:lnTo>
                      <a:pt x="79" y="75"/>
                    </a:lnTo>
                    <a:lnTo>
                      <a:pt x="53" y="0"/>
                    </a:lnTo>
                    <a:lnTo>
                      <a:pt x="132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3520" y="457272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32" h="110">
                    <a:moveTo>
                      <a:pt x="132" y="110"/>
                    </a:moveTo>
                    <a:lnTo>
                      <a:pt x="0" y="77"/>
                    </a:lnTo>
                    <a:lnTo>
                      <a:pt x="79" y="75"/>
                    </a:lnTo>
                    <a:lnTo>
                      <a:pt x="53" y="0"/>
                    </a:lnTo>
                    <a:lnTo>
                      <a:pt x="132" y="110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3498120" y="4578840"/>
                <a:ext cx="59040" cy="352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98120" y="4578840"/>
                <a:ext cx="252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958560" y="4149000"/>
                <a:ext cx="54000" cy="3888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0" y="0"/>
                    </a:moveTo>
                    <a:lnTo>
                      <a:pt x="135" y="23"/>
                    </a:lnTo>
                    <a:lnTo>
                      <a:pt x="56" y="32"/>
                    </a:lnTo>
                    <a:lnTo>
                      <a:pt x="87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58560" y="4149000"/>
                <a:ext cx="54000" cy="3888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0" y="0"/>
                    </a:moveTo>
                    <a:lnTo>
                      <a:pt x="135" y="23"/>
                    </a:lnTo>
                    <a:lnTo>
                      <a:pt x="56" y="32"/>
                    </a:lnTo>
                    <a:lnTo>
                      <a:pt x="87" y="10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58560" y="4149000"/>
                <a:ext cx="173520" cy="903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77280" y="423576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0"/>
                    </a:moveTo>
                    <a:lnTo>
                      <a:pt x="134" y="23"/>
                    </a:lnTo>
                    <a:lnTo>
                      <a:pt x="55" y="31"/>
                    </a:lnTo>
                    <a:lnTo>
                      <a:pt x="89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977280" y="423576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0"/>
                    </a:moveTo>
                    <a:lnTo>
                      <a:pt x="134" y="23"/>
                    </a:lnTo>
                    <a:lnTo>
                      <a:pt x="55" y="31"/>
                    </a:lnTo>
                    <a:lnTo>
                      <a:pt x="89" y="10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77280" y="4235760"/>
                <a:ext cx="79200" cy="424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56840" y="427824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81240" y="45802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0"/>
                    </a:moveTo>
                    <a:lnTo>
                      <a:pt x="134" y="24"/>
                    </a:lnTo>
                    <a:lnTo>
                      <a:pt x="56" y="32"/>
                    </a:lnTo>
                    <a:lnTo>
                      <a:pt x="87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81240" y="45802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0"/>
                    </a:moveTo>
                    <a:lnTo>
                      <a:pt x="134" y="24"/>
                    </a:lnTo>
                    <a:lnTo>
                      <a:pt x="56" y="32"/>
                    </a:lnTo>
                    <a:lnTo>
                      <a:pt x="87" y="10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81240" y="4580280"/>
                <a:ext cx="205200" cy="109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86440" y="468972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255120" y="45954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0" y="0"/>
                    </a:moveTo>
                    <a:lnTo>
                      <a:pt x="135" y="22"/>
                    </a:lnTo>
                    <a:lnTo>
                      <a:pt x="55" y="32"/>
                    </a:lnTo>
                    <a:lnTo>
                      <a:pt x="89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255120" y="4595400"/>
                <a:ext cx="54000" cy="3780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0" y="0"/>
                    </a:moveTo>
                    <a:lnTo>
                      <a:pt x="135" y="22"/>
                    </a:lnTo>
                    <a:lnTo>
                      <a:pt x="55" y="32"/>
                    </a:lnTo>
                    <a:lnTo>
                      <a:pt x="89" y="10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255120" y="4595400"/>
                <a:ext cx="103320" cy="529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58440" y="464832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17360" y="434880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136" y="106"/>
                    </a:moveTo>
                    <a:lnTo>
                      <a:pt x="0" y="81"/>
                    </a:lnTo>
                    <a:lnTo>
                      <a:pt x="80" y="72"/>
                    </a:lnTo>
                    <a:lnTo>
                      <a:pt x="48" y="0"/>
                    </a:lnTo>
                    <a:lnTo>
                      <a:pt x="136" y="106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17360" y="4348800"/>
                <a:ext cx="55440" cy="3888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136" y="106"/>
                    </a:moveTo>
                    <a:lnTo>
                      <a:pt x="0" y="81"/>
                    </a:lnTo>
                    <a:lnTo>
                      <a:pt x="80" y="72"/>
                    </a:lnTo>
                    <a:lnTo>
                      <a:pt x="48" y="0"/>
                    </a:lnTo>
                    <a:lnTo>
                      <a:pt x="136" y="106"/>
                    </a:lnTo>
                  </a:path>
                </a:pathLst>
              </a:custGeom>
              <a:noFill/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>
                <a:off x="3690720" y="4345920"/>
                <a:ext cx="81720" cy="4140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91080" y="4346280"/>
                <a:ext cx="1080" cy="10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82960" y="4141440"/>
                <a:ext cx="998280" cy="481320"/>
              </a:xfrm>
              <a:custGeom>
                <a:avLst/>
                <a:gdLst/>
                <a:ahLst/>
                <a:rect l="l" t="t" r="r" b="b"/>
                <a:pathLst>
                  <a:path w="612" h="327">
                    <a:moveTo>
                      <a:pt x="596" y="0"/>
                    </a:moveTo>
                    <a:cubicBezTo>
                      <a:pt x="597" y="6"/>
                      <a:pt x="600" y="25"/>
                      <a:pt x="602" y="35"/>
                    </a:cubicBezTo>
                    <a:cubicBezTo>
                      <a:pt x="604" y="45"/>
                      <a:pt x="606" y="39"/>
                      <a:pt x="608" y="62"/>
                    </a:cubicBezTo>
                    <a:cubicBezTo>
                      <a:pt x="610" y="85"/>
                      <a:pt x="612" y="148"/>
                      <a:pt x="612" y="174"/>
                    </a:cubicBezTo>
                    <a:cubicBezTo>
                      <a:pt x="612" y="200"/>
                      <a:pt x="608" y="204"/>
                      <a:pt x="606" y="218"/>
                    </a:cubicBezTo>
                    <a:cubicBezTo>
                      <a:pt x="604" y="232"/>
                      <a:pt x="603" y="246"/>
                      <a:pt x="599" y="258"/>
                    </a:cubicBezTo>
                    <a:cubicBezTo>
                      <a:pt x="595" y="270"/>
                      <a:pt x="591" y="284"/>
                      <a:pt x="579" y="294"/>
                    </a:cubicBezTo>
                    <a:cubicBezTo>
                      <a:pt x="567" y="304"/>
                      <a:pt x="546" y="312"/>
                      <a:pt x="525" y="317"/>
                    </a:cubicBezTo>
                    <a:cubicBezTo>
                      <a:pt x="504" y="322"/>
                      <a:pt x="478" y="327"/>
                      <a:pt x="450" y="327"/>
                    </a:cubicBezTo>
                    <a:cubicBezTo>
                      <a:pt x="422" y="327"/>
                      <a:pt x="403" y="324"/>
                      <a:pt x="356" y="320"/>
                    </a:cubicBezTo>
                    <a:cubicBezTo>
                      <a:pt x="309" y="316"/>
                      <a:pt x="217" y="309"/>
                      <a:pt x="168" y="305"/>
                    </a:cubicBezTo>
                    <a:cubicBezTo>
                      <a:pt x="119" y="301"/>
                      <a:pt x="87" y="299"/>
                      <a:pt x="59" y="297"/>
                    </a:cubicBezTo>
                    <a:cubicBezTo>
                      <a:pt x="31" y="295"/>
                      <a:pt x="12" y="294"/>
                      <a:pt x="0" y="293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95320" y="4025880"/>
                <a:ext cx="330120" cy="551880"/>
              </a:xfrm>
              <a:custGeom>
                <a:avLst/>
                <a:gdLst/>
                <a:ahLst/>
                <a:rect l="l" t="t" r="r" b="b"/>
                <a:pathLst>
                  <a:path w="203" h="374">
                    <a:moveTo>
                      <a:pt x="203" y="374"/>
                    </a:moveTo>
                    <a:cubicBezTo>
                      <a:pt x="188" y="353"/>
                      <a:pt x="144" y="310"/>
                      <a:pt x="110" y="248"/>
                    </a:cubicBezTo>
                    <a:cubicBezTo>
                      <a:pt x="76" y="186"/>
                      <a:pt x="23" y="52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519360" y="3425760"/>
              <a:ext cx="172800" cy="660600"/>
              <a:chOff x="3519360" y="3425760"/>
              <a:chExt cx="172800" cy="660600"/>
            </a:xfrm>
          </p:grpSpPr>
          <p:sp>
            <p:nvSpPr>
              <p:cNvPr id="362" name=""/>
              <p:cNvSpPr/>
              <p:nvPr/>
            </p:nvSpPr>
            <p:spPr>
              <a:xfrm>
                <a:off x="3606120" y="3425760"/>
                <a:ext cx="55080" cy="37440"/>
              </a:xfrm>
              <a:custGeom>
                <a:avLst/>
                <a:gdLst/>
                <a:ahLst/>
                <a:rect l="l" t="t" r="r" b="b"/>
                <a:pathLst>
                  <a:path w="134" h="106">
                    <a:moveTo>
                      <a:pt x="0" y="0"/>
                    </a:moveTo>
                    <a:lnTo>
                      <a:pt x="134" y="25"/>
                    </a:lnTo>
                    <a:lnTo>
                      <a:pt x="55" y="33"/>
                    </a:lnTo>
                    <a:lnTo>
                      <a:pt x="88" y="10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06120" y="3425760"/>
                <a:ext cx="55080" cy="37440"/>
              </a:xfrm>
              <a:custGeom>
                <a:avLst/>
                <a:gdLst/>
                <a:ahLst/>
                <a:rect l="l" t="t" r="r" b="b"/>
                <a:pathLst>
                  <a:path w="134" h="106">
                    <a:moveTo>
                      <a:pt x="0" y="0"/>
                    </a:moveTo>
                    <a:lnTo>
                      <a:pt x="134" y="25"/>
                    </a:lnTo>
                    <a:lnTo>
                      <a:pt x="55" y="33"/>
                    </a:lnTo>
                    <a:lnTo>
                      <a:pt x="88" y="10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06120" y="3425760"/>
                <a:ext cx="78480" cy="4140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84600" y="3467160"/>
                <a:ext cx="108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70840" y="3480840"/>
                <a:ext cx="111600" cy="5904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82440" y="3539880"/>
                <a:ext cx="216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548160" y="3548880"/>
                <a:ext cx="138960" cy="7272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87120" y="3621960"/>
                <a:ext cx="108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35560" y="3615480"/>
                <a:ext cx="150120" cy="7920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86040" y="3695040"/>
                <a:ext cx="1080" cy="252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525480" y="3691440"/>
                <a:ext cx="165240" cy="8640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91080" y="3778200"/>
                <a:ext cx="108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36640" y="3771720"/>
                <a:ext cx="145440" cy="7524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82440" y="3846960"/>
                <a:ext cx="216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54280" y="3862080"/>
                <a:ext cx="125280" cy="6660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79920" y="3929040"/>
                <a:ext cx="108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75880" y="3947760"/>
                <a:ext cx="105120" cy="5400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81000" y="4002120"/>
                <a:ext cx="108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09720" y="4046040"/>
                <a:ext cx="53640" cy="38880"/>
              </a:xfrm>
              <a:custGeom>
                <a:avLst/>
                <a:gdLst/>
                <a:ahLst/>
                <a:rect l="l" t="t" r="r" b="b"/>
                <a:pathLst>
                  <a:path w="134" h="106">
                    <a:moveTo>
                      <a:pt x="0" y="0"/>
                    </a:moveTo>
                    <a:lnTo>
                      <a:pt x="134" y="25"/>
                    </a:lnTo>
                    <a:lnTo>
                      <a:pt x="54" y="32"/>
                    </a:lnTo>
                    <a:lnTo>
                      <a:pt x="88" y="10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09720" y="4046040"/>
                <a:ext cx="72720" cy="388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82440" y="4085280"/>
                <a:ext cx="2160" cy="1080"/>
              </a:xfrm>
              <a:prstGeom prst="line">
                <a:avLst/>
              </a:prstGeom>
              <a:ln w="79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519360" y="3428280"/>
                <a:ext cx="85320" cy="607680"/>
              </a:xfrm>
              <a:custGeom>
                <a:avLst/>
                <a:gdLst/>
                <a:ahLst/>
                <a:rect l="l" t="t" r="r" b="b"/>
                <a:pathLst>
                  <a:path w="53" h="412">
                    <a:moveTo>
                      <a:pt x="48" y="412"/>
                    </a:moveTo>
                    <a:cubicBezTo>
                      <a:pt x="45" y="402"/>
                      <a:pt x="38" y="372"/>
                      <a:pt x="33" y="352"/>
                    </a:cubicBezTo>
                    <a:cubicBezTo>
                      <a:pt x="28" y="332"/>
                      <a:pt x="24" y="311"/>
                      <a:pt x="20" y="292"/>
                    </a:cubicBezTo>
                    <a:cubicBezTo>
                      <a:pt x="16" y="273"/>
                      <a:pt x="11" y="257"/>
                      <a:pt x="8" y="237"/>
                    </a:cubicBezTo>
                    <a:cubicBezTo>
                      <a:pt x="5" y="217"/>
                      <a:pt x="0" y="190"/>
                      <a:pt x="0" y="172"/>
                    </a:cubicBezTo>
                    <a:cubicBezTo>
                      <a:pt x="0" y="154"/>
                      <a:pt x="5" y="142"/>
                      <a:pt x="8" y="127"/>
                    </a:cubicBezTo>
                    <a:cubicBezTo>
                      <a:pt x="11" y="112"/>
                      <a:pt x="14" y="99"/>
                      <a:pt x="18" y="84"/>
                    </a:cubicBezTo>
                    <a:cubicBezTo>
                      <a:pt x="22" y="69"/>
                      <a:pt x="26" y="50"/>
                      <a:pt x="32" y="36"/>
                    </a:cubicBezTo>
                    <a:cubicBezTo>
                      <a:pt x="38" y="22"/>
                      <a:pt x="49" y="7"/>
                      <a:pt x="53" y="0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598920" y="3044880"/>
              <a:ext cx="304920" cy="384120"/>
            </a:xfrm>
            <a:custGeom>
              <a:avLst/>
              <a:gdLst/>
              <a:ahLst/>
              <a:rect l="l" t="t" r="r" b="b"/>
              <a:pathLst>
                <a:path w="190" h="260">
                  <a:moveTo>
                    <a:pt x="0" y="260"/>
                  </a:moveTo>
                  <a:cubicBezTo>
                    <a:pt x="18" y="232"/>
                    <a:pt x="76" y="135"/>
                    <a:pt x="108" y="92"/>
                  </a:cubicBezTo>
                  <a:cubicBezTo>
                    <a:pt x="140" y="49"/>
                    <a:pt x="173" y="19"/>
                    <a:pt x="190" y="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13040" y="3139920"/>
              <a:ext cx="55800" cy="3996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136" y="104"/>
                  </a:moveTo>
                  <a:lnTo>
                    <a:pt x="0" y="81"/>
                  </a:lnTo>
                  <a:lnTo>
                    <a:pt x="80" y="73"/>
                  </a:lnTo>
                  <a:lnTo>
                    <a:pt x="47" y="0"/>
                  </a:lnTo>
                  <a:lnTo>
                    <a:pt x="136" y="104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688920" y="3135240"/>
              <a:ext cx="79560" cy="446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43440" y="2603520"/>
              <a:ext cx="55440" cy="3816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0" y="0"/>
                  </a:moveTo>
                  <a:lnTo>
                    <a:pt x="134" y="23"/>
                  </a:lnTo>
                  <a:lnTo>
                    <a:pt x="55" y="32"/>
                  </a:lnTo>
                  <a:lnTo>
                    <a:pt x="88" y="10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43440" y="2603520"/>
              <a:ext cx="55440" cy="3816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0" y="0"/>
                  </a:moveTo>
                  <a:lnTo>
                    <a:pt x="134" y="23"/>
                  </a:lnTo>
                  <a:lnTo>
                    <a:pt x="55" y="32"/>
                  </a:lnTo>
                  <a:lnTo>
                    <a:pt x="88" y="10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43440" y="2603520"/>
              <a:ext cx="172800" cy="9036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6240" y="2693880"/>
              <a:ext cx="1800" cy="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62520" y="2690640"/>
              <a:ext cx="55440" cy="381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0"/>
                  </a:moveTo>
                  <a:lnTo>
                    <a:pt x="135" y="23"/>
                  </a:lnTo>
                  <a:lnTo>
                    <a:pt x="56" y="31"/>
                  </a:lnTo>
                  <a:lnTo>
                    <a:pt x="89" y="10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2690640"/>
              <a:ext cx="55440" cy="381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0"/>
                  </a:moveTo>
                  <a:lnTo>
                    <a:pt x="135" y="23"/>
                  </a:lnTo>
                  <a:lnTo>
                    <a:pt x="56" y="31"/>
                  </a:lnTo>
                  <a:lnTo>
                    <a:pt x="89" y="10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2690640"/>
              <a:ext cx="79200" cy="3996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2730600"/>
              <a:ext cx="3240" cy="288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67200" y="3035160"/>
              <a:ext cx="55440" cy="399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0"/>
                  </a:moveTo>
                  <a:lnTo>
                    <a:pt x="135" y="24"/>
                  </a:lnTo>
                  <a:lnTo>
                    <a:pt x="55" y="32"/>
                  </a:lnTo>
                  <a:lnTo>
                    <a:pt x="88" y="10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67200" y="3035160"/>
              <a:ext cx="55440" cy="399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0" y="0"/>
                  </a:moveTo>
                  <a:lnTo>
                    <a:pt x="135" y="24"/>
                  </a:lnTo>
                  <a:lnTo>
                    <a:pt x="55" y="32"/>
                  </a:lnTo>
                  <a:lnTo>
                    <a:pt x="88" y="10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67200" y="3035160"/>
              <a:ext cx="204480" cy="10800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71680" y="3143160"/>
              <a:ext cx="1800" cy="180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41800" y="3051000"/>
              <a:ext cx="55440" cy="3672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133" y="21"/>
                  </a:lnTo>
                  <a:lnTo>
                    <a:pt x="55" y="32"/>
                  </a:lnTo>
                  <a:lnTo>
                    <a:pt x="88" y="10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1800" y="3051000"/>
              <a:ext cx="55440" cy="3672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133" y="21"/>
                  </a:lnTo>
                  <a:lnTo>
                    <a:pt x="55" y="32"/>
                  </a:lnTo>
                  <a:lnTo>
                    <a:pt x="88" y="10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41800" y="3051000"/>
              <a:ext cx="101520" cy="5076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43320" y="3101760"/>
              <a:ext cx="1440" cy="1800"/>
            </a:xfrm>
            <a:prstGeom prst="line">
              <a:avLst/>
            </a:prstGeom>
            <a:ln w="79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73360" y="1900080"/>
              <a:ext cx="1181160" cy="6159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4080" y="2633760"/>
              <a:ext cx="700200" cy="36648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914480" y="3498840"/>
              <a:ext cx="2253960" cy="1226880"/>
              <a:chOff x="1914480" y="3498840"/>
              <a:chExt cx="2253960" cy="1226880"/>
            </a:xfrm>
          </p:grpSpPr>
          <p:sp>
            <p:nvSpPr>
              <p:cNvPr id="406" name=""/>
              <p:cNvSpPr/>
              <p:nvPr/>
            </p:nvSpPr>
            <p:spPr>
              <a:xfrm>
                <a:off x="3947040" y="4114080"/>
                <a:ext cx="217440" cy="115560"/>
              </a:xfrm>
              <a:prstGeom prst="line">
                <a:avLst/>
              </a:prstGeom>
              <a:ln w="3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914480" y="3498840"/>
                <a:ext cx="2253960" cy="1226880"/>
                <a:chOff x="1914480" y="3498840"/>
                <a:chExt cx="2253960" cy="1226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914480" y="4023720"/>
                  <a:ext cx="1342440" cy="702000"/>
                </a:xfrm>
                <a:custGeom>
                  <a:avLst/>
                  <a:gdLst/>
                  <a:ahLst/>
                  <a:rect l="l" t="t" r="r" b="b"/>
                  <a:pathLst>
                    <a:path w="824" h="476">
                      <a:moveTo>
                        <a:pt x="0" y="0"/>
                      </a:moveTo>
                      <a:lnTo>
                        <a:pt x="824" y="476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2767680" y="3498840"/>
                  <a:ext cx="759240" cy="397440"/>
                </a:xfrm>
                <a:prstGeom prst="line">
                  <a:avLst/>
                </a:prstGeom>
                <a:ln w="32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725280" y="4008600"/>
                  <a:ext cx="234360" cy="113040"/>
                </a:xfrm>
                <a:prstGeom prst="line">
                  <a:avLst/>
                </a:prstGeom>
                <a:ln w="32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259440" y="4233960"/>
                  <a:ext cx="909000" cy="489600"/>
                </a:xfrm>
                <a:custGeom>
                  <a:avLst/>
                  <a:gdLst/>
                  <a:ahLst/>
                  <a:rect l="l" t="t" r="r" b="b"/>
                  <a:pathLst>
                    <a:path w="558" h="331">
                      <a:moveTo>
                        <a:pt x="0" y="331"/>
                      </a:moveTo>
                      <a:lnTo>
                        <a:pt x="558" y="0"/>
                      </a:lnTo>
                    </a:path>
                  </a:pathLst>
                </a:custGeom>
                <a:noFill/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>
              <a:off x="3687840" y="2925720"/>
              <a:ext cx="1440" cy="1562040"/>
            </a:xfrm>
            <a:custGeom>
              <a:avLst/>
              <a:gdLst/>
              <a:ahLst/>
              <a:rect l="l" t="t" r="r" b="b"/>
              <a:pathLst>
                <a:path w="1" h="1059">
                  <a:moveTo>
                    <a:pt x="1" y="105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06400" y="1893960"/>
              <a:ext cx="7848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97120" y="1893960"/>
              <a:ext cx="7848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8080" y="1906560"/>
              <a:ext cx="759600" cy="38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0,3 </a:t>
              </a:r>
              <a:r>
                <a:rPr b="0" i="1" lang="en-US" sz="22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i="1" lang="en-US" sz="22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73720" y="2143080"/>
              <a:ext cx="158580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3300"/>
                  </a:solidFill>
                  <a:latin typeface="Arial"/>
                </a:rPr>
                <a:t>compression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070520" y="2115720"/>
              <a:ext cx="361800" cy="5000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87200" y="3025800"/>
              <a:ext cx="90288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cc00"/>
                  </a:solidFill>
                  <a:latin typeface="Arial"/>
                </a:rPr>
                <a:t>tension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6280" y="2975040"/>
              <a:ext cx="5144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32440" y="3759120"/>
              <a:ext cx="2880" cy="324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1720" y="4357800"/>
              <a:ext cx="3240" cy="288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87240" y="3833640"/>
              <a:ext cx="158580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3300"/>
                  </a:solidFill>
                  <a:latin typeface="Arial"/>
                </a:rPr>
                <a:t>compression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2280" y="3519360"/>
              <a:ext cx="558720" cy="1587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09960" y="3029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09960" y="3029040"/>
              <a:ext cx="3240" cy="28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54520" y="2990880"/>
              <a:ext cx="54000" cy="3816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136" y="105"/>
                  </a:moveTo>
                  <a:lnTo>
                    <a:pt x="0" y="81"/>
                  </a:lnTo>
                  <a:lnTo>
                    <a:pt x="80" y="72"/>
                  </a:lnTo>
                  <a:lnTo>
                    <a:pt x="48" y="0"/>
                  </a:lnTo>
                  <a:lnTo>
                    <a:pt x="136" y="105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54520" y="2990880"/>
              <a:ext cx="54000" cy="3816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136" y="105"/>
                  </a:moveTo>
                  <a:lnTo>
                    <a:pt x="0" y="81"/>
                  </a:lnTo>
                  <a:lnTo>
                    <a:pt x="80" y="72"/>
                  </a:lnTo>
                  <a:lnTo>
                    <a:pt x="48" y="0"/>
                  </a:lnTo>
                  <a:lnTo>
                    <a:pt x="136" y="105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693960" y="2917440"/>
              <a:ext cx="214560" cy="1112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93960" y="2917800"/>
              <a:ext cx="1800" cy="32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08520" y="2808360"/>
              <a:ext cx="55440" cy="3816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134" y="105"/>
                  </a:moveTo>
                  <a:lnTo>
                    <a:pt x="0" y="82"/>
                  </a:lnTo>
                  <a:lnTo>
                    <a:pt x="79" y="72"/>
                  </a:lnTo>
                  <a:lnTo>
                    <a:pt x="45" y="0"/>
                  </a:lnTo>
                  <a:lnTo>
                    <a:pt x="134" y="105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08520" y="2808360"/>
              <a:ext cx="55440" cy="3816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134" y="105"/>
                  </a:moveTo>
                  <a:lnTo>
                    <a:pt x="0" y="82"/>
                  </a:lnTo>
                  <a:lnTo>
                    <a:pt x="79" y="72"/>
                  </a:lnTo>
                  <a:lnTo>
                    <a:pt x="45" y="0"/>
                  </a:lnTo>
                  <a:lnTo>
                    <a:pt x="134" y="105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3895560" y="2811240"/>
              <a:ext cx="68400" cy="3492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95560" y="2811600"/>
              <a:ext cx="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8800" y="2874960"/>
              <a:ext cx="55800" cy="3816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134" y="105"/>
                  </a:moveTo>
                  <a:lnTo>
                    <a:pt x="0" y="79"/>
                  </a:lnTo>
                  <a:lnTo>
                    <a:pt x="80" y="72"/>
                  </a:lnTo>
                  <a:lnTo>
                    <a:pt x="49" y="0"/>
                  </a:lnTo>
                  <a:lnTo>
                    <a:pt x="134" y="105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98800" y="2874960"/>
              <a:ext cx="55800" cy="3816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134" y="105"/>
                  </a:moveTo>
                  <a:lnTo>
                    <a:pt x="0" y="79"/>
                  </a:lnTo>
                  <a:lnTo>
                    <a:pt x="80" y="72"/>
                  </a:lnTo>
                  <a:lnTo>
                    <a:pt x="49" y="0"/>
                  </a:lnTo>
                  <a:lnTo>
                    <a:pt x="134" y="105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3832200" y="2846160"/>
              <a:ext cx="122400" cy="666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2200" y="2846520"/>
              <a:ext cx="32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82960" y="2936880"/>
              <a:ext cx="55800" cy="381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135" y="104"/>
                  </a:moveTo>
                  <a:lnTo>
                    <a:pt x="0" y="80"/>
                  </a:lnTo>
                  <a:lnTo>
                    <a:pt x="79" y="72"/>
                  </a:lnTo>
                  <a:lnTo>
                    <a:pt x="47" y="0"/>
                  </a:lnTo>
                  <a:lnTo>
                    <a:pt x="135" y="10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82960" y="2936880"/>
              <a:ext cx="55800" cy="3816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135" y="104"/>
                  </a:moveTo>
                  <a:lnTo>
                    <a:pt x="0" y="80"/>
                  </a:lnTo>
                  <a:lnTo>
                    <a:pt x="79" y="72"/>
                  </a:lnTo>
                  <a:lnTo>
                    <a:pt x="47" y="0"/>
                  </a:lnTo>
                  <a:lnTo>
                    <a:pt x="135" y="104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3762360" y="2881440"/>
              <a:ext cx="176400" cy="936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62360" y="2881440"/>
              <a:ext cx="1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8840" y="3024000"/>
              <a:ext cx="54000" cy="3816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134" y="107"/>
                  </a:moveTo>
                  <a:lnTo>
                    <a:pt x="0" y="80"/>
                  </a:lnTo>
                  <a:lnTo>
                    <a:pt x="79" y="73"/>
                  </a:lnTo>
                  <a:lnTo>
                    <a:pt x="48" y="0"/>
                  </a:lnTo>
                  <a:lnTo>
                    <a:pt x="134" y="10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68840" y="3024000"/>
              <a:ext cx="54000" cy="38160"/>
            </a:xfrm>
            <a:custGeom>
              <a:avLst/>
              <a:gdLst/>
              <a:ahLst/>
              <a:rect l="l" t="t" r="r" b="b"/>
              <a:pathLst>
                <a:path w="134" h="107">
                  <a:moveTo>
                    <a:pt x="134" y="107"/>
                  </a:moveTo>
                  <a:lnTo>
                    <a:pt x="0" y="80"/>
                  </a:lnTo>
                  <a:lnTo>
                    <a:pt x="79" y="73"/>
                  </a:lnTo>
                  <a:lnTo>
                    <a:pt x="48" y="0"/>
                  </a:lnTo>
                  <a:lnTo>
                    <a:pt x="134" y="107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3630600" y="2957040"/>
              <a:ext cx="192240" cy="10476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0600" y="2957400"/>
              <a:ext cx="1440" cy="18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49680" y="3038400"/>
              <a:ext cx="54000" cy="39600"/>
            </a:xfrm>
            <a:custGeom>
              <a:avLst/>
              <a:gdLst/>
              <a:ahLst/>
              <a:rect l="l" t="t" r="r" b="b"/>
              <a:pathLst>
                <a:path w="134" h="106">
                  <a:moveTo>
                    <a:pt x="134" y="106"/>
                  </a:moveTo>
                  <a:lnTo>
                    <a:pt x="0" y="79"/>
                  </a:lnTo>
                  <a:lnTo>
                    <a:pt x="79" y="73"/>
                  </a:lnTo>
                  <a:lnTo>
                    <a:pt x="49" y="0"/>
                  </a:lnTo>
                  <a:lnTo>
                    <a:pt x="134" y="10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9680" y="3038400"/>
              <a:ext cx="54000" cy="39600"/>
            </a:xfrm>
            <a:custGeom>
              <a:avLst/>
              <a:gdLst/>
              <a:ahLst/>
              <a:rect l="l" t="t" r="r" b="b"/>
              <a:pathLst>
                <a:path w="134" h="106">
                  <a:moveTo>
                    <a:pt x="134" y="106"/>
                  </a:moveTo>
                  <a:lnTo>
                    <a:pt x="0" y="79"/>
                  </a:lnTo>
                  <a:lnTo>
                    <a:pt x="79" y="73"/>
                  </a:lnTo>
                  <a:lnTo>
                    <a:pt x="49" y="0"/>
                  </a:lnTo>
                  <a:lnTo>
                    <a:pt x="134" y="106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553920" y="2993760"/>
              <a:ext cx="149400" cy="8388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54280" y="2994120"/>
              <a:ext cx="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90920" y="3027240"/>
              <a:ext cx="50760" cy="41400"/>
            </a:xfrm>
            <a:custGeom>
              <a:avLst/>
              <a:gdLst/>
              <a:ahLst/>
              <a:rect l="l" t="t" r="r" b="b"/>
              <a:pathLst>
                <a:path w="132" h="110">
                  <a:moveTo>
                    <a:pt x="132" y="110"/>
                  </a:moveTo>
                  <a:lnTo>
                    <a:pt x="0" y="76"/>
                  </a:lnTo>
                  <a:lnTo>
                    <a:pt x="80" y="74"/>
                  </a:lnTo>
                  <a:lnTo>
                    <a:pt x="53" y="0"/>
                  </a:lnTo>
                  <a:lnTo>
                    <a:pt x="132" y="11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90920" y="3027240"/>
              <a:ext cx="50760" cy="41400"/>
            </a:xfrm>
            <a:custGeom>
              <a:avLst/>
              <a:gdLst/>
              <a:ahLst/>
              <a:rect l="l" t="t" r="r" b="b"/>
              <a:pathLst>
                <a:path w="132" h="110">
                  <a:moveTo>
                    <a:pt x="132" y="110"/>
                  </a:moveTo>
                  <a:lnTo>
                    <a:pt x="0" y="76"/>
                  </a:lnTo>
                  <a:lnTo>
                    <a:pt x="80" y="74"/>
                  </a:lnTo>
                  <a:lnTo>
                    <a:pt x="53" y="0"/>
                  </a:lnTo>
                  <a:lnTo>
                    <a:pt x="132" y="110"/>
                  </a:lnTo>
                </a:path>
              </a:pathLst>
            </a:custGeom>
            <a:solidFill>
              <a:srgbClr val="99cc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486240" y="3031920"/>
              <a:ext cx="55440" cy="3672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6240" y="3031920"/>
              <a:ext cx="1440" cy="18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24280" y="2557440"/>
              <a:ext cx="1039680" cy="522360"/>
            </a:xfrm>
            <a:custGeom>
              <a:avLst/>
              <a:gdLst/>
              <a:ahLst/>
              <a:rect l="l" t="t" r="r" b="b"/>
              <a:pathLst>
                <a:path w="638" h="354">
                  <a:moveTo>
                    <a:pt x="616" y="0"/>
                  </a:moveTo>
                  <a:cubicBezTo>
                    <a:pt x="617" y="5"/>
                    <a:pt x="622" y="15"/>
                    <a:pt x="625" y="30"/>
                  </a:cubicBezTo>
                  <a:cubicBezTo>
                    <a:pt x="628" y="45"/>
                    <a:pt x="634" y="62"/>
                    <a:pt x="636" y="89"/>
                  </a:cubicBezTo>
                  <a:cubicBezTo>
                    <a:pt x="638" y="116"/>
                    <a:pt x="636" y="169"/>
                    <a:pt x="636" y="194"/>
                  </a:cubicBezTo>
                  <a:cubicBezTo>
                    <a:pt x="636" y="219"/>
                    <a:pt x="638" y="224"/>
                    <a:pt x="636" y="240"/>
                  </a:cubicBezTo>
                  <a:cubicBezTo>
                    <a:pt x="634" y="256"/>
                    <a:pt x="629" y="274"/>
                    <a:pt x="624" y="287"/>
                  </a:cubicBezTo>
                  <a:cubicBezTo>
                    <a:pt x="619" y="300"/>
                    <a:pt x="618" y="309"/>
                    <a:pt x="606" y="318"/>
                  </a:cubicBezTo>
                  <a:cubicBezTo>
                    <a:pt x="594" y="327"/>
                    <a:pt x="574" y="338"/>
                    <a:pt x="553" y="344"/>
                  </a:cubicBezTo>
                  <a:cubicBezTo>
                    <a:pt x="532" y="350"/>
                    <a:pt x="505" y="352"/>
                    <a:pt x="478" y="353"/>
                  </a:cubicBezTo>
                  <a:cubicBezTo>
                    <a:pt x="451" y="354"/>
                    <a:pt x="435" y="353"/>
                    <a:pt x="388" y="350"/>
                  </a:cubicBezTo>
                  <a:cubicBezTo>
                    <a:pt x="341" y="347"/>
                    <a:pt x="250" y="340"/>
                    <a:pt x="198" y="335"/>
                  </a:cubicBezTo>
                  <a:cubicBezTo>
                    <a:pt x="146" y="330"/>
                    <a:pt x="111" y="326"/>
                    <a:pt x="78" y="321"/>
                  </a:cubicBezTo>
                  <a:cubicBezTo>
                    <a:pt x="45" y="316"/>
                    <a:pt x="16" y="307"/>
                    <a:pt x="0" y="303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73480" y="2698560"/>
              <a:ext cx="849240" cy="451080"/>
            </a:xfrm>
            <a:custGeom>
              <a:avLst/>
              <a:gdLst/>
              <a:ahLst/>
              <a:rect l="l" t="t" r="r" b="b"/>
              <a:pathLst>
                <a:path w="521" h="306">
                  <a:moveTo>
                    <a:pt x="0" y="306"/>
                  </a:move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61280" y="2798640"/>
              <a:ext cx="759600" cy="38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0,2 </a:t>
              </a:r>
              <a:r>
                <a:rPr b="0" i="1" lang="en-US" sz="22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i="1" lang="en-US" sz="22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23240" y="3557520"/>
              <a:ext cx="759600" cy="38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0,2 </a:t>
              </a:r>
              <a:r>
                <a:rPr b="0" i="1" lang="en-US" sz="22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i="1" lang="en-US" sz="22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26D7-5754-46F8-BFDB-2318D7B78C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sidual stress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ed with axial stresses cause early yielding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lexural stiffness reduc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00000" y="2841480"/>
            <a:ext cx="7359840" cy="3302280"/>
            <a:chOff x="900000" y="2841480"/>
            <a:chExt cx="7359840" cy="3302280"/>
          </a:xfrm>
        </p:grpSpPr>
        <p:sp>
          <p:nvSpPr>
            <p:cNvPr id="461" name=""/>
            <p:cNvSpPr/>
            <p:nvPr/>
          </p:nvSpPr>
          <p:spPr>
            <a:xfrm>
              <a:off x="3884760" y="378432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508640" y="2877840"/>
              <a:ext cx="998280" cy="2219400"/>
              <a:chOff x="4508640" y="2877840"/>
              <a:chExt cx="998280" cy="2219400"/>
            </a:xfrm>
          </p:grpSpPr>
          <p:sp>
            <p:nvSpPr>
              <p:cNvPr id="463" name=""/>
              <p:cNvSpPr/>
              <p:nvPr/>
            </p:nvSpPr>
            <p:spPr>
              <a:xfrm>
                <a:off x="5370480" y="2877840"/>
                <a:ext cx="122400" cy="10656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4"/>
                    </a:moveTo>
                    <a:lnTo>
                      <a:pt x="0" y="187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7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514400" y="2931840"/>
                <a:ext cx="978120" cy="1440"/>
              </a:xfrm>
              <a:prstGeom prst="line">
                <a:avLst/>
              </a:prstGeom>
              <a:ln w="3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14760" y="2931840"/>
                <a:ext cx="1800" cy="1440"/>
              </a:xfrm>
              <a:prstGeom prst="line">
                <a:avLst/>
              </a:prstGeom>
              <a:ln w="3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91280" y="314784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257" h="188">
                    <a:moveTo>
                      <a:pt x="257" y="93"/>
                    </a:moveTo>
                    <a:lnTo>
                      <a:pt x="0" y="188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24480" y="3200040"/>
                <a:ext cx="144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13520" y="3406680"/>
                <a:ext cx="120600" cy="106200"/>
              </a:xfrm>
              <a:custGeom>
                <a:avLst/>
                <a:gdLst/>
                <a:ahLst/>
                <a:rect l="l" t="t" r="r" b="b"/>
                <a:pathLst>
                  <a:path w="256" h="186">
                    <a:moveTo>
                      <a:pt x="256" y="93"/>
                    </a:moveTo>
                    <a:lnTo>
                      <a:pt x="0" y="186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6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14760" y="3458880"/>
                <a:ext cx="180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6040" y="3663720"/>
                <a:ext cx="120600" cy="1080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3"/>
                    </a:moveTo>
                    <a:lnTo>
                      <a:pt x="0" y="187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14760" y="3719160"/>
                <a:ext cx="1800" cy="180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60880" y="3933720"/>
                <a:ext cx="122400" cy="1062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2"/>
                    </a:moveTo>
                    <a:lnTo>
                      <a:pt x="0" y="187"/>
                    </a:lnTo>
                    <a:lnTo>
                      <a:pt x="128" y="92"/>
                    </a:lnTo>
                    <a:lnTo>
                      <a:pt x="0" y="0"/>
                    </a:lnTo>
                    <a:lnTo>
                      <a:pt x="257" y="92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14760" y="3987360"/>
                <a:ext cx="1800" cy="180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32520" y="4200120"/>
                <a:ext cx="122040" cy="1098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4"/>
                    </a:moveTo>
                    <a:lnTo>
                      <a:pt x="0" y="187"/>
                    </a:lnTo>
                    <a:lnTo>
                      <a:pt x="128" y="94"/>
                    </a:lnTo>
                    <a:lnTo>
                      <a:pt x="0" y="0"/>
                    </a:lnTo>
                    <a:lnTo>
                      <a:pt x="257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14760" y="4255920"/>
                <a:ext cx="180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03800" y="445104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257" h="186">
                    <a:moveTo>
                      <a:pt x="257" y="93"/>
                    </a:moveTo>
                    <a:lnTo>
                      <a:pt x="0" y="186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14760" y="4503600"/>
                <a:ext cx="1800" cy="288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83360" y="4719240"/>
                <a:ext cx="122040" cy="108000"/>
              </a:xfrm>
              <a:custGeom>
                <a:avLst/>
                <a:gdLst/>
                <a:ahLst/>
                <a:rect l="l" t="t" r="r" b="b"/>
                <a:pathLst>
                  <a:path w="256" h="188">
                    <a:moveTo>
                      <a:pt x="256" y="95"/>
                    </a:moveTo>
                    <a:lnTo>
                      <a:pt x="0" y="188"/>
                    </a:lnTo>
                    <a:lnTo>
                      <a:pt x="129" y="95"/>
                    </a:lnTo>
                    <a:lnTo>
                      <a:pt x="0" y="0"/>
                    </a:lnTo>
                    <a:lnTo>
                      <a:pt x="256" y="95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14760" y="477504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78400" y="498780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3"/>
                    </a:moveTo>
                    <a:lnTo>
                      <a:pt x="0" y="187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14760" y="504324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4514400" y="2877840"/>
                <a:ext cx="987840" cy="2219400"/>
                <a:chOff x="4514400" y="2877840"/>
                <a:chExt cx="987840" cy="22194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370480" y="2877840"/>
                  <a:ext cx="122400" cy="10656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4"/>
                      </a:moveTo>
                      <a:lnTo>
                        <a:pt x="0" y="187"/>
                      </a:lnTo>
                      <a:lnTo>
                        <a:pt x="129" y="94"/>
                      </a:lnTo>
                      <a:lnTo>
                        <a:pt x="0" y="0"/>
                      </a:lnTo>
                      <a:lnTo>
                        <a:pt x="257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291280" y="3147840"/>
                  <a:ext cx="12384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8">
                      <a:moveTo>
                        <a:pt x="257" y="93"/>
                      </a:moveTo>
                      <a:lnTo>
                        <a:pt x="0" y="188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4524480" y="3200040"/>
                  <a:ext cx="890640" cy="32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213520" y="3406680"/>
                  <a:ext cx="120600" cy="10620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256" y="93"/>
                      </a:moveTo>
                      <a:lnTo>
                        <a:pt x="0" y="186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6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4514760" y="3458880"/>
                  <a:ext cx="819360" cy="32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126040" y="3663720"/>
                  <a:ext cx="12060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3"/>
                      </a:moveTo>
                      <a:lnTo>
                        <a:pt x="0" y="187"/>
                      </a:lnTo>
                      <a:lnTo>
                        <a:pt x="129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514400" y="3719160"/>
                  <a:ext cx="731880" cy="180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060880" y="3933720"/>
                  <a:ext cx="122400" cy="1062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2"/>
                      </a:moveTo>
                      <a:lnTo>
                        <a:pt x="0" y="187"/>
                      </a:lnTo>
                      <a:lnTo>
                        <a:pt x="128" y="92"/>
                      </a:lnTo>
                      <a:lnTo>
                        <a:pt x="0" y="0"/>
                      </a:lnTo>
                      <a:lnTo>
                        <a:pt x="257" y="92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4514400" y="3987360"/>
                  <a:ext cx="668520" cy="180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132520" y="4200120"/>
                  <a:ext cx="122040" cy="1098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4"/>
                      </a:moveTo>
                      <a:lnTo>
                        <a:pt x="0" y="187"/>
                      </a:lnTo>
                      <a:lnTo>
                        <a:pt x="128" y="94"/>
                      </a:lnTo>
                      <a:lnTo>
                        <a:pt x="0" y="0"/>
                      </a:lnTo>
                      <a:lnTo>
                        <a:pt x="257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4514400" y="4255920"/>
                  <a:ext cx="739800" cy="32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03800" y="4451040"/>
                  <a:ext cx="12384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6">
                      <a:moveTo>
                        <a:pt x="257" y="93"/>
                      </a:moveTo>
                      <a:lnTo>
                        <a:pt x="0" y="186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514760" y="4503600"/>
                  <a:ext cx="812880" cy="288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283360" y="4719240"/>
                  <a:ext cx="122040" cy="108000"/>
                </a:xfrm>
                <a:custGeom>
                  <a:avLst/>
                  <a:gdLst/>
                  <a:ahLst/>
                  <a:rect l="l" t="t" r="r" b="b"/>
                  <a:pathLst>
                    <a:path w="256" h="188">
                      <a:moveTo>
                        <a:pt x="256" y="95"/>
                      </a:moveTo>
                      <a:lnTo>
                        <a:pt x="0" y="188"/>
                      </a:lnTo>
                      <a:lnTo>
                        <a:pt x="129" y="95"/>
                      </a:lnTo>
                      <a:lnTo>
                        <a:pt x="0" y="0"/>
                      </a:lnTo>
                      <a:lnTo>
                        <a:pt x="256" y="95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4514760" y="4775040"/>
                  <a:ext cx="89064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378400" y="4987800"/>
                  <a:ext cx="123840" cy="10944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3"/>
                      </a:moveTo>
                      <a:lnTo>
                        <a:pt x="0" y="187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4514400" y="5043240"/>
                  <a:ext cx="98748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14760" y="2931840"/>
                  <a:ext cx="97632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4508640" y="2938320"/>
                <a:ext cx="3240" cy="2125440"/>
              </a:xfrm>
              <a:custGeom>
                <a:avLst/>
                <a:gdLst/>
                <a:ahLst/>
                <a:rect l="l" t="t" r="r" b="b"/>
                <a:pathLst>
                  <a:path w="1" h="918">
                    <a:moveTo>
                      <a:pt x="0" y="0"/>
                    </a:moveTo>
                    <a:lnTo>
                      <a:pt x="0" y="91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194440" y="2938320"/>
                <a:ext cx="312480" cy="1049040"/>
              </a:xfrm>
              <a:custGeom>
                <a:avLst/>
                <a:gdLst/>
                <a:ahLst/>
                <a:rect l="l" t="t" r="r" b="b"/>
                <a:pathLst>
                  <a:path w="165" h="453">
                    <a:moveTo>
                      <a:pt x="165" y="0"/>
                    </a:moveTo>
                    <a:lnTo>
                      <a:pt x="0" y="453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87960" y="3973320"/>
                <a:ext cx="290520" cy="1076400"/>
              </a:xfrm>
              <a:custGeom>
                <a:avLst/>
                <a:gdLst/>
                <a:ahLst/>
                <a:rect l="l" t="t" r="r" b="b"/>
                <a:pathLst>
                  <a:path w="153" h="465">
                    <a:moveTo>
                      <a:pt x="0" y="0"/>
                    </a:moveTo>
                    <a:lnTo>
                      <a:pt x="153" y="465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303280" y="3784320"/>
              <a:ext cx="16380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38280" y="2911320"/>
              <a:ext cx="120600" cy="107640"/>
            </a:xfrm>
            <a:custGeom>
              <a:avLst/>
              <a:gdLst/>
              <a:ahLst/>
              <a:rect l="l" t="t" r="r" b="b"/>
              <a:pathLst>
                <a:path w="256" h="186">
                  <a:moveTo>
                    <a:pt x="256" y="93"/>
                  </a:moveTo>
                  <a:lnTo>
                    <a:pt x="0" y="186"/>
                  </a:lnTo>
                  <a:lnTo>
                    <a:pt x="129" y="93"/>
                  </a:lnTo>
                  <a:lnTo>
                    <a:pt x="0" y="0"/>
                  </a:lnTo>
                  <a:lnTo>
                    <a:pt x="256" y="93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12680" y="2963520"/>
              <a:ext cx="1800" cy="32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38280" y="3174840"/>
              <a:ext cx="120600" cy="109440"/>
            </a:xfrm>
            <a:custGeom>
              <a:avLst/>
              <a:gdLst/>
              <a:ahLst/>
              <a:rect l="l" t="t" r="r" b="b"/>
              <a:pathLst>
                <a:path w="256" h="187">
                  <a:moveTo>
                    <a:pt x="256" y="93"/>
                  </a:moveTo>
                  <a:lnTo>
                    <a:pt x="0" y="187"/>
                  </a:lnTo>
                  <a:lnTo>
                    <a:pt x="129" y="93"/>
                  </a:lnTo>
                  <a:lnTo>
                    <a:pt x="0" y="0"/>
                  </a:lnTo>
                  <a:lnTo>
                    <a:pt x="256" y="93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2680" y="3228840"/>
              <a:ext cx="1800" cy="14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38280" y="3438360"/>
              <a:ext cx="120600" cy="109440"/>
            </a:xfrm>
            <a:custGeom>
              <a:avLst/>
              <a:gdLst/>
              <a:ahLst/>
              <a:rect l="l" t="t" r="r" b="b"/>
              <a:pathLst>
                <a:path w="256" h="187">
                  <a:moveTo>
                    <a:pt x="256" y="94"/>
                  </a:moveTo>
                  <a:lnTo>
                    <a:pt x="0" y="187"/>
                  </a:lnTo>
                  <a:lnTo>
                    <a:pt x="129" y="94"/>
                  </a:lnTo>
                  <a:lnTo>
                    <a:pt x="0" y="0"/>
                  </a:lnTo>
                  <a:lnTo>
                    <a:pt x="256" y="9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12680" y="3492360"/>
              <a:ext cx="1800" cy="14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38280" y="3703320"/>
              <a:ext cx="120600" cy="106200"/>
            </a:xfrm>
            <a:custGeom>
              <a:avLst/>
              <a:gdLst/>
              <a:ahLst/>
              <a:rect l="l" t="t" r="r" b="b"/>
              <a:pathLst>
                <a:path w="256" h="188">
                  <a:moveTo>
                    <a:pt x="256" y="94"/>
                  </a:moveTo>
                  <a:lnTo>
                    <a:pt x="0" y="188"/>
                  </a:lnTo>
                  <a:lnTo>
                    <a:pt x="129" y="94"/>
                  </a:lnTo>
                  <a:lnTo>
                    <a:pt x="0" y="0"/>
                  </a:lnTo>
                  <a:lnTo>
                    <a:pt x="256" y="9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12680" y="3755880"/>
              <a:ext cx="1800" cy="288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38280" y="3963600"/>
              <a:ext cx="120600" cy="109440"/>
            </a:xfrm>
            <a:custGeom>
              <a:avLst/>
              <a:gdLst/>
              <a:ahLst/>
              <a:rect l="l" t="t" r="r" b="b"/>
              <a:pathLst>
                <a:path w="256" h="189">
                  <a:moveTo>
                    <a:pt x="256" y="95"/>
                  </a:moveTo>
                  <a:lnTo>
                    <a:pt x="0" y="189"/>
                  </a:lnTo>
                  <a:lnTo>
                    <a:pt x="129" y="95"/>
                  </a:lnTo>
                  <a:lnTo>
                    <a:pt x="0" y="0"/>
                  </a:lnTo>
                  <a:lnTo>
                    <a:pt x="256" y="95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12680" y="4019400"/>
              <a:ext cx="1800" cy="288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38280" y="4228920"/>
              <a:ext cx="120600" cy="108000"/>
            </a:xfrm>
            <a:custGeom>
              <a:avLst/>
              <a:gdLst/>
              <a:ahLst/>
              <a:rect l="l" t="t" r="r" b="b"/>
              <a:pathLst>
                <a:path w="256" h="187">
                  <a:moveTo>
                    <a:pt x="256" y="93"/>
                  </a:moveTo>
                  <a:lnTo>
                    <a:pt x="0" y="187"/>
                  </a:lnTo>
                  <a:lnTo>
                    <a:pt x="129" y="93"/>
                  </a:lnTo>
                  <a:lnTo>
                    <a:pt x="0" y="0"/>
                  </a:lnTo>
                  <a:lnTo>
                    <a:pt x="256" y="93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12680" y="4284360"/>
              <a:ext cx="1800" cy="14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38280" y="4492440"/>
              <a:ext cx="120600" cy="108000"/>
            </a:xfrm>
            <a:custGeom>
              <a:avLst/>
              <a:gdLst/>
              <a:ahLst/>
              <a:rect l="l" t="t" r="r" b="b"/>
              <a:pathLst>
                <a:path w="256" h="186">
                  <a:moveTo>
                    <a:pt x="256" y="92"/>
                  </a:moveTo>
                  <a:lnTo>
                    <a:pt x="0" y="186"/>
                  </a:lnTo>
                  <a:lnTo>
                    <a:pt x="129" y="92"/>
                  </a:lnTo>
                  <a:lnTo>
                    <a:pt x="0" y="0"/>
                  </a:lnTo>
                  <a:lnTo>
                    <a:pt x="256" y="92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12680" y="4544640"/>
              <a:ext cx="1800" cy="32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8280" y="4755960"/>
              <a:ext cx="120600" cy="109440"/>
            </a:xfrm>
            <a:custGeom>
              <a:avLst/>
              <a:gdLst/>
              <a:ahLst/>
              <a:rect l="l" t="t" r="r" b="b"/>
              <a:pathLst>
                <a:path w="256" h="186">
                  <a:moveTo>
                    <a:pt x="256" y="93"/>
                  </a:moveTo>
                  <a:lnTo>
                    <a:pt x="0" y="186"/>
                  </a:lnTo>
                  <a:lnTo>
                    <a:pt x="129" y="93"/>
                  </a:lnTo>
                  <a:lnTo>
                    <a:pt x="0" y="0"/>
                  </a:lnTo>
                  <a:lnTo>
                    <a:pt x="256" y="93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2680" y="4811400"/>
              <a:ext cx="1800" cy="32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38280" y="5019480"/>
              <a:ext cx="120600" cy="109440"/>
            </a:xfrm>
            <a:custGeom>
              <a:avLst/>
              <a:gdLst/>
              <a:ahLst/>
              <a:rect l="l" t="t" r="r" b="b"/>
              <a:pathLst>
                <a:path w="256" h="186">
                  <a:moveTo>
                    <a:pt x="256" y="94"/>
                  </a:moveTo>
                  <a:lnTo>
                    <a:pt x="0" y="186"/>
                  </a:lnTo>
                  <a:lnTo>
                    <a:pt x="129" y="94"/>
                  </a:lnTo>
                  <a:lnTo>
                    <a:pt x="0" y="0"/>
                  </a:lnTo>
                  <a:lnTo>
                    <a:pt x="256" y="9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012680" y="2911320"/>
              <a:ext cx="645840" cy="2217600"/>
              <a:chOff x="1012680" y="2911320"/>
              <a:chExt cx="645840" cy="2217600"/>
            </a:xfrm>
          </p:grpSpPr>
          <p:sp>
            <p:nvSpPr>
              <p:cNvPr id="523" name=""/>
              <p:cNvSpPr/>
              <p:nvPr/>
            </p:nvSpPr>
            <p:spPr>
              <a:xfrm flipH="1">
                <a:off x="1012680" y="2962080"/>
                <a:ext cx="645840" cy="1440"/>
              </a:xfrm>
              <a:prstGeom prst="line">
                <a:avLst/>
              </a:prstGeom>
              <a:ln w="3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37920" y="2911320"/>
                <a:ext cx="120600" cy="108000"/>
              </a:xfrm>
              <a:custGeom>
                <a:avLst/>
                <a:gdLst/>
                <a:ahLst/>
                <a:rect l="l" t="t" r="r" b="b"/>
                <a:pathLst>
                  <a:path w="256" h="186">
                    <a:moveTo>
                      <a:pt x="256" y="93"/>
                    </a:moveTo>
                    <a:lnTo>
                      <a:pt x="0" y="186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6" y="93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537920" y="317484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256" h="187">
                    <a:moveTo>
                      <a:pt x="256" y="93"/>
                    </a:moveTo>
                    <a:lnTo>
                      <a:pt x="0" y="187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6" y="93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012680" y="3228840"/>
                <a:ext cx="64584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537920" y="343836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256" h="187">
                    <a:moveTo>
                      <a:pt x="256" y="94"/>
                    </a:moveTo>
                    <a:lnTo>
                      <a:pt x="0" y="187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6" y="94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012680" y="3492360"/>
                <a:ext cx="64584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37920" y="3703320"/>
                <a:ext cx="120600" cy="106560"/>
              </a:xfrm>
              <a:custGeom>
                <a:avLst/>
                <a:gdLst/>
                <a:ahLst/>
                <a:rect l="l" t="t" r="r" b="b"/>
                <a:pathLst>
                  <a:path w="256" h="188">
                    <a:moveTo>
                      <a:pt x="256" y="94"/>
                    </a:moveTo>
                    <a:lnTo>
                      <a:pt x="0" y="188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6" y="94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012680" y="3755880"/>
                <a:ext cx="645840" cy="288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37920" y="3963600"/>
                <a:ext cx="120600" cy="109800"/>
              </a:xfrm>
              <a:custGeom>
                <a:avLst/>
                <a:gdLst/>
                <a:ahLst/>
                <a:rect l="l" t="t" r="r" b="b"/>
                <a:pathLst>
                  <a:path w="256" h="189">
                    <a:moveTo>
                      <a:pt x="256" y="95"/>
                    </a:moveTo>
                    <a:lnTo>
                      <a:pt x="0" y="189"/>
                    </a:lnTo>
                    <a:lnTo>
                      <a:pt x="129" y="95"/>
                    </a:lnTo>
                    <a:lnTo>
                      <a:pt x="0" y="0"/>
                    </a:lnTo>
                    <a:lnTo>
                      <a:pt x="256" y="95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012680" y="4019400"/>
                <a:ext cx="64584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37920" y="4228920"/>
                <a:ext cx="120600" cy="108000"/>
              </a:xfrm>
              <a:custGeom>
                <a:avLst/>
                <a:gdLst/>
                <a:ahLst/>
                <a:rect l="l" t="t" r="r" b="b"/>
                <a:pathLst>
                  <a:path w="256" h="187">
                    <a:moveTo>
                      <a:pt x="256" y="93"/>
                    </a:moveTo>
                    <a:lnTo>
                      <a:pt x="0" y="187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6" y="93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1012680" y="4284360"/>
                <a:ext cx="645840" cy="180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537920" y="4492440"/>
                <a:ext cx="120600" cy="108000"/>
              </a:xfrm>
              <a:custGeom>
                <a:avLst/>
                <a:gdLst/>
                <a:ahLst/>
                <a:rect l="l" t="t" r="r" b="b"/>
                <a:pathLst>
                  <a:path w="256" h="186">
                    <a:moveTo>
                      <a:pt x="256" y="92"/>
                    </a:moveTo>
                    <a:lnTo>
                      <a:pt x="0" y="186"/>
                    </a:lnTo>
                    <a:lnTo>
                      <a:pt x="129" y="92"/>
                    </a:lnTo>
                    <a:lnTo>
                      <a:pt x="0" y="0"/>
                    </a:lnTo>
                    <a:lnTo>
                      <a:pt x="256" y="92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1018440" y="4541040"/>
                <a:ext cx="63972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37920" y="475596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256" h="186">
                    <a:moveTo>
                      <a:pt x="256" y="93"/>
                    </a:moveTo>
                    <a:lnTo>
                      <a:pt x="0" y="186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6" y="93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1012680" y="4807800"/>
                <a:ext cx="64584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537920" y="501948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256" h="186">
                    <a:moveTo>
                      <a:pt x="256" y="94"/>
                    </a:moveTo>
                    <a:lnTo>
                      <a:pt x="0" y="186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6" y="94"/>
                    </a:lnTo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012680" y="5074920"/>
                <a:ext cx="64584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1012680" y="5074920"/>
              <a:ext cx="1800" cy="324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009800" y="2955600"/>
              <a:ext cx="0" cy="2130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662120" y="2980800"/>
              <a:ext cx="0" cy="211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757600" y="2873160"/>
              <a:ext cx="672840" cy="2224080"/>
              <a:chOff x="2757600" y="2873160"/>
              <a:chExt cx="672840" cy="2224080"/>
            </a:xfrm>
          </p:grpSpPr>
          <p:sp>
            <p:nvSpPr>
              <p:cNvPr id="545" name=""/>
              <p:cNvSpPr/>
              <p:nvPr/>
            </p:nvSpPr>
            <p:spPr>
              <a:xfrm flipH="1">
                <a:off x="3097080" y="2927160"/>
                <a:ext cx="324720" cy="1440"/>
              </a:xfrm>
              <a:prstGeom prst="line">
                <a:avLst/>
              </a:prstGeom>
              <a:ln w="3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097080" y="5043240"/>
                <a:ext cx="324720" cy="1440"/>
              </a:xfrm>
              <a:prstGeom prst="line">
                <a:avLst/>
              </a:prstGeom>
              <a:ln w="3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300120" y="2873160"/>
                <a:ext cx="121680" cy="108000"/>
              </a:xfrm>
              <a:custGeom>
                <a:avLst/>
                <a:gdLst/>
                <a:ahLst/>
                <a:rect l="l" t="t" r="r" b="b"/>
                <a:pathLst>
                  <a:path w="257" h="188">
                    <a:moveTo>
                      <a:pt x="257" y="93"/>
                    </a:moveTo>
                    <a:lnTo>
                      <a:pt x="0" y="188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093840" y="2927160"/>
                <a:ext cx="1080" cy="14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30200" y="3147840"/>
                <a:ext cx="120240" cy="1080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2"/>
                    </a:moveTo>
                    <a:lnTo>
                      <a:pt x="0" y="187"/>
                    </a:lnTo>
                    <a:lnTo>
                      <a:pt x="129" y="92"/>
                    </a:lnTo>
                    <a:lnTo>
                      <a:pt x="0" y="0"/>
                    </a:lnTo>
                    <a:lnTo>
                      <a:pt x="257" y="92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3840" y="3200040"/>
                <a:ext cx="1080" cy="32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30200" y="4714560"/>
                <a:ext cx="120240" cy="108000"/>
              </a:xfrm>
              <a:custGeom>
                <a:avLst/>
                <a:gdLst/>
                <a:ahLst/>
                <a:rect l="l" t="t" r="r" b="b"/>
                <a:pathLst>
                  <a:path w="257" h="186">
                    <a:moveTo>
                      <a:pt x="257" y="93"/>
                    </a:moveTo>
                    <a:lnTo>
                      <a:pt x="0" y="186"/>
                    </a:lnTo>
                    <a:lnTo>
                      <a:pt x="129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93840" y="4770000"/>
                <a:ext cx="10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00120" y="4989240"/>
                <a:ext cx="121680" cy="1080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3"/>
                    </a:moveTo>
                    <a:lnTo>
                      <a:pt x="0" y="187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93840" y="5043240"/>
                <a:ext cx="1080" cy="14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49400" y="3809880"/>
                <a:ext cx="123480" cy="1062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0" y="95"/>
                    </a:moveTo>
                    <a:lnTo>
                      <a:pt x="257" y="0"/>
                    </a:lnTo>
                    <a:lnTo>
                      <a:pt x="129" y="95"/>
                    </a:lnTo>
                    <a:lnTo>
                      <a:pt x="257" y="18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93840" y="3862080"/>
                <a:ext cx="1080" cy="324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57320" y="4068360"/>
                <a:ext cx="121680" cy="106560"/>
              </a:xfrm>
              <a:custGeom>
                <a:avLst/>
                <a:gdLst/>
                <a:ahLst/>
                <a:rect l="l" t="t" r="r" b="b"/>
                <a:pathLst>
                  <a:path w="256" h="188">
                    <a:moveTo>
                      <a:pt x="0" y="94"/>
                    </a:moveTo>
                    <a:lnTo>
                      <a:pt x="256" y="0"/>
                    </a:lnTo>
                    <a:lnTo>
                      <a:pt x="128" y="94"/>
                    </a:lnTo>
                    <a:lnTo>
                      <a:pt x="256" y="18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2849400" y="2873160"/>
                <a:ext cx="572040" cy="2224080"/>
                <a:chOff x="2849400" y="2873160"/>
                <a:chExt cx="572040" cy="222408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299760" y="2873160"/>
                  <a:ext cx="12168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8">
                      <a:moveTo>
                        <a:pt x="257" y="93"/>
                      </a:moveTo>
                      <a:lnTo>
                        <a:pt x="0" y="188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3093120" y="2927160"/>
                  <a:ext cx="327960" cy="144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9840" y="3147840"/>
                  <a:ext cx="12024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2"/>
                      </a:moveTo>
                      <a:lnTo>
                        <a:pt x="0" y="187"/>
                      </a:lnTo>
                      <a:lnTo>
                        <a:pt x="129" y="92"/>
                      </a:lnTo>
                      <a:lnTo>
                        <a:pt x="0" y="0"/>
                      </a:lnTo>
                      <a:lnTo>
                        <a:pt x="257" y="92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093120" y="3200040"/>
                  <a:ext cx="156600" cy="324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29840" y="4714560"/>
                  <a:ext cx="12024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6">
                      <a:moveTo>
                        <a:pt x="257" y="93"/>
                      </a:moveTo>
                      <a:lnTo>
                        <a:pt x="0" y="186"/>
                      </a:lnTo>
                      <a:lnTo>
                        <a:pt x="129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3093120" y="4770000"/>
                  <a:ext cx="156600" cy="180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99760" y="4989240"/>
                  <a:ext cx="121680" cy="1080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3"/>
                      </a:moveTo>
                      <a:lnTo>
                        <a:pt x="0" y="187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093120" y="5043240"/>
                  <a:ext cx="327960" cy="144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849400" y="3809880"/>
                  <a:ext cx="123480" cy="1062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0" y="95"/>
                      </a:moveTo>
                      <a:lnTo>
                        <a:pt x="257" y="0"/>
                      </a:lnTo>
                      <a:lnTo>
                        <a:pt x="129" y="95"/>
                      </a:lnTo>
                      <a:lnTo>
                        <a:pt x="257" y="187"/>
                      </a:lnTo>
                      <a:lnTo>
                        <a:pt x="0" y="95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849400" y="3862080"/>
                  <a:ext cx="244080" cy="324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856960" y="4068360"/>
                  <a:ext cx="121680" cy="106560"/>
                </a:xfrm>
                <a:custGeom>
                  <a:avLst/>
                  <a:gdLst/>
                  <a:ahLst/>
                  <a:rect l="l" t="t" r="r" b="b"/>
                  <a:pathLst>
                    <a:path w="256" h="188">
                      <a:moveTo>
                        <a:pt x="0" y="94"/>
                      </a:moveTo>
                      <a:lnTo>
                        <a:pt x="256" y="0"/>
                      </a:lnTo>
                      <a:lnTo>
                        <a:pt x="128" y="94"/>
                      </a:lnTo>
                      <a:lnTo>
                        <a:pt x="256" y="188"/>
                      </a:lnTo>
                      <a:lnTo>
                        <a:pt x="0" y="94"/>
                      </a:lnTo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56960" y="4122360"/>
                  <a:ext cx="240840" cy="1800"/>
                </a:xfrm>
                <a:prstGeom prst="line">
                  <a:avLst/>
                </a:prstGeom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3098520" y="4122360"/>
                <a:ext cx="28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087360" y="2925360"/>
                <a:ext cx="1080" cy="2111400"/>
              </a:xfrm>
              <a:custGeom>
                <a:avLst/>
                <a:gdLst/>
                <a:ahLst/>
                <a:rect l="l" t="t" r="r" b="b"/>
                <a:pathLst>
                  <a:path w="1" h="912">
                    <a:moveTo>
                      <a:pt x="0" y="91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57600" y="3981240"/>
                <a:ext cx="661680" cy="1068480"/>
              </a:xfrm>
              <a:custGeom>
                <a:avLst/>
                <a:gdLst/>
                <a:ahLst/>
                <a:rect l="l" t="t" r="r" b="b"/>
                <a:pathLst>
                  <a:path w="348" h="462">
                    <a:moveTo>
                      <a:pt x="348" y="4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757600" y="2925360"/>
                <a:ext cx="672840" cy="1055880"/>
              </a:xfrm>
              <a:custGeom>
                <a:avLst/>
                <a:gdLst/>
                <a:ahLst/>
                <a:rect l="l" t="t" r="r" b="b"/>
                <a:pathLst>
                  <a:path w="354" h="456">
                    <a:moveTo>
                      <a:pt x="0" y="456"/>
                    </a:moveTo>
                    <a:lnTo>
                      <a:pt x="354" y="0"/>
                    </a:lnTo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900000" y="5133600"/>
              <a:ext cx="7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66"/>
                  </a:solidFill>
                  <a:latin typeface="Arial"/>
                </a:rPr>
                <a:t>N/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83400" y="3771720"/>
              <a:ext cx="489960" cy="335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or =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512040" y="2841480"/>
              <a:ext cx="1009440" cy="2220840"/>
              <a:chOff x="6512040" y="2841480"/>
              <a:chExt cx="1009440" cy="2220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518160" y="2896920"/>
                <a:ext cx="974880" cy="1440"/>
              </a:xfrm>
              <a:prstGeom prst="line">
                <a:avLst/>
              </a:prstGeom>
              <a:ln w="3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73880" y="2841480"/>
                <a:ext cx="122400" cy="109440"/>
              </a:xfrm>
              <a:custGeom>
                <a:avLst/>
                <a:gdLst/>
                <a:ahLst/>
                <a:rect l="l" t="t" r="r" b="b"/>
                <a:pathLst>
                  <a:path w="256" h="187">
                    <a:moveTo>
                      <a:pt x="256" y="94"/>
                    </a:moveTo>
                    <a:lnTo>
                      <a:pt x="0" y="187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6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18160" y="289692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064280" y="3897000"/>
                <a:ext cx="120960" cy="109440"/>
              </a:xfrm>
              <a:custGeom>
                <a:avLst/>
                <a:gdLst/>
                <a:ahLst/>
                <a:rect l="l" t="t" r="r" b="b"/>
                <a:pathLst>
                  <a:path w="257" h="186">
                    <a:moveTo>
                      <a:pt x="257" y="93"/>
                    </a:moveTo>
                    <a:lnTo>
                      <a:pt x="0" y="186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18160" y="3952440"/>
                <a:ext cx="1800" cy="180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1800" y="495288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256" h="187">
                    <a:moveTo>
                      <a:pt x="256" y="94"/>
                    </a:moveTo>
                    <a:lnTo>
                      <a:pt x="0" y="187"/>
                    </a:lnTo>
                    <a:lnTo>
                      <a:pt x="128" y="94"/>
                    </a:lnTo>
                    <a:lnTo>
                      <a:pt x="0" y="0"/>
                    </a:lnTo>
                    <a:lnTo>
                      <a:pt x="256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18160" y="500688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85040" y="3105000"/>
                <a:ext cx="122400" cy="109440"/>
              </a:xfrm>
              <a:custGeom>
                <a:avLst/>
                <a:gdLst/>
                <a:ahLst/>
                <a:rect l="l" t="t" r="r" b="b"/>
                <a:pathLst>
                  <a:path w="257" h="188">
                    <a:moveTo>
                      <a:pt x="257" y="94"/>
                    </a:moveTo>
                    <a:lnTo>
                      <a:pt x="0" y="188"/>
                    </a:lnTo>
                    <a:lnTo>
                      <a:pt x="128" y="94"/>
                    </a:lnTo>
                    <a:lnTo>
                      <a:pt x="0" y="0"/>
                    </a:lnTo>
                    <a:lnTo>
                      <a:pt x="257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21400" y="3160440"/>
                <a:ext cx="1800" cy="32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335736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257" h="188">
                    <a:moveTo>
                      <a:pt x="257" y="95"/>
                    </a:moveTo>
                    <a:lnTo>
                      <a:pt x="0" y="188"/>
                    </a:lnTo>
                    <a:lnTo>
                      <a:pt x="129" y="95"/>
                    </a:lnTo>
                    <a:lnTo>
                      <a:pt x="0" y="0"/>
                    </a:lnTo>
                    <a:lnTo>
                      <a:pt x="257" y="95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29320" y="341136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10440" y="3639960"/>
                <a:ext cx="122400" cy="1062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3"/>
                    </a:moveTo>
                    <a:lnTo>
                      <a:pt x="0" y="187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29320" y="369396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10440" y="4155840"/>
                <a:ext cx="122400" cy="109440"/>
              </a:xfrm>
              <a:custGeom>
                <a:avLst/>
                <a:gdLst/>
                <a:ahLst/>
                <a:rect l="l" t="t" r="r" b="b"/>
                <a:pathLst>
                  <a:path w="257" h="186">
                    <a:moveTo>
                      <a:pt x="257" y="93"/>
                    </a:moveTo>
                    <a:lnTo>
                      <a:pt x="0" y="186"/>
                    </a:lnTo>
                    <a:lnTo>
                      <a:pt x="128" y="93"/>
                    </a:lnTo>
                    <a:lnTo>
                      <a:pt x="0" y="0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29320" y="420984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77120" y="4428720"/>
                <a:ext cx="122400" cy="109800"/>
              </a:xfrm>
              <a:custGeom>
                <a:avLst/>
                <a:gdLst/>
                <a:ahLst/>
                <a:rect l="l" t="t" r="r" b="b"/>
                <a:pathLst>
                  <a:path w="257" h="186">
                    <a:moveTo>
                      <a:pt x="257" y="92"/>
                    </a:moveTo>
                    <a:lnTo>
                      <a:pt x="0" y="186"/>
                    </a:lnTo>
                    <a:lnTo>
                      <a:pt x="129" y="92"/>
                    </a:lnTo>
                    <a:lnTo>
                      <a:pt x="0" y="0"/>
                    </a:lnTo>
                    <a:lnTo>
                      <a:pt x="257" y="92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34360" y="4482720"/>
                <a:ext cx="2880" cy="180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91520" y="4674960"/>
                <a:ext cx="123840" cy="106200"/>
              </a:xfrm>
              <a:custGeom>
                <a:avLst/>
                <a:gdLst/>
                <a:ahLst/>
                <a:rect l="l" t="t" r="r" b="b"/>
                <a:pathLst>
                  <a:path w="257" h="187">
                    <a:moveTo>
                      <a:pt x="257" y="94"/>
                    </a:moveTo>
                    <a:lnTo>
                      <a:pt x="0" y="187"/>
                    </a:lnTo>
                    <a:lnTo>
                      <a:pt x="129" y="94"/>
                    </a:lnTo>
                    <a:lnTo>
                      <a:pt x="0" y="0"/>
                    </a:lnTo>
                    <a:lnTo>
                      <a:pt x="257" y="94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6517800" y="2841480"/>
                <a:ext cx="997560" cy="2220840"/>
                <a:chOff x="6517800" y="2841480"/>
                <a:chExt cx="997560" cy="22208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7373880" y="2841480"/>
                  <a:ext cx="122400" cy="109440"/>
                </a:xfrm>
                <a:custGeom>
                  <a:avLst/>
                  <a:gdLst/>
                  <a:ahLst/>
                  <a:rect l="l" t="t" r="r" b="b"/>
                  <a:pathLst>
                    <a:path w="256" h="187">
                      <a:moveTo>
                        <a:pt x="256" y="94"/>
                      </a:moveTo>
                      <a:lnTo>
                        <a:pt x="0" y="187"/>
                      </a:lnTo>
                      <a:lnTo>
                        <a:pt x="129" y="94"/>
                      </a:lnTo>
                      <a:lnTo>
                        <a:pt x="0" y="0"/>
                      </a:lnTo>
                      <a:lnTo>
                        <a:pt x="256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6517800" y="2896920"/>
                  <a:ext cx="97812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064280" y="3897000"/>
                  <a:ext cx="120960" cy="109440"/>
                </a:xfrm>
                <a:custGeom>
                  <a:avLst/>
                  <a:gdLst/>
                  <a:ahLst/>
                  <a:rect l="l" t="t" r="r" b="b"/>
                  <a:pathLst>
                    <a:path w="257" h="186">
                      <a:moveTo>
                        <a:pt x="257" y="93"/>
                      </a:moveTo>
                      <a:lnTo>
                        <a:pt x="0" y="186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6517800" y="3952440"/>
                  <a:ext cx="667080" cy="180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381800" y="4952880"/>
                  <a:ext cx="120600" cy="109440"/>
                </a:xfrm>
                <a:custGeom>
                  <a:avLst/>
                  <a:gdLst/>
                  <a:ahLst/>
                  <a:rect l="l" t="t" r="r" b="b"/>
                  <a:pathLst>
                    <a:path w="256" h="187">
                      <a:moveTo>
                        <a:pt x="256" y="94"/>
                      </a:moveTo>
                      <a:lnTo>
                        <a:pt x="0" y="187"/>
                      </a:lnTo>
                      <a:lnTo>
                        <a:pt x="128" y="94"/>
                      </a:lnTo>
                      <a:lnTo>
                        <a:pt x="0" y="0"/>
                      </a:lnTo>
                      <a:lnTo>
                        <a:pt x="256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6518160" y="5006880"/>
                  <a:ext cx="98424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385040" y="3105000"/>
                  <a:ext cx="122400" cy="109440"/>
                </a:xfrm>
                <a:custGeom>
                  <a:avLst/>
                  <a:gdLst/>
                  <a:ahLst/>
                  <a:rect l="l" t="t" r="r" b="b"/>
                  <a:pathLst>
                    <a:path w="257" h="188">
                      <a:moveTo>
                        <a:pt x="257" y="94"/>
                      </a:moveTo>
                      <a:lnTo>
                        <a:pt x="0" y="188"/>
                      </a:lnTo>
                      <a:lnTo>
                        <a:pt x="128" y="94"/>
                      </a:lnTo>
                      <a:lnTo>
                        <a:pt x="0" y="0"/>
                      </a:lnTo>
                      <a:lnTo>
                        <a:pt x="257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6521040" y="3160440"/>
                  <a:ext cx="986040" cy="32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391520" y="3357360"/>
                  <a:ext cx="123840" cy="109440"/>
                </a:xfrm>
                <a:custGeom>
                  <a:avLst/>
                  <a:gdLst/>
                  <a:ahLst/>
                  <a:rect l="l" t="t" r="r" b="b"/>
                  <a:pathLst>
                    <a:path w="257" h="188">
                      <a:moveTo>
                        <a:pt x="257" y="95"/>
                      </a:moveTo>
                      <a:lnTo>
                        <a:pt x="0" y="188"/>
                      </a:lnTo>
                      <a:lnTo>
                        <a:pt x="129" y="95"/>
                      </a:lnTo>
                      <a:lnTo>
                        <a:pt x="0" y="0"/>
                      </a:lnTo>
                      <a:lnTo>
                        <a:pt x="257" y="95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6528960" y="3411360"/>
                  <a:ext cx="98604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210440" y="3639960"/>
                  <a:ext cx="122400" cy="1062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3"/>
                      </a:moveTo>
                      <a:lnTo>
                        <a:pt x="0" y="187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6529320" y="3693960"/>
                  <a:ext cx="80352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210440" y="4155840"/>
                  <a:ext cx="122400" cy="109440"/>
                </a:xfrm>
                <a:custGeom>
                  <a:avLst/>
                  <a:gdLst/>
                  <a:ahLst/>
                  <a:rect l="l" t="t" r="r" b="b"/>
                  <a:pathLst>
                    <a:path w="257" h="186">
                      <a:moveTo>
                        <a:pt x="257" y="93"/>
                      </a:moveTo>
                      <a:lnTo>
                        <a:pt x="0" y="186"/>
                      </a:lnTo>
                      <a:lnTo>
                        <a:pt x="128" y="93"/>
                      </a:lnTo>
                      <a:lnTo>
                        <a:pt x="0" y="0"/>
                      </a:lnTo>
                      <a:lnTo>
                        <a:pt x="257" y="93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6529320" y="4209840"/>
                  <a:ext cx="80352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377120" y="4428720"/>
                  <a:ext cx="122400" cy="109800"/>
                </a:xfrm>
                <a:custGeom>
                  <a:avLst/>
                  <a:gdLst/>
                  <a:ahLst/>
                  <a:rect l="l" t="t" r="r" b="b"/>
                  <a:pathLst>
                    <a:path w="257" h="186">
                      <a:moveTo>
                        <a:pt x="257" y="92"/>
                      </a:moveTo>
                      <a:lnTo>
                        <a:pt x="0" y="186"/>
                      </a:lnTo>
                      <a:lnTo>
                        <a:pt x="129" y="92"/>
                      </a:lnTo>
                      <a:lnTo>
                        <a:pt x="0" y="0"/>
                      </a:lnTo>
                      <a:lnTo>
                        <a:pt x="257" y="92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6534000" y="4482720"/>
                  <a:ext cx="965160" cy="180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391520" y="4674960"/>
                  <a:ext cx="123840" cy="106200"/>
                </a:xfrm>
                <a:custGeom>
                  <a:avLst/>
                  <a:gdLst/>
                  <a:ahLst/>
                  <a:rect l="l" t="t" r="r" b="b"/>
                  <a:pathLst>
                    <a:path w="257" h="187">
                      <a:moveTo>
                        <a:pt x="257" y="94"/>
                      </a:moveTo>
                      <a:lnTo>
                        <a:pt x="0" y="187"/>
                      </a:lnTo>
                      <a:lnTo>
                        <a:pt x="129" y="94"/>
                      </a:lnTo>
                      <a:lnTo>
                        <a:pt x="0" y="0"/>
                      </a:lnTo>
                      <a:lnTo>
                        <a:pt x="257" y="94"/>
                      </a:lnTo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6528960" y="4728960"/>
                  <a:ext cx="986040" cy="1440"/>
                </a:xfrm>
                <a:prstGeom prst="line">
                  <a:avLst/>
                </a:prstGeom>
                <a:ln w="64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6529320" y="4728960"/>
                <a:ext cx="1800" cy="1440"/>
              </a:xfrm>
              <a:prstGeom prst="line">
                <a:avLst/>
              </a:prstGeom>
              <a:ln w="64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512040" y="2896920"/>
                <a:ext cx="1440" cy="2117880"/>
              </a:xfrm>
              <a:custGeom>
                <a:avLst/>
                <a:gdLst/>
                <a:ahLst/>
                <a:rect l="l" t="t" r="r" b="b"/>
                <a:pathLst>
                  <a:path w="1" h="915">
                    <a:moveTo>
                      <a:pt x="0" y="0"/>
                    </a:moveTo>
                    <a:lnTo>
                      <a:pt x="0" y="915"/>
                    </a:lnTo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91360" y="2882520"/>
                <a:ext cx="330120" cy="2132280"/>
              </a:xfrm>
              <a:custGeom>
                <a:avLst/>
                <a:gdLst/>
                <a:ahLst/>
                <a:rect l="l" t="t" r="r" b="b"/>
                <a:pathLst>
                  <a:path w="174" h="921">
                    <a:moveTo>
                      <a:pt x="165" y="0"/>
                    </a:moveTo>
                    <a:lnTo>
                      <a:pt x="165" y="234"/>
                    </a:lnTo>
                    <a:lnTo>
                      <a:pt x="0" y="465"/>
                    </a:lnTo>
                    <a:lnTo>
                      <a:pt x="174" y="690"/>
                    </a:lnTo>
                    <a:lnTo>
                      <a:pt x="174" y="921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6518160" y="5143320"/>
              <a:ext cx="1800" cy="52704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5143320"/>
              <a:ext cx="1440" cy="52704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79240" y="5019480"/>
              <a:ext cx="174600" cy="41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9960" y="5387760"/>
              <a:ext cx="977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67160" y="5178240"/>
              <a:ext cx="1216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66"/>
                  </a:solidFill>
                  <a:latin typeface="Arial Unicode MS"/>
                  <a:ea typeface="Arial Unicode MS"/>
                </a:rPr>
                <a:t>σ</a:t>
              </a:r>
              <a:r>
                <a:rPr b="0" i="1" lang="en-US" sz="2400" spc="-1" strike="noStrike" baseline="-25000">
                  <a:solidFill>
                    <a:srgbClr val="000066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&lt;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i="1" lang="en-US" sz="24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08840" y="5727240"/>
              <a:ext cx="2151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66"/>
                  </a:solidFill>
                  <a:latin typeface="Arial Unicode MS"/>
                  <a:ea typeface="Arial Unicode MS"/>
                </a:rPr>
                <a:t>σ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reaching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i="1" lang="en-US" sz="24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7D5E-AE11-4E0E-A170-ECF980A85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itial out-of-straightness 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36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duces bending mo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32240" y="4849920"/>
            <a:ext cx="352800" cy="4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116760" y="2940120"/>
            <a:ext cx="980280" cy="1920960"/>
            <a:chOff x="6116760" y="2940120"/>
            <a:chExt cx="980280" cy="1920960"/>
          </a:xfrm>
        </p:grpSpPr>
        <p:sp>
          <p:nvSpPr>
            <p:cNvPr id="628" name=""/>
            <p:cNvSpPr/>
            <p:nvPr/>
          </p:nvSpPr>
          <p:spPr>
            <a:xfrm>
              <a:off x="6836040" y="3155400"/>
              <a:ext cx="136440" cy="90720"/>
            </a:xfrm>
            <a:custGeom>
              <a:avLst/>
              <a:gdLst/>
              <a:ahLst/>
              <a:rect l="l" t="t" r="r" b="b"/>
              <a:pathLst>
                <a:path w="316" h="228">
                  <a:moveTo>
                    <a:pt x="316" y="114"/>
                  </a:moveTo>
                  <a:lnTo>
                    <a:pt x="0" y="228"/>
                  </a:lnTo>
                  <a:lnTo>
                    <a:pt x="158" y="114"/>
                  </a:lnTo>
                  <a:lnTo>
                    <a:pt x="0" y="0"/>
                  </a:lnTo>
                  <a:lnTo>
                    <a:pt x="316" y="114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36040" y="3155400"/>
              <a:ext cx="136440" cy="90720"/>
            </a:xfrm>
            <a:custGeom>
              <a:avLst/>
              <a:gdLst/>
              <a:ahLst/>
              <a:rect l="l" t="t" r="r" b="b"/>
              <a:pathLst>
                <a:path w="316" h="228">
                  <a:moveTo>
                    <a:pt x="316" y="114"/>
                  </a:moveTo>
                  <a:lnTo>
                    <a:pt x="0" y="228"/>
                  </a:lnTo>
                  <a:lnTo>
                    <a:pt x="158" y="114"/>
                  </a:lnTo>
                  <a:lnTo>
                    <a:pt x="0" y="0"/>
                  </a:lnTo>
                  <a:lnTo>
                    <a:pt x="316" y="114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594480" y="3201480"/>
              <a:ext cx="377640" cy="252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94840" y="3201480"/>
              <a:ext cx="1080" cy="252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18320" y="3369600"/>
              <a:ext cx="136800" cy="93240"/>
            </a:xfrm>
            <a:custGeom>
              <a:avLst/>
              <a:gdLst/>
              <a:ahLst/>
              <a:rect l="l" t="t" r="r" b="b"/>
              <a:pathLst>
                <a:path w="316" h="229">
                  <a:moveTo>
                    <a:pt x="316" y="115"/>
                  </a:moveTo>
                  <a:lnTo>
                    <a:pt x="0" y="229"/>
                  </a:lnTo>
                  <a:lnTo>
                    <a:pt x="158" y="115"/>
                  </a:lnTo>
                  <a:lnTo>
                    <a:pt x="0" y="0"/>
                  </a:lnTo>
                  <a:lnTo>
                    <a:pt x="316" y="115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18320" y="3369600"/>
              <a:ext cx="136800" cy="93240"/>
            </a:xfrm>
            <a:custGeom>
              <a:avLst/>
              <a:gdLst/>
              <a:ahLst/>
              <a:rect l="l" t="t" r="r" b="b"/>
              <a:pathLst>
                <a:path w="316" h="229">
                  <a:moveTo>
                    <a:pt x="316" y="115"/>
                  </a:moveTo>
                  <a:lnTo>
                    <a:pt x="0" y="229"/>
                  </a:lnTo>
                  <a:lnTo>
                    <a:pt x="158" y="115"/>
                  </a:lnTo>
                  <a:lnTo>
                    <a:pt x="0" y="0"/>
                  </a:lnTo>
                  <a:lnTo>
                    <a:pt x="316" y="115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603120" y="3416760"/>
              <a:ext cx="252000" cy="144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3120" y="3416760"/>
              <a:ext cx="2520" cy="144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76680" y="4293360"/>
              <a:ext cx="136440" cy="936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0" y="115"/>
                  </a:moveTo>
                  <a:lnTo>
                    <a:pt x="315" y="0"/>
                  </a:lnTo>
                  <a:lnTo>
                    <a:pt x="158" y="115"/>
                  </a:lnTo>
                  <a:lnTo>
                    <a:pt x="315" y="23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76680" y="4293360"/>
              <a:ext cx="136440" cy="936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0" y="115"/>
                  </a:moveTo>
                  <a:lnTo>
                    <a:pt x="315" y="0"/>
                  </a:lnTo>
                  <a:lnTo>
                    <a:pt x="158" y="115"/>
                  </a:lnTo>
                  <a:lnTo>
                    <a:pt x="315" y="230"/>
                  </a:lnTo>
                  <a:lnTo>
                    <a:pt x="0" y="115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76680" y="4339440"/>
              <a:ext cx="217800" cy="252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94840" y="4339440"/>
              <a:ext cx="1080" cy="252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50680" y="4518000"/>
              <a:ext cx="136440" cy="92160"/>
            </a:xfrm>
            <a:custGeom>
              <a:avLst/>
              <a:gdLst/>
              <a:ahLst/>
              <a:rect l="l" t="t" r="r" b="b"/>
              <a:pathLst>
                <a:path w="316" h="230">
                  <a:moveTo>
                    <a:pt x="0" y="114"/>
                  </a:moveTo>
                  <a:lnTo>
                    <a:pt x="316" y="0"/>
                  </a:lnTo>
                  <a:lnTo>
                    <a:pt x="158" y="114"/>
                  </a:lnTo>
                  <a:lnTo>
                    <a:pt x="316" y="230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50680" y="4518000"/>
              <a:ext cx="136440" cy="92160"/>
            </a:xfrm>
            <a:custGeom>
              <a:avLst/>
              <a:gdLst/>
              <a:ahLst/>
              <a:rect l="l" t="t" r="r" b="b"/>
              <a:pathLst>
                <a:path w="316" h="230">
                  <a:moveTo>
                    <a:pt x="0" y="114"/>
                  </a:moveTo>
                  <a:lnTo>
                    <a:pt x="316" y="0"/>
                  </a:lnTo>
                  <a:lnTo>
                    <a:pt x="158" y="114"/>
                  </a:lnTo>
                  <a:lnTo>
                    <a:pt x="316" y="230"/>
                  </a:lnTo>
                  <a:lnTo>
                    <a:pt x="0" y="114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50680" y="4564080"/>
              <a:ext cx="343800" cy="144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94840" y="4564080"/>
              <a:ext cx="1080" cy="144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16760" y="4768920"/>
              <a:ext cx="136800" cy="92160"/>
            </a:xfrm>
            <a:custGeom>
              <a:avLst/>
              <a:gdLst/>
              <a:ahLst/>
              <a:rect l="l" t="t" r="r" b="b"/>
              <a:pathLst>
                <a:path w="315" h="229">
                  <a:moveTo>
                    <a:pt x="0" y="114"/>
                  </a:moveTo>
                  <a:lnTo>
                    <a:pt x="315" y="0"/>
                  </a:lnTo>
                  <a:lnTo>
                    <a:pt x="157" y="114"/>
                  </a:lnTo>
                  <a:lnTo>
                    <a:pt x="315" y="229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16760" y="4768920"/>
              <a:ext cx="136800" cy="92160"/>
            </a:xfrm>
            <a:custGeom>
              <a:avLst/>
              <a:gdLst/>
              <a:ahLst/>
              <a:rect l="l" t="t" r="r" b="b"/>
              <a:pathLst>
                <a:path w="315" h="229">
                  <a:moveTo>
                    <a:pt x="0" y="114"/>
                  </a:moveTo>
                  <a:lnTo>
                    <a:pt x="315" y="0"/>
                  </a:lnTo>
                  <a:lnTo>
                    <a:pt x="157" y="114"/>
                  </a:lnTo>
                  <a:lnTo>
                    <a:pt x="315" y="229"/>
                  </a:lnTo>
                  <a:lnTo>
                    <a:pt x="0" y="114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16760" y="4815000"/>
              <a:ext cx="478080" cy="144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94840" y="4815000"/>
              <a:ext cx="1080" cy="1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52680" y="2940120"/>
              <a:ext cx="136800" cy="92160"/>
            </a:xfrm>
            <a:custGeom>
              <a:avLst/>
              <a:gdLst/>
              <a:ahLst/>
              <a:rect l="l" t="t" r="r" b="b"/>
              <a:pathLst>
                <a:path w="316" h="231">
                  <a:moveTo>
                    <a:pt x="316" y="115"/>
                  </a:moveTo>
                  <a:lnTo>
                    <a:pt x="0" y="231"/>
                  </a:lnTo>
                  <a:lnTo>
                    <a:pt x="158" y="115"/>
                  </a:lnTo>
                  <a:lnTo>
                    <a:pt x="0" y="0"/>
                  </a:lnTo>
                  <a:lnTo>
                    <a:pt x="316" y="115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52680" y="2940120"/>
              <a:ext cx="136800" cy="92160"/>
            </a:xfrm>
            <a:custGeom>
              <a:avLst/>
              <a:gdLst/>
              <a:ahLst/>
              <a:rect l="l" t="t" r="r" b="b"/>
              <a:pathLst>
                <a:path w="316" h="231">
                  <a:moveTo>
                    <a:pt x="316" y="115"/>
                  </a:moveTo>
                  <a:lnTo>
                    <a:pt x="0" y="231"/>
                  </a:lnTo>
                  <a:lnTo>
                    <a:pt x="158" y="115"/>
                  </a:lnTo>
                  <a:lnTo>
                    <a:pt x="0" y="0"/>
                  </a:lnTo>
                  <a:lnTo>
                    <a:pt x="316" y="115"/>
                  </a:lnTo>
                </a:path>
              </a:pathLst>
            </a:custGeom>
            <a:noFill/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600240" y="2991600"/>
              <a:ext cx="494280" cy="108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4840" y="2986200"/>
              <a:ext cx="1080" cy="108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98800" y="3002400"/>
              <a:ext cx="0" cy="182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121800" y="2980440"/>
              <a:ext cx="975240" cy="1831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647800" y="2928960"/>
            <a:ext cx="125280" cy="115560"/>
            <a:chOff x="2647800" y="2928960"/>
            <a:chExt cx="125280" cy="115560"/>
          </a:xfrm>
        </p:grpSpPr>
        <p:sp>
          <p:nvSpPr>
            <p:cNvPr id="655" name=""/>
            <p:cNvSpPr/>
            <p:nvPr/>
          </p:nvSpPr>
          <p:spPr>
            <a:xfrm>
              <a:off x="2739240" y="2959920"/>
              <a:ext cx="33840" cy="2772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6" y="40"/>
                  </a:moveTo>
                  <a:lnTo>
                    <a:pt x="0" y="28"/>
                  </a:lnTo>
                  <a:lnTo>
                    <a:pt x="10" y="74"/>
                  </a:lnTo>
                  <a:lnTo>
                    <a:pt x="77" y="58"/>
                  </a:lnTo>
                  <a:lnTo>
                    <a:pt x="66" y="12"/>
                  </a:lnTo>
                  <a:lnTo>
                    <a:pt x="60" y="0"/>
                  </a:lnTo>
                  <a:lnTo>
                    <a:pt x="66" y="12"/>
                  </a:lnTo>
                  <a:lnTo>
                    <a:pt x="65" y="6"/>
                  </a:lnTo>
                  <a:lnTo>
                    <a:pt x="60" y="0"/>
                  </a:lnTo>
                  <a:lnTo>
                    <a:pt x="6" y="4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29880" y="2940840"/>
              <a:ext cx="34920" cy="3492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11" y="60"/>
                  </a:moveTo>
                  <a:lnTo>
                    <a:pt x="0" y="50"/>
                  </a:lnTo>
                  <a:lnTo>
                    <a:pt x="29" y="88"/>
                  </a:lnTo>
                  <a:lnTo>
                    <a:pt x="83" y="48"/>
                  </a:lnTo>
                  <a:lnTo>
                    <a:pt x="55" y="9"/>
                  </a:lnTo>
                  <a:lnTo>
                    <a:pt x="43" y="0"/>
                  </a:lnTo>
                  <a:lnTo>
                    <a:pt x="55" y="9"/>
                  </a:lnTo>
                  <a:lnTo>
                    <a:pt x="51" y="3"/>
                  </a:lnTo>
                  <a:lnTo>
                    <a:pt x="43" y="0"/>
                  </a:lnTo>
                  <a:lnTo>
                    <a:pt x="11" y="6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18000" y="2928960"/>
              <a:ext cx="29520" cy="349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14" y="69"/>
                  </a:moveTo>
                  <a:lnTo>
                    <a:pt x="0" y="65"/>
                  </a:lnTo>
                  <a:lnTo>
                    <a:pt x="42" y="88"/>
                  </a:lnTo>
                  <a:lnTo>
                    <a:pt x="74" y="28"/>
                  </a:lnTo>
                  <a:lnTo>
                    <a:pt x="32" y="5"/>
                  </a:lnTo>
                  <a:lnTo>
                    <a:pt x="18" y="0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4" y="6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97480" y="2928960"/>
              <a:ext cx="25200" cy="2700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24" y="67"/>
                  </a:moveTo>
                  <a:lnTo>
                    <a:pt x="10" y="69"/>
                  </a:lnTo>
                  <a:lnTo>
                    <a:pt x="57" y="72"/>
                  </a:lnTo>
                  <a:lnTo>
                    <a:pt x="61" y="3"/>
                  </a:lnTo>
                  <a:lnTo>
                    <a:pt x="14" y="1"/>
                  </a:lnTo>
                  <a:lnTo>
                    <a:pt x="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3"/>
                  </a:lnTo>
                  <a:lnTo>
                    <a:pt x="24" y="67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73000" y="2928960"/>
              <a:ext cx="34920" cy="309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8" y="73"/>
                  </a:moveTo>
                  <a:lnTo>
                    <a:pt x="36" y="80"/>
                  </a:lnTo>
                  <a:lnTo>
                    <a:pt x="80" y="64"/>
                  </a:lnTo>
                  <a:lnTo>
                    <a:pt x="56" y="0"/>
                  </a:lnTo>
                  <a:lnTo>
                    <a:pt x="12" y="16"/>
                  </a:lnTo>
                  <a:lnTo>
                    <a:pt x="0" y="24"/>
                  </a:lnTo>
                  <a:lnTo>
                    <a:pt x="12" y="16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48" y="7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54280" y="2938320"/>
              <a:ext cx="38880" cy="33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64" y="70"/>
                  </a:moveTo>
                  <a:lnTo>
                    <a:pt x="56" y="82"/>
                  </a:lnTo>
                  <a:lnTo>
                    <a:pt x="90" y="49"/>
                  </a:lnTo>
                  <a:lnTo>
                    <a:pt x="42" y="0"/>
                  </a:lnTo>
                  <a:lnTo>
                    <a:pt x="8" y="35"/>
                  </a:lnTo>
                  <a:lnTo>
                    <a:pt x="0" y="47"/>
                  </a:lnTo>
                  <a:lnTo>
                    <a:pt x="8" y="35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64" y="7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7800" y="2958480"/>
              <a:ext cx="34920" cy="2556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68" y="53"/>
                  </a:moveTo>
                  <a:lnTo>
                    <a:pt x="66" y="68"/>
                  </a:lnTo>
                  <a:lnTo>
                    <a:pt x="83" y="23"/>
                  </a:lnTo>
                  <a:lnTo>
                    <a:pt x="19" y="0"/>
                  </a:lnTo>
                  <a:lnTo>
                    <a:pt x="3" y="45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68" y="5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7800" y="2979000"/>
              <a:ext cx="30960" cy="2520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67" y="33"/>
                  </a:moveTo>
                  <a:lnTo>
                    <a:pt x="71" y="46"/>
                  </a:lnTo>
                  <a:lnTo>
                    <a:pt x="67" y="0"/>
                  </a:lnTo>
                  <a:lnTo>
                    <a:pt x="0" y="6"/>
                  </a:lnTo>
                  <a:lnTo>
                    <a:pt x="4" y="52"/>
                  </a:lnTo>
                  <a:lnTo>
                    <a:pt x="8" y="65"/>
                  </a:lnTo>
                  <a:lnTo>
                    <a:pt x="4" y="52"/>
                  </a:lnTo>
                  <a:lnTo>
                    <a:pt x="4" y="59"/>
                  </a:lnTo>
                  <a:lnTo>
                    <a:pt x="8" y="65"/>
                  </a:lnTo>
                  <a:lnTo>
                    <a:pt x="67" y="3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9960" y="2992320"/>
              <a:ext cx="36360" cy="3456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74" y="31"/>
                  </a:moveTo>
                  <a:lnTo>
                    <a:pt x="83" y="42"/>
                  </a:lnTo>
                  <a:lnTo>
                    <a:pt x="59" y="0"/>
                  </a:lnTo>
                  <a:lnTo>
                    <a:pt x="0" y="32"/>
                  </a:lnTo>
                  <a:lnTo>
                    <a:pt x="23" y="75"/>
                  </a:lnTo>
                  <a:lnTo>
                    <a:pt x="32" y="86"/>
                  </a:lnTo>
                  <a:lnTo>
                    <a:pt x="23" y="75"/>
                  </a:lnTo>
                  <a:lnTo>
                    <a:pt x="26" y="82"/>
                  </a:lnTo>
                  <a:lnTo>
                    <a:pt x="32" y="86"/>
                  </a:lnTo>
                  <a:lnTo>
                    <a:pt x="74" y="31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65080" y="3004200"/>
              <a:ext cx="34920" cy="360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66" y="24"/>
                  </a:moveTo>
                  <a:lnTo>
                    <a:pt x="80" y="30"/>
                  </a:lnTo>
                  <a:lnTo>
                    <a:pt x="42" y="0"/>
                  </a:lnTo>
                  <a:lnTo>
                    <a:pt x="0" y="55"/>
                  </a:lnTo>
                  <a:lnTo>
                    <a:pt x="38" y="83"/>
                  </a:lnTo>
                  <a:lnTo>
                    <a:pt x="53" y="90"/>
                  </a:lnTo>
                  <a:lnTo>
                    <a:pt x="38" y="83"/>
                  </a:lnTo>
                  <a:lnTo>
                    <a:pt x="45" y="88"/>
                  </a:lnTo>
                  <a:lnTo>
                    <a:pt x="53" y="90"/>
                  </a:lnTo>
                  <a:lnTo>
                    <a:pt x="66" y="24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86680" y="3015000"/>
              <a:ext cx="25560" cy="2952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45" y="9"/>
                  </a:moveTo>
                  <a:lnTo>
                    <a:pt x="59" y="9"/>
                  </a:lnTo>
                  <a:lnTo>
                    <a:pt x="13" y="0"/>
                  </a:lnTo>
                  <a:lnTo>
                    <a:pt x="0" y="66"/>
                  </a:lnTo>
                  <a:lnTo>
                    <a:pt x="46" y="75"/>
                  </a:lnTo>
                  <a:lnTo>
                    <a:pt x="60" y="75"/>
                  </a:lnTo>
                  <a:lnTo>
                    <a:pt x="46" y="75"/>
                  </a:lnTo>
                  <a:lnTo>
                    <a:pt x="53" y="76"/>
                  </a:lnTo>
                  <a:lnTo>
                    <a:pt x="60" y="75"/>
                  </a:lnTo>
                  <a:lnTo>
                    <a:pt x="45" y="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05400" y="3012480"/>
              <a:ext cx="33480" cy="3204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33" y="6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15" y="77"/>
                  </a:lnTo>
                  <a:lnTo>
                    <a:pt x="61" y="66"/>
                  </a:lnTo>
                  <a:lnTo>
                    <a:pt x="74" y="60"/>
                  </a:lnTo>
                  <a:lnTo>
                    <a:pt x="61" y="66"/>
                  </a:lnTo>
                  <a:lnTo>
                    <a:pt x="68" y="64"/>
                  </a:lnTo>
                  <a:lnTo>
                    <a:pt x="74" y="60"/>
                  </a:lnTo>
                  <a:lnTo>
                    <a:pt x="33" y="6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21960" y="3004200"/>
              <a:ext cx="39240" cy="3204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28" y="11"/>
                  </a:moveTo>
                  <a:lnTo>
                    <a:pt x="38" y="0"/>
                  </a:lnTo>
                  <a:lnTo>
                    <a:pt x="0" y="29"/>
                  </a:lnTo>
                  <a:lnTo>
                    <a:pt x="41" y="83"/>
                  </a:lnTo>
                  <a:lnTo>
                    <a:pt x="79" y="55"/>
                  </a:lnTo>
                  <a:lnTo>
                    <a:pt x="89" y="43"/>
                  </a:lnTo>
                  <a:lnTo>
                    <a:pt x="79" y="55"/>
                  </a:lnTo>
                  <a:lnTo>
                    <a:pt x="86" y="50"/>
                  </a:lnTo>
                  <a:lnTo>
                    <a:pt x="89" y="43"/>
                  </a:lnTo>
                  <a:lnTo>
                    <a:pt x="28" y="11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4200" y="2992320"/>
              <a:ext cx="37440" cy="2772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9" y="10"/>
                  </a:moveTo>
                  <a:lnTo>
                    <a:pt x="22" y="0"/>
                  </a:lnTo>
                  <a:lnTo>
                    <a:pt x="0" y="42"/>
                  </a:lnTo>
                  <a:lnTo>
                    <a:pt x="61" y="74"/>
                  </a:lnTo>
                  <a:lnTo>
                    <a:pt x="83" y="31"/>
                  </a:lnTo>
                  <a:lnTo>
                    <a:pt x="86" y="22"/>
                  </a:lnTo>
                  <a:lnTo>
                    <a:pt x="83" y="31"/>
                  </a:lnTo>
                  <a:lnTo>
                    <a:pt x="85" y="27"/>
                  </a:lnTo>
                  <a:lnTo>
                    <a:pt x="86" y="22"/>
                  </a:lnTo>
                  <a:lnTo>
                    <a:pt x="19" y="1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40680" y="2984040"/>
              <a:ext cx="32400" cy="1584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39" y="6"/>
                  </a:moveTo>
                  <a:lnTo>
                    <a:pt x="5" y="0"/>
                  </a:lnTo>
                  <a:lnTo>
                    <a:pt x="0" y="30"/>
                  </a:lnTo>
                  <a:lnTo>
                    <a:pt x="67" y="42"/>
                  </a:lnTo>
                  <a:lnTo>
                    <a:pt x="72" y="12"/>
                  </a:lnTo>
                  <a:lnTo>
                    <a:pt x="39" y="6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11160" y="2986920"/>
              <a:ext cx="108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946160" y="4113360"/>
            <a:ext cx="1324080" cy="28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54080" y="4570560"/>
            <a:ext cx="776160" cy="28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711520" y="3569760"/>
            <a:ext cx="1012680" cy="54324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147320" y="4113360"/>
            <a:ext cx="1040040" cy="560160"/>
          </a:xfrm>
          <a:prstGeom prst="line">
            <a:avLst/>
          </a:prstGeom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389240" y="3569760"/>
            <a:ext cx="2053800" cy="1103400"/>
            <a:chOff x="1389240" y="3569760"/>
            <a:chExt cx="2053800" cy="1103400"/>
          </a:xfrm>
        </p:grpSpPr>
        <p:sp>
          <p:nvSpPr>
            <p:cNvPr id="676" name=""/>
            <p:cNvSpPr/>
            <p:nvPr/>
          </p:nvSpPr>
          <p:spPr>
            <a:xfrm flipV="1">
              <a:off x="2428200" y="3569760"/>
              <a:ext cx="1014840" cy="54324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389240" y="4113360"/>
              <a:ext cx="1038960" cy="55980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189080" y="4524480"/>
            <a:ext cx="138240" cy="9360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15"/>
                </a:moveTo>
                <a:lnTo>
                  <a:pt x="0" y="230"/>
                </a:lnTo>
                <a:lnTo>
                  <a:pt x="156" y="115"/>
                </a:lnTo>
                <a:lnTo>
                  <a:pt x="0" y="0"/>
                </a:lnTo>
                <a:lnTo>
                  <a:pt x="314" y="115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89080" y="4524480"/>
            <a:ext cx="138240" cy="9360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15"/>
                </a:moveTo>
                <a:lnTo>
                  <a:pt x="0" y="230"/>
                </a:lnTo>
                <a:lnTo>
                  <a:pt x="156" y="115"/>
                </a:lnTo>
                <a:lnTo>
                  <a:pt x="0" y="0"/>
                </a:lnTo>
                <a:lnTo>
                  <a:pt x="314" y="115"/>
                </a:lnTo>
              </a:path>
            </a:pathLst>
          </a:custGeom>
          <a:noFill/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73200" y="4524480"/>
            <a:ext cx="139680" cy="9360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5"/>
                </a:moveTo>
                <a:lnTo>
                  <a:pt x="316" y="0"/>
                </a:lnTo>
                <a:lnTo>
                  <a:pt x="158" y="115"/>
                </a:lnTo>
                <a:lnTo>
                  <a:pt x="316" y="230"/>
                </a:lnTo>
                <a:lnTo>
                  <a:pt x="0" y="115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73200" y="4524480"/>
            <a:ext cx="139680" cy="9360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5"/>
                </a:moveTo>
                <a:lnTo>
                  <a:pt x="316" y="0"/>
                </a:lnTo>
                <a:lnTo>
                  <a:pt x="158" y="115"/>
                </a:lnTo>
                <a:lnTo>
                  <a:pt x="316" y="230"/>
                </a:lnTo>
                <a:lnTo>
                  <a:pt x="0" y="115"/>
                </a:lnTo>
              </a:path>
            </a:pathLst>
          </a:custGeom>
          <a:noFill/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976120" y="3660840"/>
            <a:ext cx="9702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41720" y="3611520"/>
            <a:ext cx="137880" cy="9540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41720" y="3611520"/>
            <a:ext cx="137880" cy="9540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noFill/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0760" y="3611520"/>
            <a:ext cx="136440" cy="95400"/>
          </a:xfrm>
          <a:custGeom>
            <a:avLst/>
            <a:gdLst/>
            <a:ahLst/>
            <a:rect l="l" t="t" r="r" b="b"/>
            <a:pathLst>
              <a:path w="314" h="231">
                <a:moveTo>
                  <a:pt x="0" y="116"/>
                </a:moveTo>
                <a:lnTo>
                  <a:pt x="314" y="0"/>
                </a:lnTo>
                <a:lnTo>
                  <a:pt x="156" y="116"/>
                </a:lnTo>
                <a:lnTo>
                  <a:pt x="314" y="231"/>
                </a:lnTo>
                <a:lnTo>
                  <a:pt x="0" y="116"/>
                </a:ln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60760" y="3611520"/>
            <a:ext cx="136440" cy="95400"/>
          </a:xfrm>
          <a:custGeom>
            <a:avLst/>
            <a:gdLst/>
            <a:ahLst/>
            <a:rect l="l" t="t" r="r" b="b"/>
            <a:pathLst>
              <a:path w="314" h="231">
                <a:moveTo>
                  <a:pt x="0" y="116"/>
                </a:moveTo>
                <a:lnTo>
                  <a:pt x="314" y="0"/>
                </a:lnTo>
                <a:lnTo>
                  <a:pt x="156" y="116"/>
                </a:lnTo>
                <a:lnTo>
                  <a:pt x="314" y="231"/>
                </a:lnTo>
                <a:lnTo>
                  <a:pt x="0" y="116"/>
                </a:lnTo>
              </a:path>
            </a:pathLst>
          </a:custGeom>
          <a:noFill/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625840" y="5186520"/>
            <a:ext cx="147240" cy="121680"/>
            <a:chOff x="2625840" y="5186520"/>
            <a:chExt cx="147240" cy="121680"/>
          </a:xfrm>
        </p:grpSpPr>
        <p:sp>
          <p:nvSpPr>
            <p:cNvPr id="688" name=""/>
            <p:cNvSpPr/>
            <p:nvPr/>
          </p:nvSpPr>
          <p:spPr>
            <a:xfrm>
              <a:off x="2739240" y="5223240"/>
              <a:ext cx="33840" cy="309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6" y="40"/>
                  </a:moveTo>
                  <a:lnTo>
                    <a:pt x="0" y="28"/>
                  </a:lnTo>
                  <a:lnTo>
                    <a:pt x="10" y="74"/>
                  </a:lnTo>
                  <a:lnTo>
                    <a:pt x="77" y="58"/>
                  </a:lnTo>
                  <a:lnTo>
                    <a:pt x="66" y="12"/>
                  </a:lnTo>
                  <a:lnTo>
                    <a:pt x="60" y="0"/>
                  </a:lnTo>
                  <a:lnTo>
                    <a:pt x="66" y="12"/>
                  </a:lnTo>
                  <a:lnTo>
                    <a:pt x="65" y="6"/>
                  </a:lnTo>
                  <a:lnTo>
                    <a:pt x="60" y="0"/>
                  </a:lnTo>
                  <a:lnTo>
                    <a:pt x="6" y="4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29880" y="5202720"/>
              <a:ext cx="35280" cy="3636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1" y="59"/>
                  </a:moveTo>
                  <a:lnTo>
                    <a:pt x="0" y="49"/>
                  </a:lnTo>
                  <a:lnTo>
                    <a:pt x="29" y="87"/>
                  </a:lnTo>
                  <a:lnTo>
                    <a:pt x="83" y="47"/>
                  </a:lnTo>
                  <a:lnTo>
                    <a:pt x="55" y="9"/>
                  </a:lnTo>
                  <a:lnTo>
                    <a:pt x="43" y="0"/>
                  </a:lnTo>
                  <a:lnTo>
                    <a:pt x="55" y="9"/>
                  </a:lnTo>
                  <a:lnTo>
                    <a:pt x="51" y="3"/>
                  </a:lnTo>
                  <a:lnTo>
                    <a:pt x="43" y="0"/>
                  </a:lnTo>
                  <a:lnTo>
                    <a:pt x="11" y="5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17640" y="5193360"/>
              <a:ext cx="29520" cy="3348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13" y="67"/>
                  </a:moveTo>
                  <a:lnTo>
                    <a:pt x="0" y="63"/>
                  </a:lnTo>
                  <a:lnTo>
                    <a:pt x="42" y="86"/>
                  </a:lnTo>
                  <a:lnTo>
                    <a:pt x="74" y="27"/>
                  </a:lnTo>
                  <a:lnTo>
                    <a:pt x="32" y="4"/>
                  </a:lnTo>
                  <a:lnTo>
                    <a:pt x="19" y="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67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97480" y="5190480"/>
              <a:ext cx="25200" cy="2808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25" y="66"/>
                  </a:moveTo>
                  <a:lnTo>
                    <a:pt x="10" y="69"/>
                  </a:lnTo>
                  <a:lnTo>
                    <a:pt x="57" y="73"/>
                  </a:lnTo>
                  <a:lnTo>
                    <a:pt x="63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25" y="66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73000" y="5190480"/>
              <a:ext cx="35280" cy="349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8" y="74"/>
                  </a:moveTo>
                  <a:lnTo>
                    <a:pt x="37" y="81"/>
                  </a:lnTo>
                  <a:lnTo>
                    <a:pt x="80" y="63"/>
                  </a:lnTo>
                  <a:lnTo>
                    <a:pt x="55" y="0"/>
                  </a:lnTo>
                  <a:lnTo>
                    <a:pt x="11" y="18"/>
                  </a:lnTo>
                  <a:lnTo>
                    <a:pt x="0" y="26"/>
                  </a:lnTo>
                  <a:lnTo>
                    <a:pt x="11" y="18"/>
                  </a:lnTo>
                  <a:lnTo>
                    <a:pt x="4" y="21"/>
                  </a:lnTo>
                  <a:lnTo>
                    <a:pt x="0" y="26"/>
                  </a:lnTo>
                  <a:lnTo>
                    <a:pt x="48" y="74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54280" y="5202720"/>
              <a:ext cx="38880" cy="3240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64" y="69"/>
                  </a:moveTo>
                  <a:lnTo>
                    <a:pt x="56" y="81"/>
                  </a:lnTo>
                  <a:lnTo>
                    <a:pt x="90" y="48"/>
                  </a:lnTo>
                  <a:lnTo>
                    <a:pt x="42" y="0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8" y="34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64" y="6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7440" y="5221800"/>
              <a:ext cx="34920" cy="2556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68" y="53"/>
                  </a:moveTo>
                  <a:lnTo>
                    <a:pt x="66" y="68"/>
                  </a:lnTo>
                  <a:lnTo>
                    <a:pt x="83" y="23"/>
                  </a:lnTo>
                  <a:lnTo>
                    <a:pt x="19" y="0"/>
                  </a:lnTo>
                  <a:lnTo>
                    <a:pt x="3" y="45"/>
                  </a:lnTo>
                  <a:lnTo>
                    <a:pt x="1" y="59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68" y="5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7440" y="5241960"/>
              <a:ext cx="30960" cy="2700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67" y="34"/>
                  </a:moveTo>
                  <a:lnTo>
                    <a:pt x="71" y="47"/>
                  </a:lnTo>
                  <a:lnTo>
                    <a:pt x="67" y="0"/>
                  </a:lnTo>
                  <a:lnTo>
                    <a:pt x="0" y="6"/>
                  </a:lnTo>
                  <a:lnTo>
                    <a:pt x="4" y="53"/>
                  </a:lnTo>
                  <a:lnTo>
                    <a:pt x="8" y="66"/>
                  </a:lnTo>
                  <a:lnTo>
                    <a:pt x="4" y="53"/>
                  </a:lnTo>
                  <a:lnTo>
                    <a:pt x="4" y="60"/>
                  </a:lnTo>
                  <a:lnTo>
                    <a:pt x="8" y="66"/>
                  </a:lnTo>
                  <a:lnTo>
                    <a:pt x="67" y="34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9960" y="5255640"/>
              <a:ext cx="36360" cy="3384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74" y="31"/>
                  </a:moveTo>
                  <a:lnTo>
                    <a:pt x="83" y="42"/>
                  </a:lnTo>
                  <a:lnTo>
                    <a:pt x="59" y="0"/>
                  </a:lnTo>
                  <a:lnTo>
                    <a:pt x="0" y="32"/>
                  </a:lnTo>
                  <a:lnTo>
                    <a:pt x="23" y="74"/>
                  </a:lnTo>
                  <a:lnTo>
                    <a:pt x="32" y="85"/>
                  </a:lnTo>
                  <a:lnTo>
                    <a:pt x="23" y="74"/>
                  </a:lnTo>
                  <a:lnTo>
                    <a:pt x="26" y="81"/>
                  </a:lnTo>
                  <a:lnTo>
                    <a:pt x="32" y="85"/>
                  </a:lnTo>
                  <a:lnTo>
                    <a:pt x="74" y="31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5080" y="5267880"/>
              <a:ext cx="34920" cy="3636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66" y="23"/>
                  </a:moveTo>
                  <a:lnTo>
                    <a:pt x="80" y="29"/>
                  </a:lnTo>
                  <a:lnTo>
                    <a:pt x="42" y="0"/>
                  </a:lnTo>
                  <a:lnTo>
                    <a:pt x="0" y="54"/>
                  </a:lnTo>
                  <a:lnTo>
                    <a:pt x="38" y="83"/>
                  </a:lnTo>
                  <a:lnTo>
                    <a:pt x="53" y="89"/>
                  </a:lnTo>
                  <a:lnTo>
                    <a:pt x="38" y="83"/>
                  </a:lnTo>
                  <a:lnTo>
                    <a:pt x="45" y="87"/>
                  </a:lnTo>
                  <a:lnTo>
                    <a:pt x="53" y="89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86320" y="5277240"/>
              <a:ext cx="25560" cy="3096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45" y="9"/>
                  </a:moveTo>
                  <a:lnTo>
                    <a:pt x="59" y="9"/>
                  </a:lnTo>
                  <a:lnTo>
                    <a:pt x="13" y="0"/>
                  </a:lnTo>
                  <a:lnTo>
                    <a:pt x="0" y="66"/>
                  </a:lnTo>
                  <a:lnTo>
                    <a:pt x="46" y="75"/>
                  </a:lnTo>
                  <a:lnTo>
                    <a:pt x="60" y="75"/>
                  </a:lnTo>
                  <a:lnTo>
                    <a:pt x="46" y="75"/>
                  </a:lnTo>
                  <a:lnTo>
                    <a:pt x="53" y="76"/>
                  </a:lnTo>
                  <a:lnTo>
                    <a:pt x="60" y="75"/>
                  </a:lnTo>
                  <a:lnTo>
                    <a:pt x="45" y="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05400" y="5277240"/>
              <a:ext cx="33480" cy="3096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33" y="6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15" y="77"/>
                  </a:lnTo>
                  <a:lnTo>
                    <a:pt x="61" y="66"/>
                  </a:lnTo>
                  <a:lnTo>
                    <a:pt x="74" y="60"/>
                  </a:lnTo>
                  <a:lnTo>
                    <a:pt x="61" y="66"/>
                  </a:lnTo>
                  <a:lnTo>
                    <a:pt x="68" y="65"/>
                  </a:lnTo>
                  <a:lnTo>
                    <a:pt x="74" y="60"/>
                  </a:lnTo>
                  <a:lnTo>
                    <a:pt x="33" y="6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21600" y="5267880"/>
              <a:ext cx="39240" cy="334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28" y="11"/>
                  </a:moveTo>
                  <a:lnTo>
                    <a:pt x="38" y="0"/>
                  </a:lnTo>
                  <a:lnTo>
                    <a:pt x="0" y="28"/>
                  </a:lnTo>
                  <a:lnTo>
                    <a:pt x="41" y="82"/>
                  </a:lnTo>
                  <a:lnTo>
                    <a:pt x="79" y="54"/>
                  </a:lnTo>
                  <a:lnTo>
                    <a:pt x="89" y="42"/>
                  </a:lnTo>
                  <a:lnTo>
                    <a:pt x="79" y="54"/>
                  </a:lnTo>
                  <a:lnTo>
                    <a:pt x="86" y="49"/>
                  </a:lnTo>
                  <a:lnTo>
                    <a:pt x="89" y="42"/>
                  </a:lnTo>
                  <a:lnTo>
                    <a:pt x="28" y="11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34200" y="5255640"/>
              <a:ext cx="37440" cy="295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19" y="10"/>
                  </a:moveTo>
                  <a:lnTo>
                    <a:pt x="22" y="0"/>
                  </a:lnTo>
                  <a:lnTo>
                    <a:pt x="0" y="42"/>
                  </a:lnTo>
                  <a:lnTo>
                    <a:pt x="61" y="73"/>
                  </a:lnTo>
                  <a:lnTo>
                    <a:pt x="83" y="31"/>
                  </a:lnTo>
                  <a:lnTo>
                    <a:pt x="86" y="22"/>
                  </a:lnTo>
                  <a:lnTo>
                    <a:pt x="83" y="31"/>
                  </a:lnTo>
                  <a:lnTo>
                    <a:pt x="85" y="27"/>
                  </a:lnTo>
                  <a:lnTo>
                    <a:pt x="86" y="22"/>
                  </a:lnTo>
                  <a:lnTo>
                    <a:pt x="19" y="1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40680" y="5247720"/>
              <a:ext cx="32400" cy="162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39" y="6"/>
                  </a:moveTo>
                  <a:lnTo>
                    <a:pt x="5" y="0"/>
                  </a:lnTo>
                  <a:lnTo>
                    <a:pt x="0" y="31"/>
                  </a:lnTo>
                  <a:lnTo>
                    <a:pt x="67" y="43"/>
                  </a:lnTo>
                  <a:lnTo>
                    <a:pt x="72" y="12"/>
                  </a:lnTo>
                  <a:lnTo>
                    <a:pt x="39" y="6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69040" y="5214960"/>
              <a:ext cx="54000" cy="50040"/>
            </a:xfrm>
            <a:custGeom>
              <a:avLst/>
              <a:gdLst/>
              <a:ahLst/>
              <a:rect l="l" t="t" r="r" b="b"/>
              <a:pathLst>
                <a:path w="123" h="128">
                  <a:moveTo>
                    <a:pt x="83" y="109"/>
                  </a:moveTo>
                  <a:lnTo>
                    <a:pt x="123" y="89"/>
                  </a:lnTo>
                  <a:lnTo>
                    <a:pt x="81" y="0"/>
                  </a:lnTo>
                  <a:lnTo>
                    <a:pt x="0" y="37"/>
                  </a:lnTo>
                  <a:lnTo>
                    <a:pt x="43" y="128"/>
                  </a:lnTo>
                  <a:lnTo>
                    <a:pt x="83" y="109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0000" y="5189040"/>
              <a:ext cx="18720" cy="2844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2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44" y="72"/>
                  </a:lnTo>
                  <a:lnTo>
                    <a:pt x="44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25840" y="5186520"/>
              <a:ext cx="56520" cy="5544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14" y="122"/>
                  </a:moveTo>
                  <a:lnTo>
                    <a:pt x="131" y="107"/>
                  </a:lnTo>
                  <a:lnTo>
                    <a:pt x="33" y="0"/>
                  </a:lnTo>
                  <a:lnTo>
                    <a:pt x="0" y="31"/>
                  </a:lnTo>
                  <a:lnTo>
                    <a:pt x="97" y="137"/>
                  </a:lnTo>
                  <a:lnTo>
                    <a:pt x="114" y="122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90640" y="5243400"/>
              <a:ext cx="32040" cy="172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71" y="2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71" y="46"/>
                  </a:lnTo>
                  <a:lnTo>
                    <a:pt x="71" y="23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003320" y="4086360"/>
            <a:ext cx="31896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10160" y="3254400"/>
            <a:ext cx="426960" cy="41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68400" y="2222640"/>
            <a:ext cx="20196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31840" y="5605560"/>
            <a:ext cx="20196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81280" y="2287440"/>
            <a:ext cx="0" cy="520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681280" y="5343120"/>
            <a:ext cx="0" cy="520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81280" y="3003480"/>
            <a:ext cx="15840" cy="2220840"/>
          </a:xfrm>
          <a:custGeom>
            <a:avLst/>
            <a:gdLst/>
            <a:ahLst/>
            <a:rect l="l" t="t" r="r" b="b"/>
            <a:pathLst>
              <a:path w="12" h="1639">
                <a:moveTo>
                  <a:pt x="0" y="0"/>
                </a:moveTo>
                <a:lnTo>
                  <a:pt x="12" y="1639"/>
                </a:ln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28920" y="2986200"/>
            <a:ext cx="260280" cy="2228760"/>
          </a:xfrm>
          <a:custGeom>
            <a:avLst/>
            <a:gdLst/>
            <a:ahLst/>
            <a:rect l="l" t="t" r="r" b="b"/>
            <a:pathLst>
              <a:path w="192" h="1644">
                <a:moveTo>
                  <a:pt x="192" y="0"/>
                </a:moveTo>
                <a:cubicBezTo>
                  <a:pt x="185" y="21"/>
                  <a:pt x="166" y="82"/>
                  <a:pt x="150" y="126"/>
                </a:cubicBezTo>
                <a:cubicBezTo>
                  <a:pt x="134" y="170"/>
                  <a:pt x="109" y="220"/>
                  <a:pt x="93" y="264"/>
                </a:cubicBezTo>
                <a:cubicBezTo>
                  <a:pt x="77" y="308"/>
                  <a:pt x="64" y="360"/>
                  <a:pt x="54" y="393"/>
                </a:cubicBezTo>
                <a:cubicBezTo>
                  <a:pt x="44" y="426"/>
                  <a:pt x="41" y="438"/>
                  <a:pt x="36" y="462"/>
                </a:cubicBezTo>
                <a:cubicBezTo>
                  <a:pt x="31" y="486"/>
                  <a:pt x="28" y="504"/>
                  <a:pt x="24" y="540"/>
                </a:cubicBezTo>
                <a:cubicBezTo>
                  <a:pt x="20" y="576"/>
                  <a:pt x="12" y="641"/>
                  <a:pt x="9" y="678"/>
                </a:cubicBezTo>
                <a:cubicBezTo>
                  <a:pt x="6" y="715"/>
                  <a:pt x="4" y="737"/>
                  <a:pt x="3" y="762"/>
                </a:cubicBezTo>
                <a:cubicBezTo>
                  <a:pt x="2" y="787"/>
                  <a:pt x="4" y="794"/>
                  <a:pt x="3" y="828"/>
                </a:cubicBezTo>
                <a:cubicBezTo>
                  <a:pt x="2" y="862"/>
                  <a:pt x="0" y="933"/>
                  <a:pt x="0" y="966"/>
                </a:cubicBezTo>
                <a:cubicBezTo>
                  <a:pt x="0" y="999"/>
                  <a:pt x="1" y="1001"/>
                  <a:pt x="3" y="1026"/>
                </a:cubicBezTo>
                <a:cubicBezTo>
                  <a:pt x="5" y="1051"/>
                  <a:pt x="10" y="1080"/>
                  <a:pt x="15" y="1116"/>
                </a:cubicBezTo>
                <a:cubicBezTo>
                  <a:pt x="20" y="1152"/>
                  <a:pt x="25" y="1205"/>
                  <a:pt x="33" y="1242"/>
                </a:cubicBezTo>
                <a:cubicBezTo>
                  <a:pt x="41" y="1279"/>
                  <a:pt x="55" y="1310"/>
                  <a:pt x="63" y="1338"/>
                </a:cubicBezTo>
                <a:cubicBezTo>
                  <a:pt x="71" y="1366"/>
                  <a:pt x="71" y="1379"/>
                  <a:pt x="81" y="1410"/>
                </a:cubicBezTo>
                <a:cubicBezTo>
                  <a:pt x="91" y="1441"/>
                  <a:pt x="110" y="1492"/>
                  <a:pt x="123" y="1524"/>
                </a:cubicBezTo>
                <a:cubicBezTo>
                  <a:pt x="136" y="1556"/>
                  <a:pt x="148" y="1582"/>
                  <a:pt x="159" y="1602"/>
                </a:cubicBezTo>
                <a:cubicBezTo>
                  <a:pt x="170" y="1622"/>
                  <a:pt x="180" y="1635"/>
                  <a:pt x="186" y="1644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185920" y="3003480"/>
            <a:ext cx="506520" cy="2255760"/>
          </a:xfrm>
          <a:custGeom>
            <a:avLst/>
            <a:gdLst/>
            <a:ahLst/>
            <a:rect l="l" t="t" r="r" b="b"/>
            <a:pathLst>
              <a:path w="374" h="1665">
                <a:moveTo>
                  <a:pt x="365" y="0"/>
                </a:moveTo>
                <a:cubicBezTo>
                  <a:pt x="354" y="10"/>
                  <a:pt x="319" y="39"/>
                  <a:pt x="299" y="60"/>
                </a:cubicBezTo>
                <a:cubicBezTo>
                  <a:pt x="279" y="81"/>
                  <a:pt x="262" y="100"/>
                  <a:pt x="245" y="123"/>
                </a:cubicBezTo>
                <a:cubicBezTo>
                  <a:pt x="228" y="146"/>
                  <a:pt x="211" y="175"/>
                  <a:pt x="194" y="201"/>
                </a:cubicBezTo>
                <a:cubicBezTo>
                  <a:pt x="177" y="227"/>
                  <a:pt x="162" y="241"/>
                  <a:pt x="143" y="276"/>
                </a:cubicBezTo>
                <a:cubicBezTo>
                  <a:pt x="124" y="311"/>
                  <a:pt x="98" y="372"/>
                  <a:pt x="83" y="408"/>
                </a:cubicBezTo>
                <a:cubicBezTo>
                  <a:pt x="68" y="444"/>
                  <a:pt x="59" y="468"/>
                  <a:pt x="50" y="495"/>
                </a:cubicBezTo>
                <a:cubicBezTo>
                  <a:pt x="41" y="522"/>
                  <a:pt x="31" y="545"/>
                  <a:pt x="26" y="573"/>
                </a:cubicBezTo>
                <a:cubicBezTo>
                  <a:pt x="21" y="601"/>
                  <a:pt x="21" y="631"/>
                  <a:pt x="17" y="663"/>
                </a:cubicBezTo>
                <a:cubicBezTo>
                  <a:pt x="13" y="695"/>
                  <a:pt x="4" y="729"/>
                  <a:pt x="2" y="765"/>
                </a:cubicBezTo>
                <a:cubicBezTo>
                  <a:pt x="0" y="801"/>
                  <a:pt x="0" y="826"/>
                  <a:pt x="5" y="882"/>
                </a:cubicBezTo>
                <a:cubicBezTo>
                  <a:pt x="10" y="938"/>
                  <a:pt x="25" y="1050"/>
                  <a:pt x="35" y="1104"/>
                </a:cubicBezTo>
                <a:cubicBezTo>
                  <a:pt x="45" y="1158"/>
                  <a:pt x="53" y="1166"/>
                  <a:pt x="68" y="1206"/>
                </a:cubicBezTo>
                <a:cubicBezTo>
                  <a:pt x="83" y="1246"/>
                  <a:pt x="108" y="1310"/>
                  <a:pt x="125" y="1344"/>
                </a:cubicBezTo>
                <a:cubicBezTo>
                  <a:pt x="142" y="1378"/>
                  <a:pt x="154" y="1389"/>
                  <a:pt x="170" y="1413"/>
                </a:cubicBezTo>
                <a:cubicBezTo>
                  <a:pt x="186" y="1437"/>
                  <a:pt x="207" y="1465"/>
                  <a:pt x="221" y="1485"/>
                </a:cubicBezTo>
                <a:cubicBezTo>
                  <a:pt x="235" y="1505"/>
                  <a:pt x="229" y="1506"/>
                  <a:pt x="254" y="1536"/>
                </a:cubicBezTo>
                <a:cubicBezTo>
                  <a:pt x="279" y="1566"/>
                  <a:pt x="349" y="1638"/>
                  <a:pt x="374" y="1665"/>
                </a:cubicBezTo>
              </a:path>
            </a:pathLst>
          </a:custGeom>
          <a:noFill/>
          <a:ln w="93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7EF3-93D9-4458-BEB0-40C257A10A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itial out-of-straightness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 e</a:t>
            </a:r>
            <a:r>
              <a:rPr b="0" i="1" lang="en-US" sz="3600" spc="-1" strike="noStrike" baseline="-25000">
                <a:solidFill>
                  <a:srgbClr val="000066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σ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 section becomes partly plasti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14440" y="2205000"/>
            <a:ext cx="3784680" cy="3846600"/>
            <a:chOff x="2314440" y="2205000"/>
            <a:chExt cx="3784680" cy="3846600"/>
          </a:xfrm>
        </p:grpSpPr>
        <p:sp>
          <p:nvSpPr>
            <p:cNvPr id="719" name=""/>
            <p:cNvSpPr/>
            <p:nvPr/>
          </p:nvSpPr>
          <p:spPr>
            <a:xfrm>
              <a:off x="5279760" y="2852640"/>
              <a:ext cx="428760" cy="2613240"/>
            </a:xfrm>
            <a:custGeom>
              <a:avLst/>
              <a:gdLst/>
              <a:ahLst/>
              <a:rect l="l" t="t" r="r" b="b"/>
              <a:pathLst>
                <a:path w="270" h="1646">
                  <a:moveTo>
                    <a:pt x="29" y="0"/>
                  </a:moveTo>
                  <a:lnTo>
                    <a:pt x="210" y="136"/>
                  </a:lnTo>
                  <a:cubicBezTo>
                    <a:pt x="248" y="219"/>
                    <a:pt x="246" y="369"/>
                    <a:pt x="256" y="499"/>
                  </a:cubicBezTo>
                  <a:cubicBezTo>
                    <a:pt x="266" y="629"/>
                    <a:pt x="270" y="770"/>
                    <a:pt x="270" y="914"/>
                  </a:cubicBezTo>
                  <a:cubicBezTo>
                    <a:pt x="270" y="1058"/>
                    <a:pt x="265" y="1239"/>
                    <a:pt x="256" y="1361"/>
                  </a:cubicBezTo>
                  <a:cubicBezTo>
                    <a:pt x="247" y="1483"/>
                    <a:pt x="253" y="1616"/>
                    <a:pt x="215" y="1646"/>
                  </a:cubicBezTo>
                  <a:lnTo>
                    <a:pt x="29" y="1543"/>
                  </a:lnTo>
                  <a:cubicBezTo>
                    <a:pt x="0" y="1521"/>
                    <a:pt x="35" y="1567"/>
                    <a:pt x="42" y="1514"/>
                  </a:cubicBezTo>
                  <a:cubicBezTo>
                    <a:pt x="49" y="1461"/>
                    <a:pt x="63" y="1333"/>
                    <a:pt x="74" y="1225"/>
                  </a:cubicBezTo>
                  <a:cubicBezTo>
                    <a:pt x="85" y="1117"/>
                    <a:pt x="103" y="979"/>
                    <a:pt x="108" y="866"/>
                  </a:cubicBezTo>
                  <a:cubicBezTo>
                    <a:pt x="113" y="753"/>
                    <a:pt x="108" y="647"/>
                    <a:pt x="102" y="548"/>
                  </a:cubicBezTo>
                  <a:cubicBezTo>
                    <a:pt x="96" y="449"/>
                    <a:pt x="86" y="356"/>
                    <a:pt x="74" y="272"/>
                  </a:cubicBezTo>
                  <a:cubicBezTo>
                    <a:pt x="62" y="188"/>
                    <a:pt x="48" y="117"/>
                    <a:pt x="29" y="46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146120" y="3857760"/>
              <a:ext cx="1447560" cy="311040"/>
              <a:chOff x="4146120" y="3857760"/>
              <a:chExt cx="1447560" cy="311040"/>
            </a:xfrm>
          </p:grpSpPr>
          <p:sp>
            <p:nvSpPr>
              <p:cNvPr id="721" name=""/>
              <p:cNvSpPr/>
              <p:nvPr/>
            </p:nvSpPr>
            <p:spPr>
              <a:xfrm>
                <a:off x="5428800" y="4051440"/>
                <a:ext cx="164880" cy="117360"/>
              </a:xfrm>
              <a:custGeom>
                <a:avLst/>
                <a:gdLst/>
                <a:ahLst/>
                <a:rect l="l" t="t" r="r" b="b"/>
                <a:pathLst>
                  <a:path w="622" h="370">
                    <a:moveTo>
                      <a:pt x="622" y="278"/>
                    </a:moveTo>
                    <a:lnTo>
                      <a:pt x="0" y="370"/>
                    </a:lnTo>
                    <a:lnTo>
                      <a:pt x="330" y="231"/>
                    </a:lnTo>
                    <a:lnTo>
                      <a:pt x="80" y="0"/>
                    </a:lnTo>
                    <a:lnTo>
                      <a:pt x="622" y="278"/>
                    </a:lnTo>
                  </a:path>
                </a:pathLst>
              </a:custGeom>
              <a:solidFill>
                <a:srgbClr val="009999"/>
              </a:solidFill>
              <a:ln w="468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>
                <a:off x="4146120" y="3857760"/>
                <a:ext cx="1423800" cy="272880"/>
              </a:xfrm>
              <a:prstGeom prst="line">
                <a:avLst/>
              </a:prstGeom>
              <a:ln w="46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2314440" y="3602160"/>
              <a:ext cx="1805040" cy="67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Arial"/>
                </a:rPr>
                <a:t>Yielded zone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49560" y="2205000"/>
              <a:ext cx="1699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49560" y="5737320"/>
              <a:ext cx="1699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667120" y="5518080"/>
              <a:ext cx="0" cy="533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5325840" y="2530440"/>
              <a:ext cx="773280" cy="2978280"/>
              <a:chOff x="5325840" y="2530440"/>
              <a:chExt cx="773280" cy="2978280"/>
            </a:xfrm>
          </p:grpSpPr>
          <p:sp>
            <p:nvSpPr>
              <p:cNvPr id="728" name=""/>
              <p:cNvSpPr/>
              <p:nvPr/>
            </p:nvSpPr>
            <p:spPr>
              <a:xfrm rot="13447200">
                <a:off x="5425920" y="2627280"/>
                <a:ext cx="457200" cy="439920"/>
              </a:xfrm>
              <a:prstGeom prst="parallelogram">
                <a:avLst>
                  <a:gd name="adj" fmla="val 25982"/>
                </a:avLst>
              </a:prstGeom>
              <a:solidFill>
                <a:srgbClr val="ffffff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94040" y="3068640"/>
                <a:ext cx="123840" cy="2435400"/>
              </a:xfrm>
              <a:custGeom>
                <a:avLst/>
                <a:gdLst/>
                <a:ahLst/>
                <a:rect l="l" t="t" r="r" b="b"/>
                <a:pathLst>
                  <a:path w="78" h="1534">
                    <a:moveTo>
                      <a:pt x="0" y="0"/>
                    </a:moveTo>
                    <a:cubicBezTo>
                      <a:pt x="19" y="79"/>
                      <a:pt x="35" y="158"/>
                      <a:pt x="46" y="227"/>
                    </a:cubicBezTo>
                    <a:cubicBezTo>
                      <a:pt x="57" y="296"/>
                      <a:pt x="60" y="339"/>
                      <a:pt x="65" y="412"/>
                    </a:cubicBezTo>
                    <a:cubicBezTo>
                      <a:pt x="70" y="485"/>
                      <a:pt x="76" y="583"/>
                      <a:pt x="77" y="664"/>
                    </a:cubicBezTo>
                    <a:cubicBezTo>
                      <a:pt x="78" y="745"/>
                      <a:pt x="75" y="819"/>
                      <a:pt x="71" y="898"/>
                    </a:cubicBezTo>
                    <a:cubicBezTo>
                      <a:pt x="67" y="977"/>
                      <a:pt x="59" y="1061"/>
                      <a:pt x="53" y="1138"/>
                    </a:cubicBezTo>
                    <a:cubicBezTo>
                      <a:pt x="47" y="1215"/>
                      <a:pt x="41" y="1294"/>
                      <a:pt x="35" y="1360"/>
                    </a:cubicBezTo>
                    <a:cubicBezTo>
                      <a:pt x="29" y="1426"/>
                      <a:pt x="21" y="1498"/>
                      <a:pt x="17" y="1534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975280" y="2852640"/>
                <a:ext cx="123840" cy="2435400"/>
              </a:xfrm>
              <a:custGeom>
                <a:avLst/>
                <a:gdLst/>
                <a:ahLst/>
                <a:rect l="l" t="t" r="r" b="b"/>
                <a:pathLst>
                  <a:path w="78" h="1534">
                    <a:moveTo>
                      <a:pt x="0" y="0"/>
                    </a:moveTo>
                    <a:cubicBezTo>
                      <a:pt x="19" y="79"/>
                      <a:pt x="35" y="158"/>
                      <a:pt x="46" y="227"/>
                    </a:cubicBezTo>
                    <a:cubicBezTo>
                      <a:pt x="57" y="296"/>
                      <a:pt x="60" y="339"/>
                      <a:pt x="65" y="412"/>
                    </a:cubicBezTo>
                    <a:cubicBezTo>
                      <a:pt x="70" y="485"/>
                      <a:pt x="76" y="583"/>
                      <a:pt x="77" y="664"/>
                    </a:cubicBezTo>
                    <a:cubicBezTo>
                      <a:pt x="78" y="745"/>
                      <a:pt x="75" y="819"/>
                      <a:pt x="71" y="898"/>
                    </a:cubicBezTo>
                    <a:cubicBezTo>
                      <a:pt x="67" y="977"/>
                      <a:pt x="59" y="1061"/>
                      <a:pt x="53" y="1138"/>
                    </a:cubicBezTo>
                    <a:cubicBezTo>
                      <a:pt x="47" y="1215"/>
                      <a:pt x="41" y="1294"/>
                      <a:pt x="35" y="1360"/>
                    </a:cubicBezTo>
                    <a:cubicBezTo>
                      <a:pt x="29" y="1426"/>
                      <a:pt x="21" y="1498"/>
                      <a:pt x="17" y="1534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25840" y="2852640"/>
                <a:ext cx="123840" cy="2435400"/>
              </a:xfrm>
              <a:custGeom>
                <a:avLst/>
                <a:gdLst/>
                <a:ahLst/>
                <a:rect l="l" t="t" r="r" b="b"/>
                <a:pathLst>
                  <a:path w="78" h="1534">
                    <a:moveTo>
                      <a:pt x="0" y="0"/>
                    </a:moveTo>
                    <a:cubicBezTo>
                      <a:pt x="19" y="79"/>
                      <a:pt x="35" y="158"/>
                      <a:pt x="46" y="227"/>
                    </a:cubicBezTo>
                    <a:cubicBezTo>
                      <a:pt x="57" y="296"/>
                      <a:pt x="60" y="339"/>
                      <a:pt x="65" y="412"/>
                    </a:cubicBezTo>
                    <a:cubicBezTo>
                      <a:pt x="70" y="485"/>
                      <a:pt x="76" y="583"/>
                      <a:pt x="77" y="664"/>
                    </a:cubicBezTo>
                    <a:cubicBezTo>
                      <a:pt x="78" y="745"/>
                      <a:pt x="75" y="819"/>
                      <a:pt x="71" y="898"/>
                    </a:cubicBezTo>
                    <a:cubicBezTo>
                      <a:pt x="67" y="977"/>
                      <a:pt x="59" y="1061"/>
                      <a:pt x="53" y="1138"/>
                    </a:cubicBezTo>
                    <a:cubicBezTo>
                      <a:pt x="47" y="1215"/>
                      <a:pt x="41" y="1294"/>
                      <a:pt x="35" y="1360"/>
                    </a:cubicBezTo>
                    <a:cubicBezTo>
                      <a:pt x="29" y="1426"/>
                      <a:pt x="21" y="1498"/>
                      <a:pt x="17" y="1534"/>
                    </a:cubicBezTo>
                  </a:path>
                </a:pathLst>
              </a:custGeom>
              <a:noFill/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44920" y="5292720"/>
                <a:ext cx="647640" cy="216000"/>
              </a:xfrm>
              <a:custGeom>
                <a:avLst/>
                <a:gdLst/>
                <a:ahLst/>
                <a:rect l="l" t="t" r="r" b="b"/>
                <a:pathLst>
                  <a:path w="408" h="136">
                    <a:moveTo>
                      <a:pt x="0" y="0"/>
                    </a:moveTo>
                    <a:lnTo>
                      <a:pt x="181" y="136"/>
                    </a:lnTo>
                    <a:lnTo>
                      <a:pt x="408" y="0"/>
                    </a:lnTo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5667120" y="2205000"/>
              <a:ext cx="0" cy="6858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77CF-A295-4F3A-8A0D-D554178F9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bined effect of imperfections and axial loa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ximum stress - combination of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nding stress: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σ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dual stress: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σ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res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d axial stress: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σ=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/A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46320" y="396072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46320" y="396072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631880" y="4013280"/>
            <a:ext cx="636480" cy="14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31880" y="4013280"/>
            <a:ext cx="3240" cy="14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46320" y="5975280"/>
            <a:ext cx="122040" cy="101520"/>
          </a:xfrm>
          <a:custGeom>
            <a:avLst/>
            <a:gdLst/>
            <a:ahLst/>
            <a:rect l="l" t="t" r="r" b="b"/>
            <a:pathLst>
              <a:path w="316" h="228">
                <a:moveTo>
                  <a:pt x="316" y="114"/>
                </a:moveTo>
                <a:lnTo>
                  <a:pt x="0" y="228"/>
                </a:lnTo>
                <a:lnTo>
                  <a:pt x="158" y="114"/>
                </a:lnTo>
                <a:lnTo>
                  <a:pt x="0" y="0"/>
                </a:lnTo>
                <a:lnTo>
                  <a:pt x="316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46320" y="5975280"/>
            <a:ext cx="122040" cy="101520"/>
          </a:xfrm>
          <a:custGeom>
            <a:avLst/>
            <a:gdLst/>
            <a:ahLst/>
            <a:rect l="l" t="t" r="r" b="b"/>
            <a:pathLst>
              <a:path w="316" h="228">
                <a:moveTo>
                  <a:pt x="316" y="114"/>
                </a:moveTo>
                <a:lnTo>
                  <a:pt x="0" y="228"/>
                </a:lnTo>
                <a:lnTo>
                  <a:pt x="158" y="114"/>
                </a:lnTo>
                <a:lnTo>
                  <a:pt x="0" y="0"/>
                </a:lnTo>
                <a:lnTo>
                  <a:pt x="316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631880" y="6024600"/>
            <a:ext cx="63648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31880" y="6024600"/>
            <a:ext cx="324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631880" y="4010040"/>
            <a:ext cx="63648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19280" y="4013280"/>
            <a:ext cx="27000" cy="2009520"/>
          </a:xfrm>
          <a:custGeom>
            <a:avLst/>
            <a:gdLst/>
            <a:ahLst/>
            <a:rect l="l" t="t" r="r" b="b"/>
            <a:pathLst>
              <a:path w="68" h="4467">
                <a:moveTo>
                  <a:pt x="33" y="4467"/>
                </a:moveTo>
                <a:lnTo>
                  <a:pt x="68" y="4467"/>
                </a:lnTo>
                <a:lnTo>
                  <a:pt x="68" y="0"/>
                </a:lnTo>
                <a:lnTo>
                  <a:pt x="0" y="0"/>
                </a:lnTo>
                <a:lnTo>
                  <a:pt x="0" y="4467"/>
                </a:lnTo>
                <a:lnTo>
                  <a:pt x="33" y="4467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54320" y="3992400"/>
            <a:ext cx="25200" cy="2030400"/>
          </a:xfrm>
          <a:custGeom>
            <a:avLst/>
            <a:gdLst/>
            <a:ahLst/>
            <a:rect l="l" t="t" r="r" b="b"/>
            <a:pathLst>
              <a:path w="68" h="4515">
                <a:moveTo>
                  <a:pt x="34" y="4515"/>
                </a:moveTo>
                <a:lnTo>
                  <a:pt x="68" y="4515"/>
                </a:lnTo>
                <a:lnTo>
                  <a:pt x="68" y="0"/>
                </a:lnTo>
                <a:lnTo>
                  <a:pt x="0" y="0"/>
                </a:lnTo>
                <a:lnTo>
                  <a:pt x="0" y="4515"/>
                </a:lnTo>
                <a:lnTo>
                  <a:pt x="34" y="4515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46320" y="421308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5"/>
                </a:moveTo>
                <a:lnTo>
                  <a:pt x="0" y="231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46320" y="421308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5"/>
                </a:moveTo>
                <a:lnTo>
                  <a:pt x="0" y="231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631880" y="4264200"/>
            <a:ext cx="63648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631880" y="4264200"/>
            <a:ext cx="32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146320" y="446400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146320" y="446400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631880" y="4516560"/>
            <a:ext cx="63648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31880" y="4516560"/>
            <a:ext cx="32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46320" y="4716360"/>
            <a:ext cx="122040" cy="103320"/>
          </a:xfrm>
          <a:custGeom>
            <a:avLst/>
            <a:gdLst/>
            <a:ahLst/>
            <a:rect l="l" t="t" r="r" b="b"/>
            <a:pathLst>
              <a:path w="316" h="229">
                <a:moveTo>
                  <a:pt x="316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46320" y="4716360"/>
            <a:ext cx="122040" cy="103320"/>
          </a:xfrm>
          <a:custGeom>
            <a:avLst/>
            <a:gdLst/>
            <a:ahLst/>
            <a:rect l="l" t="t" r="r" b="b"/>
            <a:pathLst>
              <a:path w="316" h="229">
                <a:moveTo>
                  <a:pt x="316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631880" y="4768920"/>
            <a:ext cx="63648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631880" y="4768920"/>
            <a:ext cx="32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46320" y="496872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46320" y="496872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631880" y="5019840"/>
            <a:ext cx="63648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31880" y="5019840"/>
            <a:ext cx="32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46320" y="521964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46320" y="5219640"/>
            <a:ext cx="12204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6"/>
                </a:moveTo>
                <a:lnTo>
                  <a:pt x="0" y="231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631880" y="5272200"/>
            <a:ext cx="63648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31880" y="5272200"/>
            <a:ext cx="32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46320" y="547056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46320" y="547056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6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631880" y="5524560"/>
            <a:ext cx="63648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31880" y="5524560"/>
            <a:ext cx="32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146320" y="5721480"/>
            <a:ext cx="122040" cy="102960"/>
          </a:xfrm>
          <a:custGeom>
            <a:avLst/>
            <a:gdLst/>
            <a:ahLst/>
            <a:rect l="l" t="t" r="r" b="b"/>
            <a:pathLst>
              <a:path w="316" h="229">
                <a:moveTo>
                  <a:pt x="316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146320" y="5721480"/>
            <a:ext cx="122040" cy="102960"/>
          </a:xfrm>
          <a:custGeom>
            <a:avLst/>
            <a:gdLst/>
            <a:ahLst/>
            <a:rect l="l" t="t" r="r" b="b"/>
            <a:pathLst>
              <a:path w="316" h="229">
                <a:moveTo>
                  <a:pt x="316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6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631880" y="5773680"/>
            <a:ext cx="63648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31880" y="5773680"/>
            <a:ext cx="32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709640" y="3554280"/>
            <a:ext cx="46548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/A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416040" y="3408480"/>
            <a:ext cx="467280" cy="45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000066"/>
                </a:solidFill>
                <a:latin typeface="Arial"/>
              </a:rPr>
              <a:t>r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986280" y="601344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986280" y="601344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65680" y="3924360"/>
            <a:ext cx="120600" cy="102960"/>
          </a:xfrm>
          <a:custGeom>
            <a:avLst/>
            <a:gdLst/>
            <a:ahLst/>
            <a:rect l="l" t="t" r="r" b="b"/>
            <a:pathLst>
              <a:path w="317" h="229">
                <a:moveTo>
                  <a:pt x="317" y="114"/>
                </a:moveTo>
                <a:lnTo>
                  <a:pt x="0" y="229"/>
                </a:lnTo>
                <a:lnTo>
                  <a:pt x="158" y="114"/>
                </a:lnTo>
                <a:lnTo>
                  <a:pt x="0" y="0"/>
                </a:lnTo>
                <a:lnTo>
                  <a:pt x="317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65680" y="3924360"/>
            <a:ext cx="120600" cy="102960"/>
          </a:xfrm>
          <a:custGeom>
            <a:avLst/>
            <a:gdLst/>
            <a:ahLst/>
            <a:rect l="l" t="t" r="r" b="b"/>
            <a:pathLst>
              <a:path w="317" h="229">
                <a:moveTo>
                  <a:pt x="317" y="114"/>
                </a:moveTo>
                <a:lnTo>
                  <a:pt x="0" y="229"/>
                </a:lnTo>
                <a:lnTo>
                  <a:pt x="158" y="114"/>
                </a:lnTo>
                <a:lnTo>
                  <a:pt x="0" y="0"/>
                </a:lnTo>
                <a:lnTo>
                  <a:pt x="317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3549240" y="3976560"/>
            <a:ext cx="43668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49600" y="3976560"/>
            <a:ext cx="180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5962680"/>
            <a:ext cx="120600" cy="10332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4"/>
                </a:moveTo>
                <a:lnTo>
                  <a:pt x="0" y="229"/>
                </a:lnTo>
                <a:lnTo>
                  <a:pt x="158" y="114"/>
                </a:lnTo>
                <a:lnTo>
                  <a:pt x="0" y="0"/>
                </a:lnTo>
                <a:lnTo>
                  <a:pt x="315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5962680"/>
            <a:ext cx="120600" cy="10332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4"/>
                </a:moveTo>
                <a:lnTo>
                  <a:pt x="0" y="229"/>
                </a:lnTo>
                <a:lnTo>
                  <a:pt x="158" y="114"/>
                </a:lnTo>
                <a:lnTo>
                  <a:pt x="0" y="0"/>
                </a:lnTo>
                <a:lnTo>
                  <a:pt x="315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549600" y="6013440"/>
            <a:ext cx="4572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55920" y="4424400"/>
            <a:ext cx="11916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4"/>
                </a:moveTo>
                <a:lnTo>
                  <a:pt x="316" y="0"/>
                </a:lnTo>
                <a:lnTo>
                  <a:pt x="157" y="114"/>
                </a:lnTo>
                <a:lnTo>
                  <a:pt x="316" y="230"/>
                </a:lnTo>
                <a:lnTo>
                  <a:pt x="0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355920" y="4424400"/>
            <a:ext cx="11916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4"/>
                </a:moveTo>
                <a:lnTo>
                  <a:pt x="316" y="0"/>
                </a:lnTo>
                <a:lnTo>
                  <a:pt x="157" y="114"/>
                </a:lnTo>
                <a:lnTo>
                  <a:pt x="316" y="230"/>
                </a:lnTo>
                <a:lnTo>
                  <a:pt x="0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355920" y="4475160"/>
            <a:ext cx="17928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35200" y="4475160"/>
            <a:ext cx="18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16240" y="4678200"/>
            <a:ext cx="120600" cy="10332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0" y="116"/>
                </a:moveTo>
                <a:lnTo>
                  <a:pt x="315" y="0"/>
                </a:lnTo>
                <a:lnTo>
                  <a:pt x="156" y="116"/>
                </a:lnTo>
                <a:lnTo>
                  <a:pt x="315" y="230"/>
                </a:lnTo>
                <a:lnTo>
                  <a:pt x="0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16240" y="4678200"/>
            <a:ext cx="120600" cy="10332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0" y="116"/>
                </a:moveTo>
                <a:lnTo>
                  <a:pt x="315" y="0"/>
                </a:lnTo>
                <a:lnTo>
                  <a:pt x="156" y="116"/>
                </a:lnTo>
                <a:lnTo>
                  <a:pt x="315" y="230"/>
                </a:lnTo>
                <a:lnTo>
                  <a:pt x="0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16240" y="4729320"/>
            <a:ext cx="31896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35200" y="4729320"/>
            <a:ext cx="180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154320" y="4938840"/>
            <a:ext cx="11916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0" y="115"/>
                </a:moveTo>
                <a:lnTo>
                  <a:pt x="315" y="0"/>
                </a:lnTo>
                <a:lnTo>
                  <a:pt x="158" y="115"/>
                </a:lnTo>
                <a:lnTo>
                  <a:pt x="315" y="229"/>
                </a:lnTo>
                <a:lnTo>
                  <a:pt x="0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54320" y="4938840"/>
            <a:ext cx="11916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0" y="115"/>
                </a:moveTo>
                <a:lnTo>
                  <a:pt x="315" y="0"/>
                </a:lnTo>
                <a:lnTo>
                  <a:pt x="158" y="115"/>
                </a:lnTo>
                <a:lnTo>
                  <a:pt x="315" y="229"/>
                </a:lnTo>
                <a:lnTo>
                  <a:pt x="0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54320" y="4991040"/>
            <a:ext cx="38088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535200" y="4991040"/>
            <a:ext cx="180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09760" y="5192640"/>
            <a:ext cx="11916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4"/>
                </a:moveTo>
                <a:lnTo>
                  <a:pt x="316" y="0"/>
                </a:lnTo>
                <a:lnTo>
                  <a:pt x="158" y="114"/>
                </a:lnTo>
                <a:lnTo>
                  <a:pt x="316" y="230"/>
                </a:lnTo>
                <a:lnTo>
                  <a:pt x="0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09760" y="5192640"/>
            <a:ext cx="11916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0" y="114"/>
                </a:moveTo>
                <a:lnTo>
                  <a:pt x="316" y="0"/>
                </a:lnTo>
                <a:lnTo>
                  <a:pt x="158" y="114"/>
                </a:lnTo>
                <a:lnTo>
                  <a:pt x="316" y="230"/>
                </a:lnTo>
                <a:lnTo>
                  <a:pt x="0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09760" y="5245200"/>
            <a:ext cx="3398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49600" y="5245200"/>
            <a:ext cx="180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27480" y="5438880"/>
            <a:ext cx="119160" cy="102960"/>
          </a:xfrm>
          <a:custGeom>
            <a:avLst/>
            <a:gdLst/>
            <a:ahLst/>
            <a:rect l="l" t="t" r="r" b="b"/>
            <a:pathLst>
              <a:path w="315" h="228">
                <a:moveTo>
                  <a:pt x="0" y="114"/>
                </a:moveTo>
                <a:lnTo>
                  <a:pt x="315" y="0"/>
                </a:lnTo>
                <a:lnTo>
                  <a:pt x="157" y="114"/>
                </a:lnTo>
                <a:lnTo>
                  <a:pt x="315" y="228"/>
                </a:lnTo>
                <a:lnTo>
                  <a:pt x="0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327480" y="5438880"/>
            <a:ext cx="119160" cy="102960"/>
          </a:xfrm>
          <a:custGeom>
            <a:avLst/>
            <a:gdLst/>
            <a:ahLst/>
            <a:rect l="l" t="t" r="r" b="b"/>
            <a:pathLst>
              <a:path w="315" h="228">
                <a:moveTo>
                  <a:pt x="0" y="114"/>
                </a:moveTo>
                <a:lnTo>
                  <a:pt x="315" y="0"/>
                </a:lnTo>
                <a:lnTo>
                  <a:pt x="157" y="114"/>
                </a:lnTo>
                <a:lnTo>
                  <a:pt x="315" y="228"/>
                </a:lnTo>
                <a:lnTo>
                  <a:pt x="0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27480" y="5489640"/>
            <a:ext cx="2142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541680" y="5489640"/>
            <a:ext cx="18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643200" y="5870520"/>
            <a:ext cx="120600" cy="10476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6"/>
                </a:moveTo>
                <a:lnTo>
                  <a:pt x="0" y="231"/>
                </a:lnTo>
                <a:lnTo>
                  <a:pt x="157" y="116"/>
                </a:lnTo>
                <a:lnTo>
                  <a:pt x="0" y="0"/>
                </a:lnTo>
                <a:lnTo>
                  <a:pt x="315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43200" y="5870520"/>
            <a:ext cx="120600" cy="10476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6"/>
                </a:moveTo>
                <a:lnTo>
                  <a:pt x="0" y="231"/>
                </a:lnTo>
                <a:lnTo>
                  <a:pt x="157" y="116"/>
                </a:lnTo>
                <a:lnTo>
                  <a:pt x="0" y="0"/>
                </a:lnTo>
                <a:lnTo>
                  <a:pt x="315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560760" y="5924520"/>
            <a:ext cx="2030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560760" y="5924520"/>
            <a:ext cx="14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51120" y="4019400"/>
            <a:ext cx="119160" cy="103320"/>
          </a:xfrm>
          <a:custGeom>
            <a:avLst/>
            <a:gdLst/>
            <a:ahLst/>
            <a:rect l="l" t="t" r="r" b="b"/>
            <a:pathLst>
              <a:path w="314" h="228">
                <a:moveTo>
                  <a:pt x="314" y="114"/>
                </a:moveTo>
                <a:lnTo>
                  <a:pt x="0" y="228"/>
                </a:lnTo>
                <a:lnTo>
                  <a:pt x="157" y="114"/>
                </a:lnTo>
                <a:lnTo>
                  <a:pt x="0" y="0"/>
                </a:lnTo>
                <a:lnTo>
                  <a:pt x="314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651120" y="4019400"/>
            <a:ext cx="119160" cy="103320"/>
          </a:xfrm>
          <a:custGeom>
            <a:avLst/>
            <a:gdLst/>
            <a:ahLst/>
            <a:rect l="l" t="t" r="r" b="b"/>
            <a:pathLst>
              <a:path w="314" h="228">
                <a:moveTo>
                  <a:pt x="314" y="114"/>
                </a:moveTo>
                <a:lnTo>
                  <a:pt x="0" y="228"/>
                </a:lnTo>
                <a:lnTo>
                  <a:pt x="157" y="114"/>
                </a:lnTo>
                <a:lnTo>
                  <a:pt x="0" y="0"/>
                </a:lnTo>
                <a:lnTo>
                  <a:pt x="314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544920" y="4070520"/>
            <a:ext cx="22536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44920" y="4070520"/>
            <a:ext cx="14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3720" y="4732200"/>
            <a:ext cx="16380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147840" y="3973680"/>
            <a:ext cx="865080" cy="2038320"/>
            <a:chOff x="3147840" y="3973680"/>
            <a:chExt cx="865080" cy="2038320"/>
          </a:xfrm>
        </p:grpSpPr>
        <p:sp>
          <p:nvSpPr>
            <p:cNvPr id="816" name=""/>
            <p:cNvSpPr/>
            <p:nvPr/>
          </p:nvSpPr>
          <p:spPr>
            <a:xfrm>
              <a:off x="3546360" y="3981600"/>
              <a:ext cx="2880" cy="2030400"/>
            </a:xfrm>
            <a:custGeom>
              <a:avLst/>
              <a:gdLst/>
              <a:ahLst/>
              <a:rect l="l" t="t" r="r" b="b"/>
              <a:pathLst>
                <a:path w="1" h="903">
                  <a:moveTo>
                    <a:pt x="0" y="0"/>
                  </a:moveTo>
                  <a:lnTo>
                    <a:pt x="1" y="903"/>
                  </a:ln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47840" y="3973680"/>
              <a:ext cx="865080" cy="2033640"/>
            </a:xfrm>
            <a:custGeom>
              <a:avLst/>
              <a:gdLst/>
              <a:ahLst/>
              <a:rect l="l" t="t" r="r" b="b"/>
              <a:pathLst>
                <a:path w="456" h="904">
                  <a:moveTo>
                    <a:pt x="450" y="0"/>
                  </a:moveTo>
                  <a:cubicBezTo>
                    <a:pt x="427" y="9"/>
                    <a:pt x="345" y="40"/>
                    <a:pt x="312" y="54"/>
                  </a:cubicBezTo>
                  <a:cubicBezTo>
                    <a:pt x="279" y="68"/>
                    <a:pt x="270" y="75"/>
                    <a:pt x="252" y="87"/>
                  </a:cubicBezTo>
                  <a:cubicBezTo>
                    <a:pt x="234" y="99"/>
                    <a:pt x="217" y="116"/>
                    <a:pt x="201" y="129"/>
                  </a:cubicBezTo>
                  <a:cubicBezTo>
                    <a:pt x="185" y="142"/>
                    <a:pt x="169" y="154"/>
                    <a:pt x="157" y="165"/>
                  </a:cubicBezTo>
                  <a:cubicBezTo>
                    <a:pt x="145" y="176"/>
                    <a:pt x="138" y="186"/>
                    <a:pt x="129" y="196"/>
                  </a:cubicBezTo>
                  <a:cubicBezTo>
                    <a:pt x="120" y="206"/>
                    <a:pt x="114" y="213"/>
                    <a:pt x="106" y="223"/>
                  </a:cubicBezTo>
                  <a:cubicBezTo>
                    <a:pt x="98" y="233"/>
                    <a:pt x="89" y="245"/>
                    <a:pt x="82" y="255"/>
                  </a:cubicBezTo>
                  <a:cubicBezTo>
                    <a:pt x="75" y="265"/>
                    <a:pt x="68" y="271"/>
                    <a:pt x="63" y="280"/>
                  </a:cubicBezTo>
                  <a:cubicBezTo>
                    <a:pt x="58" y="289"/>
                    <a:pt x="54" y="296"/>
                    <a:pt x="49" y="306"/>
                  </a:cubicBezTo>
                  <a:cubicBezTo>
                    <a:pt x="44" y="316"/>
                    <a:pt x="36" y="331"/>
                    <a:pt x="31" y="342"/>
                  </a:cubicBezTo>
                  <a:cubicBezTo>
                    <a:pt x="26" y="353"/>
                    <a:pt x="20" y="360"/>
                    <a:pt x="16" y="372"/>
                  </a:cubicBezTo>
                  <a:cubicBezTo>
                    <a:pt x="12" y="384"/>
                    <a:pt x="7" y="402"/>
                    <a:pt x="4" y="417"/>
                  </a:cubicBezTo>
                  <a:cubicBezTo>
                    <a:pt x="1" y="432"/>
                    <a:pt x="0" y="447"/>
                    <a:pt x="0" y="462"/>
                  </a:cubicBezTo>
                  <a:cubicBezTo>
                    <a:pt x="0" y="477"/>
                    <a:pt x="4" y="495"/>
                    <a:pt x="7" y="510"/>
                  </a:cubicBezTo>
                  <a:cubicBezTo>
                    <a:pt x="10" y="525"/>
                    <a:pt x="17" y="541"/>
                    <a:pt x="21" y="553"/>
                  </a:cubicBezTo>
                  <a:cubicBezTo>
                    <a:pt x="25" y="565"/>
                    <a:pt x="28" y="573"/>
                    <a:pt x="33" y="583"/>
                  </a:cubicBezTo>
                  <a:cubicBezTo>
                    <a:pt x="38" y="593"/>
                    <a:pt x="44" y="602"/>
                    <a:pt x="51" y="612"/>
                  </a:cubicBezTo>
                  <a:cubicBezTo>
                    <a:pt x="58" y="622"/>
                    <a:pt x="62" y="629"/>
                    <a:pt x="72" y="643"/>
                  </a:cubicBezTo>
                  <a:cubicBezTo>
                    <a:pt x="82" y="657"/>
                    <a:pt x="96" y="679"/>
                    <a:pt x="111" y="697"/>
                  </a:cubicBezTo>
                  <a:cubicBezTo>
                    <a:pt x="126" y="715"/>
                    <a:pt x="143" y="732"/>
                    <a:pt x="159" y="748"/>
                  </a:cubicBezTo>
                  <a:cubicBezTo>
                    <a:pt x="175" y="764"/>
                    <a:pt x="195" y="780"/>
                    <a:pt x="210" y="792"/>
                  </a:cubicBezTo>
                  <a:cubicBezTo>
                    <a:pt x="225" y="804"/>
                    <a:pt x="234" y="810"/>
                    <a:pt x="249" y="819"/>
                  </a:cubicBezTo>
                  <a:cubicBezTo>
                    <a:pt x="264" y="828"/>
                    <a:pt x="284" y="840"/>
                    <a:pt x="298" y="847"/>
                  </a:cubicBezTo>
                  <a:cubicBezTo>
                    <a:pt x="312" y="854"/>
                    <a:pt x="326" y="859"/>
                    <a:pt x="336" y="864"/>
                  </a:cubicBezTo>
                  <a:cubicBezTo>
                    <a:pt x="346" y="869"/>
                    <a:pt x="350" y="872"/>
                    <a:pt x="361" y="876"/>
                  </a:cubicBezTo>
                  <a:cubicBezTo>
                    <a:pt x="372" y="880"/>
                    <a:pt x="384" y="883"/>
                    <a:pt x="400" y="888"/>
                  </a:cubicBezTo>
                  <a:cubicBezTo>
                    <a:pt x="416" y="893"/>
                    <a:pt x="444" y="901"/>
                    <a:pt x="456" y="904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5244840" y="3382920"/>
            <a:ext cx="326880" cy="45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476600" y="4734000"/>
            <a:ext cx="16380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489640" y="4140360"/>
            <a:ext cx="12060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7" y="115"/>
                </a:lnTo>
                <a:lnTo>
                  <a:pt x="0" y="0"/>
                </a:lnTo>
                <a:lnTo>
                  <a:pt x="315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489640" y="4140360"/>
            <a:ext cx="12060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7" y="115"/>
                </a:lnTo>
                <a:lnTo>
                  <a:pt x="0" y="0"/>
                </a:lnTo>
                <a:lnTo>
                  <a:pt x="315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279760" y="4192560"/>
            <a:ext cx="3301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280120" y="4192560"/>
            <a:ext cx="14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88120" y="4381560"/>
            <a:ext cx="120600" cy="10296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114"/>
                </a:moveTo>
                <a:lnTo>
                  <a:pt x="0" y="230"/>
                </a:lnTo>
                <a:lnTo>
                  <a:pt x="159" y="114"/>
                </a:lnTo>
                <a:lnTo>
                  <a:pt x="0" y="0"/>
                </a:lnTo>
                <a:lnTo>
                  <a:pt x="317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388120" y="4381560"/>
            <a:ext cx="120600" cy="10296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114"/>
                </a:moveTo>
                <a:lnTo>
                  <a:pt x="0" y="230"/>
                </a:lnTo>
                <a:lnTo>
                  <a:pt x="159" y="114"/>
                </a:lnTo>
                <a:lnTo>
                  <a:pt x="0" y="0"/>
                </a:lnTo>
                <a:lnTo>
                  <a:pt x="317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286240" y="4432320"/>
            <a:ext cx="22248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86240" y="4432320"/>
            <a:ext cx="324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91120" y="5407200"/>
            <a:ext cx="120600" cy="102960"/>
          </a:xfrm>
          <a:custGeom>
            <a:avLst/>
            <a:gdLst/>
            <a:ahLst/>
            <a:rect l="l" t="t" r="r" b="b"/>
            <a:pathLst>
              <a:path w="314" h="229">
                <a:moveTo>
                  <a:pt x="0" y="114"/>
                </a:moveTo>
                <a:lnTo>
                  <a:pt x="314" y="0"/>
                </a:lnTo>
                <a:lnTo>
                  <a:pt x="158" y="114"/>
                </a:lnTo>
                <a:lnTo>
                  <a:pt x="314" y="229"/>
                </a:lnTo>
                <a:lnTo>
                  <a:pt x="0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91120" y="5407200"/>
            <a:ext cx="120600" cy="102960"/>
          </a:xfrm>
          <a:custGeom>
            <a:avLst/>
            <a:gdLst/>
            <a:ahLst/>
            <a:rect l="l" t="t" r="r" b="b"/>
            <a:pathLst>
              <a:path w="314" h="229">
                <a:moveTo>
                  <a:pt x="0" y="114"/>
                </a:moveTo>
                <a:lnTo>
                  <a:pt x="314" y="0"/>
                </a:lnTo>
                <a:lnTo>
                  <a:pt x="158" y="114"/>
                </a:lnTo>
                <a:lnTo>
                  <a:pt x="314" y="229"/>
                </a:lnTo>
                <a:lnTo>
                  <a:pt x="0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091120" y="5457960"/>
            <a:ext cx="18900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280120" y="5457960"/>
            <a:ext cx="14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981680" y="5656320"/>
            <a:ext cx="118800" cy="1029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0" y="116"/>
                </a:moveTo>
                <a:lnTo>
                  <a:pt x="315" y="0"/>
                </a:lnTo>
                <a:lnTo>
                  <a:pt x="157" y="116"/>
                </a:lnTo>
                <a:lnTo>
                  <a:pt x="315" y="230"/>
                </a:lnTo>
                <a:lnTo>
                  <a:pt x="0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81680" y="5656320"/>
            <a:ext cx="118800" cy="1029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0" y="116"/>
                </a:moveTo>
                <a:lnTo>
                  <a:pt x="315" y="0"/>
                </a:lnTo>
                <a:lnTo>
                  <a:pt x="157" y="116"/>
                </a:lnTo>
                <a:lnTo>
                  <a:pt x="315" y="230"/>
                </a:lnTo>
                <a:lnTo>
                  <a:pt x="0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981680" y="5708520"/>
            <a:ext cx="2984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5708520"/>
            <a:ext cx="14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863960" y="5935680"/>
            <a:ext cx="119160" cy="10332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0" y="116"/>
                </a:moveTo>
                <a:lnTo>
                  <a:pt x="315" y="0"/>
                </a:lnTo>
                <a:lnTo>
                  <a:pt x="157" y="116"/>
                </a:lnTo>
                <a:lnTo>
                  <a:pt x="315" y="231"/>
                </a:lnTo>
                <a:lnTo>
                  <a:pt x="0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63960" y="5935680"/>
            <a:ext cx="119160" cy="10332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0" y="116"/>
                </a:moveTo>
                <a:lnTo>
                  <a:pt x="315" y="0"/>
                </a:lnTo>
                <a:lnTo>
                  <a:pt x="157" y="116"/>
                </a:lnTo>
                <a:lnTo>
                  <a:pt x="315" y="231"/>
                </a:lnTo>
                <a:lnTo>
                  <a:pt x="0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63960" y="5986440"/>
            <a:ext cx="41616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5986440"/>
            <a:ext cx="144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92600" y="3900600"/>
            <a:ext cx="119160" cy="1029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92600" y="3900600"/>
            <a:ext cx="119160" cy="1029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279760" y="3954600"/>
            <a:ext cx="431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62480" y="4475160"/>
            <a:ext cx="18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7840" y="3949560"/>
            <a:ext cx="863640" cy="2036880"/>
            <a:chOff x="4857840" y="3949560"/>
            <a:chExt cx="863640" cy="2036880"/>
          </a:xfrm>
        </p:grpSpPr>
        <p:sp>
          <p:nvSpPr>
            <p:cNvPr id="845" name=""/>
            <p:cNvSpPr/>
            <p:nvPr/>
          </p:nvSpPr>
          <p:spPr>
            <a:xfrm>
              <a:off x="5268960" y="3960720"/>
              <a:ext cx="15840" cy="2025720"/>
            </a:xfrm>
            <a:custGeom>
              <a:avLst/>
              <a:gdLst/>
              <a:ahLst/>
              <a:rect l="l" t="t" r="r" b="b"/>
              <a:pathLst>
                <a:path w="9" h="901">
                  <a:moveTo>
                    <a:pt x="0" y="0"/>
                  </a:moveTo>
                  <a:lnTo>
                    <a:pt x="9" y="901"/>
                  </a:ln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57840" y="3949560"/>
              <a:ext cx="863640" cy="2036880"/>
            </a:xfrm>
            <a:custGeom>
              <a:avLst/>
              <a:gdLst/>
              <a:ahLst/>
              <a:rect l="l" t="t" r="r" b="b"/>
              <a:pathLst>
                <a:path w="455" h="906">
                  <a:moveTo>
                    <a:pt x="455" y="0"/>
                  </a:moveTo>
                  <a:lnTo>
                    <a:pt x="0" y="906"/>
                  </a:ln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6729480" y="3390840"/>
            <a:ext cx="561600" cy="45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000066"/>
                </a:solidFill>
                <a:latin typeface="Arial"/>
              </a:rPr>
              <a:t>ma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62480" y="4667400"/>
            <a:ext cx="163800" cy="3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028000" y="3908520"/>
            <a:ext cx="119160" cy="1047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5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028000" y="3908520"/>
            <a:ext cx="119160" cy="1047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8" y="115"/>
                </a:lnTo>
                <a:lnTo>
                  <a:pt x="0" y="0"/>
                </a:lnTo>
                <a:lnTo>
                  <a:pt x="315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562440" y="3960720"/>
            <a:ext cx="15843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2800" y="3960720"/>
            <a:ext cx="14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485120" y="4170240"/>
            <a:ext cx="11916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7"/>
                </a:moveTo>
                <a:lnTo>
                  <a:pt x="0" y="231"/>
                </a:lnTo>
                <a:lnTo>
                  <a:pt x="157" y="117"/>
                </a:lnTo>
                <a:lnTo>
                  <a:pt x="0" y="0"/>
                </a:lnTo>
                <a:lnTo>
                  <a:pt x="316" y="117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85120" y="4170240"/>
            <a:ext cx="119160" cy="103320"/>
          </a:xfrm>
          <a:custGeom>
            <a:avLst/>
            <a:gdLst/>
            <a:ahLst/>
            <a:rect l="l" t="t" r="r" b="b"/>
            <a:pathLst>
              <a:path w="316" h="231">
                <a:moveTo>
                  <a:pt x="316" y="117"/>
                </a:moveTo>
                <a:lnTo>
                  <a:pt x="0" y="231"/>
                </a:lnTo>
                <a:lnTo>
                  <a:pt x="157" y="117"/>
                </a:lnTo>
                <a:lnTo>
                  <a:pt x="0" y="0"/>
                </a:lnTo>
                <a:lnTo>
                  <a:pt x="316" y="117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6555960" y="4221000"/>
            <a:ext cx="104796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556320" y="4221000"/>
            <a:ext cx="18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175520" y="4410000"/>
            <a:ext cx="119160" cy="103320"/>
          </a:xfrm>
          <a:custGeom>
            <a:avLst/>
            <a:gdLst/>
            <a:ahLst/>
            <a:rect l="l" t="t" r="r" b="b"/>
            <a:pathLst>
              <a:path w="317" h="231">
                <a:moveTo>
                  <a:pt x="317" y="115"/>
                </a:moveTo>
                <a:lnTo>
                  <a:pt x="0" y="231"/>
                </a:lnTo>
                <a:lnTo>
                  <a:pt x="158" y="115"/>
                </a:lnTo>
                <a:lnTo>
                  <a:pt x="0" y="0"/>
                </a:lnTo>
                <a:lnTo>
                  <a:pt x="317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175520" y="4410000"/>
            <a:ext cx="119160" cy="103320"/>
          </a:xfrm>
          <a:custGeom>
            <a:avLst/>
            <a:gdLst/>
            <a:ahLst/>
            <a:rect l="l" t="t" r="r" b="b"/>
            <a:pathLst>
              <a:path w="317" h="231">
                <a:moveTo>
                  <a:pt x="317" y="115"/>
                </a:moveTo>
                <a:lnTo>
                  <a:pt x="0" y="231"/>
                </a:lnTo>
                <a:lnTo>
                  <a:pt x="158" y="115"/>
                </a:lnTo>
                <a:lnTo>
                  <a:pt x="0" y="0"/>
                </a:lnTo>
                <a:lnTo>
                  <a:pt x="317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6570360" y="4462560"/>
            <a:ext cx="7239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70720" y="4462560"/>
            <a:ext cx="14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951600" y="4667400"/>
            <a:ext cx="11916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6" y="115"/>
                </a:lnTo>
                <a:lnTo>
                  <a:pt x="0" y="0"/>
                </a:lnTo>
                <a:lnTo>
                  <a:pt x="315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51600" y="4667400"/>
            <a:ext cx="119160" cy="10296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6" y="115"/>
                </a:lnTo>
                <a:lnTo>
                  <a:pt x="0" y="0"/>
                </a:lnTo>
                <a:lnTo>
                  <a:pt x="315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555960" y="4718160"/>
            <a:ext cx="51444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56320" y="4718160"/>
            <a:ext cx="180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826320" y="4925880"/>
            <a:ext cx="119160" cy="10332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7" y="115"/>
                </a:lnTo>
                <a:lnTo>
                  <a:pt x="0" y="0"/>
                </a:lnTo>
                <a:lnTo>
                  <a:pt x="315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26320" y="4925880"/>
            <a:ext cx="119160" cy="103320"/>
          </a:xfrm>
          <a:custGeom>
            <a:avLst/>
            <a:gdLst/>
            <a:ahLst/>
            <a:rect l="l" t="t" r="r" b="b"/>
            <a:pathLst>
              <a:path w="315" h="229">
                <a:moveTo>
                  <a:pt x="315" y="115"/>
                </a:moveTo>
                <a:lnTo>
                  <a:pt x="0" y="229"/>
                </a:lnTo>
                <a:lnTo>
                  <a:pt x="157" y="115"/>
                </a:lnTo>
                <a:lnTo>
                  <a:pt x="0" y="0"/>
                </a:lnTo>
                <a:lnTo>
                  <a:pt x="315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6543720" y="4976640"/>
            <a:ext cx="40176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43720" y="4976640"/>
            <a:ext cx="144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31000" y="5173560"/>
            <a:ext cx="120600" cy="10332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31000" y="5173560"/>
            <a:ext cx="120600" cy="10332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6564240" y="5227560"/>
            <a:ext cx="3873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64240" y="5227560"/>
            <a:ext cx="180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937200" y="5430960"/>
            <a:ext cx="120960" cy="1047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937200" y="5430960"/>
            <a:ext cx="120960" cy="10476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15" y="116"/>
                </a:moveTo>
                <a:lnTo>
                  <a:pt x="0" y="230"/>
                </a:lnTo>
                <a:lnTo>
                  <a:pt x="158" y="116"/>
                </a:lnTo>
                <a:lnTo>
                  <a:pt x="0" y="0"/>
                </a:lnTo>
                <a:lnTo>
                  <a:pt x="315" y="116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564240" y="5483160"/>
            <a:ext cx="49392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564240" y="5483160"/>
            <a:ext cx="180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042320" y="568152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5"/>
                </a:moveTo>
                <a:lnTo>
                  <a:pt x="0" y="230"/>
                </a:lnTo>
                <a:lnTo>
                  <a:pt x="159" y="115"/>
                </a:lnTo>
                <a:lnTo>
                  <a:pt x="0" y="0"/>
                </a:lnTo>
                <a:lnTo>
                  <a:pt x="316" y="115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42320" y="5681520"/>
            <a:ext cx="122040" cy="103320"/>
          </a:xfrm>
          <a:custGeom>
            <a:avLst/>
            <a:gdLst/>
            <a:ahLst/>
            <a:rect l="l" t="t" r="r" b="b"/>
            <a:pathLst>
              <a:path w="316" h="230">
                <a:moveTo>
                  <a:pt x="316" y="115"/>
                </a:moveTo>
                <a:lnTo>
                  <a:pt x="0" y="230"/>
                </a:lnTo>
                <a:lnTo>
                  <a:pt x="159" y="115"/>
                </a:lnTo>
                <a:lnTo>
                  <a:pt x="0" y="0"/>
                </a:lnTo>
                <a:lnTo>
                  <a:pt x="316" y="115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543720" y="5732640"/>
            <a:ext cx="6206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43720" y="5732640"/>
            <a:ext cx="1440" cy="288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15120" y="5946840"/>
            <a:ext cx="119160" cy="101520"/>
          </a:xfrm>
          <a:custGeom>
            <a:avLst/>
            <a:gdLst/>
            <a:ahLst/>
            <a:rect l="l" t="t" r="r" b="b"/>
            <a:pathLst>
              <a:path w="315" h="228">
                <a:moveTo>
                  <a:pt x="315" y="114"/>
                </a:moveTo>
                <a:lnTo>
                  <a:pt x="0" y="228"/>
                </a:lnTo>
                <a:lnTo>
                  <a:pt x="157" y="114"/>
                </a:lnTo>
                <a:lnTo>
                  <a:pt x="0" y="0"/>
                </a:lnTo>
                <a:lnTo>
                  <a:pt x="315" y="114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215120" y="5946840"/>
            <a:ext cx="119160" cy="101520"/>
          </a:xfrm>
          <a:custGeom>
            <a:avLst/>
            <a:gdLst/>
            <a:ahLst/>
            <a:rect l="l" t="t" r="r" b="b"/>
            <a:pathLst>
              <a:path w="315" h="228">
                <a:moveTo>
                  <a:pt x="315" y="114"/>
                </a:moveTo>
                <a:lnTo>
                  <a:pt x="0" y="228"/>
                </a:lnTo>
                <a:lnTo>
                  <a:pt x="157" y="114"/>
                </a:lnTo>
                <a:lnTo>
                  <a:pt x="0" y="0"/>
                </a:lnTo>
                <a:lnTo>
                  <a:pt x="315" y="114"/>
                </a:lnTo>
              </a:path>
            </a:pathLst>
          </a:custGeom>
          <a:solidFill>
            <a:srgbClr val="000066"/>
          </a:soli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6551640" y="5996160"/>
            <a:ext cx="782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551640" y="5996160"/>
            <a:ext cx="14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6548400" y="3956040"/>
            <a:ext cx="1600200" cy="2057400"/>
            <a:chOff x="6548400" y="3956040"/>
            <a:chExt cx="1600200" cy="2057400"/>
          </a:xfrm>
        </p:grpSpPr>
        <p:sp>
          <p:nvSpPr>
            <p:cNvPr id="886" name=""/>
            <p:cNvSpPr/>
            <p:nvPr/>
          </p:nvSpPr>
          <p:spPr>
            <a:xfrm>
              <a:off x="6548400" y="3970080"/>
              <a:ext cx="6480" cy="2027520"/>
            </a:xfrm>
            <a:custGeom>
              <a:avLst/>
              <a:gdLst/>
              <a:ahLst/>
              <a:rect l="l" t="t" r="r" b="b"/>
              <a:pathLst>
                <a:path w="3" h="902">
                  <a:moveTo>
                    <a:pt x="3" y="0"/>
                  </a:moveTo>
                  <a:lnTo>
                    <a:pt x="0" y="902"/>
                  </a:ln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35760" y="3956040"/>
              <a:ext cx="1212840" cy="2057400"/>
            </a:xfrm>
            <a:custGeom>
              <a:avLst/>
              <a:gdLst/>
              <a:ahLst/>
              <a:rect l="l" t="t" r="r" b="b"/>
              <a:pathLst>
                <a:path w="639" h="915">
                  <a:moveTo>
                    <a:pt x="639" y="0"/>
                  </a:moveTo>
                  <a:cubicBezTo>
                    <a:pt x="619" y="6"/>
                    <a:pt x="559" y="22"/>
                    <a:pt x="521" y="36"/>
                  </a:cubicBezTo>
                  <a:cubicBezTo>
                    <a:pt x="483" y="50"/>
                    <a:pt x="447" y="69"/>
                    <a:pt x="413" y="86"/>
                  </a:cubicBezTo>
                  <a:cubicBezTo>
                    <a:pt x="379" y="103"/>
                    <a:pt x="346" y="121"/>
                    <a:pt x="317" y="138"/>
                  </a:cubicBezTo>
                  <a:cubicBezTo>
                    <a:pt x="288" y="155"/>
                    <a:pt x="263" y="175"/>
                    <a:pt x="240" y="191"/>
                  </a:cubicBezTo>
                  <a:cubicBezTo>
                    <a:pt x="217" y="207"/>
                    <a:pt x="196" y="222"/>
                    <a:pt x="177" y="237"/>
                  </a:cubicBezTo>
                  <a:cubicBezTo>
                    <a:pt x="158" y="252"/>
                    <a:pt x="144" y="264"/>
                    <a:pt x="128" y="279"/>
                  </a:cubicBezTo>
                  <a:cubicBezTo>
                    <a:pt x="112" y="294"/>
                    <a:pt x="96" y="313"/>
                    <a:pt x="81" y="329"/>
                  </a:cubicBezTo>
                  <a:cubicBezTo>
                    <a:pt x="66" y="345"/>
                    <a:pt x="46" y="364"/>
                    <a:pt x="36" y="378"/>
                  </a:cubicBezTo>
                  <a:cubicBezTo>
                    <a:pt x="26" y="392"/>
                    <a:pt x="25" y="400"/>
                    <a:pt x="21" y="411"/>
                  </a:cubicBezTo>
                  <a:cubicBezTo>
                    <a:pt x="17" y="422"/>
                    <a:pt x="12" y="436"/>
                    <a:pt x="9" y="447"/>
                  </a:cubicBezTo>
                  <a:cubicBezTo>
                    <a:pt x="6" y="458"/>
                    <a:pt x="4" y="467"/>
                    <a:pt x="3" y="477"/>
                  </a:cubicBezTo>
                  <a:cubicBezTo>
                    <a:pt x="2" y="487"/>
                    <a:pt x="0" y="497"/>
                    <a:pt x="0" y="506"/>
                  </a:cubicBezTo>
                  <a:cubicBezTo>
                    <a:pt x="0" y="515"/>
                    <a:pt x="1" y="526"/>
                    <a:pt x="2" y="534"/>
                  </a:cubicBezTo>
                  <a:cubicBezTo>
                    <a:pt x="3" y="542"/>
                    <a:pt x="3" y="545"/>
                    <a:pt x="6" y="554"/>
                  </a:cubicBezTo>
                  <a:cubicBezTo>
                    <a:pt x="9" y="563"/>
                    <a:pt x="14" y="580"/>
                    <a:pt x="18" y="591"/>
                  </a:cubicBezTo>
                  <a:cubicBezTo>
                    <a:pt x="22" y="602"/>
                    <a:pt x="26" y="612"/>
                    <a:pt x="30" y="623"/>
                  </a:cubicBezTo>
                  <a:cubicBezTo>
                    <a:pt x="34" y="634"/>
                    <a:pt x="37" y="642"/>
                    <a:pt x="45" y="657"/>
                  </a:cubicBezTo>
                  <a:cubicBezTo>
                    <a:pt x="53" y="672"/>
                    <a:pt x="68" y="695"/>
                    <a:pt x="78" y="711"/>
                  </a:cubicBezTo>
                  <a:cubicBezTo>
                    <a:pt x="88" y="727"/>
                    <a:pt x="92" y="739"/>
                    <a:pt x="102" y="755"/>
                  </a:cubicBezTo>
                  <a:cubicBezTo>
                    <a:pt x="112" y="771"/>
                    <a:pt x="123" y="791"/>
                    <a:pt x="135" y="809"/>
                  </a:cubicBezTo>
                  <a:cubicBezTo>
                    <a:pt x="147" y="827"/>
                    <a:pt x="160" y="843"/>
                    <a:pt x="173" y="861"/>
                  </a:cubicBezTo>
                  <a:cubicBezTo>
                    <a:pt x="186" y="879"/>
                    <a:pt x="205" y="904"/>
                    <a:pt x="213" y="915"/>
                  </a:cubicBezTo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8922-E8B3-4F21-A659-17AA4D7CF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5160" indent="-425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lecture is concerned with compression members (e.g. pin-ended struts) subject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xial compression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end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 columns are often end restrained, loaded with accidental eccentricities and sometimes subjected to small transverse load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 is distinguished betwee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cky colum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ender colum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5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troduction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1A70-B434-4825-8F3E-0665DF1EF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06472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pt of ‘relative slenderness’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1 fo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ass 1 - 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sec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β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ef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/A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1 fo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ass 4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sec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lative slendernes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826920" y="2560680"/>
          <a:ext cx="2202120" cy="12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0680"/>
                    <a:ext cx="220212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"/>
          <p:cNvGraphicFramePr/>
          <p:nvPr/>
        </p:nvGraphicFramePr>
        <p:xfrm>
          <a:off x="826920" y="4098960"/>
          <a:ext cx="23558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098960"/>
                    <a:ext cx="2355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9A4F-03D1-4446-9197-1C9197A309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lumn buckling curve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5160" indent="-42516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d on experi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1100 tes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ot-rolled sections and hollow sec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ge of slenderness ratios between 55 and 160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rted by numerical investiga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ckling resistance obtained as a reduction factor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pplied to the section resistance </a:t>
            </a:r>
            <a:r>
              <a:rPr b="0" i="1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A f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Reduction factor’</a:t>
            </a: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related to the relative slenderness      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ckling curve: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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 Unicode MS"/>
              </a:rPr>
              <a:t>f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2771640" y="4959360"/>
          <a:ext cx="3682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959360"/>
                    <a:ext cx="368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3987720" y="5492880"/>
          <a:ext cx="314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7720" y="5492880"/>
                    <a:ext cx="314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42DD-7DB3-42B9-A7FD-44ED54AD51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lumn buckling curves (2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 out-of-straightnes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pe: Similar to first bucking mode, i.e. half sine-wav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: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1000 as substantiated by measureme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idual stresses related to section type and drawn from measur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ve basic curves relative respectively to some  cross-section types and characterized by specific values of imperfection factor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D87B-0AE9-42B7-B338-8119AA60CA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lumn buckling curves (3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6EAB-5697-4A08-ABD0-9D0CAB75B4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olumn buckling curves (4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alytical expression of buckling curv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1390680" y="2235240"/>
          <a:ext cx="339732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2235240"/>
                    <a:ext cx="339732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"/>
          <p:cNvGraphicFramePr/>
          <p:nvPr/>
        </p:nvGraphicFramePr>
        <p:xfrm>
          <a:off x="1390680" y="3789360"/>
          <a:ext cx="47307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0680" y="3789360"/>
                    <a:ext cx="4730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D956-1C45-4ACD-B595-151943991A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mperfection factor </a:t>
            </a:r>
            <a:r>
              <a:rPr b="0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Imperfection factor</a:t>
            </a: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s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pe of column cross-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xis of buckling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xi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brication process (hot-rolled, welded or cold-formed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ssiveness measured a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h/b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for hot-rolled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539640" y="4149720"/>
          <a:ext cx="8078760" cy="1368360"/>
        </p:xfrm>
        <a:graphic>
          <a:graphicData uri="http://schemas.openxmlformats.org/drawingml/2006/table">
            <a:tbl>
              <a:tblPr/>
              <a:tblGrid>
                <a:gridCol w="4333680"/>
                <a:gridCol w="936720"/>
                <a:gridCol w="936720"/>
                <a:gridCol w="934920"/>
                <a:gridCol w="93672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3492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uckling curve                   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erfection factor           0,1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2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3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76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3851280" y="4149720"/>
            <a:ext cx="0" cy="1368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2ED9-D96D-434B-AA67-CBCC45EC11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an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ppropriate buckling curv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250920" y="1773360"/>
          <a:ext cx="8353440" cy="4152600"/>
        </p:xfrm>
        <a:graphic>
          <a:graphicData uri="http://schemas.openxmlformats.org/drawingml/2006/table">
            <a:tbl>
              <a:tblPr/>
              <a:tblGrid>
                <a:gridCol w="2087640"/>
                <a:gridCol w="1728720"/>
                <a:gridCol w="1655640"/>
                <a:gridCol w="1441440"/>
                <a:gridCol w="1440000"/>
              </a:tblGrid>
              <a:tr h="1087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oss-section typ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abrication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uckling about axis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uckling curv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235       S46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42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ollow sections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Hot-finish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ld-form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6" name=""/>
          <p:cNvSpPr/>
          <p:nvPr/>
        </p:nvSpPr>
        <p:spPr>
          <a:xfrm flipV="1">
            <a:off x="7164360" y="2860200"/>
            <a:ext cx="0" cy="1087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9F73-7198-42EC-B59C-F903E77CE4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sign step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94120" indent="-2941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ation of ‘buckling lengths’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cr,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cr,z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lative to flexural buckling about respectively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xis, based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7560" indent="-2268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ngth between restrai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7560" indent="-2268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details producing end restrai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4120" indent="-2941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 a steel grade and deduce yield strength for appropriate thickness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120" indent="-2941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 a hollow section based on rough preliminary design or design experien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120" indent="-2941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e section properties :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A, I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, I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226F-35EE-4F23-8154-9CE385AA97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sign step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ulate the ‘characteristic’ section resistan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Rk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Af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ulate the elastic ‘critical loads’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duce ‘relative slenderness’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455840" y="3081240"/>
          <a:ext cx="193968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3081240"/>
                    <a:ext cx="19396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5448240" y="3081240"/>
          <a:ext cx="188928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8240" y="3081240"/>
                    <a:ext cx="18892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1533600" y="4869000"/>
          <a:ext cx="165888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3600" y="4869000"/>
                    <a:ext cx="16588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"/>
          <p:cNvGraphicFramePr/>
          <p:nvPr/>
        </p:nvGraphicFramePr>
        <p:xfrm>
          <a:off x="5508720" y="4875120"/>
          <a:ext cx="1619280" cy="9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4875120"/>
                    <a:ext cx="161928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670E-10DC-461F-B573-E140D38919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sign step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he larger relative slenderness (only applicable to hollow sections!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 appropriate buckling curve based o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ming proc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el grad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 the value of the ‘imperfection factor’ associated to this curv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ulate the ‘reduction factor’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2292480" y="2276640"/>
          <a:ext cx="271116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2276640"/>
                    <a:ext cx="2711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753160" y="5041800"/>
          <a:ext cx="208908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53160" y="5041800"/>
                    <a:ext cx="20890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7453440" y="4292640"/>
          <a:ext cx="34272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3440" y="4292640"/>
                    <a:ext cx="3427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28AE-15FA-4E11-AD55-084DF4AE2F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ability phenomenon associated to axially compressed columns is termed  ‘column buckling’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umn buckling may appears in three different ways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ural buckling’ about one of the principal ax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rsional buckling’ by twisting about the longitudinal ax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rsional-flexural buckling’, which is an interactive buckling involving both above phenomen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troduction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C167-3FF1-4FC2-A2FF-AE82ACD260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esign steps (4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lculate the ‘design buckling resistance’ of the colum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 check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b,Rd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 &gt; N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ccept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04812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b.Rd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 &lt; N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unacceptabl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 Requirement fo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zing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1209600" y="2664000"/>
          <a:ext cx="247824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2664000"/>
                    <a:ext cx="24782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B1AE-268A-4964-8CC7-80B0BC248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Concluding summary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umn buckling = Instability of axially loaded compression member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umn buckling may occur by: a) flexural buckling, b) torsional buckling or c) torsional-flexural buckl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to their high torsional properties, hollow sections are mostly concerned with flexural buckling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ural column buckling may occur by bending about anyone of the principal axes of the cross-section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each direction of possible buckling, a column buckling length must be determin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cky columns are unaffected by column buckling but may be affected by local plate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155F-0504-4225-882F-498E1D4E47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Concluding summar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stocky column = Squash load, i.e. plastic axial resistance of gross cross-section (Class 1, 2, 3 sections) or effective cross-section (Class 4 section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ender columns with high slenderness fail mostly by elastic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ender columns with medium slenderness are the most sensitive to the effects of imperfections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fail by inelastic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slender column is lower than both the squash load and the elastic critical buckling load; it is assessed based on column buckling curv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74DA-7E5A-4F62-A7E7-43FC1E8FFA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summary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ppropriate column buckling curve is selected based on the forming process – hot finished or cold forme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the steel grad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ntering this curve with the relative slenderness provides the corresponding reduction facto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duction factor used as a ‘knock-down’ factor to be applied on the section resistance to get the buckling resistanc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eck of the buckling resistance to be conducted for both possible directions of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34FA-EEA8-42E9-BDB0-0EAC9481F8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troduction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e of column buckling depends on geometry of the sec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ural buckling: especially for doubly symmetrical sections, such as hot-rolled I and H sections and RHS and CH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rsional buckling : mostly academic proble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rsional-flexural buckling: especially for open sections where centroid and shear centre do not coincid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llow sections fail normally by flexural buckling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ole buckling phenomenon covered herei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CEBD-77D0-45D2-A378-AF019C60D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ocky colum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acteristics of stocky columns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y low slender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ffected by overall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sibly affected by local buckl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ressive resistance of stocky colum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function of the section classification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by the resistance of the cross-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C1F9-BBC5-4383-A21C-3EA6B33ACD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ocky colum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, 2, 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ross-s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ffected by local buckling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rtial safety factor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M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section resistance = Design ‘plastic section resistance’: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pl,Rd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compression resistance of the column = Design section resistance 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08160" y="4349880"/>
          <a:ext cx="26161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8160" y="4349880"/>
                    <a:ext cx="2616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FBE5-9148-45F8-8DED-ADE1559EFB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tocky column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ross-s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l buckling in the elastic range preventing attainment of the squash load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rtial safety factor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M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section resistance is the ‘local buckling resistance’, i.e. the design plastic resistance of the ‘effective section’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ative to uniform compression: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eff,pl.Rd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compression resistance of the column = Design section resistance is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38320" y="5178600"/>
          <a:ext cx="29973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5178600"/>
                    <a:ext cx="299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7662-0B89-4D6E-8263-1EE828764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lender colum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7160" indent="-407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lender columns of ‘high’ slenderness: quasi elastic buckling behavio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07160" indent="-407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lender columns of ‘medium’ slenderness:  sensitive to imperfections and large interaction between yielding and column buckling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07160" indent="-407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astic Euler ‘critical flexural column buckling load’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0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0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8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moment of inertia about the bending axis involved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8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Arial"/>
              </a:rPr>
              <a:t>c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: buckling length, depending on possible restrai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195640" y="4149720"/>
          <a:ext cx="15872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149720"/>
                    <a:ext cx="1587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FBA-EF6B-4908-8131-614E336F8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lender colum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astic Euler critical buckling stress (flexural buckling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radius of gyration relative to the bending axis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29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column slender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16000" y="3882960"/>
          <a:ext cx="73188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882960"/>
                    <a:ext cx="7318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411280" y="2492280"/>
          <a:ext cx="2222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492280"/>
                    <a:ext cx="2222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77840" y="4572000"/>
          <a:ext cx="87012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7840" y="4572000"/>
                    <a:ext cx="8701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67FD-2F60-4C9F-B80A-B27DDA6B5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08:39Z</dcterms:created>
  <dc:creator>Oliver Rößler</dc:creator>
  <dc:description/>
  <dc:language>en-US</dc:language>
  <cp:lastModifiedBy>Klaus Weynand</cp:lastModifiedBy>
  <dcterms:modified xsi:type="dcterms:W3CDTF">2009-03-09T14:36:37Z</dcterms:modified>
  <cp:revision>30</cp:revision>
  <dc:subject/>
  <dc:title>Folie 1</dc:title>
</cp:coreProperties>
</file>