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1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37D8C-77FA-4791-A27B-F921F3E3A5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98A04-6362-47B9-805A-6A96D092EA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03803-9CB4-4CBA-8E94-41A5EF0FE1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4964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2000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7928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4964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2000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62B41-6708-4542-835C-1B89C58A62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050560" y="274680"/>
            <a:ext cx="69138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FA651-A794-4903-AE3C-0762259A5E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4964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2000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7928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14964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2000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3CA65-D2CD-4D5B-829C-F4AF0A4995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E54AF-D3C0-4DB5-9FAC-4E5FABECED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700C2-4103-440E-954D-7305A637E9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050560" y="274680"/>
            <a:ext cx="69138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079F9-102A-479C-A26B-821D5EEE86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630A5-DCDB-4A37-B53F-5842A70B65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B2C36-351F-42DA-AEEB-45BAE8AE46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D84E4-20F2-44BF-AF45-7A125A5AC5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9280" y="6132600"/>
            <a:ext cx="8785440" cy="609480"/>
            <a:chOff x="179280" y="6132600"/>
            <a:chExt cx="8785440" cy="609480"/>
          </a:xfrm>
        </p:grpSpPr>
        <p:sp>
          <p:nvSpPr>
            <p:cNvPr id="1" name=""/>
            <p:cNvSpPr/>
            <p:nvPr/>
          </p:nvSpPr>
          <p:spPr>
            <a:xfrm>
              <a:off x="539640" y="6172200"/>
              <a:ext cx="8425080" cy="534960"/>
            </a:xfrm>
            <a:prstGeom prst="roundRect">
              <a:avLst>
                <a:gd name="adj" fmla="val 712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39640" y="6132600"/>
              <a:ext cx="2365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3" name=""/>
            <p:cNvGraphicFramePr/>
            <p:nvPr/>
          </p:nvGraphicFramePr>
          <p:xfrm>
            <a:off x="179280" y="6154560"/>
            <a:ext cx="576360" cy="571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9280" y="6154560"/>
                      <a:ext cx="5763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797120" indent="-2732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136440" y="82440"/>
          <a:ext cx="115272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440" y="82440"/>
                    <a:ext cx="1152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79400" y="6176880"/>
            <a:ext cx="75614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Design of Tubular Steel Structu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Lecture 4</a:t>
            </a: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Structural idealisation and analysi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8244000" y="6453000"/>
            <a:ext cx="65880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6B15-72E8-4F32-B670-E4A64A7EF61B}" type="slidenum"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448120" y="6275520"/>
            <a:ext cx="45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66"/>
                </a:solidFill>
                <a:latin typeface="Arial"/>
              </a:rPr>
              <a:t>Feb. 2009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549360"/>
            <a:ext cx="741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COMITE  INTERNATIONAL  POUR  LE  DEVELOPPEM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ET  L'ETUDE  DE  LA  CONSTRUCTION  TUBULAI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36440" y="82440"/>
          <a:ext cx="115272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440" y="82440"/>
                    <a:ext cx="1152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1258920" y="4508640"/>
            <a:ext cx="66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esentation by …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1608120"/>
            <a:ext cx="79214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Module 2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Structural analysis and desig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2886120"/>
            <a:ext cx="79214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Lecture 4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tructural idealisation and analysi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9280" y="6132600"/>
            <a:ext cx="8785440" cy="609480"/>
            <a:chOff x="179280" y="6132600"/>
            <a:chExt cx="8785440" cy="609480"/>
          </a:xfrm>
        </p:grpSpPr>
        <p:sp>
          <p:nvSpPr>
            <p:cNvPr id="58" name=""/>
            <p:cNvSpPr/>
            <p:nvPr/>
          </p:nvSpPr>
          <p:spPr>
            <a:xfrm>
              <a:off x="539640" y="6172200"/>
              <a:ext cx="8425080" cy="534960"/>
            </a:xfrm>
            <a:prstGeom prst="roundRect">
              <a:avLst>
                <a:gd name="adj" fmla="val 712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39640" y="6132600"/>
              <a:ext cx="2365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60" name=""/>
            <p:cNvGraphicFramePr/>
            <p:nvPr/>
          </p:nvGraphicFramePr>
          <p:xfrm>
            <a:off x="179280" y="6154560"/>
            <a:ext cx="576360" cy="571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9280" y="6154560"/>
                      <a:ext cx="5763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2" name=""/>
          <p:cNvSpPr/>
          <p:nvPr/>
        </p:nvSpPr>
        <p:spPr>
          <a:xfrm>
            <a:off x="779400" y="6176880"/>
            <a:ext cx="75614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Design of Tubular Steel Structu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Training and Education for the Implementation of Eurocode 3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318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60640" algn="ctr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523880" algn="ctr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1976400" algn="ctr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5" marL="1976400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6" marL="1976400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47280" y="274680"/>
            <a:ext cx="74170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Modelling of lattice girders for analysi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8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tailing of the joints may lead to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eccentricities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etween the axes of the connected members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8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se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eccentricities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result in bending moments in the members and in the joints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8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is basically requires to model the joint in a way that allows for this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8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implified methods that allow to consider the effects of such eccentricities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n the analysi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are described in Eurocode 3 Part 1-8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EFFC7-9B32-41BC-87D7-6281A50231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47280" y="274680"/>
            <a:ext cx="74170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Modelling of lattice girders for analysi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8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oments resulting from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eccentricities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may be neglected 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in the design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of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8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ension chord memb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8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race memb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300"/>
              </a:spcBef>
              <a:buNone/>
              <a:tabLst>
                <a:tab algn="l" pos="98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8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y may also be neglected 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in the design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of joints, if the eccentricities are within limits specified on the next slide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538D0-6B3E-4748-A27B-7E83A75492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19280" y="274680"/>
            <a:ext cx="7345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Modelling of lattice girders for analysi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68320" y="2205000"/>
          <a:ext cx="360216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8320" y="2205000"/>
                    <a:ext cx="360216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941400" y="2997360"/>
          <a:ext cx="3527280" cy="59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41400" y="2997360"/>
                    <a:ext cx="352728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971640" y="4221000"/>
            <a:ext cx="39607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</a:t>
            </a:r>
            <a:r>
              <a:rPr b="0" lang="en-GB" sz="18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is the diameter of the chord (CH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0" lang="en-GB" sz="18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is the depth of the chord in the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lane of the girder (RH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is the eccentricit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26920" y="2060640"/>
            <a:ext cx="3816360" cy="16556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959360" y="1682640"/>
          <a:ext cx="4076640" cy="42674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9360" y="1682640"/>
                    <a:ext cx="407664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6F653-6D96-43E0-B4B7-64ACB60D41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19280" y="274680"/>
            <a:ext cx="7345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Modelling of lattice girders for analysi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00000" y="162864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Summary table – allowance for bending mom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68360" y="2205000"/>
          <a:ext cx="8351640" cy="3600360"/>
        </p:xfrm>
        <a:graphic>
          <a:graphicData uri="http://schemas.openxmlformats.org/drawingml/2006/table">
            <a:tbl>
              <a:tblPr/>
              <a:tblGrid>
                <a:gridCol w="2087640"/>
                <a:gridCol w="2089080"/>
                <a:gridCol w="2087640"/>
                <a:gridCol w="2087280"/>
              </a:tblGrid>
              <a:tr h="374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ype of component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Source of the bending moment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Secondary effects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ransverse loading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ccentricity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ompression chor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Not if the conditions from Part 1-8 5.1.5(3) specified above are satisfie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ension chor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Brace member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Joint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Not if the conditions from Part 1-8 5.1.5(5) specified above are satisfie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55FFD-5B8C-4BB2-BF0C-7676D04D55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Global analysi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99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Aims of global frame analysis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termine the distribution of the internal forc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termine the corresponding deforma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99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Means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dequate models incorporating assumptions about the behaviour of the structure and its components (members and joint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6640D-82CA-4B77-9F2B-FB9FC9606F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Requirements for analysi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asic principles to be satisfied: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quilibrium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roughout the structu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Compatibility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of deformation between the frame compon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Constitutive law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for the frame compon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rame model - element model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ust satisfy the basic principl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A1FC3-5C7B-4C19-8B8B-35E37D2FDD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Frame behaviour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342160" y="1484280"/>
            <a:ext cx="184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isplace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8560" y="176832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oa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24360" y="2421000"/>
            <a:ext cx="3816360" cy="3146400"/>
          </a:xfrm>
          <a:custGeom>
            <a:avLst/>
            <a:gdLst/>
            <a:ahLst/>
            <a:rect l="l" t="t" r="r" b="b"/>
            <a:pathLst>
              <a:path w="3309" h="2672">
                <a:moveTo>
                  <a:pt x="0" y="2672"/>
                </a:moveTo>
                <a:lnTo>
                  <a:pt x="782" y="1193"/>
                </a:lnTo>
                <a:lnTo>
                  <a:pt x="894" y="971"/>
                </a:lnTo>
                <a:lnTo>
                  <a:pt x="1004" y="780"/>
                </a:lnTo>
                <a:lnTo>
                  <a:pt x="1093" y="632"/>
                </a:lnTo>
                <a:lnTo>
                  <a:pt x="1194" y="493"/>
                </a:lnTo>
                <a:lnTo>
                  <a:pt x="1309" y="368"/>
                </a:lnTo>
                <a:lnTo>
                  <a:pt x="1431" y="239"/>
                </a:lnTo>
                <a:lnTo>
                  <a:pt x="1552" y="155"/>
                </a:lnTo>
                <a:lnTo>
                  <a:pt x="1699" y="70"/>
                </a:lnTo>
                <a:lnTo>
                  <a:pt x="1835" y="30"/>
                </a:lnTo>
                <a:lnTo>
                  <a:pt x="1967" y="0"/>
                </a:lnTo>
                <a:lnTo>
                  <a:pt x="2124" y="0"/>
                </a:lnTo>
                <a:lnTo>
                  <a:pt x="2293" y="8"/>
                </a:lnTo>
                <a:lnTo>
                  <a:pt x="2472" y="70"/>
                </a:lnTo>
                <a:lnTo>
                  <a:pt x="2593" y="125"/>
                </a:lnTo>
                <a:lnTo>
                  <a:pt x="2740" y="218"/>
                </a:lnTo>
                <a:lnTo>
                  <a:pt x="2873" y="338"/>
                </a:lnTo>
                <a:lnTo>
                  <a:pt x="2997" y="442"/>
                </a:lnTo>
                <a:lnTo>
                  <a:pt x="3098" y="537"/>
                </a:lnTo>
                <a:lnTo>
                  <a:pt x="3187" y="641"/>
                </a:lnTo>
                <a:lnTo>
                  <a:pt x="3309" y="780"/>
                </a:lnTo>
              </a:path>
            </a:pathLst>
          </a:custGeom>
          <a:noFill/>
          <a:ln w="334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818240" y="4068720"/>
            <a:ext cx="1991160" cy="366120"/>
            <a:chOff x="4818240" y="4068720"/>
            <a:chExt cx="1991160" cy="366120"/>
          </a:xfrm>
        </p:grpSpPr>
        <p:grpSp>
          <p:nvGrpSpPr>
            <p:cNvPr id="229" name=""/>
            <p:cNvGrpSpPr/>
            <p:nvPr/>
          </p:nvGrpSpPr>
          <p:grpSpPr>
            <a:xfrm>
              <a:off x="4818240" y="4092480"/>
              <a:ext cx="415800" cy="121680"/>
              <a:chOff x="4818240" y="4092480"/>
              <a:chExt cx="415800" cy="121680"/>
            </a:xfrm>
          </p:grpSpPr>
          <p:sp>
            <p:nvSpPr>
              <p:cNvPr id="230" name=""/>
              <p:cNvSpPr/>
              <p:nvPr/>
            </p:nvSpPr>
            <p:spPr>
              <a:xfrm>
                <a:off x="4829760" y="4162680"/>
                <a:ext cx="404280" cy="180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818240" y="4092480"/>
                <a:ext cx="69480" cy="121680"/>
              </a:xfrm>
              <a:custGeom>
                <a:avLst/>
                <a:gdLst/>
                <a:ahLst/>
                <a:rect l="l" t="t" r="r" b="b"/>
                <a:pathLst>
                  <a:path w="60" h="104">
                    <a:moveTo>
                      <a:pt x="0" y="60"/>
                    </a:moveTo>
                    <a:lnTo>
                      <a:pt x="60" y="0"/>
                    </a:lnTo>
                    <a:lnTo>
                      <a:pt x="60" y="104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66"/>
              </a:solidFill>
              <a:ln w="111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5286240" y="4068720"/>
              <a:ext cx="152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66"/>
                  </a:solidFill>
                  <a:latin typeface="Arial"/>
                </a:rPr>
                <a:t>Elastic limi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6804000" y="2347920"/>
            <a:ext cx="1860480" cy="366120"/>
            <a:chOff x="6804000" y="2347920"/>
            <a:chExt cx="1860480" cy="366120"/>
          </a:xfrm>
        </p:grpSpPr>
        <p:grpSp>
          <p:nvGrpSpPr>
            <p:cNvPr id="234" name=""/>
            <p:cNvGrpSpPr/>
            <p:nvPr/>
          </p:nvGrpSpPr>
          <p:grpSpPr>
            <a:xfrm>
              <a:off x="6804000" y="2373480"/>
              <a:ext cx="417240" cy="121680"/>
              <a:chOff x="6804000" y="2373480"/>
              <a:chExt cx="417240" cy="121680"/>
            </a:xfrm>
          </p:grpSpPr>
          <p:sp>
            <p:nvSpPr>
              <p:cNvPr id="235" name=""/>
              <p:cNvSpPr/>
              <p:nvPr/>
            </p:nvSpPr>
            <p:spPr>
              <a:xfrm>
                <a:off x="6818040" y="2441160"/>
                <a:ext cx="403200" cy="252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804000" y="2373480"/>
                <a:ext cx="71640" cy="121680"/>
              </a:xfrm>
              <a:custGeom>
                <a:avLst/>
                <a:gdLst/>
                <a:ahLst/>
                <a:rect l="l" t="t" r="r" b="b"/>
                <a:pathLst>
                  <a:path w="62" h="104">
                    <a:moveTo>
                      <a:pt x="0" y="56"/>
                    </a:moveTo>
                    <a:lnTo>
                      <a:pt x="62" y="0"/>
                    </a:lnTo>
                    <a:lnTo>
                      <a:pt x="62" y="104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66"/>
              </a:solidFill>
              <a:ln w="111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7310520" y="2347920"/>
              <a:ext cx="1353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66"/>
                  </a:solidFill>
                  <a:latin typeface="Arial"/>
                </a:rPr>
                <a:t>Peak load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 flipV="1">
            <a:off x="4703760" y="2161800"/>
            <a:ext cx="927000" cy="1893960"/>
          </a:xfrm>
          <a:prstGeom prst="line">
            <a:avLst/>
          </a:prstGeom>
          <a:ln w="12600">
            <a:solidFill>
              <a:srgbClr val="cc33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5743440" y="1546200"/>
            <a:ext cx="2784600" cy="731880"/>
            <a:chOff x="5743440" y="1546200"/>
            <a:chExt cx="2784600" cy="731880"/>
          </a:xfrm>
        </p:grpSpPr>
        <p:grpSp>
          <p:nvGrpSpPr>
            <p:cNvPr id="240" name=""/>
            <p:cNvGrpSpPr/>
            <p:nvPr/>
          </p:nvGrpSpPr>
          <p:grpSpPr>
            <a:xfrm>
              <a:off x="5743440" y="2100240"/>
              <a:ext cx="416880" cy="121680"/>
              <a:chOff x="5743440" y="2100240"/>
              <a:chExt cx="416880" cy="121680"/>
            </a:xfrm>
          </p:grpSpPr>
          <p:sp>
            <p:nvSpPr>
              <p:cNvPr id="241" name=""/>
              <p:cNvSpPr/>
              <p:nvPr/>
            </p:nvSpPr>
            <p:spPr>
              <a:xfrm>
                <a:off x="5756760" y="2170440"/>
                <a:ext cx="403560" cy="252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743440" y="2100240"/>
                <a:ext cx="70920" cy="121680"/>
              </a:xfrm>
              <a:custGeom>
                <a:avLst/>
                <a:gdLst/>
                <a:ahLst/>
                <a:rect l="l" t="t" r="r" b="b"/>
                <a:pathLst>
                  <a:path w="61" h="104">
                    <a:moveTo>
                      <a:pt x="0" y="60"/>
                    </a:moveTo>
                    <a:lnTo>
                      <a:pt x="61" y="0"/>
                    </a:lnTo>
                    <a:lnTo>
                      <a:pt x="61" y="104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66"/>
              </a:solidFill>
              <a:ln w="111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6276960" y="1546200"/>
              <a:ext cx="2251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66"/>
                  </a:solidFill>
                  <a:latin typeface="Arial"/>
                </a:rPr>
                <a:t>Full elastic respons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276720" y="1916280"/>
            <a:ext cx="5686200" cy="4160160"/>
            <a:chOff x="3276720" y="1916280"/>
            <a:chExt cx="5686200" cy="4160160"/>
          </a:xfrm>
        </p:grpSpPr>
        <p:sp>
          <p:nvSpPr>
            <p:cNvPr id="245" name=""/>
            <p:cNvSpPr/>
            <p:nvPr/>
          </p:nvSpPr>
          <p:spPr>
            <a:xfrm rot="16200000">
              <a:off x="2383560" y="3405600"/>
              <a:ext cx="215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66"/>
                  </a:solidFill>
                  <a:latin typeface="Arial"/>
                </a:rPr>
                <a:t>Load parameter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593320" y="5710320"/>
              <a:ext cx="331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66"/>
                  </a:solidFill>
                  <a:latin typeface="Arial"/>
                </a:rPr>
                <a:t>Displacement parameter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75000" y="1916280"/>
              <a:ext cx="174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</a:t>
              </a:r>
              <a:endParaRPr b="0" lang="en-US" sz="25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3911760" y="5541840"/>
              <a:ext cx="5051160" cy="50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39240" bIns="-3924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911760" y="2022480"/>
              <a:ext cx="0" cy="35244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641520" y="2193840"/>
            <a:ext cx="171000" cy="1963800"/>
            <a:chOff x="641520" y="2193840"/>
            <a:chExt cx="171000" cy="1963800"/>
          </a:xfrm>
        </p:grpSpPr>
        <p:grpSp>
          <p:nvGrpSpPr>
            <p:cNvPr id="251" name=""/>
            <p:cNvGrpSpPr/>
            <p:nvPr/>
          </p:nvGrpSpPr>
          <p:grpSpPr>
            <a:xfrm>
              <a:off x="641520" y="2193840"/>
              <a:ext cx="171000" cy="662040"/>
              <a:chOff x="641520" y="2193840"/>
              <a:chExt cx="171000" cy="662040"/>
            </a:xfrm>
          </p:grpSpPr>
          <p:sp>
            <p:nvSpPr>
              <p:cNvPr id="252" name=""/>
              <p:cNvSpPr/>
              <p:nvPr/>
            </p:nvSpPr>
            <p:spPr>
              <a:xfrm>
                <a:off x="806400" y="2193840"/>
                <a:ext cx="2880" cy="662040"/>
              </a:xfrm>
              <a:prstGeom prst="line">
                <a:avLst/>
              </a:prstGeom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641520" y="2197080"/>
                <a:ext cx="1648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641520" y="2324160"/>
                <a:ext cx="1648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641520" y="2463840"/>
                <a:ext cx="1648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641520" y="2590920"/>
                <a:ext cx="1648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641520" y="2711520"/>
                <a:ext cx="1648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647640" y="2844720"/>
                <a:ext cx="1648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641520" y="2847960"/>
              <a:ext cx="171000" cy="662040"/>
              <a:chOff x="641520" y="2847960"/>
              <a:chExt cx="171000" cy="662040"/>
            </a:xfrm>
          </p:grpSpPr>
          <p:sp>
            <p:nvSpPr>
              <p:cNvPr id="260" name=""/>
              <p:cNvSpPr/>
              <p:nvPr/>
            </p:nvSpPr>
            <p:spPr>
              <a:xfrm>
                <a:off x="806400" y="2847960"/>
                <a:ext cx="2880" cy="662040"/>
              </a:xfrm>
              <a:prstGeom prst="line">
                <a:avLst/>
              </a:prstGeom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641520" y="2851200"/>
                <a:ext cx="1648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641520" y="2978280"/>
                <a:ext cx="1648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641520" y="3117960"/>
                <a:ext cx="1648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641520" y="3245040"/>
                <a:ext cx="1648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641520" y="3365640"/>
                <a:ext cx="1648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647640" y="3498840"/>
                <a:ext cx="1648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641520" y="3495600"/>
              <a:ext cx="171000" cy="662040"/>
              <a:chOff x="641520" y="3495600"/>
              <a:chExt cx="171000" cy="662040"/>
            </a:xfrm>
          </p:grpSpPr>
          <p:sp>
            <p:nvSpPr>
              <p:cNvPr id="268" name=""/>
              <p:cNvSpPr/>
              <p:nvPr/>
            </p:nvSpPr>
            <p:spPr>
              <a:xfrm>
                <a:off x="806400" y="3495600"/>
                <a:ext cx="2880" cy="662040"/>
              </a:xfrm>
              <a:prstGeom prst="line">
                <a:avLst/>
              </a:prstGeom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641520" y="3498840"/>
                <a:ext cx="1648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641520" y="3625920"/>
                <a:ext cx="1648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641520" y="3765600"/>
                <a:ext cx="1648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641520" y="3892680"/>
                <a:ext cx="1648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641520" y="4013280"/>
                <a:ext cx="1648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647640" y="4146480"/>
                <a:ext cx="1648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1619280" y="1614240"/>
            <a:ext cx="729720" cy="314280"/>
            <a:chOff x="1619280" y="1614240"/>
            <a:chExt cx="729720" cy="314280"/>
          </a:xfrm>
        </p:grpSpPr>
        <p:sp>
          <p:nvSpPr>
            <p:cNvPr id="276" name=""/>
            <p:cNvSpPr/>
            <p:nvPr/>
          </p:nvSpPr>
          <p:spPr>
            <a:xfrm flipV="1">
              <a:off x="2119320" y="1614240"/>
              <a:ext cx="1440" cy="314280"/>
            </a:xfrm>
            <a:prstGeom prst="line">
              <a:avLst/>
            </a:prstGeom>
            <a:ln w="1908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1835280" y="1620360"/>
              <a:ext cx="2880" cy="306360"/>
            </a:xfrm>
            <a:prstGeom prst="line">
              <a:avLst/>
            </a:prstGeom>
            <a:ln w="1908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2126880" y="1790640"/>
              <a:ext cx="222120" cy="0"/>
            </a:xfrm>
            <a:prstGeom prst="line">
              <a:avLst/>
            </a:prstGeom>
            <a:ln w="1260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19280" y="1778040"/>
              <a:ext cx="222120" cy="0"/>
            </a:xfrm>
            <a:prstGeom prst="line">
              <a:avLst/>
            </a:prstGeom>
            <a:ln w="1260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123560" y="4405320"/>
            <a:ext cx="88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ra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988560" y="2166840"/>
            <a:ext cx="1090440" cy="2027880"/>
            <a:chOff x="988560" y="2166840"/>
            <a:chExt cx="1090440" cy="2027880"/>
          </a:xfrm>
        </p:grpSpPr>
        <p:grpSp>
          <p:nvGrpSpPr>
            <p:cNvPr id="282" name=""/>
            <p:cNvGrpSpPr/>
            <p:nvPr/>
          </p:nvGrpSpPr>
          <p:grpSpPr>
            <a:xfrm>
              <a:off x="988560" y="3195720"/>
              <a:ext cx="123480" cy="999000"/>
              <a:chOff x="988560" y="3195720"/>
              <a:chExt cx="123480" cy="999000"/>
            </a:xfrm>
          </p:grpSpPr>
          <p:sp>
            <p:nvSpPr>
              <p:cNvPr id="283" name=""/>
              <p:cNvSpPr/>
              <p:nvPr/>
            </p:nvSpPr>
            <p:spPr>
              <a:xfrm>
                <a:off x="1109520" y="3195720"/>
                <a:ext cx="2520" cy="8964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1103760" y="3195720"/>
                <a:ext cx="5760" cy="15444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1073880" y="3350160"/>
                <a:ext cx="29160" cy="10980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1062000" y="3460320"/>
                <a:ext cx="11880" cy="8964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1044720" y="3546360"/>
                <a:ext cx="17280" cy="7740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1030320" y="3627360"/>
                <a:ext cx="14400" cy="8604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1018080" y="3713760"/>
                <a:ext cx="5760" cy="5256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1005840" y="3766680"/>
                <a:ext cx="11880" cy="7380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1002960" y="3840480"/>
                <a:ext cx="2520" cy="7668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991080" y="3917520"/>
                <a:ext cx="11880" cy="6192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991440" y="3979440"/>
                <a:ext cx="3240" cy="4068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991440" y="4020120"/>
                <a:ext cx="3240" cy="3600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991440" y="4056120"/>
                <a:ext cx="3240" cy="4068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988560" y="4096800"/>
                <a:ext cx="2520" cy="9792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1836720" y="3195720"/>
              <a:ext cx="124560" cy="999000"/>
              <a:chOff x="1836720" y="3195720"/>
              <a:chExt cx="124560" cy="999000"/>
            </a:xfrm>
          </p:grpSpPr>
          <p:sp>
            <p:nvSpPr>
              <p:cNvPr id="298" name=""/>
              <p:cNvSpPr/>
              <p:nvPr/>
            </p:nvSpPr>
            <p:spPr>
              <a:xfrm>
                <a:off x="1958040" y="3195720"/>
                <a:ext cx="3240" cy="8964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1949400" y="3195720"/>
                <a:ext cx="8640" cy="15444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1925640" y="3350160"/>
                <a:ext cx="23400" cy="10980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1913400" y="3460320"/>
                <a:ext cx="11880" cy="8964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1896480" y="3546360"/>
                <a:ext cx="17280" cy="7740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1878120" y="3627360"/>
                <a:ext cx="18000" cy="8604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1869480" y="3713760"/>
                <a:ext cx="5760" cy="5256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1860840" y="3766680"/>
                <a:ext cx="8640" cy="7380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1854720" y="3840480"/>
                <a:ext cx="5760" cy="7668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1842120" y="3917520"/>
                <a:ext cx="11880" cy="6192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842480" y="3979440"/>
                <a:ext cx="3240" cy="4068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842480" y="4020120"/>
                <a:ext cx="3240" cy="3600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842480" y="4056120"/>
                <a:ext cx="3240" cy="4068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1836720" y="4096800"/>
                <a:ext cx="5760" cy="9792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1109520" y="2195640"/>
              <a:ext cx="126360" cy="999360"/>
              <a:chOff x="1109520" y="2195640"/>
              <a:chExt cx="126360" cy="999360"/>
            </a:xfrm>
          </p:grpSpPr>
          <p:sp>
            <p:nvSpPr>
              <p:cNvPr id="313" name=""/>
              <p:cNvSpPr/>
              <p:nvPr/>
            </p:nvSpPr>
            <p:spPr>
              <a:xfrm>
                <a:off x="1233360" y="2195640"/>
                <a:ext cx="2520" cy="8568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1224720" y="2195640"/>
                <a:ext cx="5040" cy="15876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1197720" y="2354400"/>
                <a:ext cx="26640" cy="10620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1182960" y="2460960"/>
                <a:ext cx="14400" cy="8964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1164960" y="2550600"/>
                <a:ext cx="18000" cy="7272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1150200" y="2623680"/>
                <a:ext cx="14400" cy="8568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1138320" y="2709720"/>
                <a:ext cx="11160" cy="5724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1135080" y="2766960"/>
                <a:ext cx="3240" cy="7272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1123560" y="2840040"/>
                <a:ext cx="11160" cy="7740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1118160" y="2917440"/>
                <a:ext cx="5760" cy="6084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118160" y="2978640"/>
                <a:ext cx="2520" cy="4068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118160" y="3019320"/>
                <a:ext cx="2520" cy="3312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118160" y="3052440"/>
                <a:ext cx="2520" cy="4428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1109520" y="3097080"/>
                <a:ext cx="8640" cy="9792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1949400" y="2195640"/>
              <a:ext cx="129600" cy="999360"/>
              <a:chOff x="1949400" y="2195640"/>
              <a:chExt cx="129600" cy="999360"/>
            </a:xfrm>
          </p:grpSpPr>
          <p:sp>
            <p:nvSpPr>
              <p:cNvPr id="328" name=""/>
              <p:cNvSpPr/>
              <p:nvPr/>
            </p:nvSpPr>
            <p:spPr>
              <a:xfrm>
                <a:off x="2076480" y="2195640"/>
                <a:ext cx="2520" cy="8568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2064240" y="2195640"/>
                <a:ext cx="11880" cy="15876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2043360" y="2354400"/>
                <a:ext cx="20520" cy="10620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2028960" y="2460960"/>
                <a:ext cx="14400" cy="8964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2005200" y="2550600"/>
                <a:ext cx="23400" cy="7272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1993320" y="2623680"/>
                <a:ext cx="18000" cy="8568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1987560" y="2709720"/>
                <a:ext cx="5760" cy="5724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1975680" y="2766960"/>
                <a:ext cx="11160" cy="7272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>
                <a:off x="1969920" y="2840040"/>
                <a:ext cx="5760" cy="7740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1958040" y="2917440"/>
                <a:ext cx="5760" cy="6084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958040" y="2978640"/>
                <a:ext cx="3240" cy="4068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958040" y="3019320"/>
                <a:ext cx="3240" cy="3312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958040" y="3052440"/>
                <a:ext cx="3240" cy="4428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1949400" y="3097080"/>
                <a:ext cx="8640" cy="9792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1246320" y="2166840"/>
              <a:ext cx="824760" cy="126360"/>
              <a:chOff x="1246320" y="2166840"/>
              <a:chExt cx="824760" cy="126360"/>
            </a:xfrm>
          </p:grpSpPr>
          <p:sp>
            <p:nvSpPr>
              <p:cNvPr id="343" name=""/>
              <p:cNvSpPr/>
              <p:nvPr/>
            </p:nvSpPr>
            <p:spPr>
              <a:xfrm>
                <a:off x="1246320" y="2174040"/>
                <a:ext cx="88920" cy="5364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352880" y="2231640"/>
                <a:ext cx="50040" cy="3240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415160" y="2264400"/>
                <a:ext cx="50040" cy="828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465200" y="2272680"/>
                <a:ext cx="82440" cy="1656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547640" y="2289600"/>
                <a:ext cx="32760" cy="360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1580760" y="2272680"/>
                <a:ext cx="52920" cy="1656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1633680" y="2272680"/>
                <a:ext cx="79560" cy="1656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1722240" y="2264040"/>
                <a:ext cx="64800" cy="828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1796400" y="2231280"/>
                <a:ext cx="40680" cy="2484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1864080" y="2211480"/>
                <a:ext cx="14400" cy="1656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1908360" y="2166840"/>
                <a:ext cx="162720" cy="4464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123920" y="3195720"/>
              <a:ext cx="834480" cy="154800"/>
              <a:chOff x="1123920" y="3195720"/>
              <a:chExt cx="834480" cy="154800"/>
            </a:xfrm>
          </p:grpSpPr>
          <p:sp>
            <p:nvSpPr>
              <p:cNvPr id="355" name=""/>
              <p:cNvSpPr/>
              <p:nvPr/>
            </p:nvSpPr>
            <p:spPr>
              <a:xfrm>
                <a:off x="1123920" y="3195720"/>
                <a:ext cx="94680" cy="3708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233360" y="3240000"/>
                <a:ext cx="76320" cy="6192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319040" y="3302280"/>
                <a:ext cx="46800" cy="2016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366200" y="3322800"/>
                <a:ext cx="68400" cy="2412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452240" y="3346920"/>
                <a:ext cx="23400" cy="360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481760" y="3346920"/>
                <a:ext cx="47520" cy="360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1540800" y="3322440"/>
                <a:ext cx="74520" cy="2412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1620720" y="3302280"/>
                <a:ext cx="68400" cy="2016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1683360" y="3285720"/>
                <a:ext cx="52920" cy="1656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1748520" y="3268440"/>
                <a:ext cx="14760" cy="828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1775160" y="3198960"/>
                <a:ext cx="183240" cy="6948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366" name=""/>
          <p:cNvGrpSpPr/>
          <p:nvPr/>
        </p:nvGrpSpPr>
        <p:grpSpPr>
          <a:xfrm>
            <a:off x="990360" y="1936800"/>
            <a:ext cx="858600" cy="1209600"/>
            <a:chOff x="990360" y="1936800"/>
            <a:chExt cx="858600" cy="1209600"/>
          </a:xfrm>
        </p:grpSpPr>
        <p:grpSp>
          <p:nvGrpSpPr>
            <p:cNvPr id="367" name=""/>
            <p:cNvGrpSpPr/>
            <p:nvPr/>
          </p:nvGrpSpPr>
          <p:grpSpPr>
            <a:xfrm>
              <a:off x="996480" y="1936800"/>
              <a:ext cx="852480" cy="168120"/>
              <a:chOff x="996480" y="1936800"/>
              <a:chExt cx="852480" cy="168120"/>
            </a:xfrm>
          </p:grpSpPr>
          <p:sp>
            <p:nvSpPr>
              <p:cNvPr id="368" name=""/>
              <p:cNvSpPr/>
              <p:nvPr/>
            </p:nvSpPr>
            <p:spPr>
              <a:xfrm flipH="1">
                <a:off x="1186920" y="2101680"/>
                <a:ext cx="662040" cy="3240"/>
              </a:xfrm>
              <a:prstGeom prst="line">
                <a:avLst/>
              </a:prstGeom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1847880" y="1936800"/>
                <a:ext cx="0" cy="164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1720800" y="1936800"/>
                <a:ext cx="0" cy="164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1581120" y="1936800"/>
                <a:ext cx="0" cy="164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1434960" y="1936800"/>
                <a:ext cx="0" cy="164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1282680" y="1936800"/>
                <a:ext cx="0" cy="164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1136520" y="1936800"/>
                <a:ext cx="0" cy="164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996480" y="2101680"/>
                <a:ext cx="662040" cy="3240"/>
              </a:xfrm>
              <a:prstGeom prst="line">
                <a:avLst/>
              </a:prstGeom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996840" y="1936800"/>
                <a:ext cx="0" cy="164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990360" y="2978280"/>
              <a:ext cx="852480" cy="168120"/>
              <a:chOff x="990360" y="2978280"/>
              <a:chExt cx="852480" cy="168120"/>
            </a:xfrm>
          </p:grpSpPr>
          <p:sp>
            <p:nvSpPr>
              <p:cNvPr id="378" name=""/>
              <p:cNvSpPr/>
              <p:nvPr/>
            </p:nvSpPr>
            <p:spPr>
              <a:xfrm flipH="1">
                <a:off x="1180800" y="3143160"/>
                <a:ext cx="662040" cy="3240"/>
              </a:xfrm>
              <a:prstGeom prst="line">
                <a:avLst/>
              </a:prstGeom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1841760" y="2978280"/>
                <a:ext cx="0" cy="164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>
                <a:off x="1714680" y="2978280"/>
                <a:ext cx="0" cy="164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1575000" y="2978280"/>
                <a:ext cx="0" cy="164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1428840" y="2978280"/>
                <a:ext cx="0" cy="164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1276560" y="2978280"/>
                <a:ext cx="0" cy="164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1130400" y="2978280"/>
                <a:ext cx="0" cy="164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990360" y="3143160"/>
                <a:ext cx="662040" cy="3240"/>
              </a:xfrm>
              <a:prstGeom prst="line">
                <a:avLst/>
              </a:prstGeom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990720" y="2978280"/>
                <a:ext cx="0" cy="164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387" name=""/>
          <p:cNvGrpSpPr/>
          <p:nvPr/>
        </p:nvGrpSpPr>
        <p:grpSpPr>
          <a:xfrm>
            <a:off x="831600" y="2173320"/>
            <a:ext cx="1143360" cy="2131560"/>
            <a:chOff x="831600" y="2173320"/>
            <a:chExt cx="1143360" cy="2131560"/>
          </a:xfrm>
        </p:grpSpPr>
        <p:grpSp>
          <p:nvGrpSpPr>
            <p:cNvPr id="388" name=""/>
            <p:cNvGrpSpPr/>
            <p:nvPr/>
          </p:nvGrpSpPr>
          <p:grpSpPr>
            <a:xfrm>
              <a:off x="831600" y="2173320"/>
              <a:ext cx="1054080" cy="2131560"/>
              <a:chOff x="831600" y="2173320"/>
              <a:chExt cx="1054080" cy="2131560"/>
            </a:xfrm>
          </p:grpSpPr>
          <p:sp>
            <p:nvSpPr>
              <p:cNvPr id="389" name=""/>
              <p:cNvSpPr/>
              <p:nvPr/>
            </p:nvSpPr>
            <p:spPr>
              <a:xfrm>
                <a:off x="988920" y="3151080"/>
                <a:ext cx="854280" cy="1055160"/>
              </a:xfrm>
              <a:prstGeom prst="rect">
                <a:avLst/>
              </a:prstGeom>
              <a:noFill/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1796760" y="4216320"/>
                <a:ext cx="88920" cy="8856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1726920" y="4216320"/>
                <a:ext cx="88920" cy="8856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831600" y="4216320"/>
                <a:ext cx="88920" cy="8856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945720" y="4216320"/>
                <a:ext cx="88920" cy="8856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1650600" y="4216320"/>
                <a:ext cx="88920" cy="8856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894960" y="4216320"/>
                <a:ext cx="88920" cy="8856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988920" y="2173320"/>
                <a:ext cx="854280" cy="975960"/>
              </a:xfrm>
              <a:prstGeom prst="rect">
                <a:avLst/>
              </a:prstGeom>
              <a:noFill/>
              <a:ln w="0">
                <a:solidFill>
                  <a:srgbClr val="00006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876240" y="4209840"/>
              <a:ext cx="10987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952B5-E921-47DB-92FD-13CE9994C2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Frame behaviour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ctual response of the frame is non linea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Linear behaviour limit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on-linear behaviour due to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Geometrical influence of the actual deformed shape (second order effect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Joint behaviou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aterial yield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A943F-7C3D-49CB-8AC5-17A4ECA504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Second order effect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3662280" y="2117880"/>
          <a:ext cx="5289480" cy="35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2280" y="2117880"/>
                    <a:ext cx="5289480" cy="35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1550520" y="1628640"/>
            <a:ext cx="2673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way Displace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91240" y="231300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oa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754200" y="2738520"/>
            <a:ext cx="171000" cy="1963800"/>
            <a:chOff x="754200" y="2738520"/>
            <a:chExt cx="171000" cy="1963800"/>
          </a:xfrm>
        </p:grpSpPr>
        <p:grpSp>
          <p:nvGrpSpPr>
            <p:cNvPr id="406" name=""/>
            <p:cNvGrpSpPr/>
            <p:nvPr/>
          </p:nvGrpSpPr>
          <p:grpSpPr>
            <a:xfrm>
              <a:off x="754200" y="2738520"/>
              <a:ext cx="171000" cy="662040"/>
              <a:chOff x="754200" y="2738520"/>
              <a:chExt cx="171000" cy="662040"/>
            </a:xfrm>
          </p:grpSpPr>
          <p:sp>
            <p:nvSpPr>
              <p:cNvPr id="407" name=""/>
              <p:cNvSpPr/>
              <p:nvPr/>
            </p:nvSpPr>
            <p:spPr>
              <a:xfrm>
                <a:off x="919080" y="2738520"/>
                <a:ext cx="2880" cy="662040"/>
              </a:xfrm>
              <a:prstGeom prst="line">
                <a:avLst/>
              </a:prstGeom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754200" y="2741760"/>
                <a:ext cx="1648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754200" y="2868840"/>
                <a:ext cx="1648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754200" y="3008520"/>
                <a:ext cx="1648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754200" y="3135600"/>
                <a:ext cx="1648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754200" y="3256200"/>
                <a:ext cx="1648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760320" y="3389400"/>
                <a:ext cx="1648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754200" y="3392640"/>
              <a:ext cx="171000" cy="662040"/>
              <a:chOff x="754200" y="3392640"/>
              <a:chExt cx="171000" cy="662040"/>
            </a:xfrm>
          </p:grpSpPr>
          <p:sp>
            <p:nvSpPr>
              <p:cNvPr id="415" name=""/>
              <p:cNvSpPr/>
              <p:nvPr/>
            </p:nvSpPr>
            <p:spPr>
              <a:xfrm>
                <a:off x="919080" y="3392640"/>
                <a:ext cx="2880" cy="662040"/>
              </a:xfrm>
              <a:prstGeom prst="line">
                <a:avLst/>
              </a:prstGeom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754200" y="3395880"/>
                <a:ext cx="1648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754200" y="3522960"/>
                <a:ext cx="1648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754200" y="3662640"/>
                <a:ext cx="1648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754200" y="3789720"/>
                <a:ext cx="1648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754200" y="3910320"/>
                <a:ext cx="1648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760320" y="4043520"/>
                <a:ext cx="1648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754200" y="4040280"/>
              <a:ext cx="171000" cy="662040"/>
              <a:chOff x="754200" y="4040280"/>
              <a:chExt cx="171000" cy="662040"/>
            </a:xfrm>
          </p:grpSpPr>
          <p:sp>
            <p:nvSpPr>
              <p:cNvPr id="423" name=""/>
              <p:cNvSpPr/>
              <p:nvPr/>
            </p:nvSpPr>
            <p:spPr>
              <a:xfrm>
                <a:off x="919080" y="4040280"/>
                <a:ext cx="2880" cy="662040"/>
              </a:xfrm>
              <a:prstGeom prst="line">
                <a:avLst/>
              </a:prstGeom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754200" y="4043520"/>
                <a:ext cx="1648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754200" y="4170600"/>
                <a:ext cx="1648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754200" y="4310280"/>
                <a:ext cx="1648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754200" y="4437360"/>
                <a:ext cx="1648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754200" y="4557960"/>
                <a:ext cx="1648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760320" y="4691160"/>
                <a:ext cx="1648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"/>
          <p:cNvGrpSpPr/>
          <p:nvPr/>
        </p:nvGrpSpPr>
        <p:grpSpPr>
          <a:xfrm>
            <a:off x="1731960" y="2158560"/>
            <a:ext cx="729720" cy="314280"/>
            <a:chOff x="1731960" y="2158560"/>
            <a:chExt cx="729720" cy="314280"/>
          </a:xfrm>
        </p:grpSpPr>
        <p:sp>
          <p:nvSpPr>
            <p:cNvPr id="431" name=""/>
            <p:cNvSpPr/>
            <p:nvPr/>
          </p:nvSpPr>
          <p:spPr>
            <a:xfrm flipV="1">
              <a:off x="2232000" y="2158560"/>
              <a:ext cx="1440" cy="314280"/>
            </a:xfrm>
            <a:prstGeom prst="line">
              <a:avLst/>
            </a:prstGeom>
            <a:ln w="1908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947960" y="2165040"/>
              <a:ext cx="3240" cy="306360"/>
            </a:xfrm>
            <a:prstGeom prst="line">
              <a:avLst/>
            </a:prstGeom>
            <a:ln w="1908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2239560" y="2335320"/>
              <a:ext cx="222120" cy="0"/>
            </a:xfrm>
            <a:prstGeom prst="line">
              <a:avLst/>
            </a:prstGeom>
            <a:ln w="1260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731960" y="2322360"/>
              <a:ext cx="222120" cy="0"/>
            </a:xfrm>
            <a:prstGeom prst="line">
              <a:avLst/>
            </a:prstGeom>
            <a:ln w="1260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1236600" y="4950000"/>
            <a:ext cx="88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ra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1101240" y="2711160"/>
            <a:ext cx="1090440" cy="2027880"/>
            <a:chOff x="1101240" y="2711160"/>
            <a:chExt cx="1090440" cy="2027880"/>
          </a:xfrm>
        </p:grpSpPr>
        <p:grpSp>
          <p:nvGrpSpPr>
            <p:cNvPr id="437" name=""/>
            <p:cNvGrpSpPr/>
            <p:nvPr/>
          </p:nvGrpSpPr>
          <p:grpSpPr>
            <a:xfrm>
              <a:off x="1101240" y="3740040"/>
              <a:ext cx="123480" cy="999000"/>
              <a:chOff x="1101240" y="3740040"/>
              <a:chExt cx="123480" cy="999000"/>
            </a:xfrm>
          </p:grpSpPr>
          <p:sp>
            <p:nvSpPr>
              <p:cNvPr id="438" name=""/>
              <p:cNvSpPr/>
              <p:nvPr/>
            </p:nvSpPr>
            <p:spPr>
              <a:xfrm>
                <a:off x="1222200" y="3740040"/>
                <a:ext cx="2520" cy="8964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1216440" y="3740040"/>
                <a:ext cx="5760" cy="15444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1186560" y="3894480"/>
                <a:ext cx="29160" cy="10980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1174680" y="4004280"/>
                <a:ext cx="11880" cy="8964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1157400" y="4090320"/>
                <a:ext cx="17280" cy="7740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1143000" y="4172040"/>
                <a:ext cx="14400" cy="8568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1130760" y="4258080"/>
                <a:ext cx="5760" cy="5256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1118520" y="4310640"/>
                <a:ext cx="11880" cy="7380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1115640" y="4384800"/>
                <a:ext cx="2520" cy="7668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1103760" y="4461480"/>
                <a:ext cx="11880" cy="6192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104120" y="4523400"/>
                <a:ext cx="3240" cy="4068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104120" y="4564080"/>
                <a:ext cx="3240" cy="3600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104120" y="4600080"/>
                <a:ext cx="3240" cy="4068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1101240" y="4641120"/>
                <a:ext cx="2520" cy="9792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1949400" y="3740040"/>
              <a:ext cx="124560" cy="999000"/>
              <a:chOff x="1949400" y="3740040"/>
              <a:chExt cx="124560" cy="999000"/>
            </a:xfrm>
          </p:grpSpPr>
          <p:sp>
            <p:nvSpPr>
              <p:cNvPr id="453" name=""/>
              <p:cNvSpPr/>
              <p:nvPr/>
            </p:nvSpPr>
            <p:spPr>
              <a:xfrm>
                <a:off x="2070720" y="3740040"/>
                <a:ext cx="3240" cy="8964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2062080" y="3740040"/>
                <a:ext cx="8640" cy="15444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2038320" y="3894480"/>
                <a:ext cx="23400" cy="10980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2026080" y="4004280"/>
                <a:ext cx="11880" cy="8964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2009160" y="4090320"/>
                <a:ext cx="17280" cy="7740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1990800" y="4172040"/>
                <a:ext cx="18000" cy="8568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1982160" y="4258080"/>
                <a:ext cx="5760" cy="5256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1973520" y="4310640"/>
                <a:ext cx="8640" cy="7380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1967400" y="4384800"/>
                <a:ext cx="5760" cy="7668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1954800" y="4461480"/>
                <a:ext cx="11880" cy="6192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955160" y="4523400"/>
                <a:ext cx="3240" cy="4068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955160" y="4564080"/>
                <a:ext cx="3240" cy="3600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955160" y="4600080"/>
                <a:ext cx="3240" cy="4068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1949400" y="4641120"/>
                <a:ext cx="5760" cy="9792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1222200" y="2739960"/>
              <a:ext cx="126360" cy="999000"/>
              <a:chOff x="1222200" y="2739960"/>
              <a:chExt cx="126360" cy="999000"/>
            </a:xfrm>
          </p:grpSpPr>
          <p:sp>
            <p:nvSpPr>
              <p:cNvPr id="468" name=""/>
              <p:cNvSpPr/>
              <p:nvPr/>
            </p:nvSpPr>
            <p:spPr>
              <a:xfrm>
                <a:off x="1346040" y="2739960"/>
                <a:ext cx="2520" cy="8568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1337400" y="2739960"/>
                <a:ext cx="5040" cy="15876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1310400" y="2898720"/>
                <a:ext cx="26640" cy="10620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1295640" y="3004920"/>
                <a:ext cx="14400" cy="8964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1277640" y="3094560"/>
                <a:ext cx="18000" cy="7272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1262880" y="3167640"/>
                <a:ext cx="14400" cy="8568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H="1">
                <a:off x="1251000" y="3253680"/>
                <a:ext cx="11160" cy="5724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1247760" y="3310920"/>
                <a:ext cx="3240" cy="7272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1236240" y="3384000"/>
                <a:ext cx="11160" cy="7740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1230840" y="3461760"/>
                <a:ext cx="5760" cy="6084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230840" y="3522600"/>
                <a:ext cx="2520" cy="4032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230840" y="3563280"/>
                <a:ext cx="2520" cy="3312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230840" y="3596760"/>
                <a:ext cx="2520" cy="4428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1222200" y="3641040"/>
                <a:ext cx="8640" cy="9792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2062080" y="2739960"/>
              <a:ext cx="129600" cy="999000"/>
              <a:chOff x="2062080" y="2739960"/>
              <a:chExt cx="129600" cy="999000"/>
            </a:xfrm>
          </p:grpSpPr>
          <p:sp>
            <p:nvSpPr>
              <p:cNvPr id="483" name=""/>
              <p:cNvSpPr/>
              <p:nvPr/>
            </p:nvSpPr>
            <p:spPr>
              <a:xfrm>
                <a:off x="2189160" y="2739960"/>
                <a:ext cx="2520" cy="8568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2176920" y="2739960"/>
                <a:ext cx="11880" cy="15876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2156040" y="2898720"/>
                <a:ext cx="20520" cy="10620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>
                <a:off x="2141640" y="3004920"/>
                <a:ext cx="14400" cy="8964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2117880" y="3094560"/>
                <a:ext cx="23400" cy="7272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2106000" y="3167640"/>
                <a:ext cx="18000" cy="8568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2100240" y="3253680"/>
                <a:ext cx="5760" cy="5724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>
                <a:off x="2088360" y="3310920"/>
                <a:ext cx="11160" cy="7272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2082600" y="3384000"/>
                <a:ext cx="5760" cy="7740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2070720" y="3461760"/>
                <a:ext cx="5760" cy="6084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070720" y="3522600"/>
                <a:ext cx="3240" cy="4032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070720" y="3563280"/>
                <a:ext cx="3240" cy="3312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070720" y="3596760"/>
                <a:ext cx="3240" cy="4428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2062080" y="3641040"/>
                <a:ext cx="8640" cy="9792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1359000" y="2711160"/>
              <a:ext cx="824760" cy="126360"/>
              <a:chOff x="1359000" y="2711160"/>
              <a:chExt cx="824760" cy="126360"/>
            </a:xfrm>
          </p:grpSpPr>
          <p:sp>
            <p:nvSpPr>
              <p:cNvPr id="498" name=""/>
              <p:cNvSpPr/>
              <p:nvPr/>
            </p:nvSpPr>
            <p:spPr>
              <a:xfrm>
                <a:off x="1359000" y="2718720"/>
                <a:ext cx="88920" cy="5364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465560" y="2776320"/>
                <a:ext cx="50040" cy="3240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527840" y="2808720"/>
                <a:ext cx="50040" cy="828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577880" y="2817000"/>
                <a:ext cx="82440" cy="1656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60320" y="2833920"/>
                <a:ext cx="32760" cy="360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1693440" y="2817000"/>
                <a:ext cx="52920" cy="1656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1746360" y="2817000"/>
                <a:ext cx="79560" cy="1656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1834920" y="2808360"/>
                <a:ext cx="64800" cy="828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1909080" y="2775960"/>
                <a:ext cx="40680" cy="2484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1976760" y="2755800"/>
                <a:ext cx="14400" cy="1656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2021040" y="2711160"/>
                <a:ext cx="162720" cy="4428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1236600" y="3740040"/>
              <a:ext cx="834480" cy="154440"/>
              <a:chOff x="1236600" y="3740040"/>
              <a:chExt cx="834480" cy="154440"/>
            </a:xfrm>
          </p:grpSpPr>
          <p:sp>
            <p:nvSpPr>
              <p:cNvPr id="510" name=""/>
              <p:cNvSpPr/>
              <p:nvPr/>
            </p:nvSpPr>
            <p:spPr>
              <a:xfrm>
                <a:off x="1236600" y="3740040"/>
                <a:ext cx="94680" cy="3672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346040" y="3784320"/>
                <a:ext cx="76320" cy="6192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431720" y="3846240"/>
                <a:ext cx="46800" cy="2016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478880" y="3866760"/>
                <a:ext cx="68400" cy="2376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564920" y="3890880"/>
                <a:ext cx="23400" cy="360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594440" y="3890880"/>
                <a:ext cx="47520" cy="360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1653480" y="3866760"/>
                <a:ext cx="74520" cy="2376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1733400" y="3846240"/>
                <a:ext cx="68400" cy="2016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1796040" y="3829680"/>
                <a:ext cx="52920" cy="1656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1861200" y="3812760"/>
                <a:ext cx="14760" cy="828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1887840" y="3743640"/>
                <a:ext cx="183240" cy="69120"/>
              </a:xfrm>
              <a:prstGeom prst="line">
                <a:avLst/>
              </a:prstGeom>
              <a:ln w="11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521" name=""/>
          <p:cNvGrpSpPr/>
          <p:nvPr/>
        </p:nvGrpSpPr>
        <p:grpSpPr>
          <a:xfrm>
            <a:off x="1103040" y="2481120"/>
            <a:ext cx="858600" cy="1209600"/>
            <a:chOff x="1103040" y="2481120"/>
            <a:chExt cx="858600" cy="1209600"/>
          </a:xfrm>
        </p:grpSpPr>
        <p:grpSp>
          <p:nvGrpSpPr>
            <p:cNvPr id="522" name=""/>
            <p:cNvGrpSpPr/>
            <p:nvPr/>
          </p:nvGrpSpPr>
          <p:grpSpPr>
            <a:xfrm>
              <a:off x="1109160" y="2481120"/>
              <a:ext cx="852480" cy="168120"/>
              <a:chOff x="1109160" y="2481120"/>
              <a:chExt cx="852480" cy="168120"/>
            </a:xfrm>
          </p:grpSpPr>
          <p:sp>
            <p:nvSpPr>
              <p:cNvPr id="523" name=""/>
              <p:cNvSpPr/>
              <p:nvPr/>
            </p:nvSpPr>
            <p:spPr>
              <a:xfrm flipH="1">
                <a:off x="1299600" y="2646000"/>
                <a:ext cx="662040" cy="3240"/>
              </a:xfrm>
              <a:prstGeom prst="line">
                <a:avLst/>
              </a:prstGeom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1960560" y="2481120"/>
                <a:ext cx="0" cy="164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1833480" y="2481120"/>
                <a:ext cx="0" cy="164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1693800" y="2481120"/>
                <a:ext cx="0" cy="164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1547640" y="2481120"/>
                <a:ext cx="0" cy="164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1395360" y="2481120"/>
                <a:ext cx="0" cy="164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1249200" y="2481120"/>
                <a:ext cx="0" cy="164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>
                <a:off x="1109160" y="2646000"/>
                <a:ext cx="662040" cy="3240"/>
              </a:xfrm>
              <a:prstGeom prst="line">
                <a:avLst/>
              </a:prstGeom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1109520" y="2481120"/>
                <a:ext cx="0" cy="164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1103040" y="3522600"/>
              <a:ext cx="852480" cy="168120"/>
              <a:chOff x="1103040" y="3522600"/>
              <a:chExt cx="852480" cy="168120"/>
            </a:xfrm>
          </p:grpSpPr>
          <p:sp>
            <p:nvSpPr>
              <p:cNvPr id="533" name=""/>
              <p:cNvSpPr/>
              <p:nvPr/>
            </p:nvSpPr>
            <p:spPr>
              <a:xfrm flipH="1">
                <a:off x="1293480" y="3687480"/>
                <a:ext cx="662040" cy="3240"/>
              </a:xfrm>
              <a:prstGeom prst="line">
                <a:avLst/>
              </a:prstGeom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1954440" y="3522600"/>
                <a:ext cx="0" cy="164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1827360" y="3522600"/>
                <a:ext cx="0" cy="164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1687680" y="3522600"/>
                <a:ext cx="0" cy="164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1541520" y="3522600"/>
                <a:ext cx="0" cy="164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1389240" y="3522600"/>
                <a:ext cx="0" cy="164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V="1">
                <a:off x="1243080" y="3522600"/>
                <a:ext cx="0" cy="164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>
                <a:off x="1103040" y="3687480"/>
                <a:ext cx="662040" cy="3240"/>
              </a:xfrm>
              <a:prstGeom prst="line">
                <a:avLst/>
              </a:prstGeom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V="1">
                <a:off x="1103400" y="3522600"/>
                <a:ext cx="0" cy="164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542" name=""/>
          <p:cNvGrpSpPr/>
          <p:nvPr/>
        </p:nvGrpSpPr>
        <p:grpSpPr>
          <a:xfrm>
            <a:off x="944280" y="2717640"/>
            <a:ext cx="1143360" cy="2132280"/>
            <a:chOff x="944280" y="2717640"/>
            <a:chExt cx="1143360" cy="2132280"/>
          </a:xfrm>
        </p:grpSpPr>
        <p:grpSp>
          <p:nvGrpSpPr>
            <p:cNvPr id="543" name=""/>
            <p:cNvGrpSpPr/>
            <p:nvPr/>
          </p:nvGrpSpPr>
          <p:grpSpPr>
            <a:xfrm>
              <a:off x="944280" y="2717640"/>
              <a:ext cx="1054080" cy="2132280"/>
              <a:chOff x="944280" y="2717640"/>
              <a:chExt cx="1054080" cy="2132280"/>
            </a:xfrm>
          </p:grpSpPr>
          <p:sp>
            <p:nvSpPr>
              <p:cNvPr id="544" name=""/>
              <p:cNvSpPr/>
              <p:nvPr/>
            </p:nvSpPr>
            <p:spPr>
              <a:xfrm>
                <a:off x="1101600" y="3695760"/>
                <a:ext cx="854280" cy="1055520"/>
              </a:xfrm>
              <a:prstGeom prst="rect">
                <a:avLst/>
              </a:prstGeom>
              <a:noFill/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1909440" y="4761000"/>
                <a:ext cx="88920" cy="889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1839600" y="4761000"/>
                <a:ext cx="88920" cy="889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944280" y="4761000"/>
                <a:ext cx="88920" cy="889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1058400" y="4761000"/>
                <a:ext cx="88920" cy="889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1763280" y="4761000"/>
                <a:ext cx="88920" cy="889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>
                <a:off x="1007640" y="4761000"/>
                <a:ext cx="88920" cy="889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101600" y="2717640"/>
                <a:ext cx="854280" cy="976320"/>
              </a:xfrm>
              <a:prstGeom prst="rect">
                <a:avLst/>
              </a:prstGeom>
              <a:noFill/>
              <a:ln w="0">
                <a:solidFill>
                  <a:srgbClr val="00006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52" name=""/>
            <p:cNvSpPr/>
            <p:nvPr/>
          </p:nvSpPr>
          <p:spPr>
            <a:xfrm>
              <a:off x="988920" y="4754520"/>
              <a:ext cx="10987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1827360" y="4506840"/>
            <a:ext cx="253800" cy="507960"/>
          </a:xfrm>
          <a:prstGeom prst="ellipse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2111400" y="3833280"/>
            <a:ext cx="1273320" cy="901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C6116-2D1B-4E76-B3B2-480034C749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Second order effect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99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P - </a:t>
            </a:r>
            <a:r>
              <a:rPr b="0" lang="en-GB" sz="32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 effect :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ue to floor swa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1st order frame stiffness modifi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ominant effec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99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P - </a:t>
            </a:r>
            <a:r>
              <a:rPr b="0" lang="en-GB" sz="3200" spc="-1" strike="noStrike">
                <a:solidFill>
                  <a:srgbClr val="000066"/>
                </a:solidFill>
                <a:latin typeface="Symbol"/>
                <a:ea typeface="Symbol"/>
              </a:rPr>
              <a:t></a:t>
            </a: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 effect :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ue to beam-column deflec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1st order member stiffness modifi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ignificant only for relatively slender memb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3E507-D3EF-4812-BA78-7C66349C2F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Modelling of frames for analysi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rame component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eam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eam-colum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Joi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92920" y="1951200"/>
            <a:ext cx="796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ea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266720" y="4687920"/>
            <a:ext cx="406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68960" y="4687920"/>
            <a:ext cx="1015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47680" y="4313160"/>
            <a:ext cx="187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eam-colum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31400" y="208908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Joi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20040" y="2362320"/>
            <a:ext cx="404640" cy="409320"/>
          </a:xfrm>
          <a:prstGeom prst="ellipse">
            <a:avLst/>
          </a:prstGeom>
          <a:solidFill>
            <a:srgbClr val="ffffff"/>
          </a:solidFill>
          <a:ln w="176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571640" y="2565360"/>
            <a:ext cx="3354840" cy="3352320"/>
            <a:chOff x="4571640" y="2565360"/>
            <a:chExt cx="3354840" cy="3352320"/>
          </a:xfrm>
        </p:grpSpPr>
        <p:sp>
          <p:nvSpPr>
            <p:cNvPr id="110" name=""/>
            <p:cNvSpPr/>
            <p:nvPr/>
          </p:nvSpPr>
          <p:spPr>
            <a:xfrm>
              <a:off x="6097680" y="5816520"/>
              <a:ext cx="406440" cy="1080"/>
            </a:xfrm>
            <a:prstGeom prst="line">
              <a:avLst/>
            </a:prstGeom>
            <a:ln w="176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4571640" y="2565360"/>
              <a:ext cx="3354840" cy="3352320"/>
              <a:chOff x="4571640" y="2565360"/>
              <a:chExt cx="3354840" cy="3352320"/>
            </a:xfrm>
          </p:grpSpPr>
          <p:grpSp>
            <p:nvGrpSpPr>
              <p:cNvPr id="112" name=""/>
              <p:cNvGrpSpPr/>
              <p:nvPr/>
            </p:nvGrpSpPr>
            <p:grpSpPr>
              <a:xfrm>
                <a:off x="5996160" y="5816520"/>
                <a:ext cx="507960" cy="101160"/>
                <a:chOff x="5996160" y="5816520"/>
                <a:chExt cx="507960" cy="10116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6097680" y="5816520"/>
                  <a:ext cx="406440" cy="1080"/>
                </a:xfrm>
                <a:prstGeom prst="line">
                  <a:avLst/>
                </a:prstGeom>
                <a:ln w="176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H="1">
                  <a:off x="5996160" y="5816520"/>
                  <a:ext cx="101520" cy="101160"/>
                </a:xfrm>
                <a:prstGeom prst="line">
                  <a:avLst/>
                </a:prstGeom>
                <a:ln w="0">
                  <a:solidFill>
                    <a:srgbClr val="0000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H="1">
                  <a:off x="6097680" y="5816520"/>
                  <a:ext cx="101520" cy="101160"/>
                </a:xfrm>
                <a:prstGeom prst="line">
                  <a:avLst/>
                </a:prstGeom>
                <a:ln w="176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H="1">
                  <a:off x="6198840" y="5816520"/>
                  <a:ext cx="101880" cy="101160"/>
                </a:xfrm>
                <a:prstGeom prst="line">
                  <a:avLst/>
                </a:prstGeom>
                <a:ln w="176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H="1">
                  <a:off x="6301080" y="5816520"/>
                  <a:ext cx="101520" cy="101160"/>
                </a:xfrm>
                <a:prstGeom prst="line">
                  <a:avLst/>
                </a:prstGeom>
                <a:ln w="176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H="1">
                  <a:off x="6402600" y="5816520"/>
                  <a:ext cx="101520" cy="101160"/>
                </a:xfrm>
                <a:prstGeom prst="line">
                  <a:avLst/>
                </a:prstGeom>
                <a:ln w="176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4571640" y="2565360"/>
                <a:ext cx="3354840" cy="3352320"/>
                <a:chOff x="4571640" y="2565360"/>
                <a:chExt cx="3354840" cy="335232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4876920" y="2565360"/>
                  <a:ext cx="1440" cy="3251160"/>
                </a:xfrm>
                <a:prstGeom prst="line">
                  <a:avLst/>
                </a:prstGeom>
                <a:ln w="176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876920" y="2565360"/>
                  <a:ext cx="2846520" cy="1440"/>
                </a:xfrm>
                <a:prstGeom prst="line">
                  <a:avLst/>
                </a:prstGeom>
                <a:ln w="176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876920" y="3377880"/>
                  <a:ext cx="2846520" cy="1440"/>
                </a:xfrm>
                <a:prstGeom prst="line">
                  <a:avLst/>
                </a:prstGeom>
                <a:ln w="176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876920" y="4190760"/>
                  <a:ext cx="2846520" cy="1080"/>
                </a:xfrm>
                <a:prstGeom prst="line">
                  <a:avLst/>
                </a:prstGeom>
                <a:ln w="176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4876920" y="5003640"/>
                  <a:ext cx="2846520" cy="1080"/>
                </a:xfrm>
                <a:prstGeom prst="line">
                  <a:avLst/>
                </a:prstGeom>
                <a:ln w="176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V="1">
                  <a:off x="7723440" y="2576160"/>
                  <a:ext cx="1440" cy="3240000"/>
                </a:xfrm>
                <a:prstGeom prst="line">
                  <a:avLst/>
                </a:prstGeom>
                <a:ln w="176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301080" y="2565360"/>
                  <a:ext cx="1440" cy="3251160"/>
                </a:xfrm>
                <a:prstGeom prst="line">
                  <a:avLst/>
                </a:prstGeom>
                <a:ln w="176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520040" y="5816520"/>
                  <a:ext cx="406440" cy="1080"/>
                </a:xfrm>
                <a:prstGeom prst="line">
                  <a:avLst/>
                </a:prstGeom>
                <a:ln w="176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128" name=""/>
                <p:cNvGrpSpPr/>
                <p:nvPr/>
              </p:nvGrpSpPr>
              <p:grpSpPr>
                <a:xfrm>
                  <a:off x="4571640" y="5816520"/>
                  <a:ext cx="508320" cy="101160"/>
                  <a:chOff x="4571640" y="5816520"/>
                  <a:chExt cx="508320" cy="10116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>
                    <a:off x="4673880" y="5816520"/>
                    <a:ext cx="406080" cy="1080"/>
                  </a:xfrm>
                  <a:prstGeom prst="line">
                    <a:avLst/>
                  </a:prstGeom>
                  <a:ln w="1764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 flipH="1">
                    <a:off x="4571640" y="5816520"/>
                    <a:ext cx="101880" cy="101160"/>
                  </a:xfrm>
                  <a:prstGeom prst="line">
                    <a:avLst/>
                  </a:prstGeom>
                  <a:ln w="0">
                    <a:solidFill>
                      <a:srgbClr val="0000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 flipH="1">
                    <a:off x="4673880" y="5816520"/>
                    <a:ext cx="101520" cy="101160"/>
                  </a:xfrm>
                  <a:prstGeom prst="line">
                    <a:avLst/>
                  </a:prstGeom>
                  <a:ln w="1764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>
                    <a:off x="4775400" y="5816520"/>
                    <a:ext cx="101520" cy="101160"/>
                  </a:xfrm>
                  <a:prstGeom prst="line">
                    <a:avLst/>
                  </a:prstGeom>
                  <a:ln w="1764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flipH="1">
                    <a:off x="4876920" y="5816520"/>
                    <a:ext cx="101520" cy="101160"/>
                  </a:xfrm>
                  <a:prstGeom prst="line">
                    <a:avLst/>
                  </a:prstGeom>
                  <a:ln w="1764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flipH="1">
                    <a:off x="4978440" y="5816520"/>
                    <a:ext cx="101520" cy="101160"/>
                  </a:xfrm>
                  <a:prstGeom prst="line">
                    <a:avLst/>
                  </a:prstGeom>
                  <a:ln w="1764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"/>
                <p:cNvGrpSpPr/>
                <p:nvPr/>
              </p:nvGrpSpPr>
              <p:grpSpPr>
                <a:xfrm>
                  <a:off x="7418520" y="5816520"/>
                  <a:ext cx="507960" cy="101160"/>
                  <a:chOff x="7418520" y="5816520"/>
                  <a:chExt cx="507960" cy="10116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7520040" y="5816520"/>
                    <a:ext cx="406440" cy="1080"/>
                  </a:xfrm>
                  <a:prstGeom prst="line">
                    <a:avLst/>
                  </a:prstGeom>
                  <a:ln w="1764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flipH="1">
                    <a:off x="7418520" y="5816520"/>
                    <a:ext cx="101520" cy="101160"/>
                  </a:xfrm>
                  <a:prstGeom prst="line">
                    <a:avLst/>
                  </a:prstGeom>
                  <a:ln w="0">
                    <a:solidFill>
                      <a:srgbClr val="0000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>
                    <a:off x="7520040" y="5816520"/>
                    <a:ext cx="101520" cy="101160"/>
                  </a:xfrm>
                  <a:prstGeom prst="line">
                    <a:avLst/>
                  </a:prstGeom>
                  <a:ln w="1764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 flipH="1">
                    <a:off x="7621200" y="5816520"/>
                    <a:ext cx="101880" cy="101160"/>
                  </a:xfrm>
                  <a:prstGeom prst="line">
                    <a:avLst/>
                  </a:prstGeom>
                  <a:ln w="1764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 flipH="1">
                    <a:off x="7723440" y="5816520"/>
                    <a:ext cx="101520" cy="101160"/>
                  </a:xfrm>
                  <a:prstGeom prst="line">
                    <a:avLst/>
                  </a:prstGeom>
                  <a:ln w="1764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flipH="1">
                    <a:off x="7824960" y="5816520"/>
                    <a:ext cx="101520" cy="101160"/>
                  </a:xfrm>
                  <a:prstGeom prst="line">
                    <a:avLst/>
                  </a:prstGeom>
                  <a:ln w="1764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42" name=""/>
          <p:cNvSpPr/>
          <p:nvPr/>
        </p:nvSpPr>
        <p:spPr>
          <a:xfrm>
            <a:off x="6853320" y="2212920"/>
            <a:ext cx="129960" cy="2970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62240" y="4694400"/>
            <a:ext cx="771840" cy="11412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8040240" y="2550960"/>
            <a:ext cx="606600" cy="648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3B86B-E309-479F-A637-90322125E4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Imperfection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539640" y="1628640"/>
            <a:ext cx="3321000" cy="4203360"/>
            <a:chOff x="539640" y="1628640"/>
            <a:chExt cx="3321000" cy="4203360"/>
          </a:xfrm>
        </p:grpSpPr>
        <p:grpSp>
          <p:nvGrpSpPr>
            <p:cNvPr id="559" name=""/>
            <p:cNvGrpSpPr/>
            <p:nvPr/>
          </p:nvGrpSpPr>
          <p:grpSpPr>
            <a:xfrm>
              <a:off x="539640" y="1977840"/>
              <a:ext cx="2698560" cy="3206160"/>
              <a:chOff x="539640" y="1977840"/>
              <a:chExt cx="2698560" cy="3206160"/>
            </a:xfrm>
          </p:grpSpPr>
          <p:sp>
            <p:nvSpPr>
              <p:cNvPr id="560" name=""/>
              <p:cNvSpPr/>
              <p:nvPr/>
            </p:nvSpPr>
            <p:spPr>
              <a:xfrm>
                <a:off x="753840" y="1978200"/>
                <a:ext cx="863640" cy="1440"/>
              </a:xfrm>
              <a:prstGeom prst="line">
                <a:avLst/>
              </a:prstGeom>
              <a:ln w="0">
                <a:solidFill>
                  <a:srgbClr val="00006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753840" y="3489120"/>
                <a:ext cx="432000" cy="1440"/>
              </a:xfrm>
              <a:prstGeom prst="line">
                <a:avLst/>
              </a:prstGeom>
              <a:ln w="0">
                <a:solidFill>
                  <a:srgbClr val="00006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562" name=""/>
              <p:cNvGrpSpPr/>
              <p:nvPr/>
            </p:nvGrpSpPr>
            <p:grpSpPr>
              <a:xfrm>
                <a:off x="539640" y="4568760"/>
                <a:ext cx="539640" cy="539280"/>
                <a:chOff x="539640" y="4568760"/>
                <a:chExt cx="539640" cy="53928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539640" y="4568760"/>
                  <a:ext cx="539640" cy="53928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539640" y="4676400"/>
                  <a:ext cx="539640" cy="42984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5" name=""/>
              <p:cNvSpPr/>
              <p:nvPr/>
            </p:nvSpPr>
            <p:spPr>
              <a:xfrm flipV="1">
                <a:off x="753840" y="1977840"/>
                <a:ext cx="1800" cy="3130200"/>
              </a:xfrm>
              <a:prstGeom prst="line">
                <a:avLst/>
              </a:prstGeom>
              <a:ln w="0">
                <a:solidFill>
                  <a:srgbClr val="00006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566" name=""/>
              <p:cNvGrpSpPr/>
              <p:nvPr/>
            </p:nvGrpSpPr>
            <p:grpSpPr>
              <a:xfrm>
                <a:off x="2698560" y="4568760"/>
                <a:ext cx="539640" cy="539280"/>
                <a:chOff x="2698560" y="4568760"/>
                <a:chExt cx="539640" cy="53928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2698560" y="4568760"/>
                  <a:ext cx="539640" cy="539280"/>
                </a:xfrm>
                <a:prstGeom prst="ellipse">
                  <a:avLst/>
                </a:prstGeom>
                <a:noFill/>
                <a:ln w="158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2698560" y="4676400"/>
                  <a:ext cx="539640" cy="42984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9" name=""/>
              <p:cNvSpPr/>
              <p:nvPr/>
            </p:nvSpPr>
            <p:spPr>
              <a:xfrm flipV="1">
                <a:off x="2912760" y="1977840"/>
                <a:ext cx="1800" cy="3130200"/>
              </a:xfrm>
              <a:prstGeom prst="line">
                <a:avLst/>
              </a:prstGeom>
              <a:ln w="0">
                <a:solidFill>
                  <a:srgbClr val="00006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570" name=""/>
              <p:cNvGrpSpPr/>
              <p:nvPr/>
            </p:nvGrpSpPr>
            <p:grpSpPr>
              <a:xfrm>
                <a:off x="590400" y="5108400"/>
                <a:ext cx="271440" cy="61200"/>
                <a:chOff x="590400" y="5108400"/>
                <a:chExt cx="271440" cy="6120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645840" y="5108400"/>
                  <a:ext cx="216000" cy="1440"/>
                </a:xfrm>
                <a:prstGeom prst="line">
                  <a:avLst/>
                </a:prstGeom>
                <a:ln w="158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 flipH="1">
                  <a:off x="590400" y="5122440"/>
                  <a:ext cx="47520" cy="47160"/>
                </a:xfrm>
                <a:prstGeom prst="line">
                  <a:avLst/>
                </a:prstGeom>
                <a:ln w="176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 flipH="1">
                  <a:off x="664920" y="5122440"/>
                  <a:ext cx="46080" cy="47160"/>
                </a:xfrm>
                <a:prstGeom prst="line">
                  <a:avLst/>
                </a:prstGeom>
                <a:ln w="176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 flipH="1">
                  <a:off x="731880" y="5122440"/>
                  <a:ext cx="47520" cy="47160"/>
                </a:xfrm>
                <a:prstGeom prst="line">
                  <a:avLst/>
                </a:prstGeom>
                <a:ln w="176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 flipH="1">
                  <a:off x="812160" y="5122440"/>
                  <a:ext cx="47880" cy="47160"/>
                </a:xfrm>
                <a:prstGeom prst="line">
                  <a:avLst/>
                </a:prstGeom>
                <a:ln w="176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2782800" y="5121360"/>
                <a:ext cx="271440" cy="62640"/>
                <a:chOff x="2782800" y="5121360"/>
                <a:chExt cx="271440" cy="6264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2838240" y="5121360"/>
                  <a:ext cx="216000" cy="1080"/>
                </a:xfrm>
                <a:prstGeom prst="line">
                  <a:avLst/>
                </a:prstGeom>
                <a:ln w="158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 flipH="1">
                  <a:off x="2782800" y="5136840"/>
                  <a:ext cx="47520" cy="47160"/>
                </a:xfrm>
                <a:prstGeom prst="line">
                  <a:avLst/>
                </a:prstGeom>
                <a:ln w="176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 flipH="1">
                  <a:off x="2857320" y="5136840"/>
                  <a:ext cx="46080" cy="47160"/>
                </a:xfrm>
                <a:prstGeom prst="line">
                  <a:avLst/>
                </a:prstGeom>
                <a:ln w="176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 flipH="1">
                  <a:off x="2923560" y="5136840"/>
                  <a:ext cx="47880" cy="47160"/>
                </a:xfrm>
                <a:prstGeom prst="line">
                  <a:avLst/>
                </a:prstGeom>
                <a:ln w="176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flipH="1">
                  <a:off x="3004560" y="5136840"/>
                  <a:ext cx="47880" cy="47160"/>
                </a:xfrm>
                <a:prstGeom prst="line">
                  <a:avLst/>
                </a:prstGeom>
                <a:ln w="176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2" name=""/>
            <p:cNvSpPr/>
            <p:nvPr/>
          </p:nvSpPr>
          <p:spPr>
            <a:xfrm>
              <a:off x="738720" y="5465880"/>
              <a:ext cx="262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66"/>
                  </a:solidFill>
                  <a:latin typeface="Arial"/>
                </a:rPr>
                <a:t>Frame imperfectio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83" name=""/>
            <p:cNvGrpSpPr/>
            <p:nvPr/>
          </p:nvGrpSpPr>
          <p:grpSpPr>
            <a:xfrm>
              <a:off x="766800" y="1628640"/>
              <a:ext cx="3093840" cy="3459240"/>
              <a:chOff x="766800" y="1628640"/>
              <a:chExt cx="3093840" cy="3459240"/>
            </a:xfrm>
          </p:grpSpPr>
          <p:sp>
            <p:nvSpPr>
              <p:cNvPr id="584" name=""/>
              <p:cNvSpPr/>
              <p:nvPr/>
            </p:nvSpPr>
            <p:spPr>
              <a:xfrm flipH="1">
                <a:off x="766800" y="1957320"/>
                <a:ext cx="863280" cy="3130560"/>
              </a:xfrm>
              <a:prstGeom prst="line">
                <a:avLst/>
              </a:prstGeom>
              <a:ln w="36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2925720" y="1957320"/>
                <a:ext cx="863640" cy="3130560"/>
              </a:xfrm>
              <a:prstGeom prst="line">
                <a:avLst/>
              </a:prstGeom>
              <a:ln w="36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586" name=""/>
              <p:cNvGrpSpPr/>
              <p:nvPr/>
            </p:nvGrpSpPr>
            <p:grpSpPr>
              <a:xfrm>
                <a:off x="1089720" y="1628640"/>
                <a:ext cx="2770920" cy="3098160"/>
                <a:chOff x="1089720" y="1628640"/>
                <a:chExt cx="2770920" cy="3098160"/>
              </a:xfrm>
            </p:grpSpPr>
            <p:grpSp>
              <p:nvGrpSpPr>
                <p:cNvPr id="587" name=""/>
                <p:cNvGrpSpPr/>
                <p:nvPr/>
              </p:nvGrpSpPr>
              <p:grpSpPr>
                <a:xfrm>
                  <a:off x="1630080" y="1628640"/>
                  <a:ext cx="2159280" cy="330120"/>
                  <a:chOff x="1630080" y="1628640"/>
                  <a:chExt cx="2159280" cy="330120"/>
                </a:xfrm>
              </p:grpSpPr>
              <p:sp>
                <p:nvSpPr>
                  <p:cNvPr id="588" name=""/>
                  <p:cNvSpPr/>
                  <p:nvPr/>
                </p:nvSpPr>
                <p:spPr>
                  <a:xfrm>
                    <a:off x="1630080" y="1957320"/>
                    <a:ext cx="2159280" cy="1440"/>
                  </a:xfrm>
                  <a:prstGeom prst="line">
                    <a:avLst/>
                  </a:prstGeom>
                  <a:ln w="1584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1638000" y="1628640"/>
                    <a:ext cx="2143440" cy="308160"/>
                  </a:xfrm>
                  <a:prstGeom prst="rect">
                    <a:avLst/>
                  </a:prstGeom>
                  <a:noFill/>
                  <a:ln w="1584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 flipV="1">
                    <a:off x="1846080" y="1633320"/>
                    <a:ext cx="1800" cy="324000"/>
                  </a:xfrm>
                  <a:prstGeom prst="line">
                    <a:avLst/>
                  </a:prstGeom>
                  <a:ln w="1584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 flipV="1">
                    <a:off x="2062080" y="1633320"/>
                    <a:ext cx="1440" cy="324000"/>
                  </a:xfrm>
                  <a:prstGeom prst="line">
                    <a:avLst/>
                  </a:prstGeom>
                  <a:ln w="1584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flipV="1">
                    <a:off x="2278080" y="1633320"/>
                    <a:ext cx="1440" cy="324000"/>
                  </a:xfrm>
                  <a:prstGeom prst="line">
                    <a:avLst/>
                  </a:prstGeom>
                  <a:ln w="1584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 flipV="1">
                    <a:off x="2493720" y="1633320"/>
                    <a:ext cx="1800" cy="324000"/>
                  </a:xfrm>
                  <a:prstGeom prst="line">
                    <a:avLst/>
                  </a:prstGeom>
                  <a:ln w="1584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 flipV="1">
                    <a:off x="2709720" y="1633320"/>
                    <a:ext cx="1440" cy="324000"/>
                  </a:xfrm>
                  <a:prstGeom prst="line">
                    <a:avLst/>
                  </a:prstGeom>
                  <a:ln w="1584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flipV="1">
                    <a:off x="2925720" y="1633320"/>
                    <a:ext cx="1440" cy="324000"/>
                  </a:xfrm>
                  <a:prstGeom prst="line">
                    <a:avLst/>
                  </a:prstGeom>
                  <a:ln w="1584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V="1">
                    <a:off x="3141360" y="1633320"/>
                    <a:ext cx="1800" cy="324000"/>
                  </a:xfrm>
                  <a:prstGeom prst="line">
                    <a:avLst/>
                  </a:prstGeom>
                  <a:ln w="1584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 flipV="1">
                    <a:off x="3357360" y="1633320"/>
                    <a:ext cx="1800" cy="324000"/>
                  </a:xfrm>
                  <a:prstGeom prst="line">
                    <a:avLst/>
                  </a:prstGeom>
                  <a:ln w="1584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flipV="1">
                    <a:off x="3573360" y="1633320"/>
                    <a:ext cx="1440" cy="324000"/>
                  </a:xfrm>
                  <a:prstGeom prst="line">
                    <a:avLst/>
                  </a:prstGeom>
                  <a:ln w="1584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9" name=""/>
                <p:cNvGrpSpPr/>
                <p:nvPr/>
              </p:nvGrpSpPr>
              <p:grpSpPr>
                <a:xfrm>
                  <a:off x="1198440" y="3144240"/>
                  <a:ext cx="2158920" cy="325800"/>
                  <a:chOff x="1198440" y="3144240"/>
                  <a:chExt cx="2158920" cy="325800"/>
                </a:xfrm>
              </p:grpSpPr>
              <p:sp>
                <p:nvSpPr>
                  <p:cNvPr id="600" name=""/>
                  <p:cNvSpPr/>
                  <p:nvPr/>
                </p:nvSpPr>
                <p:spPr>
                  <a:xfrm>
                    <a:off x="1198440" y="3468240"/>
                    <a:ext cx="2158920" cy="1800"/>
                  </a:xfrm>
                  <a:prstGeom prst="line">
                    <a:avLst/>
                  </a:prstGeom>
                  <a:ln w="1584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1198440" y="3144600"/>
                    <a:ext cx="2158920" cy="32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0" h="204">
                        <a:moveTo>
                          <a:pt x="0" y="204"/>
                        </a:moveTo>
                        <a:lnTo>
                          <a:pt x="0" y="0"/>
                        </a:lnTo>
                        <a:lnTo>
                          <a:pt x="1360" y="0"/>
                        </a:lnTo>
                      </a:path>
                    </a:pathLst>
                  </a:custGeom>
                  <a:noFill/>
                  <a:ln w="1584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 flipV="1">
                    <a:off x="1414080" y="3144240"/>
                    <a:ext cx="1800" cy="323640"/>
                  </a:xfrm>
                  <a:prstGeom prst="line">
                    <a:avLst/>
                  </a:prstGeom>
                  <a:ln w="1584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V="1">
                    <a:off x="2062080" y="3144240"/>
                    <a:ext cx="1440" cy="323640"/>
                  </a:xfrm>
                  <a:prstGeom prst="line">
                    <a:avLst/>
                  </a:prstGeom>
                  <a:ln w="1584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flipV="1">
                    <a:off x="1846080" y="3144240"/>
                    <a:ext cx="1440" cy="323640"/>
                  </a:xfrm>
                  <a:prstGeom prst="line">
                    <a:avLst/>
                  </a:prstGeom>
                  <a:ln w="1584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 flipV="1">
                    <a:off x="2277720" y="3144240"/>
                    <a:ext cx="1800" cy="323640"/>
                  </a:xfrm>
                  <a:prstGeom prst="line">
                    <a:avLst/>
                  </a:prstGeom>
                  <a:ln w="1584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flipV="1">
                    <a:off x="1630080" y="3144240"/>
                    <a:ext cx="1800" cy="323640"/>
                  </a:xfrm>
                  <a:prstGeom prst="line">
                    <a:avLst/>
                  </a:prstGeom>
                  <a:ln w="1584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flipV="1">
                    <a:off x="3141360" y="3144240"/>
                    <a:ext cx="1800" cy="323640"/>
                  </a:xfrm>
                  <a:prstGeom prst="line">
                    <a:avLst/>
                  </a:prstGeom>
                  <a:ln w="1584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flipV="1">
                    <a:off x="2925360" y="3144240"/>
                    <a:ext cx="1800" cy="323640"/>
                  </a:xfrm>
                  <a:prstGeom prst="line">
                    <a:avLst/>
                  </a:prstGeom>
                  <a:ln w="1584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flipV="1">
                    <a:off x="2709720" y="3144240"/>
                    <a:ext cx="1440" cy="323640"/>
                  </a:xfrm>
                  <a:prstGeom prst="line">
                    <a:avLst/>
                  </a:prstGeom>
                  <a:ln w="1584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flipV="1">
                    <a:off x="2493720" y="3144240"/>
                    <a:ext cx="1440" cy="323640"/>
                  </a:xfrm>
                  <a:prstGeom prst="line">
                    <a:avLst/>
                  </a:prstGeom>
                  <a:ln w="1584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1" name=""/>
                <p:cNvSpPr/>
                <p:nvPr/>
              </p:nvSpPr>
              <p:spPr>
                <a:xfrm>
                  <a:off x="3357360" y="3144600"/>
                  <a:ext cx="1800" cy="324000"/>
                </a:xfrm>
                <a:prstGeom prst="line">
                  <a:avLst/>
                </a:prstGeom>
                <a:ln w="158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3725640" y="1825560"/>
                  <a:ext cx="135000" cy="119160"/>
                </a:xfrm>
                <a:custGeom>
                  <a:avLst/>
                  <a:gdLst/>
                  <a:ahLst/>
                  <a:rect l="l" t="t" r="r" b="b"/>
                  <a:pathLst>
                    <a:path w="85" h="75">
                      <a:moveTo>
                        <a:pt x="43" y="75"/>
                      </a:moveTo>
                      <a:lnTo>
                        <a:pt x="0" y="0"/>
                      </a:lnTo>
                      <a:lnTo>
                        <a:pt x="85" y="0"/>
                      </a:lnTo>
                      <a:lnTo>
                        <a:pt x="43" y="75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1584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1089720" y="4330440"/>
                  <a:ext cx="172800" cy="39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600" spc="-1" strike="noStrike">
                      <a:solidFill>
                        <a:srgbClr val="000066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26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3249000" y="4330440"/>
                  <a:ext cx="172800" cy="39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600" spc="-1" strike="noStrike">
                      <a:solidFill>
                        <a:srgbClr val="000066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26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3287520" y="3335400"/>
                  <a:ext cx="135000" cy="118800"/>
                </a:xfrm>
                <a:custGeom>
                  <a:avLst/>
                  <a:gdLst/>
                  <a:ahLst/>
                  <a:rect l="l" t="t" r="r" b="b"/>
                  <a:pathLst>
                    <a:path w="85" h="75">
                      <a:moveTo>
                        <a:pt x="43" y="75"/>
                      </a:moveTo>
                      <a:lnTo>
                        <a:pt x="0" y="0"/>
                      </a:lnTo>
                      <a:lnTo>
                        <a:pt x="85" y="0"/>
                      </a:lnTo>
                      <a:lnTo>
                        <a:pt x="43" y="75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1584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1554120" y="1832040"/>
                  <a:ext cx="135000" cy="118800"/>
                </a:xfrm>
                <a:custGeom>
                  <a:avLst/>
                  <a:gdLst/>
                  <a:ahLst/>
                  <a:rect l="l" t="t" r="r" b="b"/>
                  <a:pathLst>
                    <a:path w="85" h="75">
                      <a:moveTo>
                        <a:pt x="43" y="75"/>
                      </a:moveTo>
                      <a:lnTo>
                        <a:pt x="0" y="0"/>
                      </a:lnTo>
                      <a:lnTo>
                        <a:pt x="85" y="0"/>
                      </a:lnTo>
                      <a:lnTo>
                        <a:pt x="43" y="75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1584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128600" y="3349440"/>
                  <a:ext cx="135000" cy="119160"/>
                </a:xfrm>
                <a:custGeom>
                  <a:avLst/>
                  <a:gdLst/>
                  <a:ahLst/>
                  <a:rect l="l" t="t" r="r" b="b"/>
                  <a:pathLst>
                    <a:path w="85" h="75">
                      <a:moveTo>
                        <a:pt x="43" y="75"/>
                      </a:moveTo>
                      <a:lnTo>
                        <a:pt x="0" y="0"/>
                      </a:lnTo>
                      <a:lnTo>
                        <a:pt x="85" y="0"/>
                      </a:lnTo>
                      <a:lnTo>
                        <a:pt x="43" y="75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1584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1650960" y="1960560"/>
                  <a:ext cx="2158920" cy="1440"/>
                </a:xfrm>
                <a:prstGeom prst="line">
                  <a:avLst/>
                </a:prstGeom>
                <a:ln w="36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1224000" y="3470040"/>
                  <a:ext cx="2157120" cy="1800"/>
                </a:xfrm>
                <a:prstGeom prst="line">
                  <a:avLst/>
                </a:prstGeom>
                <a:ln w="36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0" name=""/>
          <p:cNvSpPr/>
          <p:nvPr/>
        </p:nvSpPr>
        <p:spPr>
          <a:xfrm>
            <a:off x="4869000" y="408132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5379480" y="1695600"/>
            <a:ext cx="2882520" cy="4149000"/>
            <a:chOff x="5379480" y="1695600"/>
            <a:chExt cx="2882520" cy="4149000"/>
          </a:xfrm>
        </p:grpSpPr>
        <p:sp>
          <p:nvSpPr>
            <p:cNvPr id="622" name=""/>
            <p:cNvSpPr/>
            <p:nvPr/>
          </p:nvSpPr>
          <p:spPr>
            <a:xfrm>
              <a:off x="5379480" y="5478480"/>
              <a:ext cx="2882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66"/>
                  </a:solidFill>
                  <a:latin typeface="Arial"/>
                </a:rPr>
                <a:t>Member Imperfectio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6059160" y="1695600"/>
              <a:ext cx="1429560" cy="3121560"/>
              <a:chOff x="6059160" y="1695600"/>
              <a:chExt cx="1429560" cy="3121560"/>
            </a:xfrm>
          </p:grpSpPr>
          <p:sp>
            <p:nvSpPr>
              <p:cNvPr id="624" name=""/>
              <p:cNvSpPr/>
              <p:nvPr/>
            </p:nvSpPr>
            <p:spPr>
              <a:xfrm flipH="1" flipV="1">
                <a:off x="6670080" y="2445840"/>
                <a:ext cx="1440" cy="2371320"/>
              </a:xfrm>
              <a:prstGeom prst="line">
                <a:avLst/>
              </a:prstGeom>
              <a:ln w="0">
                <a:solidFill>
                  <a:srgbClr val="00006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685920" y="2450880"/>
                <a:ext cx="291960" cy="2363400"/>
              </a:xfrm>
              <a:custGeom>
                <a:avLst/>
                <a:gdLst/>
                <a:ahLst/>
                <a:rect l="l" t="t" r="r" b="b"/>
                <a:pathLst>
                  <a:path w="184" h="1489">
                    <a:moveTo>
                      <a:pt x="3" y="1489"/>
                    </a:moveTo>
                    <a:lnTo>
                      <a:pt x="31" y="1433"/>
                    </a:lnTo>
                    <a:lnTo>
                      <a:pt x="52" y="1389"/>
                    </a:lnTo>
                    <a:lnTo>
                      <a:pt x="73" y="1342"/>
                    </a:lnTo>
                    <a:lnTo>
                      <a:pt x="92" y="1297"/>
                    </a:lnTo>
                    <a:lnTo>
                      <a:pt x="110" y="1230"/>
                    </a:lnTo>
                    <a:lnTo>
                      <a:pt x="131" y="1150"/>
                    </a:lnTo>
                    <a:lnTo>
                      <a:pt x="141" y="1087"/>
                    </a:lnTo>
                    <a:lnTo>
                      <a:pt x="158" y="995"/>
                    </a:lnTo>
                    <a:lnTo>
                      <a:pt x="171" y="913"/>
                    </a:lnTo>
                    <a:lnTo>
                      <a:pt x="175" y="848"/>
                    </a:lnTo>
                    <a:lnTo>
                      <a:pt x="184" y="784"/>
                    </a:lnTo>
                    <a:lnTo>
                      <a:pt x="184" y="719"/>
                    </a:lnTo>
                    <a:lnTo>
                      <a:pt x="175" y="613"/>
                    </a:lnTo>
                    <a:lnTo>
                      <a:pt x="163" y="517"/>
                    </a:lnTo>
                    <a:lnTo>
                      <a:pt x="141" y="410"/>
                    </a:lnTo>
                    <a:lnTo>
                      <a:pt x="114" y="313"/>
                    </a:lnTo>
                    <a:lnTo>
                      <a:pt x="79" y="188"/>
                    </a:lnTo>
                    <a:lnTo>
                      <a:pt x="38" y="80"/>
                    </a:lnTo>
                    <a:lnTo>
                      <a:pt x="0" y="0"/>
                    </a:lnTo>
                  </a:path>
                </a:pathLst>
              </a:custGeom>
              <a:noFill/>
              <a:ln w="36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671880" y="3625920"/>
                <a:ext cx="302760" cy="1080"/>
              </a:xfrm>
              <a:prstGeom prst="line">
                <a:avLst/>
              </a:prstGeom>
              <a:ln w="176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6633720" y="3597120"/>
                <a:ext cx="64800" cy="74160"/>
              </a:xfrm>
              <a:prstGeom prst="line">
                <a:avLst/>
              </a:prstGeom>
              <a:ln w="176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6935400" y="3597120"/>
                <a:ext cx="64800" cy="74160"/>
              </a:xfrm>
              <a:prstGeom prst="line">
                <a:avLst/>
              </a:prstGeom>
              <a:ln w="176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059160" y="3313080"/>
                <a:ext cx="169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66"/>
                    </a:solidFill>
                    <a:latin typeface="Arial"/>
                  </a:rPr>
                  <a:t>L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563880" y="1695600"/>
                <a:ext cx="2203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66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048080" y="3365280"/>
                <a:ext cx="169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187760" y="3585960"/>
                <a:ext cx="30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700" spc="-1" strike="noStrike">
                    <a:solidFill>
                      <a:srgbClr val="000066"/>
                    </a:solidFill>
                    <a:latin typeface="Arial"/>
                  </a:rPr>
                  <a:t>o,d</a:t>
                </a:r>
                <a:endParaRPr b="0" lang="en-US" sz="1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6411600" y="2468520"/>
                <a:ext cx="0" cy="2342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678000" y="4814640"/>
                <a:ext cx="16164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635" name=""/>
              <p:cNvGrpSpPr/>
              <p:nvPr/>
            </p:nvGrpSpPr>
            <p:grpSpPr>
              <a:xfrm>
                <a:off x="6678000" y="2338200"/>
                <a:ext cx="250200" cy="237960"/>
                <a:chOff x="6678000" y="2338200"/>
                <a:chExt cx="250200" cy="2379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6678000" y="2452320"/>
                  <a:ext cx="161640" cy="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6854040" y="2342880"/>
                  <a:ext cx="74160" cy="74520"/>
                </a:xfrm>
                <a:prstGeom prst="ellipse">
                  <a:avLst/>
                </a:prstGeom>
                <a:noFill/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8640" bIns="864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6854040" y="2499840"/>
                  <a:ext cx="74160" cy="74880"/>
                </a:xfrm>
                <a:prstGeom prst="ellipse">
                  <a:avLst/>
                </a:prstGeom>
                <a:noFill/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9000" bIns="90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6829920" y="2338200"/>
                  <a:ext cx="0" cy="23796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0" name=""/>
              <p:cNvSpPr/>
              <p:nvPr/>
            </p:nvSpPr>
            <p:spPr>
              <a:xfrm>
                <a:off x="6678000" y="2081160"/>
                <a:ext cx="0" cy="3520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4D3EF-0FAB-42BB-88CE-3AEBB0E2F3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mperfection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rame imperfection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lways to be allowed fo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ember imperfection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Only for slender members (rare) in sway frames, otherwise it is covered in the relevant buckling curv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75567-5C59-4EB7-AD15-B928DE5FE6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Frame imperfe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49636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frame imperfection is as follow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1332000" y="2133720"/>
            <a:ext cx="4176720" cy="3166920"/>
            <a:chOff x="1332000" y="2133720"/>
            <a:chExt cx="4176720" cy="3166920"/>
          </a:xfrm>
        </p:grpSpPr>
        <p:graphicFrame>
          <p:nvGraphicFramePr>
            <p:cNvPr id="646" name=""/>
            <p:cNvGraphicFramePr/>
            <p:nvPr/>
          </p:nvGraphicFramePr>
          <p:xfrm>
            <a:off x="1471680" y="2157480"/>
            <a:ext cx="1834920" cy="57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71680" y="2157480"/>
                      <a:ext cx="1834920" cy="57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8" name=""/>
            <p:cNvGraphicFramePr/>
            <p:nvPr/>
          </p:nvGraphicFramePr>
          <p:xfrm>
            <a:off x="2068560" y="2789280"/>
            <a:ext cx="2328840" cy="765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4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68560" y="2789280"/>
                      <a:ext cx="2328840" cy="76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0" name=""/>
            <p:cNvGraphicFramePr/>
            <p:nvPr/>
          </p:nvGraphicFramePr>
          <p:xfrm>
            <a:off x="2079720" y="3578400"/>
            <a:ext cx="3178080" cy="766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5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079720" y="3578400"/>
                      <a:ext cx="3178080" cy="76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2" name=""/>
            <p:cNvGraphicFramePr/>
            <p:nvPr/>
          </p:nvGraphicFramePr>
          <p:xfrm>
            <a:off x="2128680" y="4359240"/>
            <a:ext cx="1184400" cy="762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5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128680" y="4359240"/>
                      <a:ext cx="1184400" cy="7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54" name=""/>
            <p:cNvSpPr/>
            <p:nvPr/>
          </p:nvSpPr>
          <p:spPr>
            <a:xfrm>
              <a:off x="1332000" y="2133720"/>
              <a:ext cx="4176720" cy="316692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5075280" y="5373720"/>
            <a:ext cx="381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=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number of columns per store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h=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height of the fra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B034B-30B7-41F6-A534-55F0A12B04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Frame imperfe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3164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rame imperfection can be replaced by an equivalent closed system of horizontal forces applied at the floor levels (including the foundation level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211640" y="1413000"/>
            <a:ext cx="4284720" cy="4642920"/>
            <a:chOff x="4211640" y="1413000"/>
            <a:chExt cx="4284720" cy="4642920"/>
          </a:xfrm>
        </p:grpSpPr>
        <p:sp>
          <p:nvSpPr>
            <p:cNvPr id="659" name=""/>
            <p:cNvSpPr/>
            <p:nvPr/>
          </p:nvSpPr>
          <p:spPr>
            <a:xfrm>
              <a:off x="7066080" y="1413000"/>
              <a:ext cx="5997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078680" y="1419480"/>
              <a:ext cx="285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9999"/>
                  </a:solidFill>
                  <a:latin typeface="Arial"/>
                </a:rPr>
                <a:t>F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4211640" y="1701720"/>
              <a:ext cx="4284720" cy="4354200"/>
              <a:chOff x="4211640" y="1701720"/>
              <a:chExt cx="4284720" cy="4354200"/>
            </a:xfrm>
          </p:grpSpPr>
          <p:grpSp>
            <p:nvGrpSpPr>
              <p:cNvPr id="662" name=""/>
              <p:cNvGrpSpPr/>
              <p:nvPr/>
            </p:nvGrpSpPr>
            <p:grpSpPr>
              <a:xfrm>
                <a:off x="6080040" y="2259000"/>
                <a:ext cx="2306520" cy="3238560"/>
                <a:chOff x="6080040" y="2259000"/>
                <a:chExt cx="2306520" cy="3238560"/>
              </a:xfrm>
            </p:grpSpPr>
            <p:sp>
              <p:nvSpPr>
                <p:cNvPr id="663" name=""/>
                <p:cNvSpPr/>
                <p:nvPr/>
              </p:nvSpPr>
              <p:spPr>
                <a:xfrm>
                  <a:off x="8385120" y="2259000"/>
                  <a:ext cx="1440" cy="323856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6080040" y="2259000"/>
                  <a:ext cx="1440" cy="323856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6080040" y="2259000"/>
                  <a:ext cx="2305080" cy="18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6080040" y="3875040"/>
                  <a:ext cx="2305080" cy="18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7" name=""/>
              <p:cNvSpPr/>
              <p:nvPr/>
            </p:nvSpPr>
            <p:spPr>
              <a:xfrm>
                <a:off x="8267760" y="5497560"/>
                <a:ext cx="228600" cy="18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962680" y="5497560"/>
                <a:ext cx="234720" cy="18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080040" y="1860480"/>
                <a:ext cx="2305080" cy="18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086520" y="1859040"/>
                <a:ext cx="0" cy="2286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981760" y="2025720"/>
                <a:ext cx="195120" cy="227160"/>
              </a:xfrm>
              <a:custGeom>
                <a:avLst/>
                <a:gdLst/>
                <a:ahLst/>
                <a:rect l="l" t="t" r="r" b="b"/>
                <a:pathLst>
                  <a:path w="123" h="143">
                    <a:moveTo>
                      <a:pt x="123" y="0"/>
                    </a:moveTo>
                    <a:lnTo>
                      <a:pt x="0" y="0"/>
                    </a:lnTo>
                    <a:lnTo>
                      <a:pt x="62" y="143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000066"/>
              </a:solidFill>
              <a:ln w="648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464160" y="1860480"/>
                <a:ext cx="1800" cy="3985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850080" y="1860480"/>
                <a:ext cx="1440" cy="3985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229520" y="1860480"/>
                <a:ext cx="0" cy="3985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615080" y="1860480"/>
                <a:ext cx="1800" cy="3985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615080" y="1860480"/>
                <a:ext cx="1800" cy="3985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615080" y="1860480"/>
                <a:ext cx="1800" cy="3985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005680" y="1878120"/>
                <a:ext cx="0" cy="380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378640" y="1852560"/>
                <a:ext cx="0" cy="2350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286840" y="2025720"/>
                <a:ext cx="190440" cy="227160"/>
              </a:xfrm>
              <a:custGeom>
                <a:avLst/>
                <a:gdLst/>
                <a:ahLst/>
                <a:rect l="l" t="t" r="r" b="b"/>
                <a:pathLst>
                  <a:path w="120" h="143">
                    <a:moveTo>
                      <a:pt x="120" y="0"/>
                    </a:moveTo>
                    <a:lnTo>
                      <a:pt x="0" y="0"/>
                    </a:lnTo>
                    <a:lnTo>
                      <a:pt x="58" y="143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000066"/>
              </a:solidFill>
              <a:ln w="648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080040" y="3476880"/>
                <a:ext cx="2305080" cy="14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080040" y="3476880"/>
                <a:ext cx="6480" cy="2268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981760" y="3648240"/>
                <a:ext cx="195120" cy="226800"/>
              </a:xfrm>
              <a:custGeom>
                <a:avLst/>
                <a:gdLst/>
                <a:ahLst/>
                <a:rect l="l" t="t" r="r" b="b"/>
                <a:pathLst>
                  <a:path w="123" h="143">
                    <a:moveTo>
                      <a:pt x="123" y="0"/>
                    </a:moveTo>
                    <a:lnTo>
                      <a:pt x="0" y="0"/>
                    </a:lnTo>
                    <a:lnTo>
                      <a:pt x="62" y="143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000066"/>
              </a:solidFill>
              <a:ln w="648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464160" y="3476880"/>
                <a:ext cx="1800" cy="4046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850080" y="3476880"/>
                <a:ext cx="1440" cy="4046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223040" y="3476880"/>
                <a:ext cx="0" cy="4046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615080" y="3476880"/>
                <a:ext cx="1800" cy="4046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615080" y="3476880"/>
                <a:ext cx="1800" cy="4046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615080" y="3476880"/>
                <a:ext cx="1800" cy="4046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999200" y="3476880"/>
                <a:ext cx="0" cy="39816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8378640" y="3476880"/>
                <a:ext cx="6480" cy="2268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286840" y="3648240"/>
                <a:ext cx="190440" cy="226800"/>
              </a:xfrm>
              <a:custGeom>
                <a:avLst/>
                <a:gdLst/>
                <a:ahLst/>
                <a:rect l="l" t="t" r="r" b="b"/>
                <a:pathLst>
                  <a:path w="120" h="143">
                    <a:moveTo>
                      <a:pt x="120" y="0"/>
                    </a:moveTo>
                    <a:lnTo>
                      <a:pt x="0" y="0"/>
                    </a:lnTo>
                    <a:lnTo>
                      <a:pt x="58" y="143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000066"/>
              </a:solidFill>
              <a:ln w="648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693" name=""/>
              <p:cNvGrpSpPr/>
              <p:nvPr/>
            </p:nvGrpSpPr>
            <p:grpSpPr>
              <a:xfrm>
                <a:off x="5079960" y="2156040"/>
                <a:ext cx="765000" cy="1822320"/>
                <a:chOff x="5079960" y="2156040"/>
                <a:chExt cx="765000" cy="182232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5079960" y="2259000"/>
                  <a:ext cx="608040" cy="18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629320" y="2156040"/>
                  <a:ext cx="215640" cy="199800"/>
                </a:xfrm>
                <a:custGeom>
                  <a:avLst/>
                  <a:gdLst/>
                  <a:ahLst/>
                  <a:rect l="l" t="t" r="r" b="b"/>
                  <a:pathLst>
                    <a:path w="136" h="126">
                      <a:moveTo>
                        <a:pt x="0" y="0"/>
                      </a:moveTo>
                      <a:lnTo>
                        <a:pt x="0" y="126"/>
                      </a:lnTo>
                      <a:lnTo>
                        <a:pt x="136" y="6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648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079960" y="3875040"/>
                  <a:ext cx="608040" cy="18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629320" y="3772080"/>
                  <a:ext cx="215640" cy="206280"/>
                </a:xfrm>
                <a:custGeom>
                  <a:avLst/>
                  <a:gdLst/>
                  <a:ahLst/>
                  <a:rect l="l" t="t" r="r" b="b"/>
                  <a:pathLst>
                    <a:path w="136" h="130">
                      <a:moveTo>
                        <a:pt x="0" y="0"/>
                      </a:moveTo>
                      <a:lnTo>
                        <a:pt x="0" y="130"/>
                      </a:lnTo>
                      <a:lnTo>
                        <a:pt x="136" y="6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648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8" name=""/>
              <p:cNvSpPr/>
              <p:nvPr/>
            </p:nvSpPr>
            <p:spPr>
              <a:xfrm>
                <a:off x="7091280" y="3035520"/>
                <a:ext cx="595440" cy="42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097760" y="3043440"/>
                <a:ext cx="28548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9999"/>
                    </a:solidFill>
                    <a:latin typeface="Arial"/>
                  </a:rPr>
                  <a:t>F</a:t>
                </a:r>
                <a:r>
                  <a:rPr b="0" lang="en-GB" sz="2400" spc="-1" strike="noStrike" baseline="-25000">
                    <a:solidFill>
                      <a:srgbClr val="009999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656240" y="1708200"/>
                <a:ext cx="475920" cy="43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656240" y="1708200"/>
                <a:ext cx="15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400" spc="-1" strike="noStrike">
                    <a:solidFill>
                      <a:srgbClr val="009999"/>
                    </a:solidFill>
                    <a:latin typeface="Symbol"/>
                    <a:ea typeface="Symbol"/>
                  </a:rPr>
                  <a:t>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903560" y="1701720"/>
                <a:ext cx="595440" cy="41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910040" y="1708200"/>
                <a:ext cx="28548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9999"/>
                    </a:solidFill>
                    <a:latin typeface="Arial"/>
                  </a:rPr>
                  <a:t>F</a:t>
                </a:r>
                <a:r>
                  <a:rPr b="0" lang="en-GB" sz="2400" spc="-1" strike="noStrike" baseline="-25000">
                    <a:solidFill>
                      <a:srgbClr val="009999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674960" y="3324240"/>
                <a:ext cx="476280" cy="44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674960" y="3324240"/>
                <a:ext cx="15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400" spc="-1" strike="noStrike">
                    <a:solidFill>
                      <a:srgbClr val="009999"/>
                    </a:solidFill>
                    <a:latin typeface="Symbol"/>
                    <a:ea typeface="Symbol"/>
                  </a:rPr>
                  <a:t>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922640" y="3338640"/>
                <a:ext cx="59544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929120" y="3345120"/>
                <a:ext cx="28548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9999"/>
                    </a:solidFill>
                    <a:latin typeface="Arial"/>
                  </a:rPr>
                  <a:t>F</a:t>
                </a:r>
                <a:r>
                  <a:rPr b="0" lang="en-GB" sz="2400" spc="-1" strike="noStrike" baseline="-25000">
                    <a:solidFill>
                      <a:srgbClr val="009999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211640" y="4983120"/>
                <a:ext cx="476280" cy="43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211640" y="4983120"/>
                <a:ext cx="15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400" spc="-1" strike="noStrike">
                    <a:solidFill>
                      <a:srgbClr val="009999"/>
                    </a:solidFill>
                    <a:latin typeface="Symbol"/>
                    <a:ea typeface="Symbol"/>
                  </a:rPr>
                  <a:t>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479840" y="4975200"/>
                <a:ext cx="157320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491720" y="4983120"/>
                <a:ext cx="120780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9999"/>
                    </a:solidFill>
                    <a:latin typeface="Arial"/>
                  </a:rPr>
                  <a:t>(F</a:t>
                </a:r>
                <a:r>
                  <a:rPr b="0" lang="en-GB" sz="2400" spc="-1" strike="noStrike" baseline="-25000">
                    <a:solidFill>
                      <a:srgbClr val="009999"/>
                    </a:solidFill>
                    <a:latin typeface="Arial"/>
                  </a:rPr>
                  <a:t>1</a:t>
                </a:r>
                <a:r>
                  <a:rPr b="0" lang="en-GB" sz="2400" spc="-1" strike="noStrike">
                    <a:solidFill>
                      <a:srgbClr val="009999"/>
                    </a:solidFill>
                    <a:latin typeface="Arial"/>
                  </a:rPr>
                  <a:t>+F</a:t>
                </a:r>
                <a:r>
                  <a:rPr b="0" lang="en-GB" sz="2400" spc="-1" strike="noStrike" baseline="-25000">
                    <a:solidFill>
                      <a:srgbClr val="009999"/>
                    </a:solidFill>
                    <a:latin typeface="Arial"/>
                  </a:rPr>
                  <a:t>2</a:t>
                </a:r>
                <a:r>
                  <a:rPr b="0" lang="en-GB" sz="2400" spc="-1" strike="noStrike">
                    <a:solidFill>
                      <a:srgbClr val="009999"/>
                    </a:solidFill>
                    <a:latin typeface="Arial"/>
                  </a:rPr>
                  <a:t>)/2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673680" y="5004000"/>
                <a:ext cx="15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400" spc="-1" strike="noStrike">
                    <a:solidFill>
                      <a:srgbClr val="009999"/>
                    </a:solidFill>
                    <a:latin typeface="Symbol"/>
                    <a:ea typeface="Symbol"/>
                  </a:rPr>
                  <a:t>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883200" y="5016600"/>
                <a:ext cx="157968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895080" y="5024520"/>
                <a:ext cx="120780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9999"/>
                    </a:solidFill>
                    <a:latin typeface="Arial"/>
                  </a:rPr>
                  <a:t>(F</a:t>
                </a:r>
                <a:r>
                  <a:rPr b="0" lang="en-GB" sz="2400" spc="-1" strike="noStrike" baseline="-25000">
                    <a:solidFill>
                      <a:srgbClr val="009999"/>
                    </a:solidFill>
                    <a:latin typeface="Arial"/>
                  </a:rPr>
                  <a:t>1</a:t>
                </a:r>
                <a:r>
                  <a:rPr b="0" lang="en-GB" sz="2400" spc="-1" strike="noStrike">
                    <a:solidFill>
                      <a:srgbClr val="009999"/>
                    </a:solidFill>
                    <a:latin typeface="Arial"/>
                  </a:rPr>
                  <a:t>+F</a:t>
                </a:r>
                <a:r>
                  <a:rPr b="0" lang="en-GB" sz="2400" spc="-1" strike="noStrike" baseline="-25000">
                    <a:solidFill>
                      <a:srgbClr val="009999"/>
                    </a:solidFill>
                    <a:latin typeface="Arial"/>
                  </a:rPr>
                  <a:t>2</a:t>
                </a:r>
                <a:r>
                  <a:rPr b="0" lang="en-GB" sz="2400" spc="-1" strike="noStrike">
                    <a:solidFill>
                      <a:srgbClr val="009999"/>
                    </a:solidFill>
                    <a:latin typeface="Arial"/>
                  </a:rPr>
                  <a:t>)/2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715" name=""/>
              <p:cNvGrpSpPr/>
              <p:nvPr/>
            </p:nvGrpSpPr>
            <p:grpSpPr>
              <a:xfrm>
                <a:off x="5079960" y="5394240"/>
                <a:ext cx="3095280" cy="200160"/>
                <a:chOff x="5079960" y="5394240"/>
                <a:chExt cx="3095280" cy="200160"/>
              </a:xfrm>
            </p:grpSpPr>
            <p:sp>
              <p:nvSpPr>
                <p:cNvPr id="716" name=""/>
                <p:cNvSpPr/>
                <p:nvPr/>
              </p:nvSpPr>
              <p:spPr>
                <a:xfrm flipH="1">
                  <a:off x="5243040" y="5491080"/>
                  <a:ext cx="608040" cy="18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5079960" y="5394240"/>
                  <a:ext cx="216000" cy="200160"/>
                </a:xfrm>
                <a:custGeom>
                  <a:avLst/>
                  <a:gdLst/>
                  <a:ahLst/>
                  <a:rect l="l" t="t" r="r" b="b"/>
                  <a:pathLst>
                    <a:path w="136" h="126">
                      <a:moveTo>
                        <a:pt x="136" y="126"/>
                      </a:moveTo>
                      <a:lnTo>
                        <a:pt x="136" y="0"/>
                      </a:lnTo>
                      <a:lnTo>
                        <a:pt x="0" y="61"/>
                      </a:lnTo>
                      <a:lnTo>
                        <a:pt x="136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648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 flipH="1">
                  <a:off x="7575120" y="5491080"/>
                  <a:ext cx="600120" cy="18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7412040" y="5394240"/>
                  <a:ext cx="216000" cy="200160"/>
                </a:xfrm>
                <a:custGeom>
                  <a:avLst/>
                  <a:gdLst/>
                  <a:ahLst/>
                  <a:rect l="l" t="t" r="r" b="b"/>
                  <a:pathLst>
                    <a:path w="136" h="126">
                      <a:moveTo>
                        <a:pt x="136" y="126"/>
                      </a:moveTo>
                      <a:lnTo>
                        <a:pt x="136" y="0"/>
                      </a:lnTo>
                      <a:lnTo>
                        <a:pt x="0" y="61"/>
                      </a:lnTo>
                      <a:lnTo>
                        <a:pt x="136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648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0" name=""/>
              <p:cNvSpPr/>
              <p:nvPr/>
            </p:nvSpPr>
            <p:spPr>
              <a:xfrm>
                <a:off x="6134040" y="5689800"/>
                <a:ext cx="2337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66"/>
                    </a:solidFill>
                    <a:latin typeface="Arial"/>
                  </a:rPr>
                  <a:t>Equivalent forces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73ECF-2CFD-492C-B5A2-0F9D640059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Methods of structural analysi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722" name=""/>
          <p:cNvGraphicFramePr/>
          <p:nvPr/>
        </p:nvGraphicFramePr>
        <p:xfrm>
          <a:off x="849240" y="2181240"/>
          <a:ext cx="7610400" cy="3141720"/>
        </p:xfrm>
        <a:graphic>
          <a:graphicData uri="http://schemas.openxmlformats.org/drawingml/2006/table">
            <a:tbl>
              <a:tblPr/>
              <a:tblGrid>
                <a:gridCol w="1903320"/>
                <a:gridCol w="1901880"/>
                <a:gridCol w="1903320"/>
                <a:gridCol w="1901880"/>
              </a:tblGrid>
              <a:tr h="52380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aterial property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lastic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lastic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049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Geometrical effects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400" spc="-1" strike="noStrike" baseline="30000">
                          <a:solidFill>
                            <a:srgbClr val="000066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order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04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000066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order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79B29-50B0-4AA4-9E87-2F5F726D8CF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en-GB" sz="3600" spc="-1" strike="noStrike" baseline="30000">
                <a:solidFill>
                  <a:srgbClr val="000066"/>
                </a:solidFill>
                <a:latin typeface="Arial"/>
              </a:rPr>
              <a:t>st 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- order elastic analysi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07960" y="5068800"/>
            <a:ext cx="82612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438840" indent="-438840">
              <a:spcBef>
                <a:spcPts val="499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Indefinite linear elastic response of member sections and of join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499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Equilibrium established for the undeformed structural configura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94560" y="1557360"/>
            <a:ext cx="3786840" cy="3251880"/>
            <a:chOff x="394560" y="1557360"/>
            <a:chExt cx="3786840" cy="3251880"/>
          </a:xfrm>
        </p:grpSpPr>
        <p:sp>
          <p:nvSpPr>
            <p:cNvPr id="726" name=""/>
            <p:cNvSpPr/>
            <p:nvPr/>
          </p:nvSpPr>
          <p:spPr>
            <a:xfrm flipV="1">
              <a:off x="744480" y="1771560"/>
              <a:ext cx="1087560" cy="2006640"/>
            </a:xfrm>
            <a:prstGeom prst="line">
              <a:avLst/>
            </a:prstGeom>
            <a:ln w="270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295720" y="1557360"/>
              <a:ext cx="90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66"/>
                  </a:solidFill>
                  <a:latin typeface="Arial"/>
                </a:rPr>
                <a:t>Elastic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25400" y="4199040"/>
              <a:ext cx="34560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Arial"/>
                </a:rPr>
                <a:t>Moment rotation characteristic of the section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29" name=""/>
            <p:cNvGrpSpPr/>
            <p:nvPr/>
          </p:nvGrpSpPr>
          <p:grpSpPr>
            <a:xfrm>
              <a:off x="1739160" y="2738520"/>
              <a:ext cx="1814040" cy="436680"/>
              <a:chOff x="1739160" y="2738520"/>
              <a:chExt cx="1814040" cy="436680"/>
            </a:xfrm>
          </p:grpSpPr>
          <p:sp>
            <p:nvSpPr>
              <p:cNvPr id="730" name=""/>
              <p:cNvSpPr/>
              <p:nvPr/>
            </p:nvSpPr>
            <p:spPr>
              <a:xfrm>
                <a:off x="3297960" y="2809080"/>
                <a:ext cx="255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66"/>
                    </a:solidFill>
                    <a:latin typeface="Arial"/>
                  </a:rPr>
                  <a:t>M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739160" y="2787120"/>
                <a:ext cx="255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66"/>
                    </a:solidFill>
                    <a:latin typeface="Arial"/>
                  </a:rPr>
                  <a:t>M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999800" y="2738520"/>
                <a:ext cx="102600" cy="360360"/>
              </a:xfrm>
              <a:custGeom>
                <a:avLst/>
                <a:gdLst/>
                <a:ahLst/>
                <a:rect l="l" t="t" r="r" b="b"/>
                <a:pathLst>
                  <a:path w="80" h="280">
                    <a:moveTo>
                      <a:pt x="80" y="0"/>
                    </a:moveTo>
                    <a:cubicBezTo>
                      <a:pt x="40" y="48"/>
                      <a:pt x="0" y="97"/>
                      <a:pt x="0" y="144"/>
                    </a:cubicBezTo>
                    <a:cubicBezTo>
                      <a:pt x="0" y="191"/>
                      <a:pt x="60" y="251"/>
                      <a:pt x="80" y="280"/>
                    </a:cubicBezTo>
                  </a:path>
                </a:pathLst>
              </a:custGeom>
              <a:noFill/>
              <a:ln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3117240" y="2743560"/>
                <a:ext cx="102960" cy="349920"/>
              </a:xfrm>
              <a:custGeom>
                <a:avLst/>
                <a:gdLst/>
                <a:ahLst/>
                <a:rect l="l" t="t" r="r" b="b"/>
                <a:pathLst>
                  <a:path w="80" h="272">
                    <a:moveTo>
                      <a:pt x="0" y="0"/>
                    </a:moveTo>
                    <a:cubicBezTo>
                      <a:pt x="40" y="45"/>
                      <a:pt x="80" y="91"/>
                      <a:pt x="80" y="136"/>
                    </a:cubicBezTo>
                    <a:cubicBezTo>
                      <a:pt x="80" y="181"/>
                      <a:pt x="40" y="226"/>
                      <a:pt x="0" y="272"/>
                    </a:cubicBezTo>
                  </a:path>
                </a:pathLst>
              </a:custGeom>
              <a:noFill/>
              <a:ln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 flipV="1">
              <a:off x="2035080" y="2743200"/>
              <a:ext cx="61920" cy="777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3480" bIns="334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flipV="1">
              <a:off x="3097080" y="2728800"/>
              <a:ext cx="61920" cy="763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36" name=""/>
            <p:cNvGrpSpPr/>
            <p:nvPr/>
          </p:nvGrpSpPr>
          <p:grpSpPr>
            <a:xfrm>
              <a:off x="394560" y="1670040"/>
              <a:ext cx="3000960" cy="2489400"/>
              <a:chOff x="394560" y="1670040"/>
              <a:chExt cx="3000960" cy="2489400"/>
            </a:xfrm>
          </p:grpSpPr>
          <p:sp>
            <p:nvSpPr>
              <p:cNvPr id="737" name=""/>
              <p:cNvSpPr/>
              <p:nvPr/>
            </p:nvSpPr>
            <p:spPr>
              <a:xfrm>
                <a:off x="394560" y="1670040"/>
                <a:ext cx="255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66"/>
                    </a:solidFill>
                    <a:latin typeface="Arial"/>
                  </a:rPr>
                  <a:t>M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236400" y="3793320"/>
                <a:ext cx="15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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739" name=""/>
              <p:cNvGrpSpPr/>
              <p:nvPr/>
            </p:nvGrpSpPr>
            <p:grpSpPr>
              <a:xfrm>
                <a:off x="737640" y="1688040"/>
                <a:ext cx="2533680" cy="2100960"/>
                <a:chOff x="737640" y="1688040"/>
                <a:chExt cx="2533680" cy="210096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737640" y="3789000"/>
                  <a:ext cx="2533680" cy="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 flipV="1">
                  <a:off x="737640" y="1688040"/>
                  <a:ext cx="0" cy="210096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2" name=""/>
            <p:cNvGrpSpPr/>
            <p:nvPr/>
          </p:nvGrpSpPr>
          <p:grpSpPr>
            <a:xfrm>
              <a:off x="2090880" y="1969920"/>
              <a:ext cx="1063080" cy="1253880"/>
              <a:chOff x="2090880" y="1969920"/>
              <a:chExt cx="1063080" cy="1253880"/>
            </a:xfrm>
          </p:grpSpPr>
          <p:sp>
            <p:nvSpPr>
              <p:cNvPr id="743" name=""/>
              <p:cNvSpPr/>
              <p:nvPr/>
            </p:nvSpPr>
            <p:spPr>
              <a:xfrm>
                <a:off x="2228400" y="2755440"/>
                <a:ext cx="778680" cy="196920"/>
              </a:xfrm>
              <a:custGeom>
                <a:avLst/>
                <a:gdLst/>
                <a:ahLst/>
                <a:rect l="l" t="t" r="r" b="b"/>
                <a:pathLst>
                  <a:path w="1209" h="153">
                    <a:moveTo>
                      <a:pt x="0" y="17"/>
                    </a:moveTo>
                    <a:lnTo>
                      <a:pt x="41" y="34"/>
                    </a:lnTo>
                    <a:lnTo>
                      <a:pt x="123" y="69"/>
                    </a:lnTo>
                    <a:lnTo>
                      <a:pt x="234" y="101"/>
                    </a:lnTo>
                    <a:lnTo>
                      <a:pt x="406" y="132"/>
                    </a:lnTo>
                    <a:lnTo>
                      <a:pt x="571" y="153"/>
                    </a:lnTo>
                    <a:lnTo>
                      <a:pt x="690" y="153"/>
                    </a:lnTo>
                    <a:lnTo>
                      <a:pt x="846" y="130"/>
                    </a:lnTo>
                    <a:lnTo>
                      <a:pt x="970" y="98"/>
                    </a:lnTo>
                    <a:lnTo>
                      <a:pt x="1076" y="62"/>
                    </a:lnTo>
                    <a:lnTo>
                      <a:pt x="1146" y="32"/>
                    </a:lnTo>
                    <a:lnTo>
                      <a:pt x="1209" y="0"/>
                    </a:lnTo>
                  </a:path>
                </a:pathLst>
              </a:custGeom>
              <a:noFill/>
              <a:ln w="1908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2090880" y="2044440"/>
                <a:ext cx="531720" cy="972000"/>
              </a:xfrm>
              <a:prstGeom prst="line">
                <a:avLst/>
              </a:prstGeom>
              <a:ln w="12600">
                <a:solidFill>
                  <a:srgbClr val="000066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107800" y="2952360"/>
                <a:ext cx="1003680" cy="271440"/>
              </a:xfrm>
              <a:custGeom>
                <a:avLst/>
                <a:gdLst/>
                <a:ahLst/>
                <a:rect l="l" t="t" r="r" b="b"/>
                <a:pathLst>
                  <a:path w="1561" h="211">
                    <a:moveTo>
                      <a:pt x="0" y="23"/>
                    </a:moveTo>
                    <a:lnTo>
                      <a:pt x="145" y="78"/>
                    </a:lnTo>
                    <a:lnTo>
                      <a:pt x="271" y="123"/>
                    </a:lnTo>
                    <a:lnTo>
                      <a:pt x="389" y="156"/>
                    </a:lnTo>
                    <a:lnTo>
                      <a:pt x="517" y="185"/>
                    </a:lnTo>
                    <a:lnTo>
                      <a:pt x="645" y="205"/>
                    </a:lnTo>
                    <a:lnTo>
                      <a:pt x="812" y="211"/>
                    </a:lnTo>
                    <a:lnTo>
                      <a:pt x="977" y="197"/>
                    </a:lnTo>
                    <a:lnTo>
                      <a:pt x="1137" y="169"/>
                    </a:lnTo>
                    <a:lnTo>
                      <a:pt x="1307" y="113"/>
                    </a:lnTo>
                    <a:lnTo>
                      <a:pt x="1457" y="57"/>
                    </a:lnTo>
                    <a:lnTo>
                      <a:pt x="1561" y="0"/>
                    </a:lnTo>
                  </a:path>
                </a:pathLst>
              </a:custGeom>
              <a:noFill/>
              <a:ln w="1908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 flipV="1">
                <a:off x="2621160" y="2048040"/>
                <a:ext cx="532800" cy="972360"/>
              </a:xfrm>
              <a:prstGeom prst="line">
                <a:avLst/>
              </a:prstGeom>
              <a:ln w="12600">
                <a:solidFill>
                  <a:srgbClr val="000066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136960" y="2818440"/>
                <a:ext cx="980640" cy="263880"/>
              </a:xfrm>
              <a:custGeom>
                <a:avLst/>
                <a:gdLst/>
                <a:ahLst/>
                <a:rect l="l" t="t" r="r" b="b"/>
                <a:pathLst>
                  <a:path w="1525" h="205">
                    <a:moveTo>
                      <a:pt x="0" y="18"/>
                    </a:moveTo>
                    <a:lnTo>
                      <a:pt x="140" y="81"/>
                    </a:lnTo>
                    <a:lnTo>
                      <a:pt x="253" y="127"/>
                    </a:lnTo>
                    <a:lnTo>
                      <a:pt x="366" y="160"/>
                    </a:lnTo>
                    <a:lnTo>
                      <a:pt x="499" y="179"/>
                    </a:lnTo>
                    <a:lnTo>
                      <a:pt x="616" y="197"/>
                    </a:lnTo>
                    <a:lnTo>
                      <a:pt x="772" y="205"/>
                    </a:lnTo>
                    <a:lnTo>
                      <a:pt x="966" y="185"/>
                    </a:lnTo>
                    <a:lnTo>
                      <a:pt x="1111" y="156"/>
                    </a:lnTo>
                    <a:lnTo>
                      <a:pt x="1272" y="107"/>
                    </a:lnTo>
                    <a:lnTo>
                      <a:pt x="1406" y="55"/>
                    </a:lnTo>
                    <a:lnTo>
                      <a:pt x="1525" y="0"/>
                    </a:lnTo>
                  </a:path>
                </a:pathLst>
              </a:custGeom>
              <a:noFill/>
              <a:ln w="12600">
                <a:solidFill>
                  <a:srgbClr val="000066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811240" y="2067480"/>
                <a:ext cx="15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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749" name=""/>
              <p:cNvGrpSpPr/>
              <p:nvPr/>
            </p:nvGrpSpPr>
            <p:grpSpPr>
              <a:xfrm>
                <a:off x="2706120" y="1969920"/>
                <a:ext cx="70560" cy="218160"/>
                <a:chOff x="2706120" y="1969920"/>
                <a:chExt cx="70560" cy="218160"/>
              </a:xfrm>
            </p:grpSpPr>
            <p:sp>
              <p:nvSpPr>
                <p:cNvPr id="750" name=""/>
                <p:cNvSpPr/>
                <p:nvPr/>
              </p:nvSpPr>
              <p:spPr>
                <a:xfrm flipH="1">
                  <a:off x="2716200" y="1969920"/>
                  <a:ext cx="60480" cy="200520"/>
                </a:xfrm>
                <a:custGeom>
                  <a:avLst/>
                  <a:gdLst/>
                  <a:ahLst/>
                  <a:rect l="l" t="t" r="r" b="b"/>
                  <a:pathLst>
                    <a:path w="49" h="212">
                      <a:moveTo>
                        <a:pt x="45" y="0"/>
                      </a:moveTo>
                      <a:cubicBezTo>
                        <a:pt x="22" y="36"/>
                        <a:pt x="0" y="73"/>
                        <a:pt x="1" y="108"/>
                      </a:cubicBezTo>
                      <a:cubicBezTo>
                        <a:pt x="2" y="143"/>
                        <a:pt x="39" y="195"/>
                        <a:pt x="49" y="212"/>
                      </a:cubicBezTo>
                    </a:path>
                  </a:pathLst>
                </a:custGeom>
                <a:noFill/>
                <a:ln w="1260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 flipV="1">
                  <a:off x="2706120" y="2126520"/>
                  <a:ext cx="50040" cy="6156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17280" bIns="1728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2" name=""/>
              <p:cNvGrpSpPr/>
              <p:nvPr/>
            </p:nvGrpSpPr>
            <p:grpSpPr>
              <a:xfrm>
                <a:off x="2464200" y="1973880"/>
                <a:ext cx="70560" cy="217800"/>
                <a:chOff x="2464200" y="1973880"/>
                <a:chExt cx="70560" cy="217800"/>
              </a:xfrm>
            </p:grpSpPr>
            <p:sp>
              <p:nvSpPr>
                <p:cNvPr id="753" name=""/>
                <p:cNvSpPr/>
                <p:nvPr/>
              </p:nvSpPr>
              <p:spPr>
                <a:xfrm>
                  <a:off x="2464200" y="1973880"/>
                  <a:ext cx="60480" cy="200160"/>
                </a:xfrm>
                <a:custGeom>
                  <a:avLst/>
                  <a:gdLst/>
                  <a:ahLst/>
                  <a:rect l="l" t="t" r="r" b="b"/>
                  <a:pathLst>
                    <a:path w="49" h="212">
                      <a:moveTo>
                        <a:pt x="45" y="0"/>
                      </a:moveTo>
                      <a:cubicBezTo>
                        <a:pt x="22" y="36"/>
                        <a:pt x="0" y="73"/>
                        <a:pt x="1" y="108"/>
                      </a:cubicBezTo>
                      <a:cubicBezTo>
                        <a:pt x="2" y="143"/>
                        <a:pt x="39" y="195"/>
                        <a:pt x="49" y="212"/>
                      </a:cubicBezTo>
                    </a:path>
                  </a:pathLst>
                </a:custGeom>
                <a:noFill/>
                <a:ln w="1260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 flipH="1" flipV="1">
                  <a:off x="2484720" y="2130120"/>
                  <a:ext cx="50040" cy="6156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17280" bIns="1728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55" name=""/>
          <p:cNvGrpSpPr/>
          <p:nvPr/>
        </p:nvGrpSpPr>
        <p:grpSpPr>
          <a:xfrm>
            <a:off x="4613400" y="1510920"/>
            <a:ext cx="4079520" cy="3264840"/>
            <a:chOff x="4613400" y="1510920"/>
            <a:chExt cx="4079520" cy="3264840"/>
          </a:xfrm>
        </p:grpSpPr>
        <p:sp>
          <p:nvSpPr>
            <p:cNvPr id="756" name=""/>
            <p:cNvSpPr/>
            <p:nvPr/>
          </p:nvSpPr>
          <p:spPr>
            <a:xfrm>
              <a:off x="5118120" y="4165560"/>
              <a:ext cx="34560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Arial"/>
                </a:rPr>
                <a:t>Moment rotation characteristic of the joint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5200560" y="2276640"/>
              <a:ext cx="1668600" cy="1490400"/>
            </a:xfrm>
            <a:prstGeom prst="line">
              <a:avLst/>
            </a:prstGeom>
            <a:ln w="270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066080" y="1846440"/>
              <a:ext cx="388800" cy="1180800"/>
            </a:xfrm>
            <a:prstGeom prst="line">
              <a:avLst/>
            </a:prstGeom>
            <a:ln w="0">
              <a:solidFill>
                <a:srgbClr val="009999"/>
              </a:solidFill>
              <a:prstDash val="sysDash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59" name=""/>
            <p:cNvGrpSpPr/>
            <p:nvPr/>
          </p:nvGrpSpPr>
          <p:grpSpPr>
            <a:xfrm>
              <a:off x="6991200" y="1909800"/>
              <a:ext cx="1009440" cy="1236600"/>
              <a:chOff x="6991200" y="1909800"/>
              <a:chExt cx="1009440" cy="1236600"/>
            </a:xfrm>
          </p:grpSpPr>
          <p:sp>
            <p:nvSpPr>
              <p:cNvPr id="760" name=""/>
              <p:cNvSpPr/>
              <p:nvPr/>
            </p:nvSpPr>
            <p:spPr>
              <a:xfrm>
                <a:off x="7254000" y="1976400"/>
                <a:ext cx="1440" cy="936360"/>
              </a:xfrm>
              <a:prstGeom prst="line">
                <a:avLst/>
              </a:prstGeom>
              <a:ln w="0">
                <a:solidFill>
                  <a:srgbClr val="000066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024320" y="2445480"/>
                <a:ext cx="976320" cy="1080"/>
              </a:xfrm>
              <a:prstGeom prst="line">
                <a:avLst/>
              </a:prstGeom>
              <a:ln w="0">
                <a:solidFill>
                  <a:srgbClr val="000066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095600" y="2381040"/>
                <a:ext cx="739080" cy="316800"/>
              </a:xfrm>
              <a:prstGeom prst="line">
                <a:avLst/>
              </a:prstGeom>
              <a:ln w="0">
                <a:solidFill>
                  <a:srgbClr val="000066"/>
                </a:solidFill>
                <a:prstDash val="sysDashDot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082640" y="2297160"/>
                <a:ext cx="708120" cy="611640"/>
              </a:xfrm>
              <a:prstGeom prst="line">
                <a:avLst/>
              </a:prstGeom>
              <a:ln w="0">
                <a:solidFill>
                  <a:srgbClr val="000066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250040" y="1909800"/>
                <a:ext cx="258840" cy="530280"/>
              </a:xfrm>
              <a:custGeom>
                <a:avLst/>
                <a:gdLst/>
                <a:ahLst/>
                <a:rect l="l" t="t" r="r" b="b"/>
                <a:pathLst>
                  <a:path w="400" h="412">
                    <a:moveTo>
                      <a:pt x="0" y="412"/>
                    </a:moveTo>
                    <a:lnTo>
                      <a:pt x="55" y="328"/>
                    </a:lnTo>
                    <a:lnTo>
                      <a:pt x="111" y="260"/>
                    </a:lnTo>
                    <a:lnTo>
                      <a:pt x="148" y="211"/>
                    </a:lnTo>
                    <a:lnTo>
                      <a:pt x="189" y="169"/>
                    </a:lnTo>
                    <a:lnTo>
                      <a:pt x="228" y="136"/>
                    </a:lnTo>
                    <a:lnTo>
                      <a:pt x="272" y="94"/>
                    </a:lnTo>
                    <a:lnTo>
                      <a:pt x="311" y="62"/>
                    </a:lnTo>
                    <a:lnTo>
                      <a:pt x="344" y="39"/>
                    </a:lnTo>
                    <a:lnTo>
                      <a:pt x="400" y="0"/>
                    </a:lnTo>
                  </a:path>
                </a:pathLst>
              </a:custGeom>
              <a:noFill/>
              <a:ln w="237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256520" y="2450520"/>
                <a:ext cx="371520" cy="414720"/>
              </a:xfrm>
              <a:custGeom>
                <a:avLst/>
                <a:gdLst/>
                <a:ahLst/>
                <a:rect l="l" t="t" r="r" b="b"/>
                <a:pathLst>
                  <a:path w="576" h="322">
                    <a:moveTo>
                      <a:pt x="0" y="0"/>
                    </a:moveTo>
                    <a:lnTo>
                      <a:pt x="105" y="49"/>
                    </a:lnTo>
                    <a:lnTo>
                      <a:pt x="157" y="76"/>
                    </a:lnTo>
                    <a:lnTo>
                      <a:pt x="194" y="97"/>
                    </a:lnTo>
                    <a:lnTo>
                      <a:pt x="246" y="123"/>
                    </a:lnTo>
                    <a:lnTo>
                      <a:pt x="295" y="153"/>
                    </a:lnTo>
                    <a:lnTo>
                      <a:pt x="339" y="182"/>
                    </a:lnTo>
                    <a:lnTo>
                      <a:pt x="406" y="218"/>
                    </a:lnTo>
                    <a:lnTo>
                      <a:pt x="480" y="260"/>
                    </a:lnTo>
                    <a:lnTo>
                      <a:pt x="576" y="322"/>
                    </a:lnTo>
                  </a:path>
                </a:pathLst>
              </a:custGeom>
              <a:noFill/>
              <a:ln w="237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6991200" y="2449080"/>
                <a:ext cx="257400" cy="530640"/>
              </a:xfrm>
              <a:custGeom>
                <a:avLst/>
                <a:gdLst/>
                <a:ahLst/>
                <a:rect l="l" t="t" r="r" b="b"/>
                <a:pathLst>
                  <a:path w="401" h="412">
                    <a:moveTo>
                      <a:pt x="401" y="0"/>
                    </a:moveTo>
                    <a:lnTo>
                      <a:pt x="343" y="83"/>
                    </a:lnTo>
                    <a:lnTo>
                      <a:pt x="288" y="153"/>
                    </a:lnTo>
                    <a:lnTo>
                      <a:pt x="249" y="201"/>
                    </a:lnTo>
                    <a:lnTo>
                      <a:pt x="210" y="244"/>
                    </a:lnTo>
                    <a:lnTo>
                      <a:pt x="173" y="275"/>
                    </a:lnTo>
                    <a:lnTo>
                      <a:pt x="128" y="318"/>
                    </a:lnTo>
                    <a:lnTo>
                      <a:pt x="89" y="351"/>
                    </a:lnTo>
                    <a:lnTo>
                      <a:pt x="56" y="373"/>
                    </a:lnTo>
                    <a:lnTo>
                      <a:pt x="0" y="412"/>
                    </a:lnTo>
                  </a:path>
                </a:pathLst>
              </a:custGeom>
              <a:noFill/>
              <a:ln w="237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638480" y="2646360"/>
                <a:ext cx="86400" cy="131400"/>
              </a:xfrm>
              <a:custGeom>
                <a:avLst/>
                <a:gdLst/>
                <a:ahLst/>
                <a:rect l="l" t="t" r="r" b="b"/>
                <a:pathLst>
                  <a:path w="136" h="102">
                    <a:moveTo>
                      <a:pt x="112" y="0"/>
                    </a:moveTo>
                    <a:lnTo>
                      <a:pt x="126" y="14"/>
                    </a:lnTo>
                    <a:lnTo>
                      <a:pt x="136" y="37"/>
                    </a:lnTo>
                    <a:lnTo>
                      <a:pt x="132" y="61"/>
                    </a:lnTo>
                    <a:lnTo>
                      <a:pt x="108" y="81"/>
                    </a:lnTo>
                    <a:lnTo>
                      <a:pt x="82" y="92"/>
                    </a:lnTo>
                    <a:lnTo>
                      <a:pt x="45" y="98"/>
                    </a:lnTo>
                    <a:lnTo>
                      <a:pt x="0" y="102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702920" y="2641320"/>
                <a:ext cx="28080" cy="28080"/>
              </a:xfrm>
              <a:custGeom>
                <a:avLst/>
                <a:gdLst/>
                <a:ahLst/>
                <a:rect l="l" t="t" r="r" b="b"/>
                <a:pathLst>
                  <a:path w="45" h="22">
                    <a:moveTo>
                      <a:pt x="6" y="0"/>
                    </a:moveTo>
                    <a:lnTo>
                      <a:pt x="0" y="22"/>
                    </a:lnTo>
                    <a:lnTo>
                      <a:pt x="45" y="1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637400" y="2754360"/>
                <a:ext cx="24480" cy="37080"/>
              </a:xfrm>
              <a:custGeom>
                <a:avLst/>
                <a:gdLst/>
                <a:ahLst/>
                <a:rect l="l" t="t" r="r" b="b"/>
                <a:pathLst>
                  <a:path w="39" h="29">
                    <a:moveTo>
                      <a:pt x="0" y="18"/>
                    </a:moveTo>
                    <a:lnTo>
                      <a:pt x="25" y="0"/>
                    </a:lnTo>
                    <a:lnTo>
                      <a:pt x="39" y="29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825680" y="2780280"/>
                <a:ext cx="15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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71" name=""/>
            <p:cNvSpPr/>
            <p:nvPr/>
          </p:nvSpPr>
          <p:spPr>
            <a:xfrm>
              <a:off x="7791480" y="1687680"/>
              <a:ext cx="90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66"/>
                  </a:solidFill>
                  <a:latin typeface="Arial"/>
                </a:rPr>
                <a:t>Elastic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72" name=""/>
            <p:cNvGrpSpPr/>
            <p:nvPr/>
          </p:nvGrpSpPr>
          <p:grpSpPr>
            <a:xfrm>
              <a:off x="7999560" y="2317680"/>
              <a:ext cx="483840" cy="389160"/>
              <a:chOff x="7999560" y="2317680"/>
              <a:chExt cx="483840" cy="389160"/>
            </a:xfrm>
          </p:grpSpPr>
          <p:sp>
            <p:nvSpPr>
              <p:cNvPr id="773" name=""/>
              <p:cNvSpPr/>
              <p:nvPr/>
            </p:nvSpPr>
            <p:spPr>
              <a:xfrm>
                <a:off x="8016120" y="2391120"/>
                <a:ext cx="81000" cy="91440"/>
              </a:xfrm>
              <a:custGeom>
                <a:avLst/>
                <a:gdLst/>
                <a:ahLst/>
                <a:rect l="l" t="t" r="r" b="b"/>
                <a:pathLst>
                  <a:path w="74" h="26">
                    <a:moveTo>
                      <a:pt x="33" y="26"/>
                    </a:moveTo>
                    <a:lnTo>
                      <a:pt x="0" y="0"/>
                    </a:lnTo>
                    <a:lnTo>
                      <a:pt x="74" y="0"/>
                    </a:lnTo>
                    <a:lnTo>
                      <a:pt x="33" y="26"/>
                    </a:lnTo>
                    <a:close/>
                  </a:path>
                </a:pathLst>
              </a:custGeom>
              <a:solidFill>
                <a:srgbClr val="000066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8120160" y="2317680"/>
                <a:ext cx="363240" cy="38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66"/>
                    </a:solidFill>
                    <a:latin typeface="Arial"/>
                  </a:rPr>
                  <a:t>M</a:t>
                </a:r>
                <a:r>
                  <a:rPr b="0" lang="en-GB" sz="2400" spc="-1" strike="noStrike" baseline="-16000">
                    <a:solidFill>
                      <a:srgbClr val="000066"/>
                    </a:solidFill>
                    <a:latin typeface="Arial"/>
                  </a:rPr>
                  <a:t>j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999560" y="2320200"/>
                <a:ext cx="61920" cy="216720"/>
              </a:xfrm>
              <a:custGeom>
                <a:avLst/>
                <a:gdLst/>
                <a:ahLst/>
                <a:rect l="l" t="t" r="r" b="b"/>
                <a:pathLst>
                  <a:path w="48" h="168">
                    <a:moveTo>
                      <a:pt x="0" y="0"/>
                    </a:moveTo>
                    <a:cubicBezTo>
                      <a:pt x="12" y="10"/>
                      <a:pt x="25" y="20"/>
                      <a:pt x="33" y="36"/>
                    </a:cubicBezTo>
                    <a:cubicBezTo>
                      <a:pt x="41" y="52"/>
                      <a:pt x="48" y="81"/>
                      <a:pt x="48" y="99"/>
                    </a:cubicBezTo>
                    <a:cubicBezTo>
                      <a:pt x="48" y="117"/>
                      <a:pt x="38" y="131"/>
                      <a:pt x="33" y="142"/>
                    </a:cubicBezTo>
                    <a:cubicBezTo>
                      <a:pt x="28" y="153"/>
                      <a:pt x="20" y="164"/>
                      <a:pt x="17" y="168"/>
                    </a:cubicBezTo>
                  </a:path>
                </a:pathLst>
              </a:custGeom>
              <a:noFill/>
              <a:ln w="1908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>
              <a:off x="7620120" y="3762360"/>
              <a:ext cx="15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5175360" y="1650600"/>
              <a:ext cx="2484360" cy="2135520"/>
              <a:chOff x="5175360" y="1650600"/>
              <a:chExt cx="2484360" cy="2135520"/>
            </a:xfrm>
          </p:grpSpPr>
          <p:sp>
            <p:nvSpPr>
              <p:cNvPr id="778" name=""/>
              <p:cNvSpPr/>
              <p:nvPr/>
            </p:nvSpPr>
            <p:spPr>
              <a:xfrm flipV="1">
                <a:off x="5175360" y="1650600"/>
                <a:ext cx="0" cy="21351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175360" y="3786120"/>
                <a:ext cx="248436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4613400" y="1510920"/>
              <a:ext cx="4953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r>
                <a:rPr b="0" lang="en-GB" sz="2400" spc="-1" strike="noStrike" baseline="-25000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E4380-5901-4BFA-8955-565899C2750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en-GB" sz="3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 order elastic analysi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3164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ndefinite linear- elastic response of member sections and joi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quilibrium established for the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deformed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structu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llows for P-</a:t>
            </a:r>
            <a:r>
              <a:rPr b="0" lang="en-GB" sz="24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effect and, if necessary, for P-</a:t>
            </a:r>
            <a:r>
              <a:rPr b="0" lang="en-GB" sz="2400" spc="-1" strike="noStrike">
                <a:solidFill>
                  <a:srgbClr val="000066"/>
                </a:solidFill>
                <a:latin typeface="Symbol"/>
                <a:ea typeface="Symbol"/>
              </a:rPr>
              <a:t>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effect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987800" y="2419200"/>
            <a:ext cx="2840040" cy="3299040"/>
          </a:xfrm>
          <a:custGeom>
            <a:avLst/>
            <a:gdLst/>
            <a:ahLst/>
            <a:rect l="l" t="t" r="r" b="b"/>
            <a:pathLst>
              <a:path w="1789" h="2078">
                <a:moveTo>
                  <a:pt x="0" y="2078"/>
                </a:moveTo>
                <a:lnTo>
                  <a:pt x="104" y="1776"/>
                </a:lnTo>
                <a:lnTo>
                  <a:pt x="173" y="1576"/>
                </a:lnTo>
                <a:lnTo>
                  <a:pt x="241" y="1396"/>
                </a:lnTo>
                <a:lnTo>
                  <a:pt x="309" y="1204"/>
                </a:lnTo>
                <a:lnTo>
                  <a:pt x="360" y="1076"/>
                </a:lnTo>
                <a:lnTo>
                  <a:pt x="403" y="957"/>
                </a:lnTo>
                <a:lnTo>
                  <a:pt x="453" y="843"/>
                </a:lnTo>
                <a:lnTo>
                  <a:pt x="505" y="723"/>
                </a:lnTo>
                <a:lnTo>
                  <a:pt x="555" y="617"/>
                </a:lnTo>
                <a:lnTo>
                  <a:pt x="598" y="524"/>
                </a:lnTo>
                <a:lnTo>
                  <a:pt x="648" y="444"/>
                </a:lnTo>
                <a:lnTo>
                  <a:pt x="698" y="362"/>
                </a:lnTo>
                <a:lnTo>
                  <a:pt x="745" y="296"/>
                </a:lnTo>
                <a:lnTo>
                  <a:pt x="785" y="251"/>
                </a:lnTo>
                <a:lnTo>
                  <a:pt x="837" y="198"/>
                </a:lnTo>
                <a:lnTo>
                  <a:pt x="897" y="141"/>
                </a:lnTo>
                <a:lnTo>
                  <a:pt x="947" y="100"/>
                </a:lnTo>
                <a:lnTo>
                  <a:pt x="1004" y="63"/>
                </a:lnTo>
                <a:lnTo>
                  <a:pt x="1058" y="37"/>
                </a:lnTo>
                <a:lnTo>
                  <a:pt x="1124" y="15"/>
                </a:lnTo>
                <a:lnTo>
                  <a:pt x="1209" y="6"/>
                </a:lnTo>
                <a:lnTo>
                  <a:pt x="1338" y="0"/>
                </a:lnTo>
                <a:lnTo>
                  <a:pt x="1470" y="0"/>
                </a:lnTo>
                <a:lnTo>
                  <a:pt x="1789" y="0"/>
                </a:lnTo>
              </a:path>
            </a:pathLst>
          </a:custGeom>
          <a:noFill/>
          <a:ln w="270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454640" y="1633680"/>
            <a:ext cx="170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66"/>
                </a:solidFill>
                <a:latin typeface="Arial"/>
              </a:rPr>
              <a:t>Load parameter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758560" y="4162320"/>
            <a:ext cx="2721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66"/>
                </a:solidFill>
                <a:latin typeface="Arial"/>
              </a:rPr>
              <a:t>2nd order elastic analysis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313680" y="5851440"/>
            <a:ext cx="2628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66"/>
                </a:solidFill>
                <a:latin typeface="Arial"/>
              </a:rPr>
              <a:t>Displacement parameter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4470840" y="2098800"/>
            <a:ext cx="3549240" cy="421200"/>
            <a:chOff x="4470840" y="2098800"/>
            <a:chExt cx="3549240" cy="421200"/>
          </a:xfrm>
        </p:grpSpPr>
        <p:sp>
          <p:nvSpPr>
            <p:cNvPr id="788" name=""/>
            <p:cNvSpPr/>
            <p:nvPr/>
          </p:nvSpPr>
          <p:spPr>
            <a:xfrm flipV="1">
              <a:off x="4987800" y="2387160"/>
              <a:ext cx="3032280" cy="1800"/>
            </a:xfrm>
            <a:prstGeom prst="line">
              <a:avLst/>
            </a:prstGeom>
            <a:ln w="0">
              <a:solidFill>
                <a:srgbClr val="cc33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89" name=""/>
            <p:cNvGrpSpPr/>
            <p:nvPr/>
          </p:nvGrpSpPr>
          <p:grpSpPr>
            <a:xfrm>
              <a:off x="4470840" y="2098800"/>
              <a:ext cx="420480" cy="421200"/>
              <a:chOff x="4470840" y="2098800"/>
              <a:chExt cx="420480" cy="421200"/>
            </a:xfrm>
          </p:grpSpPr>
          <p:sp>
            <p:nvSpPr>
              <p:cNvPr id="790" name=""/>
              <p:cNvSpPr/>
              <p:nvPr/>
            </p:nvSpPr>
            <p:spPr>
              <a:xfrm>
                <a:off x="4470840" y="2098800"/>
                <a:ext cx="1530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cc3300"/>
                    </a:solidFill>
                    <a:latin typeface="Symbol"/>
                    <a:ea typeface="Symbol"/>
                  </a:rPr>
                  <a:t></a:t>
                </a:r>
                <a:endParaRPr b="0" lang="en-US" sz="2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579560" y="2184480"/>
                <a:ext cx="311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cc3300"/>
                    </a:solidFill>
                    <a:latin typeface="Arial"/>
                  </a:rPr>
                  <a:t> </a:t>
                </a:r>
                <a:r>
                  <a:rPr b="0" lang="en-GB" sz="2200" spc="-1" strike="noStrike">
                    <a:solidFill>
                      <a:srgbClr val="cc3300"/>
                    </a:solidFill>
                    <a:latin typeface="Arial"/>
                  </a:rPr>
                  <a:t>cr</a:t>
                </a:r>
                <a:endParaRPr b="0" lang="en-US" sz="2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792" name=""/>
          <p:cNvGrpSpPr/>
          <p:nvPr/>
        </p:nvGrpSpPr>
        <p:grpSpPr>
          <a:xfrm>
            <a:off x="4965840" y="1929960"/>
            <a:ext cx="3327120" cy="3810240"/>
            <a:chOff x="4965840" y="1929960"/>
            <a:chExt cx="3327120" cy="3810240"/>
          </a:xfrm>
        </p:grpSpPr>
        <p:sp>
          <p:nvSpPr>
            <p:cNvPr id="793" name=""/>
            <p:cNvSpPr/>
            <p:nvPr/>
          </p:nvSpPr>
          <p:spPr>
            <a:xfrm>
              <a:off x="4965840" y="5740200"/>
              <a:ext cx="33271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4965840" y="1929960"/>
              <a:ext cx="0" cy="38098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832B2-5468-4F08-B8CA-E927B785FB9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5" name=""/>
          <p:cNvGrpSpPr/>
          <p:nvPr/>
        </p:nvGrpSpPr>
        <p:grpSpPr>
          <a:xfrm>
            <a:off x="347400" y="1390680"/>
            <a:ext cx="8328240" cy="3767760"/>
            <a:chOff x="347400" y="1390680"/>
            <a:chExt cx="8328240" cy="3767760"/>
          </a:xfrm>
        </p:grpSpPr>
        <p:sp>
          <p:nvSpPr>
            <p:cNvPr id="796" name=""/>
            <p:cNvSpPr/>
            <p:nvPr/>
          </p:nvSpPr>
          <p:spPr>
            <a:xfrm>
              <a:off x="4788000" y="4487760"/>
              <a:ext cx="3887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66"/>
                  </a:solidFill>
                  <a:latin typeface="Arial"/>
                </a:rPr>
                <a:t>Moment rotation characteristics of the joint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39640" y="4487760"/>
              <a:ext cx="39592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66"/>
                  </a:solidFill>
                  <a:latin typeface="Arial"/>
                </a:rPr>
                <a:t>Moment rotation characteristics of the member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347400" y="1390680"/>
              <a:ext cx="8011440" cy="3134520"/>
              <a:chOff x="347400" y="1390680"/>
              <a:chExt cx="8011440" cy="3134520"/>
            </a:xfrm>
          </p:grpSpPr>
          <p:grpSp>
            <p:nvGrpSpPr>
              <p:cNvPr id="799" name=""/>
              <p:cNvGrpSpPr/>
              <p:nvPr/>
            </p:nvGrpSpPr>
            <p:grpSpPr>
              <a:xfrm>
                <a:off x="6588000" y="1390680"/>
                <a:ext cx="1770840" cy="1233360"/>
                <a:chOff x="6588000" y="1390680"/>
                <a:chExt cx="1770840" cy="1233360"/>
              </a:xfrm>
            </p:grpSpPr>
            <p:grpSp>
              <p:nvGrpSpPr>
                <p:cNvPr id="800" name=""/>
                <p:cNvGrpSpPr/>
                <p:nvPr/>
              </p:nvGrpSpPr>
              <p:grpSpPr>
                <a:xfrm>
                  <a:off x="7365960" y="1824120"/>
                  <a:ext cx="412560" cy="799920"/>
                  <a:chOff x="7365960" y="1824120"/>
                  <a:chExt cx="412560" cy="799920"/>
                </a:xfrm>
              </p:grpSpPr>
              <p:sp>
                <p:nvSpPr>
                  <p:cNvPr id="801" name=""/>
                  <p:cNvSpPr/>
                  <p:nvPr/>
                </p:nvSpPr>
                <p:spPr>
                  <a:xfrm>
                    <a:off x="7365960" y="1988640"/>
                    <a:ext cx="412560" cy="492480"/>
                  </a:xfrm>
                  <a:prstGeom prst="ellipse">
                    <a:avLst/>
                  </a:prstGeom>
                  <a:noFill/>
                  <a:ln w="111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7365960" y="1824120"/>
                    <a:ext cx="195840" cy="799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1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"/>
                <p:cNvSpPr/>
                <p:nvPr/>
              </p:nvSpPr>
              <p:spPr>
                <a:xfrm>
                  <a:off x="7726320" y="2211480"/>
                  <a:ext cx="117360" cy="106200"/>
                </a:xfrm>
                <a:custGeom>
                  <a:avLst/>
                  <a:gdLst/>
                  <a:ahLst/>
                  <a:rect l="l" t="t" r="r" b="b"/>
                  <a:pathLst>
                    <a:path w="74" h="45">
                      <a:moveTo>
                        <a:pt x="33" y="45"/>
                      </a:moveTo>
                      <a:lnTo>
                        <a:pt x="0" y="0"/>
                      </a:lnTo>
                      <a:lnTo>
                        <a:pt x="74" y="0"/>
                      </a:lnTo>
                      <a:lnTo>
                        <a:pt x="33" y="45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111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7891920" y="2065320"/>
                  <a:ext cx="466920" cy="36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66"/>
                      </a:solidFill>
                      <a:latin typeface="Arial"/>
                    </a:rPr>
                    <a:t>M</a:t>
                  </a:r>
                  <a:r>
                    <a:rPr b="0" lang="en-GB" sz="1800" spc="-1" strike="noStrike" baseline="-25000">
                      <a:solidFill>
                        <a:srgbClr val="000066"/>
                      </a:solidFill>
                      <a:latin typeface="Arial"/>
                    </a:rPr>
                    <a:t>j,Rd</a:t>
                  </a: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7014960" y="2162160"/>
                  <a:ext cx="198360" cy="280800"/>
                </a:xfrm>
                <a:prstGeom prst="ellipse">
                  <a:avLst/>
                </a:prstGeom>
                <a:noFill/>
                <a:ln w="0">
                  <a:solidFill>
                    <a:srgbClr val="0000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7013520" y="2158920"/>
                  <a:ext cx="150840" cy="287280"/>
                </a:xfrm>
                <a:prstGeom prst="rect">
                  <a:avLst/>
                </a:prstGeom>
                <a:solidFill>
                  <a:srgbClr val="ffffff"/>
                </a:solidFill>
                <a:ln w="11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816600" y="1849320"/>
                  <a:ext cx="1440" cy="77472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6588000" y="2236680"/>
                  <a:ext cx="968400" cy="1800"/>
                </a:xfrm>
                <a:prstGeom prst="line">
                  <a:avLst/>
                </a:prstGeom>
                <a:ln w="0">
                  <a:solidFill>
                    <a:srgbClr val="000066"/>
                  </a:solidFill>
                  <a:prstDash val="sysDash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6872040" y="2244600"/>
                  <a:ext cx="534960" cy="201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6824520" y="2205000"/>
                  <a:ext cx="76320" cy="79200"/>
                </a:xfrm>
                <a:prstGeom prst="ellipse">
                  <a:avLst/>
                </a:prstGeom>
                <a:noFill/>
                <a:ln w="11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7385040" y="2254320"/>
                  <a:ext cx="139320" cy="22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300" spc="-1" strike="noStrike">
                      <a:solidFill>
                        <a:srgbClr val="000066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lang="en-GB" sz="1300" spc="-1" strike="noStrike" baseline="-25000">
                      <a:solidFill>
                        <a:srgbClr val="000066"/>
                      </a:solidFill>
                      <a:latin typeface="Arial"/>
                    </a:rPr>
                    <a:t>p</a:t>
                  </a:r>
                  <a:endParaRPr b="0" lang="en-US" sz="13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7173720" y="2376360"/>
                  <a:ext cx="25560" cy="23760"/>
                </a:xfrm>
                <a:custGeom>
                  <a:avLst/>
                  <a:gdLst/>
                  <a:ahLst/>
                  <a:rect l="l" t="t" r="r" b="b"/>
                  <a:pathLst>
                    <a:path w="43" h="39">
                      <a:moveTo>
                        <a:pt x="39" y="0"/>
                      </a:moveTo>
                      <a:lnTo>
                        <a:pt x="0" y="19"/>
                      </a:lnTo>
                      <a:lnTo>
                        <a:pt x="43" y="39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7181640" y="221940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46" h="30">
                      <a:moveTo>
                        <a:pt x="33" y="3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33" y="3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000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6876720" y="1390680"/>
                  <a:ext cx="13737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66"/>
                      </a:solidFill>
                      <a:latin typeface="Arial"/>
                    </a:rPr>
                    <a:t>Rigid plastic</a:t>
                  </a: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5" name=""/>
              <p:cNvGrpSpPr/>
              <p:nvPr/>
            </p:nvGrpSpPr>
            <p:grpSpPr>
              <a:xfrm>
                <a:off x="4572000" y="2087640"/>
                <a:ext cx="3204360" cy="2437560"/>
                <a:chOff x="4572000" y="2087640"/>
                <a:chExt cx="3204360" cy="2437560"/>
              </a:xfrm>
            </p:grpSpPr>
            <p:grpSp>
              <p:nvGrpSpPr>
                <p:cNvPr id="816" name=""/>
                <p:cNvGrpSpPr/>
                <p:nvPr/>
              </p:nvGrpSpPr>
              <p:grpSpPr>
                <a:xfrm>
                  <a:off x="5194440" y="3127680"/>
                  <a:ext cx="1622160" cy="1058400"/>
                  <a:chOff x="5194440" y="3127680"/>
                  <a:chExt cx="1622160" cy="1058400"/>
                </a:xfrm>
              </p:grpSpPr>
              <p:sp>
                <p:nvSpPr>
                  <p:cNvPr id="817" name=""/>
                  <p:cNvSpPr/>
                  <p:nvPr/>
                </p:nvSpPr>
                <p:spPr>
                  <a:xfrm>
                    <a:off x="5194440" y="3190680"/>
                    <a:ext cx="1479240" cy="9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422" h="1631">
                        <a:moveTo>
                          <a:pt x="0" y="1631"/>
                        </a:moveTo>
                        <a:lnTo>
                          <a:pt x="0" y="0"/>
                        </a:lnTo>
                        <a:lnTo>
                          <a:pt x="2422" y="0"/>
                        </a:lnTo>
                      </a:path>
                    </a:pathLst>
                  </a:custGeom>
                  <a:noFill/>
                  <a:ln w="2844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6676200" y="3127680"/>
                    <a:ext cx="140400" cy="124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147">
                        <a:moveTo>
                          <a:pt x="0" y="0"/>
                        </a:moveTo>
                        <a:lnTo>
                          <a:pt x="152" y="68"/>
                        </a:lnTo>
                        <a:lnTo>
                          <a:pt x="0" y="1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66"/>
                  </a:solidFill>
                  <a:ln w="111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9" name=""/>
                <p:cNvSpPr/>
                <p:nvPr/>
              </p:nvSpPr>
              <p:spPr>
                <a:xfrm>
                  <a:off x="5189400" y="2387880"/>
                  <a:ext cx="1800" cy="179856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 flipV="1">
                  <a:off x="5186520" y="4184280"/>
                  <a:ext cx="2333520" cy="18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5141880" y="2310120"/>
                  <a:ext cx="90360" cy="82440"/>
                </a:xfrm>
                <a:custGeom>
                  <a:avLst/>
                  <a:gdLst/>
                  <a:ahLst/>
                  <a:rect l="l" t="t" r="r" b="b"/>
                  <a:pathLst>
                    <a:path w="148" h="134">
                      <a:moveTo>
                        <a:pt x="0" y="134"/>
                      </a:moveTo>
                      <a:lnTo>
                        <a:pt x="68" y="0"/>
                      </a:lnTo>
                      <a:lnTo>
                        <a:pt x="148" y="134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111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4718520" y="2087640"/>
                  <a:ext cx="268920" cy="38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66"/>
                      </a:solidFill>
                      <a:latin typeface="Arial"/>
                    </a:rPr>
                    <a:t>M</a:t>
                  </a:r>
                  <a:r>
                    <a:rPr b="0" lang="en-GB" sz="2200" spc="-1" strike="noStrike" baseline="-25000">
                      <a:solidFill>
                        <a:srgbClr val="000066"/>
                      </a:solidFill>
                      <a:latin typeface="Arial"/>
                    </a:rPr>
                    <a:t>j</a:t>
                  </a:r>
                  <a:endParaRPr b="0" lang="en-US" sz="22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4572000" y="2927520"/>
                  <a:ext cx="647640" cy="36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66"/>
                      </a:solidFill>
                      <a:latin typeface="Arial"/>
                    </a:rPr>
                    <a:t>M</a:t>
                  </a:r>
                  <a:r>
                    <a:rPr b="0" lang="en-GB" sz="1800" spc="-1" strike="noStrike" baseline="-25000">
                      <a:solidFill>
                        <a:srgbClr val="000066"/>
                      </a:solidFill>
                      <a:latin typeface="Arial"/>
                    </a:rPr>
                    <a:t>j,Rd</a:t>
                  </a: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7481880" y="4125960"/>
                  <a:ext cx="93600" cy="90720"/>
                </a:xfrm>
                <a:custGeom>
                  <a:avLst/>
                  <a:gdLst/>
                  <a:ahLst/>
                  <a:rect l="l" t="t" r="r" b="b"/>
                  <a:pathLst>
                    <a:path w="151" h="148">
                      <a:moveTo>
                        <a:pt x="0" y="0"/>
                      </a:moveTo>
                      <a:lnTo>
                        <a:pt x="151" y="66"/>
                      </a:lnTo>
                      <a:lnTo>
                        <a:pt x="0" y="14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111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7540920" y="4143600"/>
                  <a:ext cx="235440" cy="38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66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lang="en-GB" sz="2200" spc="-1" strike="noStrike" baseline="-25000">
                      <a:solidFill>
                        <a:srgbClr val="000066"/>
                      </a:solidFill>
                      <a:latin typeface="Arial"/>
                    </a:rPr>
                    <a:t>p</a:t>
                  </a:r>
                  <a:endParaRPr b="0" lang="en-US" sz="22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5362560" y="3191040"/>
                  <a:ext cx="15872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66"/>
                      </a:solidFill>
                      <a:latin typeface="Arial"/>
                    </a:rPr>
                    <a:t>Plastic hinge</a:t>
                  </a:r>
                  <a:endParaRPr b="0" lang="en-US" sz="22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7" name=""/>
              <p:cNvGrpSpPr/>
              <p:nvPr/>
            </p:nvGrpSpPr>
            <p:grpSpPr>
              <a:xfrm>
                <a:off x="347400" y="2038680"/>
                <a:ext cx="3642840" cy="2445120"/>
                <a:chOff x="347400" y="2038680"/>
                <a:chExt cx="3642840" cy="2445120"/>
              </a:xfrm>
            </p:grpSpPr>
            <p:sp>
              <p:nvSpPr>
                <p:cNvPr id="828" name=""/>
                <p:cNvSpPr/>
                <p:nvPr/>
              </p:nvSpPr>
              <p:spPr>
                <a:xfrm>
                  <a:off x="1263960" y="2889360"/>
                  <a:ext cx="15872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66"/>
                      </a:solidFill>
                      <a:latin typeface="Arial"/>
                    </a:rPr>
                    <a:t>Plastic hinge</a:t>
                  </a:r>
                  <a:endParaRPr b="0" lang="en-US" sz="22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347400" y="2556000"/>
                  <a:ext cx="540000" cy="36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66"/>
                      </a:solidFill>
                      <a:latin typeface="Arial"/>
                    </a:rPr>
                    <a:t>M</a:t>
                  </a:r>
                  <a:r>
                    <a:rPr b="0" lang="en-GB" sz="1800" spc="-1" strike="noStrike" baseline="-25000">
                      <a:solidFill>
                        <a:srgbClr val="000066"/>
                      </a:solidFill>
                      <a:latin typeface="Arial"/>
                    </a:rPr>
                    <a:t>pl.Rd</a:t>
                  </a: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flipH="1">
                  <a:off x="987480" y="2167200"/>
                  <a:ext cx="1440" cy="2007720"/>
                </a:xfrm>
                <a:prstGeom prst="line">
                  <a:avLst/>
                </a:prstGeom>
                <a:ln w="11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987480" y="4175280"/>
                  <a:ext cx="2657520" cy="0"/>
                </a:xfrm>
                <a:prstGeom prst="line">
                  <a:avLst/>
                </a:prstGeom>
                <a:ln w="11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946080" y="2087640"/>
                  <a:ext cx="92160" cy="90000"/>
                </a:xfrm>
                <a:custGeom>
                  <a:avLst/>
                  <a:gdLst/>
                  <a:ahLst/>
                  <a:rect l="l" t="t" r="r" b="b"/>
                  <a:pathLst>
                    <a:path w="152" h="149">
                      <a:moveTo>
                        <a:pt x="0" y="149"/>
                      </a:moveTo>
                      <a:lnTo>
                        <a:pt x="72" y="0"/>
                      </a:lnTo>
                      <a:lnTo>
                        <a:pt x="152" y="149"/>
                      </a:lnTo>
                      <a:lnTo>
                        <a:pt x="0" y="14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111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3632040" y="4133880"/>
                  <a:ext cx="88920" cy="91800"/>
                </a:xfrm>
                <a:custGeom>
                  <a:avLst/>
                  <a:gdLst/>
                  <a:ahLst/>
                  <a:rect l="l" t="t" r="r" b="b"/>
                  <a:pathLst>
                    <a:path w="146" h="151">
                      <a:moveTo>
                        <a:pt x="0" y="0"/>
                      </a:moveTo>
                      <a:lnTo>
                        <a:pt x="146" y="68"/>
                      </a:lnTo>
                      <a:lnTo>
                        <a:pt x="0" y="1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111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00560" y="2038680"/>
                  <a:ext cx="23220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66"/>
                      </a:solidFill>
                      <a:latin typeface="Arial"/>
                    </a:rPr>
                    <a:t>M</a:t>
                  </a:r>
                  <a:endParaRPr b="0" lang="en-US" sz="22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3754800" y="4102200"/>
                  <a:ext cx="235440" cy="38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66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lang="en-GB" sz="2200" spc="-1" strike="noStrike" baseline="-25000">
                      <a:solidFill>
                        <a:srgbClr val="000066"/>
                      </a:solidFill>
                      <a:latin typeface="Arial"/>
                    </a:rPr>
                    <a:t>p</a:t>
                  </a:r>
                  <a:endParaRPr b="0" lang="en-US" sz="22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836" name=""/>
                <p:cNvGrpSpPr/>
                <p:nvPr/>
              </p:nvGrpSpPr>
              <p:grpSpPr>
                <a:xfrm>
                  <a:off x="1001880" y="2773440"/>
                  <a:ext cx="1712520" cy="1399320"/>
                  <a:chOff x="1001880" y="2773440"/>
                  <a:chExt cx="1712520" cy="1399320"/>
                </a:xfrm>
              </p:grpSpPr>
              <p:sp>
                <p:nvSpPr>
                  <p:cNvPr id="837" name=""/>
                  <p:cNvSpPr/>
                  <p:nvPr/>
                </p:nvSpPr>
                <p:spPr>
                  <a:xfrm>
                    <a:off x="1001880" y="2851560"/>
                    <a:ext cx="1535400" cy="132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514" h="2163">
                        <a:moveTo>
                          <a:pt x="0" y="2163"/>
                        </a:moveTo>
                        <a:lnTo>
                          <a:pt x="0" y="0"/>
                        </a:lnTo>
                        <a:lnTo>
                          <a:pt x="2514" y="0"/>
                        </a:lnTo>
                      </a:path>
                    </a:pathLst>
                  </a:custGeom>
                  <a:noFill/>
                  <a:ln w="3348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2543760" y="2773440"/>
                    <a:ext cx="170640" cy="11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149">
                        <a:moveTo>
                          <a:pt x="0" y="0"/>
                        </a:moveTo>
                        <a:lnTo>
                          <a:pt x="151" y="70"/>
                        </a:lnTo>
                        <a:lnTo>
                          <a:pt x="0" y="14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66"/>
                  </a:solidFill>
                  <a:ln w="111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39" name=""/>
              <p:cNvGrpSpPr/>
              <p:nvPr/>
            </p:nvGrpSpPr>
            <p:grpSpPr>
              <a:xfrm>
                <a:off x="2434680" y="1390680"/>
                <a:ext cx="1613160" cy="1469520"/>
                <a:chOff x="2434680" y="1390680"/>
                <a:chExt cx="1613160" cy="1469520"/>
              </a:xfrm>
            </p:grpSpPr>
            <p:sp>
              <p:nvSpPr>
                <p:cNvPr id="840" name=""/>
                <p:cNvSpPr/>
                <p:nvPr/>
              </p:nvSpPr>
              <p:spPr>
                <a:xfrm>
                  <a:off x="2549880" y="1390680"/>
                  <a:ext cx="13737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66"/>
                      </a:solidFill>
                      <a:latin typeface="Arial"/>
                    </a:rPr>
                    <a:t>Rigid plastic</a:t>
                  </a: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841" name=""/>
                <p:cNvGrpSpPr/>
                <p:nvPr/>
              </p:nvGrpSpPr>
              <p:grpSpPr>
                <a:xfrm>
                  <a:off x="2673000" y="2124000"/>
                  <a:ext cx="1374840" cy="736200"/>
                  <a:chOff x="2673000" y="2124000"/>
                  <a:chExt cx="1374840" cy="736200"/>
                </a:xfrm>
              </p:grpSpPr>
              <p:sp>
                <p:nvSpPr>
                  <p:cNvPr id="842" name=""/>
                  <p:cNvSpPr/>
                  <p:nvPr/>
                </p:nvSpPr>
                <p:spPr>
                  <a:xfrm>
                    <a:off x="3373560" y="2318040"/>
                    <a:ext cx="332280" cy="377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3321360" y="2586600"/>
                    <a:ext cx="264600" cy="206280"/>
                  </a:xfrm>
                  <a:custGeom>
                    <a:avLst/>
                    <a:gdLst/>
                    <a:ahLst/>
                    <a:rect l="l" t="t" r="r" b="b"/>
                    <a:pathLst>
                      <a:path w="435" h="339">
                        <a:moveTo>
                          <a:pt x="54" y="0"/>
                        </a:moveTo>
                        <a:lnTo>
                          <a:pt x="435" y="183"/>
                        </a:lnTo>
                        <a:lnTo>
                          <a:pt x="400" y="339"/>
                        </a:lnTo>
                        <a:lnTo>
                          <a:pt x="0" y="207"/>
                        </a:lnTo>
                        <a:lnTo>
                          <a:pt x="5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3304080" y="2269080"/>
                    <a:ext cx="286560" cy="143640"/>
                  </a:xfrm>
                  <a:custGeom>
                    <a:avLst/>
                    <a:gdLst/>
                    <a:ahLst/>
                    <a:rect l="l" t="t" r="r" b="b"/>
                    <a:pathLst>
                      <a:path w="470" h="235">
                        <a:moveTo>
                          <a:pt x="58" y="235"/>
                        </a:moveTo>
                        <a:lnTo>
                          <a:pt x="0" y="179"/>
                        </a:lnTo>
                        <a:lnTo>
                          <a:pt x="431" y="0"/>
                        </a:lnTo>
                        <a:lnTo>
                          <a:pt x="470" y="92"/>
                        </a:lnTo>
                        <a:lnTo>
                          <a:pt x="404" y="133"/>
                        </a:lnTo>
                        <a:lnTo>
                          <a:pt x="58" y="23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3112200" y="2369160"/>
                    <a:ext cx="227160" cy="240480"/>
                  </a:xfrm>
                  <a:prstGeom prst="ellipse">
                    <a:avLst/>
                  </a:prstGeom>
                  <a:noFill/>
                  <a:ln w="111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 flipH="1">
                    <a:off x="2673000" y="2124000"/>
                    <a:ext cx="184320" cy="322200"/>
                  </a:xfrm>
                  <a:prstGeom prst="line">
                    <a:avLst/>
                  </a:prstGeom>
                  <a:ln w="0">
                    <a:solidFill>
                      <a:srgbClr val="000066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3578760" y="2187360"/>
                    <a:ext cx="190440" cy="249120"/>
                  </a:xfrm>
                  <a:prstGeom prst="line">
                    <a:avLst/>
                  </a:prstGeom>
                  <a:ln w="0">
                    <a:solidFill>
                      <a:srgbClr val="000066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2782800" y="2282400"/>
                    <a:ext cx="447840" cy="219600"/>
                  </a:xfrm>
                  <a:prstGeom prst="line">
                    <a:avLst/>
                  </a:prstGeom>
                  <a:ln w="0">
                    <a:solidFill>
                      <a:srgbClr val="000066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2824200" y="2199240"/>
                    <a:ext cx="358560" cy="177120"/>
                  </a:xfrm>
                  <a:prstGeom prst="line">
                    <a:avLst/>
                  </a:prstGeom>
                  <a:ln w="111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2720520" y="2376720"/>
                    <a:ext cx="462600" cy="226800"/>
                  </a:xfrm>
                  <a:prstGeom prst="line">
                    <a:avLst/>
                  </a:prstGeom>
                  <a:ln w="111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 flipV="1">
                    <a:off x="3281040" y="2222280"/>
                    <a:ext cx="324720" cy="160920"/>
                  </a:xfrm>
                  <a:prstGeom prst="line">
                    <a:avLst/>
                  </a:prstGeom>
                  <a:ln w="111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 flipV="1">
                    <a:off x="3229560" y="2299680"/>
                    <a:ext cx="426960" cy="200160"/>
                  </a:xfrm>
                  <a:prstGeom prst="line">
                    <a:avLst/>
                  </a:prstGeom>
                  <a:ln w="0">
                    <a:solidFill>
                      <a:srgbClr val="000066"/>
                    </a:solidFill>
                    <a:prstDash val="sysDashDot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 flipV="1">
                    <a:off x="3246840" y="2383560"/>
                    <a:ext cx="466200" cy="225720"/>
                  </a:xfrm>
                  <a:prstGeom prst="line">
                    <a:avLst/>
                  </a:prstGeom>
                  <a:ln w="111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3227400" y="2507400"/>
                    <a:ext cx="537120" cy="263520"/>
                  </a:xfrm>
                  <a:prstGeom prst="line">
                    <a:avLst/>
                  </a:prstGeom>
                  <a:ln w="12600">
                    <a:solidFill>
                      <a:srgbClr val="cc33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3805200" y="2476440"/>
                    <a:ext cx="145440" cy="335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200" spc="-1" strike="noStrike">
                        <a:solidFill>
                          <a:srgbClr val="000066"/>
                        </a:solidFill>
                        <a:latin typeface="Symbol"/>
                        <a:ea typeface="Symbol"/>
                      </a:rPr>
                      <a:t></a:t>
                    </a:r>
                    <a:endParaRPr b="0" lang="en-US" sz="22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3920760" y="2585520"/>
                    <a:ext cx="127080" cy="27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66"/>
                        </a:solidFill>
                        <a:latin typeface="Arial"/>
                      </a:rPr>
                      <a:t>p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3560760" y="2686680"/>
                    <a:ext cx="291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40">
                        <a:moveTo>
                          <a:pt x="49" y="0"/>
                        </a:moveTo>
                        <a:lnTo>
                          <a:pt x="0" y="0"/>
                        </a:lnTo>
                        <a:lnTo>
                          <a:pt x="33" y="4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000066"/>
                  </a:solidFill>
                  <a:ln w="0">
                    <a:solidFill>
                      <a:srgbClr val="0000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3553200" y="230472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45">
                        <a:moveTo>
                          <a:pt x="68" y="45"/>
                        </a:moveTo>
                        <a:lnTo>
                          <a:pt x="36" y="0"/>
                        </a:lnTo>
                        <a:lnTo>
                          <a:pt x="0" y="34"/>
                        </a:lnTo>
                        <a:lnTo>
                          <a:pt x="68" y="45"/>
                        </a:lnTo>
                        <a:close/>
                      </a:path>
                    </a:pathLst>
                  </a:custGeom>
                  <a:solidFill>
                    <a:srgbClr val="000066"/>
                  </a:solidFill>
                  <a:ln w="0">
                    <a:solidFill>
                      <a:srgbClr val="0000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9" name=""/>
                <p:cNvSpPr/>
                <p:nvPr/>
              </p:nvSpPr>
              <p:spPr>
                <a:xfrm>
                  <a:off x="2434680" y="1784520"/>
                  <a:ext cx="540000" cy="36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66"/>
                      </a:solidFill>
                      <a:latin typeface="Arial"/>
                    </a:rPr>
                    <a:t>M</a:t>
                  </a:r>
                  <a:r>
                    <a:rPr b="0" lang="en-GB" sz="1800" spc="-1" strike="noStrike" baseline="-25000">
                      <a:solidFill>
                        <a:srgbClr val="000066"/>
                      </a:solidFill>
                      <a:latin typeface="Arial"/>
                    </a:rPr>
                    <a:t>pl.Rd</a:t>
                  </a: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860" name=""/>
                <p:cNvGrpSpPr/>
                <p:nvPr/>
              </p:nvGrpSpPr>
              <p:grpSpPr>
                <a:xfrm>
                  <a:off x="3019320" y="2170080"/>
                  <a:ext cx="123480" cy="430200"/>
                  <a:chOff x="3019320" y="2170080"/>
                  <a:chExt cx="123480" cy="430200"/>
                </a:xfrm>
              </p:grpSpPr>
              <p:sp>
                <p:nvSpPr>
                  <p:cNvPr id="861" name=""/>
                  <p:cNvSpPr/>
                  <p:nvPr/>
                </p:nvSpPr>
                <p:spPr>
                  <a:xfrm>
                    <a:off x="3079080" y="2172240"/>
                    <a:ext cx="63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91">
                        <a:moveTo>
                          <a:pt x="105" y="0"/>
                        </a:moveTo>
                        <a:lnTo>
                          <a:pt x="0" y="0"/>
                        </a:lnTo>
                        <a:lnTo>
                          <a:pt x="105" y="91"/>
                        </a:lnTo>
                        <a:lnTo>
                          <a:pt x="105" y="0"/>
                        </a:lnTo>
                        <a:close/>
                      </a:path>
                    </a:pathLst>
                  </a:custGeom>
                  <a:solidFill>
                    <a:srgbClr val="000066"/>
                  </a:solidFill>
                  <a:ln w="111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>
                    <a:off x="3019320" y="2170080"/>
                    <a:ext cx="118440" cy="43020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352">
                        <a:moveTo>
                          <a:pt x="17" y="352"/>
                        </a:moveTo>
                        <a:cubicBezTo>
                          <a:pt x="9" y="306"/>
                          <a:pt x="2" y="261"/>
                          <a:pt x="1" y="228"/>
                        </a:cubicBezTo>
                        <a:cubicBezTo>
                          <a:pt x="0" y="195"/>
                          <a:pt x="6" y="177"/>
                          <a:pt x="13" y="152"/>
                        </a:cubicBezTo>
                        <a:cubicBezTo>
                          <a:pt x="20" y="127"/>
                          <a:pt x="33" y="98"/>
                          <a:pt x="41" y="80"/>
                        </a:cubicBezTo>
                        <a:cubicBezTo>
                          <a:pt x="49" y="62"/>
                          <a:pt x="52" y="57"/>
                          <a:pt x="61" y="44"/>
                        </a:cubicBezTo>
                        <a:cubicBezTo>
                          <a:pt x="70" y="31"/>
                          <a:pt x="83" y="15"/>
                          <a:pt x="97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ctr">
                    <a:sp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3" name=""/>
                <p:cNvSpPr/>
                <p:nvPr/>
              </p:nvSpPr>
              <p:spPr>
                <a:xfrm>
                  <a:off x="3485520" y="1812960"/>
                  <a:ext cx="540000" cy="36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66"/>
                      </a:solidFill>
                      <a:latin typeface="Arial"/>
                    </a:rPr>
                    <a:t>M</a:t>
                  </a:r>
                  <a:r>
                    <a:rPr b="0" lang="en-GB" sz="1800" spc="-1" strike="noStrike" baseline="-25000">
                      <a:solidFill>
                        <a:srgbClr val="000066"/>
                      </a:solidFill>
                      <a:latin typeface="Arial"/>
                    </a:rPr>
                    <a:t>pl.Rd</a:t>
                  </a: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864" name=""/>
                <p:cNvGrpSpPr/>
                <p:nvPr/>
              </p:nvGrpSpPr>
              <p:grpSpPr>
                <a:xfrm>
                  <a:off x="3322800" y="2160720"/>
                  <a:ext cx="132840" cy="430200"/>
                  <a:chOff x="3322800" y="2160720"/>
                  <a:chExt cx="132840" cy="430200"/>
                </a:xfrm>
              </p:grpSpPr>
              <p:sp>
                <p:nvSpPr>
                  <p:cNvPr id="865" name=""/>
                  <p:cNvSpPr/>
                  <p:nvPr/>
                </p:nvSpPr>
                <p:spPr>
                  <a:xfrm flipH="1">
                    <a:off x="3322800" y="2162880"/>
                    <a:ext cx="6840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91">
                        <a:moveTo>
                          <a:pt x="105" y="0"/>
                        </a:moveTo>
                        <a:lnTo>
                          <a:pt x="0" y="0"/>
                        </a:lnTo>
                        <a:lnTo>
                          <a:pt x="105" y="91"/>
                        </a:lnTo>
                        <a:lnTo>
                          <a:pt x="105" y="0"/>
                        </a:lnTo>
                        <a:close/>
                      </a:path>
                    </a:pathLst>
                  </a:custGeom>
                  <a:solidFill>
                    <a:srgbClr val="000066"/>
                  </a:solidFill>
                  <a:ln w="111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 flipH="1">
                    <a:off x="3327480" y="2160720"/>
                    <a:ext cx="127800" cy="43020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352">
                        <a:moveTo>
                          <a:pt x="17" y="352"/>
                        </a:moveTo>
                        <a:cubicBezTo>
                          <a:pt x="9" y="306"/>
                          <a:pt x="2" y="261"/>
                          <a:pt x="1" y="228"/>
                        </a:cubicBezTo>
                        <a:cubicBezTo>
                          <a:pt x="0" y="195"/>
                          <a:pt x="6" y="177"/>
                          <a:pt x="13" y="152"/>
                        </a:cubicBezTo>
                        <a:cubicBezTo>
                          <a:pt x="20" y="127"/>
                          <a:pt x="33" y="98"/>
                          <a:pt x="41" y="80"/>
                        </a:cubicBezTo>
                        <a:cubicBezTo>
                          <a:pt x="49" y="62"/>
                          <a:pt x="52" y="57"/>
                          <a:pt x="61" y="44"/>
                        </a:cubicBezTo>
                        <a:cubicBezTo>
                          <a:pt x="70" y="31"/>
                          <a:pt x="83" y="15"/>
                          <a:pt x="97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ctr">
                    <a:sp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Rigid-plastic global analysi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95280" y="5272200"/>
            <a:ext cx="83534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438840" indent="-438840">
              <a:spcBef>
                <a:spcPts val="499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Rigid-plastic member section behaviou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Rigid-plastic joint behaviour when plastic hinges are allowed there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348000" y="2362320"/>
            <a:ext cx="77760" cy="129960"/>
          </a:xfrm>
          <a:custGeom>
            <a:avLst/>
            <a:gdLst/>
            <a:ahLst/>
            <a:rect l="l" t="t" r="r" b="b"/>
            <a:pathLst>
              <a:path w="49" h="82">
                <a:moveTo>
                  <a:pt x="35" y="70"/>
                </a:moveTo>
                <a:lnTo>
                  <a:pt x="0" y="82"/>
                </a:lnTo>
                <a:lnTo>
                  <a:pt x="11" y="22"/>
                </a:lnTo>
                <a:lnTo>
                  <a:pt x="49" y="0"/>
                </a:lnTo>
                <a:lnTo>
                  <a:pt x="45" y="37"/>
                </a:lnTo>
                <a:lnTo>
                  <a:pt x="35" y="7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348000" y="2352600"/>
            <a:ext cx="77760" cy="31680"/>
          </a:xfrm>
          <a:custGeom>
            <a:avLst/>
            <a:gdLst/>
            <a:ahLst/>
            <a:rect l="l" t="t" r="r" b="b"/>
            <a:pathLst>
              <a:path w="49" h="20">
                <a:moveTo>
                  <a:pt x="0" y="2"/>
                </a:moveTo>
                <a:lnTo>
                  <a:pt x="49" y="0"/>
                </a:lnTo>
                <a:lnTo>
                  <a:pt x="1" y="2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FFC3B-ADA2-4CCC-9C0C-FBACD5E4587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Rigid-plastic global analysi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79280" y="4365720"/>
            <a:ext cx="835344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Usually a first order analysi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ind critical mechanis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asy application for simple frames e.g. industrial portal fram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erviceability deflection che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8423280" y="3619440"/>
            <a:ext cx="3240" cy="176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7596360" y="3357720"/>
            <a:ext cx="1342440" cy="426600"/>
            <a:chOff x="7596360" y="3357720"/>
            <a:chExt cx="1342440" cy="426600"/>
          </a:xfrm>
        </p:grpSpPr>
        <p:sp>
          <p:nvSpPr>
            <p:cNvPr id="875" name=""/>
            <p:cNvSpPr/>
            <p:nvPr/>
          </p:nvSpPr>
          <p:spPr>
            <a:xfrm>
              <a:off x="7944480" y="3357720"/>
              <a:ext cx="9943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Arial"/>
                </a:rPr>
                <a:t>plastic hinge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Arial"/>
                </a:rPr>
                <a:t>locatio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596360" y="3482640"/>
              <a:ext cx="104760" cy="96480"/>
            </a:xfrm>
            <a:prstGeom prst="ellipse">
              <a:avLst/>
            </a:prstGeom>
            <a:solidFill>
              <a:srgbClr val="000066"/>
            </a:solidFill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252720" y="1700280"/>
            <a:ext cx="4536000" cy="2018520"/>
            <a:chOff x="252720" y="1700280"/>
            <a:chExt cx="4536000" cy="2018520"/>
          </a:xfrm>
        </p:grpSpPr>
        <p:sp>
          <p:nvSpPr>
            <p:cNvPr id="878" name=""/>
            <p:cNvSpPr/>
            <p:nvPr/>
          </p:nvSpPr>
          <p:spPr>
            <a:xfrm>
              <a:off x="252720" y="1827000"/>
              <a:ext cx="9806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66"/>
                  </a:solidFill>
                  <a:latin typeface="Arial"/>
                </a:rPr>
                <a:t>Load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66"/>
                  </a:solidFill>
                  <a:latin typeface="Arial"/>
                </a:rPr>
                <a:t>parameter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62560" y="3475080"/>
              <a:ext cx="221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66"/>
                  </a:solidFill>
                  <a:latin typeface="Arial"/>
                </a:rPr>
                <a:t>Displacement parameter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880" name=""/>
            <p:cNvGrpSpPr/>
            <p:nvPr/>
          </p:nvGrpSpPr>
          <p:grpSpPr>
            <a:xfrm>
              <a:off x="4060800" y="2232000"/>
              <a:ext cx="727920" cy="450000"/>
              <a:chOff x="4060800" y="2232000"/>
              <a:chExt cx="727920" cy="450000"/>
            </a:xfrm>
          </p:grpSpPr>
          <p:sp>
            <p:nvSpPr>
              <p:cNvPr id="881" name=""/>
              <p:cNvSpPr/>
              <p:nvPr/>
            </p:nvSpPr>
            <p:spPr>
              <a:xfrm>
                <a:off x="4060800" y="2232000"/>
                <a:ext cx="2685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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268160" y="2438280"/>
                <a:ext cx="520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66"/>
                    </a:solidFill>
                    <a:latin typeface="Arial"/>
                  </a:rPr>
                  <a:t>P,min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883" name=""/>
            <p:cNvGrpSpPr/>
            <p:nvPr/>
          </p:nvGrpSpPr>
          <p:grpSpPr>
            <a:xfrm>
              <a:off x="2039400" y="2647800"/>
              <a:ext cx="2221560" cy="523800"/>
              <a:chOff x="2039400" y="2647800"/>
              <a:chExt cx="2221560" cy="523800"/>
            </a:xfrm>
          </p:grpSpPr>
          <p:sp>
            <p:nvSpPr>
              <p:cNvPr id="884" name=""/>
              <p:cNvSpPr/>
              <p:nvPr/>
            </p:nvSpPr>
            <p:spPr>
              <a:xfrm>
                <a:off x="2358360" y="2896920"/>
                <a:ext cx="1902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66"/>
                    </a:solidFill>
                    <a:latin typeface="Arial"/>
                  </a:rPr>
                  <a:t>Plastic mechanism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039400" y="2647800"/>
                <a:ext cx="209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66"/>
                    </a:solidFill>
                    <a:latin typeface="Arial"/>
                  </a:rPr>
                  <a:t>Critical collapse load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886" name=""/>
            <p:cNvGrpSpPr/>
            <p:nvPr/>
          </p:nvGrpSpPr>
          <p:grpSpPr>
            <a:xfrm>
              <a:off x="1319400" y="1700280"/>
              <a:ext cx="2469960" cy="1720800"/>
              <a:chOff x="1319400" y="1700280"/>
              <a:chExt cx="2469960" cy="1720800"/>
            </a:xfrm>
          </p:grpSpPr>
          <p:sp>
            <p:nvSpPr>
              <p:cNvPr id="887" name=""/>
              <p:cNvSpPr/>
              <p:nvPr/>
            </p:nvSpPr>
            <p:spPr>
              <a:xfrm>
                <a:off x="1319400" y="3421080"/>
                <a:ext cx="24699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flipV="1">
                <a:off x="1319400" y="1700280"/>
                <a:ext cx="6120" cy="17208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889" name=""/>
            <p:cNvGrpSpPr/>
            <p:nvPr/>
          </p:nvGrpSpPr>
          <p:grpSpPr>
            <a:xfrm>
              <a:off x="1325520" y="2108160"/>
              <a:ext cx="2549520" cy="245520"/>
              <a:chOff x="1325520" y="2108160"/>
              <a:chExt cx="2549520" cy="245520"/>
            </a:xfrm>
          </p:grpSpPr>
          <p:sp>
            <p:nvSpPr>
              <p:cNvPr id="890" name=""/>
              <p:cNvSpPr/>
              <p:nvPr/>
            </p:nvSpPr>
            <p:spPr>
              <a:xfrm>
                <a:off x="3581280" y="2109600"/>
                <a:ext cx="293760" cy="174240"/>
              </a:xfrm>
              <a:prstGeom prst="ellipse">
                <a:avLst/>
              </a:prstGeom>
              <a:noFill/>
              <a:ln w="0">
                <a:solidFill>
                  <a:srgbClr val="0099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677760" y="21081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9999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331640" y="2207880"/>
                <a:ext cx="221616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2840" bIns="-4284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V="1">
                <a:off x="1325520" y="2201760"/>
                <a:ext cx="0" cy="15192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894" name=""/>
            <p:cNvGrpSpPr/>
            <p:nvPr/>
          </p:nvGrpSpPr>
          <p:grpSpPr>
            <a:xfrm>
              <a:off x="1325520" y="1923840"/>
              <a:ext cx="2549520" cy="271080"/>
              <a:chOff x="1325520" y="1923840"/>
              <a:chExt cx="2549520" cy="271080"/>
            </a:xfrm>
          </p:grpSpPr>
          <p:sp>
            <p:nvSpPr>
              <p:cNvPr id="895" name=""/>
              <p:cNvSpPr/>
              <p:nvPr/>
            </p:nvSpPr>
            <p:spPr>
              <a:xfrm>
                <a:off x="3578040" y="1923840"/>
                <a:ext cx="297000" cy="162000"/>
              </a:xfrm>
              <a:prstGeom prst="ellipse">
                <a:avLst/>
              </a:prstGeom>
              <a:noFill/>
              <a:ln w="0">
                <a:solidFill>
                  <a:srgbClr val="99cc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698280" y="19285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99cc00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1331640" y="2036520"/>
                <a:ext cx="2216160" cy="1440"/>
              </a:xfrm>
              <a:prstGeom prst="line">
                <a:avLst/>
              </a:prstGeom>
              <a:ln w="12600">
                <a:solidFill>
                  <a:srgbClr val="99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2840" bIns="-4284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V="1">
                <a:off x="1325520" y="2029680"/>
                <a:ext cx="0" cy="165240"/>
              </a:xfrm>
              <a:prstGeom prst="line">
                <a:avLst/>
              </a:prstGeom>
              <a:ln w="126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1319400" y="2303280"/>
              <a:ext cx="2565360" cy="1127160"/>
              <a:chOff x="1319400" y="2303280"/>
              <a:chExt cx="2565360" cy="1127160"/>
            </a:xfrm>
          </p:grpSpPr>
          <p:sp>
            <p:nvSpPr>
              <p:cNvPr id="900" name=""/>
              <p:cNvSpPr/>
              <p:nvPr/>
            </p:nvSpPr>
            <p:spPr>
              <a:xfrm>
                <a:off x="3587760" y="2303280"/>
                <a:ext cx="297000" cy="174600"/>
              </a:xfrm>
              <a:prstGeom prst="ellipse">
                <a:avLst/>
              </a:prstGeom>
              <a:noFill/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679560" y="23097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1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902" name=""/>
              <p:cNvGrpSpPr/>
              <p:nvPr/>
            </p:nvGrpSpPr>
            <p:grpSpPr>
              <a:xfrm>
                <a:off x="1319400" y="2358720"/>
                <a:ext cx="2234880" cy="1071720"/>
                <a:chOff x="1319400" y="2358720"/>
                <a:chExt cx="2234880" cy="1071720"/>
              </a:xfrm>
            </p:grpSpPr>
            <p:sp>
              <p:nvSpPr>
                <p:cNvPr id="903" name=""/>
                <p:cNvSpPr/>
                <p:nvPr/>
              </p:nvSpPr>
              <p:spPr>
                <a:xfrm>
                  <a:off x="1322640" y="2358720"/>
                  <a:ext cx="1440" cy="1071720"/>
                </a:xfrm>
                <a:prstGeom prst="line">
                  <a:avLst/>
                </a:prstGeom>
                <a:ln w="270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1319400" y="2366640"/>
                  <a:ext cx="2234880" cy="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5" name=""/>
              <p:cNvSpPr/>
              <p:nvPr/>
            </p:nvSpPr>
            <p:spPr>
              <a:xfrm flipH="1" flipV="1">
                <a:off x="2575080" y="2365200"/>
                <a:ext cx="155520" cy="2779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906" name=""/>
          <p:cNvGrpSpPr/>
          <p:nvPr/>
        </p:nvGrpSpPr>
        <p:grpSpPr>
          <a:xfrm>
            <a:off x="5076360" y="1413000"/>
            <a:ext cx="2772360" cy="2867040"/>
            <a:chOff x="5076360" y="1413000"/>
            <a:chExt cx="2772360" cy="2867040"/>
          </a:xfrm>
        </p:grpSpPr>
        <p:sp>
          <p:nvSpPr>
            <p:cNvPr id="907" name=""/>
            <p:cNvSpPr/>
            <p:nvPr/>
          </p:nvSpPr>
          <p:spPr>
            <a:xfrm>
              <a:off x="6580080" y="3978360"/>
              <a:ext cx="43992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769000" y="4276800"/>
              <a:ext cx="27000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510160" y="3716280"/>
              <a:ext cx="2234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66"/>
                  </a:solidFill>
                  <a:latin typeface="Arial"/>
                </a:rPr>
                <a:t>Beam mechanism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585920" y="2035080"/>
              <a:ext cx="2628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</a:t>
              </a:r>
              <a:r>
                <a:rPr b="0" lang="en-GB" sz="2000" spc="-1" strike="noStrike" baseline="-25000">
                  <a:solidFill>
                    <a:srgbClr val="009999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23000" y="2341440"/>
              <a:ext cx="0" cy="1717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912" name=""/>
            <p:cNvGrpSpPr/>
            <p:nvPr/>
          </p:nvGrpSpPr>
          <p:grpSpPr>
            <a:xfrm>
              <a:off x="5076360" y="1413000"/>
              <a:ext cx="2713680" cy="2084400"/>
              <a:chOff x="5076360" y="1413000"/>
              <a:chExt cx="2713680" cy="2084400"/>
            </a:xfrm>
          </p:grpSpPr>
          <p:sp>
            <p:nvSpPr>
              <p:cNvPr id="913" name=""/>
              <p:cNvSpPr/>
              <p:nvPr/>
            </p:nvSpPr>
            <p:spPr>
              <a:xfrm>
                <a:off x="5961240" y="2070000"/>
                <a:ext cx="2880" cy="13320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961240" y="2070000"/>
                <a:ext cx="1268280" cy="1800"/>
              </a:xfrm>
              <a:prstGeom prst="line">
                <a:avLst/>
              </a:prstGeom>
              <a:ln w="0">
                <a:solidFill>
                  <a:srgbClr val="333399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229520" y="2070000"/>
                <a:ext cx="1440" cy="13320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961240" y="2070000"/>
                <a:ext cx="633240" cy="282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V="1">
                <a:off x="6607080" y="2091960"/>
                <a:ext cx="603360" cy="2602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492240" y="1413000"/>
                <a:ext cx="241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66"/>
                    </a:solidFill>
                    <a:latin typeface="Arial"/>
                  </a:rPr>
                  <a:t>W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827680" y="3411360"/>
                <a:ext cx="304920" cy="3240"/>
              </a:xfrm>
              <a:prstGeom prst="line">
                <a:avLst/>
              </a:prstGeom>
              <a:ln w="79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V="1">
                <a:off x="5756400" y="3406680"/>
                <a:ext cx="79200" cy="77760"/>
              </a:xfrm>
              <a:prstGeom prst="line">
                <a:avLst/>
              </a:prstGeom>
              <a:ln w="79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V="1">
                <a:off x="5908680" y="3406680"/>
                <a:ext cx="76320" cy="90720"/>
              </a:xfrm>
              <a:prstGeom prst="line">
                <a:avLst/>
              </a:prstGeom>
              <a:ln w="79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V="1">
                <a:off x="6045120" y="3411000"/>
                <a:ext cx="71640" cy="78120"/>
              </a:xfrm>
              <a:prstGeom prst="line">
                <a:avLst/>
              </a:prstGeom>
              <a:ln w="79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7081920" y="3395520"/>
                <a:ext cx="307800" cy="6480"/>
              </a:xfrm>
              <a:prstGeom prst="line">
                <a:avLst/>
              </a:prstGeom>
              <a:ln w="79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H="1">
                <a:off x="7027920" y="3416400"/>
                <a:ext cx="61920" cy="77760"/>
              </a:xfrm>
              <a:prstGeom prst="line">
                <a:avLst/>
              </a:prstGeom>
              <a:ln w="79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H="1">
                <a:off x="7197840" y="3402000"/>
                <a:ext cx="54000" cy="82440"/>
              </a:xfrm>
              <a:prstGeom prst="line">
                <a:avLst/>
              </a:prstGeom>
              <a:ln w="79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H="1">
                <a:off x="7333920" y="3416400"/>
                <a:ext cx="41400" cy="77760"/>
              </a:xfrm>
              <a:prstGeom prst="line">
                <a:avLst/>
              </a:prstGeom>
              <a:ln w="79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986160" y="2133720"/>
                <a:ext cx="194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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997240" y="2114640"/>
                <a:ext cx="194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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flipH="1">
                <a:off x="6240240" y="2089080"/>
                <a:ext cx="44280" cy="112680"/>
              </a:xfrm>
              <a:prstGeom prst="line">
                <a:avLst/>
              </a:prstGeom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889680" y="2070000"/>
                <a:ext cx="61920" cy="123840"/>
              </a:xfrm>
              <a:prstGeom prst="line">
                <a:avLst/>
              </a:prstGeom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392880" y="2787480"/>
                <a:ext cx="338040" cy="2462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6495120" y="281304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cc33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167600" y="2035080"/>
                <a:ext cx="115920" cy="101520"/>
              </a:xfrm>
              <a:prstGeom prst="ellipse">
                <a:avLst/>
              </a:prstGeom>
              <a:solidFill>
                <a:srgbClr val="000066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554880" y="2305080"/>
                <a:ext cx="117360" cy="101520"/>
              </a:xfrm>
              <a:prstGeom prst="ellipse">
                <a:avLst/>
              </a:prstGeom>
              <a:solidFill>
                <a:srgbClr val="000066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913360" y="2025720"/>
                <a:ext cx="119160" cy="101520"/>
              </a:xfrm>
              <a:prstGeom prst="ellipse">
                <a:avLst/>
              </a:prstGeom>
              <a:solidFill>
                <a:srgbClr val="000066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076360" y="1893960"/>
                <a:ext cx="18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66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619600" y="311940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716440" y="168444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516360" y="2419200"/>
                <a:ext cx="18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213320" y="1679400"/>
                <a:ext cx="18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66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391520" y="311796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429680" y="2077920"/>
                <a:ext cx="360360" cy="1800"/>
              </a:xfrm>
              <a:prstGeom prst="line">
                <a:avLst/>
              </a:prstGeom>
              <a:ln w="0">
                <a:solidFill>
                  <a:srgbClr val="0099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V="1">
                <a:off x="7413480" y="2349000"/>
                <a:ext cx="360360" cy="3240"/>
              </a:xfrm>
              <a:prstGeom prst="line">
                <a:avLst/>
              </a:prstGeom>
              <a:ln w="0">
                <a:solidFill>
                  <a:srgbClr val="0099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338800" y="2065320"/>
                <a:ext cx="4888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flipV="1">
                <a:off x="6608880" y="1652760"/>
                <a:ext cx="0" cy="4190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V="1">
                <a:off x="7599240" y="1893960"/>
                <a:ext cx="0" cy="17136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56542-4BB6-4C3F-9C10-21F300F839A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Rigid-plastic global analysi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179280" y="4365720"/>
            <a:ext cx="835344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Usually a first order analysi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ind critical mechanis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asy application for simple frames e.g. industrial portal fram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erviceability deflection che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8423280" y="3619440"/>
            <a:ext cx="3240" cy="176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50" name=""/>
          <p:cNvGrpSpPr/>
          <p:nvPr/>
        </p:nvGrpSpPr>
        <p:grpSpPr>
          <a:xfrm>
            <a:off x="7596360" y="3357720"/>
            <a:ext cx="1342440" cy="426600"/>
            <a:chOff x="7596360" y="3357720"/>
            <a:chExt cx="1342440" cy="426600"/>
          </a:xfrm>
        </p:grpSpPr>
        <p:sp>
          <p:nvSpPr>
            <p:cNvPr id="951" name=""/>
            <p:cNvSpPr/>
            <p:nvPr/>
          </p:nvSpPr>
          <p:spPr>
            <a:xfrm>
              <a:off x="7944480" y="3357720"/>
              <a:ext cx="9943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Arial"/>
                </a:rPr>
                <a:t>plastic hinge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Arial"/>
                </a:rPr>
                <a:t>locatio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596360" y="3482640"/>
              <a:ext cx="104760" cy="96480"/>
            </a:xfrm>
            <a:prstGeom prst="ellipse">
              <a:avLst/>
            </a:prstGeom>
            <a:solidFill>
              <a:srgbClr val="000066"/>
            </a:solidFill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53" name=""/>
          <p:cNvSpPr/>
          <p:nvPr/>
        </p:nvSpPr>
        <p:spPr>
          <a:xfrm>
            <a:off x="7980480" y="1673280"/>
            <a:ext cx="25380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4357800" y="1628640"/>
            <a:ext cx="2788920" cy="2507400"/>
            <a:chOff x="4357800" y="1628640"/>
            <a:chExt cx="2788920" cy="2507400"/>
          </a:xfrm>
        </p:grpSpPr>
        <p:sp>
          <p:nvSpPr>
            <p:cNvPr id="955" name=""/>
            <p:cNvSpPr/>
            <p:nvPr/>
          </p:nvSpPr>
          <p:spPr>
            <a:xfrm>
              <a:off x="4357800" y="3800520"/>
              <a:ext cx="2778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66"/>
                  </a:solidFill>
                  <a:latin typeface="Arial"/>
                </a:rPr>
                <a:t>Combined mechanism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532560" y="339408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957" name=""/>
            <p:cNvGrpSpPr/>
            <p:nvPr/>
          </p:nvGrpSpPr>
          <p:grpSpPr>
            <a:xfrm>
              <a:off x="4908600" y="3619440"/>
              <a:ext cx="318600" cy="90000"/>
              <a:chOff x="4908600" y="3619440"/>
              <a:chExt cx="318600" cy="90000"/>
            </a:xfrm>
          </p:grpSpPr>
          <p:sp>
            <p:nvSpPr>
              <p:cNvPr id="958" name=""/>
              <p:cNvSpPr/>
              <p:nvPr/>
            </p:nvSpPr>
            <p:spPr>
              <a:xfrm flipV="1">
                <a:off x="4949640" y="3619440"/>
                <a:ext cx="277560" cy="3600"/>
              </a:xfrm>
              <a:prstGeom prst="line">
                <a:avLst/>
              </a:prstGeom>
              <a:ln w="79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H="1">
                <a:off x="4908600" y="3635280"/>
                <a:ext cx="49680" cy="74160"/>
              </a:xfrm>
              <a:prstGeom prst="line">
                <a:avLst/>
              </a:prstGeom>
              <a:ln w="79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flipH="1">
                <a:off x="5051160" y="3619440"/>
                <a:ext cx="51480" cy="83520"/>
              </a:xfrm>
              <a:prstGeom prst="line">
                <a:avLst/>
              </a:prstGeom>
              <a:ln w="79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H="1">
                <a:off x="5174640" y="3635280"/>
                <a:ext cx="38520" cy="74160"/>
              </a:xfrm>
              <a:prstGeom prst="line">
                <a:avLst/>
              </a:prstGeom>
              <a:ln w="79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962" name=""/>
            <p:cNvSpPr/>
            <p:nvPr/>
          </p:nvSpPr>
          <p:spPr>
            <a:xfrm>
              <a:off x="5094360" y="2243160"/>
              <a:ext cx="3240" cy="1351080"/>
            </a:xfrm>
            <a:prstGeom prst="line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103720" y="2233440"/>
              <a:ext cx="1219320" cy="9720"/>
            </a:xfrm>
            <a:prstGeom prst="line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323040" y="2243160"/>
              <a:ext cx="3240" cy="1351080"/>
            </a:xfrm>
            <a:prstGeom prst="line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 flipV="1">
              <a:off x="5087880" y="2242800"/>
              <a:ext cx="301680" cy="13827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389560" y="2243160"/>
              <a:ext cx="596880" cy="174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6019920" y="2226960"/>
              <a:ext cx="630000" cy="1904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 flipV="1">
              <a:off x="6326280" y="2209320"/>
              <a:ext cx="293400" cy="14065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871240" y="1658880"/>
              <a:ext cx="24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373280" y="212256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824000" y="3030480"/>
              <a:ext cx="194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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525720" y="3057480"/>
              <a:ext cx="194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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973" name=""/>
            <p:cNvGrpSpPr/>
            <p:nvPr/>
          </p:nvGrpSpPr>
          <p:grpSpPr>
            <a:xfrm>
              <a:off x="5689440" y="2797200"/>
              <a:ext cx="296640" cy="343800"/>
              <a:chOff x="5689440" y="2797200"/>
              <a:chExt cx="296640" cy="343800"/>
            </a:xfrm>
          </p:grpSpPr>
          <p:sp>
            <p:nvSpPr>
              <p:cNvPr id="974" name=""/>
              <p:cNvSpPr/>
              <p:nvPr/>
            </p:nvSpPr>
            <p:spPr>
              <a:xfrm>
                <a:off x="5689440" y="2797200"/>
                <a:ext cx="296640" cy="2390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776200" y="283572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cc33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976" name=""/>
            <p:cNvSpPr/>
            <p:nvPr/>
          </p:nvSpPr>
          <p:spPr>
            <a:xfrm>
              <a:off x="6551640" y="2203560"/>
              <a:ext cx="101520" cy="98280"/>
            </a:xfrm>
            <a:prstGeom prst="ellipse">
              <a:avLst/>
            </a:prstGeom>
            <a:solidFill>
              <a:srgbClr val="000066"/>
            </a:solidFill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041800" y="3570120"/>
              <a:ext cx="104760" cy="98640"/>
            </a:xfrm>
            <a:prstGeom prst="ellipse">
              <a:avLst/>
            </a:prstGeom>
            <a:solidFill>
              <a:srgbClr val="000066"/>
            </a:solidFill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954760" y="2362320"/>
              <a:ext cx="102960" cy="98280"/>
            </a:xfrm>
            <a:prstGeom prst="ellipse">
              <a:avLst/>
            </a:prstGeom>
            <a:solidFill>
              <a:srgbClr val="000066"/>
            </a:solidFill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100480" y="3057480"/>
              <a:ext cx="117720" cy="3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326280" y="3057480"/>
              <a:ext cx="120600" cy="3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759200" y="33289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235480" y="202248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01840" y="249876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671880" y="217476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347880" y="1628640"/>
              <a:ext cx="2386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</a:t>
              </a:r>
              <a:r>
                <a:rPr b="0" lang="en-GB" sz="2000" spc="-1" strike="noStrike" baseline="-25000">
                  <a:solidFill>
                    <a:srgbClr val="009999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145280" y="2178000"/>
              <a:ext cx="1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987" name=""/>
            <p:cNvGrpSpPr/>
            <p:nvPr/>
          </p:nvGrpSpPr>
          <p:grpSpPr>
            <a:xfrm>
              <a:off x="6172200" y="3556080"/>
              <a:ext cx="318240" cy="154800"/>
              <a:chOff x="6172200" y="3556080"/>
              <a:chExt cx="318240" cy="154800"/>
            </a:xfrm>
          </p:grpSpPr>
          <p:grpSp>
            <p:nvGrpSpPr>
              <p:cNvPr id="988" name=""/>
              <p:cNvGrpSpPr/>
              <p:nvPr/>
            </p:nvGrpSpPr>
            <p:grpSpPr>
              <a:xfrm>
                <a:off x="6172200" y="3618000"/>
                <a:ext cx="318240" cy="92880"/>
                <a:chOff x="6172200" y="3618000"/>
                <a:chExt cx="318240" cy="92880"/>
              </a:xfrm>
            </p:grpSpPr>
            <p:sp>
              <p:nvSpPr>
                <p:cNvPr id="989" name=""/>
                <p:cNvSpPr/>
                <p:nvPr/>
              </p:nvSpPr>
              <p:spPr>
                <a:xfrm flipV="1">
                  <a:off x="6215760" y="3618000"/>
                  <a:ext cx="274680" cy="2880"/>
                </a:xfrm>
                <a:prstGeom prst="line">
                  <a:avLst/>
                </a:prstGeom>
                <a:ln w="792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 flipH="1">
                  <a:off x="6172200" y="3640320"/>
                  <a:ext cx="48960" cy="70560"/>
                </a:xfrm>
                <a:prstGeom prst="line">
                  <a:avLst/>
                </a:prstGeom>
                <a:ln w="792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flipH="1">
                  <a:off x="6316920" y="3620880"/>
                  <a:ext cx="52200" cy="83520"/>
                </a:xfrm>
                <a:prstGeom prst="line">
                  <a:avLst/>
                </a:prstGeom>
                <a:ln w="792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 flipH="1">
                  <a:off x="6437880" y="3640320"/>
                  <a:ext cx="38520" cy="70560"/>
                </a:xfrm>
                <a:prstGeom prst="line">
                  <a:avLst/>
                </a:prstGeom>
                <a:ln w="792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3" name=""/>
              <p:cNvSpPr/>
              <p:nvPr/>
            </p:nvSpPr>
            <p:spPr>
              <a:xfrm>
                <a:off x="6273720" y="3556080"/>
                <a:ext cx="104760" cy="96840"/>
              </a:xfrm>
              <a:prstGeom prst="ellipse">
                <a:avLst/>
              </a:prstGeom>
              <a:solidFill>
                <a:srgbClr val="000066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994" name=""/>
            <p:cNvSpPr/>
            <p:nvPr/>
          </p:nvSpPr>
          <p:spPr>
            <a:xfrm flipH="1">
              <a:off x="4660560" y="2225520"/>
              <a:ext cx="393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946920" y="2251080"/>
              <a:ext cx="16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946920" y="2403360"/>
              <a:ext cx="16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7023240" y="202212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 flipV="1">
              <a:off x="7023240" y="24094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6330960" y="1983960"/>
              <a:ext cx="0" cy="15228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6622920" y="1990440"/>
              <a:ext cx="0" cy="15228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6171840" y="2054160"/>
              <a:ext cx="15876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6616440" y="2066760"/>
              <a:ext cx="15876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V="1">
              <a:off x="6006960" y="1926720"/>
              <a:ext cx="0" cy="311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755280" y="1557360"/>
            <a:ext cx="2761560" cy="2583360"/>
            <a:chOff x="755280" y="1557360"/>
            <a:chExt cx="2761560" cy="2583360"/>
          </a:xfrm>
        </p:grpSpPr>
        <p:sp>
          <p:nvSpPr>
            <p:cNvPr id="1005" name=""/>
            <p:cNvSpPr/>
            <p:nvPr/>
          </p:nvSpPr>
          <p:spPr>
            <a:xfrm>
              <a:off x="1054800" y="3805200"/>
              <a:ext cx="2189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66"/>
                  </a:solidFill>
                  <a:latin typeface="Arial"/>
                </a:rPr>
                <a:t>Sway mechanism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1581120" y="2254320"/>
              <a:ext cx="1440" cy="1341360"/>
            </a:xfrm>
            <a:prstGeom prst="line">
              <a:avLst/>
            </a:prstGeom>
            <a:ln w="0">
              <a:solidFill>
                <a:srgbClr val="333399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590840" y="2244600"/>
              <a:ext cx="420480" cy="3240"/>
            </a:xfrm>
            <a:prstGeom prst="line">
              <a:avLst/>
            </a:prstGeom>
            <a:ln w="0">
              <a:solidFill>
                <a:srgbClr val="333399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816280" y="2254320"/>
              <a:ext cx="1440" cy="1341360"/>
            </a:xfrm>
            <a:prstGeom prst="line">
              <a:avLst/>
            </a:prstGeom>
            <a:ln w="0">
              <a:solidFill>
                <a:srgbClr val="333399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V="1">
              <a:off x="1590840" y="2244600"/>
              <a:ext cx="379080" cy="13384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995480" y="2244600"/>
              <a:ext cx="1143000" cy="32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H="1">
              <a:off x="2833560" y="2254320"/>
              <a:ext cx="317520" cy="13287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314000" y="2976480"/>
              <a:ext cx="194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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574720" y="2992320"/>
              <a:ext cx="194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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581120" y="3038400"/>
              <a:ext cx="150840" cy="4680"/>
            </a:xfrm>
            <a:prstGeom prst="line">
              <a:avLst/>
            </a:prstGeom>
            <a:ln w="792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816280" y="3038400"/>
              <a:ext cx="139680" cy="4680"/>
            </a:xfrm>
            <a:prstGeom prst="line">
              <a:avLst/>
            </a:prstGeom>
            <a:ln w="792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016" name=""/>
            <p:cNvGrpSpPr/>
            <p:nvPr/>
          </p:nvGrpSpPr>
          <p:grpSpPr>
            <a:xfrm>
              <a:off x="2152800" y="2892600"/>
              <a:ext cx="318600" cy="331560"/>
              <a:chOff x="2152800" y="2892600"/>
              <a:chExt cx="318600" cy="331560"/>
            </a:xfrm>
          </p:grpSpPr>
          <p:sp>
            <p:nvSpPr>
              <p:cNvPr id="1017" name=""/>
              <p:cNvSpPr/>
              <p:nvPr/>
            </p:nvSpPr>
            <p:spPr>
              <a:xfrm>
                <a:off x="2152800" y="2892600"/>
                <a:ext cx="318600" cy="2448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235600" y="291888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cc33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019" name=""/>
            <p:cNvSpPr/>
            <p:nvPr/>
          </p:nvSpPr>
          <p:spPr>
            <a:xfrm>
              <a:off x="2836440" y="1590840"/>
              <a:ext cx="2386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</a:t>
              </a:r>
              <a:r>
                <a:rPr b="0" lang="en-GB" sz="2000" spc="-1" strike="noStrike" baseline="-25000">
                  <a:solidFill>
                    <a:srgbClr val="009999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020" name=""/>
            <p:cNvGrpSpPr/>
            <p:nvPr/>
          </p:nvGrpSpPr>
          <p:grpSpPr>
            <a:xfrm>
              <a:off x="1422360" y="3602160"/>
              <a:ext cx="342360" cy="96120"/>
              <a:chOff x="1422360" y="3602160"/>
              <a:chExt cx="342360" cy="96120"/>
            </a:xfrm>
          </p:grpSpPr>
          <p:sp>
            <p:nvSpPr>
              <p:cNvPr id="1021" name=""/>
              <p:cNvSpPr/>
              <p:nvPr/>
            </p:nvSpPr>
            <p:spPr>
              <a:xfrm flipV="1">
                <a:off x="1470240" y="3602160"/>
                <a:ext cx="294480" cy="2880"/>
              </a:xfrm>
              <a:prstGeom prst="line">
                <a:avLst/>
              </a:prstGeom>
              <a:ln w="79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H="1">
                <a:off x="1422360" y="3621600"/>
                <a:ext cx="54000" cy="76680"/>
              </a:xfrm>
              <a:prstGeom prst="line">
                <a:avLst/>
              </a:prstGeom>
              <a:ln w="79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>
                <a:off x="1580040" y="3605040"/>
                <a:ext cx="56520" cy="83520"/>
              </a:xfrm>
              <a:prstGeom prst="line">
                <a:avLst/>
              </a:prstGeom>
              <a:ln w="79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H="1">
                <a:off x="1708560" y="3621600"/>
                <a:ext cx="44280" cy="76680"/>
              </a:xfrm>
              <a:prstGeom prst="line">
                <a:avLst/>
              </a:prstGeom>
              <a:ln w="79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025" name=""/>
            <p:cNvGrpSpPr/>
            <p:nvPr/>
          </p:nvGrpSpPr>
          <p:grpSpPr>
            <a:xfrm>
              <a:off x="2670120" y="3594240"/>
              <a:ext cx="347040" cy="89640"/>
              <a:chOff x="2670120" y="3594240"/>
              <a:chExt cx="347040" cy="89640"/>
            </a:xfrm>
          </p:grpSpPr>
          <p:sp>
            <p:nvSpPr>
              <p:cNvPr id="1026" name=""/>
              <p:cNvSpPr/>
              <p:nvPr/>
            </p:nvSpPr>
            <p:spPr>
              <a:xfrm>
                <a:off x="2718000" y="3594240"/>
                <a:ext cx="299160" cy="2880"/>
              </a:xfrm>
              <a:prstGeom prst="line">
                <a:avLst/>
              </a:prstGeom>
              <a:ln w="79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H="1">
                <a:off x="2670120" y="3610080"/>
                <a:ext cx="56880" cy="73800"/>
              </a:xfrm>
              <a:prstGeom prst="line">
                <a:avLst/>
              </a:prstGeom>
              <a:ln w="79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>
                <a:off x="2831400" y="3594240"/>
                <a:ext cx="54000" cy="80280"/>
              </a:xfrm>
              <a:prstGeom prst="line">
                <a:avLst/>
              </a:prstGeom>
              <a:ln w="79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>
                <a:off x="2962800" y="3610080"/>
                <a:ext cx="39240" cy="73800"/>
              </a:xfrm>
              <a:prstGeom prst="line">
                <a:avLst/>
              </a:prstGeom>
              <a:ln w="79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030" name=""/>
            <p:cNvSpPr/>
            <p:nvPr/>
          </p:nvSpPr>
          <p:spPr>
            <a:xfrm>
              <a:off x="1924200" y="2208240"/>
              <a:ext cx="115560" cy="100080"/>
            </a:xfrm>
            <a:prstGeom prst="ellipse">
              <a:avLst/>
            </a:prstGeom>
            <a:solidFill>
              <a:srgbClr val="000066"/>
            </a:solidFill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087720" y="2208240"/>
              <a:ext cx="114120" cy="100080"/>
            </a:xfrm>
            <a:prstGeom prst="ellipse">
              <a:avLst/>
            </a:prstGeom>
            <a:solidFill>
              <a:srgbClr val="000066"/>
            </a:solidFill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531800" y="3549600"/>
              <a:ext cx="112680" cy="100080"/>
            </a:xfrm>
            <a:prstGeom prst="ellipse">
              <a:avLst/>
            </a:prstGeom>
            <a:solidFill>
              <a:srgbClr val="000066"/>
            </a:solidFill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82800" y="3533760"/>
              <a:ext cx="112680" cy="96840"/>
            </a:xfrm>
            <a:prstGeom prst="ellipse">
              <a:avLst/>
            </a:prstGeom>
            <a:solidFill>
              <a:srgbClr val="000066"/>
            </a:solidFill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260360" y="328788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693800" y="187488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331800" y="191304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024360" y="325584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55280" y="20797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366280" y="1557360"/>
              <a:ext cx="24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>
              <a:off x="992160" y="2243160"/>
              <a:ext cx="5652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529000" y="1849320"/>
              <a:ext cx="0" cy="4064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573280" y="1969920"/>
              <a:ext cx="22860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3176280" y="1957320"/>
              <a:ext cx="22860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V="1">
              <a:off x="2808360" y="1887480"/>
              <a:ext cx="0" cy="14616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V="1">
              <a:off x="3176640" y="1887480"/>
              <a:ext cx="0" cy="14616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46" name=""/>
          <p:cNvGrpSpPr/>
          <p:nvPr/>
        </p:nvGrpSpPr>
        <p:grpSpPr>
          <a:xfrm>
            <a:off x="6877080" y="2063880"/>
            <a:ext cx="628920" cy="542880"/>
            <a:chOff x="6877080" y="2063880"/>
            <a:chExt cx="628920" cy="542880"/>
          </a:xfrm>
        </p:grpSpPr>
        <p:sp>
          <p:nvSpPr>
            <p:cNvPr id="1047" name=""/>
            <p:cNvSpPr/>
            <p:nvPr/>
          </p:nvSpPr>
          <p:spPr>
            <a:xfrm>
              <a:off x="7243200" y="2151000"/>
              <a:ext cx="2628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</a:t>
              </a:r>
              <a:r>
                <a:rPr b="0" lang="en-GB" sz="2000" spc="-1" strike="noStrike" baseline="-25000">
                  <a:solidFill>
                    <a:srgbClr val="009999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099200" y="2435400"/>
              <a:ext cx="0" cy="17136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7094520" y="2063880"/>
              <a:ext cx="0" cy="17136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877080" y="2244600"/>
              <a:ext cx="360360" cy="1800"/>
            </a:xfrm>
            <a:prstGeom prst="line">
              <a:avLst/>
            </a:prstGeom>
            <a:ln w="0">
              <a:solidFill>
                <a:srgbClr val="00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V="1">
              <a:off x="6877080" y="2420640"/>
              <a:ext cx="360360" cy="3240"/>
            </a:xfrm>
            <a:prstGeom prst="line">
              <a:avLst/>
            </a:prstGeom>
            <a:ln w="0">
              <a:solidFill>
                <a:srgbClr val="00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605BC-4B6C-4423-AB84-DCC520B0CEC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Idealisation of 3-D fram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262080" y="1644480"/>
            <a:ext cx="8619840" cy="35690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4360" y="5373720"/>
            <a:ext cx="81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duction of 3-D framework to plane fram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CBE41-C46F-428D-9CB7-0C6CA6F23E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Elastic-perfectly plastic global frame analysi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lastic-perfectly plastic response of member sections and joi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5226120" y="4408560"/>
            <a:ext cx="2582640" cy="1446120"/>
            <a:chOff x="5226120" y="4408560"/>
            <a:chExt cx="2582640" cy="1446120"/>
          </a:xfrm>
        </p:grpSpPr>
        <p:sp>
          <p:nvSpPr>
            <p:cNvPr id="1055" name=""/>
            <p:cNvSpPr/>
            <p:nvPr/>
          </p:nvSpPr>
          <p:spPr>
            <a:xfrm flipV="1">
              <a:off x="5226120" y="4481640"/>
              <a:ext cx="1019160" cy="1373040"/>
            </a:xfrm>
            <a:prstGeom prst="line">
              <a:avLst/>
            </a:prstGeom>
            <a:ln w="442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245280" y="4481640"/>
              <a:ext cx="1392120" cy="1440"/>
            </a:xfrm>
            <a:prstGeom prst="line">
              <a:avLst/>
            </a:prstGeom>
            <a:ln w="41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608960" y="4408560"/>
              <a:ext cx="199800" cy="157320"/>
            </a:xfrm>
            <a:custGeom>
              <a:avLst/>
              <a:gdLst/>
              <a:ahLst/>
              <a:rect l="l" t="t" r="r" b="b"/>
              <a:pathLst>
                <a:path w="218" h="132">
                  <a:moveTo>
                    <a:pt x="0" y="0"/>
                  </a:moveTo>
                  <a:lnTo>
                    <a:pt x="218" y="63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4498560" y="3414600"/>
            <a:ext cx="3987720" cy="2778120"/>
            <a:chOff x="4498560" y="3414600"/>
            <a:chExt cx="3987720" cy="2778120"/>
          </a:xfrm>
        </p:grpSpPr>
        <p:sp>
          <p:nvSpPr>
            <p:cNvPr id="1059" name=""/>
            <p:cNvSpPr/>
            <p:nvPr/>
          </p:nvSpPr>
          <p:spPr>
            <a:xfrm flipH="1">
              <a:off x="5226120" y="3587760"/>
              <a:ext cx="9360" cy="22590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226120" y="5854680"/>
              <a:ext cx="2985840" cy="1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183280" y="3476520"/>
              <a:ext cx="112680" cy="98640"/>
            </a:xfrm>
            <a:custGeom>
              <a:avLst/>
              <a:gdLst/>
              <a:ahLst/>
              <a:rect l="l" t="t" r="r" b="b"/>
              <a:pathLst>
                <a:path w="120" h="84">
                  <a:moveTo>
                    <a:pt x="0" y="84"/>
                  </a:moveTo>
                  <a:lnTo>
                    <a:pt x="57" y="0"/>
                  </a:lnTo>
                  <a:lnTo>
                    <a:pt x="12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66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10440" y="5796000"/>
              <a:ext cx="119160" cy="100080"/>
            </a:xfrm>
            <a:custGeom>
              <a:avLst/>
              <a:gdLst/>
              <a:ahLst/>
              <a:rect l="l" t="t" r="r" b="b"/>
              <a:pathLst>
                <a:path w="129" h="86">
                  <a:moveTo>
                    <a:pt x="0" y="0"/>
                  </a:moveTo>
                  <a:lnTo>
                    <a:pt x="129" y="40"/>
                  </a:lnTo>
                  <a:lnTo>
                    <a:pt x="0" y="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830120" y="341460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8301240" y="5765760"/>
              <a:ext cx="185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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5235480" y="4483080"/>
              <a:ext cx="1028880" cy="3240"/>
            </a:xfrm>
            <a:prstGeom prst="line">
              <a:avLst/>
            </a:prstGeom>
            <a:ln w="0">
              <a:solidFill>
                <a:srgbClr val="000066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569640" y="4653000"/>
              <a:ext cx="1443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Arial"/>
                </a:rPr>
                <a:t>Plastic hinge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498560" y="436896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717800" y="4465800"/>
              <a:ext cx="453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Arial"/>
                </a:rPr>
                <a:t>j,Rd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062680" y="3483000"/>
              <a:ext cx="57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70" name=""/>
          <p:cNvGrpSpPr/>
          <p:nvPr/>
        </p:nvGrpSpPr>
        <p:grpSpPr>
          <a:xfrm>
            <a:off x="1192320" y="4448160"/>
            <a:ext cx="2273040" cy="1406160"/>
            <a:chOff x="1192320" y="4448160"/>
            <a:chExt cx="2273040" cy="1406160"/>
          </a:xfrm>
        </p:grpSpPr>
        <p:sp>
          <p:nvSpPr>
            <p:cNvPr id="1071" name=""/>
            <p:cNvSpPr/>
            <p:nvPr/>
          </p:nvSpPr>
          <p:spPr>
            <a:xfrm flipV="1">
              <a:off x="1192320" y="4525200"/>
              <a:ext cx="901440" cy="1329120"/>
            </a:xfrm>
            <a:prstGeom prst="line">
              <a:avLst/>
            </a:prstGeom>
            <a:ln w="41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093760" y="4525200"/>
              <a:ext cx="1231920" cy="2160"/>
            </a:xfrm>
            <a:prstGeom prst="line">
              <a:avLst/>
            </a:prstGeom>
            <a:ln w="41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286080" y="4448160"/>
              <a:ext cx="179280" cy="174960"/>
            </a:xfrm>
            <a:custGeom>
              <a:avLst/>
              <a:gdLst/>
              <a:ahLst/>
              <a:rect l="l" t="t" r="r" b="b"/>
              <a:pathLst>
                <a:path w="220" h="151">
                  <a:moveTo>
                    <a:pt x="0" y="0"/>
                  </a:moveTo>
                  <a:lnTo>
                    <a:pt x="220" y="75"/>
                  </a:lnTo>
                  <a:lnTo>
                    <a:pt x="0" y="1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264240" y="3597120"/>
            <a:ext cx="4318920" cy="2416320"/>
            <a:chOff x="264240" y="3597120"/>
            <a:chExt cx="4318920" cy="2416320"/>
          </a:xfrm>
        </p:grpSpPr>
        <p:sp>
          <p:nvSpPr>
            <p:cNvPr id="1075" name=""/>
            <p:cNvSpPr/>
            <p:nvPr/>
          </p:nvSpPr>
          <p:spPr>
            <a:xfrm>
              <a:off x="1190520" y="3745080"/>
              <a:ext cx="1800" cy="2109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192320" y="5854680"/>
              <a:ext cx="2681280" cy="1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141560" y="3652920"/>
              <a:ext cx="102960" cy="96840"/>
            </a:xfrm>
            <a:custGeom>
              <a:avLst/>
              <a:gdLst/>
              <a:ahLst/>
              <a:rect l="l" t="t" r="r" b="b"/>
              <a:pathLst>
                <a:path w="129" h="85">
                  <a:moveTo>
                    <a:pt x="0" y="85"/>
                  </a:moveTo>
                  <a:lnTo>
                    <a:pt x="61" y="0"/>
                  </a:lnTo>
                  <a:lnTo>
                    <a:pt x="129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66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854520" y="5808600"/>
              <a:ext cx="102960" cy="98640"/>
            </a:xfrm>
            <a:custGeom>
              <a:avLst/>
              <a:gdLst/>
              <a:ahLst/>
              <a:rect l="l" t="t" r="r" b="b"/>
              <a:pathLst>
                <a:path w="128" h="86">
                  <a:moveTo>
                    <a:pt x="0" y="0"/>
                  </a:moveTo>
                  <a:lnTo>
                    <a:pt x="128" y="40"/>
                  </a:lnTo>
                  <a:lnTo>
                    <a:pt x="0" y="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920160" y="359712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375280" y="4711680"/>
              <a:ext cx="1443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Arial"/>
                </a:rPr>
                <a:t>Plastic hinge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1192320" y="4522680"/>
              <a:ext cx="901440" cy="1800"/>
            </a:xfrm>
            <a:prstGeom prst="line">
              <a:avLst/>
            </a:prstGeom>
            <a:ln w="0">
              <a:solidFill>
                <a:srgbClr val="000066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082" name=""/>
            <p:cNvGrpSpPr/>
            <p:nvPr/>
          </p:nvGrpSpPr>
          <p:grpSpPr>
            <a:xfrm>
              <a:off x="264240" y="4341960"/>
              <a:ext cx="781920" cy="415080"/>
              <a:chOff x="264240" y="4341960"/>
              <a:chExt cx="781920" cy="415080"/>
            </a:xfrm>
          </p:grpSpPr>
          <p:sp>
            <p:nvSpPr>
              <p:cNvPr id="1083" name=""/>
              <p:cNvSpPr/>
              <p:nvPr/>
            </p:nvSpPr>
            <p:spPr>
              <a:xfrm>
                <a:off x="264240" y="4341960"/>
                <a:ext cx="212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66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451080" y="4451760"/>
                <a:ext cx="595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66"/>
                    </a:solidFill>
                    <a:latin typeface="Arial"/>
                  </a:rPr>
                  <a:t>pl,Rd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085" name=""/>
            <p:cNvSpPr/>
            <p:nvPr/>
          </p:nvSpPr>
          <p:spPr>
            <a:xfrm>
              <a:off x="4064040" y="5492880"/>
              <a:ext cx="51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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86" name=""/>
          <p:cNvGrpSpPr/>
          <p:nvPr/>
        </p:nvGrpSpPr>
        <p:grpSpPr>
          <a:xfrm>
            <a:off x="2314440" y="2614680"/>
            <a:ext cx="1549080" cy="1456560"/>
            <a:chOff x="2314440" y="2614680"/>
            <a:chExt cx="1549080" cy="1456560"/>
          </a:xfrm>
        </p:grpSpPr>
        <p:sp>
          <p:nvSpPr>
            <p:cNvPr id="1087" name=""/>
            <p:cNvSpPr/>
            <p:nvPr/>
          </p:nvSpPr>
          <p:spPr>
            <a:xfrm flipV="1">
              <a:off x="2314440" y="2614680"/>
              <a:ext cx="703440" cy="947520"/>
            </a:xfrm>
            <a:prstGeom prst="line">
              <a:avLst/>
            </a:prstGeom>
            <a:ln w="0">
              <a:solidFill>
                <a:srgbClr val="000066"/>
              </a:solidFill>
              <a:prstDash val="sysDash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088" name=""/>
            <p:cNvGrpSpPr/>
            <p:nvPr/>
          </p:nvGrpSpPr>
          <p:grpSpPr>
            <a:xfrm>
              <a:off x="3011400" y="3301920"/>
              <a:ext cx="313920" cy="475920"/>
              <a:chOff x="3011400" y="3301920"/>
              <a:chExt cx="313920" cy="475920"/>
            </a:xfrm>
          </p:grpSpPr>
          <p:sp>
            <p:nvSpPr>
              <p:cNvPr id="1089" name=""/>
              <p:cNvSpPr/>
              <p:nvPr/>
            </p:nvSpPr>
            <p:spPr>
              <a:xfrm>
                <a:off x="3044880" y="3312000"/>
                <a:ext cx="280440" cy="4554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011400" y="3301920"/>
                <a:ext cx="207000" cy="47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227760" y="3316320"/>
                <a:ext cx="74880" cy="59760"/>
              </a:xfrm>
              <a:custGeom>
                <a:avLst/>
                <a:gdLst/>
                <a:ahLst/>
                <a:rect l="l" t="t" r="r" b="b"/>
                <a:pathLst>
                  <a:path w="80" h="58">
                    <a:moveTo>
                      <a:pt x="0" y="0"/>
                    </a:moveTo>
                    <a:lnTo>
                      <a:pt x="80" y="28"/>
                    </a:lnTo>
                    <a:lnTo>
                      <a:pt x="19" y="5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092" name=""/>
            <p:cNvGrpSpPr/>
            <p:nvPr/>
          </p:nvGrpSpPr>
          <p:grpSpPr>
            <a:xfrm>
              <a:off x="2708280" y="3306600"/>
              <a:ext cx="312480" cy="473040"/>
              <a:chOff x="2708280" y="3306600"/>
              <a:chExt cx="312480" cy="473040"/>
            </a:xfrm>
          </p:grpSpPr>
          <p:sp>
            <p:nvSpPr>
              <p:cNvPr id="1093" name=""/>
              <p:cNvSpPr/>
              <p:nvPr/>
            </p:nvSpPr>
            <p:spPr>
              <a:xfrm>
                <a:off x="2708280" y="3314880"/>
                <a:ext cx="280800" cy="454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816280" y="3306600"/>
                <a:ext cx="204480" cy="47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730600" y="3318480"/>
                <a:ext cx="72360" cy="61920"/>
              </a:xfrm>
              <a:custGeom>
                <a:avLst/>
                <a:gdLst/>
                <a:ahLst/>
                <a:rect l="l" t="t" r="r" b="b"/>
                <a:pathLst>
                  <a:path w="79" h="59">
                    <a:moveTo>
                      <a:pt x="79" y="0"/>
                    </a:moveTo>
                    <a:lnTo>
                      <a:pt x="0" y="30"/>
                    </a:lnTo>
                    <a:lnTo>
                      <a:pt x="60" y="59"/>
                    </a:lnTo>
                    <a:lnTo>
                      <a:pt x="79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096" name=""/>
            <p:cNvSpPr/>
            <p:nvPr/>
          </p:nvSpPr>
          <p:spPr>
            <a:xfrm>
              <a:off x="2865600" y="3470400"/>
              <a:ext cx="293400" cy="231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470320" y="3328920"/>
              <a:ext cx="1042920" cy="169920"/>
            </a:xfrm>
            <a:custGeom>
              <a:avLst/>
              <a:gdLst/>
              <a:ahLst/>
              <a:rect l="l" t="t" r="r" b="b"/>
              <a:pathLst>
                <a:path w="1120" h="164">
                  <a:moveTo>
                    <a:pt x="0" y="19"/>
                  </a:moveTo>
                  <a:lnTo>
                    <a:pt x="39" y="40"/>
                  </a:lnTo>
                  <a:lnTo>
                    <a:pt x="109" y="72"/>
                  </a:lnTo>
                  <a:lnTo>
                    <a:pt x="218" y="113"/>
                  </a:lnTo>
                  <a:lnTo>
                    <a:pt x="317" y="142"/>
                  </a:lnTo>
                  <a:lnTo>
                    <a:pt x="420" y="156"/>
                  </a:lnTo>
                  <a:lnTo>
                    <a:pt x="586" y="164"/>
                  </a:lnTo>
                  <a:lnTo>
                    <a:pt x="767" y="130"/>
                  </a:lnTo>
                  <a:lnTo>
                    <a:pt x="861" y="101"/>
                  </a:lnTo>
                  <a:lnTo>
                    <a:pt x="980" y="59"/>
                  </a:lnTo>
                  <a:lnTo>
                    <a:pt x="1052" y="29"/>
                  </a:lnTo>
                  <a:lnTo>
                    <a:pt x="1120" y="0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347920" y="3462480"/>
              <a:ext cx="1298520" cy="210960"/>
            </a:xfrm>
            <a:custGeom>
              <a:avLst/>
              <a:gdLst/>
              <a:ahLst/>
              <a:rect l="l" t="t" r="r" b="b"/>
              <a:pathLst>
                <a:path w="1394" h="205">
                  <a:moveTo>
                    <a:pt x="0" y="36"/>
                  </a:moveTo>
                  <a:lnTo>
                    <a:pt x="90" y="77"/>
                  </a:lnTo>
                  <a:lnTo>
                    <a:pt x="205" y="113"/>
                  </a:lnTo>
                  <a:lnTo>
                    <a:pt x="323" y="145"/>
                  </a:lnTo>
                  <a:lnTo>
                    <a:pt x="433" y="172"/>
                  </a:lnTo>
                  <a:lnTo>
                    <a:pt x="527" y="185"/>
                  </a:lnTo>
                  <a:lnTo>
                    <a:pt x="713" y="205"/>
                  </a:lnTo>
                  <a:lnTo>
                    <a:pt x="904" y="172"/>
                  </a:lnTo>
                  <a:lnTo>
                    <a:pt x="1047" y="136"/>
                  </a:lnTo>
                  <a:lnTo>
                    <a:pt x="1178" y="92"/>
                  </a:lnTo>
                  <a:lnTo>
                    <a:pt x="1272" y="57"/>
                  </a:lnTo>
                  <a:lnTo>
                    <a:pt x="1394" y="0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017880" y="2617920"/>
              <a:ext cx="655560" cy="895320"/>
            </a:xfrm>
            <a:prstGeom prst="line">
              <a:avLst/>
            </a:prstGeom>
            <a:ln w="0">
              <a:solidFill>
                <a:srgbClr val="000066"/>
              </a:solidFill>
              <a:prstDash val="sysDash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164760" y="369576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388680" y="3827520"/>
              <a:ext cx="47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66"/>
                  </a:solidFill>
                  <a:latin typeface="Arial"/>
                </a:rPr>
                <a:t>pl,Rd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328920" y="3436920"/>
              <a:ext cx="171360" cy="33480"/>
            </a:xfrm>
            <a:custGeom>
              <a:avLst/>
              <a:gdLst/>
              <a:ahLst/>
              <a:rect l="l" t="t" r="r" b="b"/>
              <a:pathLst>
                <a:path w="185" h="30">
                  <a:moveTo>
                    <a:pt x="0" y="10"/>
                  </a:moveTo>
                  <a:lnTo>
                    <a:pt x="0" y="0"/>
                  </a:lnTo>
                  <a:lnTo>
                    <a:pt x="185" y="18"/>
                  </a:lnTo>
                  <a:lnTo>
                    <a:pt x="162" y="30"/>
                  </a:lnTo>
                  <a:lnTo>
                    <a:pt x="0" y="10"/>
                  </a:lnTo>
                  <a:close/>
                </a:path>
              </a:pathLst>
            </a:custGeom>
            <a:noFill/>
            <a:ln w="11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352600" y="3360600"/>
              <a:ext cx="1263600" cy="244440"/>
            </a:xfrm>
            <a:custGeom>
              <a:avLst/>
              <a:gdLst/>
              <a:ahLst/>
              <a:rect l="l" t="t" r="r" b="b"/>
              <a:pathLst>
                <a:path w="1359" h="239">
                  <a:moveTo>
                    <a:pt x="0" y="36"/>
                  </a:moveTo>
                  <a:lnTo>
                    <a:pt x="134" y="86"/>
                  </a:lnTo>
                  <a:lnTo>
                    <a:pt x="228" y="126"/>
                  </a:lnTo>
                  <a:lnTo>
                    <a:pt x="337" y="159"/>
                  </a:lnTo>
                  <a:lnTo>
                    <a:pt x="451" y="192"/>
                  </a:lnTo>
                  <a:lnTo>
                    <a:pt x="560" y="212"/>
                  </a:lnTo>
                  <a:lnTo>
                    <a:pt x="699" y="239"/>
                  </a:lnTo>
                  <a:lnTo>
                    <a:pt x="883" y="190"/>
                  </a:lnTo>
                  <a:lnTo>
                    <a:pt x="1012" y="146"/>
                  </a:lnTo>
                  <a:lnTo>
                    <a:pt x="1174" y="90"/>
                  </a:lnTo>
                  <a:lnTo>
                    <a:pt x="1258" y="51"/>
                  </a:lnTo>
                  <a:lnTo>
                    <a:pt x="1359" y="0"/>
                  </a:lnTo>
                </a:path>
              </a:pathLst>
            </a:custGeom>
            <a:noFill/>
            <a:ln w="0">
              <a:solidFill>
                <a:srgbClr val="000066"/>
              </a:solidFill>
              <a:prstDash val="sysDash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116160" y="2732040"/>
              <a:ext cx="33480" cy="205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1"/>
                  </a:moveTo>
                  <a:lnTo>
                    <a:pt x="13" y="0"/>
                  </a:lnTo>
                  <a:lnTo>
                    <a:pt x="35" y="20"/>
                  </a:lnTo>
                  <a:lnTo>
                    <a:pt x="0" y="21"/>
                  </a:lnTo>
                  <a:close/>
                </a:path>
              </a:pathLst>
            </a:custGeom>
            <a:noFill/>
            <a:ln w="11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881440" y="2730600"/>
              <a:ext cx="31680" cy="237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5" y="24"/>
                  </a:moveTo>
                  <a:lnTo>
                    <a:pt x="26" y="0"/>
                  </a:lnTo>
                  <a:lnTo>
                    <a:pt x="0" y="19"/>
                  </a:lnTo>
                  <a:lnTo>
                    <a:pt x="35" y="24"/>
                  </a:lnTo>
                  <a:close/>
                </a:path>
              </a:pathLst>
            </a:custGeom>
            <a:noFill/>
            <a:ln w="11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937240" y="2684520"/>
              <a:ext cx="185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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884320" y="3490920"/>
              <a:ext cx="249480" cy="1936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6613560" y="2453760"/>
            <a:ext cx="2305800" cy="1632240"/>
            <a:chOff x="6613560" y="2453760"/>
            <a:chExt cx="2305800" cy="1632240"/>
          </a:xfrm>
        </p:grpSpPr>
        <p:sp>
          <p:nvSpPr>
            <p:cNvPr id="1109" name=""/>
            <p:cNvSpPr/>
            <p:nvPr/>
          </p:nvSpPr>
          <p:spPr>
            <a:xfrm>
              <a:off x="7585200" y="2808000"/>
              <a:ext cx="582480" cy="75564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040600" y="3139920"/>
              <a:ext cx="220680" cy="21744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26" y="26"/>
                  </a:moveTo>
                  <a:lnTo>
                    <a:pt x="0" y="0"/>
                  </a:lnTo>
                  <a:lnTo>
                    <a:pt x="62" y="0"/>
                  </a:lnTo>
                  <a:lnTo>
                    <a:pt x="26" y="26"/>
                  </a:lnTo>
                  <a:close/>
                </a:path>
              </a:pathLst>
            </a:custGeom>
            <a:solidFill>
              <a:srgbClr val="000066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348040" y="304452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8557560" y="3187440"/>
              <a:ext cx="36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66"/>
                  </a:solidFill>
                  <a:latin typeface="Arial"/>
                </a:rPr>
                <a:t>j,Rd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564320" y="2550960"/>
              <a:ext cx="362160" cy="12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983640" y="2619360"/>
              <a:ext cx="1440" cy="1199880"/>
            </a:xfrm>
            <a:prstGeom prst="line">
              <a:avLst/>
            </a:prstGeom>
            <a:ln w="0">
              <a:solidFill>
                <a:srgbClr val="000066"/>
              </a:solidFill>
              <a:prstDash val="sysDash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661080" y="3219120"/>
              <a:ext cx="1249560" cy="3240"/>
            </a:xfrm>
            <a:prstGeom prst="line">
              <a:avLst/>
            </a:prstGeom>
            <a:ln w="0">
              <a:solidFill>
                <a:srgbClr val="000066"/>
              </a:solidFill>
              <a:prstDash val="sysDash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V="1">
              <a:off x="6720120" y="2453760"/>
              <a:ext cx="544320" cy="1508040"/>
            </a:xfrm>
            <a:prstGeom prst="line">
              <a:avLst/>
            </a:prstGeom>
            <a:ln w="0">
              <a:solidFill>
                <a:srgbClr val="000066"/>
              </a:solidFill>
              <a:prstDash val="sysDash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737400" y="3060360"/>
              <a:ext cx="965160" cy="613080"/>
            </a:xfrm>
            <a:prstGeom prst="line">
              <a:avLst/>
            </a:prstGeom>
            <a:ln w="0">
              <a:solidFill>
                <a:srgbClr val="000066"/>
              </a:solidFill>
              <a:prstDash val="sysDash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977160" y="2530440"/>
              <a:ext cx="363600" cy="685800"/>
            </a:xfrm>
            <a:custGeom>
              <a:avLst/>
              <a:gdLst/>
              <a:ahLst/>
              <a:rect l="l" t="t" r="r" b="b"/>
              <a:pathLst>
                <a:path w="357" h="421">
                  <a:moveTo>
                    <a:pt x="0" y="421"/>
                  </a:moveTo>
                  <a:lnTo>
                    <a:pt x="51" y="335"/>
                  </a:lnTo>
                  <a:lnTo>
                    <a:pt x="99" y="265"/>
                  </a:lnTo>
                  <a:lnTo>
                    <a:pt x="134" y="216"/>
                  </a:lnTo>
                  <a:lnTo>
                    <a:pt x="170" y="172"/>
                  </a:lnTo>
                  <a:lnTo>
                    <a:pt x="203" y="140"/>
                  </a:lnTo>
                  <a:lnTo>
                    <a:pt x="243" y="96"/>
                  </a:lnTo>
                  <a:lnTo>
                    <a:pt x="277" y="64"/>
                  </a:lnTo>
                  <a:lnTo>
                    <a:pt x="307" y="40"/>
                  </a:lnTo>
                  <a:lnTo>
                    <a:pt x="357" y="0"/>
                  </a:lnTo>
                </a:path>
              </a:pathLst>
            </a:custGeom>
            <a:noFill/>
            <a:ln w="2052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988320" y="3225600"/>
              <a:ext cx="517320" cy="623880"/>
            </a:xfrm>
            <a:custGeom>
              <a:avLst/>
              <a:gdLst/>
              <a:ahLst/>
              <a:rect l="l" t="t" r="r" b="b"/>
              <a:pathLst>
                <a:path w="509" h="382">
                  <a:moveTo>
                    <a:pt x="0" y="0"/>
                  </a:moveTo>
                  <a:lnTo>
                    <a:pt x="92" y="57"/>
                  </a:lnTo>
                  <a:lnTo>
                    <a:pt x="137" y="89"/>
                  </a:lnTo>
                  <a:lnTo>
                    <a:pt x="172" y="114"/>
                  </a:lnTo>
                  <a:lnTo>
                    <a:pt x="216" y="145"/>
                  </a:lnTo>
                  <a:lnTo>
                    <a:pt x="261" y="182"/>
                  </a:lnTo>
                  <a:lnTo>
                    <a:pt x="300" y="215"/>
                  </a:lnTo>
                  <a:lnTo>
                    <a:pt x="360" y="259"/>
                  </a:lnTo>
                  <a:lnTo>
                    <a:pt x="423" y="307"/>
                  </a:lnTo>
                  <a:lnTo>
                    <a:pt x="509" y="382"/>
                  </a:lnTo>
                </a:path>
              </a:pathLst>
            </a:custGeom>
            <a:noFill/>
            <a:ln w="2052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613560" y="3225600"/>
              <a:ext cx="361800" cy="679320"/>
            </a:xfrm>
            <a:custGeom>
              <a:avLst/>
              <a:gdLst/>
              <a:ahLst/>
              <a:rect l="l" t="t" r="r" b="b"/>
              <a:pathLst>
                <a:path w="357" h="419">
                  <a:moveTo>
                    <a:pt x="357" y="0"/>
                  </a:moveTo>
                  <a:lnTo>
                    <a:pt x="306" y="85"/>
                  </a:lnTo>
                  <a:lnTo>
                    <a:pt x="260" y="154"/>
                  </a:lnTo>
                  <a:lnTo>
                    <a:pt x="223" y="204"/>
                  </a:lnTo>
                  <a:lnTo>
                    <a:pt x="187" y="247"/>
                  </a:lnTo>
                  <a:lnTo>
                    <a:pt x="154" y="280"/>
                  </a:lnTo>
                  <a:lnTo>
                    <a:pt x="114" y="323"/>
                  </a:lnTo>
                  <a:lnTo>
                    <a:pt x="80" y="356"/>
                  </a:lnTo>
                  <a:lnTo>
                    <a:pt x="50" y="379"/>
                  </a:lnTo>
                  <a:lnTo>
                    <a:pt x="0" y="419"/>
                  </a:lnTo>
                </a:path>
              </a:pathLst>
            </a:custGeom>
            <a:noFill/>
            <a:ln w="2052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969240" y="3213000"/>
              <a:ext cx="123840" cy="10476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068960" y="3042360"/>
              <a:ext cx="671400" cy="79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2"/>
                  </a:moveTo>
                  <a:arcTo wR="10800" hR="10800" stAng="-28148" swAng="544913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2"/>
                  </a:moveTo>
                  <a:arcTo wR="10800" hR="10800" stAng="-28148" swAng="5449132"/>
                </a:path>
              </a:pathLst>
            </a:custGeom>
            <a:solidFill>
              <a:srgbClr val="ffffff"/>
            </a:solidFill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691760" y="3659040"/>
              <a:ext cx="185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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323120" y="3392280"/>
              <a:ext cx="65160" cy="49320"/>
            </a:xfrm>
            <a:custGeom>
              <a:avLst/>
              <a:gdLst/>
              <a:ahLst/>
              <a:rect l="l" t="t" r="r" b="b"/>
              <a:pathLst>
                <a:path w="62" h="30">
                  <a:moveTo>
                    <a:pt x="14" y="30"/>
                  </a:moveTo>
                  <a:lnTo>
                    <a:pt x="0" y="0"/>
                  </a:lnTo>
                  <a:lnTo>
                    <a:pt x="62" y="23"/>
                  </a:lnTo>
                  <a:lnTo>
                    <a:pt x="1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196040" y="3498840"/>
              <a:ext cx="39960" cy="64800"/>
            </a:xfrm>
            <a:custGeom>
              <a:avLst/>
              <a:gdLst/>
              <a:ahLst/>
              <a:rect l="l" t="t" r="r" b="b"/>
              <a:pathLst>
                <a:path w="39" h="40">
                  <a:moveTo>
                    <a:pt x="39" y="16"/>
                  </a:moveTo>
                  <a:lnTo>
                    <a:pt x="0" y="0"/>
                  </a:lnTo>
                  <a:lnTo>
                    <a:pt x="21" y="40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H="1">
              <a:off x="7327440" y="3830400"/>
              <a:ext cx="158760" cy="12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31680" bIns="-316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H="1" flipV="1">
              <a:off x="7721280" y="3360600"/>
              <a:ext cx="12600" cy="1396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761160" y="3138480"/>
              <a:ext cx="1040040" cy="406080"/>
            </a:xfrm>
            <a:prstGeom prst="line">
              <a:avLst/>
            </a:prstGeom>
            <a:ln w="0">
              <a:solidFill>
                <a:srgbClr val="000066"/>
              </a:solidFill>
              <a:prstDash val="sysDashDot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9BA31-230A-438C-A4D9-D8C41BE319D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9" name=""/>
          <p:cNvGrpSpPr/>
          <p:nvPr/>
        </p:nvGrpSpPr>
        <p:grpSpPr>
          <a:xfrm>
            <a:off x="2484360" y="3166920"/>
            <a:ext cx="3665520" cy="663480"/>
            <a:chOff x="2484360" y="3166920"/>
            <a:chExt cx="3665520" cy="663480"/>
          </a:xfrm>
        </p:grpSpPr>
        <p:sp>
          <p:nvSpPr>
            <p:cNvPr id="1130" name=""/>
            <p:cNvSpPr/>
            <p:nvPr/>
          </p:nvSpPr>
          <p:spPr>
            <a:xfrm>
              <a:off x="4287600" y="3508200"/>
              <a:ext cx="1452600" cy="322200"/>
            </a:xfrm>
            <a:custGeom>
              <a:avLst/>
              <a:gdLst/>
              <a:ahLst/>
              <a:rect l="l" t="t" r="r" b="b"/>
              <a:pathLst>
                <a:path w="915" h="203">
                  <a:moveTo>
                    <a:pt x="0" y="203"/>
                  </a:moveTo>
                  <a:lnTo>
                    <a:pt x="231" y="140"/>
                  </a:lnTo>
                  <a:lnTo>
                    <a:pt x="484" y="80"/>
                  </a:lnTo>
                  <a:lnTo>
                    <a:pt x="678" y="40"/>
                  </a:lnTo>
                  <a:lnTo>
                    <a:pt x="915" y="0"/>
                  </a:lnTo>
                </a:path>
              </a:pathLst>
            </a:custGeom>
            <a:noFill/>
            <a:ln w="525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187440" y="3471840"/>
              <a:ext cx="2962440" cy="2880"/>
            </a:xfrm>
            <a:prstGeom prst="line">
              <a:avLst/>
            </a:prstGeom>
            <a:ln w="0">
              <a:solidFill>
                <a:srgbClr val="000066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132" name=""/>
            <p:cNvGrpSpPr/>
            <p:nvPr/>
          </p:nvGrpSpPr>
          <p:grpSpPr>
            <a:xfrm>
              <a:off x="2484360" y="3166920"/>
              <a:ext cx="495000" cy="612720"/>
              <a:chOff x="2484360" y="3166920"/>
              <a:chExt cx="495000" cy="612720"/>
            </a:xfrm>
          </p:grpSpPr>
          <p:grpSp>
            <p:nvGrpSpPr>
              <p:cNvPr id="1133" name=""/>
              <p:cNvGrpSpPr/>
              <p:nvPr/>
            </p:nvGrpSpPr>
            <p:grpSpPr>
              <a:xfrm>
                <a:off x="2484360" y="3166920"/>
                <a:ext cx="146160" cy="612720"/>
                <a:chOff x="2484360" y="3166920"/>
                <a:chExt cx="146160" cy="612720"/>
              </a:xfrm>
            </p:grpSpPr>
            <p:sp>
              <p:nvSpPr>
                <p:cNvPr id="1134" name=""/>
                <p:cNvSpPr/>
                <p:nvPr/>
              </p:nvSpPr>
              <p:spPr>
                <a:xfrm>
                  <a:off x="2484360" y="3166920"/>
                  <a:ext cx="1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2628720" y="3475080"/>
                  <a:ext cx="180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6" name=""/>
              <p:cNvSpPr/>
              <p:nvPr/>
            </p:nvSpPr>
            <p:spPr>
              <a:xfrm flipH="1">
                <a:off x="2969640" y="3333600"/>
                <a:ext cx="972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137" name=""/>
          <p:cNvSpPr/>
          <p:nvPr/>
        </p:nvSpPr>
        <p:spPr>
          <a:xfrm>
            <a:off x="5505480" y="3487680"/>
            <a:ext cx="138240" cy="149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6242040" y="3502080"/>
            <a:ext cx="857160" cy="253800"/>
          </a:xfrm>
          <a:custGeom>
            <a:avLst/>
            <a:gdLst/>
            <a:ahLst/>
            <a:rect l="l" t="t" r="r" b="b"/>
            <a:pathLst>
              <a:path w="540" h="160">
                <a:moveTo>
                  <a:pt x="0" y="0"/>
                </a:moveTo>
                <a:lnTo>
                  <a:pt x="78" y="21"/>
                </a:lnTo>
                <a:lnTo>
                  <a:pt x="147" y="50"/>
                </a:lnTo>
                <a:lnTo>
                  <a:pt x="215" y="70"/>
                </a:lnTo>
                <a:lnTo>
                  <a:pt x="290" y="94"/>
                </a:lnTo>
                <a:lnTo>
                  <a:pt x="372" y="114"/>
                </a:lnTo>
                <a:lnTo>
                  <a:pt x="446" y="134"/>
                </a:lnTo>
                <a:lnTo>
                  <a:pt x="540" y="160"/>
                </a:lnTo>
              </a:path>
            </a:pathLst>
          </a:custGeom>
          <a:noFill/>
          <a:ln w="525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39" name=""/>
          <p:cNvGrpSpPr/>
          <p:nvPr/>
        </p:nvGrpSpPr>
        <p:grpSpPr>
          <a:xfrm>
            <a:off x="3265560" y="2622240"/>
            <a:ext cx="3714480" cy="919080"/>
            <a:chOff x="3265560" y="2622240"/>
            <a:chExt cx="3714480" cy="919080"/>
          </a:xfrm>
        </p:grpSpPr>
        <p:sp>
          <p:nvSpPr>
            <p:cNvPr id="1140" name=""/>
            <p:cNvSpPr/>
            <p:nvPr/>
          </p:nvSpPr>
          <p:spPr>
            <a:xfrm>
              <a:off x="3265560" y="3402000"/>
              <a:ext cx="3714480" cy="1080"/>
            </a:xfrm>
            <a:prstGeom prst="line">
              <a:avLst/>
            </a:prstGeom>
            <a:ln w="0">
              <a:solidFill>
                <a:srgbClr val="000066"/>
              </a:solidFill>
              <a:prstDash val="sysDashDot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657760" y="3484440"/>
              <a:ext cx="514440" cy="56880"/>
            </a:xfrm>
            <a:custGeom>
              <a:avLst/>
              <a:gdLst/>
              <a:ahLst/>
              <a:rect l="l" t="t" r="r" b="b"/>
              <a:pathLst>
                <a:path w="324" h="36">
                  <a:moveTo>
                    <a:pt x="0" y="36"/>
                  </a:moveTo>
                  <a:lnTo>
                    <a:pt x="162" y="10"/>
                  </a:lnTo>
                  <a:lnTo>
                    <a:pt x="324" y="0"/>
                  </a:lnTo>
                </a:path>
              </a:pathLst>
            </a:custGeom>
            <a:noFill/>
            <a:ln w="525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V="1">
              <a:off x="6072120" y="2622240"/>
              <a:ext cx="328680" cy="7714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143" name=""/>
          <p:cNvSpPr/>
          <p:nvPr/>
        </p:nvSpPr>
        <p:spPr>
          <a:xfrm>
            <a:off x="108000" y="5516640"/>
            <a:ext cx="903600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Elastic-perfectly plastic analysi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79280" y="2174400"/>
            <a:ext cx="2664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2nd-order analysis usually us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oad applied in increm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eterioration” of frame stability as plastic hinges for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2520000" y="1471680"/>
            <a:ext cx="5484600" cy="5272560"/>
            <a:chOff x="2520000" y="1471680"/>
            <a:chExt cx="5484600" cy="5272560"/>
          </a:xfrm>
        </p:grpSpPr>
        <p:sp>
          <p:nvSpPr>
            <p:cNvPr id="1147" name=""/>
            <p:cNvSpPr/>
            <p:nvPr/>
          </p:nvSpPr>
          <p:spPr>
            <a:xfrm>
              <a:off x="2520000" y="1471680"/>
              <a:ext cx="1798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Arial"/>
                </a:rPr>
                <a:t>Load parameter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148" name=""/>
            <p:cNvGrpSpPr/>
            <p:nvPr/>
          </p:nvGrpSpPr>
          <p:grpSpPr>
            <a:xfrm>
              <a:off x="3208320" y="1763640"/>
              <a:ext cx="4651200" cy="4673520"/>
              <a:chOff x="3208320" y="1763640"/>
              <a:chExt cx="4651200" cy="4673520"/>
            </a:xfrm>
          </p:grpSpPr>
          <p:sp>
            <p:nvSpPr>
              <p:cNvPr id="1149" name=""/>
              <p:cNvSpPr/>
              <p:nvPr/>
            </p:nvSpPr>
            <p:spPr>
              <a:xfrm>
                <a:off x="3257280" y="1812960"/>
                <a:ext cx="1800" cy="458136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257280" y="6389640"/>
                <a:ext cx="4546800" cy="14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208320" y="1763640"/>
                <a:ext cx="93600" cy="88920"/>
              </a:xfrm>
              <a:custGeom>
                <a:avLst/>
                <a:gdLst/>
                <a:ahLst/>
                <a:rect l="l" t="t" r="r" b="b"/>
                <a:pathLst>
                  <a:path w="59" h="56">
                    <a:moveTo>
                      <a:pt x="31" y="0"/>
                    </a:moveTo>
                    <a:lnTo>
                      <a:pt x="0" y="56"/>
                    </a:lnTo>
                    <a:lnTo>
                      <a:pt x="59" y="56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66"/>
              </a:solidFill>
              <a:ln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810200" y="6332400"/>
                <a:ext cx="49320" cy="104760"/>
              </a:xfrm>
              <a:custGeom>
                <a:avLst/>
                <a:gdLst/>
                <a:ahLst/>
                <a:rect l="l" t="t" r="r" b="b"/>
                <a:pathLst>
                  <a:path w="31" h="66">
                    <a:moveTo>
                      <a:pt x="0" y="0"/>
                    </a:moveTo>
                    <a:lnTo>
                      <a:pt x="0" y="66"/>
                    </a:lnTo>
                    <a:lnTo>
                      <a:pt x="31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66"/>
              </a:solidFill>
              <a:ln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153" name=""/>
            <p:cNvSpPr/>
            <p:nvPr/>
          </p:nvSpPr>
          <p:spPr>
            <a:xfrm>
              <a:off x="5228640" y="6438960"/>
              <a:ext cx="2775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Arial"/>
                </a:rPr>
                <a:t>Displacement parameter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3906360" y="4188960"/>
            <a:ext cx="1724040" cy="1229400"/>
            <a:chOff x="3906360" y="4188960"/>
            <a:chExt cx="1724040" cy="1229400"/>
          </a:xfrm>
        </p:grpSpPr>
        <p:sp>
          <p:nvSpPr>
            <p:cNvPr id="1155" name=""/>
            <p:cNvSpPr/>
            <p:nvPr/>
          </p:nvSpPr>
          <p:spPr>
            <a:xfrm flipH="1" flipV="1">
              <a:off x="3906360" y="4188960"/>
              <a:ext cx="1028520" cy="971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637520" y="5113080"/>
              <a:ext cx="992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Arial"/>
                </a:rPr>
                <a:t>branch 2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157" name=""/>
          <p:cNvSpPr/>
          <p:nvPr/>
        </p:nvSpPr>
        <p:spPr>
          <a:xfrm>
            <a:off x="4148280" y="3782880"/>
            <a:ext cx="137880" cy="14760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3489480" y="4516560"/>
            <a:ext cx="90360" cy="11736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3267000" y="1724040"/>
            <a:ext cx="5349960" cy="4668840"/>
            <a:chOff x="3267000" y="1724040"/>
            <a:chExt cx="5349960" cy="4668840"/>
          </a:xfrm>
        </p:grpSpPr>
        <p:sp>
          <p:nvSpPr>
            <p:cNvPr id="1160" name=""/>
            <p:cNvSpPr/>
            <p:nvPr/>
          </p:nvSpPr>
          <p:spPr>
            <a:xfrm>
              <a:off x="3267000" y="2495880"/>
              <a:ext cx="3673440" cy="1440"/>
            </a:xfrm>
            <a:prstGeom prst="line">
              <a:avLst/>
            </a:prstGeom>
            <a:ln w="0">
              <a:solidFill>
                <a:srgbClr val="99cc00"/>
              </a:solidFill>
              <a:prstDash val="sysDashDot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524040" y="2522880"/>
              <a:ext cx="2243160" cy="2049480"/>
            </a:xfrm>
            <a:custGeom>
              <a:avLst/>
              <a:gdLst/>
              <a:ahLst/>
              <a:rect l="l" t="t" r="r" b="b"/>
              <a:pathLst>
                <a:path w="1413" h="1291">
                  <a:moveTo>
                    <a:pt x="0" y="1291"/>
                  </a:moveTo>
                  <a:lnTo>
                    <a:pt x="38" y="1092"/>
                  </a:lnTo>
                  <a:lnTo>
                    <a:pt x="75" y="969"/>
                  </a:lnTo>
                  <a:lnTo>
                    <a:pt x="119" y="835"/>
                  </a:lnTo>
                  <a:lnTo>
                    <a:pt x="169" y="717"/>
                  </a:lnTo>
                  <a:lnTo>
                    <a:pt x="219" y="618"/>
                  </a:lnTo>
                  <a:lnTo>
                    <a:pt x="271" y="541"/>
                  </a:lnTo>
                  <a:lnTo>
                    <a:pt x="327" y="458"/>
                  </a:lnTo>
                  <a:lnTo>
                    <a:pt x="383" y="380"/>
                  </a:lnTo>
                  <a:lnTo>
                    <a:pt x="438" y="315"/>
                  </a:lnTo>
                  <a:lnTo>
                    <a:pt x="502" y="262"/>
                  </a:lnTo>
                  <a:lnTo>
                    <a:pt x="578" y="205"/>
                  </a:lnTo>
                  <a:lnTo>
                    <a:pt x="653" y="163"/>
                  </a:lnTo>
                  <a:lnTo>
                    <a:pt x="715" y="129"/>
                  </a:lnTo>
                  <a:lnTo>
                    <a:pt x="790" y="96"/>
                  </a:lnTo>
                  <a:lnTo>
                    <a:pt x="896" y="56"/>
                  </a:lnTo>
                  <a:lnTo>
                    <a:pt x="991" y="36"/>
                  </a:lnTo>
                  <a:lnTo>
                    <a:pt x="1084" y="16"/>
                  </a:lnTo>
                  <a:lnTo>
                    <a:pt x="1229" y="2"/>
                  </a:lnTo>
                  <a:lnTo>
                    <a:pt x="1413" y="0"/>
                  </a:lnTo>
                </a:path>
              </a:pathLst>
            </a:custGeom>
            <a:noFill/>
            <a:ln w="6480">
              <a:solidFill>
                <a:srgbClr val="99cc00"/>
              </a:solidFill>
              <a:prstDash val="sys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547440" y="4669200"/>
              <a:ext cx="1033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cc00"/>
                  </a:solidFill>
                  <a:latin typeface="Arial"/>
                </a:rPr>
                <a:t>1st hinge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333400" y="1724040"/>
              <a:ext cx="3283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Arial"/>
                </a:rPr>
                <a:t>elastic buckling load of frame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267000" y="4538880"/>
              <a:ext cx="252360" cy="1854000"/>
            </a:xfrm>
            <a:custGeom>
              <a:avLst/>
              <a:gdLst/>
              <a:ahLst/>
              <a:rect l="l" t="t" r="r" b="b"/>
              <a:pathLst>
                <a:path w="159" h="1168">
                  <a:moveTo>
                    <a:pt x="0" y="1168"/>
                  </a:moveTo>
                  <a:lnTo>
                    <a:pt x="66" y="631"/>
                  </a:lnTo>
                  <a:lnTo>
                    <a:pt x="100" y="352"/>
                  </a:lnTo>
                  <a:lnTo>
                    <a:pt x="159" y="0"/>
                  </a:lnTo>
                </a:path>
              </a:pathLst>
            </a:custGeom>
            <a:noFill/>
            <a:ln w="525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992560" y="2075040"/>
              <a:ext cx="324000" cy="423720"/>
            </a:xfrm>
            <a:custGeom>
              <a:avLst/>
              <a:gdLst/>
              <a:ahLst/>
              <a:rect l="l" t="t" r="r" b="b"/>
              <a:pathLst>
                <a:path w="204" h="276">
                  <a:moveTo>
                    <a:pt x="0" y="276"/>
                  </a:moveTo>
                  <a:lnTo>
                    <a:pt x="204" y="0"/>
                  </a:lnTo>
                </a:path>
              </a:pathLst>
            </a:custGeom>
            <a:noFill/>
            <a:ln w="12600">
              <a:solidFill>
                <a:srgbClr val="99cc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166" name=""/>
          <p:cNvSpPr/>
          <p:nvPr/>
        </p:nvSpPr>
        <p:spPr>
          <a:xfrm>
            <a:off x="6383160" y="2622600"/>
            <a:ext cx="233640" cy="1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2840" bIns="-4284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6359400" y="2627280"/>
            <a:ext cx="233640" cy="180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2480" bIns="-4248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68" name=""/>
          <p:cNvGrpSpPr/>
          <p:nvPr/>
        </p:nvGrpSpPr>
        <p:grpSpPr>
          <a:xfrm>
            <a:off x="3257640" y="2508120"/>
            <a:ext cx="5724000" cy="2128680"/>
            <a:chOff x="3257640" y="2508120"/>
            <a:chExt cx="5724000" cy="2128680"/>
          </a:xfrm>
        </p:grpSpPr>
        <p:grpSp>
          <p:nvGrpSpPr>
            <p:cNvPr id="1169" name=""/>
            <p:cNvGrpSpPr/>
            <p:nvPr/>
          </p:nvGrpSpPr>
          <p:grpSpPr>
            <a:xfrm>
              <a:off x="3257640" y="2508120"/>
              <a:ext cx="5724000" cy="2066760"/>
              <a:chOff x="3257640" y="2508120"/>
              <a:chExt cx="5724000" cy="2066760"/>
            </a:xfrm>
          </p:grpSpPr>
          <p:sp>
            <p:nvSpPr>
              <p:cNvPr id="1170" name=""/>
              <p:cNvSpPr/>
              <p:nvPr/>
            </p:nvSpPr>
            <p:spPr>
              <a:xfrm>
                <a:off x="3257640" y="3106440"/>
                <a:ext cx="3686040" cy="1800"/>
              </a:xfrm>
              <a:prstGeom prst="line">
                <a:avLst/>
              </a:prstGeom>
              <a:ln w="0">
                <a:solidFill>
                  <a:srgbClr val="009999"/>
                </a:solidFill>
                <a:prstDash val="sysDashDot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4203720" y="3127320"/>
                <a:ext cx="1602720" cy="698400"/>
              </a:xfrm>
              <a:custGeom>
                <a:avLst/>
                <a:gdLst/>
                <a:ahLst/>
                <a:rect l="l" t="t" r="r" b="b"/>
                <a:pathLst>
                  <a:path w="1010" h="440">
                    <a:moveTo>
                      <a:pt x="0" y="440"/>
                    </a:moveTo>
                    <a:lnTo>
                      <a:pt x="75" y="362"/>
                    </a:lnTo>
                    <a:lnTo>
                      <a:pt x="144" y="294"/>
                    </a:lnTo>
                    <a:lnTo>
                      <a:pt x="201" y="240"/>
                    </a:lnTo>
                    <a:lnTo>
                      <a:pt x="245" y="205"/>
                    </a:lnTo>
                    <a:lnTo>
                      <a:pt x="286" y="168"/>
                    </a:lnTo>
                    <a:lnTo>
                      <a:pt x="340" y="131"/>
                    </a:lnTo>
                    <a:lnTo>
                      <a:pt x="378" y="103"/>
                    </a:lnTo>
                    <a:lnTo>
                      <a:pt x="406" y="83"/>
                    </a:lnTo>
                    <a:lnTo>
                      <a:pt x="450" y="64"/>
                    </a:lnTo>
                    <a:lnTo>
                      <a:pt x="478" y="55"/>
                    </a:lnTo>
                    <a:lnTo>
                      <a:pt x="531" y="35"/>
                    </a:lnTo>
                    <a:lnTo>
                      <a:pt x="586" y="21"/>
                    </a:lnTo>
                    <a:lnTo>
                      <a:pt x="639" y="15"/>
                    </a:lnTo>
                    <a:lnTo>
                      <a:pt x="699" y="6"/>
                    </a:lnTo>
                    <a:lnTo>
                      <a:pt x="758" y="1"/>
                    </a:lnTo>
                    <a:lnTo>
                      <a:pt x="828" y="0"/>
                    </a:lnTo>
                    <a:lnTo>
                      <a:pt x="893" y="0"/>
                    </a:lnTo>
                    <a:lnTo>
                      <a:pt x="1010" y="0"/>
                    </a:lnTo>
                  </a:path>
                </a:pathLst>
              </a:custGeom>
              <a:noFill/>
              <a:ln w="6480">
                <a:solidFill>
                  <a:srgbClr val="009999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4122360" y="3973320"/>
                <a:ext cx="1119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9999"/>
                    </a:solidFill>
                    <a:latin typeface="Arial"/>
                  </a:rPr>
                  <a:t>2nd hinge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6701040" y="2508120"/>
                <a:ext cx="2280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66"/>
                    </a:solidFill>
                    <a:latin typeface="Arial"/>
                  </a:rPr>
                  <a:t>elastic buckling load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3554280" y="3895560"/>
                <a:ext cx="588600" cy="679320"/>
              </a:xfrm>
              <a:custGeom>
                <a:avLst/>
                <a:gdLst/>
                <a:ahLst/>
                <a:rect l="l" t="t" r="r" b="b"/>
                <a:pathLst>
                  <a:path w="371" h="428">
                    <a:moveTo>
                      <a:pt x="371" y="0"/>
                    </a:moveTo>
                    <a:lnTo>
                      <a:pt x="259" y="113"/>
                    </a:lnTo>
                    <a:lnTo>
                      <a:pt x="137" y="252"/>
                    </a:lnTo>
                    <a:lnTo>
                      <a:pt x="0" y="428"/>
                    </a:lnTo>
                  </a:path>
                </a:pathLst>
              </a:custGeom>
              <a:noFill/>
              <a:ln w="5256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412680" y="2793960"/>
                <a:ext cx="2363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66"/>
                    </a:solidFill>
                    <a:latin typeface="Arial"/>
                  </a:rPr>
                  <a:t>of deteriorated frame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V="1">
                <a:off x="5840280" y="2617560"/>
                <a:ext cx="528120" cy="48600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177" name=""/>
            <p:cNvSpPr/>
            <p:nvPr/>
          </p:nvSpPr>
          <p:spPr>
            <a:xfrm>
              <a:off x="3474720" y="4487760"/>
              <a:ext cx="137880" cy="149040"/>
            </a:xfrm>
            <a:prstGeom prst="ellipse">
              <a:avLst/>
            </a:prstGeom>
            <a:solidFill>
              <a:srgbClr val="000066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3392280" y="5524560"/>
            <a:ext cx="1577880" cy="305280"/>
            <a:chOff x="3392280" y="5524560"/>
            <a:chExt cx="1577880" cy="305280"/>
          </a:xfrm>
        </p:grpSpPr>
        <p:sp>
          <p:nvSpPr>
            <p:cNvPr id="1179" name=""/>
            <p:cNvSpPr/>
            <p:nvPr/>
          </p:nvSpPr>
          <p:spPr>
            <a:xfrm>
              <a:off x="3977280" y="5524560"/>
              <a:ext cx="992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Arial"/>
                </a:rPr>
                <a:t>branch 1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>
              <a:off x="3392280" y="5685120"/>
              <a:ext cx="5238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5230440" y="3674880"/>
            <a:ext cx="1077480" cy="1491120"/>
            <a:chOff x="5230440" y="3674880"/>
            <a:chExt cx="1077480" cy="1491120"/>
          </a:xfrm>
        </p:grpSpPr>
        <p:sp>
          <p:nvSpPr>
            <p:cNvPr id="1182" name=""/>
            <p:cNvSpPr/>
            <p:nvPr/>
          </p:nvSpPr>
          <p:spPr>
            <a:xfrm>
              <a:off x="5315040" y="4860720"/>
              <a:ext cx="992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Arial"/>
                </a:rPr>
                <a:t>branch 3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 flipV="1">
              <a:off x="5230440" y="3674880"/>
              <a:ext cx="399960" cy="12380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84" name=""/>
          <p:cNvGrpSpPr/>
          <p:nvPr/>
        </p:nvGrpSpPr>
        <p:grpSpPr>
          <a:xfrm>
            <a:off x="5831640" y="3569760"/>
            <a:ext cx="992880" cy="1353240"/>
            <a:chOff x="5831640" y="3569760"/>
            <a:chExt cx="992880" cy="1353240"/>
          </a:xfrm>
        </p:grpSpPr>
        <p:sp>
          <p:nvSpPr>
            <p:cNvPr id="1185" name=""/>
            <p:cNvSpPr/>
            <p:nvPr/>
          </p:nvSpPr>
          <p:spPr>
            <a:xfrm>
              <a:off x="5831640" y="4617720"/>
              <a:ext cx="992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Arial"/>
                </a:rPr>
                <a:t>branch 4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H="1" flipV="1">
              <a:off x="5897160" y="3569760"/>
              <a:ext cx="47880" cy="10191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6163200" y="3588840"/>
            <a:ext cx="1725840" cy="737280"/>
            <a:chOff x="6163200" y="3588840"/>
            <a:chExt cx="1725840" cy="737280"/>
          </a:xfrm>
        </p:grpSpPr>
        <p:sp>
          <p:nvSpPr>
            <p:cNvPr id="1188" name=""/>
            <p:cNvSpPr/>
            <p:nvPr/>
          </p:nvSpPr>
          <p:spPr>
            <a:xfrm>
              <a:off x="6163200" y="4020840"/>
              <a:ext cx="1725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Arial"/>
                </a:rPr>
                <a:t>maximum load 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6202080" y="3588840"/>
              <a:ext cx="0" cy="4762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190" name=""/>
          <p:cNvSpPr/>
          <p:nvPr/>
        </p:nvSpPr>
        <p:spPr>
          <a:xfrm>
            <a:off x="6118200" y="3435480"/>
            <a:ext cx="138240" cy="147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7380B-DDFC-4322-8EB5-65B9C0CB441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Modelling of frames for analysi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raming and joint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ntinuous framing: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rigid joi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emi-continuous framing: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semi-rigid joi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imple framing: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pinned joi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732720" y="4365720"/>
            <a:ext cx="1050840" cy="1395360"/>
            <a:chOff x="6732720" y="4365720"/>
            <a:chExt cx="1050840" cy="1395360"/>
          </a:xfrm>
        </p:grpSpPr>
        <p:grpSp>
          <p:nvGrpSpPr>
            <p:cNvPr id="151" name=""/>
            <p:cNvGrpSpPr/>
            <p:nvPr/>
          </p:nvGrpSpPr>
          <p:grpSpPr>
            <a:xfrm>
              <a:off x="6732720" y="4365720"/>
              <a:ext cx="1050840" cy="1395360"/>
              <a:chOff x="6732720" y="4365720"/>
              <a:chExt cx="1050840" cy="1395360"/>
            </a:xfrm>
          </p:grpSpPr>
          <p:sp>
            <p:nvSpPr>
              <p:cNvPr id="152" name=""/>
              <p:cNvSpPr/>
              <p:nvPr/>
            </p:nvSpPr>
            <p:spPr>
              <a:xfrm>
                <a:off x="6732720" y="4365720"/>
                <a:ext cx="0" cy="1395360"/>
              </a:xfrm>
              <a:prstGeom prst="line">
                <a:avLst/>
              </a:prstGeom>
              <a:ln w="316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897960" y="5070240"/>
                <a:ext cx="885600" cy="0"/>
              </a:xfrm>
              <a:prstGeom prst="line">
                <a:avLst/>
              </a:prstGeom>
              <a:ln w="316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6734160" y="4984920"/>
              <a:ext cx="179280" cy="164880"/>
            </a:xfrm>
            <a:prstGeom prst="ellipse">
              <a:avLst/>
            </a:prstGeom>
            <a:noFill/>
            <a:ln w="316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427640" y="4365720"/>
            <a:ext cx="1050840" cy="1395360"/>
            <a:chOff x="4427640" y="4365720"/>
            <a:chExt cx="1050840" cy="1395360"/>
          </a:xfrm>
        </p:grpSpPr>
        <p:grpSp>
          <p:nvGrpSpPr>
            <p:cNvPr id="156" name=""/>
            <p:cNvGrpSpPr/>
            <p:nvPr/>
          </p:nvGrpSpPr>
          <p:grpSpPr>
            <a:xfrm>
              <a:off x="4427640" y="4365720"/>
              <a:ext cx="1050840" cy="1395360"/>
              <a:chOff x="4427640" y="4365720"/>
              <a:chExt cx="1050840" cy="1395360"/>
            </a:xfrm>
          </p:grpSpPr>
          <p:sp>
            <p:nvSpPr>
              <p:cNvPr id="157" name=""/>
              <p:cNvSpPr/>
              <p:nvPr/>
            </p:nvSpPr>
            <p:spPr>
              <a:xfrm>
                <a:off x="4427640" y="4365720"/>
                <a:ext cx="0" cy="1395360"/>
              </a:xfrm>
              <a:prstGeom prst="line">
                <a:avLst/>
              </a:prstGeom>
              <a:ln w="316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592880" y="5070240"/>
                <a:ext cx="885600" cy="0"/>
              </a:xfrm>
              <a:prstGeom prst="line">
                <a:avLst/>
              </a:prstGeom>
              <a:ln w="316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4429080" y="4989600"/>
              <a:ext cx="179640" cy="164880"/>
            </a:xfrm>
            <a:prstGeom prst="ellipse">
              <a:avLst/>
            </a:prstGeom>
            <a:noFill/>
            <a:ln w="316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59320" y="5010120"/>
              <a:ext cx="120600" cy="128520"/>
            </a:xfrm>
            <a:prstGeom prst="line">
              <a:avLst/>
            </a:prstGeom>
            <a:ln w="316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4449960" y="5019480"/>
              <a:ext cx="139680" cy="108000"/>
            </a:xfrm>
            <a:prstGeom prst="line">
              <a:avLst/>
            </a:prstGeom>
            <a:ln w="316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1706400" y="4365720"/>
            <a:ext cx="1052640" cy="1395360"/>
            <a:chOff x="1706400" y="4365720"/>
            <a:chExt cx="1052640" cy="1395360"/>
          </a:xfrm>
        </p:grpSpPr>
        <p:grpSp>
          <p:nvGrpSpPr>
            <p:cNvPr id="163" name=""/>
            <p:cNvGrpSpPr/>
            <p:nvPr/>
          </p:nvGrpSpPr>
          <p:grpSpPr>
            <a:xfrm>
              <a:off x="1708200" y="4365720"/>
              <a:ext cx="1050840" cy="1395360"/>
              <a:chOff x="1708200" y="4365720"/>
              <a:chExt cx="1050840" cy="1395360"/>
            </a:xfrm>
          </p:grpSpPr>
          <p:sp>
            <p:nvSpPr>
              <p:cNvPr id="164" name=""/>
              <p:cNvSpPr/>
              <p:nvPr/>
            </p:nvSpPr>
            <p:spPr>
              <a:xfrm>
                <a:off x="1708200" y="4365720"/>
                <a:ext cx="0" cy="1395360"/>
              </a:xfrm>
              <a:prstGeom prst="line">
                <a:avLst/>
              </a:prstGeom>
              <a:ln w="316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873440" y="5070240"/>
                <a:ext cx="885600" cy="0"/>
              </a:xfrm>
              <a:prstGeom prst="line">
                <a:avLst/>
              </a:prstGeom>
              <a:ln w="316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1706400" y="4923000"/>
              <a:ext cx="181080" cy="303120"/>
            </a:xfrm>
            <a:custGeom>
              <a:avLst/>
              <a:gdLst/>
              <a:ahLst/>
              <a:rect l="l" t="t" r="r" b="b"/>
              <a:pathLst>
                <a:path w="114" h="191">
                  <a:moveTo>
                    <a:pt x="114" y="94"/>
                  </a:moveTo>
                  <a:lnTo>
                    <a:pt x="0" y="0"/>
                  </a:lnTo>
                  <a:lnTo>
                    <a:pt x="1" y="191"/>
                  </a:lnTo>
                  <a:lnTo>
                    <a:pt x="114" y="94"/>
                  </a:lnTo>
                  <a:close/>
                </a:path>
              </a:pathLst>
            </a:custGeom>
            <a:solidFill>
              <a:srgbClr val="000066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1BA40-2C31-4A45-88C3-1667FF4733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Modelling of frames for analysi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main approaches are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Traditional approach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in which the joints are considered as (nominally) pinned or rigi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Semi-rigid approach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in which a more realistic model representing the joint behaviour is used. It is usually introduced as a spiral spring at the extremity of the member it attaches (usually the beam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5D42A-6630-465D-B9BB-BB3BD5577B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Modelling of joints for analysi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11280" y="1484280"/>
          <a:ext cx="7921440" cy="45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84280"/>
                    <a:ext cx="79214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DAAC0-9F73-4DC0-B548-C7C07F8B3E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7280" y="274680"/>
            <a:ext cx="74170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Modelling of lattice girders for analysi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Girder component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or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ra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Joi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51640" y="2852640"/>
            <a:ext cx="796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ra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266720" y="4687920"/>
            <a:ext cx="406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68960" y="4687920"/>
            <a:ext cx="1015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25120" y="2997360"/>
            <a:ext cx="829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or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25080" y="2421000"/>
            <a:ext cx="64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Joi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6000" y="3595680"/>
            <a:ext cx="404640" cy="409680"/>
          </a:xfrm>
          <a:prstGeom prst="ellipse">
            <a:avLst/>
          </a:prstGeom>
          <a:solidFill>
            <a:srgbClr val="ffffff"/>
          </a:solidFill>
          <a:ln w="176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16720" y="3357720"/>
            <a:ext cx="417600" cy="84456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00720" y="3284640"/>
            <a:ext cx="287280" cy="43164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7667280" y="2924280"/>
            <a:ext cx="360360" cy="5760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276720" y="3789360"/>
            <a:ext cx="5187600" cy="1674000"/>
            <a:chOff x="3276720" y="3789360"/>
            <a:chExt cx="5187600" cy="1674000"/>
          </a:xfrm>
        </p:grpSpPr>
        <p:sp>
          <p:nvSpPr>
            <p:cNvPr id="184" name=""/>
            <p:cNvSpPr/>
            <p:nvPr/>
          </p:nvSpPr>
          <p:spPr>
            <a:xfrm>
              <a:off x="3276720" y="3789360"/>
              <a:ext cx="5187600" cy="4680"/>
            </a:xfrm>
            <a:custGeom>
              <a:avLst/>
              <a:gdLst/>
              <a:ahLst/>
              <a:rect l="l" t="t" r="r" b="b"/>
              <a:pathLst>
                <a:path w="2703" h="2">
                  <a:moveTo>
                    <a:pt x="0" y="0"/>
                  </a:moveTo>
                  <a:lnTo>
                    <a:pt x="2703" y="2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82120" y="5459040"/>
              <a:ext cx="518220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00600" y="3791160"/>
              <a:ext cx="0" cy="16675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700600" y="3791160"/>
              <a:ext cx="1726920" cy="16675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7427880" y="3791160"/>
              <a:ext cx="0" cy="16675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flipV="1">
              <a:off x="3973320" y="3791160"/>
              <a:ext cx="1727280" cy="16675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3973320" y="3795840"/>
              <a:ext cx="1440" cy="16675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10973-D964-4FB3-B5BE-17A82FA8F3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47280" y="274680"/>
            <a:ext cx="74170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Modelling of lattice girders for analysi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8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raming and joint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8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8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imple framing: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inned joi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8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8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s usually assumed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n the analysi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even if the chord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embers are physically continuou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8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8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econdary moments caused by rotational stiffness of the joi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8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y are neglected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n the design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of joints and members if some geometry conditions specified in Part 1-8 and Lecture 4 are satisfied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2BDE4-4318-4EEB-98BF-32A5FCD699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47280" y="274680"/>
            <a:ext cx="74170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Modelling of lattice girders for analysi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99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8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oments resulting from transverse loads applied between panel points should be taken in the design of the members</a:t>
            </a: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fr-FR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349"/>
              </a:spcBef>
              <a:buNone/>
              <a:tabLst>
                <a:tab algn="l" pos="98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8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f the above-mentioned geometry conditions are satisfied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8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Brace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may be considered as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pin-connected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to the chor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8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Chord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may be considered as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continuous beam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, with simple support at panel joints.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EEC07-404C-4162-BFF3-5EC19FF0B2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1:13:39Z</dcterms:created>
  <dc:creator>Klaus Weynand</dc:creator>
  <dc:description/>
  <dc:language>en-US</dc:language>
  <cp:lastModifiedBy>Klaus Weynand</cp:lastModifiedBy>
  <dcterms:modified xsi:type="dcterms:W3CDTF">2009-02-11T09:48:24Z</dcterms:modified>
  <cp:revision>30</cp:revision>
  <dc:subject/>
  <dc:title>asdasdsdsda</dc:title>
</cp:coreProperties>
</file>