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9675-09C8-49A2-BC13-BFF70E9C9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8E12-133C-495F-BFEB-3F5879C97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A913-2DBB-4E06-88C7-0A7822BB3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BF7F-96DE-4ECA-935E-1E84BE356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B1A0-55B4-4B10-9D9C-247749FBC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D304-F6C5-43BC-A81F-D56CDAE60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401D-97CB-4DEB-8F6D-5ED94ED90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B910-CC12-4BD9-B52B-60215C8C8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A1C2-D1BB-48C1-A6EA-943290534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69C8-6AEB-4247-A61B-092D06B03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9E4A-9826-442F-809E-FF4EA50EC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B29A-E916-46B7-A0EA-7955F07D8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3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troduction to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72AB-2A93-41C4-9B1E-2A02E895BC27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 to the new Euroc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roduction to Eurocode 3 Part 1-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aterial propertie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 all structural steel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 = 210 000 N/mm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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 0,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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 12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-6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1/°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terial requirements for ductility (global plastic analysis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eral guidance on material requirements fo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cture tough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rough-thickness properti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9118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See details i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EC3 Part 1-1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6AEB-72F3-4883-B8C5-19BF2F2BB1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lobal structural analysi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hod should be consistent with design assump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ossible need for consideration of joint behaviour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Joint modelling for global analys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ypes of global analysi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lastic analysi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: only stiffness of members and (possibly joints) are concern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lastic analysi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both stiffness, strength and ductility of member sections and (possibly) joints are concern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51AE-610D-424A-BBB9-8D7E60974A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lobal structural analysi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curacy of global analysi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irst ord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: equilibrium in non deformed geometr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count for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second order effect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econd order analysi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: iterative process with equilibrium in deformed geometry 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no more application of principle of superposi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Corrections for second order effects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uperimposed to results of first order analysis 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still application of principle of superposi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riter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for required consideration of second order effec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136E-ED0B-4986-ACE9-0B5CC17017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lobal structural analysi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count of imperfections for global analysi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rame (global) imperfec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263600" indent="-1728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ack of verticality of colum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3600" indent="-1728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quired in any circumstanc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3600" indent="-1728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odelling or substitution by equivalent horizontal nodal load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ember (local) imperfec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263600" indent="-1728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ack of straightness of member ax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3600" indent="-1728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equired (criterion given) in few rare circumstanc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3600" indent="-1728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f required: Modelling or substitution by equivalent transverse distributed load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3600" indent="-1728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f not required: Implicit account through member stability check formula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D78C-05FC-4DF2-9EF9-137DF79929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 at UL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eck under factored loads (static conditions) or fatigue loads (fatigue conditions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nal forces in individual elements determined by global analys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ments normally designed and checked as isolated compon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checks depend on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ype of memb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ype of global analysis (see next slide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2FBC-5EEB-4476-94CE-80D557AA8A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 at UL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6960" y="5411880"/>
            <a:ext cx="841644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66"/>
                </a:solidFill>
                <a:latin typeface="Arial"/>
              </a:rPr>
              <a:t>Total design task = Global analysis + Design chec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3040" y="1779480"/>
            <a:ext cx="5230080" cy="3353400"/>
            <a:chOff x="2363040" y="1779480"/>
            <a:chExt cx="5230080" cy="3353400"/>
          </a:xfrm>
        </p:grpSpPr>
        <p:sp>
          <p:nvSpPr>
            <p:cNvPr id="131" name=""/>
            <p:cNvSpPr/>
            <p:nvPr/>
          </p:nvSpPr>
          <p:spPr>
            <a:xfrm>
              <a:off x="2363040" y="4827600"/>
              <a:ext cx="465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66"/>
                  </a:solidFill>
                  <a:latin typeface="Arial"/>
                </a:rPr>
                <a:t>Decrease in complexity of global analysi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90000" y="1779480"/>
              <a:ext cx="4545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66"/>
                  </a:solidFill>
                  <a:latin typeface="Arial"/>
                </a:rPr>
                <a:t>Increase in complexity of global analysi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49480" y="4568760"/>
              <a:ext cx="4282920" cy="196920"/>
              <a:chOff x="2949480" y="4568760"/>
              <a:chExt cx="4282920" cy="196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49480" y="4661280"/>
                <a:ext cx="4282920" cy="1080"/>
              </a:xfrm>
              <a:prstGeom prst="line">
                <a:avLst/>
              </a:prstGeom>
              <a:ln w="176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06520" y="4568760"/>
                <a:ext cx="425880" cy="196920"/>
              </a:xfrm>
              <a:custGeom>
                <a:avLst/>
                <a:gdLst/>
                <a:ahLst/>
                <a:rect l="l" t="t" r="r" b="b"/>
                <a:pathLst>
                  <a:path w="244" h="155">
                    <a:moveTo>
                      <a:pt x="0" y="0"/>
                    </a:moveTo>
                    <a:lnTo>
                      <a:pt x="244" y="73"/>
                    </a:lnTo>
                    <a:lnTo>
                      <a:pt x="0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176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941560" y="2225520"/>
              <a:ext cx="4296600" cy="196920"/>
              <a:chOff x="2941560" y="2225520"/>
              <a:chExt cx="4296600" cy="196920"/>
            </a:xfrm>
          </p:grpSpPr>
          <p:sp>
            <p:nvSpPr>
              <p:cNvPr id="137" name=""/>
              <p:cNvSpPr/>
              <p:nvPr/>
            </p:nvSpPr>
            <p:spPr>
              <a:xfrm flipH="1" flipV="1">
                <a:off x="3037320" y="2320200"/>
                <a:ext cx="4200840" cy="2160"/>
              </a:xfrm>
              <a:prstGeom prst="line">
                <a:avLst/>
              </a:prstGeom>
              <a:ln w="176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941560" y="2225520"/>
                <a:ext cx="410760" cy="196920"/>
              </a:xfrm>
              <a:custGeom>
                <a:avLst/>
                <a:gdLst/>
                <a:ahLst/>
                <a:rect l="l" t="t" r="r" b="b"/>
                <a:pathLst>
                  <a:path w="243" h="154">
                    <a:moveTo>
                      <a:pt x="243" y="0"/>
                    </a:moveTo>
                    <a:lnTo>
                      <a:pt x="0" y="73"/>
                    </a:lnTo>
                    <a:lnTo>
                      <a:pt x="243" y="154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66"/>
              </a:solidFill>
              <a:ln w="176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589120" y="2511360"/>
              <a:ext cx="5004000" cy="1494000"/>
            </a:xfrm>
            <a:custGeom>
              <a:avLst/>
              <a:gdLst/>
              <a:ahLst/>
              <a:rect l="l" t="t" r="r" b="b"/>
              <a:pathLst>
                <a:path w="3501" h="1170">
                  <a:moveTo>
                    <a:pt x="0" y="1170"/>
                  </a:moveTo>
                  <a:lnTo>
                    <a:pt x="0" y="0"/>
                  </a:lnTo>
                  <a:lnTo>
                    <a:pt x="3501" y="0"/>
                  </a:lnTo>
                  <a:lnTo>
                    <a:pt x="3501" y="244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00cc00"/>
            </a:solidFill>
            <a:ln w="176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09560" y="2617920"/>
              <a:ext cx="223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ffff00"/>
                  </a:solidFill>
                  <a:latin typeface="Arial"/>
                </a:rPr>
                <a:t>Global analysi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394080" y="2521080"/>
              <a:ext cx="219240" cy="1244160"/>
              <a:chOff x="3394080" y="2521080"/>
              <a:chExt cx="219240" cy="124416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3497760" y="2541960"/>
                <a:ext cx="1080" cy="111420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94080" y="2521080"/>
                <a:ext cx="219240" cy="185040"/>
              </a:xfrm>
              <a:custGeom>
                <a:avLst/>
                <a:gdLst/>
                <a:ahLst/>
                <a:rect l="l" t="t" r="r" b="b"/>
                <a:pathLst>
                  <a:path w="154" h="138">
                    <a:moveTo>
                      <a:pt x="73" y="0"/>
                    </a:moveTo>
                    <a:lnTo>
                      <a:pt x="0" y="138"/>
                    </a:lnTo>
                    <a:lnTo>
                      <a:pt x="154" y="13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00"/>
              </a:solidFill>
              <a:ln w="176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94080" y="3580200"/>
                <a:ext cx="219240" cy="185040"/>
              </a:xfrm>
              <a:custGeom>
                <a:avLst/>
                <a:gdLst/>
                <a:ahLst/>
                <a:rect l="l" t="t" r="r" b="b"/>
                <a:pathLst>
                  <a:path w="154" h="138">
                    <a:moveTo>
                      <a:pt x="73" y="138"/>
                    </a:moveTo>
                    <a:lnTo>
                      <a:pt x="0" y="0"/>
                    </a:lnTo>
                    <a:lnTo>
                      <a:pt x="154" y="0"/>
                    </a:lnTo>
                    <a:lnTo>
                      <a:pt x="73" y="138"/>
                    </a:lnTo>
                    <a:close/>
                  </a:path>
                </a:pathLst>
              </a:custGeom>
              <a:solidFill>
                <a:srgbClr val="ffff00"/>
              </a:solidFill>
              <a:ln w="176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590920" y="2895480"/>
              <a:ext cx="5000400" cy="1597320"/>
            </a:xfrm>
            <a:custGeom>
              <a:avLst/>
              <a:gdLst/>
              <a:ahLst/>
              <a:rect l="l" t="t" r="r" b="b"/>
              <a:pathLst>
                <a:path w="3517" h="1250">
                  <a:moveTo>
                    <a:pt x="0" y="925"/>
                  </a:moveTo>
                  <a:lnTo>
                    <a:pt x="3517" y="0"/>
                  </a:lnTo>
                  <a:lnTo>
                    <a:pt x="3517" y="1250"/>
                  </a:lnTo>
                  <a:lnTo>
                    <a:pt x="0" y="1250"/>
                  </a:lnTo>
                  <a:lnTo>
                    <a:pt x="0" y="925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376440" y="3873240"/>
              <a:ext cx="254160" cy="612720"/>
              <a:chOff x="3376440" y="3873240"/>
              <a:chExt cx="254160" cy="6127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376440" y="3879720"/>
                <a:ext cx="254160" cy="606240"/>
                <a:chOff x="3376440" y="3879720"/>
                <a:chExt cx="254160" cy="6062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376440" y="3879720"/>
                  <a:ext cx="229680" cy="126720"/>
                </a:xfrm>
                <a:custGeom>
                  <a:avLst/>
                  <a:gdLst/>
                  <a:ahLst/>
                  <a:rect l="l" t="t" r="r" b="b"/>
                  <a:pathLst>
                    <a:path w="161" h="131">
                      <a:moveTo>
                        <a:pt x="76" y="0"/>
                      </a:moveTo>
                      <a:lnTo>
                        <a:pt x="0" y="131"/>
                      </a:lnTo>
                      <a:lnTo>
                        <a:pt x="161" y="13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76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76440" y="4359240"/>
                  <a:ext cx="254160" cy="126720"/>
                </a:xfrm>
                <a:custGeom>
                  <a:avLst/>
                  <a:gdLst/>
                  <a:ahLst/>
                  <a:rect l="l" t="t" r="r" b="b"/>
                  <a:pathLst>
                    <a:path w="178" h="131">
                      <a:moveTo>
                        <a:pt x="84" y="131"/>
                      </a:moveTo>
                      <a:lnTo>
                        <a:pt x="0" y="0"/>
                      </a:lnTo>
                      <a:lnTo>
                        <a:pt x="178" y="0"/>
                      </a:lnTo>
                      <a:lnTo>
                        <a:pt x="84" y="13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76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 flipV="1">
                <a:off x="3493080" y="3873240"/>
                <a:ext cx="1440" cy="56844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952520" y="3913200"/>
              <a:ext cx="21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ffff00"/>
                  </a:solidFill>
                  <a:latin typeface="Arial"/>
                </a:rPr>
                <a:t>Checks at UL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0800000">
            <a:off x="1922400" y="2527200"/>
            <a:ext cx="485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66"/>
                </a:solidFill>
                <a:latin typeface="Arial"/>
              </a:rPr>
              <a:t>Share of effor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AD55-BFCD-46B9-B790-F1E1D14AE9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 at UL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s must be checked for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sistance of cross-sec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plastic or elastic depending on clas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sistance of member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including member and frame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sistance of join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: see EC3 Part 1-8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nsion members need only be checked for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istance of cross-sec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igue resistance when required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e EC3 Part 1-9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EE08-032F-4586-A7C9-C189789444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 at SL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ecks for service loads (non factored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 design criteria at SL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Deflec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horizontal and vertical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Vibratio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flections and vibrations usually determined based 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astic global analys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re frame structure ( without floors, roof, partitions, cladding, …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95D5-7ED6-4017-BF98-83CFD186BA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 at SLS (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0840" indent="-420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flec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2240" indent="-3247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alculated values seldom meaningful (for several reasons) but used as an index of stiff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2240" indent="-3247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cessive deflections impair appearance and/or cause local damage in supported element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2240" indent="-3247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ed for consideration of pre-camber when prese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2240" indent="-3247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sider permanent and variable loads separate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2240" indent="-3247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mit values for vertical deflections of beams and horizontal deflections frames : recommended in EC 0 but to be specified in National Annex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2240" indent="-32472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miting deflection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dequate stiff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A452-5092-482B-9C4F-CCB7A02E1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checks at SLS (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ynamic effects from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chiner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lf-induced vibra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onance when close natural frequencies of structure and source of excitation respectivel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xcessive vibration = Source of discomfor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mit values for vibration of floors: recommended in EC 0 but to be specified in National Annex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ossible sophisticated check by dynamic analys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DC3F-D1EE-404E-B000-4AE997C755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ared to ENV version (single document), present EC3 has been substantially reorganised and implemented (12 Parts: 1-1 to 1-12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rt 1-1 of EC3 is the master document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rt 1-1 of EC3 (EN 1993-1-1) contains of 7 Chapters and 4 Annexe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sent course covers all topics of EC3 Part 1-1 and some additional material (especially design of joints, fatigue, ….)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nexes are generally not referred to directl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02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e of EC3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B711-1A8F-483E-904E-C281EDBA72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C 3/EC 4 dedicated to steel/composite structur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C 3 comprises 12 par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C 3 Part 1-1 is the ‘master document’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C 3 Part 1-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Is composed of 7 chapters and 4 annex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Uses (as other parts) precise terminology and symbol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overs steel grades up to S460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Includes general on structural global analys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cribes the design checks at both ULS and SL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7C26-90E3-4437-82A4-4835C3A61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pter 1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er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pter 2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sis of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pter 3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pter 4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pter 5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al analys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pter 6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ltimate limit sta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pter 7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rviceability limit sta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nexes A, B, AB and BB      (informativ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finitive status to be given in National Annex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e of EC3 Part 1-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019F-CEE5-48F9-99B1-E4E94DBB6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Terminology and symbo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urocodes use precise terminology and symbol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rminology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lobal analysi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 and Sub-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ype of fram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engths related to st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mbol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neral nature, section and material proper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tensive use of suffices (possibly in sequen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86EF-53E0-477B-AE48-B0846F56B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pecial terms in EC3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31076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2480" indent="-4024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eral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73000" indent="-3106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Frame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= Assembly of connected structural eleme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73000" indent="-3106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ub-fram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= Part of frame used for global analys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ype of framing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73000" indent="-3106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impl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: joints not resisting bending momen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73000" indent="-3106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ou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: joints assumed to be rigid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73000" indent="-310680" algn="just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mi-continuous :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onnection characteristics needing explicit consideration in global analys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02480" indent="-40248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ngths relating to member stabilit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73000" indent="-3106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ystem length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length between lateral restraints/end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73000" indent="-3106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uckling length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equivalent pin-ended system length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5851-4DB3-4713-A93D-B3ABC44BA9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pecial terms (EC3 Part 1-8 : Joints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52676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Partial strength join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design resistance of joint less than design resistance of connected membe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imple joint (pinned)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joint not capable of transmitting significant bending mo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Rigid (continuous) join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only structural properties of members (and not of joints) need explicit consideration in global analys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emi-rigid (semi-continuous) join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structural properties of both members and joints need explicit consideration in global analysi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2413-745C-4185-AFCD-47F51A345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pecial terms (EC3 Part 1-8 : Joints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52676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Partial strength join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design resistance of joint less than design resistance of connected membe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Full strength join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design resistance of joint at least equal than design resistance of connected membe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5E61-3CEA-4184-9DE9-3B1E67593F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pecial terms in EC3 (analysis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raced fram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sway resisted by a sufficiently stiff bracing syste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Unbraced fram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inadequate sway resistance provided by the bracing syste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way fram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poor lateral stiffness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need for consideration of effects of horizontal displace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Non-sway fram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large lateral stiffness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no need for consideration of effects of horizontal displace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18FF-FDFB-4066-B6E2-A56344F3A7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Material properties (1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ve nominal grades of steel (EN 10 025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235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nominal yield strength = 235 N/mm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275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nominal yield strength = 275 N/mm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355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nominal yield strength = 355 N/mm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420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minal yield strength = 420 N/mm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21960" indent="-32796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460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minal yield strength = 460 N/mm</a:t>
            </a:r>
            <a:r>
              <a:rPr b="0" lang="en-GB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ength reduced for elements of higher thickness : see product standards or simplified table in EN 1993-1-1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rade S690 covered in EC3 Part 1-12 (HSS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612A-729D-4BF3-A227-FB4D0C7DCB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2-11T08:56:17Z</dcterms:modified>
  <cp:revision>21</cp:revision>
  <dc:subject/>
  <dc:title>asdasdsdsda</dc:title>
</cp:coreProperties>
</file>