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A2E8-6708-4095-94E7-EF68FD53A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6D1B-7A0F-4DAC-90CA-954CD2E61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B433-21BE-4B7C-8278-7154D2D7C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B648-1CB5-4562-9BE9-D95425BFC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7D93-5C65-435B-9C0E-8F2007F4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3E55-3723-4D89-81CF-68FC7FFF0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EAFD-5732-49B6-B0BC-2B2729D45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B725-5208-430D-A71E-2FB35BF18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738D-6FBB-420D-AEB9-5722BA2B4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2243-C894-4912-A9DD-CBA9D1C4C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876E-AA56-4513-8A4A-8C393B4F5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2CA1-8B31-4F1E-959B-8FCED95A2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7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rame analysis – Column member check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A07D-3E6E-4DDC-A64A-841F65F19573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7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orked exam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analysis – column member che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valen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horizontal forces: example with load case “G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 be multiplied with adequate partial safety factor on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9280" y="2297160"/>
          <a:ext cx="8713800" cy="286056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  <a:gridCol w="2176560"/>
                <a:gridCol w="217944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66"/>
                      </a:solidFill>
                    </a:lnR>
                    <a:lnT>
                      <a:noFill/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re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</a:t>
                      </a:r>
                      <a:r>
                        <a:rPr b="0" i="1" lang="en-GB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Ed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[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0" i="1" lang="en-GB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Ed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[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N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7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oof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2,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floo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2,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floo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2,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floo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2,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E943-83A3-4873-983B-0DACFB7D7F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a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combina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t UL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-894240" y="2195640"/>
            <a:ext cx="9038160" cy="3982680"/>
            <a:chOff x="-894240" y="2195640"/>
            <a:chExt cx="9038160" cy="3982680"/>
          </a:xfrm>
        </p:grpSpPr>
        <p:grpSp>
          <p:nvGrpSpPr>
            <p:cNvPr id="247" name=""/>
            <p:cNvGrpSpPr/>
            <p:nvPr/>
          </p:nvGrpSpPr>
          <p:grpSpPr>
            <a:xfrm>
              <a:off x="1236600" y="2195640"/>
              <a:ext cx="6907320" cy="3308040"/>
              <a:chOff x="1236600" y="2195640"/>
              <a:chExt cx="6907320" cy="3308040"/>
            </a:xfrm>
          </p:grpSpPr>
          <p:sp>
            <p:nvSpPr>
              <p:cNvPr id="248" name=""/>
              <p:cNvSpPr/>
              <p:nvPr/>
            </p:nvSpPr>
            <p:spPr>
              <a:xfrm>
                <a:off x="2017080" y="2233440"/>
                <a:ext cx="214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Load combination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02400" y="223344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7680" y="2233440"/>
                <a:ext cx="2254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Ultimate limit state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01240" y="223344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36600" y="2195640"/>
                <a:ext cx="3492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36600" y="21956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71520" y="2195640"/>
                <a:ext cx="34149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6480" y="2230560"/>
                <a:ext cx="10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86480" y="21956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21400" y="2195640"/>
                <a:ext cx="33876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9000" y="2195640"/>
                <a:ext cx="3492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09000" y="21956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36600" y="2233440"/>
                <a:ext cx="3492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86480" y="2233440"/>
                <a:ext cx="1080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09000" y="2233440"/>
                <a:ext cx="3492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73360" y="257652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1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05520" y="257652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42560" y="258300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81160" y="25830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53520" y="258300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08840" y="258300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2800" y="258300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38480" y="25830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11560" y="258300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26840" y="2583000"/>
                <a:ext cx="229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W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75600" y="25830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36600" y="2538360"/>
                <a:ext cx="34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71520" y="2538360"/>
                <a:ext cx="34149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686480" y="2573280"/>
                <a:ext cx="1080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86480" y="253836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21400" y="2538360"/>
                <a:ext cx="33876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109000" y="2538360"/>
                <a:ext cx="34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6600" y="2576520"/>
                <a:ext cx="3492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86480" y="2576520"/>
                <a:ext cx="1080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109000" y="2576520"/>
                <a:ext cx="3492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673360" y="290052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2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05520" y="290052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83600" y="290520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22560" y="29052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4920" y="290520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0240" y="290520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34200" y="290520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78080" y="29052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52960" y="290520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49880" y="290520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51760" y="304164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1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36000" y="29052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36600" y="288756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71520" y="2887560"/>
                <a:ext cx="3414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86480" y="288756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97280" y="2887560"/>
                <a:ext cx="3411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109000" y="288756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236600" y="289872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86480" y="2898720"/>
                <a:ext cx="1080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109000" y="289872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73360" y="322596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3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05520" y="322596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83600" y="323208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22560" y="32320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4920" y="323208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50240" y="323208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34200" y="323208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78080" y="32320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2960" y="323208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49880" y="323208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51760" y="336708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2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36000" y="323208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236600" y="3213000"/>
                <a:ext cx="34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1520" y="3213000"/>
                <a:ext cx="34149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6480" y="3213000"/>
                <a:ext cx="108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97280" y="3213000"/>
                <a:ext cx="34117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109000" y="3213000"/>
                <a:ext cx="349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236600" y="322596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86480" y="3225960"/>
                <a:ext cx="1080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09000" y="322596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73360" y="355140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4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05520" y="35514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83600" y="355752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22560" y="355752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4920" y="355752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50240" y="355752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34200" y="355752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78080" y="355752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52960" y="355752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9880" y="355752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51760" y="36939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3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36000" y="355752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36600" y="354024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71520" y="3540240"/>
                <a:ext cx="3414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86480" y="354024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97280" y="3540240"/>
                <a:ext cx="3411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09000" y="354024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36600" y="355140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86480" y="3551400"/>
                <a:ext cx="1080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109000" y="355140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73360" y="387684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5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05520" y="387684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1640" y="388296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0600" y="388296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32960" y="388296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88280" y="388296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72240" y="388296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17560" y="388296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91000" y="388296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05920" y="3882960"/>
                <a:ext cx="229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W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59360" y="388296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03600" y="388296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74520" y="388296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0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12200" y="388296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12280" y="4019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1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96520" y="388296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36600" y="386568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71520" y="3865680"/>
                <a:ext cx="3414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86480" y="386568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97280" y="3865680"/>
                <a:ext cx="3411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09000" y="386568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36600" y="387684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686480" y="3876840"/>
                <a:ext cx="1080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09000" y="387684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3360" y="420372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6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05520" y="420372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88600" y="420840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28640" y="42084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99560" y="420840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56320" y="420840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41360" y="4208400"/>
                <a:ext cx="2934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45560" y="420840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0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84520" y="42084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57600" y="420840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9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74320" y="4208400"/>
                <a:ext cx="229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W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26320" y="420840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70200" y="420840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43280" y="420840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542000" y="420840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42440" y="434484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1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26680" y="42084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236600" y="419112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71520" y="4191120"/>
                <a:ext cx="3414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86480" y="419112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97280" y="4191120"/>
                <a:ext cx="3411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09000" y="4191120"/>
                <a:ext cx="3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36600" y="420228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86480" y="4202280"/>
                <a:ext cx="1080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109000" y="4202280"/>
                <a:ext cx="34920" cy="31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673360" y="452916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7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05520" y="452916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21640" y="453384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60600" y="453384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2960" y="453384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88280" y="453384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772240" y="453384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17560" y="453384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91000" y="453384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05920" y="4533840"/>
                <a:ext cx="229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W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59360" y="453384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03600" y="453384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74520" y="453384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0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12200" y="453384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712280" y="467028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2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96520" y="453384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36600" y="4516560"/>
                <a:ext cx="34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71520" y="4516560"/>
                <a:ext cx="34149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86480" y="4516560"/>
                <a:ext cx="108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97280" y="4516560"/>
                <a:ext cx="34117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09000" y="4516560"/>
                <a:ext cx="34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6600" y="4529160"/>
                <a:ext cx="34920" cy="31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86480" y="4529160"/>
                <a:ext cx="10800" cy="31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109000" y="4529160"/>
                <a:ext cx="34920" cy="31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73360" y="485460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8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05520" y="48546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88600" y="486108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228640" y="48610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99560" y="486108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56320" y="486108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40280" y="486108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0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84520" y="48610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57600" y="486108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9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74320" y="4861080"/>
                <a:ext cx="229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W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26320" y="486108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70200" y="48610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43280" y="4861080"/>
                <a:ext cx="223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542000" y="4861080"/>
                <a:ext cx="87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I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42440" y="499572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sto MT"/>
                  </a:rPr>
                  <a:t>2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6680" y="486108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36600" y="4842000"/>
                <a:ext cx="34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71520" y="4842000"/>
                <a:ext cx="34149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86480" y="4842000"/>
                <a:ext cx="108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97280" y="4842000"/>
                <a:ext cx="34117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09000" y="4842000"/>
                <a:ext cx="349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36600" y="4854600"/>
                <a:ext cx="3492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6480" y="4854600"/>
                <a:ext cx="1080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09000" y="4854600"/>
                <a:ext cx="34920" cy="31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73360" y="5176800"/>
                <a:ext cx="773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Case 9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05520" y="5176800"/>
                <a:ext cx="70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21640" y="5183280"/>
                <a:ext cx="2246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60600" y="51832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32960" y="5183280"/>
                <a:ext cx="375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35 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8280" y="5183280"/>
                <a:ext cx="182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100" spc="-1" strike="noStrike">
                    <a:solidFill>
                      <a:srgbClr val="000000"/>
                    </a:solidFill>
                    <a:latin typeface="Calisto MT"/>
                  </a:rPr>
                  <a:t>G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72240" y="5183280"/>
                <a:ext cx="51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+ 1,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17560" y="5183280"/>
                <a:ext cx="7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100" spc="-1" strike="noStrike">
                    <a:solidFill>
                      <a:srgbClr val="000000"/>
                    </a:solidFill>
                    <a:latin typeface="Calisto MT"/>
                  </a:rPr>
                  <a:t>.</a:t>
                </a:r>
                <a:endParaRPr b="0" lang="en-US" sz="2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291000" y="518328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05920" y="5183280"/>
              <a:ext cx="229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W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59360" y="5183280"/>
              <a:ext cx="51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+ 1,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3600" y="5183280"/>
              <a:ext cx="7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74520" y="5183280"/>
              <a:ext cx="375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0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2200" y="5183280"/>
              <a:ext cx="8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I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2280" y="53197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sto MT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96520" y="5183280"/>
              <a:ext cx="7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6600" y="5165640"/>
              <a:ext cx="3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1520" y="5165640"/>
              <a:ext cx="3414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86480" y="51656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97280" y="5165640"/>
              <a:ext cx="3411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09000" y="5165640"/>
              <a:ext cx="3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36600" y="5176800"/>
              <a:ext cx="3492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6480" y="5176800"/>
              <a:ext cx="1080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9000" y="5176800"/>
              <a:ext cx="3492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0360" y="550404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Case 10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67440" y="5504040"/>
              <a:ext cx="7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88600" y="550872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1,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28640" y="5508720"/>
              <a:ext cx="7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99560" y="5508720"/>
              <a:ext cx="375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3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56320" y="5508720"/>
              <a:ext cx="182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G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40280" y="5508720"/>
              <a:ext cx="51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+ 0,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84520" y="5508720"/>
              <a:ext cx="7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57600" y="55087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9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74320" y="5508720"/>
              <a:ext cx="229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W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26320" y="5508720"/>
              <a:ext cx="51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+ 1,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70200" y="5508720"/>
              <a:ext cx="7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43280" y="55087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2000" y="5508720"/>
              <a:ext cx="8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Calisto MT"/>
                </a:rPr>
                <a:t>I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42440" y="5645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sto MT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26680" y="5508720"/>
              <a:ext cx="7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600" y="5491080"/>
              <a:ext cx="3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71520" y="5491080"/>
              <a:ext cx="3414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6480" y="54910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97280" y="5491080"/>
              <a:ext cx="3411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09000" y="5491080"/>
              <a:ext cx="3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36600" y="5502240"/>
              <a:ext cx="3492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6600" y="5816520"/>
              <a:ext cx="349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36600" y="5816520"/>
              <a:ext cx="349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71520" y="5816520"/>
              <a:ext cx="34149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6480" y="5502240"/>
              <a:ext cx="1080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480" y="5816520"/>
              <a:ext cx="349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21400" y="5816520"/>
              <a:ext cx="33876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09000" y="5502240"/>
              <a:ext cx="34920" cy="3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09000" y="5816520"/>
              <a:ext cx="349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09000" y="5816520"/>
              <a:ext cx="3492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894240" y="58579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99C3-F10D-47D8-B927-578673D35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Structural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niti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hoice for membe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7080" cy="3841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771640" y="5516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4A6E-DAEE-4CD7-8F24-B0C980A4C3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ssif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tructure (sway here, for illustratio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 sway, 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der effects to be taken into ac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mplific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actor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for each load cas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mplify”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end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me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eck column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leme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1BB0-C1D4-416A-A7F3-6C97F93C5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Classific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roced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ermin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&gt; 10: 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der effects are neglected in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3 &lt;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&lt; 10: approximate method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&lt; 3: structure (and load combination) highly sensitive to sway effects, numerical analysis requi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303640" y="2630520"/>
          <a:ext cx="42591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2630520"/>
                    <a:ext cx="42591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B2AA-024B-4A33-BDDC-5A26829490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ample: load combination #5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Amplific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acto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4572000" y="4653000"/>
          <a:ext cx="144612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653000"/>
                    <a:ext cx="144612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5533920" y="4017960"/>
            <a:ext cx="576360" cy="360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4560" y="2309760"/>
            <a:ext cx="8677800" cy="2353680"/>
            <a:chOff x="34560" y="2309760"/>
            <a:chExt cx="8677800" cy="2353680"/>
          </a:xfrm>
        </p:grpSpPr>
        <p:grpSp>
          <p:nvGrpSpPr>
            <p:cNvPr id="513" name=""/>
            <p:cNvGrpSpPr/>
            <p:nvPr/>
          </p:nvGrpSpPr>
          <p:grpSpPr>
            <a:xfrm>
              <a:off x="450720" y="2309760"/>
              <a:ext cx="8261640" cy="2050560"/>
              <a:chOff x="450720" y="2309760"/>
              <a:chExt cx="8261640" cy="2050560"/>
            </a:xfrm>
          </p:grpSpPr>
          <p:sp>
            <p:nvSpPr>
              <p:cNvPr id="514" name=""/>
              <p:cNvSpPr/>
              <p:nvPr/>
            </p:nvSpPr>
            <p:spPr>
              <a:xfrm>
                <a:off x="1005840" y="2346480"/>
                <a:ext cx="556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Load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52680" y="23464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1040" y="2625840"/>
                <a:ext cx="14911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combination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91240" y="2901960"/>
                <a:ext cx="15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#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65120" y="29019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20480" y="262260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Storey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87560" y="2622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246480" y="2465280"/>
                <a:ext cx="1195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64200" y="2614680"/>
                <a:ext cx="26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HE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647880" y="24922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30200" y="2771640"/>
                <a:ext cx="610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[mm]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28880" y="277164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01480" y="2482920"/>
                <a:ext cx="145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V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265280" y="2604960"/>
                <a:ext cx="16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E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32320" y="248292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05360" y="276228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[kN]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98920" y="27622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49200" y="2482920"/>
                <a:ext cx="17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H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6480" y="2604960"/>
                <a:ext cx="16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E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13520" y="2604960"/>
                <a:ext cx="37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75040" y="2762280"/>
                <a:ext cx="470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[kN]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68960" y="27622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700600" y="2604960"/>
                <a:ext cx="153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45320" y="2754360"/>
                <a:ext cx="12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c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63040" y="2754360"/>
                <a:ext cx="37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91080" y="2604960"/>
                <a:ext cx="153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27880" y="2754360"/>
                <a:ext cx="51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cr exac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02720" y="2754360"/>
                <a:ext cx="37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79200" y="2631960"/>
                <a:ext cx="2005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%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469280" y="2716200"/>
                <a:ext cx="104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3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66840" y="2754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c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720200" y="2754360"/>
                <a:ext cx="37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200800" y="2604960"/>
                <a:ext cx="153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51640" y="26272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0720" y="2309760"/>
                <a:ext cx="302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0720" y="2309760"/>
                <a:ext cx="30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0960" y="2309760"/>
                <a:ext cx="16146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09556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9556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24000" y="2309760"/>
                <a:ext cx="8971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2112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2112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49560" y="2309760"/>
                <a:ext cx="8161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6568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6568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94120" y="2309760"/>
                <a:ext cx="7556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649760" y="2338560"/>
                <a:ext cx="972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64976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678200" y="2309760"/>
                <a:ext cx="7290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0720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0720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35640" y="2309760"/>
                <a:ext cx="8157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51400" y="2338560"/>
                <a:ext cx="972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51400" y="2309760"/>
                <a:ext cx="288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280200" y="2309760"/>
                <a:ext cx="85248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13268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132680" y="2309760"/>
                <a:ext cx="284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161120" y="2309760"/>
                <a:ext cx="6876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48720" y="2338560"/>
                <a:ext cx="9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48720" y="2309760"/>
                <a:ext cx="2988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78600" y="2309760"/>
                <a:ext cx="8049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83560" y="2309760"/>
                <a:ext cx="288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683560" y="2309760"/>
                <a:ext cx="288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0720" y="2341440"/>
                <a:ext cx="3024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9556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2112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86568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49760" y="2341440"/>
                <a:ext cx="972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0720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51400" y="2341440"/>
                <a:ext cx="972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3268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48720" y="2341440"/>
                <a:ext cx="936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683560" y="2341440"/>
                <a:ext cx="28800" cy="83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301480" y="3209760"/>
                <a:ext cx="524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Roof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16280" y="32097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28120" y="3209760"/>
                <a:ext cx="476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,01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66960" y="32097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73040" y="3209760"/>
                <a:ext cx="41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721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446360" y="32097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907520" y="3209760"/>
                <a:ext cx="275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2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156280" y="32097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200" y="3209760"/>
                <a:ext cx="613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52,57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13520" y="320976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0720" y="3173400"/>
                <a:ext cx="302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0960" y="3173400"/>
                <a:ext cx="16146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556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556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24000" y="3173400"/>
                <a:ext cx="8971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2112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2112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49560" y="3173400"/>
                <a:ext cx="8161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86568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6568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94120" y="3173400"/>
                <a:ext cx="7556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49760" y="320184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4976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78200" y="3173400"/>
                <a:ext cx="7290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0720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0720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435640" y="3173400"/>
                <a:ext cx="8157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51400" y="320184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51400" y="3173400"/>
                <a:ext cx="288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80200" y="3173400"/>
                <a:ext cx="85248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3268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32680" y="3173400"/>
                <a:ext cx="284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161120" y="3173400"/>
                <a:ext cx="6876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848720" y="3201840"/>
                <a:ext cx="93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848720" y="3173400"/>
                <a:ext cx="2988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78600" y="3173400"/>
                <a:ext cx="8049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683560" y="3173400"/>
                <a:ext cx="288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0720" y="3205080"/>
                <a:ext cx="3024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9556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02112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6568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49760" y="3205080"/>
                <a:ext cx="972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0720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51400" y="3205080"/>
                <a:ext cx="972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268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48720" y="3205080"/>
                <a:ext cx="936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683560" y="3205080"/>
                <a:ext cx="28800" cy="27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435400" y="3495600"/>
                <a:ext cx="13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3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548080" y="3486240"/>
                <a:ext cx="14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r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85960" y="3495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28120" y="3495600"/>
                <a:ext cx="476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3,37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666960" y="3495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11840" y="3495600"/>
                <a:ext cx="549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707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08280" y="3495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07520" y="3495600"/>
                <a:ext cx="275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35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56280" y="3495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551200" y="3495600"/>
                <a:ext cx="613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9,34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13520" y="349560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0720" y="348156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09556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104920" y="3481560"/>
                <a:ext cx="9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2112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30480" y="3481560"/>
                <a:ext cx="835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6568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75040" y="3481560"/>
                <a:ext cx="774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49760" y="3481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59480" y="3481560"/>
                <a:ext cx="747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0720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16560" y="3481560"/>
                <a:ext cx="834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51400" y="3481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3268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48720" y="3481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683560" y="348156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50720" y="3490920"/>
                <a:ext cx="3024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9556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2112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6568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9760" y="3490920"/>
                <a:ext cx="972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40720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51400" y="3490920"/>
                <a:ext cx="972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3268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48720" y="3490920"/>
                <a:ext cx="93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683560" y="3490920"/>
                <a:ext cx="2880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422800" y="3784680"/>
                <a:ext cx="13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2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36920" y="3773520"/>
                <a:ext cx="17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n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00360" y="37846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228120" y="3784680"/>
                <a:ext cx="476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6,03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66960" y="37846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11840" y="3784680"/>
                <a:ext cx="549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2694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08280" y="37846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07520" y="3784680"/>
                <a:ext cx="275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57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156280" y="37846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51200" y="3784680"/>
                <a:ext cx="613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1,32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13520" y="378468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0720" y="3770280"/>
                <a:ext cx="30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9556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04920" y="3770280"/>
                <a:ext cx="9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2112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30480" y="3770280"/>
                <a:ext cx="835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6568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75040" y="3770280"/>
                <a:ext cx="774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49760" y="3770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659480" y="3770280"/>
                <a:ext cx="747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16560" y="3770280"/>
                <a:ext cx="834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51400" y="3770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13268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48720" y="3770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683560" y="377028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50720" y="3780000"/>
                <a:ext cx="3024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09556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02112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6568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49760" y="3780000"/>
                <a:ext cx="972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0720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400" y="3780000"/>
                <a:ext cx="972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13268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8720" y="3780000"/>
                <a:ext cx="93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683560" y="3780000"/>
                <a:ext cx="2880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19320" y="3625920"/>
                <a:ext cx="13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5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6040" y="362592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449800" y="4070520"/>
                <a:ext cx="13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68240" y="40608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Calisto MT"/>
                  </a:rPr>
                  <a:t>s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71560" y="407052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63680" y="4070520"/>
                <a:ext cx="6134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19,64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27440" y="4070520"/>
                <a:ext cx="63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 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011840" y="4070520"/>
                <a:ext cx="549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alisto MT"/>
                  </a:rPr>
                  <a:t>3680</a:t>
                </a:r>
                <a:endParaRPr b="0" lang="en-US" sz="1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508280" y="40705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07520" y="407052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8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56280" y="40705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12760" y="4070520"/>
              <a:ext cx="47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3,55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51600" y="40705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76400" y="3625920"/>
              <a:ext cx="47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3,37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5240" y="36259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7880" y="3625920"/>
              <a:ext cx="33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5,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53240" y="36259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80840" y="362592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Calisto MT"/>
                </a:rPr>
                <a:t>1,39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562960" y="36259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Calisto MT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0720" y="4056120"/>
              <a:ext cx="30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556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04920" y="4056120"/>
              <a:ext cx="9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2112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30480" y="4056120"/>
              <a:ext cx="835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6568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75040" y="4056120"/>
              <a:ext cx="774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9760" y="40561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59480" y="4056120"/>
              <a:ext cx="747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0720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16560" y="4056120"/>
              <a:ext cx="834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51400" y="40561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3268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48720" y="40561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3560" y="4056120"/>
              <a:ext cx="28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0720" y="4065480"/>
              <a:ext cx="3024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0720" y="4341960"/>
              <a:ext cx="30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0720" y="4341960"/>
              <a:ext cx="30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960" y="4341960"/>
              <a:ext cx="1614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556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556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4000" y="4341960"/>
              <a:ext cx="89712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2112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2112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9560" y="4341960"/>
              <a:ext cx="81612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86568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6568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94120" y="4341960"/>
              <a:ext cx="7556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49760" y="4065480"/>
              <a:ext cx="972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976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78200" y="4341960"/>
              <a:ext cx="7290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0720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0720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35640" y="4341960"/>
              <a:ext cx="8157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51400" y="4065480"/>
              <a:ext cx="972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51400" y="434196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80200" y="4341960"/>
              <a:ext cx="85248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3268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32680" y="4341960"/>
              <a:ext cx="284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61120" y="4341960"/>
              <a:ext cx="687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48720" y="4065480"/>
              <a:ext cx="936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48720" y="4341960"/>
              <a:ext cx="2988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78600" y="4341960"/>
              <a:ext cx="804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683560" y="4065480"/>
              <a:ext cx="2880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683560" y="434196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83560" y="434196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560" y="4373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EF11-4979-430B-B65F-941BF29272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mplified internal forces: outer column (LC #5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480000" cy="38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CDA3-E13D-4712-8E48-F4D779492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Member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ation of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effectiv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length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(strong axis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2881440" y="2205000"/>
          <a:ext cx="342900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2205000"/>
                    <a:ext cx="34290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922480" y="3141720"/>
          <a:ext cx="341172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2480" y="3141720"/>
                    <a:ext cx="34117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1378080" y="4156200"/>
          <a:ext cx="61974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8080" y="4156200"/>
                    <a:ext cx="6197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1103400" y="5013360"/>
          <a:ext cx="686268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3400" y="5013360"/>
                    <a:ext cx="6862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7A54-382E-42A2-9145-42547C667A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ation of effective length (strong axis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131840" y="2543040"/>
          <a:ext cx="68835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543040"/>
                    <a:ext cx="68835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576520" y="5184720"/>
          <a:ext cx="34732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6520" y="5184720"/>
                    <a:ext cx="34732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3033-BCC3-40E0-B40A-993AEE44D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ation of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uck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duction factor (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tro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ax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2262240" y="2158920"/>
          <a:ext cx="521496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2158920"/>
                    <a:ext cx="521496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24C6-7BEF-4335-83A5-8D0FDA55E3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ked example illustrates both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naly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a sway frame (UL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member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esign check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RHS sectio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lysis of a sway fram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lex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w guidelines in Eurocode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EN 1993-1-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thod 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Annex 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thod 2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Annex 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5625-28E4-415E-9FAE-290A7FFAD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ation of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uck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duction factor (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ax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43160" y="2138400"/>
          <a:ext cx="5157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2138400"/>
                    <a:ext cx="5157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105E-5812-4635-AAFD-3C5368E98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oss-section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classific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 1 flanges and Class 2 we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 2 cross-s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Plast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resistanc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llowed for cross-s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517680" y="2492280"/>
          <a:ext cx="84978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492280"/>
                    <a:ext cx="8497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480960" y="3584520"/>
          <a:ext cx="8245440" cy="78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960" y="3584520"/>
                    <a:ext cx="82454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F5D8-F903-4F19-BA15-7EF230BFA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lastic resistanc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2563920" y="2495520"/>
          <a:ext cx="28000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2495520"/>
                    <a:ext cx="28000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stic resistan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516B-03E5-4897-8814-ECFEA9793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Member checks: Method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2639880" y="2158920"/>
          <a:ext cx="309888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158920"/>
                    <a:ext cx="309888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2614680" y="4168800"/>
          <a:ext cx="382896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4168800"/>
                    <a:ext cx="382896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88A4-4A8B-4892-AB61-5776B06A79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: Method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: triangular bending moment distribution assumed with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,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116,25 kN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afe assumption, since the value of the bending moment at top of the member can only decrease since the adjacent beams do not loose their stiffness (due to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ffects) while the column do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365120" y="4765680"/>
          <a:ext cx="63453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4765680"/>
                    <a:ext cx="63453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B62D-A907-4267-A247-7A79930772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: Method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720800" y="2332080"/>
          <a:ext cx="570060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32080"/>
                    <a:ext cx="570060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2152800" y="4076640"/>
          <a:ext cx="47764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2800" y="4076640"/>
                    <a:ext cx="47764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7E1D-2300-4EBD-8FCF-E17FEE74A2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: Method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974960" y="2332080"/>
          <a:ext cx="510840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332080"/>
                    <a:ext cx="510840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619280" y="4149720"/>
          <a:ext cx="5845320" cy="15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149720"/>
                    <a:ext cx="58453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898B-691E-4116-A2E5-AC56CA46B9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Member checks: Method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2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2843280" y="2389320"/>
          <a:ext cx="28177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89320"/>
                    <a:ext cx="2817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2851200" y="3573360"/>
          <a:ext cx="280044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1200" y="3573360"/>
                    <a:ext cx="28004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D99-3C11-410E-9B39-02F78E1A96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: Method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2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924360" y="2349360"/>
          <a:ext cx="1220760" cy="4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349360"/>
                    <a:ext cx="12207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2398680" y="3141720"/>
          <a:ext cx="436896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8680" y="3141720"/>
                    <a:ext cx="43689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263760" y="4176720"/>
          <a:ext cx="254160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3760" y="4176720"/>
                    <a:ext cx="2541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66B4-5209-4D32-B302-909BAD70CB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: Method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check according to Method 2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2208240" y="2438280"/>
          <a:ext cx="4545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2438280"/>
                    <a:ext cx="4545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3059280" y="3789360"/>
          <a:ext cx="287496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789360"/>
                    <a:ext cx="28749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C22D-17D9-4787-B019-56F8BD589B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e of lect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ometry of the studied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member verification according to Method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lumn member verification according to Method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oss-section ch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6FBD-6223-4C92-9365-7531D4585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mber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oth Methods leads to the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am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clus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safe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jor axis checks lead to relatively similar results; however, Method 2 offers more carrying capacity, due to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pecific interaction factor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 hollow 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significant difference is observed for the weak axis check: Method 2 assumes that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interac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between major axis bending and weak axis buckling takes place, unlike Method 1 (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derat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flu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40A0-0507-496E-BED2-42A6AE7385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Cross-sectio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cessar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 check the end sections of the studied member as soon as the “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ncept” is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bending-shear inter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2116080" y="2711520"/>
          <a:ext cx="48070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6080" y="2711520"/>
                    <a:ext cx="48070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2502000" y="3973680"/>
          <a:ext cx="344808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2000" y="3973680"/>
                    <a:ext cx="34480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90F4-5E15-4F90-A588-3085DD50C4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chec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cessar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 check the end sections of the studied member as soon as the “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ncept” is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3059280" y="2771640"/>
          <a:ext cx="23065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771640"/>
                    <a:ext cx="23065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1886040" y="3981600"/>
          <a:ext cx="50623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3981600"/>
                    <a:ext cx="5062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1030320" y="5106960"/>
          <a:ext cx="7049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0320" y="5106960"/>
                    <a:ext cx="7049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98E5-74DC-4FC2-A0E4-92C24DA642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Geometry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of studied fram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1557360"/>
            <a:ext cx="7389720" cy="4359240"/>
            <a:chOff x="900000" y="1557360"/>
            <a:chExt cx="7389720" cy="4359240"/>
          </a:xfrm>
        </p:grpSpPr>
        <p:sp>
          <p:nvSpPr>
            <p:cNvPr id="107" name=""/>
            <p:cNvSpPr/>
            <p:nvPr/>
          </p:nvSpPr>
          <p:spPr>
            <a:xfrm>
              <a:off x="936360" y="15573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000" y="1558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00000" y="1566360"/>
              <a:ext cx="7389720" cy="4350240"/>
              <a:chOff x="900000" y="1566360"/>
              <a:chExt cx="7389720" cy="4350240"/>
            </a:xfrm>
          </p:grpSpPr>
          <p:sp>
            <p:nvSpPr>
              <p:cNvPr id="110" name=""/>
              <p:cNvSpPr/>
              <p:nvPr/>
            </p:nvSpPr>
            <p:spPr>
              <a:xfrm>
                <a:off x="1122480" y="167796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30560" y="167796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38640" y="167796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1120680" y="1679400"/>
                <a:ext cx="180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128760" y="1677600"/>
                <a:ext cx="180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137200" y="1679400"/>
                <a:ext cx="144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7145280" y="1679400"/>
                <a:ext cx="144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23920" y="2568600"/>
                <a:ext cx="200664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30560" y="256860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138640" y="256860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122480" y="2568240"/>
                <a:ext cx="144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8760" y="2568240"/>
                <a:ext cx="1800" cy="8938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137200" y="2568240"/>
                <a:ext cx="144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146720" y="2568240"/>
                <a:ext cx="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123920" y="3459240"/>
                <a:ext cx="200664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130560" y="3460320"/>
                <a:ext cx="2008080" cy="180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138640" y="3460320"/>
                <a:ext cx="2008080" cy="180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122480" y="3460320"/>
                <a:ext cx="144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128760" y="3458880"/>
                <a:ext cx="180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137200" y="3460320"/>
                <a:ext cx="144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146720" y="3460320"/>
                <a:ext cx="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20680" y="4800600"/>
                <a:ext cx="180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145280" y="4800600"/>
                <a:ext cx="144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481880" y="1677960"/>
                <a:ext cx="222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81880" y="2570040"/>
                <a:ext cx="22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81880" y="3462480"/>
                <a:ext cx="22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481880" y="4354560"/>
                <a:ext cx="222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593120" y="1566360"/>
                <a:ext cx="1440" cy="379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31720" y="197172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,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93720" y="19717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98480" y="19717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5720" y="197172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31720" y="286380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,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93720" y="28638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98480" y="28638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35720" y="286380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31720" y="375768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,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3720" y="375768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98480" y="375768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35720" y="375768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23160" y="5472000"/>
                <a:ext cx="446040" cy="109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14720" y="5470560"/>
                <a:ext cx="446400" cy="111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06640" y="5470560"/>
                <a:ext cx="446040" cy="111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00000" y="5470560"/>
                <a:ext cx="446040" cy="111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22480" y="4354560"/>
                <a:ext cx="200808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130560" y="4352400"/>
                <a:ext cx="2008080" cy="180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138640" y="4352400"/>
                <a:ext cx="2008080" cy="180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122480" y="4352760"/>
                <a:ext cx="144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128760" y="4350960"/>
                <a:ext cx="1800" cy="89532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137200" y="4352760"/>
                <a:ext cx="144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146720" y="4352760"/>
                <a:ext cx="0" cy="895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11240" y="524844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140" h="140">
                    <a:moveTo>
                      <a:pt x="70" y="0"/>
                    </a:moveTo>
                    <a:lnTo>
                      <a:pt x="0" y="140"/>
                    </a:lnTo>
                    <a:lnTo>
                      <a:pt x="140" y="14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19320" y="5248440"/>
                <a:ext cx="222480" cy="222120"/>
              </a:xfrm>
              <a:custGeom>
                <a:avLst/>
                <a:gdLst/>
                <a:ahLst/>
                <a:rect l="l" t="t" r="r" b="b"/>
                <a:pathLst>
                  <a:path w="140" h="140">
                    <a:moveTo>
                      <a:pt x="70" y="0"/>
                    </a:moveTo>
                    <a:lnTo>
                      <a:pt x="0" y="140"/>
                    </a:lnTo>
                    <a:lnTo>
                      <a:pt x="140" y="14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7400" y="5248440"/>
                <a:ext cx="222480" cy="222120"/>
              </a:xfrm>
              <a:custGeom>
                <a:avLst/>
                <a:gdLst/>
                <a:ahLst/>
                <a:rect l="l" t="t" r="r" b="b"/>
                <a:pathLst>
                  <a:path w="140" h="140">
                    <a:moveTo>
                      <a:pt x="70" y="0"/>
                    </a:moveTo>
                    <a:lnTo>
                      <a:pt x="0" y="140"/>
                    </a:lnTo>
                    <a:lnTo>
                      <a:pt x="140" y="14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4040" y="5248440"/>
                <a:ext cx="222480" cy="223560"/>
              </a:xfrm>
              <a:custGeom>
                <a:avLst/>
                <a:gdLst/>
                <a:ahLst/>
                <a:rect l="l" t="t" r="r" b="b"/>
                <a:pathLst>
                  <a:path w="140" h="141">
                    <a:moveTo>
                      <a:pt x="70" y="0"/>
                    </a:moveTo>
                    <a:lnTo>
                      <a:pt x="0" y="141"/>
                    </a:lnTo>
                    <a:lnTo>
                      <a:pt x="140" y="141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00000" y="5470560"/>
                <a:ext cx="446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06640" y="5470560"/>
                <a:ext cx="446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14720" y="5470560"/>
                <a:ext cx="446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23160" y="5472000"/>
                <a:ext cx="446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20680" y="5692680"/>
                <a:ext cx="180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28760" y="5692680"/>
                <a:ext cx="180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37200" y="5692680"/>
                <a:ext cx="144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46720" y="569268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1240" y="5805360"/>
                <a:ext cx="624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81880" y="4354560"/>
                <a:ext cx="22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481880" y="5246280"/>
                <a:ext cx="2221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31720" y="464832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,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93720" y="464832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98480" y="464832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35720" y="464832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548480" y="1633680"/>
                <a:ext cx="84240" cy="83880"/>
                <a:chOff x="7548480" y="1633680"/>
                <a:chExt cx="84240" cy="83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548480" y="1633680"/>
                  <a:ext cx="84240" cy="83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48480" y="1633680"/>
                  <a:ext cx="84240" cy="8388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548480" y="2525760"/>
                <a:ext cx="84240" cy="84240"/>
                <a:chOff x="7548480" y="2525760"/>
                <a:chExt cx="84240" cy="84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548480" y="252576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548480" y="252576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551720" y="3421080"/>
                <a:ext cx="84240" cy="84240"/>
                <a:chOff x="7551720" y="3421080"/>
                <a:chExt cx="84240" cy="84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551720" y="342108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51720" y="342108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551720" y="4313160"/>
                <a:ext cx="84240" cy="84240"/>
                <a:chOff x="7551720" y="4313160"/>
                <a:chExt cx="84240" cy="84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551720" y="431316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51720" y="431316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547040" y="5205240"/>
                <a:ext cx="83880" cy="84240"/>
                <a:chOff x="7547040" y="5205240"/>
                <a:chExt cx="83880" cy="84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547040" y="5205240"/>
                  <a:ext cx="8388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47040" y="5205240"/>
                  <a:ext cx="8388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077840" y="5762520"/>
                <a:ext cx="84240" cy="84240"/>
                <a:chOff x="1077840" y="5762520"/>
                <a:chExt cx="84240" cy="84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077840" y="576252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077840" y="576252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087720" y="5762520"/>
                <a:ext cx="84240" cy="84240"/>
                <a:chOff x="3087720" y="5762520"/>
                <a:chExt cx="84240" cy="84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87720" y="576252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87720" y="576252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094360" y="5762520"/>
                <a:ext cx="83880" cy="84240"/>
                <a:chOff x="5094360" y="5762520"/>
                <a:chExt cx="83880" cy="84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094360" y="5762520"/>
                  <a:ext cx="8388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94360" y="5762520"/>
                  <a:ext cx="8388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103880" y="5762520"/>
                <a:ext cx="84240" cy="84240"/>
                <a:chOff x="7103880" y="5762520"/>
                <a:chExt cx="84240" cy="842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103880" y="5762520"/>
                  <a:ext cx="84240" cy="84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103880" y="5762520"/>
                  <a:ext cx="84240" cy="84240"/>
                </a:xfrm>
                <a:prstGeom prst="ellipse">
                  <a:avLst/>
                </a:prstGeom>
                <a:noFill/>
                <a:ln cap="rnd"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956240" y="55404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61360" y="55404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98600" y="554040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62880" y="55404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68000" y="55404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5240" y="554040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69520" y="5540400"/>
                <a:ext cx="116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76080" y="55404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11880" y="5540400"/>
                <a:ext cx="54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079B-53F4-431B-955C-74609BC09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rac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ut of pl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eated as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two plane fra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el S35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ometry of studied fram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4720" y="3228840"/>
            <a:ext cx="7488000" cy="26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BF37-15A3-41F7-9967-03F853A636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ad cas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manent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ind lo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3 imposed (variable) loading c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69720" y="1663560"/>
          <a:ext cx="8424720" cy="227016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4920"/>
                <a:gridCol w="2106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66"/>
                      </a:solidFill>
                    </a:lnR>
                    <a:lnT>
                      <a:noFill/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manen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vertical)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vertical)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Win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oof level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,6 kN/m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kN/m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,72 kN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loor level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,6 kN/m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,5 kN/m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,44 kN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EA2E-3D67-4CDF-B52E-429C294D8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68280" y="2303640"/>
            <a:ext cx="3641760" cy="2709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329000" y="2303640"/>
            <a:ext cx="4419720" cy="2709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98400" y="4724280"/>
            <a:ext cx="792000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manent loading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                                          Wind loading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A838-7961-49E7-BAB3-C830B5AA2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07880" y="2736720"/>
            <a:ext cx="2476440" cy="18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60600" y="2736720"/>
            <a:ext cx="2462400" cy="1844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240600" y="2736720"/>
            <a:ext cx="2363760" cy="1827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381560"/>
            <a:ext cx="9144000" cy="11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mposed loading case 1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    Imposed loading case 2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   Imposed loading case 3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57F8-0495-4659-9006-151A59515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mperf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057560" y="2133720"/>
          <a:ext cx="116208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7560" y="2133720"/>
                    <a:ext cx="1162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340000" y="3166920"/>
          <a:ext cx="45194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166920"/>
                    <a:ext cx="4519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340000" y="4365720"/>
          <a:ext cx="4481640" cy="97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365720"/>
                    <a:ext cx="44816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813120" y="5592600"/>
          <a:ext cx="1550880" cy="4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3120" y="5592600"/>
                    <a:ext cx="15508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DD2D-03DD-486B-B12E-F00ADEA9F1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6-08T07:22:10Z</dcterms:modified>
  <cp:revision>134</cp:revision>
  <dc:subject/>
  <dc:title>asdasdsdsda</dc:title>
</cp:coreProperties>
</file>