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2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6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5CE6-3B68-41AB-BC38-CA2921D89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46D5-97C9-4E8F-AFE7-C55B572AD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3B33-5A3F-4FD7-BC06-D1826138B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FF7F-CA40-42EC-86F4-E6496129E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6F58-45D7-4457-9378-EC54AC075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6588-E382-4217-9A18-A08342397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B2CA-7B42-4BDC-8338-4F4C2397D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C894-9E69-49A0-AA8B-FB8D2956B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A3FC-EE4B-4E37-A8B3-9E7114474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0672-7E94-4A81-B693-4DC8C1E9E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0F5C-127F-42F0-9C5C-B113C8B33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6B8C-DA89-431A-A1D8-8D39A049E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11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Members in bending and axial forc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0B45-4657-4285-90E5-EC716F5C28C7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3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of member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886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1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mbers in bending and axial for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embers: theoretical backgrou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patial behaviou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failure assumed to occur in either strong or weak axis plan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 spatial coupling between instabili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276120" y="2565360"/>
          <a:ext cx="85899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2565360"/>
                    <a:ext cx="85899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304920" y="3789360"/>
          <a:ext cx="853272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789360"/>
                    <a:ext cx="85327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C0B5-ADC1-49C7-8F43-D5B8EC808D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embers: theoretical backgrou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lastic-plastic behaviou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Class 1 and 2 cross-sectio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C M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pl,R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replaces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el,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actor”: so that bending resistance is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termediat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between plastic and elastic, due to instability effec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979640" y="2708280"/>
          <a:ext cx="467208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08280"/>
                    <a:ext cx="46720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2211480" y="4797360"/>
          <a:ext cx="398772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1480" y="4797360"/>
                    <a:ext cx="3987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4244-9467-416C-83FD-ABF72A2E8E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embers: extension of basic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patial and elastic-plastic behavi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actor” decomposed into </a:t>
            </a:r>
            <a:r>
              <a:rPr b="0" i="1" lang="en-GB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i="1" lang="en-GB" sz="2400" spc="-1" strike="noStrike" baseline="-25000">
                <a:solidFill>
                  <a:srgbClr val="cc3300"/>
                </a:solidFill>
                <a:latin typeface="Arial"/>
              </a:rPr>
              <a:t>ii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i="1" lang="en-GB" sz="2400" spc="-1" strike="noStrike" baseline="-25000">
                <a:solidFill>
                  <a:srgbClr val="cc3300"/>
                </a:solidFill>
                <a:latin typeface="Arial"/>
              </a:rPr>
              <a:t>ij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act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08000" y="2371680"/>
          <a:ext cx="8964720" cy="9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371680"/>
                    <a:ext cx="896472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108000" y="3735360"/>
          <a:ext cx="9004320" cy="9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3735360"/>
                    <a:ext cx="900432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940A-E05E-48EB-9A1E-CF9D770EB7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embers: extension of basic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patial and elastic-plastic behavi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ed for </a:t>
            </a:r>
            <a:r>
              <a:rPr b="0" i="1" lang="en-GB" sz="2400" spc="-1" strike="noStrike">
                <a:solidFill>
                  <a:srgbClr val="cc3300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 baseline="30000">
                <a:solidFill>
                  <a:srgbClr val="cc3300"/>
                </a:solidFill>
                <a:latin typeface="Arial"/>
              </a:rPr>
              <a:t>*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cc3300"/>
                </a:solidFill>
                <a:latin typeface="Symbol"/>
                <a:ea typeface="Symbol"/>
              </a:rPr>
              <a:t></a:t>
            </a:r>
            <a:r>
              <a:rPr b="0" i="1" lang="en-GB" sz="2400" spc="-1" strike="noStrike" baseline="30000">
                <a:solidFill>
                  <a:srgbClr val="cc3300"/>
                </a:solidFill>
                <a:latin typeface="Arial"/>
              </a:rPr>
              <a:t>*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actors: non-linear biaxial ben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pproximation of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xponent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ormula for section resistanc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900000" y="2924280"/>
          <a:ext cx="3289320" cy="9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924280"/>
                    <a:ext cx="32893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4932360" y="2924280"/>
          <a:ext cx="3311640" cy="9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2924280"/>
                    <a:ext cx="33116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2484360" y="4797360"/>
          <a:ext cx="3678480" cy="109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4797360"/>
                    <a:ext cx="367848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267A-F254-4D19-BFCE-162846640F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embers: extension of basic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patial and elastic-plastic behavi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lass 3 and 4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sections cases: “naturally covered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835280" y="2060640"/>
          <a:ext cx="4897440" cy="31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060640"/>
                    <a:ext cx="489744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6645-6A86-4836-9C18-59D5B98FD2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embers: new sets of design ru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ign formulae in EN 1993-1-1 (general forma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187280" y="2492280"/>
          <a:ext cx="664380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492280"/>
                    <a:ext cx="664380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258920" y="4132440"/>
          <a:ext cx="6643800" cy="13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4132440"/>
                    <a:ext cx="6643800" cy="13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AE1D-5C2A-4B44-AB3E-CBCC84F5D2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embers: new sets of design ru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Values for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Rk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f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i,Rk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= W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f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i,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y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…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zz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interaction factors (Method 1 or Method 2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50920" y="2205000"/>
          <a:ext cx="8640720" cy="280836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  <a:gridCol w="1727280"/>
                <a:gridCol w="17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l,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l,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l,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f,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l,z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l,z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l,z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f,z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y,Ed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,y</a:t>
                      </a: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N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z,Ed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,z</a:t>
                      </a:r>
                      <a:r>
                        <a:rPr b="0" i="1" lang="en-GB" sz="2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N</a:t>
                      </a:r>
                      <a:r>
                        <a:rPr b="0" i="1" lang="en-GB" sz="2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9421-C5A8-4D04-9CFF-197B8E187E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thod 1 design ru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ethod 1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set of design ru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re appropriate format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50920" y="2492280"/>
          <a:ext cx="84103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492280"/>
                    <a:ext cx="84103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250920" y="4292640"/>
          <a:ext cx="8319960" cy="18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4292640"/>
                    <a:ext cx="831996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1835280" y="2924280"/>
            <a:ext cx="5047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651640" y="2924280"/>
            <a:ext cx="5047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914560" y="4724280"/>
            <a:ext cx="50508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580000" y="4724280"/>
            <a:ext cx="50472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97080" y="3173400"/>
            <a:ext cx="504720" cy="504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284120" y="4954680"/>
            <a:ext cx="505080" cy="504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32000" y="3573360"/>
            <a:ext cx="432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877080" y="3573360"/>
            <a:ext cx="43164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211640" y="5445000"/>
            <a:ext cx="43164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877080" y="5373720"/>
            <a:ext cx="43164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19A8-EE34-4AC8-9C76-80357D7FE5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thod 1 design ru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quivalent moment factor (</a:t>
            </a:r>
            <a:r>
              <a:rPr b="0" i="1" lang="en-GB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i="1" lang="en-GB" sz="2400" spc="-1" strike="noStrike" baseline="-25000">
                <a:solidFill>
                  <a:srgbClr val="cc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eneral cas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rticular cas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3780000" y="2060640"/>
          <a:ext cx="36129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36129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1047600" y="3284640"/>
            <a:ext cx="3459240" cy="14936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1120680" y="4941720"/>
            <a:ext cx="3451320" cy="114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5" name=""/>
          <p:cNvGraphicFramePr/>
          <p:nvPr/>
        </p:nvGraphicFramePr>
        <p:xfrm>
          <a:off x="5302080" y="3541680"/>
          <a:ext cx="2281320" cy="89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02080" y="3541680"/>
                    <a:ext cx="22813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5289480" y="4838760"/>
          <a:ext cx="2306880" cy="89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9480" y="4838760"/>
                    <a:ext cx="23068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A58B-8DAE-43FB-BE38-6B24C12415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thod 1 design ru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quivalent moment factor (</a:t>
            </a:r>
            <a:r>
              <a:rPr b="0" i="1" lang="en-GB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i="1" lang="en-GB" sz="2400" spc="-1" strike="noStrike" baseline="-25000">
                <a:solidFill>
                  <a:srgbClr val="cc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inear moment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oposed simplificati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547640" y="2708280"/>
          <a:ext cx="609624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708280"/>
                    <a:ext cx="60962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2013120" y="4941720"/>
          <a:ext cx="504972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13120" y="4941720"/>
                    <a:ext cx="50497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0A84-6B4D-4C67-BD3E-BE555C1D77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am-columns: combined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bending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axial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forc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(compression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haviour influenced by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lastic-plastic effec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short member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stability effects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large slendernes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eometrical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mperfectio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residual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tress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intermediate rang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lative importance of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i="1" lang="en-GB" sz="2800" spc="-1" strike="noStrike" baseline="-25000">
                <a:solidFill>
                  <a:srgbClr val="000066"/>
                </a:solidFill>
                <a:latin typeface="Arial"/>
              </a:rPr>
              <a:t>E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n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i="1" lang="en-GB" sz="2800" spc="-1" strike="noStrike" baseline="-25000">
                <a:solidFill>
                  <a:srgbClr val="000066"/>
                </a:solidFill>
                <a:latin typeface="Arial"/>
              </a:rPr>
              <a:t>E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s decisi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Bending moment distributio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to be carefully taken into accou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5968-BB2B-44BE-839C-741DB6A30C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thod 1 design ru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quivalent moment factor (</a:t>
            </a:r>
            <a:r>
              <a:rPr b="0" i="1" lang="en-GB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i="1" lang="en-GB" sz="2400" spc="-1" strike="noStrike" baseline="-25000">
                <a:solidFill>
                  <a:srgbClr val="cc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635880" cy="41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9B21-5166-4E98-A435-A5297CF78E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thod 1 design ru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mark on the definition of the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amplification fact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971640" y="2008080"/>
            <a:ext cx="6565680" cy="408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"/>
          <p:cNvGraphicFramePr/>
          <p:nvPr/>
        </p:nvGraphicFramePr>
        <p:xfrm>
          <a:off x="2627280" y="2421000"/>
          <a:ext cx="2598840" cy="102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421000"/>
                    <a:ext cx="2598840" cy="1022400"/>
                  </a:xfrm>
                  <a:prstGeom prst="rect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2916360" y="3860640"/>
          <a:ext cx="2016000" cy="801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3860640"/>
                    <a:ext cx="2016000" cy="801720"/>
                  </a:xfrm>
                  <a:prstGeom prst="rect">
                    <a:avLst/>
                  </a:prstGeom>
                  <a:ln w="1908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5" name=""/>
          <p:cNvSpPr/>
          <p:nvPr/>
        </p:nvSpPr>
        <p:spPr>
          <a:xfrm>
            <a:off x="5003640" y="4221000"/>
            <a:ext cx="1297080" cy="360360"/>
          </a:xfrm>
          <a:prstGeom prst="line">
            <a:avLst/>
          </a:prstGeom>
          <a:ln w="19080">
            <a:solidFill>
              <a:srgbClr val="00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92720" y="2924280"/>
            <a:ext cx="1440000" cy="1225440"/>
          </a:xfrm>
          <a:prstGeom prst="line">
            <a:avLst/>
          </a:prstGeom>
          <a:ln w="19080">
            <a:solidFill>
              <a:srgbClr val="00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C859-29F6-4A05-AED2-796BDF716E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thod 1 design ru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lasticity factor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”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751040" y="2133720"/>
          <a:ext cx="187488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1040" y="2133720"/>
                    <a:ext cx="18748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4919760" y="2133720"/>
          <a:ext cx="191124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19760" y="2133720"/>
                    <a:ext cx="19112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925560" y="3394080"/>
          <a:ext cx="718992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25560" y="3394080"/>
                    <a:ext cx="71899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839880" y="4572000"/>
          <a:ext cx="7348320" cy="116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9880" y="4572000"/>
                    <a:ext cx="73483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769E-A176-4FC4-BE76-801A3C812C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thod 1 design ru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ontinuit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spec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imple loading cases: example with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E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y,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fluence of strong axis bending on weak axis buckl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2124000" y="2619360"/>
          <a:ext cx="4876920" cy="13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619360"/>
                    <a:ext cx="487692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"/>
          <p:cNvGraphicFramePr/>
          <p:nvPr/>
        </p:nvGraphicFramePr>
        <p:xfrm>
          <a:off x="1332000" y="4003560"/>
          <a:ext cx="632304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003560"/>
                    <a:ext cx="632304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90C8-BA89-498B-927D-4F56368E94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thod 1 design ru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tinuity with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ross-section resistanc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469800" y="3429000"/>
          <a:ext cx="30225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29000"/>
                    <a:ext cx="30225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3637080" y="2173320"/>
            <a:ext cx="4895640" cy="370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FD16-9A1E-4A7C-97AD-83027F8AA2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thod 2 design ru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ethod 2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set of design ru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y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…,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zz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actors: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global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act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789200" y="2438280"/>
          <a:ext cx="56466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2438280"/>
                    <a:ext cx="5646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1860480" y="3716280"/>
          <a:ext cx="564696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0480" y="3716280"/>
                    <a:ext cx="56469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DE17-97D2-4CB2-BF03-F76C7A6DF1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thod 2 design ru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ethod 2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set of design ru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z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actors: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global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act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789200" y="2438280"/>
          <a:ext cx="56466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2438280"/>
                    <a:ext cx="5646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1860480" y="3716280"/>
          <a:ext cx="564696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0480" y="3716280"/>
                    <a:ext cx="56469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3276720" y="3900600"/>
            <a:ext cx="43164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76720" y="2624040"/>
            <a:ext cx="432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9FE3-30DF-4B9D-9D6E-982CEF2345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thod 2 design ru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lobal factor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324000" y="2133720"/>
          <a:ext cx="8351640" cy="3743280"/>
        </p:xfrm>
        <a:graphic>
          <a:graphicData uri="http://schemas.openxmlformats.org/drawingml/2006/table">
            <a:tbl>
              <a:tblPr/>
              <a:tblGrid>
                <a:gridCol w="1295280"/>
                <a:gridCol w="3529080"/>
                <a:gridCol w="3527280"/>
              </a:tblGrid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66"/>
                      </a:solidFill>
                    </a:lnR>
                    <a:lnT>
                      <a:noFill/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lass 3 or 4 cross section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lass 1 or 2 cross section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835200" y="3468600"/>
          <a:ext cx="35208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3468600"/>
                    <a:ext cx="3520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838080" y="4869000"/>
          <a:ext cx="34920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869000"/>
                    <a:ext cx="3492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2182680" y="3141720"/>
          <a:ext cx="2332080" cy="12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82680" y="3141720"/>
                    <a:ext cx="23320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5508720" y="3141720"/>
          <a:ext cx="2817720" cy="122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8720" y="3141720"/>
                    <a:ext cx="28177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2268360" y="4581360"/>
          <a:ext cx="2286000" cy="111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4581360"/>
                    <a:ext cx="228600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5638680" y="4581360"/>
          <a:ext cx="2789280" cy="1176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4581360"/>
                    <a:ext cx="278928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43CB-99D3-4284-9B90-F24DB2DE1A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-3956040" y="2063880"/>
            <a:ext cx="8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-4764240" y="2060640"/>
            <a:ext cx="83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2700000" y="2205000"/>
            <a:ext cx="4332960" cy="3886920"/>
            <a:chOff x="2700000" y="2205000"/>
            <a:chExt cx="4332960" cy="3886920"/>
          </a:xfrm>
        </p:grpSpPr>
        <p:sp>
          <p:nvSpPr>
            <p:cNvPr id="600" name=""/>
            <p:cNvSpPr/>
            <p:nvPr/>
          </p:nvSpPr>
          <p:spPr>
            <a:xfrm>
              <a:off x="3278160" y="2332080"/>
              <a:ext cx="3054600" cy="307800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4295880" y="2330280"/>
              <a:ext cx="0" cy="308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315040" y="2330280"/>
              <a:ext cx="0" cy="308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686840" y="568152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834800" y="58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276720" y="5411880"/>
              <a:ext cx="30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3276720" y="5411520"/>
              <a:ext cx="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4295880" y="5411520"/>
              <a:ext cx="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315040" y="5411520"/>
              <a:ext cx="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6334200" y="5411520"/>
              <a:ext cx="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16240" y="5575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235400" y="5575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54560" y="5575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74080" y="5575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76720" y="2330280"/>
              <a:ext cx="30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276720" y="4384800"/>
              <a:ext cx="3057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76720" y="3357360"/>
              <a:ext cx="3057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00000" y="37130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39320" y="3882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3276720" y="2330280"/>
              <a:ext cx="0" cy="30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37120" y="5411880"/>
              <a:ext cx="3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37120" y="4384800"/>
              <a:ext cx="3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37120" y="3357360"/>
              <a:ext cx="3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237120" y="2330280"/>
              <a:ext cx="3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27800" y="52862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827800" y="42591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27800" y="32320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27800" y="22050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,0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334200" y="2330280"/>
              <a:ext cx="0" cy="30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3376800" y="4097160"/>
              <a:ext cx="2957400" cy="446400"/>
            </a:xfrm>
            <a:custGeom>
              <a:avLst/>
              <a:gdLst/>
              <a:ahLst/>
              <a:rect l="l" t="t" r="r" b="b"/>
              <a:pathLst>
                <a:path w="1523" h="228">
                  <a:moveTo>
                    <a:pt x="0" y="0"/>
                  </a:moveTo>
                  <a:lnTo>
                    <a:pt x="53" y="15"/>
                  </a:lnTo>
                  <a:lnTo>
                    <a:pt x="105" y="32"/>
                  </a:lnTo>
                  <a:lnTo>
                    <a:pt x="158" y="53"/>
                  </a:lnTo>
                  <a:lnTo>
                    <a:pt x="210" y="75"/>
                  </a:lnTo>
                  <a:lnTo>
                    <a:pt x="263" y="96"/>
                  </a:lnTo>
                  <a:lnTo>
                    <a:pt x="315" y="118"/>
                  </a:lnTo>
                  <a:lnTo>
                    <a:pt x="368" y="138"/>
                  </a:lnTo>
                  <a:lnTo>
                    <a:pt x="420" y="156"/>
                  </a:lnTo>
                  <a:lnTo>
                    <a:pt x="473" y="171"/>
                  </a:lnTo>
                  <a:lnTo>
                    <a:pt x="525" y="183"/>
                  </a:lnTo>
                  <a:lnTo>
                    <a:pt x="578" y="192"/>
                  </a:lnTo>
                  <a:lnTo>
                    <a:pt x="630" y="198"/>
                  </a:lnTo>
                  <a:lnTo>
                    <a:pt x="683" y="204"/>
                  </a:lnTo>
                  <a:lnTo>
                    <a:pt x="735" y="207"/>
                  </a:lnTo>
                  <a:lnTo>
                    <a:pt x="788" y="210"/>
                  </a:lnTo>
                  <a:lnTo>
                    <a:pt x="840" y="213"/>
                  </a:lnTo>
                  <a:lnTo>
                    <a:pt x="893" y="216"/>
                  </a:lnTo>
                  <a:lnTo>
                    <a:pt x="945" y="217"/>
                  </a:lnTo>
                  <a:lnTo>
                    <a:pt x="998" y="219"/>
                  </a:lnTo>
                  <a:lnTo>
                    <a:pt x="1050" y="220"/>
                  </a:lnTo>
                  <a:lnTo>
                    <a:pt x="1103" y="222"/>
                  </a:lnTo>
                  <a:lnTo>
                    <a:pt x="1155" y="222"/>
                  </a:lnTo>
                  <a:lnTo>
                    <a:pt x="1208" y="223"/>
                  </a:lnTo>
                  <a:lnTo>
                    <a:pt x="1260" y="225"/>
                  </a:lnTo>
                  <a:lnTo>
                    <a:pt x="1313" y="226"/>
                  </a:lnTo>
                  <a:lnTo>
                    <a:pt x="1365" y="226"/>
                  </a:lnTo>
                  <a:lnTo>
                    <a:pt x="1417" y="226"/>
                  </a:lnTo>
                  <a:lnTo>
                    <a:pt x="1470" y="228"/>
                  </a:lnTo>
                  <a:lnTo>
                    <a:pt x="1523" y="22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3376800" y="3936240"/>
              <a:ext cx="2957400" cy="747720"/>
            </a:xfrm>
            <a:custGeom>
              <a:avLst/>
              <a:gdLst/>
              <a:ahLst/>
              <a:rect l="l" t="t" r="r" b="b"/>
              <a:pathLst>
                <a:path w="1523" h="382">
                  <a:moveTo>
                    <a:pt x="0" y="0"/>
                  </a:moveTo>
                  <a:lnTo>
                    <a:pt x="53" y="26"/>
                  </a:lnTo>
                  <a:lnTo>
                    <a:pt x="158" y="78"/>
                  </a:lnTo>
                  <a:lnTo>
                    <a:pt x="210" y="112"/>
                  </a:lnTo>
                  <a:lnTo>
                    <a:pt x="263" y="144"/>
                  </a:lnTo>
                  <a:lnTo>
                    <a:pt x="315" y="179"/>
                  </a:lnTo>
                  <a:lnTo>
                    <a:pt x="368" y="212"/>
                  </a:lnTo>
                  <a:lnTo>
                    <a:pt x="420" y="242"/>
                  </a:lnTo>
                  <a:lnTo>
                    <a:pt x="473" y="269"/>
                  </a:lnTo>
                  <a:lnTo>
                    <a:pt x="525" y="288"/>
                  </a:lnTo>
                  <a:lnTo>
                    <a:pt x="578" y="304"/>
                  </a:lnTo>
                  <a:lnTo>
                    <a:pt x="630" y="316"/>
                  </a:lnTo>
                  <a:lnTo>
                    <a:pt x="683" y="324"/>
                  </a:lnTo>
                  <a:lnTo>
                    <a:pt x="735" y="332"/>
                  </a:lnTo>
                  <a:lnTo>
                    <a:pt x="788" y="339"/>
                  </a:lnTo>
                  <a:lnTo>
                    <a:pt x="840" y="344"/>
                  </a:lnTo>
                  <a:lnTo>
                    <a:pt x="893" y="350"/>
                  </a:lnTo>
                  <a:lnTo>
                    <a:pt x="945" y="355"/>
                  </a:lnTo>
                  <a:lnTo>
                    <a:pt x="998" y="359"/>
                  </a:lnTo>
                  <a:lnTo>
                    <a:pt x="1050" y="363"/>
                  </a:lnTo>
                  <a:lnTo>
                    <a:pt x="1103" y="367"/>
                  </a:lnTo>
                  <a:lnTo>
                    <a:pt x="1155" y="369"/>
                  </a:lnTo>
                  <a:lnTo>
                    <a:pt x="1208" y="370"/>
                  </a:lnTo>
                  <a:lnTo>
                    <a:pt x="1260" y="374"/>
                  </a:lnTo>
                  <a:lnTo>
                    <a:pt x="1313" y="376"/>
                  </a:lnTo>
                  <a:lnTo>
                    <a:pt x="1365" y="378"/>
                  </a:lnTo>
                  <a:lnTo>
                    <a:pt x="1417" y="380"/>
                  </a:lnTo>
                  <a:lnTo>
                    <a:pt x="1470" y="382"/>
                  </a:lnTo>
                  <a:lnTo>
                    <a:pt x="1523" y="38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3376800" y="3781440"/>
              <a:ext cx="2957400" cy="1015920"/>
            </a:xfrm>
            <a:custGeom>
              <a:avLst/>
              <a:gdLst/>
              <a:ahLst/>
              <a:rect l="l" t="t" r="r" b="b"/>
              <a:pathLst>
                <a:path w="1523" h="520">
                  <a:moveTo>
                    <a:pt x="0" y="0"/>
                  </a:moveTo>
                  <a:lnTo>
                    <a:pt x="105" y="61"/>
                  </a:lnTo>
                  <a:lnTo>
                    <a:pt x="158" y="99"/>
                  </a:lnTo>
                  <a:lnTo>
                    <a:pt x="210" y="141"/>
                  </a:lnTo>
                  <a:lnTo>
                    <a:pt x="263" y="188"/>
                  </a:lnTo>
                  <a:lnTo>
                    <a:pt x="368" y="285"/>
                  </a:lnTo>
                  <a:lnTo>
                    <a:pt x="420" y="326"/>
                  </a:lnTo>
                  <a:lnTo>
                    <a:pt x="473" y="355"/>
                  </a:lnTo>
                  <a:lnTo>
                    <a:pt x="525" y="376"/>
                  </a:lnTo>
                  <a:lnTo>
                    <a:pt x="578" y="395"/>
                  </a:lnTo>
                  <a:lnTo>
                    <a:pt x="630" y="409"/>
                  </a:lnTo>
                  <a:lnTo>
                    <a:pt x="683" y="422"/>
                  </a:lnTo>
                  <a:lnTo>
                    <a:pt x="735" y="435"/>
                  </a:lnTo>
                  <a:lnTo>
                    <a:pt x="788" y="446"/>
                  </a:lnTo>
                  <a:lnTo>
                    <a:pt x="840" y="456"/>
                  </a:lnTo>
                  <a:lnTo>
                    <a:pt x="893" y="465"/>
                  </a:lnTo>
                  <a:lnTo>
                    <a:pt x="945" y="472"/>
                  </a:lnTo>
                  <a:lnTo>
                    <a:pt x="998" y="479"/>
                  </a:lnTo>
                  <a:lnTo>
                    <a:pt x="1050" y="483"/>
                  </a:lnTo>
                  <a:lnTo>
                    <a:pt x="1103" y="491"/>
                  </a:lnTo>
                  <a:lnTo>
                    <a:pt x="1155" y="495"/>
                  </a:lnTo>
                  <a:lnTo>
                    <a:pt x="1208" y="500"/>
                  </a:lnTo>
                  <a:lnTo>
                    <a:pt x="1260" y="503"/>
                  </a:lnTo>
                  <a:lnTo>
                    <a:pt x="1313" y="508"/>
                  </a:lnTo>
                  <a:lnTo>
                    <a:pt x="1365" y="510"/>
                  </a:lnTo>
                  <a:lnTo>
                    <a:pt x="1417" y="515"/>
                  </a:lnTo>
                  <a:lnTo>
                    <a:pt x="1470" y="518"/>
                  </a:lnTo>
                  <a:lnTo>
                    <a:pt x="1523" y="52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3376800" y="3623400"/>
              <a:ext cx="2957400" cy="1265400"/>
            </a:xfrm>
            <a:custGeom>
              <a:avLst/>
              <a:gdLst/>
              <a:ahLst/>
              <a:rect l="l" t="t" r="r" b="b"/>
              <a:pathLst>
                <a:path w="1523" h="647">
                  <a:moveTo>
                    <a:pt x="0" y="0"/>
                  </a:moveTo>
                  <a:lnTo>
                    <a:pt x="53" y="39"/>
                  </a:lnTo>
                  <a:lnTo>
                    <a:pt x="105" y="82"/>
                  </a:lnTo>
                  <a:lnTo>
                    <a:pt x="158" y="135"/>
                  </a:lnTo>
                  <a:lnTo>
                    <a:pt x="210" y="194"/>
                  </a:lnTo>
                  <a:lnTo>
                    <a:pt x="315" y="318"/>
                  </a:lnTo>
                  <a:lnTo>
                    <a:pt x="368" y="377"/>
                  </a:lnTo>
                  <a:lnTo>
                    <a:pt x="420" y="425"/>
                  </a:lnTo>
                  <a:lnTo>
                    <a:pt x="473" y="461"/>
                  </a:lnTo>
                  <a:lnTo>
                    <a:pt x="525" y="484"/>
                  </a:lnTo>
                  <a:lnTo>
                    <a:pt x="578" y="502"/>
                  </a:lnTo>
                  <a:lnTo>
                    <a:pt x="630" y="510"/>
                  </a:lnTo>
                  <a:lnTo>
                    <a:pt x="683" y="518"/>
                  </a:lnTo>
                  <a:lnTo>
                    <a:pt x="735" y="524"/>
                  </a:lnTo>
                  <a:lnTo>
                    <a:pt x="788" y="538"/>
                  </a:lnTo>
                  <a:lnTo>
                    <a:pt x="840" y="549"/>
                  </a:lnTo>
                  <a:lnTo>
                    <a:pt x="893" y="563"/>
                  </a:lnTo>
                  <a:lnTo>
                    <a:pt x="945" y="575"/>
                  </a:lnTo>
                  <a:lnTo>
                    <a:pt x="998" y="587"/>
                  </a:lnTo>
                  <a:lnTo>
                    <a:pt x="1050" y="596"/>
                  </a:lnTo>
                  <a:lnTo>
                    <a:pt x="1103" y="605"/>
                  </a:lnTo>
                  <a:lnTo>
                    <a:pt x="1155" y="612"/>
                  </a:lnTo>
                  <a:lnTo>
                    <a:pt x="1208" y="618"/>
                  </a:lnTo>
                  <a:lnTo>
                    <a:pt x="1260" y="624"/>
                  </a:lnTo>
                  <a:lnTo>
                    <a:pt x="1313" y="631"/>
                  </a:lnTo>
                  <a:lnTo>
                    <a:pt x="1365" y="634"/>
                  </a:lnTo>
                  <a:lnTo>
                    <a:pt x="1417" y="640"/>
                  </a:lnTo>
                  <a:lnTo>
                    <a:pt x="1523" y="64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3376800" y="3470400"/>
              <a:ext cx="2957400" cy="1474560"/>
            </a:xfrm>
            <a:custGeom>
              <a:avLst/>
              <a:gdLst/>
              <a:ahLst/>
              <a:rect l="l" t="t" r="r" b="b"/>
              <a:pathLst>
                <a:path w="1523" h="754">
                  <a:moveTo>
                    <a:pt x="0" y="0"/>
                  </a:moveTo>
                  <a:lnTo>
                    <a:pt x="53" y="63"/>
                  </a:lnTo>
                  <a:lnTo>
                    <a:pt x="105" y="117"/>
                  </a:lnTo>
                  <a:lnTo>
                    <a:pt x="158" y="179"/>
                  </a:lnTo>
                  <a:lnTo>
                    <a:pt x="210" y="246"/>
                  </a:lnTo>
                  <a:lnTo>
                    <a:pt x="315" y="393"/>
                  </a:lnTo>
                  <a:lnTo>
                    <a:pt x="368" y="466"/>
                  </a:lnTo>
                  <a:lnTo>
                    <a:pt x="420" y="523"/>
                  </a:lnTo>
                  <a:lnTo>
                    <a:pt x="473" y="559"/>
                  </a:lnTo>
                  <a:lnTo>
                    <a:pt x="525" y="583"/>
                  </a:lnTo>
                  <a:lnTo>
                    <a:pt x="578" y="593"/>
                  </a:lnTo>
                  <a:lnTo>
                    <a:pt x="630" y="604"/>
                  </a:lnTo>
                  <a:lnTo>
                    <a:pt x="683" y="614"/>
                  </a:lnTo>
                  <a:lnTo>
                    <a:pt x="735" y="618"/>
                  </a:lnTo>
                  <a:lnTo>
                    <a:pt x="788" y="629"/>
                  </a:lnTo>
                  <a:lnTo>
                    <a:pt x="840" y="636"/>
                  </a:lnTo>
                  <a:lnTo>
                    <a:pt x="893" y="648"/>
                  </a:lnTo>
                  <a:lnTo>
                    <a:pt x="945" y="663"/>
                  </a:lnTo>
                  <a:lnTo>
                    <a:pt x="998" y="675"/>
                  </a:lnTo>
                  <a:lnTo>
                    <a:pt x="1050" y="687"/>
                  </a:lnTo>
                  <a:lnTo>
                    <a:pt x="1103" y="695"/>
                  </a:lnTo>
                  <a:lnTo>
                    <a:pt x="1155" y="707"/>
                  </a:lnTo>
                  <a:lnTo>
                    <a:pt x="1208" y="711"/>
                  </a:lnTo>
                  <a:lnTo>
                    <a:pt x="1260" y="720"/>
                  </a:lnTo>
                  <a:lnTo>
                    <a:pt x="1313" y="728"/>
                  </a:lnTo>
                  <a:lnTo>
                    <a:pt x="1365" y="732"/>
                  </a:lnTo>
                  <a:lnTo>
                    <a:pt x="1417" y="741"/>
                  </a:lnTo>
                  <a:lnTo>
                    <a:pt x="1470" y="745"/>
                  </a:lnTo>
                  <a:lnTo>
                    <a:pt x="1523" y="75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3376800" y="3301200"/>
              <a:ext cx="2957400" cy="1644840"/>
            </a:xfrm>
            <a:custGeom>
              <a:avLst/>
              <a:gdLst/>
              <a:ahLst/>
              <a:rect l="l" t="t" r="r" b="b"/>
              <a:pathLst>
                <a:path w="1523" h="841">
                  <a:moveTo>
                    <a:pt x="0" y="0"/>
                  </a:moveTo>
                  <a:lnTo>
                    <a:pt x="53" y="77"/>
                  </a:lnTo>
                  <a:lnTo>
                    <a:pt x="105" y="133"/>
                  </a:lnTo>
                  <a:lnTo>
                    <a:pt x="158" y="196"/>
                  </a:lnTo>
                  <a:lnTo>
                    <a:pt x="210" y="269"/>
                  </a:lnTo>
                  <a:lnTo>
                    <a:pt x="263" y="352"/>
                  </a:lnTo>
                  <a:lnTo>
                    <a:pt x="315" y="444"/>
                  </a:lnTo>
                  <a:lnTo>
                    <a:pt x="420" y="601"/>
                  </a:lnTo>
                  <a:lnTo>
                    <a:pt x="473" y="647"/>
                  </a:lnTo>
                  <a:lnTo>
                    <a:pt x="578" y="676"/>
                  </a:lnTo>
                  <a:lnTo>
                    <a:pt x="630" y="681"/>
                  </a:lnTo>
                  <a:lnTo>
                    <a:pt x="683" y="686"/>
                  </a:lnTo>
                  <a:lnTo>
                    <a:pt x="735" y="696"/>
                  </a:lnTo>
                  <a:lnTo>
                    <a:pt x="788" y="706"/>
                  </a:lnTo>
                  <a:lnTo>
                    <a:pt x="840" y="716"/>
                  </a:lnTo>
                  <a:lnTo>
                    <a:pt x="893" y="727"/>
                  </a:lnTo>
                  <a:lnTo>
                    <a:pt x="945" y="743"/>
                  </a:lnTo>
                  <a:lnTo>
                    <a:pt x="998" y="759"/>
                  </a:lnTo>
                  <a:lnTo>
                    <a:pt x="1050" y="770"/>
                  </a:lnTo>
                  <a:lnTo>
                    <a:pt x="1103" y="782"/>
                  </a:lnTo>
                  <a:lnTo>
                    <a:pt x="1155" y="793"/>
                  </a:lnTo>
                  <a:lnTo>
                    <a:pt x="1208" y="799"/>
                  </a:lnTo>
                  <a:lnTo>
                    <a:pt x="1260" y="805"/>
                  </a:lnTo>
                  <a:lnTo>
                    <a:pt x="1313" y="816"/>
                  </a:lnTo>
                  <a:lnTo>
                    <a:pt x="1365" y="822"/>
                  </a:lnTo>
                  <a:lnTo>
                    <a:pt x="1417" y="828"/>
                  </a:lnTo>
                  <a:lnTo>
                    <a:pt x="1470" y="834"/>
                  </a:lnTo>
                  <a:lnTo>
                    <a:pt x="1523" y="84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3376800" y="3052800"/>
              <a:ext cx="2957400" cy="1874880"/>
            </a:xfrm>
            <a:custGeom>
              <a:avLst/>
              <a:gdLst/>
              <a:ahLst/>
              <a:rect l="l" t="t" r="r" b="b"/>
              <a:pathLst>
                <a:path w="1523" h="958">
                  <a:moveTo>
                    <a:pt x="0" y="0"/>
                  </a:moveTo>
                  <a:lnTo>
                    <a:pt x="53" y="86"/>
                  </a:lnTo>
                  <a:lnTo>
                    <a:pt x="158" y="194"/>
                  </a:lnTo>
                  <a:lnTo>
                    <a:pt x="210" y="274"/>
                  </a:lnTo>
                  <a:lnTo>
                    <a:pt x="263" y="369"/>
                  </a:lnTo>
                  <a:lnTo>
                    <a:pt x="315" y="473"/>
                  </a:lnTo>
                  <a:lnTo>
                    <a:pt x="368" y="579"/>
                  </a:lnTo>
                  <a:lnTo>
                    <a:pt x="420" y="672"/>
                  </a:lnTo>
                  <a:lnTo>
                    <a:pt x="473" y="735"/>
                  </a:lnTo>
                  <a:lnTo>
                    <a:pt x="525" y="757"/>
                  </a:lnTo>
                  <a:lnTo>
                    <a:pt x="578" y="764"/>
                  </a:lnTo>
                  <a:lnTo>
                    <a:pt x="630" y="764"/>
                  </a:lnTo>
                  <a:lnTo>
                    <a:pt x="683" y="764"/>
                  </a:lnTo>
                  <a:lnTo>
                    <a:pt x="735" y="772"/>
                  </a:lnTo>
                  <a:lnTo>
                    <a:pt x="788" y="779"/>
                  </a:lnTo>
                  <a:lnTo>
                    <a:pt x="840" y="795"/>
                  </a:lnTo>
                  <a:lnTo>
                    <a:pt x="893" y="818"/>
                  </a:lnTo>
                  <a:lnTo>
                    <a:pt x="945" y="835"/>
                  </a:lnTo>
                  <a:lnTo>
                    <a:pt x="998" y="851"/>
                  </a:lnTo>
                  <a:lnTo>
                    <a:pt x="1050" y="868"/>
                  </a:lnTo>
                  <a:lnTo>
                    <a:pt x="1103" y="877"/>
                  </a:lnTo>
                  <a:lnTo>
                    <a:pt x="1155" y="885"/>
                  </a:lnTo>
                  <a:lnTo>
                    <a:pt x="1208" y="903"/>
                  </a:lnTo>
                  <a:lnTo>
                    <a:pt x="1260" y="912"/>
                  </a:lnTo>
                  <a:lnTo>
                    <a:pt x="1313" y="921"/>
                  </a:lnTo>
                  <a:lnTo>
                    <a:pt x="1365" y="930"/>
                  </a:lnTo>
                  <a:lnTo>
                    <a:pt x="1417" y="930"/>
                  </a:lnTo>
                  <a:lnTo>
                    <a:pt x="1470" y="939"/>
                  </a:lnTo>
                  <a:lnTo>
                    <a:pt x="1523" y="95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3479760" y="2864160"/>
              <a:ext cx="2854440" cy="1838520"/>
            </a:xfrm>
            <a:custGeom>
              <a:avLst/>
              <a:gdLst/>
              <a:ahLst/>
              <a:rect l="l" t="t" r="r" b="b"/>
              <a:pathLst>
                <a:path w="1470" h="940">
                  <a:moveTo>
                    <a:pt x="0" y="0"/>
                  </a:moveTo>
                  <a:lnTo>
                    <a:pt x="52" y="31"/>
                  </a:lnTo>
                  <a:lnTo>
                    <a:pt x="105" y="81"/>
                  </a:lnTo>
                  <a:lnTo>
                    <a:pt x="210" y="267"/>
                  </a:lnTo>
                  <a:lnTo>
                    <a:pt x="262" y="386"/>
                  </a:lnTo>
                  <a:lnTo>
                    <a:pt x="315" y="513"/>
                  </a:lnTo>
                  <a:lnTo>
                    <a:pt x="367" y="635"/>
                  </a:lnTo>
                  <a:lnTo>
                    <a:pt x="420" y="717"/>
                  </a:lnTo>
                  <a:lnTo>
                    <a:pt x="472" y="754"/>
                  </a:lnTo>
                  <a:lnTo>
                    <a:pt x="525" y="767"/>
                  </a:lnTo>
                  <a:lnTo>
                    <a:pt x="577" y="767"/>
                  </a:lnTo>
                  <a:lnTo>
                    <a:pt x="630" y="767"/>
                  </a:lnTo>
                  <a:lnTo>
                    <a:pt x="682" y="767"/>
                  </a:lnTo>
                  <a:lnTo>
                    <a:pt x="735" y="780"/>
                  </a:lnTo>
                  <a:lnTo>
                    <a:pt x="840" y="807"/>
                  </a:lnTo>
                  <a:lnTo>
                    <a:pt x="892" y="835"/>
                  </a:lnTo>
                  <a:lnTo>
                    <a:pt x="945" y="835"/>
                  </a:lnTo>
                  <a:lnTo>
                    <a:pt x="997" y="849"/>
                  </a:lnTo>
                  <a:lnTo>
                    <a:pt x="1050" y="864"/>
                  </a:lnTo>
                  <a:lnTo>
                    <a:pt x="1102" y="878"/>
                  </a:lnTo>
                  <a:lnTo>
                    <a:pt x="1155" y="893"/>
                  </a:lnTo>
                  <a:lnTo>
                    <a:pt x="1207" y="893"/>
                  </a:lnTo>
                  <a:lnTo>
                    <a:pt x="1260" y="908"/>
                  </a:lnTo>
                  <a:lnTo>
                    <a:pt x="1312" y="908"/>
                  </a:lnTo>
                  <a:lnTo>
                    <a:pt x="1364" y="924"/>
                  </a:lnTo>
                  <a:lnTo>
                    <a:pt x="1417" y="940"/>
                  </a:lnTo>
                  <a:lnTo>
                    <a:pt x="1470" y="94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53040" y="2665440"/>
              <a:ext cx="79200" cy="2617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93360" y="2409840"/>
              <a:ext cx="70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MNIA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94440" y="2681280"/>
              <a:ext cx="160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HS 200/100/10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81800" y="5737320"/>
              <a:ext cx="15228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423120" y="4013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43360" y="415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05640" y="4013280"/>
              <a:ext cx="42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=0,1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23120" y="27496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543360" y="289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05640" y="2749680"/>
              <a:ext cx="42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=0,8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14480" y="240984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92680" y="2552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26240" y="2460600"/>
              <a:ext cx="365040" cy="1411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thod 2 design ru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lobal factors: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umericall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e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7F31-5934-4A8E-9DDE-938831B2E2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thod 2 design ru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lobal factors: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umericall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e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55600" y="2119320"/>
            <a:ext cx="2797200" cy="3201840"/>
            <a:chOff x="255600" y="2119320"/>
            <a:chExt cx="2797200" cy="3201840"/>
          </a:xfrm>
        </p:grpSpPr>
        <p:sp>
          <p:nvSpPr>
            <p:cNvPr id="655" name=""/>
            <p:cNvSpPr/>
            <p:nvPr/>
          </p:nvSpPr>
          <p:spPr>
            <a:xfrm>
              <a:off x="255600" y="2119320"/>
              <a:ext cx="2797200" cy="32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5280" y="2795760"/>
              <a:ext cx="2038320" cy="20462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1344600" y="2795760"/>
              <a:ext cx="0" cy="204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023920" y="2795760"/>
              <a:ext cx="0" cy="204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604160" y="502128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704240" y="5149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5280" y="4842000"/>
              <a:ext cx="2038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665280" y="484164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1344600" y="484164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2023920" y="484164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2703600" y="484164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5320" y="4951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304640" y="4951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83960" y="4951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63640" y="4951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65280" y="2795760"/>
              <a:ext cx="2038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5280" y="4159080"/>
              <a:ext cx="2038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5280" y="3476520"/>
              <a:ext cx="2038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0080" y="3714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4040" y="382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665280" y="2795760"/>
              <a:ext cx="0" cy="2046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9720" y="484200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39720" y="415908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39720" y="347652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39720" y="279576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5760" y="47592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65760" y="40766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" y="33955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65760" y="27129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,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2703600" y="2795760"/>
              <a:ext cx="0" cy="2046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665280" y="4048920"/>
              <a:ext cx="2038320" cy="136440"/>
            </a:xfrm>
            <a:custGeom>
              <a:avLst/>
              <a:gdLst/>
              <a:ahLst/>
              <a:rect l="l" t="t" r="r" b="b"/>
              <a:pathLst>
                <a:path w="1575" h="105">
                  <a:moveTo>
                    <a:pt x="0" y="0"/>
                  </a:moveTo>
                  <a:lnTo>
                    <a:pt x="525" y="105"/>
                  </a:lnTo>
                  <a:lnTo>
                    <a:pt x="1050" y="105"/>
                  </a:lnTo>
                  <a:lnTo>
                    <a:pt x="1575" y="10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665280" y="3939480"/>
              <a:ext cx="2038320" cy="274680"/>
            </a:xfrm>
            <a:custGeom>
              <a:avLst/>
              <a:gdLst/>
              <a:ahLst/>
              <a:rect l="l" t="t" r="r" b="b"/>
              <a:pathLst>
                <a:path w="1575" h="211">
                  <a:moveTo>
                    <a:pt x="0" y="0"/>
                  </a:moveTo>
                  <a:lnTo>
                    <a:pt x="525" y="211"/>
                  </a:lnTo>
                  <a:lnTo>
                    <a:pt x="1050" y="211"/>
                  </a:lnTo>
                  <a:lnTo>
                    <a:pt x="1575" y="21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665280" y="3832200"/>
              <a:ext cx="2038320" cy="409680"/>
            </a:xfrm>
            <a:custGeom>
              <a:avLst/>
              <a:gdLst/>
              <a:ahLst/>
              <a:rect l="l" t="t" r="r" b="b"/>
              <a:pathLst>
                <a:path w="1575" h="315">
                  <a:moveTo>
                    <a:pt x="0" y="0"/>
                  </a:moveTo>
                  <a:lnTo>
                    <a:pt x="525" y="315"/>
                  </a:lnTo>
                  <a:lnTo>
                    <a:pt x="1050" y="315"/>
                  </a:lnTo>
                  <a:lnTo>
                    <a:pt x="1575" y="31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665280" y="3722040"/>
              <a:ext cx="2038320" cy="546120"/>
            </a:xfrm>
            <a:custGeom>
              <a:avLst/>
              <a:gdLst/>
              <a:ahLst/>
              <a:rect l="l" t="t" r="r" b="b"/>
              <a:pathLst>
                <a:path w="1575" h="420">
                  <a:moveTo>
                    <a:pt x="0" y="0"/>
                  </a:moveTo>
                  <a:lnTo>
                    <a:pt x="525" y="420"/>
                  </a:lnTo>
                  <a:lnTo>
                    <a:pt x="1050" y="420"/>
                  </a:lnTo>
                  <a:lnTo>
                    <a:pt x="1575" y="42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665280" y="3613320"/>
              <a:ext cx="2038320" cy="682560"/>
            </a:xfrm>
            <a:custGeom>
              <a:avLst/>
              <a:gdLst/>
              <a:ahLst/>
              <a:rect l="l" t="t" r="r" b="b"/>
              <a:pathLst>
                <a:path w="1575" h="525">
                  <a:moveTo>
                    <a:pt x="0" y="0"/>
                  </a:moveTo>
                  <a:lnTo>
                    <a:pt x="525" y="525"/>
                  </a:lnTo>
                  <a:lnTo>
                    <a:pt x="1050" y="525"/>
                  </a:lnTo>
                  <a:lnTo>
                    <a:pt x="1575" y="52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65280" y="3504600"/>
              <a:ext cx="2038320" cy="817560"/>
            </a:xfrm>
            <a:custGeom>
              <a:avLst/>
              <a:gdLst/>
              <a:ahLst/>
              <a:rect l="l" t="t" r="r" b="b"/>
              <a:pathLst>
                <a:path w="1575" h="630">
                  <a:moveTo>
                    <a:pt x="0" y="0"/>
                  </a:moveTo>
                  <a:lnTo>
                    <a:pt x="525" y="630"/>
                  </a:lnTo>
                  <a:lnTo>
                    <a:pt x="1050" y="630"/>
                  </a:lnTo>
                  <a:lnTo>
                    <a:pt x="1575" y="6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665280" y="3394800"/>
              <a:ext cx="2038320" cy="954360"/>
            </a:xfrm>
            <a:custGeom>
              <a:avLst/>
              <a:gdLst/>
              <a:ahLst/>
              <a:rect l="l" t="t" r="r" b="b"/>
              <a:pathLst>
                <a:path w="1575" h="735">
                  <a:moveTo>
                    <a:pt x="0" y="0"/>
                  </a:moveTo>
                  <a:lnTo>
                    <a:pt x="525" y="735"/>
                  </a:lnTo>
                  <a:lnTo>
                    <a:pt x="1050" y="735"/>
                  </a:lnTo>
                  <a:lnTo>
                    <a:pt x="1575" y="73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665280" y="3284640"/>
              <a:ext cx="2038320" cy="1093680"/>
            </a:xfrm>
            <a:custGeom>
              <a:avLst/>
              <a:gdLst/>
              <a:ahLst/>
              <a:rect l="l" t="t" r="r" b="b"/>
              <a:pathLst>
                <a:path w="1575" h="841">
                  <a:moveTo>
                    <a:pt x="0" y="0"/>
                  </a:moveTo>
                  <a:lnTo>
                    <a:pt x="525" y="841"/>
                  </a:lnTo>
                  <a:lnTo>
                    <a:pt x="1050" y="841"/>
                  </a:lnTo>
                  <a:lnTo>
                    <a:pt x="1575" y="84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9280" y="2840040"/>
              <a:ext cx="688680" cy="200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54040" y="4146480"/>
              <a:ext cx="447840" cy="460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01640" y="5057640"/>
              <a:ext cx="1018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79240" y="4065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558800" y="41590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98760" y="40654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=0,1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79240" y="3075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58800" y="3166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98760" y="3075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=0,8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56400" y="284940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76280" y="294336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63760" y="2879640"/>
              <a:ext cx="246240" cy="96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4120" y="284940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C3 (EN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3171960" y="2133720"/>
            <a:ext cx="2798640" cy="3203280"/>
            <a:chOff x="3171960" y="2133720"/>
            <a:chExt cx="2798640" cy="3203280"/>
          </a:xfrm>
        </p:grpSpPr>
        <p:sp>
          <p:nvSpPr>
            <p:cNvPr id="707" name=""/>
            <p:cNvSpPr/>
            <p:nvPr/>
          </p:nvSpPr>
          <p:spPr>
            <a:xfrm>
              <a:off x="3171960" y="2133720"/>
              <a:ext cx="2798640" cy="32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84520" y="2811240"/>
              <a:ext cx="2034720" cy="2044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4262400" y="2809440"/>
              <a:ext cx="0" cy="2047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941720" y="2809440"/>
              <a:ext cx="0" cy="2047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20520" y="503856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20240" y="5165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583080" y="4857480"/>
              <a:ext cx="2037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3583080" y="4857120"/>
              <a:ext cx="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4262400" y="4857120"/>
              <a:ext cx="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4941720" y="4857120"/>
              <a:ext cx="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5621400" y="4857120"/>
              <a:ext cx="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41320" y="4968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220640" y="4968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00320" y="4968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79640" y="4968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83080" y="2809800"/>
              <a:ext cx="2037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83080" y="4174920"/>
              <a:ext cx="2037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83080" y="3492360"/>
              <a:ext cx="2037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196080" y="372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90040" y="3839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3583080" y="2809440"/>
              <a:ext cx="0" cy="2047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56080" y="4857480"/>
              <a:ext cx="2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56080" y="4174920"/>
              <a:ext cx="2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56080" y="3492360"/>
              <a:ext cx="2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56080" y="2809800"/>
              <a:ext cx="2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281760" y="47750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81760" y="40924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81760" y="3409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81760" y="27270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,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621400" y="2809440"/>
              <a:ext cx="0" cy="2047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3583080" y="3491640"/>
              <a:ext cx="2037960" cy="696600"/>
            </a:xfrm>
            <a:custGeom>
              <a:avLst/>
              <a:gdLst/>
              <a:ahLst/>
              <a:rect l="l" t="t" r="r" b="b"/>
              <a:pathLst>
                <a:path w="1575" h="536">
                  <a:moveTo>
                    <a:pt x="0" y="0"/>
                  </a:moveTo>
                  <a:lnTo>
                    <a:pt x="5" y="2"/>
                  </a:lnTo>
                  <a:lnTo>
                    <a:pt x="10" y="3"/>
                  </a:lnTo>
                  <a:lnTo>
                    <a:pt x="15" y="5"/>
                  </a:lnTo>
                  <a:lnTo>
                    <a:pt x="21" y="7"/>
                  </a:lnTo>
                  <a:lnTo>
                    <a:pt x="26" y="9"/>
                  </a:lnTo>
                  <a:lnTo>
                    <a:pt x="31" y="11"/>
                  </a:lnTo>
                  <a:lnTo>
                    <a:pt x="36" y="13"/>
                  </a:lnTo>
                  <a:lnTo>
                    <a:pt x="42" y="15"/>
                  </a:lnTo>
                  <a:lnTo>
                    <a:pt x="47" y="17"/>
                  </a:lnTo>
                  <a:lnTo>
                    <a:pt x="52" y="19"/>
                  </a:lnTo>
                  <a:lnTo>
                    <a:pt x="57" y="20"/>
                  </a:lnTo>
                  <a:lnTo>
                    <a:pt x="63" y="22"/>
                  </a:lnTo>
                  <a:lnTo>
                    <a:pt x="68" y="24"/>
                  </a:lnTo>
                  <a:lnTo>
                    <a:pt x="73" y="26"/>
                  </a:lnTo>
                  <a:lnTo>
                    <a:pt x="78" y="28"/>
                  </a:lnTo>
                  <a:lnTo>
                    <a:pt x="84" y="30"/>
                  </a:lnTo>
                  <a:lnTo>
                    <a:pt x="89" y="32"/>
                  </a:lnTo>
                  <a:lnTo>
                    <a:pt x="94" y="34"/>
                  </a:lnTo>
                  <a:lnTo>
                    <a:pt x="99" y="36"/>
                  </a:lnTo>
                  <a:lnTo>
                    <a:pt x="105" y="37"/>
                  </a:lnTo>
                  <a:lnTo>
                    <a:pt x="110" y="39"/>
                  </a:lnTo>
                  <a:lnTo>
                    <a:pt x="115" y="41"/>
                  </a:lnTo>
                  <a:lnTo>
                    <a:pt x="120" y="43"/>
                  </a:lnTo>
                  <a:lnTo>
                    <a:pt x="126" y="45"/>
                  </a:lnTo>
                  <a:lnTo>
                    <a:pt x="131" y="47"/>
                  </a:lnTo>
                  <a:lnTo>
                    <a:pt x="136" y="49"/>
                  </a:lnTo>
                  <a:lnTo>
                    <a:pt x="141" y="51"/>
                  </a:lnTo>
                  <a:lnTo>
                    <a:pt x="147" y="53"/>
                  </a:lnTo>
                  <a:lnTo>
                    <a:pt x="152" y="54"/>
                  </a:lnTo>
                  <a:lnTo>
                    <a:pt x="157" y="56"/>
                  </a:lnTo>
                  <a:lnTo>
                    <a:pt x="162" y="58"/>
                  </a:lnTo>
                  <a:lnTo>
                    <a:pt x="168" y="60"/>
                  </a:lnTo>
                  <a:lnTo>
                    <a:pt x="173" y="62"/>
                  </a:lnTo>
                  <a:lnTo>
                    <a:pt x="178" y="64"/>
                  </a:lnTo>
                  <a:lnTo>
                    <a:pt x="183" y="66"/>
                  </a:lnTo>
                  <a:lnTo>
                    <a:pt x="189" y="68"/>
                  </a:lnTo>
                  <a:lnTo>
                    <a:pt x="194" y="70"/>
                  </a:lnTo>
                  <a:lnTo>
                    <a:pt x="199" y="72"/>
                  </a:lnTo>
                  <a:lnTo>
                    <a:pt x="204" y="73"/>
                  </a:lnTo>
                  <a:lnTo>
                    <a:pt x="210" y="75"/>
                  </a:lnTo>
                  <a:lnTo>
                    <a:pt x="215" y="77"/>
                  </a:lnTo>
                  <a:lnTo>
                    <a:pt x="220" y="79"/>
                  </a:lnTo>
                  <a:lnTo>
                    <a:pt x="225" y="81"/>
                  </a:lnTo>
                  <a:lnTo>
                    <a:pt x="231" y="83"/>
                  </a:lnTo>
                  <a:lnTo>
                    <a:pt x="236" y="85"/>
                  </a:lnTo>
                  <a:lnTo>
                    <a:pt x="241" y="87"/>
                  </a:lnTo>
                  <a:lnTo>
                    <a:pt x="246" y="89"/>
                  </a:lnTo>
                  <a:lnTo>
                    <a:pt x="252" y="90"/>
                  </a:lnTo>
                  <a:lnTo>
                    <a:pt x="257" y="92"/>
                  </a:lnTo>
                  <a:lnTo>
                    <a:pt x="262" y="94"/>
                  </a:lnTo>
                  <a:lnTo>
                    <a:pt x="267" y="96"/>
                  </a:lnTo>
                  <a:lnTo>
                    <a:pt x="273" y="98"/>
                  </a:lnTo>
                  <a:lnTo>
                    <a:pt x="278" y="100"/>
                  </a:lnTo>
                  <a:lnTo>
                    <a:pt x="283" y="102"/>
                  </a:lnTo>
                  <a:lnTo>
                    <a:pt x="288" y="104"/>
                  </a:lnTo>
                  <a:lnTo>
                    <a:pt x="294" y="106"/>
                  </a:lnTo>
                  <a:lnTo>
                    <a:pt x="299" y="107"/>
                  </a:lnTo>
                  <a:lnTo>
                    <a:pt x="304" y="109"/>
                  </a:lnTo>
                  <a:lnTo>
                    <a:pt x="309" y="111"/>
                  </a:lnTo>
                  <a:lnTo>
                    <a:pt x="315" y="113"/>
                  </a:lnTo>
                  <a:lnTo>
                    <a:pt x="320" y="115"/>
                  </a:lnTo>
                  <a:lnTo>
                    <a:pt x="325" y="117"/>
                  </a:lnTo>
                  <a:lnTo>
                    <a:pt x="330" y="119"/>
                  </a:lnTo>
                  <a:lnTo>
                    <a:pt x="336" y="121"/>
                  </a:lnTo>
                  <a:lnTo>
                    <a:pt x="341" y="123"/>
                  </a:lnTo>
                  <a:lnTo>
                    <a:pt x="346" y="124"/>
                  </a:lnTo>
                  <a:lnTo>
                    <a:pt x="351" y="126"/>
                  </a:lnTo>
                  <a:lnTo>
                    <a:pt x="357" y="128"/>
                  </a:lnTo>
                  <a:lnTo>
                    <a:pt x="362" y="130"/>
                  </a:lnTo>
                  <a:lnTo>
                    <a:pt x="367" y="132"/>
                  </a:lnTo>
                  <a:lnTo>
                    <a:pt x="372" y="134"/>
                  </a:lnTo>
                  <a:lnTo>
                    <a:pt x="378" y="136"/>
                  </a:lnTo>
                  <a:lnTo>
                    <a:pt x="383" y="138"/>
                  </a:lnTo>
                  <a:lnTo>
                    <a:pt x="388" y="140"/>
                  </a:lnTo>
                  <a:lnTo>
                    <a:pt x="393" y="141"/>
                  </a:lnTo>
                  <a:lnTo>
                    <a:pt x="399" y="143"/>
                  </a:lnTo>
                  <a:lnTo>
                    <a:pt x="404" y="145"/>
                  </a:lnTo>
                  <a:lnTo>
                    <a:pt x="409" y="147"/>
                  </a:lnTo>
                  <a:lnTo>
                    <a:pt x="414" y="149"/>
                  </a:lnTo>
                  <a:lnTo>
                    <a:pt x="420" y="151"/>
                  </a:lnTo>
                  <a:lnTo>
                    <a:pt x="425" y="153"/>
                  </a:lnTo>
                  <a:lnTo>
                    <a:pt x="430" y="155"/>
                  </a:lnTo>
                  <a:lnTo>
                    <a:pt x="435" y="157"/>
                  </a:lnTo>
                  <a:lnTo>
                    <a:pt x="441" y="158"/>
                  </a:lnTo>
                  <a:lnTo>
                    <a:pt x="446" y="160"/>
                  </a:lnTo>
                  <a:lnTo>
                    <a:pt x="451" y="162"/>
                  </a:lnTo>
                  <a:lnTo>
                    <a:pt x="456" y="164"/>
                  </a:lnTo>
                  <a:lnTo>
                    <a:pt x="462" y="166"/>
                  </a:lnTo>
                  <a:lnTo>
                    <a:pt x="467" y="168"/>
                  </a:lnTo>
                  <a:lnTo>
                    <a:pt x="472" y="170"/>
                  </a:lnTo>
                  <a:lnTo>
                    <a:pt x="477" y="172"/>
                  </a:lnTo>
                  <a:lnTo>
                    <a:pt x="483" y="174"/>
                  </a:lnTo>
                  <a:lnTo>
                    <a:pt x="488" y="175"/>
                  </a:lnTo>
                  <a:lnTo>
                    <a:pt x="493" y="177"/>
                  </a:lnTo>
                  <a:lnTo>
                    <a:pt x="498" y="179"/>
                  </a:lnTo>
                  <a:lnTo>
                    <a:pt x="504" y="181"/>
                  </a:lnTo>
                  <a:lnTo>
                    <a:pt x="509" y="183"/>
                  </a:lnTo>
                  <a:lnTo>
                    <a:pt x="514" y="185"/>
                  </a:lnTo>
                  <a:lnTo>
                    <a:pt x="519" y="187"/>
                  </a:lnTo>
                  <a:lnTo>
                    <a:pt x="525" y="189"/>
                  </a:lnTo>
                  <a:lnTo>
                    <a:pt x="530" y="191"/>
                  </a:lnTo>
                  <a:lnTo>
                    <a:pt x="535" y="192"/>
                  </a:lnTo>
                  <a:lnTo>
                    <a:pt x="540" y="194"/>
                  </a:lnTo>
                  <a:lnTo>
                    <a:pt x="546" y="196"/>
                  </a:lnTo>
                  <a:lnTo>
                    <a:pt x="551" y="198"/>
                  </a:lnTo>
                  <a:lnTo>
                    <a:pt x="556" y="200"/>
                  </a:lnTo>
                  <a:lnTo>
                    <a:pt x="561" y="202"/>
                  </a:lnTo>
                  <a:lnTo>
                    <a:pt x="567" y="204"/>
                  </a:lnTo>
                  <a:lnTo>
                    <a:pt x="572" y="206"/>
                  </a:lnTo>
                  <a:lnTo>
                    <a:pt x="577" y="208"/>
                  </a:lnTo>
                  <a:lnTo>
                    <a:pt x="582" y="209"/>
                  </a:lnTo>
                  <a:lnTo>
                    <a:pt x="588" y="211"/>
                  </a:lnTo>
                  <a:lnTo>
                    <a:pt x="593" y="213"/>
                  </a:lnTo>
                  <a:lnTo>
                    <a:pt x="598" y="215"/>
                  </a:lnTo>
                  <a:lnTo>
                    <a:pt x="603" y="217"/>
                  </a:lnTo>
                  <a:lnTo>
                    <a:pt x="609" y="219"/>
                  </a:lnTo>
                  <a:lnTo>
                    <a:pt x="614" y="221"/>
                  </a:lnTo>
                  <a:lnTo>
                    <a:pt x="619" y="223"/>
                  </a:lnTo>
                  <a:lnTo>
                    <a:pt x="624" y="225"/>
                  </a:lnTo>
                  <a:lnTo>
                    <a:pt x="630" y="226"/>
                  </a:lnTo>
                  <a:lnTo>
                    <a:pt x="635" y="228"/>
                  </a:lnTo>
                  <a:lnTo>
                    <a:pt x="640" y="230"/>
                  </a:lnTo>
                  <a:lnTo>
                    <a:pt x="645" y="232"/>
                  </a:lnTo>
                  <a:lnTo>
                    <a:pt x="651" y="234"/>
                  </a:lnTo>
                  <a:lnTo>
                    <a:pt x="656" y="236"/>
                  </a:lnTo>
                  <a:lnTo>
                    <a:pt x="661" y="238"/>
                  </a:lnTo>
                  <a:lnTo>
                    <a:pt x="666" y="240"/>
                  </a:lnTo>
                  <a:lnTo>
                    <a:pt x="672" y="242"/>
                  </a:lnTo>
                  <a:lnTo>
                    <a:pt x="677" y="243"/>
                  </a:lnTo>
                  <a:lnTo>
                    <a:pt x="682" y="245"/>
                  </a:lnTo>
                  <a:lnTo>
                    <a:pt x="687" y="247"/>
                  </a:lnTo>
                  <a:lnTo>
                    <a:pt x="693" y="249"/>
                  </a:lnTo>
                  <a:lnTo>
                    <a:pt x="698" y="251"/>
                  </a:lnTo>
                  <a:lnTo>
                    <a:pt x="703" y="253"/>
                  </a:lnTo>
                  <a:lnTo>
                    <a:pt x="708" y="255"/>
                  </a:lnTo>
                  <a:lnTo>
                    <a:pt x="714" y="257"/>
                  </a:lnTo>
                  <a:lnTo>
                    <a:pt x="719" y="259"/>
                  </a:lnTo>
                  <a:lnTo>
                    <a:pt x="724" y="261"/>
                  </a:lnTo>
                  <a:lnTo>
                    <a:pt x="729" y="262"/>
                  </a:lnTo>
                  <a:lnTo>
                    <a:pt x="735" y="264"/>
                  </a:lnTo>
                  <a:lnTo>
                    <a:pt x="740" y="266"/>
                  </a:lnTo>
                  <a:lnTo>
                    <a:pt x="745" y="268"/>
                  </a:lnTo>
                  <a:lnTo>
                    <a:pt x="750" y="270"/>
                  </a:lnTo>
                  <a:lnTo>
                    <a:pt x="756" y="272"/>
                  </a:lnTo>
                  <a:lnTo>
                    <a:pt x="761" y="274"/>
                  </a:lnTo>
                  <a:lnTo>
                    <a:pt x="766" y="276"/>
                  </a:lnTo>
                  <a:lnTo>
                    <a:pt x="771" y="278"/>
                  </a:lnTo>
                  <a:lnTo>
                    <a:pt x="777" y="279"/>
                  </a:lnTo>
                  <a:lnTo>
                    <a:pt x="782" y="281"/>
                  </a:lnTo>
                  <a:lnTo>
                    <a:pt x="787" y="283"/>
                  </a:lnTo>
                  <a:lnTo>
                    <a:pt x="792" y="285"/>
                  </a:lnTo>
                  <a:lnTo>
                    <a:pt x="798" y="287"/>
                  </a:lnTo>
                  <a:lnTo>
                    <a:pt x="803" y="289"/>
                  </a:lnTo>
                  <a:lnTo>
                    <a:pt x="808" y="291"/>
                  </a:lnTo>
                  <a:lnTo>
                    <a:pt x="813" y="293"/>
                  </a:lnTo>
                  <a:lnTo>
                    <a:pt x="819" y="295"/>
                  </a:lnTo>
                  <a:lnTo>
                    <a:pt x="824" y="296"/>
                  </a:lnTo>
                  <a:lnTo>
                    <a:pt x="829" y="298"/>
                  </a:lnTo>
                  <a:lnTo>
                    <a:pt x="834" y="300"/>
                  </a:lnTo>
                  <a:lnTo>
                    <a:pt x="840" y="302"/>
                  </a:lnTo>
                  <a:lnTo>
                    <a:pt x="845" y="304"/>
                  </a:lnTo>
                  <a:lnTo>
                    <a:pt x="850" y="306"/>
                  </a:lnTo>
                  <a:lnTo>
                    <a:pt x="855" y="308"/>
                  </a:lnTo>
                  <a:lnTo>
                    <a:pt x="861" y="310"/>
                  </a:lnTo>
                  <a:lnTo>
                    <a:pt x="866" y="312"/>
                  </a:lnTo>
                  <a:lnTo>
                    <a:pt x="871" y="313"/>
                  </a:lnTo>
                  <a:lnTo>
                    <a:pt x="876" y="315"/>
                  </a:lnTo>
                  <a:lnTo>
                    <a:pt x="882" y="317"/>
                  </a:lnTo>
                  <a:lnTo>
                    <a:pt x="887" y="319"/>
                  </a:lnTo>
                  <a:lnTo>
                    <a:pt x="892" y="321"/>
                  </a:lnTo>
                  <a:lnTo>
                    <a:pt x="897" y="323"/>
                  </a:lnTo>
                  <a:lnTo>
                    <a:pt x="903" y="325"/>
                  </a:lnTo>
                  <a:lnTo>
                    <a:pt x="908" y="327"/>
                  </a:lnTo>
                  <a:lnTo>
                    <a:pt x="913" y="329"/>
                  </a:lnTo>
                  <a:lnTo>
                    <a:pt x="918" y="330"/>
                  </a:lnTo>
                  <a:lnTo>
                    <a:pt x="924" y="332"/>
                  </a:lnTo>
                  <a:lnTo>
                    <a:pt x="929" y="334"/>
                  </a:lnTo>
                  <a:lnTo>
                    <a:pt x="934" y="336"/>
                  </a:lnTo>
                  <a:lnTo>
                    <a:pt x="939" y="338"/>
                  </a:lnTo>
                  <a:lnTo>
                    <a:pt x="945" y="340"/>
                  </a:lnTo>
                  <a:lnTo>
                    <a:pt x="950" y="342"/>
                  </a:lnTo>
                  <a:lnTo>
                    <a:pt x="955" y="344"/>
                  </a:lnTo>
                  <a:lnTo>
                    <a:pt x="960" y="346"/>
                  </a:lnTo>
                  <a:lnTo>
                    <a:pt x="966" y="347"/>
                  </a:lnTo>
                  <a:lnTo>
                    <a:pt x="971" y="349"/>
                  </a:lnTo>
                  <a:lnTo>
                    <a:pt x="976" y="351"/>
                  </a:lnTo>
                  <a:lnTo>
                    <a:pt x="981" y="353"/>
                  </a:lnTo>
                  <a:lnTo>
                    <a:pt x="987" y="355"/>
                  </a:lnTo>
                  <a:lnTo>
                    <a:pt x="992" y="357"/>
                  </a:lnTo>
                  <a:lnTo>
                    <a:pt x="997" y="359"/>
                  </a:lnTo>
                  <a:lnTo>
                    <a:pt x="1002" y="361"/>
                  </a:lnTo>
                  <a:lnTo>
                    <a:pt x="1008" y="363"/>
                  </a:lnTo>
                  <a:lnTo>
                    <a:pt x="1013" y="364"/>
                  </a:lnTo>
                  <a:lnTo>
                    <a:pt x="1018" y="366"/>
                  </a:lnTo>
                  <a:lnTo>
                    <a:pt x="1023" y="368"/>
                  </a:lnTo>
                  <a:lnTo>
                    <a:pt x="1029" y="370"/>
                  </a:lnTo>
                  <a:lnTo>
                    <a:pt x="1034" y="372"/>
                  </a:lnTo>
                  <a:lnTo>
                    <a:pt x="1039" y="374"/>
                  </a:lnTo>
                  <a:lnTo>
                    <a:pt x="1044" y="376"/>
                  </a:lnTo>
                  <a:lnTo>
                    <a:pt x="1050" y="378"/>
                  </a:lnTo>
                  <a:lnTo>
                    <a:pt x="1055" y="380"/>
                  </a:lnTo>
                  <a:lnTo>
                    <a:pt x="1060" y="381"/>
                  </a:lnTo>
                  <a:lnTo>
                    <a:pt x="1065" y="383"/>
                  </a:lnTo>
                  <a:lnTo>
                    <a:pt x="1071" y="385"/>
                  </a:lnTo>
                  <a:lnTo>
                    <a:pt x="1076" y="387"/>
                  </a:lnTo>
                  <a:lnTo>
                    <a:pt x="1081" y="389"/>
                  </a:lnTo>
                  <a:lnTo>
                    <a:pt x="1086" y="391"/>
                  </a:lnTo>
                  <a:lnTo>
                    <a:pt x="1092" y="393"/>
                  </a:lnTo>
                  <a:lnTo>
                    <a:pt x="1097" y="395"/>
                  </a:lnTo>
                  <a:lnTo>
                    <a:pt x="1102" y="397"/>
                  </a:lnTo>
                  <a:lnTo>
                    <a:pt x="1107" y="398"/>
                  </a:lnTo>
                  <a:lnTo>
                    <a:pt x="1113" y="400"/>
                  </a:lnTo>
                  <a:lnTo>
                    <a:pt x="1118" y="402"/>
                  </a:lnTo>
                  <a:lnTo>
                    <a:pt x="1123" y="404"/>
                  </a:lnTo>
                  <a:lnTo>
                    <a:pt x="1128" y="406"/>
                  </a:lnTo>
                  <a:lnTo>
                    <a:pt x="1134" y="408"/>
                  </a:lnTo>
                  <a:lnTo>
                    <a:pt x="1139" y="410"/>
                  </a:lnTo>
                  <a:lnTo>
                    <a:pt x="1144" y="412"/>
                  </a:lnTo>
                  <a:lnTo>
                    <a:pt x="1149" y="414"/>
                  </a:lnTo>
                  <a:lnTo>
                    <a:pt x="1155" y="415"/>
                  </a:lnTo>
                  <a:lnTo>
                    <a:pt x="1160" y="417"/>
                  </a:lnTo>
                  <a:lnTo>
                    <a:pt x="1165" y="419"/>
                  </a:lnTo>
                  <a:lnTo>
                    <a:pt x="1170" y="421"/>
                  </a:lnTo>
                  <a:lnTo>
                    <a:pt x="1176" y="423"/>
                  </a:lnTo>
                  <a:lnTo>
                    <a:pt x="1181" y="425"/>
                  </a:lnTo>
                  <a:lnTo>
                    <a:pt x="1186" y="427"/>
                  </a:lnTo>
                  <a:lnTo>
                    <a:pt x="1191" y="429"/>
                  </a:lnTo>
                  <a:lnTo>
                    <a:pt x="1197" y="431"/>
                  </a:lnTo>
                  <a:lnTo>
                    <a:pt x="1202" y="432"/>
                  </a:lnTo>
                  <a:lnTo>
                    <a:pt x="1207" y="434"/>
                  </a:lnTo>
                  <a:lnTo>
                    <a:pt x="1212" y="436"/>
                  </a:lnTo>
                  <a:lnTo>
                    <a:pt x="1218" y="438"/>
                  </a:lnTo>
                  <a:lnTo>
                    <a:pt x="1223" y="440"/>
                  </a:lnTo>
                  <a:lnTo>
                    <a:pt x="1228" y="442"/>
                  </a:lnTo>
                  <a:lnTo>
                    <a:pt x="1233" y="444"/>
                  </a:lnTo>
                  <a:lnTo>
                    <a:pt x="1239" y="446"/>
                  </a:lnTo>
                  <a:lnTo>
                    <a:pt x="1244" y="448"/>
                  </a:lnTo>
                  <a:lnTo>
                    <a:pt x="1249" y="450"/>
                  </a:lnTo>
                  <a:lnTo>
                    <a:pt x="1254" y="451"/>
                  </a:lnTo>
                  <a:lnTo>
                    <a:pt x="1260" y="453"/>
                  </a:lnTo>
                  <a:lnTo>
                    <a:pt x="1265" y="455"/>
                  </a:lnTo>
                  <a:lnTo>
                    <a:pt x="1270" y="457"/>
                  </a:lnTo>
                  <a:lnTo>
                    <a:pt x="1275" y="459"/>
                  </a:lnTo>
                  <a:lnTo>
                    <a:pt x="1281" y="461"/>
                  </a:lnTo>
                  <a:lnTo>
                    <a:pt x="1286" y="463"/>
                  </a:lnTo>
                  <a:lnTo>
                    <a:pt x="1291" y="465"/>
                  </a:lnTo>
                  <a:lnTo>
                    <a:pt x="1296" y="467"/>
                  </a:lnTo>
                  <a:lnTo>
                    <a:pt x="1302" y="468"/>
                  </a:lnTo>
                  <a:lnTo>
                    <a:pt x="1307" y="470"/>
                  </a:lnTo>
                  <a:lnTo>
                    <a:pt x="1312" y="472"/>
                  </a:lnTo>
                  <a:lnTo>
                    <a:pt x="1317" y="474"/>
                  </a:lnTo>
                  <a:lnTo>
                    <a:pt x="1323" y="476"/>
                  </a:lnTo>
                  <a:lnTo>
                    <a:pt x="1328" y="478"/>
                  </a:lnTo>
                  <a:lnTo>
                    <a:pt x="1333" y="480"/>
                  </a:lnTo>
                  <a:lnTo>
                    <a:pt x="1338" y="482"/>
                  </a:lnTo>
                  <a:lnTo>
                    <a:pt x="1344" y="484"/>
                  </a:lnTo>
                  <a:lnTo>
                    <a:pt x="1349" y="485"/>
                  </a:lnTo>
                  <a:lnTo>
                    <a:pt x="1354" y="487"/>
                  </a:lnTo>
                  <a:lnTo>
                    <a:pt x="1359" y="489"/>
                  </a:lnTo>
                  <a:lnTo>
                    <a:pt x="1365" y="491"/>
                  </a:lnTo>
                  <a:lnTo>
                    <a:pt x="1370" y="493"/>
                  </a:lnTo>
                  <a:lnTo>
                    <a:pt x="1375" y="495"/>
                  </a:lnTo>
                  <a:lnTo>
                    <a:pt x="1380" y="497"/>
                  </a:lnTo>
                  <a:lnTo>
                    <a:pt x="1386" y="499"/>
                  </a:lnTo>
                  <a:lnTo>
                    <a:pt x="1391" y="501"/>
                  </a:lnTo>
                  <a:lnTo>
                    <a:pt x="1396" y="502"/>
                  </a:lnTo>
                  <a:lnTo>
                    <a:pt x="1401" y="504"/>
                  </a:lnTo>
                  <a:lnTo>
                    <a:pt x="1407" y="506"/>
                  </a:lnTo>
                  <a:lnTo>
                    <a:pt x="1412" y="508"/>
                  </a:lnTo>
                  <a:lnTo>
                    <a:pt x="1417" y="510"/>
                  </a:lnTo>
                  <a:lnTo>
                    <a:pt x="1422" y="512"/>
                  </a:lnTo>
                  <a:lnTo>
                    <a:pt x="1428" y="514"/>
                  </a:lnTo>
                  <a:lnTo>
                    <a:pt x="1433" y="516"/>
                  </a:lnTo>
                  <a:lnTo>
                    <a:pt x="1438" y="518"/>
                  </a:lnTo>
                  <a:lnTo>
                    <a:pt x="1443" y="519"/>
                  </a:lnTo>
                  <a:lnTo>
                    <a:pt x="1449" y="521"/>
                  </a:lnTo>
                  <a:lnTo>
                    <a:pt x="1454" y="523"/>
                  </a:lnTo>
                  <a:lnTo>
                    <a:pt x="1459" y="525"/>
                  </a:lnTo>
                  <a:lnTo>
                    <a:pt x="1464" y="527"/>
                  </a:lnTo>
                  <a:lnTo>
                    <a:pt x="1470" y="529"/>
                  </a:lnTo>
                  <a:lnTo>
                    <a:pt x="1475" y="531"/>
                  </a:lnTo>
                  <a:lnTo>
                    <a:pt x="1480" y="533"/>
                  </a:lnTo>
                  <a:lnTo>
                    <a:pt x="1485" y="535"/>
                  </a:lnTo>
                  <a:lnTo>
                    <a:pt x="1491" y="536"/>
                  </a:lnTo>
                  <a:lnTo>
                    <a:pt x="1496" y="536"/>
                  </a:lnTo>
                  <a:lnTo>
                    <a:pt x="1501" y="536"/>
                  </a:lnTo>
                  <a:lnTo>
                    <a:pt x="1506" y="536"/>
                  </a:lnTo>
                  <a:lnTo>
                    <a:pt x="1512" y="536"/>
                  </a:lnTo>
                  <a:lnTo>
                    <a:pt x="1517" y="536"/>
                  </a:lnTo>
                  <a:lnTo>
                    <a:pt x="1522" y="536"/>
                  </a:lnTo>
                  <a:lnTo>
                    <a:pt x="1527" y="536"/>
                  </a:lnTo>
                  <a:lnTo>
                    <a:pt x="1533" y="536"/>
                  </a:lnTo>
                  <a:lnTo>
                    <a:pt x="1538" y="536"/>
                  </a:lnTo>
                  <a:lnTo>
                    <a:pt x="1543" y="536"/>
                  </a:lnTo>
                  <a:lnTo>
                    <a:pt x="1548" y="536"/>
                  </a:lnTo>
                  <a:lnTo>
                    <a:pt x="1554" y="536"/>
                  </a:lnTo>
                  <a:lnTo>
                    <a:pt x="1559" y="536"/>
                  </a:lnTo>
                  <a:lnTo>
                    <a:pt x="1564" y="536"/>
                  </a:lnTo>
                  <a:lnTo>
                    <a:pt x="1569" y="536"/>
                  </a:lnTo>
                  <a:lnTo>
                    <a:pt x="1575" y="53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3583080" y="3491640"/>
              <a:ext cx="2037960" cy="712440"/>
            </a:xfrm>
            <a:custGeom>
              <a:avLst/>
              <a:gdLst/>
              <a:ahLst/>
              <a:rect l="l" t="t" r="r" b="b"/>
              <a:pathLst>
                <a:path w="1575" h="548">
                  <a:moveTo>
                    <a:pt x="0" y="0"/>
                  </a:moveTo>
                  <a:lnTo>
                    <a:pt x="5" y="4"/>
                  </a:lnTo>
                  <a:lnTo>
                    <a:pt x="10" y="7"/>
                  </a:lnTo>
                  <a:lnTo>
                    <a:pt x="15" y="11"/>
                  </a:lnTo>
                  <a:lnTo>
                    <a:pt x="21" y="15"/>
                  </a:lnTo>
                  <a:lnTo>
                    <a:pt x="26" y="19"/>
                  </a:lnTo>
                  <a:lnTo>
                    <a:pt x="31" y="23"/>
                  </a:lnTo>
                  <a:lnTo>
                    <a:pt x="36" y="26"/>
                  </a:lnTo>
                  <a:lnTo>
                    <a:pt x="42" y="30"/>
                  </a:lnTo>
                  <a:lnTo>
                    <a:pt x="47" y="34"/>
                  </a:lnTo>
                  <a:lnTo>
                    <a:pt x="52" y="38"/>
                  </a:lnTo>
                  <a:lnTo>
                    <a:pt x="57" y="41"/>
                  </a:lnTo>
                  <a:lnTo>
                    <a:pt x="63" y="45"/>
                  </a:lnTo>
                  <a:lnTo>
                    <a:pt x="68" y="49"/>
                  </a:lnTo>
                  <a:lnTo>
                    <a:pt x="73" y="53"/>
                  </a:lnTo>
                  <a:lnTo>
                    <a:pt x="78" y="57"/>
                  </a:lnTo>
                  <a:lnTo>
                    <a:pt x="84" y="60"/>
                  </a:lnTo>
                  <a:lnTo>
                    <a:pt x="89" y="64"/>
                  </a:lnTo>
                  <a:lnTo>
                    <a:pt x="94" y="68"/>
                  </a:lnTo>
                  <a:lnTo>
                    <a:pt x="99" y="72"/>
                  </a:lnTo>
                  <a:lnTo>
                    <a:pt x="105" y="75"/>
                  </a:lnTo>
                  <a:lnTo>
                    <a:pt x="110" y="79"/>
                  </a:lnTo>
                  <a:lnTo>
                    <a:pt x="115" y="83"/>
                  </a:lnTo>
                  <a:lnTo>
                    <a:pt x="120" y="87"/>
                  </a:lnTo>
                  <a:lnTo>
                    <a:pt x="126" y="91"/>
                  </a:lnTo>
                  <a:lnTo>
                    <a:pt x="131" y="94"/>
                  </a:lnTo>
                  <a:lnTo>
                    <a:pt x="136" y="98"/>
                  </a:lnTo>
                  <a:lnTo>
                    <a:pt x="141" y="102"/>
                  </a:lnTo>
                  <a:lnTo>
                    <a:pt x="147" y="106"/>
                  </a:lnTo>
                  <a:lnTo>
                    <a:pt x="152" y="109"/>
                  </a:lnTo>
                  <a:lnTo>
                    <a:pt x="157" y="113"/>
                  </a:lnTo>
                  <a:lnTo>
                    <a:pt x="162" y="117"/>
                  </a:lnTo>
                  <a:lnTo>
                    <a:pt x="168" y="121"/>
                  </a:lnTo>
                  <a:lnTo>
                    <a:pt x="173" y="125"/>
                  </a:lnTo>
                  <a:lnTo>
                    <a:pt x="178" y="128"/>
                  </a:lnTo>
                  <a:lnTo>
                    <a:pt x="183" y="132"/>
                  </a:lnTo>
                  <a:lnTo>
                    <a:pt x="189" y="136"/>
                  </a:lnTo>
                  <a:lnTo>
                    <a:pt x="194" y="140"/>
                  </a:lnTo>
                  <a:lnTo>
                    <a:pt x="199" y="144"/>
                  </a:lnTo>
                  <a:lnTo>
                    <a:pt x="204" y="147"/>
                  </a:lnTo>
                  <a:lnTo>
                    <a:pt x="210" y="151"/>
                  </a:lnTo>
                  <a:lnTo>
                    <a:pt x="215" y="155"/>
                  </a:lnTo>
                  <a:lnTo>
                    <a:pt x="220" y="159"/>
                  </a:lnTo>
                  <a:lnTo>
                    <a:pt x="225" y="162"/>
                  </a:lnTo>
                  <a:lnTo>
                    <a:pt x="231" y="166"/>
                  </a:lnTo>
                  <a:lnTo>
                    <a:pt x="236" y="170"/>
                  </a:lnTo>
                  <a:lnTo>
                    <a:pt x="241" y="174"/>
                  </a:lnTo>
                  <a:lnTo>
                    <a:pt x="246" y="178"/>
                  </a:lnTo>
                  <a:lnTo>
                    <a:pt x="252" y="181"/>
                  </a:lnTo>
                  <a:lnTo>
                    <a:pt x="257" y="185"/>
                  </a:lnTo>
                  <a:lnTo>
                    <a:pt x="262" y="189"/>
                  </a:lnTo>
                  <a:lnTo>
                    <a:pt x="267" y="193"/>
                  </a:lnTo>
                  <a:lnTo>
                    <a:pt x="273" y="196"/>
                  </a:lnTo>
                  <a:lnTo>
                    <a:pt x="278" y="200"/>
                  </a:lnTo>
                  <a:lnTo>
                    <a:pt x="283" y="204"/>
                  </a:lnTo>
                  <a:lnTo>
                    <a:pt x="288" y="208"/>
                  </a:lnTo>
                  <a:lnTo>
                    <a:pt x="294" y="212"/>
                  </a:lnTo>
                  <a:lnTo>
                    <a:pt x="299" y="215"/>
                  </a:lnTo>
                  <a:lnTo>
                    <a:pt x="304" y="219"/>
                  </a:lnTo>
                  <a:lnTo>
                    <a:pt x="309" y="223"/>
                  </a:lnTo>
                  <a:lnTo>
                    <a:pt x="315" y="227"/>
                  </a:lnTo>
                  <a:lnTo>
                    <a:pt x="320" y="230"/>
                  </a:lnTo>
                  <a:lnTo>
                    <a:pt x="325" y="234"/>
                  </a:lnTo>
                  <a:lnTo>
                    <a:pt x="330" y="238"/>
                  </a:lnTo>
                  <a:lnTo>
                    <a:pt x="336" y="242"/>
                  </a:lnTo>
                  <a:lnTo>
                    <a:pt x="341" y="246"/>
                  </a:lnTo>
                  <a:lnTo>
                    <a:pt x="346" y="249"/>
                  </a:lnTo>
                  <a:lnTo>
                    <a:pt x="351" y="253"/>
                  </a:lnTo>
                  <a:lnTo>
                    <a:pt x="357" y="257"/>
                  </a:lnTo>
                  <a:lnTo>
                    <a:pt x="362" y="261"/>
                  </a:lnTo>
                  <a:lnTo>
                    <a:pt x="367" y="264"/>
                  </a:lnTo>
                  <a:lnTo>
                    <a:pt x="372" y="268"/>
                  </a:lnTo>
                  <a:lnTo>
                    <a:pt x="378" y="272"/>
                  </a:lnTo>
                  <a:lnTo>
                    <a:pt x="383" y="276"/>
                  </a:lnTo>
                  <a:lnTo>
                    <a:pt x="388" y="280"/>
                  </a:lnTo>
                  <a:lnTo>
                    <a:pt x="393" y="283"/>
                  </a:lnTo>
                  <a:lnTo>
                    <a:pt x="399" y="287"/>
                  </a:lnTo>
                  <a:lnTo>
                    <a:pt x="404" y="291"/>
                  </a:lnTo>
                  <a:lnTo>
                    <a:pt x="409" y="295"/>
                  </a:lnTo>
                  <a:lnTo>
                    <a:pt x="414" y="298"/>
                  </a:lnTo>
                  <a:lnTo>
                    <a:pt x="420" y="302"/>
                  </a:lnTo>
                  <a:lnTo>
                    <a:pt x="425" y="306"/>
                  </a:lnTo>
                  <a:lnTo>
                    <a:pt x="430" y="310"/>
                  </a:lnTo>
                  <a:lnTo>
                    <a:pt x="435" y="314"/>
                  </a:lnTo>
                  <a:lnTo>
                    <a:pt x="441" y="317"/>
                  </a:lnTo>
                  <a:lnTo>
                    <a:pt x="446" y="321"/>
                  </a:lnTo>
                  <a:lnTo>
                    <a:pt x="451" y="325"/>
                  </a:lnTo>
                  <a:lnTo>
                    <a:pt x="456" y="329"/>
                  </a:lnTo>
                  <a:lnTo>
                    <a:pt x="462" y="333"/>
                  </a:lnTo>
                  <a:lnTo>
                    <a:pt x="467" y="336"/>
                  </a:lnTo>
                  <a:lnTo>
                    <a:pt x="472" y="340"/>
                  </a:lnTo>
                  <a:lnTo>
                    <a:pt x="477" y="344"/>
                  </a:lnTo>
                  <a:lnTo>
                    <a:pt x="483" y="348"/>
                  </a:lnTo>
                  <a:lnTo>
                    <a:pt x="488" y="351"/>
                  </a:lnTo>
                  <a:lnTo>
                    <a:pt x="493" y="355"/>
                  </a:lnTo>
                  <a:lnTo>
                    <a:pt x="498" y="359"/>
                  </a:lnTo>
                  <a:lnTo>
                    <a:pt x="504" y="363"/>
                  </a:lnTo>
                  <a:lnTo>
                    <a:pt x="509" y="367"/>
                  </a:lnTo>
                  <a:lnTo>
                    <a:pt x="514" y="370"/>
                  </a:lnTo>
                  <a:lnTo>
                    <a:pt x="519" y="374"/>
                  </a:lnTo>
                  <a:lnTo>
                    <a:pt x="525" y="378"/>
                  </a:lnTo>
                  <a:lnTo>
                    <a:pt x="530" y="382"/>
                  </a:lnTo>
                  <a:lnTo>
                    <a:pt x="535" y="385"/>
                  </a:lnTo>
                  <a:lnTo>
                    <a:pt x="540" y="389"/>
                  </a:lnTo>
                  <a:lnTo>
                    <a:pt x="546" y="393"/>
                  </a:lnTo>
                  <a:lnTo>
                    <a:pt x="551" y="397"/>
                  </a:lnTo>
                  <a:lnTo>
                    <a:pt x="556" y="401"/>
                  </a:lnTo>
                  <a:lnTo>
                    <a:pt x="561" y="404"/>
                  </a:lnTo>
                  <a:lnTo>
                    <a:pt x="567" y="408"/>
                  </a:lnTo>
                  <a:lnTo>
                    <a:pt x="572" y="412"/>
                  </a:lnTo>
                  <a:lnTo>
                    <a:pt x="577" y="416"/>
                  </a:lnTo>
                  <a:lnTo>
                    <a:pt x="582" y="419"/>
                  </a:lnTo>
                  <a:lnTo>
                    <a:pt x="588" y="423"/>
                  </a:lnTo>
                  <a:lnTo>
                    <a:pt x="593" y="427"/>
                  </a:lnTo>
                  <a:lnTo>
                    <a:pt x="598" y="431"/>
                  </a:lnTo>
                  <a:lnTo>
                    <a:pt x="603" y="435"/>
                  </a:lnTo>
                  <a:lnTo>
                    <a:pt x="609" y="438"/>
                  </a:lnTo>
                  <a:lnTo>
                    <a:pt x="614" y="442"/>
                  </a:lnTo>
                  <a:lnTo>
                    <a:pt x="619" y="446"/>
                  </a:lnTo>
                  <a:lnTo>
                    <a:pt x="624" y="450"/>
                  </a:lnTo>
                  <a:lnTo>
                    <a:pt x="630" y="453"/>
                  </a:lnTo>
                  <a:lnTo>
                    <a:pt x="635" y="457"/>
                  </a:lnTo>
                  <a:lnTo>
                    <a:pt x="640" y="461"/>
                  </a:lnTo>
                  <a:lnTo>
                    <a:pt x="645" y="465"/>
                  </a:lnTo>
                  <a:lnTo>
                    <a:pt x="651" y="469"/>
                  </a:lnTo>
                  <a:lnTo>
                    <a:pt x="656" y="472"/>
                  </a:lnTo>
                  <a:lnTo>
                    <a:pt x="661" y="476"/>
                  </a:lnTo>
                  <a:lnTo>
                    <a:pt x="666" y="480"/>
                  </a:lnTo>
                  <a:lnTo>
                    <a:pt x="672" y="484"/>
                  </a:lnTo>
                  <a:lnTo>
                    <a:pt x="677" y="487"/>
                  </a:lnTo>
                  <a:lnTo>
                    <a:pt x="682" y="491"/>
                  </a:lnTo>
                  <a:lnTo>
                    <a:pt x="687" y="495"/>
                  </a:lnTo>
                  <a:lnTo>
                    <a:pt x="693" y="499"/>
                  </a:lnTo>
                  <a:lnTo>
                    <a:pt x="698" y="503"/>
                  </a:lnTo>
                  <a:lnTo>
                    <a:pt x="703" y="506"/>
                  </a:lnTo>
                  <a:lnTo>
                    <a:pt x="708" y="510"/>
                  </a:lnTo>
                  <a:lnTo>
                    <a:pt x="714" y="514"/>
                  </a:lnTo>
                  <a:lnTo>
                    <a:pt x="719" y="518"/>
                  </a:lnTo>
                  <a:lnTo>
                    <a:pt x="724" y="522"/>
                  </a:lnTo>
                  <a:lnTo>
                    <a:pt x="729" y="525"/>
                  </a:lnTo>
                  <a:lnTo>
                    <a:pt x="735" y="529"/>
                  </a:lnTo>
                  <a:lnTo>
                    <a:pt x="740" y="533"/>
                  </a:lnTo>
                  <a:lnTo>
                    <a:pt x="745" y="537"/>
                  </a:lnTo>
                  <a:lnTo>
                    <a:pt x="750" y="540"/>
                  </a:lnTo>
                  <a:lnTo>
                    <a:pt x="756" y="544"/>
                  </a:lnTo>
                  <a:lnTo>
                    <a:pt x="761" y="548"/>
                  </a:lnTo>
                  <a:lnTo>
                    <a:pt x="766" y="548"/>
                  </a:lnTo>
                  <a:lnTo>
                    <a:pt x="771" y="548"/>
                  </a:lnTo>
                  <a:lnTo>
                    <a:pt x="777" y="548"/>
                  </a:lnTo>
                  <a:lnTo>
                    <a:pt x="782" y="548"/>
                  </a:lnTo>
                  <a:lnTo>
                    <a:pt x="787" y="548"/>
                  </a:lnTo>
                  <a:lnTo>
                    <a:pt x="792" y="548"/>
                  </a:lnTo>
                  <a:lnTo>
                    <a:pt x="798" y="548"/>
                  </a:lnTo>
                  <a:lnTo>
                    <a:pt x="803" y="548"/>
                  </a:lnTo>
                  <a:lnTo>
                    <a:pt x="808" y="548"/>
                  </a:lnTo>
                  <a:lnTo>
                    <a:pt x="813" y="548"/>
                  </a:lnTo>
                  <a:lnTo>
                    <a:pt x="819" y="548"/>
                  </a:lnTo>
                  <a:lnTo>
                    <a:pt x="824" y="548"/>
                  </a:lnTo>
                  <a:lnTo>
                    <a:pt x="829" y="548"/>
                  </a:lnTo>
                  <a:lnTo>
                    <a:pt x="834" y="548"/>
                  </a:lnTo>
                  <a:lnTo>
                    <a:pt x="840" y="548"/>
                  </a:lnTo>
                  <a:lnTo>
                    <a:pt x="845" y="548"/>
                  </a:lnTo>
                  <a:lnTo>
                    <a:pt x="850" y="548"/>
                  </a:lnTo>
                  <a:lnTo>
                    <a:pt x="855" y="548"/>
                  </a:lnTo>
                  <a:lnTo>
                    <a:pt x="861" y="548"/>
                  </a:lnTo>
                  <a:lnTo>
                    <a:pt x="866" y="548"/>
                  </a:lnTo>
                  <a:lnTo>
                    <a:pt x="871" y="548"/>
                  </a:lnTo>
                  <a:lnTo>
                    <a:pt x="876" y="548"/>
                  </a:lnTo>
                  <a:lnTo>
                    <a:pt x="882" y="548"/>
                  </a:lnTo>
                  <a:lnTo>
                    <a:pt x="887" y="548"/>
                  </a:lnTo>
                  <a:lnTo>
                    <a:pt x="892" y="548"/>
                  </a:lnTo>
                  <a:lnTo>
                    <a:pt x="897" y="548"/>
                  </a:lnTo>
                  <a:lnTo>
                    <a:pt x="903" y="548"/>
                  </a:lnTo>
                  <a:lnTo>
                    <a:pt x="908" y="548"/>
                  </a:lnTo>
                  <a:lnTo>
                    <a:pt x="913" y="548"/>
                  </a:lnTo>
                  <a:lnTo>
                    <a:pt x="918" y="548"/>
                  </a:lnTo>
                  <a:lnTo>
                    <a:pt x="924" y="548"/>
                  </a:lnTo>
                  <a:lnTo>
                    <a:pt x="929" y="548"/>
                  </a:lnTo>
                  <a:lnTo>
                    <a:pt x="934" y="548"/>
                  </a:lnTo>
                  <a:lnTo>
                    <a:pt x="939" y="548"/>
                  </a:lnTo>
                  <a:lnTo>
                    <a:pt x="945" y="548"/>
                  </a:lnTo>
                  <a:lnTo>
                    <a:pt x="950" y="548"/>
                  </a:lnTo>
                  <a:lnTo>
                    <a:pt x="955" y="548"/>
                  </a:lnTo>
                  <a:lnTo>
                    <a:pt x="960" y="548"/>
                  </a:lnTo>
                  <a:lnTo>
                    <a:pt x="966" y="548"/>
                  </a:lnTo>
                  <a:lnTo>
                    <a:pt x="971" y="548"/>
                  </a:lnTo>
                  <a:lnTo>
                    <a:pt x="976" y="548"/>
                  </a:lnTo>
                  <a:lnTo>
                    <a:pt x="981" y="548"/>
                  </a:lnTo>
                  <a:lnTo>
                    <a:pt x="987" y="548"/>
                  </a:lnTo>
                  <a:lnTo>
                    <a:pt x="992" y="548"/>
                  </a:lnTo>
                  <a:lnTo>
                    <a:pt x="997" y="548"/>
                  </a:lnTo>
                  <a:lnTo>
                    <a:pt x="1002" y="548"/>
                  </a:lnTo>
                  <a:lnTo>
                    <a:pt x="1008" y="548"/>
                  </a:lnTo>
                  <a:lnTo>
                    <a:pt x="1013" y="548"/>
                  </a:lnTo>
                  <a:lnTo>
                    <a:pt x="1018" y="548"/>
                  </a:lnTo>
                  <a:lnTo>
                    <a:pt x="1023" y="548"/>
                  </a:lnTo>
                  <a:lnTo>
                    <a:pt x="1029" y="548"/>
                  </a:lnTo>
                  <a:lnTo>
                    <a:pt x="1034" y="548"/>
                  </a:lnTo>
                  <a:lnTo>
                    <a:pt x="1039" y="548"/>
                  </a:lnTo>
                  <a:lnTo>
                    <a:pt x="1044" y="548"/>
                  </a:lnTo>
                  <a:lnTo>
                    <a:pt x="1050" y="548"/>
                  </a:lnTo>
                  <a:lnTo>
                    <a:pt x="1055" y="548"/>
                  </a:lnTo>
                  <a:lnTo>
                    <a:pt x="1060" y="548"/>
                  </a:lnTo>
                  <a:lnTo>
                    <a:pt x="1065" y="548"/>
                  </a:lnTo>
                  <a:lnTo>
                    <a:pt x="1071" y="548"/>
                  </a:lnTo>
                  <a:lnTo>
                    <a:pt x="1076" y="548"/>
                  </a:lnTo>
                  <a:lnTo>
                    <a:pt x="1081" y="548"/>
                  </a:lnTo>
                  <a:lnTo>
                    <a:pt x="1086" y="548"/>
                  </a:lnTo>
                  <a:lnTo>
                    <a:pt x="1092" y="548"/>
                  </a:lnTo>
                  <a:lnTo>
                    <a:pt x="1097" y="548"/>
                  </a:lnTo>
                  <a:lnTo>
                    <a:pt x="1102" y="548"/>
                  </a:lnTo>
                  <a:lnTo>
                    <a:pt x="1107" y="548"/>
                  </a:lnTo>
                  <a:lnTo>
                    <a:pt x="1113" y="548"/>
                  </a:lnTo>
                  <a:lnTo>
                    <a:pt x="1118" y="548"/>
                  </a:lnTo>
                  <a:lnTo>
                    <a:pt x="1123" y="548"/>
                  </a:lnTo>
                  <a:lnTo>
                    <a:pt x="1128" y="548"/>
                  </a:lnTo>
                  <a:lnTo>
                    <a:pt x="1134" y="548"/>
                  </a:lnTo>
                  <a:lnTo>
                    <a:pt x="1139" y="548"/>
                  </a:lnTo>
                  <a:lnTo>
                    <a:pt x="1144" y="548"/>
                  </a:lnTo>
                  <a:lnTo>
                    <a:pt x="1149" y="548"/>
                  </a:lnTo>
                  <a:lnTo>
                    <a:pt x="1155" y="548"/>
                  </a:lnTo>
                  <a:lnTo>
                    <a:pt x="1160" y="548"/>
                  </a:lnTo>
                  <a:lnTo>
                    <a:pt x="1165" y="548"/>
                  </a:lnTo>
                  <a:lnTo>
                    <a:pt x="1170" y="548"/>
                  </a:lnTo>
                  <a:lnTo>
                    <a:pt x="1176" y="548"/>
                  </a:lnTo>
                  <a:lnTo>
                    <a:pt x="1181" y="548"/>
                  </a:lnTo>
                  <a:lnTo>
                    <a:pt x="1186" y="548"/>
                  </a:lnTo>
                  <a:lnTo>
                    <a:pt x="1191" y="548"/>
                  </a:lnTo>
                  <a:lnTo>
                    <a:pt x="1197" y="548"/>
                  </a:lnTo>
                  <a:lnTo>
                    <a:pt x="1202" y="548"/>
                  </a:lnTo>
                  <a:lnTo>
                    <a:pt x="1207" y="548"/>
                  </a:lnTo>
                  <a:lnTo>
                    <a:pt x="1212" y="548"/>
                  </a:lnTo>
                  <a:lnTo>
                    <a:pt x="1218" y="548"/>
                  </a:lnTo>
                  <a:lnTo>
                    <a:pt x="1223" y="548"/>
                  </a:lnTo>
                  <a:lnTo>
                    <a:pt x="1228" y="548"/>
                  </a:lnTo>
                  <a:lnTo>
                    <a:pt x="1233" y="548"/>
                  </a:lnTo>
                  <a:lnTo>
                    <a:pt x="1239" y="548"/>
                  </a:lnTo>
                  <a:lnTo>
                    <a:pt x="1244" y="548"/>
                  </a:lnTo>
                  <a:lnTo>
                    <a:pt x="1249" y="548"/>
                  </a:lnTo>
                  <a:lnTo>
                    <a:pt x="1254" y="548"/>
                  </a:lnTo>
                  <a:lnTo>
                    <a:pt x="1260" y="548"/>
                  </a:lnTo>
                  <a:lnTo>
                    <a:pt x="1265" y="548"/>
                  </a:lnTo>
                  <a:lnTo>
                    <a:pt x="1270" y="548"/>
                  </a:lnTo>
                  <a:lnTo>
                    <a:pt x="1275" y="548"/>
                  </a:lnTo>
                  <a:lnTo>
                    <a:pt x="1281" y="548"/>
                  </a:lnTo>
                  <a:lnTo>
                    <a:pt x="1286" y="548"/>
                  </a:lnTo>
                  <a:lnTo>
                    <a:pt x="1291" y="548"/>
                  </a:lnTo>
                  <a:lnTo>
                    <a:pt x="1296" y="548"/>
                  </a:lnTo>
                  <a:lnTo>
                    <a:pt x="1302" y="548"/>
                  </a:lnTo>
                  <a:lnTo>
                    <a:pt x="1307" y="548"/>
                  </a:lnTo>
                  <a:lnTo>
                    <a:pt x="1312" y="548"/>
                  </a:lnTo>
                  <a:lnTo>
                    <a:pt x="1317" y="548"/>
                  </a:lnTo>
                  <a:lnTo>
                    <a:pt x="1323" y="548"/>
                  </a:lnTo>
                  <a:lnTo>
                    <a:pt x="1328" y="548"/>
                  </a:lnTo>
                  <a:lnTo>
                    <a:pt x="1333" y="548"/>
                  </a:lnTo>
                  <a:lnTo>
                    <a:pt x="1338" y="548"/>
                  </a:lnTo>
                  <a:lnTo>
                    <a:pt x="1344" y="548"/>
                  </a:lnTo>
                  <a:lnTo>
                    <a:pt x="1349" y="548"/>
                  </a:lnTo>
                  <a:lnTo>
                    <a:pt x="1354" y="548"/>
                  </a:lnTo>
                  <a:lnTo>
                    <a:pt x="1359" y="548"/>
                  </a:lnTo>
                  <a:lnTo>
                    <a:pt x="1365" y="548"/>
                  </a:lnTo>
                  <a:lnTo>
                    <a:pt x="1370" y="548"/>
                  </a:lnTo>
                  <a:lnTo>
                    <a:pt x="1375" y="548"/>
                  </a:lnTo>
                  <a:lnTo>
                    <a:pt x="1380" y="548"/>
                  </a:lnTo>
                  <a:lnTo>
                    <a:pt x="1386" y="548"/>
                  </a:lnTo>
                  <a:lnTo>
                    <a:pt x="1391" y="548"/>
                  </a:lnTo>
                  <a:lnTo>
                    <a:pt x="1396" y="548"/>
                  </a:lnTo>
                  <a:lnTo>
                    <a:pt x="1401" y="548"/>
                  </a:lnTo>
                  <a:lnTo>
                    <a:pt x="1407" y="548"/>
                  </a:lnTo>
                  <a:lnTo>
                    <a:pt x="1412" y="548"/>
                  </a:lnTo>
                  <a:lnTo>
                    <a:pt x="1417" y="548"/>
                  </a:lnTo>
                  <a:lnTo>
                    <a:pt x="1422" y="548"/>
                  </a:lnTo>
                  <a:lnTo>
                    <a:pt x="1428" y="548"/>
                  </a:lnTo>
                  <a:lnTo>
                    <a:pt x="1433" y="548"/>
                  </a:lnTo>
                  <a:lnTo>
                    <a:pt x="1438" y="548"/>
                  </a:lnTo>
                  <a:lnTo>
                    <a:pt x="1443" y="548"/>
                  </a:lnTo>
                  <a:lnTo>
                    <a:pt x="1449" y="548"/>
                  </a:lnTo>
                  <a:lnTo>
                    <a:pt x="1454" y="548"/>
                  </a:lnTo>
                  <a:lnTo>
                    <a:pt x="1459" y="548"/>
                  </a:lnTo>
                  <a:lnTo>
                    <a:pt x="1464" y="548"/>
                  </a:lnTo>
                  <a:lnTo>
                    <a:pt x="1470" y="548"/>
                  </a:lnTo>
                  <a:lnTo>
                    <a:pt x="1475" y="548"/>
                  </a:lnTo>
                  <a:lnTo>
                    <a:pt x="1480" y="548"/>
                  </a:lnTo>
                  <a:lnTo>
                    <a:pt x="1485" y="548"/>
                  </a:lnTo>
                  <a:lnTo>
                    <a:pt x="1491" y="548"/>
                  </a:lnTo>
                  <a:lnTo>
                    <a:pt x="1496" y="548"/>
                  </a:lnTo>
                  <a:lnTo>
                    <a:pt x="1501" y="548"/>
                  </a:lnTo>
                  <a:lnTo>
                    <a:pt x="1506" y="548"/>
                  </a:lnTo>
                  <a:lnTo>
                    <a:pt x="1512" y="548"/>
                  </a:lnTo>
                  <a:lnTo>
                    <a:pt x="1517" y="548"/>
                  </a:lnTo>
                  <a:lnTo>
                    <a:pt x="1522" y="548"/>
                  </a:lnTo>
                  <a:lnTo>
                    <a:pt x="1527" y="548"/>
                  </a:lnTo>
                  <a:lnTo>
                    <a:pt x="1533" y="548"/>
                  </a:lnTo>
                  <a:lnTo>
                    <a:pt x="1538" y="548"/>
                  </a:lnTo>
                  <a:lnTo>
                    <a:pt x="1543" y="548"/>
                  </a:lnTo>
                  <a:lnTo>
                    <a:pt x="1548" y="548"/>
                  </a:lnTo>
                  <a:lnTo>
                    <a:pt x="1554" y="548"/>
                  </a:lnTo>
                  <a:lnTo>
                    <a:pt x="1559" y="548"/>
                  </a:lnTo>
                  <a:lnTo>
                    <a:pt x="1564" y="548"/>
                  </a:lnTo>
                  <a:lnTo>
                    <a:pt x="1569" y="548"/>
                  </a:lnTo>
                  <a:lnTo>
                    <a:pt x="1575" y="54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3583080" y="3491640"/>
              <a:ext cx="2037960" cy="728280"/>
            </a:xfrm>
            <a:custGeom>
              <a:avLst/>
              <a:gdLst/>
              <a:ahLst/>
              <a:rect l="l" t="t" r="r" b="b"/>
              <a:pathLst>
                <a:path w="1575" h="560">
                  <a:moveTo>
                    <a:pt x="0" y="0"/>
                  </a:moveTo>
                  <a:lnTo>
                    <a:pt x="5" y="6"/>
                  </a:lnTo>
                  <a:lnTo>
                    <a:pt x="10" y="11"/>
                  </a:lnTo>
                  <a:lnTo>
                    <a:pt x="15" y="17"/>
                  </a:lnTo>
                  <a:lnTo>
                    <a:pt x="21" y="23"/>
                  </a:lnTo>
                  <a:lnTo>
                    <a:pt x="26" y="28"/>
                  </a:lnTo>
                  <a:lnTo>
                    <a:pt x="31" y="34"/>
                  </a:lnTo>
                  <a:lnTo>
                    <a:pt x="36" y="40"/>
                  </a:lnTo>
                  <a:lnTo>
                    <a:pt x="42" y="45"/>
                  </a:lnTo>
                  <a:lnTo>
                    <a:pt x="47" y="51"/>
                  </a:lnTo>
                  <a:lnTo>
                    <a:pt x="52" y="57"/>
                  </a:lnTo>
                  <a:lnTo>
                    <a:pt x="57" y="62"/>
                  </a:lnTo>
                  <a:lnTo>
                    <a:pt x="63" y="68"/>
                  </a:lnTo>
                  <a:lnTo>
                    <a:pt x="68" y="74"/>
                  </a:lnTo>
                  <a:lnTo>
                    <a:pt x="73" y="79"/>
                  </a:lnTo>
                  <a:lnTo>
                    <a:pt x="78" y="85"/>
                  </a:lnTo>
                  <a:lnTo>
                    <a:pt x="84" y="91"/>
                  </a:lnTo>
                  <a:lnTo>
                    <a:pt x="89" y="96"/>
                  </a:lnTo>
                  <a:lnTo>
                    <a:pt x="94" y="102"/>
                  </a:lnTo>
                  <a:lnTo>
                    <a:pt x="99" y="108"/>
                  </a:lnTo>
                  <a:lnTo>
                    <a:pt x="105" y="113"/>
                  </a:lnTo>
                  <a:lnTo>
                    <a:pt x="110" y="119"/>
                  </a:lnTo>
                  <a:lnTo>
                    <a:pt x="115" y="125"/>
                  </a:lnTo>
                  <a:lnTo>
                    <a:pt x="120" y="130"/>
                  </a:lnTo>
                  <a:lnTo>
                    <a:pt x="126" y="136"/>
                  </a:lnTo>
                  <a:lnTo>
                    <a:pt x="131" y="142"/>
                  </a:lnTo>
                  <a:lnTo>
                    <a:pt x="136" y="147"/>
                  </a:lnTo>
                  <a:lnTo>
                    <a:pt x="141" y="153"/>
                  </a:lnTo>
                  <a:lnTo>
                    <a:pt x="147" y="159"/>
                  </a:lnTo>
                  <a:lnTo>
                    <a:pt x="152" y="164"/>
                  </a:lnTo>
                  <a:lnTo>
                    <a:pt x="157" y="170"/>
                  </a:lnTo>
                  <a:lnTo>
                    <a:pt x="162" y="176"/>
                  </a:lnTo>
                  <a:lnTo>
                    <a:pt x="168" y="182"/>
                  </a:lnTo>
                  <a:lnTo>
                    <a:pt x="173" y="187"/>
                  </a:lnTo>
                  <a:lnTo>
                    <a:pt x="178" y="193"/>
                  </a:lnTo>
                  <a:lnTo>
                    <a:pt x="183" y="199"/>
                  </a:lnTo>
                  <a:lnTo>
                    <a:pt x="189" y="204"/>
                  </a:lnTo>
                  <a:lnTo>
                    <a:pt x="194" y="210"/>
                  </a:lnTo>
                  <a:lnTo>
                    <a:pt x="199" y="216"/>
                  </a:lnTo>
                  <a:lnTo>
                    <a:pt x="204" y="221"/>
                  </a:lnTo>
                  <a:lnTo>
                    <a:pt x="210" y="227"/>
                  </a:lnTo>
                  <a:lnTo>
                    <a:pt x="215" y="233"/>
                  </a:lnTo>
                  <a:lnTo>
                    <a:pt x="220" y="238"/>
                  </a:lnTo>
                  <a:lnTo>
                    <a:pt x="225" y="244"/>
                  </a:lnTo>
                  <a:lnTo>
                    <a:pt x="231" y="250"/>
                  </a:lnTo>
                  <a:lnTo>
                    <a:pt x="236" y="255"/>
                  </a:lnTo>
                  <a:lnTo>
                    <a:pt x="241" y="261"/>
                  </a:lnTo>
                  <a:lnTo>
                    <a:pt x="246" y="267"/>
                  </a:lnTo>
                  <a:lnTo>
                    <a:pt x="252" y="272"/>
                  </a:lnTo>
                  <a:lnTo>
                    <a:pt x="257" y="278"/>
                  </a:lnTo>
                  <a:lnTo>
                    <a:pt x="262" y="284"/>
                  </a:lnTo>
                  <a:lnTo>
                    <a:pt x="267" y="289"/>
                  </a:lnTo>
                  <a:lnTo>
                    <a:pt x="273" y="295"/>
                  </a:lnTo>
                  <a:lnTo>
                    <a:pt x="278" y="301"/>
                  </a:lnTo>
                  <a:lnTo>
                    <a:pt x="283" y="306"/>
                  </a:lnTo>
                  <a:lnTo>
                    <a:pt x="288" y="312"/>
                  </a:lnTo>
                  <a:lnTo>
                    <a:pt x="294" y="318"/>
                  </a:lnTo>
                  <a:lnTo>
                    <a:pt x="299" y="323"/>
                  </a:lnTo>
                  <a:lnTo>
                    <a:pt x="304" y="329"/>
                  </a:lnTo>
                  <a:lnTo>
                    <a:pt x="309" y="335"/>
                  </a:lnTo>
                  <a:lnTo>
                    <a:pt x="315" y="340"/>
                  </a:lnTo>
                  <a:lnTo>
                    <a:pt x="320" y="346"/>
                  </a:lnTo>
                  <a:lnTo>
                    <a:pt x="325" y="352"/>
                  </a:lnTo>
                  <a:lnTo>
                    <a:pt x="330" y="357"/>
                  </a:lnTo>
                  <a:lnTo>
                    <a:pt x="336" y="363"/>
                  </a:lnTo>
                  <a:lnTo>
                    <a:pt x="341" y="369"/>
                  </a:lnTo>
                  <a:lnTo>
                    <a:pt x="346" y="374"/>
                  </a:lnTo>
                  <a:lnTo>
                    <a:pt x="351" y="380"/>
                  </a:lnTo>
                  <a:lnTo>
                    <a:pt x="357" y="386"/>
                  </a:lnTo>
                  <a:lnTo>
                    <a:pt x="362" y="391"/>
                  </a:lnTo>
                  <a:lnTo>
                    <a:pt x="367" y="397"/>
                  </a:lnTo>
                  <a:lnTo>
                    <a:pt x="372" y="403"/>
                  </a:lnTo>
                  <a:lnTo>
                    <a:pt x="378" y="408"/>
                  </a:lnTo>
                  <a:lnTo>
                    <a:pt x="383" y="414"/>
                  </a:lnTo>
                  <a:lnTo>
                    <a:pt x="388" y="420"/>
                  </a:lnTo>
                  <a:lnTo>
                    <a:pt x="393" y="425"/>
                  </a:lnTo>
                  <a:lnTo>
                    <a:pt x="399" y="431"/>
                  </a:lnTo>
                  <a:lnTo>
                    <a:pt x="404" y="437"/>
                  </a:lnTo>
                  <a:lnTo>
                    <a:pt x="409" y="442"/>
                  </a:lnTo>
                  <a:lnTo>
                    <a:pt x="414" y="448"/>
                  </a:lnTo>
                  <a:lnTo>
                    <a:pt x="420" y="454"/>
                  </a:lnTo>
                  <a:lnTo>
                    <a:pt x="425" y="459"/>
                  </a:lnTo>
                  <a:lnTo>
                    <a:pt x="430" y="465"/>
                  </a:lnTo>
                  <a:lnTo>
                    <a:pt x="435" y="471"/>
                  </a:lnTo>
                  <a:lnTo>
                    <a:pt x="441" y="476"/>
                  </a:lnTo>
                  <a:lnTo>
                    <a:pt x="446" y="482"/>
                  </a:lnTo>
                  <a:lnTo>
                    <a:pt x="451" y="488"/>
                  </a:lnTo>
                  <a:lnTo>
                    <a:pt x="456" y="493"/>
                  </a:lnTo>
                  <a:lnTo>
                    <a:pt x="462" y="499"/>
                  </a:lnTo>
                  <a:lnTo>
                    <a:pt x="467" y="505"/>
                  </a:lnTo>
                  <a:lnTo>
                    <a:pt x="472" y="510"/>
                  </a:lnTo>
                  <a:lnTo>
                    <a:pt x="477" y="516"/>
                  </a:lnTo>
                  <a:lnTo>
                    <a:pt x="483" y="522"/>
                  </a:lnTo>
                  <a:lnTo>
                    <a:pt x="488" y="527"/>
                  </a:lnTo>
                  <a:lnTo>
                    <a:pt x="493" y="533"/>
                  </a:lnTo>
                  <a:lnTo>
                    <a:pt x="498" y="539"/>
                  </a:lnTo>
                  <a:lnTo>
                    <a:pt x="504" y="544"/>
                  </a:lnTo>
                  <a:lnTo>
                    <a:pt x="509" y="550"/>
                  </a:lnTo>
                  <a:lnTo>
                    <a:pt x="514" y="556"/>
                  </a:lnTo>
                  <a:lnTo>
                    <a:pt x="519" y="560"/>
                  </a:lnTo>
                  <a:lnTo>
                    <a:pt x="525" y="560"/>
                  </a:lnTo>
                  <a:lnTo>
                    <a:pt x="530" y="560"/>
                  </a:lnTo>
                  <a:lnTo>
                    <a:pt x="535" y="560"/>
                  </a:lnTo>
                  <a:lnTo>
                    <a:pt x="540" y="560"/>
                  </a:lnTo>
                  <a:lnTo>
                    <a:pt x="546" y="560"/>
                  </a:lnTo>
                  <a:lnTo>
                    <a:pt x="551" y="560"/>
                  </a:lnTo>
                  <a:lnTo>
                    <a:pt x="556" y="560"/>
                  </a:lnTo>
                  <a:lnTo>
                    <a:pt x="561" y="560"/>
                  </a:lnTo>
                  <a:lnTo>
                    <a:pt x="567" y="560"/>
                  </a:lnTo>
                  <a:lnTo>
                    <a:pt x="572" y="560"/>
                  </a:lnTo>
                  <a:lnTo>
                    <a:pt x="577" y="560"/>
                  </a:lnTo>
                  <a:lnTo>
                    <a:pt x="582" y="560"/>
                  </a:lnTo>
                  <a:lnTo>
                    <a:pt x="588" y="560"/>
                  </a:lnTo>
                  <a:lnTo>
                    <a:pt x="593" y="560"/>
                  </a:lnTo>
                  <a:lnTo>
                    <a:pt x="598" y="560"/>
                  </a:lnTo>
                  <a:lnTo>
                    <a:pt x="603" y="560"/>
                  </a:lnTo>
                  <a:lnTo>
                    <a:pt x="609" y="560"/>
                  </a:lnTo>
                  <a:lnTo>
                    <a:pt x="614" y="560"/>
                  </a:lnTo>
                  <a:lnTo>
                    <a:pt x="619" y="560"/>
                  </a:lnTo>
                  <a:lnTo>
                    <a:pt x="624" y="560"/>
                  </a:lnTo>
                  <a:lnTo>
                    <a:pt x="630" y="560"/>
                  </a:lnTo>
                  <a:lnTo>
                    <a:pt x="635" y="560"/>
                  </a:lnTo>
                  <a:lnTo>
                    <a:pt x="640" y="560"/>
                  </a:lnTo>
                  <a:lnTo>
                    <a:pt x="645" y="560"/>
                  </a:lnTo>
                  <a:lnTo>
                    <a:pt x="651" y="560"/>
                  </a:lnTo>
                  <a:lnTo>
                    <a:pt x="656" y="560"/>
                  </a:lnTo>
                  <a:lnTo>
                    <a:pt x="661" y="560"/>
                  </a:lnTo>
                  <a:lnTo>
                    <a:pt x="666" y="560"/>
                  </a:lnTo>
                  <a:lnTo>
                    <a:pt x="672" y="560"/>
                  </a:lnTo>
                  <a:lnTo>
                    <a:pt x="677" y="560"/>
                  </a:lnTo>
                  <a:lnTo>
                    <a:pt x="682" y="560"/>
                  </a:lnTo>
                  <a:lnTo>
                    <a:pt x="687" y="560"/>
                  </a:lnTo>
                  <a:lnTo>
                    <a:pt x="693" y="560"/>
                  </a:lnTo>
                  <a:lnTo>
                    <a:pt x="698" y="560"/>
                  </a:lnTo>
                  <a:lnTo>
                    <a:pt x="703" y="560"/>
                  </a:lnTo>
                  <a:lnTo>
                    <a:pt x="708" y="560"/>
                  </a:lnTo>
                  <a:lnTo>
                    <a:pt x="714" y="560"/>
                  </a:lnTo>
                  <a:lnTo>
                    <a:pt x="719" y="560"/>
                  </a:lnTo>
                  <a:lnTo>
                    <a:pt x="724" y="560"/>
                  </a:lnTo>
                  <a:lnTo>
                    <a:pt x="729" y="560"/>
                  </a:lnTo>
                  <a:lnTo>
                    <a:pt x="735" y="560"/>
                  </a:lnTo>
                  <a:lnTo>
                    <a:pt x="740" y="560"/>
                  </a:lnTo>
                  <a:lnTo>
                    <a:pt x="745" y="560"/>
                  </a:lnTo>
                  <a:lnTo>
                    <a:pt x="750" y="560"/>
                  </a:lnTo>
                  <a:lnTo>
                    <a:pt x="756" y="560"/>
                  </a:lnTo>
                  <a:lnTo>
                    <a:pt x="761" y="560"/>
                  </a:lnTo>
                  <a:lnTo>
                    <a:pt x="766" y="560"/>
                  </a:lnTo>
                  <a:lnTo>
                    <a:pt x="771" y="560"/>
                  </a:lnTo>
                  <a:lnTo>
                    <a:pt x="777" y="560"/>
                  </a:lnTo>
                  <a:lnTo>
                    <a:pt x="782" y="560"/>
                  </a:lnTo>
                  <a:lnTo>
                    <a:pt x="787" y="560"/>
                  </a:lnTo>
                  <a:lnTo>
                    <a:pt x="792" y="560"/>
                  </a:lnTo>
                  <a:lnTo>
                    <a:pt x="798" y="560"/>
                  </a:lnTo>
                  <a:lnTo>
                    <a:pt x="803" y="560"/>
                  </a:lnTo>
                  <a:lnTo>
                    <a:pt x="808" y="560"/>
                  </a:lnTo>
                  <a:lnTo>
                    <a:pt x="813" y="560"/>
                  </a:lnTo>
                  <a:lnTo>
                    <a:pt x="819" y="560"/>
                  </a:lnTo>
                  <a:lnTo>
                    <a:pt x="824" y="560"/>
                  </a:lnTo>
                  <a:lnTo>
                    <a:pt x="829" y="560"/>
                  </a:lnTo>
                  <a:lnTo>
                    <a:pt x="834" y="560"/>
                  </a:lnTo>
                  <a:lnTo>
                    <a:pt x="840" y="560"/>
                  </a:lnTo>
                  <a:lnTo>
                    <a:pt x="845" y="560"/>
                  </a:lnTo>
                  <a:lnTo>
                    <a:pt x="850" y="560"/>
                  </a:lnTo>
                  <a:lnTo>
                    <a:pt x="855" y="560"/>
                  </a:lnTo>
                  <a:lnTo>
                    <a:pt x="861" y="560"/>
                  </a:lnTo>
                  <a:lnTo>
                    <a:pt x="866" y="560"/>
                  </a:lnTo>
                  <a:lnTo>
                    <a:pt x="871" y="560"/>
                  </a:lnTo>
                  <a:lnTo>
                    <a:pt x="876" y="560"/>
                  </a:lnTo>
                  <a:lnTo>
                    <a:pt x="882" y="560"/>
                  </a:lnTo>
                  <a:lnTo>
                    <a:pt x="887" y="560"/>
                  </a:lnTo>
                  <a:lnTo>
                    <a:pt x="892" y="560"/>
                  </a:lnTo>
                  <a:lnTo>
                    <a:pt x="897" y="560"/>
                  </a:lnTo>
                  <a:lnTo>
                    <a:pt x="903" y="560"/>
                  </a:lnTo>
                  <a:lnTo>
                    <a:pt x="908" y="560"/>
                  </a:lnTo>
                  <a:lnTo>
                    <a:pt x="913" y="560"/>
                  </a:lnTo>
                  <a:lnTo>
                    <a:pt x="918" y="560"/>
                  </a:lnTo>
                  <a:lnTo>
                    <a:pt x="924" y="560"/>
                  </a:lnTo>
                  <a:lnTo>
                    <a:pt x="929" y="560"/>
                  </a:lnTo>
                  <a:lnTo>
                    <a:pt x="934" y="560"/>
                  </a:lnTo>
                  <a:lnTo>
                    <a:pt x="939" y="560"/>
                  </a:lnTo>
                  <a:lnTo>
                    <a:pt x="945" y="560"/>
                  </a:lnTo>
                  <a:lnTo>
                    <a:pt x="950" y="560"/>
                  </a:lnTo>
                  <a:lnTo>
                    <a:pt x="955" y="560"/>
                  </a:lnTo>
                  <a:lnTo>
                    <a:pt x="960" y="560"/>
                  </a:lnTo>
                  <a:lnTo>
                    <a:pt x="966" y="560"/>
                  </a:lnTo>
                  <a:lnTo>
                    <a:pt x="971" y="560"/>
                  </a:lnTo>
                  <a:lnTo>
                    <a:pt x="976" y="560"/>
                  </a:lnTo>
                  <a:lnTo>
                    <a:pt x="981" y="560"/>
                  </a:lnTo>
                  <a:lnTo>
                    <a:pt x="987" y="560"/>
                  </a:lnTo>
                  <a:lnTo>
                    <a:pt x="992" y="560"/>
                  </a:lnTo>
                  <a:lnTo>
                    <a:pt x="997" y="560"/>
                  </a:lnTo>
                  <a:lnTo>
                    <a:pt x="1002" y="560"/>
                  </a:lnTo>
                  <a:lnTo>
                    <a:pt x="1008" y="560"/>
                  </a:lnTo>
                  <a:lnTo>
                    <a:pt x="1013" y="560"/>
                  </a:lnTo>
                  <a:lnTo>
                    <a:pt x="1018" y="560"/>
                  </a:lnTo>
                  <a:lnTo>
                    <a:pt x="1023" y="560"/>
                  </a:lnTo>
                  <a:lnTo>
                    <a:pt x="1029" y="560"/>
                  </a:lnTo>
                  <a:lnTo>
                    <a:pt x="1034" y="560"/>
                  </a:lnTo>
                  <a:lnTo>
                    <a:pt x="1039" y="560"/>
                  </a:lnTo>
                  <a:lnTo>
                    <a:pt x="1044" y="560"/>
                  </a:lnTo>
                  <a:lnTo>
                    <a:pt x="1050" y="560"/>
                  </a:lnTo>
                  <a:lnTo>
                    <a:pt x="1055" y="560"/>
                  </a:lnTo>
                  <a:lnTo>
                    <a:pt x="1060" y="560"/>
                  </a:lnTo>
                  <a:lnTo>
                    <a:pt x="1065" y="560"/>
                  </a:lnTo>
                  <a:lnTo>
                    <a:pt x="1071" y="560"/>
                  </a:lnTo>
                  <a:lnTo>
                    <a:pt x="1076" y="560"/>
                  </a:lnTo>
                  <a:lnTo>
                    <a:pt x="1081" y="560"/>
                  </a:lnTo>
                  <a:lnTo>
                    <a:pt x="1086" y="560"/>
                  </a:lnTo>
                  <a:lnTo>
                    <a:pt x="1092" y="560"/>
                  </a:lnTo>
                  <a:lnTo>
                    <a:pt x="1097" y="560"/>
                  </a:lnTo>
                  <a:lnTo>
                    <a:pt x="1102" y="560"/>
                  </a:lnTo>
                  <a:lnTo>
                    <a:pt x="1107" y="560"/>
                  </a:lnTo>
                  <a:lnTo>
                    <a:pt x="1113" y="560"/>
                  </a:lnTo>
                  <a:lnTo>
                    <a:pt x="1118" y="560"/>
                  </a:lnTo>
                  <a:lnTo>
                    <a:pt x="1123" y="560"/>
                  </a:lnTo>
                  <a:lnTo>
                    <a:pt x="1128" y="560"/>
                  </a:lnTo>
                  <a:lnTo>
                    <a:pt x="1134" y="560"/>
                  </a:lnTo>
                  <a:lnTo>
                    <a:pt x="1139" y="560"/>
                  </a:lnTo>
                  <a:lnTo>
                    <a:pt x="1144" y="560"/>
                  </a:lnTo>
                  <a:lnTo>
                    <a:pt x="1149" y="560"/>
                  </a:lnTo>
                  <a:lnTo>
                    <a:pt x="1155" y="560"/>
                  </a:lnTo>
                  <a:lnTo>
                    <a:pt x="1160" y="560"/>
                  </a:lnTo>
                  <a:lnTo>
                    <a:pt x="1165" y="560"/>
                  </a:lnTo>
                  <a:lnTo>
                    <a:pt x="1170" y="560"/>
                  </a:lnTo>
                  <a:lnTo>
                    <a:pt x="1176" y="560"/>
                  </a:lnTo>
                  <a:lnTo>
                    <a:pt x="1181" y="560"/>
                  </a:lnTo>
                  <a:lnTo>
                    <a:pt x="1186" y="560"/>
                  </a:lnTo>
                  <a:lnTo>
                    <a:pt x="1191" y="560"/>
                  </a:lnTo>
                  <a:lnTo>
                    <a:pt x="1197" y="560"/>
                  </a:lnTo>
                  <a:lnTo>
                    <a:pt x="1202" y="560"/>
                  </a:lnTo>
                  <a:lnTo>
                    <a:pt x="1207" y="560"/>
                  </a:lnTo>
                  <a:lnTo>
                    <a:pt x="1212" y="560"/>
                  </a:lnTo>
                  <a:lnTo>
                    <a:pt x="1218" y="560"/>
                  </a:lnTo>
                  <a:lnTo>
                    <a:pt x="1223" y="560"/>
                  </a:lnTo>
                  <a:lnTo>
                    <a:pt x="1228" y="560"/>
                  </a:lnTo>
                  <a:lnTo>
                    <a:pt x="1233" y="560"/>
                  </a:lnTo>
                  <a:lnTo>
                    <a:pt x="1239" y="560"/>
                  </a:lnTo>
                  <a:lnTo>
                    <a:pt x="1244" y="560"/>
                  </a:lnTo>
                  <a:lnTo>
                    <a:pt x="1249" y="560"/>
                  </a:lnTo>
                  <a:lnTo>
                    <a:pt x="1254" y="560"/>
                  </a:lnTo>
                  <a:lnTo>
                    <a:pt x="1260" y="560"/>
                  </a:lnTo>
                  <a:lnTo>
                    <a:pt x="1265" y="560"/>
                  </a:lnTo>
                  <a:lnTo>
                    <a:pt x="1270" y="560"/>
                  </a:lnTo>
                  <a:lnTo>
                    <a:pt x="1275" y="560"/>
                  </a:lnTo>
                  <a:lnTo>
                    <a:pt x="1281" y="560"/>
                  </a:lnTo>
                  <a:lnTo>
                    <a:pt x="1286" y="560"/>
                  </a:lnTo>
                  <a:lnTo>
                    <a:pt x="1291" y="560"/>
                  </a:lnTo>
                  <a:lnTo>
                    <a:pt x="1296" y="560"/>
                  </a:lnTo>
                  <a:lnTo>
                    <a:pt x="1302" y="560"/>
                  </a:lnTo>
                  <a:lnTo>
                    <a:pt x="1307" y="560"/>
                  </a:lnTo>
                  <a:lnTo>
                    <a:pt x="1312" y="560"/>
                  </a:lnTo>
                  <a:lnTo>
                    <a:pt x="1317" y="560"/>
                  </a:lnTo>
                  <a:lnTo>
                    <a:pt x="1323" y="560"/>
                  </a:lnTo>
                  <a:lnTo>
                    <a:pt x="1328" y="560"/>
                  </a:lnTo>
                  <a:lnTo>
                    <a:pt x="1333" y="560"/>
                  </a:lnTo>
                  <a:lnTo>
                    <a:pt x="1338" y="560"/>
                  </a:lnTo>
                  <a:lnTo>
                    <a:pt x="1344" y="560"/>
                  </a:lnTo>
                  <a:lnTo>
                    <a:pt x="1349" y="560"/>
                  </a:lnTo>
                  <a:lnTo>
                    <a:pt x="1354" y="560"/>
                  </a:lnTo>
                  <a:lnTo>
                    <a:pt x="1359" y="560"/>
                  </a:lnTo>
                  <a:lnTo>
                    <a:pt x="1365" y="560"/>
                  </a:lnTo>
                  <a:lnTo>
                    <a:pt x="1370" y="560"/>
                  </a:lnTo>
                  <a:lnTo>
                    <a:pt x="1375" y="560"/>
                  </a:lnTo>
                  <a:lnTo>
                    <a:pt x="1380" y="560"/>
                  </a:lnTo>
                  <a:lnTo>
                    <a:pt x="1386" y="560"/>
                  </a:lnTo>
                  <a:lnTo>
                    <a:pt x="1391" y="560"/>
                  </a:lnTo>
                  <a:lnTo>
                    <a:pt x="1396" y="560"/>
                  </a:lnTo>
                  <a:lnTo>
                    <a:pt x="1401" y="560"/>
                  </a:lnTo>
                  <a:lnTo>
                    <a:pt x="1407" y="560"/>
                  </a:lnTo>
                  <a:lnTo>
                    <a:pt x="1412" y="560"/>
                  </a:lnTo>
                  <a:lnTo>
                    <a:pt x="1417" y="560"/>
                  </a:lnTo>
                  <a:lnTo>
                    <a:pt x="1422" y="560"/>
                  </a:lnTo>
                  <a:lnTo>
                    <a:pt x="1428" y="560"/>
                  </a:lnTo>
                  <a:lnTo>
                    <a:pt x="1433" y="560"/>
                  </a:lnTo>
                  <a:lnTo>
                    <a:pt x="1438" y="560"/>
                  </a:lnTo>
                  <a:lnTo>
                    <a:pt x="1443" y="560"/>
                  </a:lnTo>
                  <a:lnTo>
                    <a:pt x="1449" y="560"/>
                  </a:lnTo>
                  <a:lnTo>
                    <a:pt x="1454" y="560"/>
                  </a:lnTo>
                  <a:lnTo>
                    <a:pt x="1459" y="560"/>
                  </a:lnTo>
                  <a:lnTo>
                    <a:pt x="1464" y="560"/>
                  </a:lnTo>
                  <a:lnTo>
                    <a:pt x="1470" y="560"/>
                  </a:lnTo>
                  <a:lnTo>
                    <a:pt x="1475" y="560"/>
                  </a:lnTo>
                  <a:lnTo>
                    <a:pt x="1480" y="560"/>
                  </a:lnTo>
                  <a:lnTo>
                    <a:pt x="1485" y="560"/>
                  </a:lnTo>
                  <a:lnTo>
                    <a:pt x="1491" y="560"/>
                  </a:lnTo>
                  <a:lnTo>
                    <a:pt x="1496" y="560"/>
                  </a:lnTo>
                  <a:lnTo>
                    <a:pt x="1501" y="560"/>
                  </a:lnTo>
                  <a:lnTo>
                    <a:pt x="1506" y="560"/>
                  </a:lnTo>
                  <a:lnTo>
                    <a:pt x="1512" y="560"/>
                  </a:lnTo>
                  <a:lnTo>
                    <a:pt x="1517" y="560"/>
                  </a:lnTo>
                  <a:lnTo>
                    <a:pt x="1522" y="560"/>
                  </a:lnTo>
                  <a:lnTo>
                    <a:pt x="1527" y="560"/>
                  </a:lnTo>
                  <a:lnTo>
                    <a:pt x="1533" y="560"/>
                  </a:lnTo>
                  <a:lnTo>
                    <a:pt x="1538" y="560"/>
                  </a:lnTo>
                  <a:lnTo>
                    <a:pt x="1543" y="560"/>
                  </a:lnTo>
                  <a:lnTo>
                    <a:pt x="1548" y="560"/>
                  </a:lnTo>
                  <a:lnTo>
                    <a:pt x="1554" y="560"/>
                  </a:lnTo>
                  <a:lnTo>
                    <a:pt x="1559" y="560"/>
                  </a:lnTo>
                  <a:lnTo>
                    <a:pt x="1564" y="560"/>
                  </a:lnTo>
                  <a:lnTo>
                    <a:pt x="1569" y="560"/>
                  </a:lnTo>
                  <a:lnTo>
                    <a:pt x="1575" y="56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583080" y="3491640"/>
              <a:ext cx="2037960" cy="744120"/>
            </a:xfrm>
            <a:custGeom>
              <a:avLst/>
              <a:gdLst/>
              <a:ahLst/>
              <a:rect l="l" t="t" r="r" b="b"/>
              <a:pathLst>
                <a:path w="1575" h="572">
                  <a:moveTo>
                    <a:pt x="0" y="0"/>
                  </a:moveTo>
                  <a:lnTo>
                    <a:pt x="5" y="8"/>
                  </a:lnTo>
                  <a:lnTo>
                    <a:pt x="10" y="15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3"/>
                  </a:lnTo>
                  <a:lnTo>
                    <a:pt x="42" y="61"/>
                  </a:lnTo>
                  <a:lnTo>
                    <a:pt x="47" y="68"/>
                  </a:lnTo>
                  <a:lnTo>
                    <a:pt x="52" y="76"/>
                  </a:lnTo>
                  <a:lnTo>
                    <a:pt x="57" y="83"/>
                  </a:lnTo>
                  <a:lnTo>
                    <a:pt x="63" y="91"/>
                  </a:lnTo>
                  <a:lnTo>
                    <a:pt x="68" y="99"/>
                  </a:lnTo>
                  <a:lnTo>
                    <a:pt x="73" y="106"/>
                  </a:lnTo>
                  <a:lnTo>
                    <a:pt x="78" y="114"/>
                  </a:lnTo>
                  <a:lnTo>
                    <a:pt x="84" y="121"/>
                  </a:lnTo>
                  <a:lnTo>
                    <a:pt x="89" y="129"/>
                  </a:lnTo>
                  <a:lnTo>
                    <a:pt x="94" y="136"/>
                  </a:lnTo>
                  <a:lnTo>
                    <a:pt x="99" y="144"/>
                  </a:lnTo>
                  <a:lnTo>
                    <a:pt x="105" y="151"/>
                  </a:lnTo>
                  <a:lnTo>
                    <a:pt x="110" y="159"/>
                  </a:lnTo>
                  <a:lnTo>
                    <a:pt x="115" y="167"/>
                  </a:lnTo>
                  <a:lnTo>
                    <a:pt x="120" y="174"/>
                  </a:lnTo>
                  <a:lnTo>
                    <a:pt x="126" y="182"/>
                  </a:lnTo>
                  <a:lnTo>
                    <a:pt x="131" y="189"/>
                  </a:lnTo>
                  <a:lnTo>
                    <a:pt x="136" y="197"/>
                  </a:lnTo>
                  <a:lnTo>
                    <a:pt x="141" y="204"/>
                  </a:lnTo>
                  <a:lnTo>
                    <a:pt x="147" y="212"/>
                  </a:lnTo>
                  <a:lnTo>
                    <a:pt x="152" y="219"/>
                  </a:lnTo>
                  <a:lnTo>
                    <a:pt x="157" y="227"/>
                  </a:lnTo>
                  <a:lnTo>
                    <a:pt x="162" y="235"/>
                  </a:lnTo>
                  <a:lnTo>
                    <a:pt x="168" y="242"/>
                  </a:lnTo>
                  <a:lnTo>
                    <a:pt x="173" y="250"/>
                  </a:lnTo>
                  <a:lnTo>
                    <a:pt x="178" y="257"/>
                  </a:lnTo>
                  <a:lnTo>
                    <a:pt x="183" y="265"/>
                  </a:lnTo>
                  <a:lnTo>
                    <a:pt x="189" y="272"/>
                  </a:lnTo>
                  <a:lnTo>
                    <a:pt x="194" y="280"/>
                  </a:lnTo>
                  <a:lnTo>
                    <a:pt x="199" y="288"/>
                  </a:lnTo>
                  <a:lnTo>
                    <a:pt x="204" y="295"/>
                  </a:lnTo>
                  <a:lnTo>
                    <a:pt x="210" y="303"/>
                  </a:lnTo>
                  <a:lnTo>
                    <a:pt x="215" y="310"/>
                  </a:lnTo>
                  <a:lnTo>
                    <a:pt x="220" y="318"/>
                  </a:lnTo>
                  <a:lnTo>
                    <a:pt x="225" y="325"/>
                  </a:lnTo>
                  <a:lnTo>
                    <a:pt x="231" y="333"/>
                  </a:lnTo>
                  <a:lnTo>
                    <a:pt x="236" y="340"/>
                  </a:lnTo>
                  <a:lnTo>
                    <a:pt x="241" y="348"/>
                  </a:lnTo>
                  <a:lnTo>
                    <a:pt x="246" y="356"/>
                  </a:lnTo>
                  <a:lnTo>
                    <a:pt x="252" y="363"/>
                  </a:lnTo>
                  <a:lnTo>
                    <a:pt x="257" y="371"/>
                  </a:lnTo>
                  <a:lnTo>
                    <a:pt x="262" y="378"/>
                  </a:lnTo>
                  <a:lnTo>
                    <a:pt x="267" y="386"/>
                  </a:lnTo>
                  <a:lnTo>
                    <a:pt x="273" y="393"/>
                  </a:lnTo>
                  <a:lnTo>
                    <a:pt x="278" y="401"/>
                  </a:lnTo>
                  <a:lnTo>
                    <a:pt x="283" y="408"/>
                  </a:lnTo>
                  <a:lnTo>
                    <a:pt x="288" y="416"/>
                  </a:lnTo>
                  <a:lnTo>
                    <a:pt x="294" y="424"/>
                  </a:lnTo>
                  <a:lnTo>
                    <a:pt x="299" y="431"/>
                  </a:lnTo>
                  <a:lnTo>
                    <a:pt x="304" y="439"/>
                  </a:lnTo>
                  <a:lnTo>
                    <a:pt x="309" y="446"/>
                  </a:lnTo>
                  <a:lnTo>
                    <a:pt x="315" y="454"/>
                  </a:lnTo>
                  <a:lnTo>
                    <a:pt x="320" y="461"/>
                  </a:lnTo>
                  <a:lnTo>
                    <a:pt x="325" y="469"/>
                  </a:lnTo>
                  <a:lnTo>
                    <a:pt x="330" y="477"/>
                  </a:lnTo>
                  <a:lnTo>
                    <a:pt x="336" y="484"/>
                  </a:lnTo>
                  <a:lnTo>
                    <a:pt x="341" y="492"/>
                  </a:lnTo>
                  <a:lnTo>
                    <a:pt x="346" y="499"/>
                  </a:lnTo>
                  <a:lnTo>
                    <a:pt x="351" y="507"/>
                  </a:lnTo>
                  <a:lnTo>
                    <a:pt x="357" y="514"/>
                  </a:lnTo>
                  <a:lnTo>
                    <a:pt x="362" y="522"/>
                  </a:lnTo>
                  <a:lnTo>
                    <a:pt x="367" y="529"/>
                  </a:lnTo>
                  <a:lnTo>
                    <a:pt x="372" y="537"/>
                  </a:lnTo>
                  <a:lnTo>
                    <a:pt x="378" y="545"/>
                  </a:lnTo>
                  <a:lnTo>
                    <a:pt x="383" y="552"/>
                  </a:lnTo>
                  <a:lnTo>
                    <a:pt x="388" y="560"/>
                  </a:lnTo>
                  <a:lnTo>
                    <a:pt x="393" y="567"/>
                  </a:lnTo>
                  <a:lnTo>
                    <a:pt x="399" y="572"/>
                  </a:lnTo>
                  <a:lnTo>
                    <a:pt x="404" y="572"/>
                  </a:lnTo>
                  <a:lnTo>
                    <a:pt x="409" y="572"/>
                  </a:lnTo>
                  <a:lnTo>
                    <a:pt x="414" y="572"/>
                  </a:lnTo>
                  <a:lnTo>
                    <a:pt x="420" y="572"/>
                  </a:lnTo>
                  <a:lnTo>
                    <a:pt x="425" y="572"/>
                  </a:lnTo>
                  <a:lnTo>
                    <a:pt x="430" y="572"/>
                  </a:lnTo>
                  <a:lnTo>
                    <a:pt x="435" y="572"/>
                  </a:lnTo>
                  <a:lnTo>
                    <a:pt x="441" y="572"/>
                  </a:lnTo>
                  <a:lnTo>
                    <a:pt x="446" y="572"/>
                  </a:lnTo>
                  <a:lnTo>
                    <a:pt x="451" y="572"/>
                  </a:lnTo>
                  <a:lnTo>
                    <a:pt x="456" y="572"/>
                  </a:lnTo>
                  <a:lnTo>
                    <a:pt x="462" y="572"/>
                  </a:lnTo>
                  <a:lnTo>
                    <a:pt x="467" y="572"/>
                  </a:lnTo>
                  <a:lnTo>
                    <a:pt x="472" y="572"/>
                  </a:lnTo>
                  <a:lnTo>
                    <a:pt x="477" y="572"/>
                  </a:lnTo>
                  <a:lnTo>
                    <a:pt x="483" y="572"/>
                  </a:lnTo>
                  <a:lnTo>
                    <a:pt x="488" y="572"/>
                  </a:lnTo>
                  <a:lnTo>
                    <a:pt x="493" y="572"/>
                  </a:lnTo>
                  <a:lnTo>
                    <a:pt x="498" y="572"/>
                  </a:lnTo>
                  <a:lnTo>
                    <a:pt x="504" y="572"/>
                  </a:lnTo>
                  <a:lnTo>
                    <a:pt x="509" y="572"/>
                  </a:lnTo>
                  <a:lnTo>
                    <a:pt x="514" y="572"/>
                  </a:lnTo>
                  <a:lnTo>
                    <a:pt x="519" y="572"/>
                  </a:lnTo>
                  <a:lnTo>
                    <a:pt x="525" y="572"/>
                  </a:lnTo>
                  <a:lnTo>
                    <a:pt x="530" y="572"/>
                  </a:lnTo>
                  <a:lnTo>
                    <a:pt x="535" y="572"/>
                  </a:lnTo>
                  <a:lnTo>
                    <a:pt x="540" y="572"/>
                  </a:lnTo>
                  <a:lnTo>
                    <a:pt x="546" y="572"/>
                  </a:lnTo>
                  <a:lnTo>
                    <a:pt x="551" y="572"/>
                  </a:lnTo>
                  <a:lnTo>
                    <a:pt x="556" y="572"/>
                  </a:lnTo>
                  <a:lnTo>
                    <a:pt x="561" y="572"/>
                  </a:lnTo>
                  <a:lnTo>
                    <a:pt x="567" y="572"/>
                  </a:lnTo>
                  <a:lnTo>
                    <a:pt x="572" y="572"/>
                  </a:lnTo>
                  <a:lnTo>
                    <a:pt x="577" y="572"/>
                  </a:lnTo>
                  <a:lnTo>
                    <a:pt x="582" y="572"/>
                  </a:lnTo>
                  <a:lnTo>
                    <a:pt x="588" y="572"/>
                  </a:lnTo>
                  <a:lnTo>
                    <a:pt x="593" y="572"/>
                  </a:lnTo>
                  <a:lnTo>
                    <a:pt x="598" y="572"/>
                  </a:lnTo>
                  <a:lnTo>
                    <a:pt x="603" y="572"/>
                  </a:lnTo>
                  <a:lnTo>
                    <a:pt x="609" y="572"/>
                  </a:lnTo>
                  <a:lnTo>
                    <a:pt x="614" y="572"/>
                  </a:lnTo>
                  <a:lnTo>
                    <a:pt x="619" y="572"/>
                  </a:lnTo>
                  <a:lnTo>
                    <a:pt x="624" y="572"/>
                  </a:lnTo>
                  <a:lnTo>
                    <a:pt x="630" y="572"/>
                  </a:lnTo>
                  <a:lnTo>
                    <a:pt x="635" y="572"/>
                  </a:lnTo>
                  <a:lnTo>
                    <a:pt x="640" y="572"/>
                  </a:lnTo>
                  <a:lnTo>
                    <a:pt x="645" y="572"/>
                  </a:lnTo>
                  <a:lnTo>
                    <a:pt x="651" y="572"/>
                  </a:lnTo>
                  <a:lnTo>
                    <a:pt x="656" y="572"/>
                  </a:lnTo>
                  <a:lnTo>
                    <a:pt x="661" y="572"/>
                  </a:lnTo>
                  <a:lnTo>
                    <a:pt x="666" y="572"/>
                  </a:lnTo>
                  <a:lnTo>
                    <a:pt x="672" y="572"/>
                  </a:lnTo>
                  <a:lnTo>
                    <a:pt x="677" y="572"/>
                  </a:lnTo>
                  <a:lnTo>
                    <a:pt x="682" y="572"/>
                  </a:lnTo>
                  <a:lnTo>
                    <a:pt x="687" y="572"/>
                  </a:lnTo>
                  <a:lnTo>
                    <a:pt x="693" y="572"/>
                  </a:lnTo>
                  <a:lnTo>
                    <a:pt x="698" y="572"/>
                  </a:lnTo>
                  <a:lnTo>
                    <a:pt x="703" y="572"/>
                  </a:lnTo>
                  <a:lnTo>
                    <a:pt x="708" y="572"/>
                  </a:lnTo>
                  <a:lnTo>
                    <a:pt x="714" y="572"/>
                  </a:lnTo>
                  <a:lnTo>
                    <a:pt x="719" y="572"/>
                  </a:lnTo>
                  <a:lnTo>
                    <a:pt x="724" y="572"/>
                  </a:lnTo>
                  <a:lnTo>
                    <a:pt x="729" y="572"/>
                  </a:lnTo>
                  <a:lnTo>
                    <a:pt x="735" y="572"/>
                  </a:lnTo>
                  <a:lnTo>
                    <a:pt x="740" y="572"/>
                  </a:lnTo>
                  <a:lnTo>
                    <a:pt x="745" y="572"/>
                  </a:lnTo>
                  <a:lnTo>
                    <a:pt x="750" y="572"/>
                  </a:lnTo>
                  <a:lnTo>
                    <a:pt x="756" y="572"/>
                  </a:lnTo>
                  <a:lnTo>
                    <a:pt x="761" y="572"/>
                  </a:lnTo>
                  <a:lnTo>
                    <a:pt x="766" y="572"/>
                  </a:lnTo>
                  <a:lnTo>
                    <a:pt x="771" y="572"/>
                  </a:lnTo>
                  <a:lnTo>
                    <a:pt x="777" y="572"/>
                  </a:lnTo>
                  <a:lnTo>
                    <a:pt x="782" y="572"/>
                  </a:lnTo>
                  <a:lnTo>
                    <a:pt x="787" y="572"/>
                  </a:lnTo>
                  <a:lnTo>
                    <a:pt x="792" y="572"/>
                  </a:lnTo>
                  <a:lnTo>
                    <a:pt x="798" y="572"/>
                  </a:lnTo>
                  <a:lnTo>
                    <a:pt x="803" y="572"/>
                  </a:lnTo>
                  <a:lnTo>
                    <a:pt x="808" y="572"/>
                  </a:lnTo>
                  <a:lnTo>
                    <a:pt x="813" y="572"/>
                  </a:lnTo>
                  <a:lnTo>
                    <a:pt x="819" y="572"/>
                  </a:lnTo>
                  <a:lnTo>
                    <a:pt x="824" y="572"/>
                  </a:lnTo>
                  <a:lnTo>
                    <a:pt x="829" y="572"/>
                  </a:lnTo>
                  <a:lnTo>
                    <a:pt x="834" y="572"/>
                  </a:lnTo>
                  <a:lnTo>
                    <a:pt x="840" y="572"/>
                  </a:lnTo>
                  <a:lnTo>
                    <a:pt x="845" y="572"/>
                  </a:lnTo>
                  <a:lnTo>
                    <a:pt x="850" y="572"/>
                  </a:lnTo>
                  <a:lnTo>
                    <a:pt x="855" y="572"/>
                  </a:lnTo>
                  <a:lnTo>
                    <a:pt x="861" y="572"/>
                  </a:lnTo>
                  <a:lnTo>
                    <a:pt x="866" y="572"/>
                  </a:lnTo>
                  <a:lnTo>
                    <a:pt x="871" y="572"/>
                  </a:lnTo>
                  <a:lnTo>
                    <a:pt x="876" y="572"/>
                  </a:lnTo>
                  <a:lnTo>
                    <a:pt x="882" y="572"/>
                  </a:lnTo>
                  <a:lnTo>
                    <a:pt x="887" y="572"/>
                  </a:lnTo>
                  <a:lnTo>
                    <a:pt x="892" y="572"/>
                  </a:lnTo>
                  <a:lnTo>
                    <a:pt x="897" y="572"/>
                  </a:lnTo>
                  <a:lnTo>
                    <a:pt x="903" y="572"/>
                  </a:lnTo>
                  <a:lnTo>
                    <a:pt x="908" y="572"/>
                  </a:lnTo>
                  <a:lnTo>
                    <a:pt x="913" y="572"/>
                  </a:lnTo>
                  <a:lnTo>
                    <a:pt x="918" y="572"/>
                  </a:lnTo>
                  <a:lnTo>
                    <a:pt x="924" y="572"/>
                  </a:lnTo>
                  <a:lnTo>
                    <a:pt x="929" y="572"/>
                  </a:lnTo>
                  <a:lnTo>
                    <a:pt x="934" y="572"/>
                  </a:lnTo>
                  <a:lnTo>
                    <a:pt x="939" y="572"/>
                  </a:lnTo>
                  <a:lnTo>
                    <a:pt x="945" y="572"/>
                  </a:lnTo>
                  <a:lnTo>
                    <a:pt x="950" y="572"/>
                  </a:lnTo>
                  <a:lnTo>
                    <a:pt x="955" y="572"/>
                  </a:lnTo>
                  <a:lnTo>
                    <a:pt x="960" y="572"/>
                  </a:lnTo>
                  <a:lnTo>
                    <a:pt x="966" y="572"/>
                  </a:lnTo>
                  <a:lnTo>
                    <a:pt x="971" y="572"/>
                  </a:lnTo>
                  <a:lnTo>
                    <a:pt x="976" y="572"/>
                  </a:lnTo>
                  <a:lnTo>
                    <a:pt x="981" y="572"/>
                  </a:lnTo>
                  <a:lnTo>
                    <a:pt x="987" y="572"/>
                  </a:lnTo>
                  <a:lnTo>
                    <a:pt x="992" y="572"/>
                  </a:lnTo>
                  <a:lnTo>
                    <a:pt x="997" y="572"/>
                  </a:lnTo>
                  <a:lnTo>
                    <a:pt x="1002" y="572"/>
                  </a:lnTo>
                  <a:lnTo>
                    <a:pt x="1008" y="572"/>
                  </a:lnTo>
                  <a:lnTo>
                    <a:pt x="1013" y="572"/>
                  </a:lnTo>
                  <a:lnTo>
                    <a:pt x="1018" y="572"/>
                  </a:lnTo>
                  <a:lnTo>
                    <a:pt x="1023" y="572"/>
                  </a:lnTo>
                  <a:lnTo>
                    <a:pt x="1029" y="572"/>
                  </a:lnTo>
                  <a:lnTo>
                    <a:pt x="1034" y="572"/>
                  </a:lnTo>
                  <a:lnTo>
                    <a:pt x="1039" y="572"/>
                  </a:lnTo>
                  <a:lnTo>
                    <a:pt x="1044" y="572"/>
                  </a:lnTo>
                  <a:lnTo>
                    <a:pt x="1050" y="572"/>
                  </a:lnTo>
                  <a:lnTo>
                    <a:pt x="1055" y="572"/>
                  </a:lnTo>
                  <a:lnTo>
                    <a:pt x="1060" y="572"/>
                  </a:lnTo>
                  <a:lnTo>
                    <a:pt x="1065" y="572"/>
                  </a:lnTo>
                  <a:lnTo>
                    <a:pt x="1071" y="572"/>
                  </a:lnTo>
                  <a:lnTo>
                    <a:pt x="1076" y="572"/>
                  </a:lnTo>
                  <a:lnTo>
                    <a:pt x="1081" y="572"/>
                  </a:lnTo>
                  <a:lnTo>
                    <a:pt x="1086" y="572"/>
                  </a:lnTo>
                  <a:lnTo>
                    <a:pt x="1092" y="572"/>
                  </a:lnTo>
                  <a:lnTo>
                    <a:pt x="1097" y="572"/>
                  </a:lnTo>
                  <a:lnTo>
                    <a:pt x="1102" y="572"/>
                  </a:lnTo>
                  <a:lnTo>
                    <a:pt x="1107" y="572"/>
                  </a:lnTo>
                  <a:lnTo>
                    <a:pt x="1113" y="572"/>
                  </a:lnTo>
                  <a:lnTo>
                    <a:pt x="1118" y="572"/>
                  </a:lnTo>
                  <a:lnTo>
                    <a:pt x="1123" y="572"/>
                  </a:lnTo>
                  <a:lnTo>
                    <a:pt x="1128" y="572"/>
                  </a:lnTo>
                  <a:lnTo>
                    <a:pt x="1134" y="572"/>
                  </a:lnTo>
                  <a:lnTo>
                    <a:pt x="1139" y="572"/>
                  </a:lnTo>
                  <a:lnTo>
                    <a:pt x="1144" y="572"/>
                  </a:lnTo>
                  <a:lnTo>
                    <a:pt x="1149" y="572"/>
                  </a:lnTo>
                  <a:lnTo>
                    <a:pt x="1155" y="572"/>
                  </a:lnTo>
                  <a:lnTo>
                    <a:pt x="1160" y="572"/>
                  </a:lnTo>
                  <a:lnTo>
                    <a:pt x="1165" y="572"/>
                  </a:lnTo>
                  <a:lnTo>
                    <a:pt x="1170" y="572"/>
                  </a:lnTo>
                  <a:lnTo>
                    <a:pt x="1176" y="572"/>
                  </a:lnTo>
                  <a:lnTo>
                    <a:pt x="1181" y="572"/>
                  </a:lnTo>
                  <a:lnTo>
                    <a:pt x="1186" y="572"/>
                  </a:lnTo>
                  <a:lnTo>
                    <a:pt x="1191" y="572"/>
                  </a:lnTo>
                  <a:lnTo>
                    <a:pt x="1197" y="572"/>
                  </a:lnTo>
                  <a:lnTo>
                    <a:pt x="1202" y="572"/>
                  </a:lnTo>
                  <a:lnTo>
                    <a:pt x="1207" y="572"/>
                  </a:lnTo>
                  <a:lnTo>
                    <a:pt x="1212" y="572"/>
                  </a:lnTo>
                  <a:lnTo>
                    <a:pt x="1218" y="572"/>
                  </a:lnTo>
                  <a:lnTo>
                    <a:pt x="1223" y="572"/>
                  </a:lnTo>
                  <a:lnTo>
                    <a:pt x="1228" y="572"/>
                  </a:lnTo>
                  <a:lnTo>
                    <a:pt x="1233" y="572"/>
                  </a:lnTo>
                  <a:lnTo>
                    <a:pt x="1239" y="572"/>
                  </a:lnTo>
                  <a:lnTo>
                    <a:pt x="1244" y="572"/>
                  </a:lnTo>
                  <a:lnTo>
                    <a:pt x="1249" y="572"/>
                  </a:lnTo>
                  <a:lnTo>
                    <a:pt x="1254" y="572"/>
                  </a:lnTo>
                  <a:lnTo>
                    <a:pt x="1260" y="572"/>
                  </a:lnTo>
                  <a:lnTo>
                    <a:pt x="1265" y="572"/>
                  </a:lnTo>
                  <a:lnTo>
                    <a:pt x="1270" y="572"/>
                  </a:lnTo>
                  <a:lnTo>
                    <a:pt x="1275" y="572"/>
                  </a:lnTo>
                  <a:lnTo>
                    <a:pt x="1281" y="572"/>
                  </a:lnTo>
                  <a:lnTo>
                    <a:pt x="1286" y="572"/>
                  </a:lnTo>
                  <a:lnTo>
                    <a:pt x="1291" y="572"/>
                  </a:lnTo>
                  <a:lnTo>
                    <a:pt x="1296" y="572"/>
                  </a:lnTo>
                  <a:lnTo>
                    <a:pt x="1302" y="572"/>
                  </a:lnTo>
                  <a:lnTo>
                    <a:pt x="1307" y="572"/>
                  </a:lnTo>
                  <a:lnTo>
                    <a:pt x="1312" y="572"/>
                  </a:lnTo>
                  <a:lnTo>
                    <a:pt x="1317" y="572"/>
                  </a:lnTo>
                  <a:lnTo>
                    <a:pt x="1323" y="572"/>
                  </a:lnTo>
                  <a:lnTo>
                    <a:pt x="1328" y="572"/>
                  </a:lnTo>
                  <a:lnTo>
                    <a:pt x="1333" y="572"/>
                  </a:lnTo>
                  <a:lnTo>
                    <a:pt x="1338" y="572"/>
                  </a:lnTo>
                  <a:lnTo>
                    <a:pt x="1344" y="572"/>
                  </a:lnTo>
                  <a:lnTo>
                    <a:pt x="1349" y="572"/>
                  </a:lnTo>
                  <a:lnTo>
                    <a:pt x="1354" y="572"/>
                  </a:lnTo>
                  <a:lnTo>
                    <a:pt x="1359" y="572"/>
                  </a:lnTo>
                  <a:lnTo>
                    <a:pt x="1365" y="572"/>
                  </a:lnTo>
                  <a:lnTo>
                    <a:pt x="1370" y="572"/>
                  </a:lnTo>
                  <a:lnTo>
                    <a:pt x="1375" y="572"/>
                  </a:lnTo>
                  <a:lnTo>
                    <a:pt x="1380" y="572"/>
                  </a:lnTo>
                  <a:lnTo>
                    <a:pt x="1386" y="572"/>
                  </a:lnTo>
                  <a:lnTo>
                    <a:pt x="1391" y="572"/>
                  </a:lnTo>
                  <a:lnTo>
                    <a:pt x="1396" y="572"/>
                  </a:lnTo>
                  <a:lnTo>
                    <a:pt x="1401" y="572"/>
                  </a:lnTo>
                  <a:lnTo>
                    <a:pt x="1407" y="572"/>
                  </a:lnTo>
                  <a:lnTo>
                    <a:pt x="1412" y="572"/>
                  </a:lnTo>
                  <a:lnTo>
                    <a:pt x="1417" y="572"/>
                  </a:lnTo>
                  <a:lnTo>
                    <a:pt x="1422" y="572"/>
                  </a:lnTo>
                  <a:lnTo>
                    <a:pt x="1428" y="572"/>
                  </a:lnTo>
                  <a:lnTo>
                    <a:pt x="1433" y="572"/>
                  </a:lnTo>
                  <a:lnTo>
                    <a:pt x="1438" y="572"/>
                  </a:lnTo>
                  <a:lnTo>
                    <a:pt x="1443" y="572"/>
                  </a:lnTo>
                  <a:lnTo>
                    <a:pt x="1449" y="572"/>
                  </a:lnTo>
                  <a:lnTo>
                    <a:pt x="1454" y="572"/>
                  </a:lnTo>
                  <a:lnTo>
                    <a:pt x="1459" y="572"/>
                  </a:lnTo>
                  <a:lnTo>
                    <a:pt x="1464" y="572"/>
                  </a:lnTo>
                  <a:lnTo>
                    <a:pt x="1470" y="572"/>
                  </a:lnTo>
                  <a:lnTo>
                    <a:pt x="1475" y="572"/>
                  </a:lnTo>
                  <a:lnTo>
                    <a:pt x="1480" y="572"/>
                  </a:lnTo>
                  <a:lnTo>
                    <a:pt x="1485" y="572"/>
                  </a:lnTo>
                  <a:lnTo>
                    <a:pt x="1491" y="572"/>
                  </a:lnTo>
                  <a:lnTo>
                    <a:pt x="1496" y="572"/>
                  </a:lnTo>
                  <a:lnTo>
                    <a:pt x="1501" y="572"/>
                  </a:lnTo>
                  <a:lnTo>
                    <a:pt x="1506" y="572"/>
                  </a:lnTo>
                  <a:lnTo>
                    <a:pt x="1512" y="572"/>
                  </a:lnTo>
                  <a:lnTo>
                    <a:pt x="1517" y="572"/>
                  </a:lnTo>
                  <a:lnTo>
                    <a:pt x="1522" y="572"/>
                  </a:lnTo>
                  <a:lnTo>
                    <a:pt x="1527" y="572"/>
                  </a:lnTo>
                  <a:lnTo>
                    <a:pt x="1533" y="572"/>
                  </a:lnTo>
                  <a:lnTo>
                    <a:pt x="1538" y="572"/>
                  </a:lnTo>
                  <a:lnTo>
                    <a:pt x="1543" y="572"/>
                  </a:lnTo>
                  <a:lnTo>
                    <a:pt x="1548" y="572"/>
                  </a:lnTo>
                  <a:lnTo>
                    <a:pt x="1554" y="572"/>
                  </a:lnTo>
                  <a:lnTo>
                    <a:pt x="1559" y="572"/>
                  </a:lnTo>
                  <a:lnTo>
                    <a:pt x="1564" y="572"/>
                  </a:lnTo>
                  <a:lnTo>
                    <a:pt x="1569" y="572"/>
                  </a:lnTo>
                  <a:lnTo>
                    <a:pt x="1575" y="57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3583080" y="3491640"/>
              <a:ext cx="2037960" cy="758520"/>
            </a:xfrm>
            <a:custGeom>
              <a:avLst/>
              <a:gdLst/>
              <a:ahLst/>
              <a:rect l="l" t="t" r="r" b="b"/>
              <a:pathLst>
                <a:path w="1575" h="584">
                  <a:moveTo>
                    <a:pt x="0" y="0"/>
                  </a:moveTo>
                  <a:lnTo>
                    <a:pt x="5" y="10"/>
                  </a:lnTo>
                  <a:lnTo>
                    <a:pt x="10" y="19"/>
                  </a:lnTo>
                  <a:lnTo>
                    <a:pt x="15" y="29"/>
                  </a:lnTo>
                  <a:lnTo>
                    <a:pt x="21" y="38"/>
                  </a:lnTo>
                  <a:lnTo>
                    <a:pt x="26" y="48"/>
                  </a:lnTo>
                  <a:lnTo>
                    <a:pt x="31" y="57"/>
                  </a:lnTo>
                  <a:lnTo>
                    <a:pt x="36" y="67"/>
                  </a:lnTo>
                  <a:lnTo>
                    <a:pt x="42" y="76"/>
                  </a:lnTo>
                  <a:lnTo>
                    <a:pt x="47" y="85"/>
                  </a:lnTo>
                  <a:lnTo>
                    <a:pt x="52" y="95"/>
                  </a:lnTo>
                  <a:lnTo>
                    <a:pt x="57" y="104"/>
                  </a:lnTo>
                  <a:lnTo>
                    <a:pt x="63" y="114"/>
                  </a:lnTo>
                  <a:lnTo>
                    <a:pt x="68" y="123"/>
                  </a:lnTo>
                  <a:lnTo>
                    <a:pt x="73" y="133"/>
                  </a:lnTo>
                  <a:lnTo>
                    <a:pt x="78" y="142"/>
                  </a:lnTo>
                  <a:lnTo>
                    <a:pt x="84" y="152"/>
                  </a:lnTo>
                  <a:lnTo>
                    <a:pt x="89" y="161"/>
                  </a:lnTo>
                  <a:lnTo>
                    <a:pt x="94" y="171"/>
                  </a:lnTo>
                  <a:lnTo>
                    <a:pt x="99" y="180"/>
                  </a:lnTo>
                  <a:lnTo>
                    <a:pt x="105" y="189"/>
                  </a:lnTo>
                  <a:lnTo>
                    <a:pt x="110" y="199"/>
                  </a:lnTo>
                  <a:lnTo>
                    <a:pt x="115" y="208"/>
                  </a:lnTo>
                  <a:lnTo>
                    <a:pt x="120" y="218"/>
                  </a:lnTo>
                  <a:lnTo>
                    <a:pt x="126" y="227"/>
                  </a:lnTo>
                  <a:lnTo>
                    <a:pt x="131" y="237"/>
                  </a:lnTo>
                  <a:lnTo>
                    <a:pt x="136" y="246"/>
                  </a:lnTo>
                  <a:lnTo>
                    <a:pt x="141" y="256"/>
                  </a:lnTo>
                  <a:lnTo>
                    <a:pt x="147" y="265"/>
                  </a:lnTo>
                  <a:lnTo>
                    <a:pt x="152" y="274"/>
                  </a:lnTo>
                  <a:lnTo>
                    <a:pt x="157" y="284"/>
                  </a:lnTo>
                  <a:lnTo>
                    <a:pt x="162" y="293"/>
                  </a:lnTo>
                  <a:lnTo>
                    <a:pt x="168" y="303"/>
                  </a:lnTo>
                  <a:lnTo>
                    <a:pt x="173" y="312"/>
                  </a:lnTo>
                  <a:lnTo>
                    <a:pt x="178" y="322"/>
                  </a:lnTo>
                  <a:lnTo>
                    <a:pt x="183" y="331"/>
                  </a:lnTo>
                  <a:lnTo>
                    <a:pt x="189" y="341"/>
                  </a:lnTo>
                  <a:lnTo>
                    <a:pt x="194" y="350"/>
                  </a:lnTo>
                  <a:lnTo>
                    <a:pt x="199" y="360"/>
                  </a:lnTo>
                  <a:lnTo>
                    <a:pt x="204" y="369"/>
                  </a:lnTo>
                  <a:lnTo>
                    <a:pt x="210" y="378"/>
                  </a:lnTo>
                  <a:lnTo>
                    <a:pt x="215" y="388"/>
                  </a:lnTo>
                  <a:lnTo>
                    <a:pt x="220" y="397"/>
                  </a:lnTo>
                  <a:lnTo>
                    <a:pt x="225" y="407"/>
                  </a:lnTo>
                  <a:lnTo>
                    <a:pt x="231" y="416"/>
                  </a:lnTo>
                  <a:lnTo>
                    <a:pt x="236" y="426"/>
                  </a:lnTo>
                  <a:lnTo>
                    <a:pt x="241" y="435"/>
                  </a:lnTo>
                  <a:lnTo>
                    <a:pt x="246" y="445"/>
                  </a:lnTo>
                  <a:lnTo>
                    <a:pt x="252" y="454"/>
                  </a:lnTo>
                  <a:lnTo>
                    <a:pt x="257" y="463"/>
                  </a:lnTo>
                  <a:lnTo>
                    <a:pt x="262" y="473"/>
                  </a:lnTo>
                  <a:lnTo>
                    <a:pt x="267" y="482"/>
                  </a:lnTo>
                  <a:lnTo>
                    <a:pt x="273" y="492"/>
                  </a:lnTo>
                  <a:lnTo>
                    <a:pt x="278" y="501"/>
                  </a:lnTo>
                  <a:lnTo>
                    <a:pt x="283" y="511"/>
                  </a:lnTo>
                  <a:lnTo>
                    <a:pt x="288" y="520"/>
                  </a:lnTo>
                  <a:lnTo>
                    <a:pt x="294" y="530"/>
                  </a:lnTo>
                  <a:lnTo>
                    <a:pt x="299" y="539"/>
                  </a:lnTo>
                  <a:lnTo>
                    <a:pt x="304" y="549"/>
                  </a:lnTo>
                  <a:lnTo>
                    <a:pt x="309" y="558"/>
                  </a:lnTo>
                  <a:lnTo>
                    <a:pt x="315" y="567"/>
                  </a:lnTo>
                  <a:lnTo>
                    <a:pt x="320" y="577"/>
                  </a:lnTo>
                  <a:lnTo>
                    <a:pt x="325" y="584"/>
                  </a:lnTo>
                  <a:lnTo>
                    <a:pt x="330" y="584"/>
                  </a:lnTo>
                  <a:lnTo>
                    <a:pt x="336" y="584"/>
                  </a:lnTo>
                  <a:lnTo>
                    <a:pt x="341" y="584"/>
                  </a:lnTo>
                  <a:lnTo>
                    <a:pt x="346" y="584"/>
                  </a:lnTo>
                  <a:lnTo>
                    <a:pt x="351" y="584"/>
                  </a:lnTo>
                  <a:lnTo>
                    <a:pt x="357" y="584"/>
                  </a:lnTo>
                  <a:lnTo>
                    <a:pt x="362" y="584"/>
                  </a:lnTo>
                  <a:lnTo>
                    <a:pt x="367" y="584"/>
                  </a:lnTo>
                  <a:lnTo>
                    <a:pt x="372" y="584"/>
                  </a:lnTo>
                  <a:lnTo>
                    <a:pt x="378" y="584"/>
                  </a:lnTo>
                  <a:lnTo>
                    <a:pt x="383" y="584"/>
                  </a:lnTo>
                  <a:lnTo>
                    <a:pt x="388" y="584"/>
                  </a:lnTo>
                  <a:lnTo>
                    <a:pt x="393" y="584"/>
                  </a:lnTo>
                  <a:lnTo>
                    <a:pt x="399" y="584"/>
                  </a:lnTo>
                  <a:lnTo>
                    <a:pt x="404" y="584"/>
                  </a:lnTo>
                  <a:lnTo>
                    <a:pt x="409" y="584"/>
                  </a:lnTo>
                  <a:lnTo>
                    <a:pt x="414" y="584"/>
                  </a:lnTo>
                  <a:lnTo>
                    <a:pt x="420" y="584"/>
                  </a:lnTo>
                  <a:lnTo>
                    <a:pt x="425" y="584"/>
                  </a:lnTo>
                  <a:lnTo>
                    <a:pt x="430" y="584"/>
                  </a:lnTo>
                  <a:lnTo>
                    <a:pt x="435" y="584"/>
                  </a:lnTo>
                  <a:lnTo>
                    <a:pt x="441" y="584"/>
                  </a:lnTo>
                  <a:lnTo>
                    <a:pt x="446" y="584"/>
                  </a:lnTo>
                  <a:lnTo>
                    <a:pt x="451" y="584"/>
                  </a:lnTo>
                  <a:lnTo>
                    <a:pt x="456" y="584"/>
                  </a:lnTo>
                  <a:lnTo>
                    <a:pt x="462" y="584"/>
                  </a:lnTo>
                  <a:lnTo>
                    <a:pt x="467" y="584"/>
                  </a:lnTo>
                  <a:lnTo>
                    <a:pt x="472" y="584"/>
                  </a:lnTo>
                  <a:lnTo>
                    <a:pt x="477" y="584"/>
                  </a:lnTo>
                  <a:lnTo>
                    <a:pt x="483" y="584"/>
                  </a:lnTo>
                  <a:lnTo>
                    <a:pt x="488" y="584"/>
                  </a:lnTo>
                  <a:lnTo>
                    <a:pt x="493" y="584"/>
                  </a:lnTo>
                  <a:lnTo>
                    <a:pt x="498" y="584"/>
                  </a:lnTo>
                  <a:lnTo>
                    <a:pt x="504" y="584"/>
                  </a:lnTo>
                  <a:lnTo>
                    <a:pt x="509" y="584"/>
                  </a:lnTo>
                  <a:lnTo>
                    <a:pt x="514" y="584"/>
                  </a:lnTo>
                  <a:lnTo>
                    <a:pt x="519" y="584"/>
                  </a:lnTo>
                  <a:lnTo>
                    <a:pt x="525" y="584"/>
                  </a:lnTo>
                  <a:lnTo>
                    <a:pt x="530" y="584"/>
                  </a:lnTo>
                  <a:lnTo>
                    <a:pt x="535" y="584"/>
                  </a:lnTo>
                  <a:lnTo>
                    <a:pt x="540" y="584"/>
                  </a:lnTo>
                  <a:lnTo>
                    <a:pt x="546" y="584"/>
                  </a:lnTo>
                  <a:lnTo>
                    <a:pt x="551" y="584"/>
                  </a:lnTo>
                  <a:lnTo>
                    <a:pt x="556" y="584"/>
                  </a:lnTo>
                  <a:lnTo>
                    <a:pt x="561" y="584"/>
                  </a:lnTo>
                  <a:lnTo>
                    <a:pt x="567" y="584"/>
                  </a:lnTo>
                  <a:lnTo>
                    <a:pt x="572" y="584"/>
                  </a:lnTo>
                  <a:lnTo>
                    <a:pt x="577" y="584"/>
                  </a:lnTo>
                  <a:lnTo>
                    <a:pt x="582" y="584"/>
                  </a:lnTo>
                  <a:lnTo>
                    <a:pt x="588" y="584"/>
                  </a:lnTo>
                  <a:lnTo>
                    <a:pt x="593" y="584"/>
                  </a:lnTo>
                  <a:lnTo>
                    <a:pt x="598" y="584"/>
                  </a:lnTo>
                  <a:lnTo>
                    <a:pt x="603" y="584"/>
                  </a:lnTo>
                  <a:lnTo>
                    <a:pt x="609" y="584"/>
                  </a:lnTo>
                  <a:lnTo>
                    <a:pt x="614" y="584"/>
                  </a:lnTo>
                  <a:lnTo>
                    <a:pt x="619" y="584"/>
                  </a:lnTo>
                  <a:lnTo>
                    <a:pt x="624" y="584"/>
                  </a:lnTo>
                  <a:lnTo>
                    <a:pt x="630" y="584"/>
                  </a:lnTo>
                  <a:lnTo>
                    <a:pt x="635" y="584"/>
                  </a:lnTo>
                  <a:lnTo>
                    <a:pt x="640" y="584"/>
                  </a:lnTo>
                  <a:lnTo>
                    <a:pt x="645" y="584"/>
                  </a:lnTo>
                  <a:lnTo>
                    <a:pt x="651" y="584"/>
                  </a:lnTo>
                  <a:lnTo>
                    <a:pt x="656" y="584"/>
                  </a:lnTo>
                  <a:lnTo>
                    <a:pt x="661" y="584"/>
                  </a:lnTo>
                  <a:lnTo>
                    <a:pt x="666" y="584"/>
                  </a:lnTo>
                  <a:lnTo>
                    <a:pt x="672" y="584"/>
                  </a:lnTo>
                  <a:lnTo>
                    <a:pt x="677" y="584"/>
                  </a:lnTo>
                  <a:lnTo>
                    <a:pt x="682" y="584"/>
                  </a:lnTo>
                  <a:lnTo>
                    <a:pt x="687" y="584"/>
                  </a:lnTo>
                  <a:lnTo>
                    <a:pt x="693" y="584"/>
                  </a:lnTo>
                  <a:lnTo>
                    <a:pt x="698" y="584"/>
                  </a:lnTo>
                  <a:lnTo>
                    <a:pt x="703" y="584"/>
                  </a:lnTo>
                  <a:lnTo>
                    <a:pt x="708" y="584"/>
                  </a:lnTo>
                  <a:lnTo>
                    <a:pt x="714" y="584"/>
                  </a:lnTo>
                  <a:lnTo>
                    <a:pt x="719" y="584"/>
                  </a:lnTo>
                  <a:lnTo>
                    <a:pt x="724" y="584"/>
                  </a:lnTo>
                  <a:lnTo>
                    <a:pt x="729" y="584"/>
                  </a:lnTo>
                  <a:lnTo>
                    <a:pt x="735" y="584"/>
                  </a:lnTo>
                  <a:lnTo>
                    <a:pt x="740" y="584"/>
                  </a:lnTo>
                  <a:lnTo>
                    <a:pt x="745" y="584"/>
                  </a:lnTo>
                  <a:lnTo>
                    <a:pt x="750" y="584"/>
                  </a:lnTo>
                  <a:lnTo>
                    <a:pt x="756" y="584"/>
                  </a:lnTo>
                  <a:lnTo>
                    <a:pt x="761" y="584"/>
                  </a:lnTo>
                  <a:lnTo>
                    <a:pt x="766" y="584"/>
                  </a:lnTo>
                  <a:lnTo>
                    <a:pt x="771" y="584"/>
                  </a:lnTo>
                  <a:lnTo>
                    <a:pt x="777" y="584"/>
                  </a:lnTo>
                  <a:lnTo>
                    <a:pt x="782" y="584"/>
                  </a:lnTo>
                  <a:lnTo>
                    <a:pt x="787" y="584"/>
                  </a:lnTo>
                  <a:lnTo>
                    <a:pt x="792" y="584"/>
                  </a:lnTo>
                  <a:lnTo>
                    <a:pt x="798" y="584"/>
                  </a:lnTo>
                  <a:lnTo>
                    <a:pt x="803" y="584"/>
                  </a:lnTo>
                  <a:lnTo>
                    <a:pt x="808" y="584"/>
                  </a:lnTo>
                  <a:lnTo>
                    <a:pt x="813" y="584"/>
                  </a:lnTo>
                  <a:lnTo>
                    <a:pt x="819" y="584"/>
                  </a:lnTo>
                  <a:lnTo>
                    <a:pt x="824" y="584"/>
                  </a:lnTo>
                  <a:lnTo>
                    <a:pt x="829" y="584"/>
                  </a:lnTo>
                  <a:lnTo>
                    <a:pt x="834" y="584"/>
                  </a:lnTo>
                  <a:lnTo>
                    <a:pt x="840" y="584"/>
                  </a:lnTo>
                  <a:lnTo>
                    <a:pt x="845" y="584"/>
                  </a:lnTo>
                  <a:lnTo>
                    <a:pt x="850" y="584"/>
                  </a:lnTo>
                  <a:lnTo>
                    <a:pt x="855" y="584"/>
                  </a:lnTo>
                  <a:lnTo>
                    <a:pt x="861" y="584"/>
                  </a:lnTo>
                  <a:lnTo>
                    <a:pt x="866" y="584"/>
                  </a:lnTo>
                  <a:lnTo>
                    <a:pt x="871" y="584"/>
                  </a:lnTo>
                  <a:lnTo>
                    <a:pt x="876" y="584"/>
                  </a:lnTo>
                  <a:lnTo>
                    <a:pt x="882" y="584"/>
                  </a:lnTo>
                  <a:lnTo>
                    <a:pt x="887" y="584"/>
                  </a:lnTo>
                  <a:lnTo>
                    <a:pt x="892" y="584"/>
                  </a:lnTo>
                  <a:lnTo>
                    <a:pt x="897" y="584"/>
                  </a:lnTo>
                  <a:lnTo>
                    <a:pt x="903" y="584"/>
                  </a:lnTo>
                  <a:lnTo>
                    <a:pt x="908" y="584"/>
                  </a:lnTo>
                  <a:lnTo>
                    <a:pt x="913" y="584"/>
                  </a:lnTo>
                  <a:lnTo>
                    <a:pt x="918" y="584"/>
                  </a:lnTo>
                  <a:lnTo>
                    <a:pt x="924" y="584"/>
                  </a:lnTo>
                  <a:lnTo>
                    <a:pt x="929" y="584"/>
                  </a:lnTo>
                  <a:lnTo>
                    <a:pt x="934" y="584"/>
                  </a:lnTo>
                  <a:lnTo>
                    <a:pt x="939" y="584"/>
                  </a:lnTo>
                  <a:lnTo>
                    <a:pt x="945" y="584"/>
                  </a:lnTo>
                  <a:lnTo>
                    <a:pt x="950" y="584"/>
                  </a:lnTo>
                  <a:lnTo>
                    <a:pt x="955" y="584"/>
                  </a:lnTo>
                  <a:lnTo>
                    <a:pt x="960" y="584"/>
                  </a:lnTo>
                  <a:lnTo>
                    <a:pt x="966" y="584"/>
                  </a:lnTo>
                  <a:lnTo>
                    <a:pt x="971" y="584"/>
                  </a:lnTo>
                  <a:lnTo>
                    <a:pt x="976" y="584"/>
                  </a:lnTo>
                  <a:lnTo>
                    <a:pt x="981" y="584"/>
                  </a:lnTo>
                  <a:lnTo>
                    <a:pt x="987" y="584"/>
                  </a:lnTo>
                  <a:lnTo>
                    <a:pt x="992" y="584"/>
                  </a:lnTo>
                  <a:lnTo>
                    <a:pt x="997" y="584"/>
                  </a:lnTo>
                  <a:lnTo>
                    <a:pt x="1002" y="584"/>
                  </a:lnTo>
                  <a:lnTo>
                    <a:pt x="1008" y="584"/>
                  </a:lnTo>
                  <a:lnTo>
                    <a:pt x="1013" y="584"/>
                  </a:lnTo>
                  <a:lnTo>
                    <a:pt x="1018" y="584"/>
                  </a:lnTo>
                  <a:lnTo>
                    <a:pt x="1023" y="584"/>
                  </a:lnTo>
                  <a:lnTo>
                    <a:pt x="1029" y="584"/>
                  </a:lnTo>
                  <a:lnTo>
                    <a:pt x="1034" y="584"/>
                  </a:lnTo>
                  <a:lnTo>
                    <a:pt x="1039" y="584"/>
                  </a:lnTo>
                  <a:lnTo>
                    <a:pt x="1044" y="584"/>
                  </a:lnTo>
                  <a:lnTo>
                    <a:pt x="1050" y="584"/>
                  </a:lnTo>
                  <a:lnTo>
                    <a:pt x="1055" y="584"/>
                  </a:lnTo>
                  <a:lnTo>
                    <a:pt x="1060" y="584"/>
                  </a:lnTo>
                  <a:lnTo>
                    <a:pt x="1065" y="584"/>
                  </a:lnTo>
                  <a:lnTo>
                    <a:pt x="1071" y="584"/>
                  </a:lnTo>
                  <a:lnTo>
                    <a:pt x="1076" y="584"/>
                  </a:lnTo>
                  <a:lnTo>
                    <a:pt x="1081" y="584"/>
                  </a:lnTo>
                  <a:lnTo>
                    <a:pt x="1086" y="584"/>
                  </a:lnTo>
                  <a:lnTo>
                    <a:pt x="1092" y="584"/>
                  </a:lnTo>
                  <a:lnTo>
                    <a:pt x="1097" y="584"/>
                  </a:lnTo>
                  <a:lnTo>
                    <a:pt x="1102" y="584"/>
                  </a:lnTo>
                  <a:lnTo>
                    <a:pt x="1107" y="584"/>
                  </a:lnTo>
                  <a:lnTo>
                    <a:pt x="1113" y="584"/>
                  </a:lnTo>
                  <a:lnTo>
                    <a:pt x="1118" y="584"/>
                  </a:lnTo>
                  <a:lnTo>
                    <a:pt x="1123" y="584"/>
                  </a:lnTo>
                  <a:lnTo>
                    <a:pt x="1128" y="584"/>
                  </a:lnTo>
                  <a:lnTo>
                    <a:pt x="1134" y="584"/>
                  </a:lnTo>
                  <a:lnTo>
                    <a:pt x="1139" y="584"/>
                  </a:lnTo>
                  <a:lnTo>
                    <a:pt x="1144" y="584"/>
                  </a:lnTo>
                  <a:lnTo>
                    <a:pt x="1149" y="584"/>
                  </a:lnTo>
                  <a:lnTo>
                    <a:pt x="1155" y="584"/>
                  </a:lnTo>
                  <a:lnTo>
                    <a:pt x="1160" y="584"/>
                  </a:lnTo>
                  <a:lnTo>
                    <a:pt x="1165" y="584"/>
                  </a:lnTo>
                  <a:lnTo>
                    <a:pt x="1170" y="584"/>
                  </a:lnTo>
                  <a:lnTo>
                    <a:pt x="1176" y="584"/>
                  </a:lnTo>
                  <a:lnTo>
                    <a:pt x="1181" y="584"/>
                  </a:lnTo>
                  <a:lnTo>
                    <a:pt x="1186" y="584"/>
                  </a:lnTo>
                  <a:lnTo>
                    <a:pt x="1191" y="584"/>
                  </a:lnTo>
                  <a:lnTo>
                    <a:pt x="1197" y="584"/>
                  </a:lnTo>
                  <a:lnTo>
                    <a:pt x="1202" y="584"/>
                  </a:lnTo>
                  <a:lnTo>
                    <a:pt x="1207" y="584"/>
                  </a:lnTo>
                  <a:lnTo>
                    <a:pt x="1212" y="584"/>
                  </a:lnTo>
                  <a:lnTo>
                    <a:pt x="1218" y="584"/>
                  </a:lnTo>
                  <a:lnTo>
                    <a:pt x="1223" y="584"/>
                  </a:lnTo>
                  <a:lnTo>
                    <a:pt x="1228" y="584"/>
                  </a:lnTo>
                  <a:lnTo>
                    <a:pt x="1233" y="584"/>
                  </a:lnTo>
                  <a:lnTo>
                    <a:pt x="1239" y="584"/>
                  </a:lnTo>
                  <a:lnTo>
                    <a:pt x="1244" y="584"/>
                  </a:lnTo>
                  <a:lnTo>
                    <a:pt x="1249" y="584"/>
                  </a:lnTo>
                  <a:lnTo>
                    <a:pt x="1254" y="584"/>
                  </a:lnTo>
                  <a:lnTo>
                    <a:pt x="1260" y="584"/>
                  </a:lnTo>
                  <a:lnTo>
                    <a:pt x="1265" y="584"/>
                  </a:lnTo>
                  <a:lnTo>
                    <a:pt x="1270" y="584"/>
                  </a:lnTo>
                  <a:lnTo>
                    <a:pt x="1275" y="584"/>
                  </a:lnTo>
                  <a:lnTo>
                    <a:pt x="1281" y="584"/>
                  </a:lnTo>
                  <a:lnTo>
                    <a:pt x="1286" y="584"/>
                  </a:lnTo>
                  <a:lnTo>
                    <a:pt x="1291" y="584"/>
                  </a:lnTo>
                  <a:lnTo>
                    <a:pt x="1296" y="584"/>
                  </a:lnTo>
                  <a:lnTo>
                    <a:pt x="1302" y="584"/>
                  </a:lnTo>
                  <a:lnTo>
                    <a:pt x="1307" y="584"/>
                  </a:lnTo>
                  <a:lnTo>
                    <a:pt x="1312" y="584"/>
                  </a:lnTo>
                  <a:lnTo>
                    <a:pt x="1317" y="584"/>
                  </a:lnTo>
                  <a:lnTo>
                    <a:pt x="1323" y="584"/>
                  </a:lnTo>
                  <a:lnTo>
                    <a:pt x="1328" y="584"/>
                  </a:lnTo>
                  <a:lnTo>
                    <a:pt x="1333" y="584"/>
                  </a:lnTo>
                  <a:lnTo>
                    <a:pt x="1338" y="584"/>
                  </a:lnTo>
                  <a:lnTo>
                    <a:pt x="1344" y="584"/>
                  </a:lnTo>
                  <a:lnTo>
                    <a:pt x="1349" y="584"/>
                  </a:lnTo>
                  <a:lnTo>
                    <a:pt x="1354" y="584"/>
                  </a:lnTo>
                  <a:lnTo>
                    <a:pt x="1359" y="584"/>
                  </a:lnTo>
                  <a:lnTo>
                    <a:pt x="1365" y="584"/>
                  </a:lnTo>
                  <a:lnTo>
                    <a:pt x="1370" y="584"/>
                  </a:lnTo>
                  <a:lnTo>
                    <a:pt x="1375" y="584"/>
                  </a:lnTo>
                  <a:lnTo>
                    <a:pt x="1380" y="584"/>
                  </a:lnTo>
                  <a:lnTo>
                    <a:pt x="1386" y="584"/>
                  </a:lnTo>
                  <a:lnTo>
                    <a:pt x="1391" y="584"/>
                  </a:lnTo>
                  <a:lnTo>
                    <a:pt x="1396" y="584"/>
                  </a:lnTo>
                  <a:lnTo>
                    <a:pt x="1401" y="584"/>
                  </a:lnTo>
                  <a:lnTo>
                    <a:pt x="1407" y="584"/>
                  </a:lnTo>
                  <a:lnTo>
                    <a:pt x="1412" y="584"/>
                  </a:lnTo>
                  <a:lnTo>
                    <a:pt x="1417" y="584"/>
                  </a:lnTo>
                  <a:lnTo>
                    <a:pt x="1422" y="584"/>
                  </a:lnTo>
                  <a:lnTo>
                    <a:pt x="1428" y="584"/>
                  </a:lnTo>
                  <a:lnTo>
                    <a:pt x="1433" y="584"/>
                  </a:lnTo>
                  <a:lnTo>
                    <a:pt x="1438" y="584"/>
                  </a:lnTo>
                  <a:lnTo>
                    <a:pt x="1443" y="584"/>
                  </a:lnTo>
                  <a:lnTo>
                    <a:pt x="1449" y="584"/>
                  </a:lnTo>
                  <a:lnTo>
                    <a:pt x="1454" y="584"/>
                  </a:lnTo>
                  <a:lnTo>
                    <a:pt x="1459" y="584"/>
                  </a:lnTo>
                  <a:lnTo>
                    <a:pt x="1464" y="584"/>
                  </a:lnTo>
                  <a:lnTo>
                    <a:pt x="1470" y="584"/>
                  </a:lnTo>
                  <a:lnTo>
                    <a:pt x="1475" y="584"/>
                  </a:lnTo>
                  <a:lnTo>
                    <a:pt x="1480" y="584"/>
                  </a:lnTo>
                  <a:lnTo>
                    <a:pt x="1485" y="584"/>
                  </a:lnTo>
                  <a:lnTo>
                    <a:pt x="1491" y="584"/>
                  </a:lnTo>
                  <a:lnTo>
                    <a:pt x="1496" y="584"/>
                  </a:lnTo>
                  <a:lnTo>
                    <a:pt x="1501" y="584"/>
                  </a:lnTo>
                  <a:lnTo>
                    <a:pt x="1506" y="584"/>
                  </a:lnTo>
                  <a:lnTo>
                    <a:pt x="1512" y="584"/>
                  </a:lnTo>
                  <a:lnTo>
                    <a:pt x="1517" y="584"/>
                  </a:lnTo>
                  <a:lnTo>
                    <a:pt x="1522" y="584"/>
                  </a:lnTo>
                  <a:lnTo>
                    <a:pt x="1527" y="584"/>
                  </a:lnTo>
                  <a:lnTo>
                    <a:pt x="1533" y="584"/>
                  </a:lnTo>
                  <a:lnTo>
                    <a:pt x="1538" y="584"/>
                  </a:lnTo>
                  <a:lnTo>
                    <a:pt x="1543" y="584"/>
                  </a:lnTo>
                  <a:lnTo>
                    <a:pt x="1548" y="584"/>
                  </a:lnTo>
                  <a:lnTo>
                    <a:pt x="1554" y="584"/>
                  </a:lnTo>
                  <a:lnTo>
                    <a:pt x="1559" y="584"/>
                  </a:lnTo>
                  <a:lnTo>
                    <a:pt x="1564" y="584"/>
                  </a:lnTo>
                  <a:lnTo>
                    <a:pt x="1569" y="584"/>
                  </a:lnTo>
                  <a:lnTo>
                    <a:pt x="1575" y="58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583080" y="3492360"/>
              <a:ext cx="2037960" cy="772560"/>
            </a:xfrm>
            <a:custGeom>
              <a:avLst/>
              <a:gdLst/>
              <a:ahLst/>
              <a:rect l="l" t="t" r="r" b="b"/>
              <a:pathLst>
                <a:path w="1575" h="595">
                  <a:moveTo>
                    <a:pt x="0" y="0"/>
                  </a:moveTo>
                  <a:lnTo>
                    <a:pt x="5" y="11"/>
                  </a:lnTo>
                  <a:lnTo>
                    <a:pt x="10" y="22"/>
                  </a:lnTo>
                  <a:lnTo>
                    <a:pt x="15" y="34"/>
                  </a:lnTo>
                  <a:lnTo>
                    <a:pt x="21" y="45"/>
                  </a:lnTo>
                  <a:lnTo>
                    <a:pt x="26" y="56"/>
                  </a:lnTo>
                  <a:lnTo>
                    <a:pt x="31" y="68"/>
                  </a:lnTo>
                  <a:lnTo>
                    <a:pt x="36" y="79"/>
                  </a:lnTo>
                  <a:lnTo>
                    <a:pt x="42" y="90"/>
                  </a:lnTo>
                  <a:lnTo>
                    <a:pt x="47" y="102"/>
                  </a:lnTo>
                  <a:lnTo>
                    <a:pt x="52" y="113"/>
                  </a:lnTo>
                  <a:lnTo>
                    <a:pt x="57" y="124"/>
                  </a:lnTo>
                  <a:lnTo>
                    <a:pt x="63" y="136"/>
                  </a:lnTo>
                  <a:lnTo>
                    <a:pt x="68" y="147"/>
                  </a:lnTo>
                  <a:lnTo>
                    <a:pt x="73" y="158"/>
                  </a:lnTo>
                  <a:lnTo>
                    <a:pt x="78" y="170"/>
                  </a:lnTo>
                  <a:lnTo>
                    <a:pt x="84" y="181"/>
                  </a:lnTo>
                  <a:lnTo>
                    <a:pt x="89" y="192"/>
                  </a:lnTo>
                  <a:lnTo>
                    <a:pt x="94" y="204"/>
                  </a:lnTo>
                  <a:lnTo>
                    <a:pt x="99" y="215"/>
                  </a:lnTo>
                  <a:lnTo>
                    <a:pt x="105" y="226"/>
                  </a:lnTo>
                  <a:lnTo>
                    <a:pt x="110" y="238"/>
                  </a:lnTo>
                  <a:lnTo>
                    <a:pt x="115" y="249"/>
                  </a:lnTo>
                  <a:lnTo>
                    <a:pt x="120" y="260"/>
                  </a:lnTo>
                  <a:lnTo>
                    <a:pt x="126" y="272"/>
                  </a:lnTo>
                  <a:lnTo>
                    <a:pt x="131" y="283"/>
                  </a:lnTo>
                  <a:lnTo>
                    <a:pt x="136" y="294"/>
                  </a:lnTo>
                  <a:lnTo>
                    <a:pt x="141" y="306"/>
                  </a:lnTo>
                  <a:lnTo>
                    <a:pt x="147" y="317"/>
                  </a:lnTo>
                  <a:lnTo>
                    <a:pt x="152" y="328"/>
                  </a:lnTo>
                  <a:lnTo>
                    <a:pt x="157" y="340"/>
                  </a:lnTo>
                  <a:lnTo>
                    <a:pt x="162" y="351"/>
                  </a:lnTo>
                  <a:lnTo>
                    <a:pt x="168" y="363"/>
                  </a:lnTo>
                  <a:lnTo>
                    <a:pt x="173" y="374"/>
                  </a:lnTo>
                  <a:lnTo>
                    <a:pt x="178" y="385"/>
                  </a:lnTo>
                  <a:lnTo>
                    <a:pt x="183" y="397"/>
                  </a:lnTo>
                  <a:lnTo>
                    <a:pt x="189" y="408"/>
                  </a:lnTo>
                  <a:lnTo>
                    <a:pt x="194" y="419"/>
                  </a:lnTo>
                  <a:lnTo>
                    <a:pt x="199" y="431"/>
                  </a:lnTo>
                  <a:lnTo>
                    <a:pt x="204" y="442"/>
                  </a:lnTo>
                  <a:lnTo>
                    <a:pt x="210" y="453"/>
                  </a:lnTo>
                  <a:lnTo>
                    <a:pt x="215" y="465"/>
                  </a:lnTo>
                  <a:lnTo>
                    <a:pt x="220" y="476"/>
                  </a:lnTo>
                  <a:lnTo>
                    <a:pt x="225" y="487"/>
                  </a:lnTo>
                  <a:lnTo>
                    <a:pt x="231" y="499"/>
                  </a:lnTo>
                  <a:lnTo>
                    <a:pt x="236" y="510"/>
                  </a:lnTo>
                  <a:lnTo>
                    <a:pt x="241" y="521"/>
                  </a:lnTo>
                  <a:lnTo>
                    <a:pt x="246" y="533"/>
                  </a:lnTo>
                  <a:lnTo>
                    <a:pt x="252" y="544"/>
                  </a:lnTo>
                  <a:lnTo>
                    <a:pt x="257" y="555"/>
                  </a:lnTo>
                  <a:lnTo>
                    <a:pt x="262" y="567"/>
                  </a:lnTo>
                  <a:lnTo>
                    <a:pt x="267" y="578"/>
                  </a:lnTo>
                  <a:lnTo>
                    <a:pt x="273" y="589"/>
                  </a:lnTo>
                  <a:lnTo>
                    <a:pt x="278" y="595"/>
                  </a:lnTo>
                  <a:lnTo>
                    <a:pt x="283" y="595"/>
                  </a:lnTo>
                  <a:lnTo>
                    <a:pt x="288" y="595"/>
                  </a:lnTo>
                  <a:lnTo>
                    <a:pt x="294" y="595"/>
                  </a:lnTo>
                  <a:lnTo>
                    <a:pt x="299" y="595"/>
                  </a:lnTo>
                  <a:lnTo>
                    <a:pt x="304" y="595"/>
                  </a:lnTo>
                  <a:lnTo>
                    <a:pt x="309" y="595"/>
                  </a:lnTo>
                  <a:lnTo>
                    <a:pt x="315" y="595"/>
                  </a:lnTo>
                  <a:lnTo>
                    <a:pt x="320" y="595"/>
                  </a:lnTo>
                  <a:lnTo>
                    <a:pt x="325" y="595"/>
                  </a:lnTo>
                  <a:lnTo>
                    <a:pt x="330" y="595"/>
                  </a:lnTo>
                  <a:lnTo>
                    <a:pt x="336" y="595"/>
                  </a:lnTo>
                  <a:lnTo>
                    <a:pt x="341" y="595"/>
                  </a:lnTo>
                  <a:lnTo>
                    <a:pt x="346" y="595"/>
                  </a:lnTo>
                  <a:lnTo>
                    <a:pt x="351" y="595"/>
                  </a:lnTo>
                  <a:lnTo>
                    <a:pt x="357" y="595"/>
                  </a:lnTo>
                  <a:lnTo>
                    <a:pt x="362" y="595"/>
                  </a:lnTo>
                  <a:lnTo>
                    <a:pt x="367" y="595"/>
                  </a:lnTo>
                  <a:lnTo>
                    <a:pt x="372" y="595"/>
                  </a:lnTo>
                  <a:lnTo>
                    <a:pt x="378" y="595"/>
                  </a:lnTo>
                  <a:lnTo>
                    <a:pt x="383" y="595"/>
                  </a:lnTo>
                  <a:lnTo>
                    <a:pt x="388" y="595"/>
                  </a:lnTo>
                  <a:lnTo>
                    <a:pt x="393" y="595"/>
                  </a:lnTo>
                  <a:lnTo>
                    <a:pt x="399" y="595"/>
                  </a:lnTo>
                  <a:lnTo>
                    <a:pt x="404" y="595"/>
                  </a:lnTo>
                  <a:lnTo>
                    <a:pt x="409" y="595"/>
                  </a:lnTo>
                  <a:lnTo>
                    <a:pt x="414" y="595"/>
                  </a:lnTo>
                  <a:lnTo>
                    <a:pt x="420" y="595"/>
                  </a:lnTo>
                  <a:lnTo>
                    <a:pt x="425" y="595"/>
                  </a:lnTo>
                  <a:lnTo>
                    <a:pt x="430" y="595"/>
                  </a:lnTo>
                  <a:lnTo>
                    <a:pt x="435" y="595"/>
                  </a:lnTo>
                  <a:lnTo>
                    <a:pt x="441" y="595"/>
                  </a:lnTo>
                  <a:lnTo>
                    <a:pt x="446" y="595"/>
                  </a:lnTo>
                  <a:lnTo>
                    <a:pt x="451" y="595"/>
                  </a:lnTo>
                  <a:lnTo>
                    <a:pt x="456" y="595"/>
                  </a:lnTo>
                  <a:lnTo>
                    <a:pt x="462" y="595"/>
                  </a:lnTo>
                  <a:lnTo>
                    <a:pt x="467" y="595"/>
                  </a:lnTo>
                  <a:lnTo>
                    <a:pt x="472" y="595"/>
                  </a:lnTo>
                  <a:lnTo>
                    <a:pt x="477" y="595"/>
                  </a:lnTo>
                  <a:lnTo>
                    <a:pt x="483" y="595"/>
                  </a:lnTo>
                  <a:lnTo>
                    <a:pt x="488" y="595"/>
                  </a:lnTo>
                  <a:lnTo>
                    <a:pt x="493" y="595"/>
                  </a:lnTo>
                  <a:lnTo>
                    <a:pt x="498" y="595"/>
                  </a:lnTo>
                  <a:lnTo>
                    <a:pt x="504" y="595"/>
                  </a:lnTo>
                  <a:lnTo>
                    <a:pt x="509" y="595"/>
                  </a:lnTo>
                  <a:lnTo>
                    <a:pt x="514" y="595"/>
                  </a:lnTo>
                  <a:lnTo>
                    <a:pt x="519" y="595"/>
                  </a:lnTo>
                  <a:lnTo>
                    <a:pt x="525" y="595"/>
                  </a:lnTo>
                  <a:lnTo>
                    <a:pt x="530" y="595"/>
                  </a:lnTo>
                  <a:lnTo>
                    <a:pt x="535" y="595"/>
                  </a:lnTo>
                  <a:lnTo>
                    <a:pt x="540" y="595"/>
                  </a:lnTo>
                  <a:lnTo>
                    <a:pt x="546" y="595"/>
                  </a:lnTo>
                  <a:lnTo>
                    <a:pt x="551" y="595"/>
                  </a:lnTo>
                  <a:lnTo>
                    <a:pt x="556" y="595"/>
                  </a:lnTo>
                  <a:lnTo>
                    <a:pt x="561" y="595"/>
                  </a:lnTo>
                  <a:lnTo>
                    <a:pt x="567" y="595"/>
                  </a:lnTo>
                  <a:lnTo>
                    <a:pt x="572" y="595"/>
                  </a:lnTo>
                  <a:lnTo>
                    <a:pt x="577" y="595"/>
                  </a:lnTo>
                  <a:lnTo>
                    <a:pt x="582" y="595"/>
                  </a:lnTo>
                  <a:lnTo>
                    <a:pt x="588" y="595"/>
                  </a:lnTo>
                  <a:lnTo>
                    <a:pt x="593" y="595"/>
                  </a:lnTo>
                  <a:lnTo>
                    <a:pt x="598" y="595"/>
                  </a:lnTo>
                  <a:lnTo>
                    <a:pt x="603" y="595"/>
                  </a:lnTo>
                  <a:lnTo>
                    <a:pt x="609" y="595"/>
                  </a:lnTo>
                  <a:lnTo>
                    <a:pt x="614" y="595"/>
                  </a:lnTo>
                  <a:lnTo>
                    <a:pt x="619" y="595"/>
                  </a:lnTo>
                  <a:lnTo>
                    <a:pt x="624" y="595"/>
                  </a:lnTo>
                  <a:lnTo>
                    <a:pt x="630" y="595"/>
                  </a:lnTo>
                  <a:lnTo>
                    <a:pt x="635" y="595"/>
                  </a:lnTo>
                  <a:lnTo>
                    <a:pt x="640" y="595"/>
                  </a:lnTo>
                  <a:lnTo>
                    <a:pt x="645" y="595"/>
                  </a:lnTo>
                  <a:lnTo>
                    <a:pt x="651" y="595"/>
                  </a:lnTo>
                  <a:lnTo>
                    <a:pt x="656" y="595"/>
                  </a:lnTo>
                  <a:lnTo>
                    <a:pt x="661" y="595"/>
                  </a:lnTo>
                  <a:lnTo>
                    <a:pt x="666" y="595"/>
                  </a:lnTo>
                  <a:lnTo>
                    <a:pt x="672" y="595"/>
                  </a:lnTo>
                  <a:lnTo>
                    <a:pt x="677" y="595"/>
                  </a:lnTo>
                  <a:lnTo>
                    <a:pt x="682" y="595"/>
                  </a:lnTo>
                  <a:lnTo>
                    <a:pt x="687" y="595"/>
                  </a:lnTo>
                  <a:lnTo>
                    <a:pt x="693" y="595"/>
                  </a:lnTo>
                  <a:lnTo>
                    <a:pt x="698" y="595"/>
                  </a:lnTo>
                  <a:lnTo>
                    <a:pt x="703" y="595"/>
                  </a:lnTo>
                  <a:lnTo>
                    <a:pt x="708" y="595"/>
                  </a:lnTo>
                  <a:lnTo>
                    <a:pt x="714" y="595"/>
                  </a:lnTo>
                  <a:lnTo>
                    <a:pt x="719" y="595"/>
                  </a:lnTo>
                  <a:lnTo>
                    <a:pt x="724" y="595"/>
                  </a:lnTo>
                  <a:lnTo>
                    <a:pt x="729" y="595"/>
                  </a:lnTo>
                  <a:lnTo>
                    <a:pt x="735" y="595"/>
                  </a:lnTo>
                  <a:lnTo>
                    <a:pt x="740" y="595"/>
                  </a:lnTo>
                  <a:lnTo>
                    <a:pt x="745" y="595"/>
                  </a:lnTo>
                  <a:lnTo>
                    <a:pt x="750" y="595"/>
                  </a:lnTo>
                  <a:lnTo>
                    <a:pt x="756" y="595"/>
                  </a:lnTo>
                  <a:lnTo>
                    <a:pt x="761" y="595"/>
                  </a:lnTo>
                  <a:lnTo>
                    <a:pt x="766" y="595"/>
                  </a:lnTo>
                  <a:lnTo>
                    <a:pt x="771" y="595"/>
                  </a:lnTo>
                  <a:lnTo>
                    <a:pt x="777" y="595"/>
                  </a:lnTo>
                  <a:lnTo>
                    <a:pt x="782" y="595"/>
                  </a:lnTo>
                  <a:lnTo>
                    <a:pt x="787" y="595"/>
                  </a:lnTo>
                  <a:lnTo>
                    <a:pt x="792" y="595"/>
                  </a:lnTo>
                  <a:lnTo>
                    <a:pt x="798" y="595"/>
                  </a:lnTo>
                  <a:lnTo>
                    <a:pt x="803" y="595"/>
                  </a:lnTo>
                  <a:lnTo>
                    <a:pt x="808" y="595"/>
                  </a:lnTo>
                  <a:lnTo>
                    <a:pt x="813" y="595"/>
                  </a:lnTo>
                  <a:lnTo>
                    <a:pt x="819" y="595"/>
                  </a:lnTo>
                  <a:lnTo>
                    <a:pt x="824" y="595"/>
                  </a:lnTo>
                  <a:lnTo>
                    <a:pt x="829" y="595"/>
                  </a:lnTo>
                  <a:lnTo>
                    <a:pt x="834" y="595"/>
                  </a:lnTo>
                  <a:lnTo>
                    <a:pt x="840" y="595"/>
                  </a:lnTo>
                  <a:lnTo>
                    <a:pt x="845" y="595"/>
                  </a:lnTo>
                  <a:lnTo>
                    <a:pt x="850" y="595"/>
                  </a:lnTo>
                  <a:lnTo>
                    <a:pt x="855" y="595"/>
                  </a:lnTo>
                  <a:lnTo>
                    <a:pt x="861" y="595"/>
                  </a:lnTo>
                  <a:lnTo>
                    <a:pt x="866" y="595"/>
                  </a:lnTo>
                  <a:lnTo>
                    <a:pt x="871" y="595"/>
                  </a:lnTo>
                  <a:lnTo>
                    <a:pt x="876" y="595"/>
                  </a:lnTo>
                  <a:lnTo>
                    <a:pt x="882" y="595"/>
                  </a:lnTo>
                  <a:lnTo>
                    <a:pt x="887" y="595"/>
                  </a:lnTo>
                  <a:lnTo>
                    <a:pt x="892" y="595"/>
                  </a:lnTo>
                  <a:lnTo>
                    <a:pt x="897" y="595"/>
                  </a:lnTo>
                  <a:lnTo>
                    <a:pt x="903" y="595"/>
                  </a:lnTo>
                  <a:lnTo>
                    <a:pt x="908" y="595"/>
                  </a:lnTo>
                  <a:lnTo>
                    <a:pt x="913" y="595"/>
                  </a:lnTo>
                  <a:lnTo>
                    <a:pt x="918" y="595"/>
                  </a:lnTo>
                  <a:lnTo>
                    <a:pt x="924" y="595"/>
                  </a:lnTo>
                  <a:lnTo>
                    <a:pt x="929" y="595"/>
                  </a:lnTo>
                  <a:lnTo>
                    <a:pt x="934" y="595"/>
                  </a:lnTo>
                  <a:lnTo>
                    <a:pt x="939" y="595"/>
                  </a:lnTo>
                  <a:lnTo>
                    <a:pt x="945" y="595"/>
                  </a:lnTo>
                  <a:lnTo>
                    <a:pt x="950" y="595"/>
                  </a:lnTo>
                  <a:lnTo>
                    <a:pt x="955" y="595"/>
                  </a:lnTo>
                  <a:lnTo>
                    <a:pt x="960" y="595"/>
                  </a:lnTo>
                  <a:lnTo>
                    <a:pt x="966" y="595"/>
                  </a:lnTo>
                  <a:lnTo>
                    <a:pt x="971" y="595"/>
                  </a:lnTo>
                  <a:lnTo>
                    <a:pt x="976" y="595"/>
                  </a:lnTo>
                  <a:lnTo>
                    <a:pt x="981" y="595"/>
                  </a:lnTo>
                  <a:lnTo>
                    <a:pt x="987" y="595"/>
                  </a:lnTo>
                  <a:lnTo>
                    <a:pt x="992" y="595"/>
                  </a:lnTo>
                  <a:lnTo>
                    <a:pt x="997" y="595"/>
                  </a:lnTo>
                  <a:lnTo>
                    <a:pt x="1002" y="595"/>
                  </a:lnTo>
                  <a:lnTo>
                    <a:pt x="1008" y="595"/>
                  </a:lnTo>
                  <a:lnTo>
                    <a:pt x="1013" y="595"/>
                  </a:lnTo>
                  <a:lnTo>
                    <a:pt x="1018" y="595"/>
                  </a:lnTo>
                  <a:lnTo>
                    <a:pt x="1023" y="595"/>
                  </a:lnTo>
                  <a:lnTo>
                    <a:pt x="1029" y="595"/>
                  </a:lnTo>
                  <a:lnTo>
                    <a:pt x="1034" y="595"/>
                  </a:lnTo>
                  <a:lnTo>
                    <a:pt x="1039" y="595"/>
                  </a:lnTo>
                  <a:lnTo>
                    <a:pt x="1044" y="595"/>
                  </a:lnTo>
                  <a:lnTo>
                    <a:pt x="1050" y="595"/>
                  </a:lnTo>
                  <a:lnTo>
                    <a:pt x="1055" y="595"/>
                  </a:lnTo>
                  <a:lnTo>
                    <a:pt x="1060" y="595"/>
                  </a:lnTo>
                  <a:lnTo>
                    <a:pt x="1065" y="595"/>
                  </a:lnTo>
                  <a:lnTo>
                    <a:pt x="1071" y="595"/>
                  </a:lnTo>
                  <a:lnTo>
                    <a:pt x="1076" y="595"/>
                  </a:lnTo>
                  <a:lnTo>
                    <a:pt x="1081" y="595"/>
                  </a:lnTo>
                  <a:lnTo>
                    <a:pt x="1086" y="595"/>
                  </a:lnTo>
                  <a:lnTo>
                    <a:pt x="1092" y="595"/>
                  </a:lnTo>
                  <a:lnTo>
                    <a:pt x="1097" y="595"/>
                  </a:lnTo>
                  <a:lnTo>
                    <a:pt x="1102" y="595"/>
                  </a:lnTo>
                  <a:lnTo>
                    <a:pt x="1107" y="595"/>
                  </a:lnTo>
                  <a:lnTo>
                    <a:pt x="1113" y="595"/>
                  </a:lnTo>
                  <a:lnTo>
                    <a:pt x="1118" y="595"/>
                  </a:lnTo>
                  <a:lnTo>
                    <a:pt x="1123" y="595"/>
                  </a:lnTo>
                  <a:lnTo>
                    <a:pt x="1128" y="595"/>
                  </a:lnTo>
                  <a:lnTo>
                    <a:pt x="1134" y="595"/>
                  </a:lnTo>
                  <a:lnTo>
                    <a:pt x="1139" y="595"/>
                  </a:lnTo>
                  <a:lnTo>
                    <a:pt x="1144" y="595"/>
                  </a:lnTo>
                  <a:lnTo>
                    <a:pt x="1149" y="595"/>
                  </a:lnTo>
                  <a:lnTo>
                    <a:pt x="1155" y="595"/>
                  </a:lnTo>
                  <a:lnTo>
                    <a:pt x="1160" y="595"/>
                  </a:lnTo>
                  <a:lnTo>
                    <a:pt x="1165" y="595"/>
                  </a:lnTo>
                  <a:lnTo>
                    <a:pt x="1170" y="595"/>
                  </a:lnTo>
                  <a:lnTo>
                    <a:pt x="1176" y="595"/>
                  </a:lnTo>
                  <a:lnTo>
                    <a:pt x="1181" y="595"/>
                  </a:lnTo>
                  <a:lnTo>
                    <a:pt x="1186" y="595"/>
                  </a:lnTo>
                  <a:lnTo>
                    <a:pt x="1191" y="595"/>
                  </a:lnTo>
                  <a:lnTo>
                    <a:pt x="1197" y="595"/>
                  </a:lnTo>
                  <a:lnTo>
                    <a:pt x="1202" y="595"/>
                  </a:lnTo>
                  <a:lnTo>
                    <a:pt x="1207" y="595"/>
                  </a:lnTo>
                  <a:lnTo>
                    <a:pt x="1212" y="595"/>
                  </a:lnTo>
                  <a:lnTo>
                    <a:pt x="1218" y="595"/>
                  </a:lnTo>
                  <a:lnTo>
                    <a:pt x="1223" y="595"/>
                  </a:lnTo>
                  <a:lnTo>
                    <a:pt x="1228" y="595"/>
                  </a:lnTo>
                  <a:lnTo>
                    <a:pt x="1233" y="595"/>
                  </a:lnTo>
                  <a:lnTo>
                    <a:pt x="1239" y="595"/>
                  </a:lnTo>
                  <a:lnTo>
                    <a:pt x="1244" y="595"/>
                  </a:lnTo>
                  <a:lnTo>
                    <a:pt x="1249" y="595"/>
                  </a:lnTo>
                  <a:lnTo>
                    <a:pt x="1254" y="595"/>
                  </a:lnTo>
                  <a:lnTo>
                    <a:pt x="1260" y="595"/>
                  </a:lnTo>
                  <a:lnTo>
                    <a:pt x="1265" y="595"/>
                  </a:lnTo>
                  <a:lnTo>
                    <a:pt x="1270" y="595"/>
                  </a:lnTo>
                  <a:lnTo>
                    <a:pt x="1275" y="595"/>
                  </a:lnTo>
                  <a:lnTo>
                    <a:pt x="1281" y="595"/>
                  </a:lnTo>
                  <a:lnTo>
                    <a:pt x="1286" y="595"/>
                  </a:lnTo>
                  <a:lnTo>
                    <a:pt x="1291" y="595"/>
                  </a:lnTo>
                  <a:lnTo>
                    <a:pt x="1296" y="595"/>
                  </a:lnTo>
                  <a:lnTo>
                    <a:pt x="1302" y="595"/>
                  </a:lnTo>
                  <a:lnTo>
                    <a:pt x="1307" y="595"/>
                  </a:lnTo>
                  <a:lnTo>
                    <a:pt x="1312" y="595"/>
                  </a:lnTo>
                  <a:lnTo>
                    <a:pt x="1317" y="595"/>
                  </a:lnTo>
                  <a:lnTo>
                    <a:pt x="1323" y="595"/>
                  </a:lnTo>
                  <a:lnTo>
                    <a:pt x="1328" y="595"/>
                  </a:lnTo>
                  <a:lnTo>
                    <a:pt x="1333" y="595"/>
                  </a:lnTo>
                  <a:lnTo>
                    <a:pt x="1338" y="595"/>
                  </a:lnTo>
                  <a:lnTo>
                    <a:pt x="1344" y="595"/>
                  </a:lnTo>
                  <a:lnTo>
                    <a:pt x="1349" y="595"/>
                  </a:lnTo>
                  <a:lnTo>
                    <a:pt x="1354" y="595"/>
                  </a:lnTo>
                  <a:lnTo>
                    <a:pt x="1359" y="595"/>
                  </a:lnTo>
                  <a:lnTo>
                    <a:pt x="1365" y="595"/>
                  </a:lnTo>
                  <a:lnTo>
                    <a:pt x="1370" y="595"/>
                  </a:lnTo>
                  <a:lnTo>
                    <a:pt x="1375" y="595"/>
                  </a:lnTo>
                  <a:lnTo>
                    <a:pt x="1380" y="595"/>
                  </a:lnTo>
                  <a:lnTo>
                    <a:pt x="1386" y="595"/>
                  </a:lnTo>
                  <a:lnTo>
                    <a:pt x="1391" y="595"/>
                  </a:lnTo>
                  <a:lnTo>
                    <a:pt x="1396" y="595"/>
                  </a:lnTo>
                  <a:lnTo>
                    <a:pt x="1401" y="595"/>
                  </a:lnTo>
                  <a:lnTo>
                    <a:pt x="1407" y="595"/>
                  </a:lnTo>
                  <a:lnTo>
                    <a:pt x="1412" y="595"/>
                  </a:lnTo>
                  <a:lnTo>
                    <a:pt x="1417" y="595"/>
                  </a:lnTo>
                  <a:lnTo>
                    <a:pt x="1422" y="595"/>
                  </a:lnTo>
                  <a:lnTo>
                    <a:pt x="1428" y="595"/>
                  </a:lnTo>
                  <a:lnTo>
                    <a:pt x="1433" y="595"/>
                  </a:lnTo>
                  <a:lnTo>
                    <a:pt x="1438" y="595"/>
                  </a:lnTo>
                  <a:lnTo>
                    <a:pt x="1443" y="595"/>
                  </a:lnTo>
                  <a:lnTo>
                    <a:pt x="1449" y="595"/>
                  </a:lnTo>
                  <a:lnTo>
                    <a:pt x="1454" y="595"/>
                  </a:lnTo>
                  <a:lnTo>
                    <a:pt x="1459" y="595"/>
                  </a:lnTo>
                  <a:lnTo>
                    <a:pt x="1464" y="595"/>
                  </a:lnTo>
                  <a:lnTo>
                    <a:pt x="1470" y="595"/>
                  </a:lnTo>
                  <a:lnTo>
                    <a:pt x="1475" y="595"/>
                  </a:lnTo>
                  <a:lnTo>
                    <a:pt x="1480" y="595"/>
                  </a:lnTo>
                  <a:lnTo>
                    <a:pt x="1485" y="595"/>
                  </a:lnTo>
                  <a:lnTo>
                    <a:pt x="1491" y="595"/>
                  </a:lnTo>
                  <a:lnTo>
                    <a:pt x="1496" y="595"/>
                  </a:lnTo>
                  <a:lnTo>
                    <a:pt x="1501" y="595"/>
                  </a:lnTo>
                  <a:lnTo>
                    <a:pt x="1506" y="595"/>
                  </a:lnTo>
                  <a:lnTo>
                    <a:pt x="1512" y="595"/>
                  </a:lnTo>
                  <a:lnTo>
                    <a:pt x="1517" y="595"/>
                  </a:lnTo>
                  <a:lnTo>
                    <a:pt x="1522" y="595"/>
                  </a:lnTo>
                  <a:lnTo>
                    <a:pt x="1527" y="595"/>
                  </a:lnTo>
                  <a:lnTo>
                    <a:pt x="1533" y="595"/>
                  </a:lnTo>
                  <a:lnTo>
                    <a:pt x="1538" y="595"/>
                  </a:lnTo>
                  <a:lnTo>
                    <a:pt x="1543" y="595"/>
                  </a:lnTo>
                  <a:lnTo>
                    <a:pt x="1548" y="595"/>
                  </a:lnTo>
                  <a:lnTo>
                    <a:pt x="1554" y="595"/>
                  </a:lnTo>
                  <a:lnTo>
                    <a:pt x="1559" y="595"/>
                  </a:lnTo>
                  <a:lnTo>
                    <a:pt x="1564" y="595"/>
                  </a:lnTo>
                  <a:lnTo>
                    <a:pt x="1569" y="595"/>
                  </a:lnTo>
                  <a:lnTo>
                    <a:pt x="1575" y="59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3583080" y="3492360"/>
              <a:ext cx="2037960" cy="788400"/>
            </a:xfrm>
            <a:custGeom>
              <a:avLst/>
              <a:gdLst/>
              <a:ahLst/>
              <a:rect l="l" t="t" r="r" b="b"/>
              <a:pathLst>
                <a:path w="1575" h="607">
                  <a:moveTo>
                    <a:pt x="0" y="0"/>
                  </a:moveTo>
                  <a:lnTo>
                    <a:pt x="5" y="13"/>
                  </a:lnTo>
                  <a:lnTo>
                    <a:pt x="10" y="26"/>
                  </a:lnTo>
                  <a:lnTo>
                    <a:pt x="15" y="40"/>
                  </a:lnTo>
                  <a:lnTo>
                    <a:pt x="21" y="53"/>
                  </a:lnTo>
                  <a:lnTo>
                    <a:pt x="26" y="66"/>
                  </a:lnTo>
                  <a:lnTo>
                    <a:pt x="31" y="79"/>
                  </a:lnTo>
                  <a:lnTo>
                    <a:pt x="36" y="92"/>
                  </a:lnTo>
                  <a:lnTo>
                    <a:pt x="42" y="106"/>
                  </a:lnTo>
                  <a:lnTo>
                    <a:pt x="47" y="119"/>
                  </a:lnTo>
                  <a:lnTo>
                    <a:pt x="52" y="132"/>
                  </a:lnTo>
                  <a:lnTo>
                    <a:pt x="57" y="145"/>
                  </a:lnTo>
                  <a:lnTo>
                    <a:pt x="63" y="159"/>
                  </a:lnTo>
                  <a:lnTo>
                    <a:pt x="68" y="172"/>
                  </a:lnTo>
                  <a:lnTo>
                    <a:pt x="73" y="185"/>
                  </a:lnTo>
                  <a:lnTo>
                    <a:pt x="78" y="198"/>
                  </a:lnTo>
                  <a:lnTo>
                    <a:pt x="84" y="211"/>
                  </a:lnTo>
                  <a:lnTo>
                    <a:pt x="89" y="225"/>
                  </a:lnTo>
                  <a:lnTo>
                    <a:pt x="94" y="238"/>
                  </a:lnTo>
                  <a:lnTo>
                    <a:pt x="99" y="251"/>
                  </a:lnTo>
                  <a:lnTo>
                    <a:pt x="105" y="264"/>
                  </a:lnTo>
                  <a:lnTo>
                    <a:pt x="110" y="278"/>
                  </a:lnTo>
                  <a:lnTo>
                    <a:pt x="115" y="291"/>
                  </a:lnTo>
                  <a:lnTo>
                    <a:pt x="120" y="304"/>
                  </a:lnTo>
                  <a:lnTo>
                    <a:pt x="126" y="317"/>
                  </a:lnTo>
                  <a:lnTo>
                    <a:pt x="131" y="331"/>
                  </a:lnTo>
                  <a:lnTo>
                    <a:pt x="136" y="344"/>
                  </a:lnTo>
                  <a:lnTo>
                    <a:pt x="141" y="357"/>
                  </a:lnTo>
                  <a:lnTo>
                    <a:pt x="147" y="370"/>
                  </a:lnTo>
                  <a:lnTo>
                    <a:pt x="152" y="383"/>
                  </a:lnTo>
                  <a:lnTo>
                    <a:pt x="157" y="397"/>
                  </a:lnTo>
                  <a:lnTo>
                    <a:pt x="162" y="410"/>
                  </a:lnTo>
                  <a:lnTo>
                    <a:pt x="168" y="423"/>
                  </a:lnTo>
                  <a:lnTo>
                    <a:pt x="173" y="436"/>
                  </a:lnTo>
                  <a:lnTo>
                    <a:pt x="178" y="450"/>
                  </a:lnTo>
                  <a:lnTo>
                    <a:pt x="183" y="463"/>
                  </a:lnTo>
                  <a:lnTo>
                    <a:pt x="189" y="476"/>
                  </a:lnTo>
                  <a:lnTo>
                    <a:pt x="194" y="489"/>
                  </a:lnTo>
                  <a:lnTo>
                    <a:pt x="199" y="503"/>
                  </a:lnTo>
                  <a:lnTo>
                    <a:pt x="204" y="516"/>
                  </a:lnTo>
                  <a:lnTo>
                    <a:pt x="210" y="529"/>
                  </a:lnTo>
                  <a:lnTo>
                    <a:pt x="215" y="542"/>
                  </a:lnTo>
                  <a:lnTo>
                    <a:pt x="220" y="555"/>
                  </a:lnTo>
                  <a:lnTo>
                    <a:pt x="225" y="569"/>
                  </a:lnTo>
                  <a:lnTo>
                    <a:pt x="231" y="582"/>
                  </a:lnTo>
                  <a:lnTo>
                    <a:pt x="236" y="595"/>
                  </a:lnTo>
                  <a:lnTo>
                    <a:pt x="241" y="607"/>
                  </a:lnTo>
                  <a:lnTo>
                    <a:pt x="246" y="607"/>
                  </a:lnTo>
                  <a:lnTo>
                    <a:pt x="252" y="607"/>
                  </a:lnTo>
                  <a:lnTo>
                    <a:pt x="257" y="607"/>
                  </a:lnTo>
                  <a:lnTo>
                    <a:pt x="262" y="607"/>
                  </a:lnTo>
                  <a:lnTo>
                    <a:pt x="267" y="607"/>
                  </a:lnTo>
                  <a:lnTo>
                    <a:pt x="273" y="607"/>
                  </a:lnTo>
                  <a:lnTo>
                    <a:pt x="278" y="607"/>
                  </a:lnTo>
                  <a:lnTo>
                    <a:pt x="283" y="607"/>
                  </a:lnTo>
                  <a:lnTo>
                    <a:pt x="288" y="607"/>
                  </a:lnTo>
                  <a:lnTo>
                    <a:pt x="294" y="607"/>
                  </a:lnTo>
                  <a:lnTo>
                    <a:pt x="299" y="607"/>
                  </a:lnTo>
                  <a:lnTo>
                    <a:pt x="304" y="607"/>
                  </a:lnTo>
                  <a:lnTo>
                    <a:pt x="309" y="607"/>
                  </a:lnTo>
                  <a:lnTo>
                    <a:pt x="315" y="607"/>
                  </a:lnTo>
                  <a:lnTo>
                    <a:pt x="320" y="607"/>
                  </a:lnTo>
                  <a:lnTo>
                    <a:pt x="325" y="607"/>
                  </a:lnTo>
                  <a:lnTo>
                    <a:pt x="330" y="607"/>
                  </a:lnTo>
                  <a:lnTo>
                    <a:pt x="336" y="607"/>
                  </a:lnTo>
                  <a:lnTo>
                    <a:pt x="341" y="607"/>
                  </a:lnTo>
                  <a:lnTo>
                    <a:pt x="346" y="607"/>
                  </a:lnTo>
                  <a:lnTo>
                    <a:pt x="351" y="607"/>
                  </a:lnTo>
                  <a:lnTo>
                    <a:pt x="357" y="607"/>
                  </a:lnTo>
                  <a:lnTo>
                    <a:pt x="362" y="607"/>
                  </a:lnTo>
                  <a:lnTo>
                    <a:pt x="367" y="607"/>
                  </a:lnTo>
                  <a:lnTo>
                    <a:pt x="372" y="607"/>
                  </a:lnTo>
                  <a:lnTo>
                    <a:pt x="378" y="607"/>
                  </a:lnTo>
                  <a:lnTo>
                    <a:pt x="383" y="607"/>
                  </a:lnTo>
                  <a:lnTo>
                    <a:pt x="388" y="607"/>
                  </a:lnTo>
                  <a:lnTo>
                    <a:pt x="393" y="607"/>
                  </a:lnTo>
                  <a:lnTo>
                    <a:pt x="399" y="607"/>
                  </a:lnTo>
                  <a:lnTo>
                    <a:pt x="404" y="607"/>
                  </a:lnTo>
                  <a:lnTo>
                    <a:pt x="409" y="607"/>
                  </a:lnTo>
                  <a:lnTo>
                    <a:pt x="414" y="607"/>
                  </a:lnTo>
                  <a:lnTo>
                    <a:pt x="420" y="607"/>
                  </a:lnTo>
                  <a:lnTo>
                    <a:pt x="425" y="607"/>
                  </a:lnTo>
                  <a:lnTo>
                    <a:pt x="430" y="607"/>
                  </a:lnTo>
                  <a:lnTo>
                    <a:pt x="435" y="607"/>
                  </a:lnTo>
                  <a:lnTo>
                    <a:pt x="441" y="607"/>
                  </a:lnTo>
                  <a:lnTo>
                    <a:pt x="446" y="607"/>
                  </a:lnTo>
                  <a:lnTo>
                    <a:pt x="451" y="607"/>
                  </a:lnTo>
                  <a:lnTo>
                    <a:pt x="456" y="607"/>
                  </a:lnTo>
                  <a:lnTo>
                    <a:pt x="462" y="607"/>
                  </a:lnTo>
                  <a:lnTo>
                    <a:pt x="467" y="607"/>
                  </a:lnTo>
                  <a:lnTo>
                    <a:pt x="472" y="607"/>
                  </a:lnTo>
                  <a:lnTo>
                    <a:pt x="477" y="607"/>
                  </a:lnTo>
                  <a:lnTo>
                    <a:pt x="483" y="607"/>
                  </a:lnTo>
                  <a:lnTo>
                    <a:pt x="488" y="607"/>
                  </a:lnTo>
                  <a:lnTo>
                    <a:pt x="493" y="607"/>
                  </a:lnTo>
                  <a:lnTo>
                    <a:pt x="498" y="607"/>
                  </a:lnTo>
                  <a:lnTo>
                    <a:pt x="504" y="607"/>
                  </a:lnTo>
                  <a:lnTo>
                    <a:pt x="509" y="607"/>
                  </a:lnTo>
                  <a:lnTo>
                    <a:pt x="514" y="607"/>
                  </a:lnTo>
                  <a:lnTo>
                    <a:pt x="519" y="607"/>
                  </a:lnTo>
                  <a:lnTo>
                    <a:pt x="525" y="607"/>
                  </a:lnTo>
                  <a:lnTo>
                    <a:pt x="530" y="607"/>
                  </a:lnTo>
                  <a:lnTo>
                    <a:pt x="535" y="607"/>
                  </a:lnTo>
                  <a:lnTo>
                    <a:pt x="540" y="607"/>
                  </a:lnTo>
                  <a:lnTo>
                    <a:pt x="546" y="607"/>
                  </a:lnTo>
                  <a:lnTo>
                    <a:pt x="551" y="607"/>
                  </a:lnTo>
                  <a:lnTo>
                    <a:pt x="556" y="607"/>
                  </a:lnTo>
                  <a:lnTo>
                    <a:pt x="561" y="607"/>
                  </a:lnTo>
                  <a:lnTo>
                    <a:pt x="567" y="607"/>
                  </a:lnTo>
                  <a:lnTo>
                    <a:pt x="572" y="607"/>
                  </a:lnTo>
                  <a:lnTo>
                    <a:pt x="577" y="607"/>
                  </a:lnTo>
                  <a:lnTo>
                    <a:pt x="582" y="607"/>
                  </a:lnTo>
                  <a:lnTo>
                    <a:pt x="588" y="607"/>
                  </a:lnTo>
                  <a:lnTo>
                    <a:pt x="593" y="607"/>
                  </a:lnTo>
                  <a:lnTo>
                    <a:pt x="598" y="607"/>
                  </a:lnTo>
                  <a:lnTo>
                    <a:pt x="603" y="607"/>
                  </a:lnTo>
                  <a:lnTo>
                    <a:pt x="609" y="607"/>
                  </a:lnTo>
                  <a:lnTo>
                    <a:pt x="614" y="607"/>
                  </a:lnTo>
                  <a:lnTo>
                    <a:pt x="619" y="607"/>
                  </a:lnTo>
                  <a:lnTo>
                    <a:pt x="624" y="607"/>
                  </a:lnTo>
                  <a:lnTo>
                    <a:pt x="630" y="607"/>
                  </a:lnTo>
                  <a:lnTo>
                    <a:pt x="635" y="607"/>
                  </a:lnTo>
                  <a:lnTo>
                    <a:pt x="640" y="607"/>
                  </a:lnTo>
                  <a:lnTo>
                    <a:pt x="645" y="607"/>
                  </a:lnTo>
                  <a:lnTo>
                    <a:pt x="651" y="607"/>
                  </a:lnTo>
                  <a:lnTo>
                    <a:pt x="656" y="607"/>
                  </a:lnTo>
                  <a:lnTo>
                    <a:pt x="661" y="607"/>
                  </a:lnTo>
                  <a:lnTo>
                    <a:pt x="666" y="607"/>
                  </a:lnTo>
                  <a:lnTo>
                    <a:pt x="672" y="607"/>
                  </a:lnTo>
                  <a:lnTo>
                    <a:pt x="677" y="607"/>
                  </a:lnTo>
                  <a:lnTo>
                    <a:pt x="682" y="607"/>
                  </a:lnTo>
                  <a:lnTo>
                    <a:pt x="687" y="607"/>
                  </a:lnTo>
                  <a:lnTo>
                    <a:pt x="693" y="607"/>
                  </a:lnTo>
                  <a:lnTo>
                    <a:pt x="698" y="607"/>
                  </a:lnTo>
                  <a:lnTo>
                    <a:pt x="703" y="607"/>
                  </a:lnTo>
                  <a:lnTo>
                    <a:pt x="708" y="607"/>
                  </a:lnTo>
                  <a:lnTo>
                    <a:pt x="714" y="607"/>
                  </a:lnTo>
                  <a:lnTo>
                    <a:pt x="719" y="607"/>
                  </a:lnTo>
                  <a:lnTo>
                    <a:pt x="724" y="607"/>
                  </a:lnTo>
                  <a:lnTo>
                    <a:pt x="729" y="607"/>
                  </a:lnTo>
                  <a:lnTo>
                    <a:pt x="735" y="607"/>
                  </a:lnTo>
                  <a:lnTo>
                    <a:pt x="740" y="607"/>
                  </a:lnTo>
                  <a:lnTo>
                    <a:pt x="745" y="607"/>
                  </a:lnTo>
                  <a:lnTo>
                    <a:pt x="750" y="607"/>
                  </a:lnTo>
                  <a:lnTo>
                    <a:pt x="756" y="607"/>
                  </a:lnTo>
                  <a:lnTo>
                    <a:pt x="761" y="607"/>
                  </a:lnTo>
                  <a:lnTo>
                    <a:pt x="766" y="607"/>
                  </a:lnTo>
                  <a:lnTo>
                    <a:pt x="771" y="607"/>
                  </a:lnTo>
                  <a:lnTo>
                    <a:pt x="777" y="607"/>
                  </a:lnTo>
                  <a:lnTo>
                    <a:pt x="782" y="607"/>
                  </a:lnTo>
                  <a:lnTo>
                    <a:pt x="787" y="607"/>
                  </a:lnTo>
                  <a:lnTo>
                    <a:pt x="792" y="607"/>
                  </a:lnTo>
                  <a:lnTo>
                    <a:pt x="798" y="607"/>
                  </a:lnTo>
                  <a:lnTo>
                    <a:pt x="803" y="607"/>
                  </a:lnTo>
                  <a:lnTo>
                    <a:pt x="808" y="607"/>
                  </a:lnTo>
                  <a:lnTo>
                    <a:pt x="813" y="607"/>
                  </a:lnTo>
                  <a:lnTo>
                    <a:pt x="819" y="607"/>
                  </a:lnTo>
                  <a:lnTo>
                    <a:pt x="824" y="607"/>
                  </a:lnTo>
                  <a:lnTo>
                    <a:pt x="829" y="607"/>
                  </a:lnTo>
                  <a:lnTo>
                    <a:pt x="834" y="607"/>
                  </a:lnTo>
                  <a:lnTo>
                    <a:pt x="840" y="607"/>
                  </a:lnTo>
                  <a:lnTo>
                    <a:pt x="845" y="607"/>
                  </a:lnTo>
                  <a:lnTo>
                    <a:pt x="850" y="607"/>
                  </a:lnTo>
                  <a:lnTo>
                    <a:pt x="855" y="607"/>
                  </a:lnTo>
                  <a:lnTo>
                    <a:pt x="861" y="607"/>
                  </a:lnTo>
                  <a:lnTo>
                    <a:pt x="866" y="607"/>
                  </a:lnTo>
                  <a:lnTo>
                    <a:pt x="871" y="607"/>
                  </a:lnTo>
                  <a:lnTo>
                    <a:pt x="876" y="607"/>
                  </a:lnTo>
                  <a:lnTo>
                    <a:pt x="882" y="607"/>
                  </a:lnTo>
                  <a:lnTo>
                    <a:pt x="887" y="607"/>
                  </a:lnTo>
                  <a:lnTo>
                    <a:pt x="892" y="607"/>
                  </a:lnTo>
                  <a:lnTo>
                    <a:pt x="897" y="607"/>
                  </a:lnTo>
                  <a:lnTo>
                    <a:pt x="903" y="607"/>
                  </a:lnTo>
                  <a:lnTo>
                    <a:pt x="908" y="607"/>
                  </a:lnTo>
                  <a:lnTo>
                    <a:pt x="913" y="607"/>
                  </a:lnTo>
                  <a:lnTo>
                    <a:pt x="918" y="607"/>
                  </a:lnTo>
                  <a:lnTo>
                    <a:pt x="924" y="607"/>
                  </a:lnTo>
                  <a:lnTo>
                    <a:pt x="929" y="607"/>
                  </a:lnTo>
                  <a:lnTo>
                    <a:pt x="934" y="607"/>
                  </a:lnTo>
                  <a:lnTo>
                    <a:pt x="939" y="607"/>
                  </a:lnTo>
                  <a:lnTo>
                    <a:pt x="945" y="607"/>
                  </a:lnTo>
                  <a:lnTo>
                    <a:pt x="950" y="607"/>
                  </a:lnTo>
                  <a:lnTo>
                    <a:pt x="955" y="607"/>
                  </a:lnTo>
                  <a:lnTo>
                    <a:pt x="960" y="607"/>
                  </a:lnTo>
                  <a:lnTo>
                    <a:pt x="966" y="607"/>
                  </a:lnTo>
                  <a:lnTo>
                    <a:pt x="971" y="607"/>
                  </a:lnTo>
                  <a:lnTo>
                    <a:pt x="976" y="607"/>
                  </a:lnTo>
                  <a:lnTo>
                    <a:pt x="981" y="607"/>
                  </a:lnTo>
                  <a:lnTo>
                    <a:pt x="987" y="607"/>
                  </a:lnTo>
                  <a:lnTo>
                    <a:pt x="992" y="607"/>
                  </a:lnTo>
                  <a:lnTo>
                    <a:pt x="997" y="607"/>
                  </a:lnTo>
                  <a:lnTo>
                    <a:pt x="1002" y="607"/>
                  </a:lnTo>
                  <a:lnTo>
                    <a:pt x="1008" y="607"/>
                  </a:lnTo>
                  <a:lnTo>
                    <a:pt x="1013" y="607"/>
                  </a:lnTo>
                  <a:lnTo>
                    <a:pt x="1018" y="607"/>
                  </a:lnTo>
                  <a:lnTo>
                    <a:pt x="1023" y="607"/>
                  </a:lnTo>
                  <a:lnTo>
                    <a:pt x="1029" y="607"/>
                  </a:lnTo>
                  <a:lnTo>
                    <a:pt x="1034" y="607"/>
                  </a:lnTo>
                  <a:lnTo>
                    <a:pt x="1039" y="607"/>
                  </a:lnTo>
                  <a:lnTo>
                    <a:pt x="1044" y="607"/>
                  </a:lnTo>
                  <a:lnTo>
                    <a:pt x="1050" y="607"/>
                  </a:lnTo>
                  <a:lnTo>
                    <a:pt x="1055" y="607"/>
                  </a:lnTo>
                  <a:lnTo>
                    <a:pt x="1060" y="607"/>
                  </a:lnTo>
                  <a:lnTo>
                    <a:pt x="1065" y="607"/>
                  </a:lnTo>
                  <a:lnTo>
                    <a:pt x="1071" y="607"/>
                  </a:lnTo>
                  <a:lnTo>
                    <a:pt x="1076" y="607"/>
                  </a:lnTo>
                  <a:lnTo>
                    <a:pt x="1081" y="607"/>
                  </a:lnTo>
                  <a:lnTo>
                    <a:pt x="1086" y="607"/>
                  </a:lnTo>
                  <a:lnTo>
                    <a:pt x="1092" y="607"/>
                  </a:lnTo>
                  <a:lnTo>
                    <a:pt x="1097" y="607"/>
                  </a:lnTo>
                  <a:lnTo>
                    <a:pt x="1102" y="607"/>
                  </a:lnTo>
                  <a:lnTo>
                    <a:pt x="1107" y="607"/>
                  </a:lnTo>
                  <a:lnTo>
                    <a:pt x="1113" y="607"/>
                  </a:lnTo>
                  <a:lnTo>
                    <a:pt x="1118" y="607"/>
                  </a:lnTo>
                  <a:lnTo>
                    <a:pt x="1123" y="607"/>
                  </a:lnTo>
                  <a:lnTo>
                    <a:pt x="1128" y="607"/>
                  </a:lnTo>
                  <a:lnTo>
                    <a:pt x="1134" y="607"/>
                  </a:lnTo>
                  <a:lnTo>
                    <a:pt x="1139" y="607"/>
                  </a:lnTo>
                  <a:lnTo>
                    <a:pt x="1144" y="607"/>
                  </a:lnTo>
                  <a:lnTo>
                    <a:pt x="1149" y="607"/>
                  </a:lnTo>
                  <a:lnTo>
                    <a:pt x="1155" y="607"/>
                  </a:lnTo>
                  <a:lnTo>
                    <a:pt x="1160" y="607"/>
                  </a:lnTo>
                  <a:lnTo>
                    <a:pt x="1165" y="607"/>
                  </a:lnTo>
                  <a:lnTo>
                    <a:pt x="1170" y="607"/>
                  </a:lnTo>
                  <a:lnTo>
                    <a:pt x="1176" y="607"/>
                  </a:lnTo>
                  <a:lnTo>
                    <a:pt x="1181" y="607"/>
                  </a:lnTo>
                  <a:lnTo>
                    <a:pt x="1186" y="607"/>
                  </a:lnTo>
                  <a:lnTo>
                    <a:pt x="1191" y="607"/>
                  </a:lnTo>
                  <a:lnTo>
                    <a:pt x="1197" y="607"/>
                  </a:lnTo>
                  <a:lnTo>
                    <a:pt x="1202" y="607"/>
                  </a:lnTo>
                  <a:lnTo>
                    <a:pt x="1207" y="607"/>
                  </a:lnTo>
                  <a:lnTo>
                    <a:pt x="1212" y="607"/>
                  </a:lnTo>
                  <a:lnTo>
                    <a:pt x="1218" y="607"/>
                  </a:lnTo>
                  <a:lnTo>
                    <a:pt x="1223" y="607"/>
                  </a:lnTo>
                  <a:lnTo>
                    <a:pt x="1228" y="607"/>
                  </a:lnTo>
                  <a:lnTo>
                    <a:pt x="1233" y="607"/>
                  </a:lnTo>
                  <a:lnTo>
                    <a:pt x="1239" y="607"/>
                  </a:lnTo>
                  <a:lnTo>
                    <a:pt x="1244" y="607"/>
                  </a:lnTo>
                  <a:lnTo>
                    <a:pt x="1249" y="607"/>
                  </a:lnTo>
                  <a:lnTo>
                    <a:pt x="1254" y="607"/>
                  </a:lnTo>
                  <a:lnTo>
                    <a:pt x="1260" y="607"/>
                  </a:lnTo>
                  <a:lnTo>
                    <a:pt x="1265" y="607"/>
                  </a:lnTo>
                  <a:lnTo>
                    <a:pt x="1270" y="607"/>
                  </a:lnTo>
                  <a:lnTo>
                    <a:pt x="1275" y="607"/>
                  </a:lnTo>
                  <a:lnTo>
                    <a:pt x="1281" y="607"/>
                  </a:lnTo>
                  <a:lnTo>
                    <a:pt x="1286" y="607"/>
                  </a:lnTo>
                  <a:lnTo>
                    <a:pt x="1291" y="607"/>
                  </a:lnTo>
                  <a:lnTo>
                    <a:pt x="1296" y="607"/>
                  </a:lnTo>
                  <a:lnTo>
                    <a:pt x="1302" y="607"/>
                  </a:lnTo>
                  <a:lnTo>
                    <a:pt x="1307" y="607"/>
                  </a:lnTo>
                  <a:lnTo>
                    <a:pt x="1312" y="607"/>
                  </a:lnTo>
                  <a:lnTo>
                    <a:pt x="1317" y="607"/>
                  </a:lnTo>
                  <a:lnTo>
                    <a:pt x="1323" y="607"/>
                  </a:lnTo>
                  <a:lnTo>
                    <a:pt x="1328" y="607"/>
                  </a:lnTo>
                  <a:lnTo>
                    <a:pt x="1333" y="607"/>
                  </a:lnTo>
                  <a:lnTo>
                    <a:pt x="1338" y="607"/>
                  </a:lnTo>
                  <a:lnTo>
                    <a:pt x="1344" y="607"/>
                  </a:lnTo>
                  <a:lnTo>
                    <a:pt x="1349" y="607"/>
                  </a:lnTo>
                  <a:lnTo>
                    <a:pt x="1354" y="607"/>
                  </a:lnTo>
                  <a:lnTo>
                    <a:pt x="1359" y="607"/>
                  </a:lnTo>
                  <a:lnTo>
                    <a:pt x="1365" y="607"/>
                  </a:lnTo>
                  <a:lnTo>
                    <a:pt x="1370" y="607"/>
                  </a:lnTo>
                  <a:lnTo>
                    <a:pt x="1375" y="607"/>
                  </a:lnTo>
                  <a:lnTo>
                    <a:pt x="1380" y="607"/>
                  </a:lnTo>
                  <a:lnTo>
                    <a:pt x="1386" y="607"/>
                  </a:lnTo>
                  <a:lnTo>
                    <a:pt x="1391" y="607"/>
                  </a:lnTo>
                  <a:lnTo>
                    <a:pt x="1396" y="607"/>
                  </a:lnTo>
                  <a:lnTo>
                    <a:pt x="1401" y="607"/>
                  </a:lnTo>
                  <a:lnTo>
                    <a:pt x="1407" y="607"/>
                  </a:lnTo>
                  <a:lnTo>
                    <a:pt x="1412" y="607"/>
                  </a:lnTo>
                  <a:lnTo>
                    <a:pt x="1417" y="607"/>
                  </a:lnTo>
                  <a:lnTo>
                    <a:pt x="1422" y="607"/>
                  </a:lnTo>
                  <a:lnTo>
                    <a:pt x="1428" y="607"/>
                  </a:lnTo>
                  <a:lnTo>
                    <a:pt x="1433" y="607"/>
                  </a:lnTo>
                  <a:lnTo>
                    <a:pt x="1438" y="607"/>
                  </a:lnTo>
                  <a:lnTo>
                    <a:pt x="1443" y="607"/>
                  </a:lnTo>
                  <a:lnTo>
                    <a:pt x="1449" y="607"/>
                  </a:lnTo>
                  <a:lnTo>
                    <a:pt x="1454" y="607"/>
                  </a:lnTo>
                  <a:lnTo>
                    <a:pt x="1459" y="607"/>
                  </a:lnTo>
                  <a:lnTo>
                    <a:pt x="1464" y="607"/>
                  </a:lnTo>
                  <a:lnTo>
                    <a:pt x="1470" y="607"/>
                  </a:lnTo>
                  <a:lnTo>
                    <a:pt x="1475" y="607"/>
                  </a:lnTo>
                  <a:lnTo>
                    <a:pt x="1480" y="607"/>
                  </a:lnTo>
                  <a:lnTo>
                    <a:pt x="1485" y="607"/>
                  </a:lnTo>
                  <a:lnTo>
                    <a:pt x="1491" y="607"/>
                  </a:lnTo>
                  <a:lnTo>
                    <a:pt x="1496" y="607"/>
                  </a:lnTo>
                  <a:lnTo>
                    <a:pt x="1501" y="607"/>
                  </a:lnTo>
                  <a:lnTo>
                    <a:pt x="1506" y="607"/>
                  </a:lnTo>
                  <a:lnTo>
                    <a:pt x="1512" y="607"/>
                  </a:lnTo>
                  <a:lnTo>
                    <a:pt x="1517" y="607"/>
                  </a:lnTo>
                  <a:lnTo>
                    <a:pt x="1522" y="607"/>
                  </a:lnTo>
                  <a:lnTo>
                    <a:pt x="1527" y="607"/>
                  </a:lnTo>
                  <a:lnTo>
                    <a:pt x="1533" y="607"/>
                  </a:lnTo>
                  <a:lnTo>
                    <a:pt x="1538" y="607"/>
                  </a:lnTo>
                  <a:lnTo>
                    <a:pt x="1543" y="607"/>
                  </a:lnTo>
                  <a:lnTo>
                    <a:pt x="1548" y="607"/>
                  </a:lnTo>
                  <a:lnTo>
                    <a:pt x="1554" y="607"/>
                  </a:lnTo>
                  <a:lnTo>
                    <a:pt x="1559" y="607"/>
                  </a:lnTo>
                  <a:lnTo>
                    <a:pt x="1564" y="607"/>
                  </a:lnTo>
                  <a:lnTo>
                    <a:pt x="1569" y="607"/>
                  </a:lnTo>
                  <a:lnTo>
                    <a:pt x="1575" y="60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3583080" y="3492360"/>
              <a:ext cx="2037960" cy="804240"/>
            </a:xfrm>
            <a:custGeom>
              <a:avLst/>
              <a:gdLst/>
              <a:ahLst/>
              <a:rect l="l" t="t" r="r" b="b"/>
              <a:pathLst>
                <a:path w="1575" h="619">
                  <a:moveTo>
                    <a:pt x="0" y="0"/>
                  </a:moveTo>
                  <a:lnTo>
                    <a:pt x="5" y="15"/>
                  </a:lnTo>
                  <a:lnTo>
                    <a:pt x="10" y="30"/>
                  </a:lnTo>
                  <a:lnTo>
                    <a:pt x="15" y="45"/>
                  </a:lnTo>
                  <a:lnTo>
                    <a:pt x="21" y="60"/>
                  </a:lnTo>
                  <a:lnTo>
                    <a:pt x="26" y="76"/>
                  </a:lnTo>
                  <a:lnTo>
                    <a:pt x="31" y="91"/>
                  </a:lnTo>
                  <a:lnTo>
                    <a:pt x="36" y="106"/>
                  </a:lnTo>
                  <a:lnTo>
                    <a:pt x="42" y="121"/>
                  </a:lnTo>
                  <a:lnTo>
                    <a:pt x="47" y="136"/>
                  </a:lnTo>
                  <a:lnTo>
                    <a:pt x="52" y="151"/>
                  </a:lnTo>
                  <a:lnTo>
                    <a:pt x="57" y="166"/>
                  </a:lnTo>
                  <a:lnTo>
                    <a:pt x="63" y="181"/>
                  </a:lnTo>
                  <a:lnTo>
                    <a:pt x="68" y="197"/>
                  </a:lnTo>
                  <a:lnTo>
                    <a:pt x="73" y="212"/>
                  </a:lnTo>
                  <a:lnTo>
                    <a:pt x="78" y="227"/>
                  </a:lnTo>
                  <a:lnTo>
                    <a:pt x="84" y="242"/>
                  </a:lnTo>
                  <a:lnTo>
                    <a:pt x="89" y="257"/>
                  </a:lnTo>
                  <a:lnTo>
                    <a:pt x="94" y="272"/>
                  </a:lnTo>
                  <a:lnTo>
                    <a:pt x="99" y="287"/>
                  </a:lnTo>
                  <a:lnTo>
                    <a:pt x="105" y="302"/>
                  </a:lnTo>
                  <a:lnTo>
                    <a:pt x="110" y="318"/>
                  </a:lnTo>
                  <a:lnTo>
                    <a:pt x="115" y="333"/>
                  </a:lnTo>
                  <a:lnTo>
                    <a:pt x="120" y="348"/>
                  </a:lnTo>
                  <a:lnTo>
                    <a:pt x="126" y="363"/>
                  </a:lnTo>
                  <a:lnTo>
                    <a:pt x="131" y="378"/>
                  </a:lnTo>
                  <a:lnTo>
                    <a:pt x="136" y="393"/>
                  </a:lnTo>
                  <a:lnTo>
                    <a:pt x="141" y="408"/>
                  </a:lnTo>
                  <a:lnTo>
                    <a:pt x="147" y="423"/>
                  </a:lnTo>
                  <a:lnTo>
                    <a:pt x="152" y="438"/>
                  </a:lnTo>
                  <a:lnTo>
                    <a:pt x="157" y="454"/>
                  </a:lnTo>
                  <a:lnTo>
                    <a:pt x="162" y="469"/>
                  </a:lnTo>
                  <a:lnTo>
                    <a:pt x="168" y="484"/>
                  </a:lnTo>
                  <a:lnTo>
                    <a:pt x="173" y="499"/>
                  </a:lnTo>
                  <a:lnTo>
                    <a:pt x="178" y="514"/>
                  </a:lnTo>
                  <a:lnTo>
                    <a:pt x="183" y="529"/>
                  </a:lnTo>
                  <a:lnTo>
                    <a:pt x="189" y="544"/>
                  </a:lnTo>
                  <a:lnTo>
                    <a:pt x="194" y="559"/>
                  </a:lnTo>
                  <a:lnTo>
                    <a:pt x="199" y="575"/>
                  </a:lnTo>
                  <a:lnTo>
                    <a:pt x="204" y="590"/>
                  </a:lnTo>
                  <a:lnTo>
                    <a:pt x="210" y="605"/>
                  </a:lnTo>
                  <a:lnTo>
                    <a:pt x="215" y="619"/>
                  </a:lnTo>
                  <a:lnTo>
                    <a:pt x="220" y="619"/>
                  </a:lnTo>
                  <a:lnTo>
                    <a:pt x="225" y="619"/>
                  </a:lnTo>
                  <a:lnTo>
                    <a:pt x="231" y="619"/>
                  </a:lnTo>
                  <a:lnTo>
                    <a:pt x="236" y="619"/>
                  </a:lnTo>
                  <a:lnTo>
                    <a:pt x="241" y="619"/>
                  </a:lnTo>
                  <a:lnTo>
                    <a:pt x="246" y="619"/>
                  </a:lnTo>
                  <a:lnTo>
                    <a:pt x="252" y="619"/>
                  </a:lnTo>
                  <a:lnTo>
                    <a:pt x="257" y="619"/>
                  </a:lnTo>
                  <a:lnTo>
                    <a:pt x="262" y="619"/>
                  </a:lnTo>
                  <a:lnTo>
                    <a:pt x="267" y="619"/>
                  </a:lnTo>
                  <a:lnTo>
                    <a:pt x="273" y="619"/>
                  </a:lnTo>
                  <a:lnTo>
                    <a:pt x="278" y="619"/>
                  </a:lnTo>
                  <a:lnTo>
                    <a:pt x="283" y="619"/>
                  </a:lnTo>
                  <a:lnTo>
                    <a:pt x="288" y="619"/>
                  </a:lnTo>
                  <a:lnTo>
                    <a:pt x="294" y="619"/>
                  </a:lnTo>
                  <a:lnTo>
                    <a:pt x="299" y="619"/>
                  </a:lnTo>
                  <a:lnTo>
                    <a:pt x="304" y="619"/>
                  </a:lnTo>
                  <a:lnTo>
                    <a:pt x="309" y="619"/>
                  </a:lnTo>
                  <a:lnTo>
                    <a:pt x="315" y="619"/>
                  </a:lnTo>
                  <a:lnTo>
                    <a:pt x="320" y="619"/>
                  </a:lnTo>
                  <a:lnTo>
                    <a:pt x="325" y="619"/>
                  </a:lnTo>
                  <a:lnTo>
                    <a:pt x="330" y="619"/>
                  </a:lnTo>
                  <a:lnTo>
                    <a:pt x="336" y="619"/>
                  </a:lnTo>
                  <a:lnTo>
                    <a:pt x="341" y="619"/>
                  </a:lnTo>
                  <a:lnTo>
                    <a:pt x="346" y="619"/>
                  </a:lnTo>
                  <a:lnTo>
                    <a:pt x="351" y="619"/>
                  </a:lnTo>
                  <a:lnTo>
                    <a:pt x="357" y="619"/>
                  </a:lnTo>
                  <a:lnTo>
                    <a:pt x="362" y="619"/>
                  </a:lnTo>
                  <a:lnTo>
                    <a:pt x="367" y="619"/>
                  </a:lnTo>
                  <a:lnTo>
                    <a:pt x="372" y="619"/>
                  </a:lnTo>
                  <a:lnTo>
                    <a:pt x="378" y="619"/>
                  </a:lnTo>
                  <a:lnTo>
                    <a:pt x="383" y="619"/>
                  </a:lnTo>
                  <a:lnTo>
                    <a:pt x="388" y="619"/>
                  </a:lnTo>
                  <a:lnTo>
                    <a:pt x="393" y="619"/>
                  </a:lnTo>
                  <a:lnTo>
                    <a:pt x="399" y="619"/>
                  </a:lnTo>
                  <a:lnTo>
                    <a:pt x="404" y="619"/>
                  </a:lnTo>
                  <a:lnTo>
                    <a:pt x="409" y="619"/>
                  </a:lnTo>
                  <a:lnTo>
                    <a:pt x="414" y="619"/>
                  </a:lnTo>
                  <a:lnTo>
                    <a:pt x="420" y="619"/>
                  </a:lnTo>
                  <a:lnTo>
                    <a:pt x="425" y="619"/>
                  </a:lnTo>
                  <a:lnTo>
                    <a:pt x="430" y="619"/>
                  </a:lnTo>
                  <a:lnTo>
                    <a:pt x="435" y="619"/>
                  </a:lnTo>
                  <a:lnTo>
                    <a:pt x="441" y="619"/>
                  </a:lnTo>
                  <a:lnTo>
                    <a:pt x="446" y="619"/>
                  </a:lnTo>
                  <a:lnTo>
                    <a:pt x="451" y="619"/>
                  </a:lnTo>
                  <a:lnTo>
                    <a:pt x="456" y="619"/>
                  </a:lnTo>
                  <a:lnTo>
                    <a:pt x="462" y="619"/>
                  </a:lnTo>
                  <a:lnTo>
                    <a:pt x="467" y="619"/>
                  </a:lnTo>
                  <a:lnTo>
                    <a:pt x="472" y="619"/>
                  </a:lnTo>
                  <a:lnTo>
                    <a:pt x="477" y="619"/>
                  </a:lnTo>
                  <a:lnTo>
                    <a:pt x="483" y="619"/>
                  </a:lnTo>
                  <a:lnTo>
                    <a:pt x="488" y="619"/>
                  </a:lnTo>
                  <a:lnTo>
                    <a:pt x="493" y="619"/>
                  </a:lnTo>
                  <a:lnTo>
                    <a:pt x="498" y="619"/>
                  </a:lnTo>
                  <a:lnTo>
                    <a:pt x="504" y="619"/>
                  </a:lnTo>
                  <a:lnTo>
                    <a:pt x="509" y="619"/>
                  </a:lnTo>
                  <a:lnTo>
                    <a:pt x="514" y="619"/>
                  </a:lnTo>
                  <a:lnTo>
                    <a:pt x="519" y="619"/>
                  </a:lnTo>
                  <a:lnTo>
                    <a:pt x="525" y="619"/>
                  </a:lnTo>
                  <a:lnTo>
                    <a:pt x="530" y="619"/>
                  </a:lnTo>
                  <a:lnTo>
                    <a:pt x="535" y="619"/>
                  </a:lnTo>
                  <a:lnTo>
                    <a:pt x="540" y="619"/>
                  </a:lnTo>
                  <a:lnTo>
                    <a:pt x="546" y="619"/>
                  </a:lnTo>
                  <a:lnTo>
                    <a:pt x="551" y="619"/>
                  </a:lnTo>
                  <a:lnTo>
                    <a:pt x="556" y="619"/>
                  </a:lnTo>
                  <a:lnTo>
                    <a:pt x="561" y="619"/>
                  </a:lnTo>
                  <a:lnTo>
                    <a:pt x="567" y="619"/>
                  </a:lnTo>
                  <a:lnTo>
                    <a:pt x="572" y="619"/>
                  </a:lnTo>
                  <a:lnTo>
                    <a:pt x="577" y="619"/>
                  </a:lnTo>
                  <a:lnTo>
                    <a:pt x="582" y="619"/>
                  </a:lnTo>
                  <a:lnTo>
                    <a:pt x="588" y="619"/>
                  </a:lnTo>
                  <a:lnTo>
                    <a:pt x="593" y="619"/>
                  </a:lnTo>
                  <a:lnTo>
                    <a:pt x="598" y="619"/>
                  </a:lnTo>
                  <a:lnTo>
                    <a:pt x="603" y="619"/>
                  </a:lnTo>
                  <a:lnTo>
                    <a:pt x="609" y="619"/>
                  </a:lnTo>
                  <a:lnTo>
                    <a:pt x="614" y="619"/>
                  </a:lnTo>
                  <a:lnTo>
                    <a:pt x="619" y="619"/>
                  </a:lnTo>
                  <a:lnTo>
                    <a:pt x="624" y="619"/>
                  </a:lnTo>
                  <a:lnTo>
                    <a:pt x="630" y="619"/>
                  </a:lnTo>
                  <a:lnTo>
                    <a:pt x="635" y="619"/>
                  </a:lnTo>
                  <a:lnTo>
                    <a:pt x="640" y="619"/>
                  </a:lnTo>
                  <a:lnTo>
                    <a:pt x="645" y="619"/>
                  </a:lnTo>
                  <a:lnTo>
                    <a:pt x="651" y="619"/>
                  </a:lnTo>
                  <a:lnTo>
                    <a:pt x="656" y="619"/>
                  </a:lnTo>
                  <a:lnTo>
                    <a:pt x="661" y="619"/>
                  </a:lnTo>
                  <a:lnTo>
                    <a:pt x="666" y="619"/>
                  </a:lnTo>
                  <a:lnTo>
                    <a:pt x="672" y="619"/>
                  </a:lnTo>
                  <a:lnTo>
                    <a:pt x="677" y="619"/>
                  </a:lnTo>
                  <a:lnTo>
                    <a:pt x="682" y="619"/>
                  </a:lnTo>
                  <a:lnTo>
                    <a:pt x="687" y="619"/>
                  </a:lnTo>
                  <a:lnTo>
                    <a:pt x="693" y="619"/>
                  </a:lnTo>
                  <a:lnTo>
                    <a:pt x="698" y="619"/>
                  </a:lnTo>
                  <a:lnTo>
                    <a:pt x="703" y="619"/>
                  </a:lnTo>
                  <a:lnTo>
                    <a:pt x="708" y="619"/>
                  </a:lnTo>
                  <a:lnTo>
                    <a:pt x="714" y="619"/>
                  </a:lnTo>
                  <a:lnTo>
                    <a:pt x="719" y="619"/>
                  </a:lnTo>
                  <a:lnTo>
                    <a:pt x="724" y="619"/>
                  </a:lnTo>
                  <a:lnTo>
                    <a:pt x="729" y="619"/>
                  </a:lnTo>
                  <a:lnTo>
                    <a:pt x="735" y="619"/>
                  </a:lnTo>
                  <a:lnTo>
                    <a:pt x="740" y="619"/>
                  </a:lnTo>
                  <a:lnTo>
                    <a:pt x="745" y="619"/>
                  </a:lnTo>
                  <a:lnTo>
                    <a:pt x="750" y="619"/>
                  </a:lnTo>
                  <a:lnTo>
                    <a:pt x="756" y="619"/>
                  </a:lnTo>
                  <a:lnTo>
                    <a:pt x="761" y="619"/>
                  </a:lnTo>
                  <a:lnTo>
                    <a:pt x="766" y="619"/>
                  </a:lnTo>
                  <a:lnTo>
                    <a:pt x="771" y="619"/>
                  </a:lnTo>
                  <a:lnTo>
                    <a:pt x="777" y="619"/>
                  </a:lnTo>
                  <a:lnTo>
                    <a:pt x="782" y="619"/>
                  </a:lnTo>
                  <a:lnTo>
                    <a:pt x="787" y="619"/>
                  </a:lnTo>
                  <a:lnTo>
                    <a:pt x="792" y="619"/>
                  </a:lnTo>
                  <a:lnTo>
                    <a:pt x="798" y="619"/>
                  </a:lnTo>
                  <a:lnTo>
                    <a:pt x="803" y="619"/>
                  </a:lnTo>
                  <a:lnTo>
                    <a:pt x="808" y="619"/>
                  </a:lnTo>
                  <a:lnTo>
                    <a:pt x="813" y="619"/>
                  </a:lnTo>
                  <a:lnTo>
                    <a:pt x="819" y="619"/>
                  </a:lnTo>
                  <a:lnTo>
                    <a:pt x="824" y="619"/>
                  </a:lnTo>
                  <a:lnTo>
                    <a:pt x="829" y="619"/>
                  </a:lnTo>
                  <a:lnTo>
                    <a:pt x="834" y="619"/>
                  </a:lnTo>
                  <a:lnTo>
                    <a:pt x="840" y="619"/>
                  </a:lnTo>
                  <a:lnTo>
                    <a:pt x="845" y="619"/>
                  </a:lnTo>
                  <a:lnTo>
                    <a:pt x="850" y="619"/>
                  </a:lnTo>
                  <a:lnTo>
                    <a:pt x="855" y="619"/>
                  </a:lnTo>
                  <a:lnTo>
                    <a:pt x="861" y="619"/>
                  </a:lnTo>
                  <a:lnTo>
                    <a:pt x="866" y="619"/>
                  </a:lnTo>
                  <a:lnTo>
                    <a:pt x="871" y="619"/>
                  </a:lnTo>
                  <a:lnTo>
                    <a:pt x="876" y="619"/>
                  </a:lnTo>
                  <a:lnTo>
                    <a:pt x="882" y="619"/>
                  </a:lnTo>
                  <a:lnTo>
                    <a:pt x="887" y="619"/>
                  </a:lnTo>
                  <a:lnTo>
                    <a:pt x="892" y="619"/>
                  </a:lnTo>
                  <a:lnTo>
                    <a:pt x="897" y="619"/>
                  </a:lnTo>
                  <a:lnTo>
                    <a:pt x="903" y="619"/>
                  </a:lnTo>
                  <a:lnTo>
                    <a:pt x="908" y="619"/>
                  </a:lnTo>
                  <a:lnTo>
                    <a:pt x="913" y="619"/>
                  </a:lnTo>
                  <a:lnTo>
                    <a:pt x="918" y="619"/>
                  </a:lnTo>
                  <a:lnTo>
                    <a:pt x="924" y="619"/>
                  </a:lnTo>
                  <a:lnTo>
                    <a:pt x="929" y="619"/>
                  </a:lnTo>
                  <a:lnTo>
                    <a:pt x="934" y="619"/>
                  </a:lnTo>
                  <a:lnTo>
                    <a:pt x="939" y="619"/>
                  </a:lnTo>
                  <a:lnTo>
                    <a:pt x="945" y="619"/>
                  </a:lnTo>
                  <a:lnTo>
                    <a:pt x="950" y="619"/>
                  </a:lnTo>
                  <a:lnTo>
                    <a:pt x="955" y="619"/>
                  </a:lnTo>
                  <a:lnTo>
                    <a:pt x="960" y="619"/>
                  </a:lnTo>
                  <a:lnTo>
                    <a:pt x="966" y="619"/>
                  </a:lnTo>
                  <a:lnTo>
                    <a:pt x="971" y="619"/>
                  </a:lnTo>
                  <a:lnTo>
                    <a:pt x="976" y="619"/>
                  </a:lnTo>
                  <a:lnTo>
                    <a:pt x="981" y="619"/>
                  </a:lnTo>
                  <a:lnTo>
                    <a:pt x="987" y="619"/>
                  </a:lnTo>
                  <a:lnTo>
                    <a:pt x="992" y="619"/>
                  </a:lnTo>
                  <a:lnTo>
                    <a:pt x="997" y="619"/>
                  </a:lnTo>
                  <a:lnTo>
                    <a:pt x="1002" y="619"/>
                  </a:lnTo>
                  <a:lnTo>
                    <a:pt x="1008" y="619"/>
                  </a:lnTo>
                  <a:lnTo>
                    <a:pt x="1013" y="619"/>
                  </a:lnTo>
                  <a:lnTo>
                    <a:pt x="1018" y="619"/>
                  </a:lnTo>
                  <a:lnTo>
                    <a:pt x="1023" y="619"/>
                  </a:lnTo>
                  <a:lnTo>
                    <a:pt x="1029" y="619"/>
                  </a:lnTo>
                  <a:lnTo>
                    <a:pt x="1034" y="619"/>
                  </a:lnTo>
                  <a:lnTo>
                    <a:pt x="1039" y="619"/>
                  </a:lnTo>
                  <a:lnTo>
                    <a:pt x="1044" y="619"/>
                  </a:lnTo>
                  <a:lnTo>
                    <a:pt x="1050" y="619"/>
                  </a:lnTo>
                  <a:lnTo>
                    <a:pt x="1055" y="619"/>
                  </a:lnTo>
                  <a:lnTo>
                    <a:pt x="1060" y="619"/>
                  </a:lnTo>
                  <a:lnTo>
                    <a:pt x="1065" y="619"/>
                  </a:lnTo>
                  <a:lnTo>
                    <a:pt x="1071" y="619"/>
                  </a:lnTo>
                  <a:lnTo>
                    <a:pt x="1076" y="619"/>
                  </a:lnTo>
                  <a:lnTo>
                    <a:pt x="1081" y="619"/>
                  </a:lnTo>
                  <a:lnTo>
                    <a:pt x="1086" y="619"/>
                  </a:lnTo>
                  <a:lnTo>
                    <a:pt x="1092" y="619"/>
                  </a:lnTo>
                  <a:lnTo>
                    <a:pt x="1097" y="619"/>
                  </a:lnTo>
                  <a:lnTo>
                    <a:pt x="1102" y="619"/>
                  </a:lnTo>
                  <a:lnTo>
                    <a:pt x="1107" y="619"/>
                  </a:lnTo>
                  <a:lnTo>
                    <a:pt x="1113" y="619"/>
                  </a:lnTo>
                  <a:lnTo>
                    <a:pt x="1118" y="619"/>
                  </a:lnTo>
                  <a:lnTo>
                    <a:pt x="1123" y="619"/>
                  </a:lnTo>
                  <a:lnTo>
                    <a:pt x="1128" y="619"/>
                  </a:lnTo>
                  <a:lnTo>
                    <a:pt x="1134" y="619"/>
                  </a:lnTo>
                  <a:lnTo>
                    <a:pt x="1139" y="619"/>
                  </a:lnTo>
                  <a:lnTo>
                    <a:pt x="1144" y="619"/>
                  </a:lnTo>
                  <a:lnTo>
                    <a:pt x="1149" y="619"/>
                  </a:lnTo>
                  <a:lnTo>
                    <a:pt x="1155" y="619"/>
                  </a:lnTo>
                  <a:lnTo>
                    <a:pt x="1160" y="619"/>
                  </a:lnTo>
                  <a:lnTo>
                    <a:pt x="1165" y="619"/>
                  </a:lnTo>
                  <a:lnTo>
                    <a:pt x="1170" y="619"/>
                  </a:lnTo>
                  <a:lnTo>
                    <a:pt x="1176" y="619"/>
                  </a:lnTo>
                  <a:lnTo>
                    <a:pt x="1181" y="619"/>
                  </a:lnTo>
                  <a:lnTo>
                    <a:pt x="1186" y="619"/>
                  </a:lnTo>
                  <a:lnTo>
                    <a:pt x="1191" y="619"/>
                  </a:lnTo>
                  <a:lnTo>
                    <a:pt x="1197" y="619"/>
                  </a:lnTo>
                  <a:lnTo>
                    <a:pt x="1202" y="619"/>
                  </a:lnTo>
                  <a:lnTo>
                    <a:pt x="1207" y="619"/>
                  </a:lnTo>
                  <a:lnTo>
                    <a:pt x="1212" y="619"/>
                  </a:lnTo>
                  <a:lnTo>
                    <a:pt x="1218" y="619"/>
                  </a:lnTo>
                  <a:lnTo>
                    <a:pt x="1223" y="619"/>
                  </a:lnTo>
                  <a:lnTo>
                    <a:pt x="1228" y="619"/>
                  </a:lnTo>
                  <a:lnTo>
                    <a:pt x="1233" y="619"/>
                  </a:lnTo>
                  <a:lnTo>
                    <a:pt x="1239" y="619"/>
                  </a:lnTo>
                  <a:lnTo>
                    <a:pt x="1244" y="619"/>
                  </a:lnTo>
                  <a:lnTo>
                    <a:pt x="1249" y="619"/>
                  </a:lnTo>
                  <a:lnTo>
                    <a:pt x="1254" y="619"/>
                  </a:lnTo>
                  <a:lnTo>
                    <a:pt x="1260" y="619"/>
                  </a:lnTo>
                  <a:lnTo>
                    <a:pt x="1265" y="619"/>
                  </a:lnTo>
                  <a:lnTo>
                    <a:pt x="1270" y="619"/>
                  </a:lnTo>
                  <a:lnTo>
                    <a:pt x="1275" y="619"/>
                  </a:lnTo>
                  <a:lnTo>
                    <a:pt x="1281" y="619"/>
                  </a:lnTo>
                  <a:lnTo>
                    <a:pt x="1286" y="619"/>
                  </a:lnTo>
                  <a:lnTo>
                    <a:pt x="1291" y="619"/>
                  </a:lnTo>
                  <a:lnTo>
                    <a:pt x="1296" y="619"/>
                  </a:lnTo>
                  <a:lnTo>
                    <a:pt x="1302" y="619"/>
                  </a:lnTo>
                  <a:lnTo>
                    <a:pt x="1307" y="619"/>
                  </a:lnTo>
                  <a:lnTo>
                    <a:pt x="1312" y="619"/>
                  </a:lnTo>
                  <a:lnTo>
                    <a:pt x="1317" y="619"/>
                  </a:lnTo>
                  <a:lnTo>
                    <a:pt x="1323" y="619"/>
                  </a:lnTo>
                  <a:lnTo>
                    <a:pt x="1328" y="619"/>
                  </a:lnTo>
                  <a:lnTo>
                    <a:pt x="1333" y="619"/>
                  </a:lnTo>
                  <a:lnTo>
                    <a:pt x="1338" y="619"/>
                  </a:lnTo>
                  <a:lnTo>
                    <a:pt x="1344" y="619"/>
                  </a:lnTo>
                  <a:lnTo>
                    <a:pt x="1349" y="619"/>
                  </a:lnTo>
                  <a:lnTo>
                    <a:pt x="1354" y="619"/>
                  </a:lnTo>
                  <a:lnTo>
                    <a:pt x="1359" y="619"/>
                  </a:lnTo>
                  <a:lnTo>
                    <a:pt x="1365" y="619"/>
                  </a:lnTo>
                  <a:lnTo>
                    <a:pt x="1370" y="619"/>
                  </a:lnTo>
                  <a:lnTo>
                    <a:pt x="1375" y="619"/>
                  </a:lnTo>
                  <a:lnTo>
                    <a:pt x="1380" y="619"/>
                  </a:lnTo>
                  <a:lnTo>
                    <a:pt x="1386" y="619"/>
                  </a:lnTo>
                  <a:lnTo>
                    <a:pt x="1391" y="619"/>
                  </a:lnTo>
                  <a:lnTo>
                    <a:pt x="1396" y="619"/>
                  </a:lnTo>
                  <a:lnTo>
                    <a:pt x="1401" y="619"/>
                  </a:lnTo>
                  <a:lnTo>
                    <a:pt x="1407" y="619"/>
                  </a:lnTo>
                  <a:lnTo>
                    <a:pt x="1412" y="619"/>
                  </a:lnTo>
                  <a:lnTo>
                    <a:pt x="1417" y="619"/>
                  </a:lnTo>
                  <a:lnTo>
                    <a:pt x="1422" y="619"/>
                  </a:lnTo>
                  <a:lnTo>
                    <a:pt x="1428" y="619"/>
                  </a:lnTo>
                  <a:lnTo>
                    <a:pt x="1433" y="619"/>
                  </a:lnTo>
                  <a:lnTo>
                    <a:pt x="1438" y="619"/>
                  </a:lnTo>
                  <a:lnTo>
                    <a:pt x="1443" y="619"/>
                  </a:lnTo>
                  <a:lnTo>
                    <a:pt x="1449" y="619"/>
                  </a:lnTo>
                  <a:lnTo>
                    <a:pt x="1454" y="619"/>
                  </a:lnTo>
                  <a:lnTo>
                    <a:pt x="1459" y="619"/>
                  </a:lnTo>
                  <a:lnTo>
                    <a:pt x="1464" y="619"/>
                  </a:lnTo>
                  <a:lnTo>
                    <a:pt x="1470" y="619"/>
                  </a:lnTo>
                  <a:lnTo>
                    <a:pt x="1475" y="619"/>
                  </a:lnTo>
                  <a:lnTo>
                    <a:pt x="1480" y="619"/>
                  </a:lnTo>
                  <a:lnTo>
                    <a:pt x="1485" y="619"/>
                  </a:lnTo>
                  <a:lnTo>
                    <a:pt x="1491" y="619"/>
                  </a:lnTo>
                  <a:lnTo>
                    <a:pt x="1496" y="619"/>
                  </a:lnTo>
                  <a:lnTo>
                    <a:pt x="1501" y="619"/>
                  </a:lnTo>
                  <a:lnTo>
                    <a:pt x="1506" y="619"/>
                  </a:lnTo>
                  <a:lnTo>
                    <a:pt x="1512" y="619"/>
                  </a:lnTo>
                  <a:lnTo>
                    <a:pt x="1517" y="619"/>
                  </a:lnTo>
                  <a:lnTo>
                    <a:pt x="1522" y="619"/>
                  </a:lnTo>
                  <a:lnTo>
                    <a:pt x="1527" y="619"/>
                  </a:lnTo>
                  <a:lnTo>
                    <a:pt x="1533" y="619"/>
                  </a:lnTo>
                  <a:lnTo>
                    <a:pt x="1538" y="619"/>
                  </a:lnTo>
                  <a:lnTo>
                    <a:pt x="1543" y="619"/>
                  </a:lnTo>
                  <a:lnTo>
                    <a:pt x="1548" y="619"/>
                  </a:lnTo>
                  <a:lnTo>
                    <a:pt x="1554" y="619"/>
                  </a:lnTo>
                  <a:lnTo>
                    <a:pt x="1559" y="619"/>
                  </a:lnTo>
                  <a:lnTo>
                    <a:pt x="1564" y="619"/>
                  </a:lnTo>
                  <a:lnTo>
                    <a:pt x="1569" y="619"/>
                  </a:lnTo>
                  <a:lnTo>
                    <a:pt x="1575" y="61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635280" y="2866680"/>
              <a:ext cx="842760" cy="2077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19440" y="5073480"/>
              <a:ext cx="9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395240" y="392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476240" y="4022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516200" y="3928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=0,1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96840" y="3252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777840" y="33462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17800" y="3252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=0,8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74200" y="2863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93720" y="2957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83000" y="2896920"/>
              <a:ext cx="242640" cy="9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78840" y="288432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C 3 (ENV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395240" y="3597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476240" y="36892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516200" y="3597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=0,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6012000" y="2133720"/>
            <a:ext cx="2919240" cy="3181320"/>
            <a:chOff x="6012000" y="2133720"/>
            <a:chExt cx="2919240" cy="3181320"/>
          </a:xfrm>
        </p:grpSpPr>
        <p:sp>
          <p:nvSpPr>
            <p:cNvPr id="761" name=""/>
            <p:cNvSpPr/>
            <p:nvPr/>
          </p:nvSpPr>
          <p:spPr>
            <a:xfrm>
              <a:off x="6012000" y="2133720"/>
              <a:ext cx="2919240" cy="318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418080" y="2805120"/>
              <a:ext cx="2023920" cy="20336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7092720" y="2804760"/>
              <a:ext cx="0" cy="203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767360" y="2804760"/>
              <a:ext cx="0" cy="203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50840" y="501840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449120" y="514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418080" y="4838760"/>
              <a:ext cx="2023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6418080" y="483876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092720" y="483876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767360" y="483876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8442360" y="483876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378120" y="4946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52760" y="4946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727400" y="4946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02040" y="4946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418080" y="2805120"/>
              <a:ext cx="2023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418080" y="4160880"/>
              <a:ext cx="202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418080" y="3483000"/>
              <a:ext cx="202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036120" y="3721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28280" y="3830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6418080" y="2804760"/>
              <a:ext cx="0" cy="203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92880" y="4838760"/>
              <a:ext cx="2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92880" y="4160880"/>
              <a:ext cx="2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92880" y="3483000"/>
              <a:ext cx="2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92880" y="2805120"/>
              <a:ext cx="2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120360" y="47563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120360" y="4078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20360" y="3400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20360" y="27226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,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8442360" y="2804760"/>
              <a:ext cx="0" cy="203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6418080" y="3956400"/>
              <a:ext cx="2023920" cy="69840"/>
            </a:xfrm>
            <a:custGeom>
              <a:avLst/>
              <a:gdLst/>
              <a:ahLst/>
              <a:rect l="l" t="t" r="r" b="b"/>
              <a:pathLst>
                <a:path w="1575" h="54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4" y="3"/>
                  </a:lnTo>
                  <a:lnTo>
                    <a:pt x="89" y="4"/>
                  </a:lnTo>
                  <a:lnTo>
                    <a:pt x="94" y="4"/>
                  </a:lnTo>
                  <a:lnTo>
                    <a:pt x="99" y="5"/>
                  </a:lnTo>
                  <a:lnTo>
                    <a:pt x="105" y="5"/>
                  </a:lnTo>
                  <a:lnTo>
                    <a:pt x="110" y="6"/>
                  </a:lnTo>
                  <a:lnTo>
                    <a:pt x="115" y="6"/>
                  </a:lnTo>
                  <a:lnTo>
                    <a:pt x="120" y="7"/>
                  </a:lnTo>
                  <a:lnTo>
                    <a:pt x="126" y="7"/>
                  </a:lnTo>
                  <a:lnTo>
                    <a:pt x="131" y="8"/>
                  </a:lnTo>
                  <a:lnTo>
                    <a:pt x="136" y="8"/>
                  </a:lnTo>
                  <a:lnTo>
                    <a:pt x="141" y="9"/>
                  </a:lnTo>
                  <a:lnTo>
                    <a:pt x="147" y="9"/>
                  </a:lnTo>
                  <a:lnTo>
                    <a:pt x="152" y="10"/>
                  </a:lnTo>
                  <a:lnTo>
                    <a:pt x="157" y="11"/>
                  </a:lnTo>
                  <a:lnTo>
                    <a:pt x="162" y="11"/>
                  </a:lnTo>
                  <a:lnTo>
                    <a:pt x="168" y="12"/>
                  </a:lnTo>
                  <a:lnTo>
                    <a:pt x="173" y="12"/>
                  </a:lnTo>
                  <a:lnTo>
                    <a:pt x="178" y="13"/>
                  </a:lnTo>
                  <a:lnTo>
                    <a:pt x="183" y="14"/>
                  </a:lnTo>
                  <a:lnTo>
                    <a:pt x="189" y="15"/>
                  </a:lnTo>
                  <a:lnTo>
                    <a:pt x="194" y="15"/>
                  </a:lnTo>
                  <a:lnTo>
                    <a:pt x="199" y="16"/>
                  </a:lnTo>
                  <a:lnTo>
                    <a:pt x="204" y="17"/>
                  </a:lnTo>
                  <a:lnTo>
                    <a:pt x="210" y="18"/>
                  </a:lnTo>
                  <a:lnTo>
                    <a:pt x="215" y="18"/>
                  </a:lnTo>
                  <a:lnTo>
                    <a:pt x="220" y="19"/>
                  </a:lnTo>
                  <a:lnTo>
                    <a:pt x="225" y="20"/>
                  </a:lnTo>
                  <a:lnTo>
                    <a:pt x="231" y="21"/>
                  </a:lnTo>
                  <a:lnTo>
                    <a:pt x="236" y="22"/>
                  </a:lnTo>
                  <a:lnTo>
                    <a:pt x="241" y="22"/>
                  </a:lnTo>
                  <a:lnTo>
                    <a:pt x="246" y="23"/>
                  </a:lnTo>
                  <a:lnTo>
                    <a:pt x="252" y="24"/>
                  </a:lnTo>
                  <a:lnTo>
                    <a:pt x="257" y="25"/>
                  </a:lnTo>
                  <a:lnTo>
                    <a:pt x="262" y="26"/>
                  </a:lnTo>
                  <a:lnTo>
                    <a:pt x="267" y="27"/>
                  </a:lnTo>
                  <a:lnTo>
                    <a:pt x="273" y="27"/>
                  </a:lnTo>
                  <a:lnTo>
                    <a:pt x="278" y="28"/>
                  </a:lnTo>
                  <a:lnTo>
                    <a:pt x="283" y="29"/>
                  </a:lnTo>
                  <a:lnTo>
                    <a:pt x="288" y="30"/>
                  </a:lnTo>
                  <a:lnTo>
                    <a:pt x="294" y="31"/>
                  </a:lnTo>
                  <a:lnTo>
                    <a:pt x="299" y="32"/>
                  </a:lnTo>
                  <a:lnTo>
                    <a:pt x="304" y="33"/>
                  </a:lnTo>
                  <a:lnTo>
                    <a:pt x="309" y="34"/>
                  </a:lnTo>
                  <a:lnTo>
                    <a:pt x="315" y="34"/>
                  </a:lnTo>
                  <a:lnTo>
                    <a:pt x="320" y="35"/>
                  </a:lnTo>
                  <a:lnTo>
                    <a:pt x="325" y="36"/>
                  </a:lnTo>
                  <a:lnTo>
                    <a:pt x="330" y="37"/>
                  </a:lnTo>
                  <a:lnTo>
                    <a:pt x="336" y="38"/>
                  </a:lnTo>
                  <a:lnTo>
                    <a:pt x="341" y="39"/>
                  </a:lnTo>
                  <a:lnTo>
                    <a:pt x="346" y="39"/>
                  </a:lnTo>
                  <a:lnTo>
                    <a:pt x="351" y="40"/>
                  </a:lnTo>
                  <a:lnTo>
                    <a:pt x="357" y="41"/>
                  </a:lnTo>
                  <a:lnTo>
                    <a:pt x="362" y="42"/>
                  </a:lnTo>
                  <a:lnTo>
                    <a:pt x="367" y="43"/>
                  </a:lnTo>
                  <a:lnTo>
                    <a:pt x="372" y="43"/>
                  </a:lnTo>
                  <a:lnTo>
                    <a:pt x="378" y="44"/>
                  </a:lnTo>
                  <a:lnTo>
                    <a:pt x="383" y="45"/>
                  </a:lnTo>
                  <a:lnTo>
                    <a:pt x="388" y="46"/>
                  </a:lnTo>
                  <a:lnTo>
                    <a:pt x="393" y="46"/>
                  </a:lnTo>
                  <a:lnTo>
                    <a:pt x="399" y="47"/>
                  </a:lnTo>
                  <a:lnTo>
                    <a:pt x="404" y="48"/>
                  </a:lnTo>
                  <a:lnTo>
                    <a:pt x="409" y="48"/>
                  </a:lnTo>
                  <a:lnTo>
                    <a:pt x="414" y="49"/>
                  </a:lnTo>
                  <a:lnTo>
                    <a:pt x="420" y="49"/>
                  </a:lnTo>
                  <a:lnTo>
                    <a:pt x="425" y="50"/>
                  </a:lnTo>
                  <a:lnTo>
                    <a:pt x="430" y="50"/>
                  </a:lnTo>
                  <a:lnTo>
                    <a:pt x="435" y="51"/>
                  </a:lnTo>
                  <a:lnTo>
                    <a:pt x="441" y="51"/>
                  </a:lnTo>
                  <a:lnTo>
                    <a:pt x="446" y="52"/>
                  </a:lnTo>
                  <a:lnTo>
                    <a:pt x="451" y="52"/>
                  </a:lnTo>
                  <a:lnTo>
                    <a:pt x="456" y="52"/>
                  </a:lnTo>
                  <a:lnTo>
                    <a:pt x="462" y="53"/>
                  </a:lnTo>
                  <a:lnTo>
                    <a:pt x="467" y="53"/>
                  </a:lnTo>
                  <a:lnTo>
                    <a:pt x="472" y="53"/>
                  </a:lnTo>
                  <a:lnTo>
                    <a:pt x="477" y="53"/>
                  </a:lnTo>
                  <a:lnTo>
                    <a:pt x="483" y="54"/>
                  </a:lnTo>
                  <a:lnTo>
                    <a:pt x="488" y="54"/>
                  </a:lnTo>
                  <a:lnTo>
                    <a:pt x="493" y="54"/>
                  </a:lnTo>
                  <a:lnTo>
                    <a:pt x="498" y="54"/>
                  </a:lnTo>
                  <a:lnTo>
                    <a:pt x="504" y="54"/>
                  </a:lnTo>
                  <a:lnTo>
                    <a:pt x="509" y="54"/>
                  </a:lnTo>
                  <a:lnTo>
                    <a:pt x="514" y="54"/>
                  </a:lnTo>
                  <a:lnTo>
                    <a:pt x="519" y="54"/>
                  </a:lnTo>
                  <a:lnTo>
                    <a:pt x="525" y="54"/>
                  </a:lnTo>
                  <a:lnTo>
                    <a:pt x="530" y="54"/>
                  </a:lnTo>
                  <a:lnTo>
                    <a:pt x="535" y="54"/>
                  </a:lnTo>
                  <a:lnTo>
                    <a:pt x="540" y="54"/>
                  </a:lnTo>
                  <a:lnTo>
                    <a:pt x="546" y="54"/>
                  </a:lnTo>
                  <a:lnTo>
                    <a:pt x="551" y="53"/>
                  </a:lnTo>
                  <a:lnTo>
                    <a:pt x="556" y="53"/>
                  </a:lnTo>
                  <a:lnTo>
                    <a:pt x="561" y="53"/>
                  </a:lnTo>
                  <a:lnTo>
                    <a:pt x="567" y="53"/>
                  </a:lnTo>
                  <a:lnTo>
                    <a:pt x="572" y="53"/>
                  </a:lnTo>
                  <a:lnTo>
                    <a:pt x="577" y="52"/>
                  </a:lnTo>
                  <a:lnTo>
                    <a:pt x="582" y="52"/>
                  </a:lnTo>
                  <a:lnTo>
                    <a:pt x="588" y="52"/>
                  </a:lnTo>
                  <a:lnTo>
                    <a:pt x="593" y="52"/>
                  </a:lnTo>
                  <a:lnTo>
                    <a:pt x="598" y="51"/>
                  </a:lnTo>
                  <a:lnTo>
                    <a:pt x="603" y="51"/>
                  </a:lnTo>
                  <a:lnTo>
                    <a:pt x="609" y="51"/>
                  </a:lnTo>
                  <a:lnTo>
                    <a:pt x="614" y="50"/>
                  </a:lnTo>
                  <a:lnTo>
                    <a:pt x="619" y="50"/>
                  </a:lnTo>
                  <a:lnTo>
                    <a:pt x="624" y="50"/>
                  </a:lnTo>
                  <a:lnTo>
                    <a:pt x="630" y="49"/>
                  </a:lnTo>
                  <a:lnTo>
                    <a:pt x="635" y="49"/>
                  </a:lnTo>
                  <a:lnTo>
                    <a:pt x="640" y="48"/>
                  </a:lnTo>
                  <a:lnTo>
                    <a:pt x="645" y="48"/>
                  </a:lnTo>
                  <a:lnTo>
                    <a:pt x="651" y="48"/>
                  </a:lnTo>
                  <a:lnTo>
                    <a:pt x="656" y="47"/>
                  </a:lnTo>
                  <a:lnTo>
                    <a:pt x="661" y="47"/>
                  </a:lnTo>
                  <a:lnTo>
                    <a:pt x="666" y="47"/>
                  </a:lnTo>
                  <a:lnTo>
                    <a:pt x="672" y="46"/>
                  </a:lnTo>
                  <a:lnTo>
                    <a:pt x="677" y="46"/>
                  </a:lnTo>
                  <a:lnTo>
                    <a:pt x="682" y="45"/>
                  </a:lnTo>
                  <a:lnTo>
                    <a:pt x="687" y="45"/>
                  </a:lnTo>
                  <a:lnTo>
                    <a:pt x="693" y="45"/>
                  </a:lnTo>
                  <a:lnTo>
                    <a:pt x="698" y="44"/>
                  </a:lnTo>
                  <a:lnTo>
                    <a:pt x="703" y="44"/>
                  </a:lnTo>
                  <a:lnTo>
                    <a:pt x="708" y="43"/>
                  </a:lnTo>
                  <a:lnTo>
                    <a:pt x="714" y="43"/>
                  </a:lnTo>
                  <a:lnTo>
                    <a:pt x="719" y="43"/>
                  </a:lnTo>
                  <a:lnTo>
                    <a:pt x="724" y="42"/>
                  </a:lnTo>
                  <a:lnTo>
                    <a:pt x="729" y="42"/>
                  </a:lnTo>
                  <a:lnTo>
                    <a:pt x="735" y="41"/>
                  </a:lnTo>
                  <a:lnTo>
                    <a:pt x="740" y="41"/>
                  </a:lnTo>
                  <a:lnTo>
                    <a:pt x="745" y="41"/>
                  </a:lnTo>
                  <a:lnTo>
                    <a:pt x="750" y="40"/>
                  </a:lnTo>
                  <a:lnTo>
                    <a:pt x="756" y="40"/>
                  </a:lnTo>
                  <a:lnTo>
                    <a:pt x="761" y="40"/>
                  </a:lnTo>
                  <a:lnTo>
                    <a:pt x="766" y="39"/>
                  </a:lnTo>
                  <a:lnTo>
                    <a:pt x="771" y="39"/>
                  </a:lnTo>
                  <a:lnTo>
                    <a:pt x="777" y="38"/>
                  </a:lnTo>
                  <a:lnTo>
                    <a:pt x="782" y="38"/>
                  </a:lnTo>
                  <a:lnTo>
                    <a:pt x="787" y="38"/>
                  </a:lnTo>
                  <a:lnTo>
                    <a:pt x="792" y="37"/>
                  </a:lnTo>
                  <a:lnTo>
                    <a:pt x="798" y="37"/>
                  </a:lnTo>
                  <a:lnTo>
                    <a:pt x="803" y="37"/>
                  </a:lnTo>
                  <a:lnTo>
                    <a:pt x="808" y="36"/>
                  </a:lnTo>
                  <a:lnTo>
                    <a:pt x="813" y="36"/>
                  </a:lnTo>
                  <a:lnTo>
                    <a:pt x="819" y="36"/>
                  </a:lnTo>
                  <a:lnTo>
                    <a:pt x="824" y="35"/>
                  </a:lnTo>
                  <a:lnTo>
                    <a:pt x="829" y="35"/>
                  </a:lnTo>
                  <a:lnTo>
                    <a:pt x="834" y="35"/>
                  </a:lnTo>
                  <a:lnTo>
                    <a:pt x="840" y="34"/>
                  </a:lnTo>
                  <a:lnTo>
                    <a:pt x="845" y="34"/>
                  </a:lnTo>
                  <a:lnTo>
                    <a:pt x="850" y="34"/>
                  </a:lnTo>
                  <a:lnTo>
                    <a:pt x="855" y="33"/>
                  </a:lnTo>
                  <a:lnTo>
                    <a:pt x="861" y="33"/>
                  </a:lnTo>
                  <a:lnTo>
                    <a:pt x="866" y="33"/>
                  </a:lnTo>
                  <a:lnTo>
                    <a:pt x="871" y="32"/>
                  </a:lnTo>
                  <a:lnTo>
                    <a:pt x="876" y="32"/>
                  </a:lnTo>
                  <a:lnTo>
                    <a:pt x="882" y="32"/>
                  </a:lnTo>
                  <a:lnTo>
                    <a:pt x="887" y="32"/>
                  </a:lnTo>
                  <a:lnTo>
                    <a:pt x="892" y="31"/>
                  </a:lnTo>
                  <a:lnTo>
                    <a:pt x="897" y="31"/>
                  </a:lnTo>
                  <a:lnTo>
                    <a:pt x="903" y="31"/>
                  </a:lnTo>
                  <a:lnTo>
                    <a:pt x="908" y="30"/>
                  </a:lnTo>
                  <a:lnTo>
                    <a:pt x="913" y="30"/>
                  </a:lnTo>
                  <a:lnTo>
                    <a:pt x="918" y="30"/>
                  </a:lnTo>
                  <a:lnTo>
                    <a:pt x="924" y="30"/>
                  </a:lnTo>
                  <a:lnTo>
                    <a:pt x="929" y="29"/>
                  </a:lnTo>
                  <a:lnTo>
                    <a:pt x="934" y="29"/>
                  </a:lnTo>
                  <a:lnTo>
                    <a:pt x="939" y="29"/>
                  </a:lnTo>
                  <a:lnTo>
                    <a:pt x="945" y="28"/>
                  </a:lnTo>
                  <a:lnTo>
                    <a:pt x="950" y="28"/>
                  </a:lnTo>
                  <a:lnTo>
                    <a:pt x="955" y="28"/>
                  </a:lnTo>
                  <a:lnTo>
                    <a:pt x="960" y="28"/>
                  </a:lnTo>
                  <a:lnTo>
                    <a:pt x="966" y="27"/>
                  </a:lnTo>
                  <a:lnTo>
                    <a:pt x="971" y="27"/>
                  </a:lnTo>
                  <a:lnTo>
                    <a:pt x="976" y="27"/>
                  </a:lnTo>
                  <a:lnTo>
                    <a:pt x="981" y="27"/>
                  </a:lnTo>
                  <a:lnTo>
                    <a:pt x="987" y="27"/>
                  </a:lnTo>
                  <a:lnTo>
                    <a:pt x="992" y="26"/>
                  </a:lnTo>
                  <a:lnTo>
                    <a:pt x="997" y="26"/>
                  </a:lnTo>
                  <a:lnTo>
                    <a:pt x="1002" y="26"/>
                  </a:lnTo>
                  <a:lnTo>
                    <a:pt x="1008" y="26"/>
                  </a:lnTo>
                  <a:lnTo>
                    <a:pt x="1013" y="25"/>
                  </a:lnTo>
                  <a:lnTo>
                    <a:pt x="1018" y="25"/>
                  </a:lnTo>
                  <a:lnTo>
                    <a:pt x="1023" y="25"/>
                  </a:lnTo>
                  <a:lnTo>
                    <a:pt x="1029" y="25"/>
                  </a:lnTo>
                  <a:lnTo>
                    <a:pt x="1034" y="25"/>
                  </a:lnTo>
                  <a:lnTo>
                    <a:pt x="1039" y="24"/>
                  </a:lnTo>
                  <a:lnTo>
                    <a:pt x="1044" y="24"/>
                  </a:lnTo>
                  <a:lnTo>
                    <a:pt x="1050" y="24"/>
                  </a:lnTo>
                  <a:lnTo>
                    <a:pt x="1055" y="24"/>
                  </a:lnTo>
                  <a:lnTo>
                    <a:pt x="1060" y="24"/>
                  </a:lnTo>
                  <a:lnTo>
                    <a:pt x="1065" y="23"/>
                  </a:lnTo>
                  <a:lnTo>
                    <a:pt x="1071" y="23"/>
                  </a:lnTo>
                  <a:lnTo>
                    <a:pt x="1076" y="23"/>
                  </a:lnTo>
                  <a:lnTo>
                    <a:pt x="1081" y="23"/>
                  </a:lnTo>
                  <a:lnTo>
                    <a:pt x="1086" y="23"/>
                  </a:lnTo>
                  <a:lnTo>
                    <a:pt x="1092" y="22"/>
                  </a:lnTo>
                  <a:lnTo>
                    <a:pt x="1097" y="22"/>
                  </a:lnTo>
                  <a:lnTo>
                    <a:pt x="1102" y="22"/>
                  </a:lnTo>
                  <a:lnTo>
                    <a:pt x="1107" y="22"/>
                  </a:lnTo>
                  <a:lnTo>
                    <a:pt x="1113" y="22"/>
                  </a:lnTo>
                  <a:lnTo>
                    <a:pt x="1118" y="21"/>
                  </a:lnTo>
                  <a:lnTo>
                    <a:pt x="1123" y="21"/>
                  </a:lnTo>
                  <a:lnTo>
                    <a:pt x="1128" y="21"/>
                  </a:lnTo>
                  <a:lnTo>
                    <a:pt x="1134" y="21"/>
                  </a:lnTo>
                  <a:lnTo>
                    <a:pt x="1139" y="21"/>
                  </a:lnTo>
                  <a:lnTo>
                    <a:pt x="1144" y="21"/>
                  </a:lnTo>
                  <a:lnTo>
                    <a:pt x="1149" y="20"/>
                  </a:lnTo>
                  <a:lnTo>
                    <a:pt x="1155" y="20"/>
                  </a:lnTo>
                  <a:lnTo>
                    <a:pt x="1160" y="20"/>
                  </a:lnTo>
                  <a:lnTo>
                    <a:pt x="1165" y="20"/>
                  </a:lnTo>
                  <a:lnTo>
                    <a:pt x="1170" y="20"/>
                  </a:lnTo>
                  <a:lnTo>
                    <a:pt x="1176" y="20"/>
                  </a:lnTo>
                  <a:lnTo>
                    <a:pt x="1181" y="20"/>
                  </a:lnTo>
                  <a:lnTo>
                    <a:pt x="1186" y="19"/>
                  </a:lnTo>
                  <a:lnTo>
                    <a:pt x="1191" y="19"/>
                  </a:lnTo>
                  <a:lnTo>
                    <a:pt x="1197" y="19"/>
                  </a:lnTo>
                  <a:lnTo>
                    <a:pt x="1202" y="19"/>
                  </a:lnTo>
                  <a:lnTo>
                    <a:pt x="1207" y="19"/>
                  </a:lnTo>
                  <a:lnTo>
                    <a:pt x="1212" y="19"/>
                  </a:lnTo>
                  <a:lnTo>
                    <a:pt x="1218" y="19"/>
                  </a:lnTo>
                  <a:lnTo>
                    <a:pt x="1223" y="18"/>
                  </a:lnTo>
                  <a:lnTo>
                    <a:pt x="1228" y="18"/>
                  </a:lnTo>
                  <a:lnTo>
                    <a:pt x="1233" y="18"/>
                  </a:lnTo>
                  <a:lnTo>
                    <a:pt x="1239" y="18"/>
                  </a:lnTo>
                  <a:lnTo>
                    <a:pt x="1244" y="18"/>
                  </a:lnTo>
                  <a:lnTo>
                    <a:pt x="1249" y="18"/>
                  </a:lnTo>
                  <a:lnTo>
                    <a:pt x="1254" y="18"/>
                  </a:lnTo>
                  <a:lnTo>
                    <a:pt x="1260" y="17"/>
                  </a:lnTo>
                  <a:lnTo>
                    <a:pt x="1265" y="17"/>
                  </a:lnTo>
                  <a:lnTo>
                    <a:pt x="1270" y="17"/>
                  </a:lnTo>
                  <a:lnTo>
                    <a:pt x="1275" y="17"/>
                  </a:lnTo>
                  <a:lnTo>
                    <a:pt x="1281" y="17"/>
                  </a:lnTo>
                  <a:lnTo>
                    <a:pt x="1286" y="17"/>
                  </a:lnTo>
                  <a:lnTo>
                    <a:pt x="1291" y="17"/>
                  </a:lnTo>
                  <a:lnTo>
                    <a:pt x="1296" y="17"/>
                  </a:lnTo>
                  <a:lnTo>
                    <a:pt x="1302" y="16"/>
                  </a:lnTo>
                  <a:lnTo>
                    <a:pt x="1307" y="16"/>
                  </a:lnTo>
                  <a:lnTo>
                    <a:pt x="1312" y="16"/>
                  </a:lnTo>
                  <a:lnTo>
                    <a:pt x="1317" y="16"/>
                  </a:lnTo>
                  <a:lnTo>
                    <a:pt x="1323" y="16"/>
                  </a:lnTo>
                  <a:lnTo>
                    <a:pt x="1328" y="16"/>
                  </a:lnTo>
                  <a:lnTo>
                    <a:pt x="1333" y="16"/>
                  </a:lnTo>
                  <a:lnTo>
                    <a:pt x="1338" y="16"/>
                  </a:lnTo>
                  <a:lnTo>
                    <a:pt x="1344" y="16"/>
                  </a:lnTo>
                  <a:lnTo>
                    <a:pt x="1349" y="15"/>
                  </a:lnTo>
                  <a:lnTo>
                    <a:pt x="1354" y="15"/>
                  </a:lnTo>
                  <a:lnTo>
                    <a:pt x="1359" y="15"/>
                  </a:lnTo>
                  <a:lnTo>
                    <a:pt x="1365" y="15"/>
                  </a:lnTo>
                  <a:lnTo>
                    <a:pt x="1370" y="15"/>
                  </a:lnTo>
                  <a:lnTo>
                    <a:pt x="1375" y="15"/>
                  </a:lnTo>
                  <a:lnTo>
                    <a:pt x="1380" y="15"/>
                  </a:lnTo>
                  <a:lnTo>
                    <a:pt x="1386" y="15"/>
                  </a:lnTo>
                  <a:lnTo>
                    <a:pt x="1391" y="15"/>
                  </a:lnTo>
                  <a:lnTo>
                    <a:pt x="1396" y="15"/>
                  </a:lnTo>
                  <a:lnTo>
                    <a:pt x="1401" y="14"/>
                  </a:lnTo>
                  <a:lnTo>
                    <a:pt x="1407" y="14"/>
                  </a:lnTo>
                  <a:lnTo>
                    <a:pt x="1412" y="14"/>
                  </a:lnTo>
                  <a:lnTo>
                    <a:pt x="1417" y="14"/>
                  </a:lnTo>
                  <a:lnTo>
                    <a:pt x="1422" y="14"/>
                  </a:lnTo>
                  <a:lnTo>
                    <a:pt x="1428" y="14"/>
                  </a:lnTo>
                  <a:lnTo>
                    <a:pt x="1433" y="14"/>
                  </a:lnTo>
                  <a:lnTo>
                    <a:pt x="1438" y="14"/>
                  </a:lnTo>
                  <a:lnTo>
                    <a:pt x="1443" y="14"/>
                  </a:lnTo>
                  <a:lnTo>
                    <a:pt x="1449" y="14"/>
                  </a:lnTo>
                  <a:lnTo>
                    <a:pt x="1454" y="14"/>
                  </a:lnTo>
                  <a:lnTo>
                    <a:pt x="1459" y="13"/>
                  </a:lnTo>
                  <a:lnTo>
                    <a:pt x="1464" y="13"/>
                  </a:lnTo>
                  <a:lnTo>
                    <a:pt x="1470" y="13"/>
                  </a:lnTo>
                  <a:lnTo>
                    <a:pt x="1475" y="13"/>
                  </a:lnTo>
                  <a:lnTo>
                    <a:pt x="1480" y="13"/>
                  </a:lnTo>
                  <a:lnTo>
                    <a:pt x="1485" y="13"/>
                  </a:lnTo>
                  <a:lnTo>
                    <a:pt x="1491" y="13"/>
                  </a:lnTo>
                  <a:lnTo>
                    <a:pt x="1496" y="13"/>
                  </a:lnTo>
                  <a:lnTo>
                    <a:pt x="1501" y="13"/>
                  </a:lnTo>
                  <a:lnTo>
                    <a:pt x="1506" y="13"/>
                  </a:lnTo>
                  <a:lnTo>
                    <a:pt x="1512" y="13"/>
                  </a:lnTo>
                  <a:lnTo>
                    <a:pt x="1517" y="13"/>
                  </a:lnTo>
                  <a:lnTo>
                    <a:pt x="1522" y="12"/>
                  </a:lnTo>
                  <a:lnTo>
                    <a:pt x="1527" y="12"/>
                  </a:lnTo>
                  <a:lnTo>
                    <a:pt x="1533" y="12"/>
                  </a:lnTo>
                  <a:lnTo>
                    <a:pt x="1538" y="12"/>
                  </a:lnTo>
                  <a:lnTo>
                    <a:pt x="1543" y="12"/>
                  </a:lnTo>
                  <a:lnTo>
                    <a:pt x="1548" y="12"/>
                  </a:lnTo>
                  <a:lnTo>
                    <a:pt x="1554" y="12"/>
                  </a:lnTo>
                  <a:lnTo>
                    <a:pt x="1559" y="12"/>
                  </a:lnTo>
                  <a:lnTo>
                    <a:pt x="1564" y="12"/>
                  </a:lnTo>
                  <a:lnTo>
                    <a:pt x="1569" y="12"/>
                  </a:lnTo>
                  <a:lnTo>
                    <a:pt x="1575" y="1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6418080" y="3880080"/>
              <a:ext cx="2023920" cy="280800"/>
            </a:xfrm>
            <a:custGeom>
              <a:avLst/>
              <a:gdLst/>
              <a:ahLst/>
              <a:rect l="l" t="t" r="r" b="b"/>
              <a:pathLst>
                <a:path w="1575" h="218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2" y="3"/>
                  </a:lnTo>
                  <a:lnTo>
                    <a:pt x="57" y="3"/>
                  </a:lnTo>
                  <a:lnTo>
                    <a:pt x="63" y="4"/>
                  </a:lnTo>
                  <a:lnTo>
                    <a:pt x="68" y="4"/>
                  </a:lnTo>
                  <a:lnTo>
                    <a:pt x="73" y="5"/>
                  </a:lnTo>
                  <a:lnTo>
                    <a:pt x="78" y="5"/>
                  </a:lnTo>
                  <a:lnTo>
                    <a:pt x="84" y="6"/>
                  </a:lnTo>
                  <a:lnTo>
                    <a:pt x="89" y="7"/>
                  </a:lnTo>
                  <a:lnTo>
                    <a:pt x="94" y="7"/>
                  </a:lnTo>
                  <a:lnTo>
                    <a:pt x="99" y="8"/>
                  </a:lnTo>
                  <a:lnTo>
                    <a:pt x="105" y="9"/>
                  </a:lnTo>
                  <a:lnTo>
                    <a:pt x="110" y="116"/>
                  </a:lnTo>
                  <a:lnTo>
                    <a:pt x="115" y="117"/>
                  </a:lnTo>
                  <a:lnTo>
                    <a:pt x="120" y="118"/>
                  </a:lnTo>
                  <a:lnTo>
                    <a:pt x="126" y="119"/>
                  </a:lnTo>
                  <a:lnTo>
                    <a:pt x="131" y="120"/>
                  </a:lnTo>
                  <a:lnTo>
                    <a:pt x="136" y="121"/>
                  </a:lnTo>
                  <a:lnTo>
                    <a:pt x="141" y="122"/>
                  </a:lnTo>
                  <a:lnTo>
                    <a:pt x="147" y="123"/>
                  </a:lnTo>
                  <a:lnTo>
                    <a:pt x="152" y="124"/>
                  </a:lnTo>
                  <a:lnTo>
                    <a:pt x="157" y="126"/>
                  </a:lnTo>
                  <a:lnTo>
                    <a:pt x="162" y="127"/>
                  </a:lnTo>
                  <a:lnTo>
                    <a:pt x="168" y="128"/>
                  </a:lnTo>
                  <a:lnTo>
                    <a:pt x="173" y="130"/>
                  </a:lnTo>
                  <a:lnTo>
                    <a:pt x="178" y="131"/>
                  </a:lnTo>
                  <a:lnTo>
                    <a:pt x="183" y="132"/>
                  </a:lnTo>
                  <a:lnTo>
                    <a:pt x="189" y="134"/>
                  </a:lnTo>
                  <a:lnTo>
                    <a:pt x="194" y="135"/>
                  </a:lnTo>
                  <a:lnTo>
                    <a:pt x="199" y="137"/>
                  </a:lnTo>
                  <a:lnTo>
                    <a:pt x="204" y="138"/>
                  </a:lnTo>
                  <a:lnTo>
                    <a:pt x="210" y="140"/>
                  </a:lnTo>
                  <a:lnTo>
                    <a:pt x="215" y="142"/>
                  </a:lnTo>
                  <a:lnTo>
                    <a:pt x="220" y="143"/>
                  </a:lnTo>
                  <a:lnTo>
                    <a:pt x="225" y="145"/>
                  </a:lnTo>
                  <a:lnTo>
                    <a:pt x="231" y="147"/>
                  </a:lnTo>
                  <a:lnTo>
                    <a:pt x="236" y="148"/>
                  </a:lnTo>
                  <a:lnTo>
                    <a:pt x="241" y="150"/>
                  </a:lnTo>
                  <a:lnTo>
                    <a:pt x="246" y="152"/>
                  </a:lnTo>
                  <a:lnTo>
                    <a:pt x="252" y="153"/>
                  </a:lnTo>
                  <a:lnTo>
                    <a:pt x="257" y="155"/>
                  </a:lnTo>
                  <a:lnTo>
                    <a:pt x="262" y="157"/>
                  </a:lnTo>
                  <a:lnTo>
                    <a:pt x="267" y="159"/>
                  </a:lnTo>
                  <a:lnTo>
                    <a:pt x="273" y="161"/>
                  </a:lnTo>
                  <a:lnTo>
                    <a:pt x="278" y="162"/>
                  </a:lnTo>
                  <a:lnTo>
                    <a:pt x="283" y="164"/>
                  </a:lnTo>
                  <a:lnTo>
                    <a:pt x="288" y="166"/>
                  </a:lnTo>
                  <a:lnTo>
                    <a:pt x="294" y="168"/>
                  </a:lnTo>
                  <a:lnTo>
                    <a:pt x="299" y="170"/>
                  </a:lnTo>
                  <a:lnTo>
                    <a:pt x="304" y="172"/>
                  </a:lnTo>
                  <a:lnTo>
                    <a:pt x="309" y="174"/>
                  </a:lnTo>
                  <a:lnTo>
                    <a:pt x="315" y="175"/>
                  </a:lnTo>
                  <a:lnTo>
                    <a:pt x="320" y="177"/>
                  </a:lnTo>
                  <a:lnTo>
                    <a:pt x="325" y="179"/>
                  </a:lnTo>
                  <a:lnTo>
                    <a:pt x="330" y="181"/>
                  </a:lnTo>
                  <a:lnTo>
                    <a:pt x="336" y="183"/>
                  </a:lnTo>
                  <a:lnTo>
                    <a:pt x="341" y="184"/>
                  </a:lnTo>
                  <a:lnTo>
                    <a:pt x="346" y="186"/>
                  </a:lnTo>
                  <a:lnTo>
                    <a:pt x="351" y="188"/>
                  </a:lnTo>
                  <a:lnTo>
                    <a:pt x="357" y="190"/>
                  </a:lnTo>
                  <a:lnTo>
                    <a:pt x="362" y="191"/>
                  </a:lnTo>
                  <a:lnTo>
                    <a:pt x="367" y="193"/>
                  </a:lnTo>
                  <a:lnTo>
                    <a:pt x="372" y="195"/>
                  </a:lnTo>
                  <a:lnTo>
                    <a:pt x="378" y="196"/>
                  </a:lnTo>
                  <a:lnTo>
                    <a:pt x="383" y="198"/>
                  </a:lnTo>
                  <a:lnTo>
                    <a:pt x="388" y="199"/>
                  </a:lnTo>
                  <a:lnTo>
                    <a:pt x="393" y="201"/>
                  </a:lnTo>
                  <a:lnTo>
                    <a:pt x="399" y="202"/>
                  </a:lnTo>
                  <a:lnTo>
                    <a:pt x="404" y="204"/>
                  </a:lnTo>
                  <a:lnTo>
                    <a:pt x="409" y="205"/>
                  </a:lnTo>
                  <a:lnTo>
                    <a:pt x="414" y="206"/>
                  </a:lnTo>
                  <a:lnTo>
                    <a:pt x="420" y="207"/>
                  </a:lnTo>
                  <a:lnTo>
                    <a:pt x="425" y="209"/>
                  </a:lnTo>
                  <a:lnTo>
                    <a:pt x="430" y="210"/>
                  </a:lnTo>
                  <a:lnTo>
                    <a:pt x="435" y="211"/>
                  </a:lnTo>
                  <a:lnTo>
                    <a:pt x="441" y="212"/>
                  </a:lnTo>
                  <a:lnTo>
                    <a:pt x="446" y="212"/>
                  </a:lnTo>
                  <a:lnTo>
                    <a:pt x="451" y="213"/>
                  </a:lnTo>
                  <a:lnTo>
                    <a:pt x="456" y="214"/>
                  </a:lnTo>
                  <a:lnTo>
                    <a:pt x="462" y="215"/>
                  </a:lnTo>
                  <a:lnTo>
                    <a:pt x="467" y="215"/>
                  </a:lnTo>
                  <a:lnTo>
                    <a:pt x="472" y="216"/>
                  </a:lnTo>
                  <a:lnTo>
                    <a:pt x="477" y="216"/>
                  </a:lnTo>
                  <a:lnTo>
                    <a:pt x="483" y="217"/>
                  </a:lnTo>
                  <a:lnTo>
                    <a:pt x="488" y="217"/>
                  </a:lnTo>
                  <a:lnTo>
                    <a:pt x="493" y="217"/>
                  </a:lnTo>
                  <a:lnTo>
                    <a:pt x="498" y="218"/>
                  </a:lnTo>
                  <a:lnTo>
                    <a:pt x="504" y="218"/>
                  </a:lnTo>
                  <a:lnTo>
                    <a:pt x="509" y="218"/>
                  </a:lnTo>
                  <a:lnTo>
                    <a:pt x="514" y="218"/>
                  </a:lnTo>
                  <a:lnTo>
                    <a:pt x="519" y="218"/>
                  </a:lnTo>
                  <a:lnTo>
                    <a:pt x="525" y="218"/>
                  </a:lnTo>
                  <a:lnTo>
                    <a:pt x="530" y="218"/>
                  </a:lnTo>
                  <a:lnTo>
                    <a:pt x="535" y="217"/>
                  </a:lnTo>
                  <a:lnTo>
                    <a:pt x="540" y="217"/>
                  </a:lnTo>
                  <a:lnTo>
                    <a:pt x="546" y="217"/>
                  </a:lnTo>
                  <a:lnTo>
                    <a:pt x="551" y="217"/>
                  </a:lnTo>
                  <a:lnTo>
                    <a:pt x="556" y="216"/>
                  </a:lnTo>
                  <a:lnTo>
                    <a:pt x="561" y="216"/>
                  </a:lnTo>
                  <a:lnTo>
                    <a:pt x="567" y="215"/>
                  </a:lnTo>
                  <a:lnTo>
                    <a:pt x="572" y="215"/>
                  </a:lnTo>
                  <a:lnTo>
                    <a:pt x="577" y="214"/>
                  </a:lnTo>
                  <a:lnTo>
                    <a:pt x="582" y="214"/>
                  </a:lnTo>
                  <a:lnTo>
                    <a:pt x="588" y="213"/>
                  </a:lnTo>
                  <a:lnTo>
                    <a:pt x="593" y="212"/>
                  </a:lnTo>
                  <a:lnTo>
                    <a:pt x="598" y="212"/>
                  </a:lnTo>
                  <a:lnTo>
                    <a:pt x="603" y="211"/>
                  </a:lnTo>
                  <a:lnTo>
                    <a:pt x="609" y="210"/>
                  </a:lnTo>
                  <a:lnTo>
                    <a:pt x="614" y="209"/>
                  </a:lnTo>
                  <a:lnTo>
                    <a:pt x="619" y="209"/>
                  </a:lnTo>
                  <a:lnTo>
                    <a:pt x="624" y="208"/>
                  </a:lnTo>
                  <a:lnTo>
                    <a:pt x="630" y="207"/>
                  </a:lnTo>
                  <a:lnTo>
                    <a:pt x="635" y="206"/>
                  </a:lnTo>
                  <a:lnTo>
                    <a:pt x="640" y="206"/>
                  </a:lnTo>
                  <a:lnTo>
                    <a:pt x="645" y="205"/>
                  </a:lnTo>
                  <a:lnTo>
                    <a:pt x="651" y="204"/>
                  </a:lnTo>
                  <a:lnTo>
                    <a:pt x="656" y="203"/>
                  </a:lnTo>
                  <a:lnTo>
                    <a:pt x="661" y="202"/>
                  </a:lnTo>
                  <a:lnTo>
                    <a:pt x="666" y="201"/>
                  </a:lnTo>
                  <a:lnTo>
                    <a:pt x="672" y="201"/>
                  </a:lnTo>
                  <a:lnTo>
                    <a:pt x="677" y="200"/>
                  </a:lnTo>
                  <a:lnTo>
                    <a:pt x="682" y="199"/>
                  </a:lnTo>
                  <a:lnTo>
                    <a:pt x="687" y="198"/>
                  </a:lnTo>
                  <a:lnTo>
                    <a:pt x="693" y="197"/>
                  </a:lnTo>
                  <a:lnTo>
                    <a:pt x="698" y="196"/>
                  </a:lnTo>
                  <a:lnTo>
                    <a:pt x="703" y="195"/>
                  </a:lnTo>
                  <a:lnTo>
                    <a:pt x="708" y="195"/>
                  </a:lnTo>
                  <a:lnTo>
                    <a:pt x="714" y="194"/>
                  </a:lnTo>
                  <a:lnTo>
                    <a:pt x="719" y="193"/>
                  </a:lnTo>
                  <a:lnTo>
                    <a:pt x="724" y="192"/>
                  </a:lnTo>
                  <a:lnTo>
                    <a:pt x="729" y="191"/>
                  </a:lnTo>
                  <a:lnTo>
                    <a:pt x="735" y="190"/>
                  </a:lnTo>
                  <a:lnTo>
                    <a:pt x="740" y="190"/>
                  </a:lnTo>
                  <a:lnTo>
                    <a:pt x="745" y="189"/>
                  </a:lnTo>
                  <a:lnTo>
                    <a:pt x="750" y="188"/>
                  </a:lnTo>
                  <a:lnTo>
                    <a:pt x="756" y="187"/>
                  </a:lnTo>
                  <a:lnTo>
                    <a:pt x="761" y="186"/>
                  </a:lnTo>
                  <a:lnTo>
                    <a:pt x="766" y="186"/>
                  </a:lnTo>
                  <a:lnTo>
                    <a:pt x="771" y="185"/>
                  </a:lnTo>
                  <a:lnTo>
                    <a:pt x="777" y="184"/>
                  </a:lnTo>
                  <a:lnTo>
                    <a:pt x="782" y="183"/>
                  </a:lnTo>
                  <a:lnTo>
                    <a:pt x="787" y="182"/>
                  </a:lnTo>
                  <a:lnTo>
                    <a:pt x="792" y="182"/>
                  </a:lnTo>
                  <a:lnTo>
                    <a:pt x="798" y="181"/>
                  </a:lnTo>
                  <a:lnTo>
                    <a:pt x="803" y="180"/>
                  </a:lnTo>
                  <a:lnTo>
                    <a:pt x="808" y="179"/>
                  </a:lnTo>
                  <a:lnTo>
                    <a:pt x="813" y="179"/>
                  </a:lnTo>
                  <a:lnTo>
                    <a:pt x="819" y="178"/>
                  </a:lnTo>
                  <a:lnTo>
                    <a:pt x="824" y="177"/>
                  </a:lnTo>
                  <a:lnTo>
                    <a:pt x="829" y="177"/>
                  </a:lnTo>
                  <a:lnTo>
                    <a:pt x="834" y="176"/>
                  </a:lnTo>
                  <a:lnTo>
                    <a:pt x="840" y="175"/>
                  </a:lnTo>
                  <a:lnTo>
                    <a:pt x="845" y="174"/>
                  </a:lnTo>
                  <a:lnTo>
                    <a:pt x="850" y="174"/>
                  </a:lnTo>
                  <a:lnTo>
                    <a:pt x="855" y="173"/>
                  </a:lnTo>
                  <a:lnTo>
                    <a:pt x="861" y="172"/>
                  </a:lnTo>
                  <a:lnTo>
                    <a:pt x="866" y="172"/>
                  </a:lnTo>
                  <a:lnTo>
                    <a:pt x="871" y="171"/>
                  </a:lnTo>
                  <a:lnTo>
                    <a:pt x="876" y="170"/>
                  </a:lnTo>
                  <a:lnTo>
                    <a:pt x="882" y="170"/>
                  </a:lnTo>
                  <a:lnTo>
                    <a:pt x="887" y="169"/>
                  </a:lnTo>
                  <a:lnTo>
                    <a:pt x="892" y="169"/>
                  </a:lnTo>
                  <a:lnTo>
                    <a:pt x="897" y="168"/>
                  </a:lnTo>
                  <a:lnTo>
                    <a:pt x="903" y="167"/>
                  </a:lnTo>
                  <a:lnTo>
                    <a:pt x="908" y="167"/>
                  </a:lnTo>
                  <a:lnTo>
                    <a:pt x="913" y="166"/>
                  </a:lnTo>
                  <a:lnTo>
                    <a:pt x="918" y="166"/>
                  </a:lnTo>
                  <a:lnTo>
                    <a:pt x="924" y="165"/>
                  </a:lnTo>
                  <a:lnTo>
                    <a:pt x="929" y="165"/>
                  </a:lnTo>
                  <a:lnTo>
                    <a:pt x="934" y="164"/>
                  </a:lnTo>
                  <a:lnTo>
                    <a:pt x="939" y="163"/>
                  </a:lnTo>
                  <a:lnTo>
                    <a:pt x="945" y="163"/>
                  </a:lnTo>
                  <a:lnTo>
                    <a:pt x="950" y="162"/>
                  </a:lnTo>
                  <a:lnTo>
                    <a:pt x="955" y="162"/>
                  </a:lnTo>
                  <a:lnTo>
                    <a:pt x="960" y="161"/>
                  </a:lnTo>
                  <a:lnTo>
                    <a:pt x="966" y="161"/>
                  </a:lnTo>
                  <a:lnTo>
                    <a:pt x="971" y="160"/>
                  </a:lnTo>
                  <a:lnTo>
                    <a:pt x="976" y="160"/>
                  </a:lnTo>
                  <a:lnTo>
                    <a:pt x="981" y="159"/>
                  </a:lnTo>
                  <a:lnTo>
                    <a:pt x="987" y="159"/>
                  </a:lnTo>
                  <a:lnTo>
                    <a:pt x="992" y="158"/>
                  </a:lnTo>
                  <a:lnTo>
                    <a:pt x="997" y="158"/>
                  </a:lnTo>
                  <a:lnTo>
                    <a:pt x="1002" y="157"/>
                  </a:lnTo>
                  <a:lnTo>
                    <a:pt x="1008" y="157"/>
                  </a:lnTo>
                  <a:lnTo>
                    <a:pt x="1013" y="156"/>
                  </a:lnTo>
                  <a:lnTo>
                    <a:pt x="1018" y="156"/>
                  </a:lnTo>
                  <a:lnTo>
                    <a:pt x="1023" y="155"/>
                  </a:lnTo>
                  <a:lnTo>
                    <a:pt x="1029" y="155"/>
                  </a:lnTo>
                  <a:lnTo>
                    <a:pt x="1034" y="155"/>
                  </a:lnTo>
                  <a:lnTo>
                    <a:pt x="1039" y="154"/>
                  </a:lnTo>
                  <a:lnTo>
                    <a:pt x="1044" y="154"/>
                  </a:lnTo>
                  <a:lnTo>
                    <a:pt x="1050" y="153"/>
                  </a:lnTo>
                  <a:lnTo>
                    <a:pt x="1055" y="153"/>
                  </a:lnTo>
                  <a:lnTo>
                    <a:pt x="1060" y="152"/>
                  </a:lnTo>
                  <a:lnTo>
                    <a:pt x="1065" y="152"/>
                  </a:lnTo>
                  <a:lnTo>
                    <a:pt x="1071" y="152"/>
                  </a:lnTo>
                  <a:lnTo>
                    <a:pt x="1076" y="151"/>
                  </a:lnTo>
                  <a:lnTo>
                    <a:pt x="1081" y="151"/>
                  </a:lnTo>
                  <a:lnTo>
                    <a:pt x="1086" y="150"/>
                  </a:lnTo>
                  <a:lnTo>
                    <a:pt x="1092" y="150"/>
                  </a:lnTo>
                  <a:lnTo>
                    <a:pt x="1097" y="150"/>
                  </a:lnTo>
                  <a:lnTo>
                    <a:pt x="1102" y="149"/>
                  </a:lnTo>
                  <a:lnTo>
                    <a:pt x="1107" y="149"/>
                  </a:lnTo>
                  <a:lnTo>
                    <a:pt x="1113" y="149"/>
                  </a:lnTo>
                  <a:lnTo>
                    <a:pt x="1118" y="148"/>
                  </a:lnTo>
                  <a:lnTo>
                    <a:pt x="1123" y="148"/>
                  </a:lnTo>
                  <a:lnTo>
                    <a:pt x="1128" y="148"/>
                  </a:lnTo>
                  <a:lnTo>
                    <a:pt x="1134" y="147"/>
                  </a:lnTo>
                  <a:lnTo>
                    <a:pt x="1139" y="147"/>
                  </a:lnTo>
                  <a:lnTo>
                    <a:pt x="1144" y="146"/>
                  </a:lnTo>
                  <a:lnTo>
                    <a:pt x="1149" y="146"/>
                  </a:lnTo>
                  <a:lnTo>
                    <a:pt x="1155" y="146"/>
                  </a:lnTo>
                  <a:lnTo>
                    <a:pt x="1160" y="145"/>
                  </a:lnTo>
                  <a:lnTo>
                    <a:pt x="1165" y="145"/>
                  </a:lnTo>
                  <a:lnTo>
                    <a:pt x="1170" y="145"/>
                  </a:lnTo>
                  <a:lnTo>
                    <a:pt x="1176" y="145"/>
                  </a:lnTo>
                  <a:lnTo>
                    <a:pt x="1181" y="144"/>
                  </a:lnTo>
                  <a:lnTo>
                    <a:pt x="1186" y="144"/>
                  </a:lnTo>
                  <a:lnTo>
                    <a:pt x="1191" y="144"/>
                  </a:lnTo>
                  <a:lnTo>
                    <a:pt x="1197" y="143"/>
                  </a:lnTo>
                  <a:lnTo>
                    <a:pt x="1202" y="143"/>
                  </a:lnTo>
                  <a:lnTo>
                    <a:pt x="1207" y="143"/>
                  </a:lnTo>
                  <a:lnTo>
                    <a:pt x="1212" y="142"/>
                  </a:lnTo>
                  <a:lnTo>
                    <a:pt x="1218" y="142"/>
                  </a:lnTo>
                  <a:lnTo>
                    <a:pt x="1223" y="142"/>
                  </a:lnTo>
                  <a:lnTo>
                    <a:pt x="1228" y="142"/>
                  </a:lnTo>
                  <a:lnTo>
                    <a:pt x="1233" y="141"/>
                  </a:lnTo>
                  <a:lnTo>
                    <a:pt x="1239" y="141"/>
                  </a:lnTo>
                  <a:lnTo>
                    <a:pt x="1244" y="141"/>
                  </a:lnTo>
                  <a:lnTo>
                    <a:pt x="1249" y="140"/>
                  </a:lnTo>
                  <a:lnTo>
                    <a:pt x="1254" y="140"/>
                  </a:lnTo>
                  <a:lnTo>
                    <a:pt x="1260" y="140"/>
                  </a:lnTo>
                  <a:lnTo>
                    <a:pt x="1265" y="140"/>
                  </a:lnTo>
                  <a:lnTo>
                    <a:pt x="1270" y="139"/>
                  </a:lnTo>
                  <a:lnTo>
                    <a:pt x="1275" y="139"/>
                  </a:lnTo>
                  <a:lnTo>
                    <a:pt x="1281" y="139"/>
                  </a:lnTo>
                  <a:lnTo>
                    <a:pt x="1286" y="139"/>
                  </a:lnTo>
                  <a:lnTo>
                    <a:pt x="1291" y="138"/>
                  </a:lnTo>
                  <a:lnTo>
                    <a:pt x="1296" y="138"/>
                  </a:lnTo>
                  <a:lnTo>
                    <a:pt x="1302" y="138"/>
                  </a:lnTo>
                  <a:lnTo>
                    <a:pt x="1307" y="138"/>
                  </a:lnTo>
                  <a:lnTo>
                    <a:pt x="1312" y="137"/>
                  </a:lnTo>
                  <a:lnTo>
                    <a:pt x="1317" y="137"/>
                  </a:lnTo>
                  <a:lnTo>
                    <a:pt x="1323" y="137"/>
                  </a:lnTo>
                  <a:lnTo>
                    <a:pt x="1328" y="137"/>
                  </a:lnTo>
                  <a:lnTo>
                    <a:pt x="1333" y="137"/>
                  </a:lnTo>
                  <a:lnTo>
                    <a:pt x="1338" y="136"/>
                  </a:lnTo>
                  <a:lnTo>
                    <a:pt x="1344" y="136"/>
                  </a:lnTo>
                  <a:lnTo>
                    <a:pt x="1349" y="136"/>
                  </a:lnTo>
                  <a:lnTo>
                    <a:pt x="1354" y="136"/>
                  </a:lnTo>
                  <a:lnTo>
                    <a:pt x="1359" y="135"/>
                  </a:lnTo>
                  <a:lnTo>
                    <a:pt x="1365" y="135"/>
                  </a:lnTo>
                  <a:lnTo>
                    <a:pt x="1370" y="135"/>
                  </a:lnTo>
                  <a:lnTo>
                    <a:pt x="1375" y="135"/>
                  </a:lnTo>
                  <a:lnTo>
                    <a:pt x="1380" y="135"/>
                  </a:lnTo>
                  <a:lnTo>
                    <a:pt x="1386" y="134"/>
                  </a:lnTo>
                  <a:lnTo>
                    <a:pt x="1391" y="134"/>
                  </a:lnTo>
                  <a:lnTo>
                    <a:pt x="1396" y="134"/>
                  </a:lnTo>
                  <a:lnTo>
                    <a:pt x="1401" y="134"/>
                  </a:lnTo>
                  <a:lnTo>
                    <a:pt x="1407" y="134"/>
                  </a:lnTo>
                  <a:lnTo>
                    <a:pt x="1412" y="133"/>
                  </a:lnTo>
                  <a:lnTo>
                    <a:pt x="1417" y="133"/>
                  </a:lnTo>
                  <a:lnTo>
                    <a:pt x="1422" y="133"/>
                  </a:lnTo>
                  <a:lnTo>
                    <a:pt x="1428" y="133"/>
                  </a:lnTo>
                  <a:lnTo>
                    <a:pt x="1433" y="133"/>
                  </a:lnTo>
                  <a:lnTo>
                    <a:pt x="1438" y="132"/>
                  </a:lnTo>
                  <a:lnTo>
                    <a:pt x="1443" y="132"/>
                  </a:lnTo>
                  <a:lnTo>
                    <a:pt x="1449" y="132"/>
                  </a:lnTo>
                  <a:lnTo>
                    <a:pt x="1454" y="132"/>
                  </a:lnTo>
                  <a:lnTo>
                    <a:pt x="1459" y="132"/>
                  </a:lnTo>
                  <a:lnTo>
                    <a:pt x="1464" y="132"/>
                  </a:lnTo>
                  <a:lnTo>
                    <a:pt x="1470" y="131"/>
                  </a:lnTo>
                  <a:lnTo>
                    <a:pt x="1475" y="131"/>
                  </a:lnTo>
                  <a:lnTo>
                    <a:pt x="1480" y="131"/>
                  </a:lnTo>
                  <a:lnTo>
                    <a:pt x="1485" y="131"/>
                  </a:lnTo>
                  <a:lnTo>
                    <a:pt x="1491" y="131"/>
                  </a:lnTo>
                  <a:lnTo>
                    <a:pt x="1496" y="131"/>
                  </a:lnTo>
                  <a:lnTo>
                    <a:pt x="1501" y="130"/>
                  </a:lnTo>
                  <a:lnTo>
                    <a:pt x="1506" y="130"/>
                  </a:lnTo>
                  <a:lnTo>
                    <a:pt x="1512" y="130"/>
                  </a:lnTo>
                  <a:lnTo>
                    <a:pt x="1517" y="130"/>
                  </a:lnTo>
                  <a:lnTo>
                    <a:pt x="1522" y="130"/>
                  </a:lnTo>
                  <a:lnTo>
                    <a:pt x="1527" y="130"/>
                  </a:lnTo>
                  <a:lnTo>
                    <a:pt x="1533" y="129"/>
                  </a:lnTo>
                  <a:lnTo>
                    <a:pt x="1538" y="129"/>
                  </a:lnTo>
                  <a:lnTo>
                    <a:pt x="1543" y="129"/>
                  </a:lnTo>
                  <a:lnTo>
                    <a:pt x="1548" y="129"/>
                  </a:lnTo>
                  <a:lnTo>
                    <a:pt x="1554" y="129"/>
                  </a:lnTo>
                  <a:lnTo>
                    <a:pt x="1559" y="129"/>
                  </a:lnTo>
                  <a:lnTo>
                    <a:pt x="1564" y="129"/>
                  </a:lnTo>
                  <a:lnTo>
                    <a:pt x="1569" y="128"/>
                  </a:lnTo>
                  <a:lnTo>
                    <a:pt x="1575" y="12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6418080" y="3795840"/>
              <a:ext cx="2023920" cy="365040"/>
            </a:xfrm>
            <a:custGeom>
              <a:avLst/>
              <a:gdLst/>
              <a:ahLst/>
              <a:rect l="l" t="t" r="r" b="b"/>
              <a:pathLst>
                <a:path w="1575" h="283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2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7" y="3"/>
                  </a:lnTo>
                  <a:lnTo>
                    <a:pt x="52" y="4"/>
                  </a:lnTo>
                  <a:lnTo>
                    <a:pt x="57" y="4"/>
                  </a:lnTo>
                  <a:lnTo>
                    <a:pt x="63" y="5"/>
                  </a:lnTo>
                  <a:lnTo>
                    <a:pt x="68" y="6"/>
                  </a:lnTo>
                  <a:lnTo>
                    <a:pt x="73" y="7"/>
                  </a:lnTo>
                  <a:lnTo>
                    <a:pt x="78" y="8"/>
                  </a:lnTo>
                  <a:lnTo>
                    <a:pt x="84" y="9"/>
                  </a:lnTo>
                  <a:lnTo>
                    <a:pt x="89" y="10"/>
                  </a:lnTo>
                  <a:lnTo>
                    <a:pt x="94" y="11"/>
                  </a:lnTo>
                  <a:lnTo>
                    <a:pt x="99" y="12"/>
                  </a:lnTo>
                  <a:lnTo>
                    <a:pt x="105" y="13"/>
                  </a:lnTo>
                  <a:lnTo>
                    <a:pt x="110" y="15"/>
                  </a:lnTo>
                  <a:lnTo>
                    <a:pt x="115" y="16"/>
                  </a:lnTo>
                  <a:lnTo>
                    <a:pt x="120" y="17"/>
                  </a:lnTo>
                  <a:lnTo>
                    <a:pt x="126" y="19"/>
                  </a:lnTo>
                  <a:lnTo>
                    <a:pt x="131" y="20"/>
                  </a:lnTo>
                  <a:lnTo>
                    <a:pt x="136" y="22"/>
                  </a:lnTo>
                  <a:lnTo>
                    <a:pt x="141" y="23"/>
                  </a:lnTo>
                  <a:lnTo>
                    <a:pt x="147" y="25"/>
                  </a:lnTo>
                  <a:lnTo>
                    <a:pt x="152" y="27"/>
                  </a:lnTo>
                  <a:lnTo>
                    <a:pt x="157" y="28"/>
                  </a:lnTo>
                  <a:lnTo>
                    <a:pt x="162" y="30"/>
                  </a:lnTo>
                  <a:lnTo>
                    <a:pt x="168" y="32"/>
                  </a:lnTo>
                  <a:lnTo>
                    <a:pt x="173" y="34"/>
                  </a:lnTo>
                  <a:lnTo>
                    <a:pt x="178" y="36"/>
                  </a:lnTo>
                  <a:lnTo>
                    <a:pt x="183" y="38"/>
                  </a:lnTo>
                  <a:lnTo>
                    <a:pt x="189" y="40"/>
                  </a:lnTo>
                  <a:lnTo>
                    <a:pt x="194" y="42"/>
                  </a:lnTo>
                  <a:lnTo>
                    <a:pt x="199" y="44"/>
                  </a:lnTo>
                  <a:lnTo>
                    <a:pt x="204" y="46"/>
                  </a:lnTo>
                  <a:lnTo>
                    <a:pt x="210" y="48"/>
                  </a:lnTo>
                  <a:lnTo>
                    <a:pt x="215" y="51"/>
                  </a:lnTo>
                  <a:lnTo>
                    <a:pt x="220" y="53"/>
                  </a:lnTo>
                  <a:lnTo>
                    <a:pt x="225" y="55"/>
                  </a:lnTo>
                  <a:lnTo>
                    <a:pt x="231" y="58"/>
                  </a:lnTo>
                  <a:lnTo>
                    <a:pt x="236" y="60"/>
                  </a:lnTo>
                  <a:lnTo>
                    <a:pt x="241" y="62"/>
                  </a:lnTo>
                  <a:lnTo>
                    <a:pt x="246" y="65"/>
                  </a:lnTo>
                  <a:lnTo>
                    <a:pt x="252" y="67"/>
                  </a:lnTo>
                  <a:lnTo>
                    <a:pt x="257" y="70"/>
                  </a:lnTo>
                  <a:lnTo>
                    <a:pt x="262" y="72"/>
                  </a:lnTo>
                  <a:lnTo>
                    <a:pt x="267" y="75"/>
                  </a:lnTo>
                  <a:lnTo>
                    <a:pt x="273" y="78"/>
                  </a:lnTo>
                  <a:lnTo>
                    <a:pt x="278" y="80"/>
                  </a:lnTo>
                  <a:lnTo>
                    <a:pt x="283" y="83"/>
                  </a:lnTo>
                  <a:lnTo>
                    <a:pt x="288" y="85"/>
                  </a:lnTo>
                  <a:lnTo>
                    <a:pt x="294" y="88"/>
                  </a:lnTo>
                  <a:lnTo>
                    <a:pt x="299" y="91"/>
                  </a:lnTo>
                  <a:lnTo>
                    <a:pt x="304" y="93"/>
                  </a:lnTo>
                  <a:lnTo>
                    <a:pt x="309" y="96"/>
                  </a:lnTo>
                  <a:lnTo>
                    <a:pt x="315" y="99"/>
                  </a:lnTo>
                  <a:lnTo>
                    <a:pt x="320" y="101"/>
                  </a:lnTo>
                  <a:lnTo>
                    <a:pt x="325" y="104"/>
                  </a:lnTo>
                  <a:lnTo>
                    <a:pt x="330" y="107"/>
                  </a:lnTo>
                  <a:lnTo>
                    <a:pt x="336" y="109"/>
                  </a:lnTo>
                  <a:lnTo>
                    <a:pt x="341" y="112"/>
                  </a:lnTo>
                  <a:lnTo>
                    <a:pt x="346" y="115"/>
                  </a:lnTo>
                  <a:lnTo>
                    <a:pt x="351" y="117"/>
                  </a:lnTo>
                  <a:lnTo>
                    <a:pt x="357" y="120"/>
                  </a:lnTo>
                  <a:lnTo>
                    <a:pt x="362" y="122"/>
                  </a:lnTo>
                  <a:lnTo>
                    <a:pt x="367" y="125"/>
                  </a:lnTo>
                  <a:lnTo>
                    <a:pt x="372" y="127"/>
                  </a:lnTo>
                  <a:lnTo>
                    <a:pt x="378" y="129"/>
                  </a:lnTo>
                  <a:lnTo>
                    <a:pt x="383" y="132"/>
                  </a:lnTo>
                  <a:lnTo>
                    <a:pt x="388" y="134"/>
                  </a:lnTo>
                  <a:lnTo>
                    <a:pt x="393" y="136"/>
                  </a:lnTo>
                  <a:lnTo>
                    <a:pt x="399" y="138"/>
                  </a:lnTo>
                  <a:lnTo>
                    <a:pt x="404" y="140"/>
                  </a:lnTo>
                  <a:lnTo>
                    <a:pt x="409" y="142"/>
                  </a:lnTo>
                  <a:lnTo>
                    <a:pt x="414" y="144"/>
                  </a:lnTo>
                  <a:lnTo>
                    <a:pt x="420" y="146"/>
                  </a:lnTo>
                  <a:lnTo>
                    <a:pt x="425" y="148"/>
                  </a:lnTo>
                  <a:lnTo>
                    <a:pt x="430" y="149"/>
                  </a:lnTo>
                  <a:lnTo>
                    <a:pt x="435" y="151"/>
                  </a:lnTo>
                  <a:lnTo>
                    <a:pt x="441" y="152"/>
                  </a:lnTo>
                  <a:lnTo>
                    <a:pt x="446" y="153"/>
                  </a:lnTo>
                  <a:lnTo>
                    <a:pt x="451" y="155"/>
                  </a:lnTo>
                  <a:lnTo>
                    <a:pt x="456" y="156"/>
                  </a:lnTo>
                  <a:lnTo>
                    <a:pt x="462" y="157"/>
                  </a:lnTo>
                  <a:lnTo>
                    <a:pt x="467" y="158"/>
                  </a:lnTo>
                  <a:lnTo>
                    <a:pt x="472" y="159"/>
                  </a:lnTo>
                  <a:lnTo>
                    <a:pt x="477" y="159"/>
                  </a:lnTo>
                  <a:lnTo>
                    <a:pt x="483" y="160"/>
                  </a:lnTo>
                  <a:lnTo>
                    <a:pt x="488" y="161"/>
                  </a:lnTo>
                  <a:lnTo>
                    <a:pt x="493" y="161"/>
                  </a:lnTo>
                  <a:lnTo>
                    <a:pt x="498" y="161"/>
                  </a:lnTo>
                  <a:lnTo>
                    <a:pt x="504" y="161"/>
                  </a:lnTo>
                  <a:lnTo>
                    <a:pt x="509" y="162"/>
                  </a:lnTo>
                  <a:lnTo>
                    <a:pt x="514" y="162"/>
                  </a:lnTo>
                  <a:lnTo>
                    <a:pt x="519" y="162"/>
                  </a:lnTo>
                  <a:lnTo>
                    <a:pt x="525" y="283"/>
                  </a:lnTo>
                  <a:lnTo>
                    <a:pt x="530" y="282"/>
                  </a:lnTo>
                  <a:lnTo>
                    <a:pt x="535" y="282"/>
                  </a:lnTo>
                  <a:lnTo>
                    <a:pt x="540" y="282"/>
                  </a:lnTo>
                  <a:lnTo>
                    <a:pt x="546" y="281"/>
                  </a:lnTo>
                  <a:lnTo>
                    <a:pt x="551" y="280"/>
                  </a:lnTo>
                  <a:lnTo>
                    <a:pt x="556" y="280"/>
                  </a:lnTo>
                  <a:lnTo>
                    <a:pt x="561" y="279"/>
                  </a:lnTo>
                  <a:lnTo>
                    <a:pt x="567" y="278"/>
                  </a:lnTo>
                  <a:lnTo>
                    <a:pt x="572" y="277"/>
                  </a:lnTo>
                  <a:lnTo>
                    <a:pt x="577" y="276"/>
                  </a:lnTo>
                  <a:lnTo>
                    <a:pt x="582" y="276"/>
                  </a:lnTo>
                  <a:lnTo>
                    <a:pt x="588" y="274"/>
                  </a:lnTo>
                  <a:lnTo>
                    <a:pt x="593" y="273"/>
                  </a:lnTo>
                  <a:lnTo>
                    <a:pt x="598" y="272"/>
                  </a:lnTo>
                  <a:lnTo>
                    <a:pt x="603" y="271"/>
                  </a:lnTo>
                  <a:lnTo>
                    <a:pt x="609" y="270"/>
                  </a:lnTo>
                  <a:lnTo>
                    <a:pt x="614" y="269"/>
                  </a:lnTo>
                  <a:lnTo>
                    <a:pt x="619" y="268"/>
                  </a:lnTo>
                  <a:lnTo>
                    <a:pt x="624" y="266"/>
                  </a:lnTo>
                  <a:lnTo>
                    <a:pt x="630" y="265"/>
                  </a:lnTo>
                  <a:lnTo>
                    <a:pt x="635" y="264"/>
                  </a:lnTo>
                  <a:lnTo>
                    <a:pt x="640" y="262"/>
                  </a:lnTo>
                  <a:lnTo>
                    <a:pt x="645" y="261"/>
                  </a:lnTo>
                  <a:lnTo>
                    <a:pt x="651" y="260"/>
                  </a:lnTo>
                  <a:lnTo>
                    <a:pt x="656" y="258"/>
                  </a:lnTo>
                  <a:lnTo>
                    <a:pt x="661" y="257"/>
                  </a:lnTo>
                  <a:lnTo>
                    <a:pt x="666" y="256"/>
                  </a:lnTo>
                  <a:lnTo>
                    <a:pt x="672" y="254"/>
                  </a:lnTo>
                  <a:lnTo>
                    <a:pt x="677" y="253"/>
                  </a:lnTo>
                  <a:lnTo>
                    <a:pt x="682" y="251"/>
                  </a:lnTo>
                  <a:lnTo>
                    <a:pt x="687" y="250"/>
                  </a:lnTo>
                  <a:lnTo>
                    <a:pt x="693" y="249"/>
                  </a:lnTo>
                  <a:lnTo>
                    <a:pt x="698" y="247"/>
                  </a:lnTo>
                  <a:lnTo>
                    <a:pt x="703" y="246"/>
                  </a:lnTo>
                  <a:lnTo>
                    <a:pt x="708" y="244"/>
                  </a:lnTo>
                  <a:lnTo>
                    <a:pt x="714" y="243"/>
                  </a:lnTo>
                  <a:lnTo>
                    <a:pt x="719" y="242"/>
                  </a:lnTo>
                  <a:lnTo>
                    <a:pt x="724" y="240"/>
                  </a:lnTo>
                  <a:lnTo>
                    <a:pt x="729" y="239"/>
                  </a:lnTo>
                  <a:lnTo>
                    <a:pt x="735" y="238"/>
                  </a:lnTo>
                  <a:lnTo>
                    <a:pt x="740" y="236"/>
                  </a:lnTo>
                  <a:lnTo>
                    <a:pt x="745" y="235"/>
                  </a:lnTo>
                  <a:lnTo>
                    <a:pt x="750" y="234"/>
                  </a:lnTo>
                  <a:lnTo>
                    <a:pt x="756" y="232"/>
                  </a:lnTo>
                  <a:lnTo>
                    <a:pt x="761" y="231"/>
                  </a:lnTo>
                  <a:lnTo>
                    <a:pt x="766" y="230"/>
                  </a:lnTo>
                  <a:lnTo>
                    <a:pt x="771" y="229"/>
                  </a:lnTo>
                  <a:lnTo>
                    <a:pt x="777" y="227"/>
                  </a:lnTo>
                  <a:lnTo>
                    <a:pt x="782" y="226"/>
                  </a:lnTo>
                  <a:lnTo>
                    <a:pt x="787" y="225"/>
                  </a:lnTo>
                  <a:lnTo>
                    <a:pt x="792" y="224"/>
                  </a:lnTo>
                  <a:lnTo>
                    <a:pt x="798" y="222"/>
                  </a:lnTo>
                  <a:lnTo>
                    <a:pt x="803" y="221"/>
                  </a:lnTo>
                  <a:lnTo>
                    <a:pt x="808" y="220"/>
                  </a:lnTo>
                  <a:lnTo>
                    <a:pt x="813" y="219"/>
                  </a:lnTo>
                  <a:lnTo>
                    <a:pt x="819" y="218"/>
                  </a:lnTo>
                  <a:lnTo>
                    <a:pt x="824" y="217"/>
                  </a:lnTo>
                  <a:lnTo>
                    <a:pt x="829" y="215"/>
                  </a:lnTo>
                  <a:lnTo>
                    <a:pt x="834" y="214"/>
                  </a:lnTo>
                  <a:lnTo>
                    <a:pt x="840" y="213"/>
                  </a:lnTo>
                  <a:lnTo>
                    <a:pt x="845" y="212"/>
                  </a:lnTo>
                  <a:lnTo>
                    <a:pt x="850" y="211"/>
                  </a:lnTo>
                  <a:lnTo>
                    <a:pt x="855" y="210"/>
                  </a:lnTo>
                  <a:lnTo>
                    <a:pt x="861" y="209"/>
                  </a:lnTo>
                  <a:lnTo>
                    <a:pt x="866" y="208"/>
                  </a:lnTo>
                  <a:lnTo>
                    <a:pt x="871" y="207"/>
                  </a:lnTo>
                  <a:lnTo>
                    <a:pt x="876" y="206"/>
                  </a:lnTo>
                  <a:lnTo>
                    <a:pt x="882" y="205"/>
                  </a:lnTo>
                  <a:lnTo>
                    <a:pt x="887" y="204"/>
                  </a:lnTo>
                  <a:lnTo>
                    <a:pt x="892" y="203"/>
                  </a:lnTo>
                  <a:lnTo>
                    <a:pt x="897" y="202"/>
                  </a:lnTo>
                  <a:lnTo>
                    <a:pt x="903" y="201"/>
                  </a:lnTo>
                  <a:lnTo>
                    <a:pt x="908" y="200"/>
                  </a:lnTo>
                  <a:lnTo>
                    <a:pt x="913" y="199"/>
                  </a:lnTo>
                  <a:lnTo>
                    <a:pt x="918" y="198"/>
                  </a:lnTo>
                  <a:lnTo>
                    <a:pt x="924" y="197"/>
                  </a:lnTo>
                  <a:lnTo>
                    <a:pt x="929" y="196"/>
                  </a:lnTo>
                  <a:lnTo>
                    <a:pt x="934" y="195"/>
                  </a:lnTo>
                  <a:lnTo>
                    <a:pt x="939" y="195"/>
                  </a:lnTo>
                  <a:lnTo>
                    <a:pt x="945" y="194"/>
                  </a:lnTo>
                  <a:lnTo>
                    <a:pt x="950" y="193"/>
                  </a:lnTo>
                  <a:lnTo>
                    <a:pt x="955" y="192"/>
                  </a:lnTo>
                  <a:lnTo>
                    <a:pt x="960" y="191"/>
                  </a:lnTo>
                  <a:lnTo>
                    <a:pt x="966" y="190"/>
                  </a:lnTo>
                  <a:lnTo>
                    <a:pt x="971" y="190"/>
                  </a:lnTo>
                  <a:lnTo>
                    <a:pt x="976" y="189"/>
                  </a:lnTo>
                  <a:lnTo>
                    <a:pt x="981" y="188"/>
                  </a:lnTo>
                  <a:lnTo>
                    <a:pt x="987" y="187"/>
                  </a:lnTo>
                  <a:lnTo>
                    <a:pt x="992" y="187"/>
                  </a:lnTo>
                  <a:lnTo>
                    <a:pt x="997" y="186"/>
                  </a:lnTo>
                  <a:lnTo>
                    <a:pt x="1002" y="185"/>
                  </a:lnTo>
                  <a:lnTo>
                    <a:pt x="1008" y="184"/>
                  </a:lnTo>
                  <a:lnTo>
                    <a:pt x="1013" y="184"/>
                  </a:lnTo>
                  <a:lnTo>
                    <a:pt x="1018" y="183"/>
                  </a:lnTo>
                  <a:lnTo>
                    <a:pt x="1023" y="182"/>
                  </a:lnTo>
                  <a:lnTo>
                    <a:pt x="1029" y="181"/>
                  </a:lnTo>
                  <a:lnTo>
                    <a:pt x="1034" y="181"/>
                  </a:lnTo>
                  <a:lnTo>
                    <a:pt x="1039" y="180"/>
                  </a:lnTo>
                  <a:lnTo>
                    <a:pt x="1044" y="179"/>
                  </a:lnTo>
                  <a:lnTo>
                    <a:pt x="1050" y="179"/>
                  </a:lnTo>
                  <a:lnTo>
                    <a:pt x="1055" y="178"/>
                  </a:lnTo>
                  <a:lnTo>
                    <a:pt x="1060" y="177"/>
                  </a:lnTo>
                  <a:lnTo>
                    <a:pt x="1065" y="177"/>
                  </a:lnTo>
                  <a:lnTo>
                    <a:pt x="1071" y="176"/>
                  </a:lnTo>
                  <a:lnTo>
                    <a:pt x="1076" y="176"/>
                  </a:lnTo>
                  <a:lnTo>
                    <a:pt x="1081" y="175"/>
                  </a:lnTo>
                  <a:lnTo>
                    <a:pt x="1086" y="174"/>
                  </a:lnTo>
                  <a:lnTo>
                    <a:pt x="1092" y="174"/>
                  </a:lnTo>
                  <a:lnTo>
                    <a:pt x="1097" y="173"/>
                  </a:lnTo>
                  <a:lnTo>
                    <a:pt x="1102" y="173"/>
                  </a:lnTo>
                  <a:lnTo>
                    <a:pt x="1107" y="172"/>
                  </a:lnTo>
                  <a:lnTo>
                    <a:pt x="1113" y="171"/>
                  </a:lnTo>
                  <a:lnTo>
                    <a:pt x="1118" y="171"/>
                  </a:lnTo>
                  <a:lnTo>
                    <a:pt x="1123" y="170"/>
                  </a:lnTo>
                  <a:lnTo>
                    <a:pt x="1128" y="170"/>
                  </a:lnTo>
                  <a:lnTo>
                    <a:pt x="1134" y="169"/>
                  </a:lnTo>
                  <a:lnTo>
                    <a:pt x="1139" y="169"/>
                  </a:lnTo>
                  <a:lnTo>
                    <a:pt x="1144" y="168"/>
                  </a:lnTo>
                  <a:lnTo>
                    <a:pt x="1149" y="168"/>
                  </a:lnTo>
                  <a:lnTo>
                    <a:pt x="1155" y="167"/>
                  </a:lnTo>
                  <a:lnTo>
                    <a:pt x="1160" y="167"/>
                  </a:lnTo>
                  <a:lnTo>
                    <a:pt x="1165" y="166"/>
                  </a:lnTo>
                  <a:lnTo>
                    <a:pt x="1170" y="166"/>
                  </a:lnTo>
                  <a:lnTo>
                    <a:pt x="1176" y="165"/>
                  </a:lnTo>
                  <a:lnTo>
                    <a:pt x="1181" y="165"/>
                  </a:lnTo>
                  <a:lnTo>
                    <a:pt x="1186" y="164"/>
                  </a:lnTo>
                  <a:lnTo>
                    <a:pt x="1191" y="164"/>
                  </a:lnTo>
                  <a:lnTo>
                    <a:pt x="1197" y="163"/>
                  </a:lnTo>
                  <a:lnTo>
                    <a:pt x="1202" y="163"/>
                  </a:lnTo>
                  <a:lnTo>
                    <a:pt x="1207" y="162"/>
                  </a:lnTo>
                  <a:lnTo>
                    <a:pt x="1212" y="162"/>
                  </a:lnTo>
                  <a:lnTo>
                    <a:pt x="1218" y="161"/>
                  </a:lnTo>
                  <a:lnTo>
                    <a:pt x="1223" y="161"/>
                  </a:lnTo>
                  <a:lnTo>
                    <a:pt x="1228" y="160"/>
                  </a:lnTo>
                  <a:lnTo>
                    <a:pt x="1233" y="160"/>
                  </a:lnTo>
                  <a:lnTo>
                    <a:pt x="1239" y="160"/>
                  </a:lnTo>
                  <a:lnTo>
                    <a:pt x="1244" y="159"/>
                  </a:lnTo>
                  <a:lnTo>
                    <a:pt x="1249" y="159"/>
                  </a:lnTo>
                  <a:lnTo>
                    <a:pt x="1254" y="158"/>
                  </a:lnTo>
                  <a:lnTo>
                    <a:pt x="1260" y="158"/>
                  </a:lnTo>
                  <a:lnTo>
                    <a:pt x="1265" y="158"/>
                  </a:lnTo>
                  <a:lnTo>
                    <a:pt x="1270" y="157"/>
                  </a:lnTo>
                  <a:lnTo>
                    <a:pt x="1275" y="157"/>
                  </a:lnTo>
                  <a:lnTo>
                    <a:pt x="1281" y="156"/>
                  </a:lnTo>
                  <a:lnTo>
                    <a:pt x="1286" y="156"/>
                  </a:lnTo>
                  <a:lnTo>
                    <a:pt x="1291" y="156"/>
                  </a:lnTo>
                  <a:lnTo>
                    <a:pt x="1296" y="155"/>
                  </a:lnTo>
                  <a:lnTo>
                    <a:pt x="1302" y="155"/>
                  </a:lnTo>
                  <a:lnTo>
                    <a:pt x="1307" y="154"/>
                  </a:lnTo>
                  <a:lnTo>
                    <a:pt x="1312" y="154"/>
                  </a:lnTo>
                  <a:lnTo>
                    <a:pt x="1317" y="154"/>
                  </a:lnTo>
                  <a:lnTo>
                    <a:pt x="1323" y="153"/>
                  </a:lnTo>
                  <a:lnTo>
                    <a:pt x="1328" y="153"/>
                  </a:lnTo>
                  <a:lnTo>
                    <a:pt x="1333" y="153"/>
                  </a:lnTo>
                  <a:lnTo>
                    <a:pt x="1338" y="152"/>
                  </a:lnTo>
                  <a:lnTo>
                    <a:pt x="1344" y="152"/>
                  </a:lnTo>
                  <a:lnTo>
                    <a:pt x="1349" y="152"/>
                  </a:lnTo>
                  <a:lnTo>
                    <a:pt x="1354" y="151"/>
                  </a:lnTo>
                  <a:lnTo>
                    <a:pt x="1359" y="151"/>
                  </a:lnTo>
                  <a:lnTo>
                    <a:pt x="1365" y="151"/>
                  </a:lnTo>
                  <a:lnTo>
                    <a:pt x="1370" y="150"/>
                  </a:lnTo>
                  <a:lnTo>
                    <a:pt x="1375" y="150"/>
                  </a:lnTo>
                  <a:lnTo>
                    <a:pt x="1380" y="150"/>
                  </a:lnTo>
                  <a:lnTo>
                    <a:pt x="1386" y="149"/>
                  </a:lnTo>
                  <a:lnTo>
                    <a:pt x="1391" y="149"/>
                  </a:lnTo>
                  <a:lnTo>
                    <a:pt x="1396" y="149"/>
                  </a:lnTo>
                  <a:lnTo>
                    <a:pt x="1401" y="148"/>
                  </a:lnTo>
                  <a:lnTo>
                    <a:pt x="1407" y="148"/>
                  </a:lnTo>
                  <a:lnTo>
                    <a:pt x="1412" y="148"/>
                  </a:lnTo>
                  <a:lnTo>
                    <a:pt x="1417" y="148"/>
                  </a:lnTo>
                  <a:lnTo>
                    <a:pt x="1422" y="147"/>
                  </a:lnTo>
                  <a:lnTo>
                    <a:pt x="1428" y="147"/>
                  </a:lnTo>
                  <a:lnTo>
                    <a:pt x="1433" y="147"/>
                  </a:lnTo>
                  <a:lnTo>
                    <a:pt x="1438" y="146"/>
                  </a:lnTo>
                  <a:lnTo>
                    <a:pt x="1443" y="146"/>
                  </a:lnTo>
                  <a:lnTo>
                    <a:pt x="1449" y="146"/>
                  </a:lnTo>
                  <a:lnTo>
                    <a:pt x="1454" y="146"/>
                  </a:lnTo>
                  <a:lnTo>
                    <a:pt x="1459" y="145"/>
                  </a:lnTo>
                  <a:lnTo>
                    <a:pt x="1464" y="145"/>
                  </a:lnTo>
                  <a:lnTo>
                    <a:pt x="1470" y="145"/>
                  </a:lnTo>
                  <a:lnTo>
                    <a:pt x="1475" y="144"/>
                  </a:lnTo>
                  <a:lnTo>
                    <a:pt x="1480" y="144"/>
                  </a:lnTo>
                  <a:lnTo>
                    <a:pt x="1485" y="144"/>
                  </a:lnTo>
                  <a:lnTo>
                    <a:pt x="1491" y="144"/>
                  </a:lnTo>
                  <a:lnTo>
                    <a:pt x="1496" y="143"/>
                  </a:lnTo>
                  <a:lnTo>
                    <a:pt x="1501" y="143"/>
                  </a:lnTo>
                  <a:lnTo>
                    <a:pt x="1506" y="143"/>
                  </a:lnTo>
                  <a:lnTo>
                    <a:pt x="1512" y="143"/>
                  </a:lnTo>
                  <a:lnTo>
                    <a:pt x="1517" y="142"/>
                  </a:lnTo>
                  <a:lnTo>
                    <a:pt x="1522" y="142"/>
                  </a:lnTo>
                  <a:lnTo>
                    <a:pt x="1527" y="142"/>
                  </a:lnTo>
                  <a:lnTo>
                    <a:pt x="1533" y="142"/>
                  </a:lnTo>
                  <a:lnTo>
                    <a:pt x="1538" y="142"/>
                  </a:lnTo>
                  <a:lnTo>
                    <a:pt x="1543" y="141"/>
                  </a:lnTo>
                  <a:lnTo>
                    <a:pt x="1548" y="141"/>
                  </a:lnTo>
                  <a:lnTo>
                    <a:pt x="1554" y="141"/>
                  </a:lnTo>
                  <a:lnTo>
                    <a:pt x="1559" y="141"/>
                  </a:lnTo>
                  <a:lnTo>
                    <a:pt x="1564" y="140"/>
                  </a:lnTo>
                  <a:lnTo>
                    <a:pt x="1569" y="140"/>
                  </a:lnTo>
                  <a:lnTo>
                    <a:pt x="1575" y="14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6418080" y="3749760"/>
              <a:ext cx="2023920" cy="411120"/>
            </a:xfrm>
            <a:custGeom>
              <a:avLst/>
              <a:gdLst/>
              <a:ahLst/>
              <a:rect l="l" t="t" r="r" b="b"/>
              <a:pathLst>
                <a:path w="1575" h="319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6" y="2"/>
                  </a:lnTo>
                  <a:lnTo>
                    <a:pt x="31" y="2"/>
                  </a:lnTo>
                  <a:lnTo>
                    <a:pt x="36" y="3"/>
                  </a:lnTo>
                  <a:lnTo>
                    <a:pt x="42" y="3"/>
                  </a:lnTo>
                  <a:lnTo>
                    <a:pt x="47" y="4"/>
                  </a:lnTo>
                  <a:lnTo>
                    <a:pt x="52" y="5"/>
                  </a:lnTo>
                  <a:lnTo>
                    <a:pt x="57" y="6"/>
                  </a:lnTo>
                  <a:lnTo>
                    <a:pt x="63" y="7"/>
                  </a:lnTo>
                  <a:lnTo>
                    <a:pt x="68" y="8"/>
                  </a:lnTo>
                  <a:lnTo>
                    <a:pt x="73" y="9"/>
                  </a:lnTo>
                  <a:lnTo>
                    <a:pt x="78" y="10"/>
                  </a:lnTo>
                  <a:lnTo>
                    <a:pt x="84" y="11"/>
                  </a:lnTo>
                  <a:lnTo>
                    <a:pt x="89" y="13"/>
                  </a:lnTo>
                  <a:lnTo>
                    <a:pt x="94" y="14"/>
                  </a:lnTo>
                  <a:lnTo>
                    <a:pt x="99" y="16"/>
                  </a:lnTo>
                  <a:lnTo>
                    <a:pt x="105" y="18"/>
                  </a:lnTo>
                  <a:lnTo>
                    <a:pt x="110" y="19"/>
                  </a:lnTo>
                  <a:lnTo>
                    <a:pt x="115" y="21"/>
                  </a:lnTo>
                  <a:lnTo>
                    <a:pt x="120" y="23"/>
                  </a:lnTo>
                  <a:lnTo>
                    <a:pt x="126" y="25"/>
                  </a:lnTo>
                  <a:lnTo>
                    <a:pt x="131" y="27"/>
                  </a:lnTo>
                  <a:lnTo>
                    <a:pt x="136" y="29"/>
                  </a:lnTo>
                  <a:lnTo>
                    <a:pt x="141" y="31"/>
                  </a:lnTo>
                  <a:lnTo>
                    <a:pt x="147" y="33"/>
                  </a:lnTo>
                  <a:lnTo>
                    <a:pt x="152" y="36"/>
                  </a:lnTo>
                  <a:lnTo>
                    <a:pt x="157" y="38"/>
                  </a:lnTo>
                  <a:lnTo>
                    <a:pt x="162" y="40"/>
                  </a:lnTo>
                  <a:lnTo>
                    <a:pt x="168" y="43"/>
                  </a:lnTo>
                  <a:lnTo>
                    <a:pt x="173" y="45"/>
                  </a:lnTo>
                  <a:lnTo>
                    <a:pt x="178" y="48"/>
                  </a:lnTo>
                  <a:lnTo>
                    <a:pt x="183" y="51"/>
                  </a:lnTo>
                  <a:lnTo>
                    <a:pt x="189" y="54"/>
                  </a:lnTo>
                  <a:lnTo>
                    <a:pt x="194" y="56"/>
                  </a:lnTo>
                  <a:lnTo>
                    <a:pt x="199" y="59"/>
                  </a:lnTo>
                  <a:lnTo>
                    <a:pt x="204" y="62"/>
                  </a:lnTo>
                  <a:lnTo>
                    <a:pt x="210" y="65"/>
                  </a:lnTo>
                  <a:lnTo>
                    <a:pt x="215" y="68"/>
                  </a:lnTo>
                  <a:lnTo>
                    <a:pt x="220" y="72"/>
                  </a:lnTo>
                  <a:lnTo>
                    <a:pt x="225" y="75"/>
                  </a:lnTo>
                  <a:lnTo>
                    <a:pt x="231" y="78"/>
                  </a:lnTo>
                  <a:lnTo>
                    <a:pt x="236" y="81"/>
                  </a:lnTo>
                  <a:lnTo>
                    <a:pt x="241" y="85"/>
                  </a:lnTo>
                  <a:lnTo>
                    <a:pt x="246" y="88"/>
                  </a:lnTo>
                  <a:lnTo>
                    <a:pt x="252" y="92"/>
                  </a:lnTo>
                  <a:lnTo>
                    <a:pt x="257" y="95"/>
                  </a:lnTo>
                  <a:lnTo>
                    <a:pt x="262" y="99"/>
                  </a:lnTo>
                  <a:lnTo>
                    <a:pt x="267" y="102"/>
                  </a:lnTo>
                  <a:lnTo>
                    <a:pt x="273" y="106"/>
                  </a:lnTo>
                  <a:lnTo>
                    <a:pt x="278" y="109"/>
                  </a:lnTo>
                  <a:lnTo>
                    <a:pt x="283" y="113"/>
                  </a:lnTo>
                  <a:lnTo>
                    <a:pt x="288" y="117"/>
                  </a:lnTo>
                  <a:lnTo>
                    <a:pt x="294" y="121"/>
                  </a:lnTo>
                  <a:lnTo>
                    <a:pt x="299" y="124"/>
                  </a:lnTo>
                  <a:lnTo>
                    <a:pt x="304" y="128"/>
                  </a:lnTo>
                  <a:lnTo>
                    <a:pt x="309" y="132"/>
                  </a:lnTo>
                  <a:lnTo>
                    <a:pt x="315" y="136"/>
                  </a:lnTo>
                  <a:lnTo>
                    <a:pt x="320" y="139"/>
                  </a:lnTo>
                  <a:lnTo>
                    <a:pt x="325" y="143"/>
                  </a:lnTo>
                  <a:lnTo>
                    <a:pt x="330" y="147"/>
                  </a:lnTo>
                  <a:lnTo>
                    <a:pt x="336" y="151"/>
                  </a:lnTo>
                  <a:lnTo>
                    <a:pt x="341" y="155"/>
                  </a:lnTo>
                  <a:lnTo>
                    <a:pt x="346" y="158"/>
                  </a:lnTo>
                  <a:lnTo>
                    <a:pt x="351" y="162"/>
                  </a:lnTo>
                  <a:lnTo>
                    <a:pt x="357" y="166"/>
                  </a:lnTo>
                  <a:lnTo>
                    <a:pt x="362" y="169"/>
                  </a:lnTo>
                  <a:lnTo>
                    <a:pt x="367" y="173"/>
                  </a:lnTo>
                  <a:lnTo>
                    <a:pt x="372" y="176"/>
                  </a:lnTo>
                  <a:lnTo>
                    <a:pt x="378" y="180"/>
                  </a:lnTo>
                  <a:lnTo>
                    <a:pt x="383" y="183"/>
                  </a:lnTo>
                  <a:lnTo>
                    <a:pt x="388" y="186"/>
                  </a:lnTo>
                  <a:lnTo>
                    <a:pt x="393" y="189"/>
                  </a:lnTo>
                  <a:lnTo>
                    <a:pt x="399" y="192"/>
                  </a:lnTo>
                  <a:lnTo>
                    <a:pt x="404" y="195"/>
                  </a:lnTo>
                  <a:lnTo>
                    <a:pt x="409" y="198"/>
                  </a:lnTo>
                  <a:lnTo>
                    <a:pt x="414" y="201"/>
                  </a:lnTo>
                  <a:lnTo>
                    <a:pt x="420" y="204"/>
                  </a:lnTo>
                  <a:lnTo>
                    <a:pt x="425" y="206"/>
                  </a:lnTo>
                  <a:lnTo>
                    <a:pt x="430" y="209"/>
                  </a:lnTo>
                  <a:lnTo>
                    <a:pt x="435" y="211"/>
                  </a:lnTo>
                  <a:lnTo>
                    <a:pt x="441" y="213"/>
                  </a:lnTo>
                  <a:lnTo>
                    <a:pt x="446" y="215"/>
                  </a:lnTo>
                  <a:lnTo>
                    <a:pt x="451" y="217"/>
                  </a:lnTo>
                  <a:lnTo>
                    <a:pt x="456" y="218"/>
                  </a:lnTo>
                  <a:lnTo>
                    <a:pt x="462" y="220"/>
                  </a:lnTo>
                  <a:lnTo>
                    <a:pt x="467" y="221"/>
                  </a:lnTo>
                  <a:lnTo>
                    <a:pt x="472" y="223"/>
                  </a:lnTo>
                  <a:lnTo>
                    <a:pt x="477" y="224"/>
                  </a:lnTo>
                  <a:lnTo>
                    <a:pt x="483" y="224"/>
                  </a:lnTo>
                  <a:lnTo>
                    <a:pt x="488" y="225"/>
                  </a:lnTo>
                  <a:lnTo>
                    <a:pt x="493" y="226"/>
                  </a:lnTo>
                  <a:lnTo>
                    <a:pt x="498" y="226"/>
                  </a:lnTo>
                  <a:lnTo>
                    <a:pt x="504" y="227"/>
                  </a:lnTo>
                  <a:lnTo>
                    <a:pt x="509" y="227"/>
                  </a:lnTo>
                  <a:lnTo>
                    <a:pt x="514" y="227"/>
                  </a:lnTo>
                  <a:lnTo>
                    <a:pt x="519" y="227"/>
                  </a:lnTo>
                  <a:lnTo>
                    <a:pt x="525" y="227"/>
                  </a:lnTo>
                  <a:lnTo>
                    <a:pt x="530" y="226"/>
                  </a:lnTo>
                  <a:lnTo>
                    <a:pt x="535" y="226"/>
                  </a:lnTo>
                  <a:lnTo>
                    <a:pt x="540" y="225"/>
                  </a:lnTo>
                  <a:lnTo>
                    <a:pt x="546" y="225"/>
                  </a:lnTo>
                  <a:lnTo>
                    <a:pt x="551" y="224"/>
                  </a:lnTo>
                  <a:lnTo>
                    <a:pt x="556" y="223"/>
                  </a:lnTo>
                  <a:lnTo>
                    <a:pt x="561" y="222"/>
                  </a:lnTo>
                  <a:lnTo>
                    <a:pt x="567" y="221"/>
                  </a:lnTo>
                  <a:lnTo>
                    <a:pt x="572" y="220"/>
                  </a:lnTo>
                  <a:lnTo>
                    <a:pt x="577" y="219"/>
                  </a:lnTo>
                  <a:lnTo>
                    <a:pt x="582" y="217"/>
                  </a:lnTo>
                  <a:lnTo>
                    <a:pt x="588" y="216"/>
                  </a:lnTo>
                  <a:lnTo>
                    <a:pt x="593" y="214"/>
                  </a:lnTo>
                  <a:lnTo>
                    <a:pt x="598" y="213"/>
                  </a:lnTo>
                  <a:lnTo>
                    <a:pt x="603" y="211"/>
                  </a:lnTo>
                  <a:lnTo>
                    <a:pt x="609" y="210"/>
                  </a:lnTo>
                  <a:lnTo>
                    <a:pt x="614" y="208"/>
                  </a:lnTo>
                  <a:lnTo>
                    <a:pt x="619" y="207"/>
                  </a:lnTo>
                  <a:lnTo>
                    <a:pt x="624" y="205"/>
                  </a:lnTo>
                  <a:lnTo>
                    <a:pt x="630" y="203"/>
                  </a:lnTo>
                  <a:lnTo>
                    <a:pt x="635" y="201"/>
                  </a:lnTo>
                  <a:lnTo>
                    <a:pt x="640" y="200"/>
                  </a:lnTo>
                  <a:lnTo>
                    <a:pt x="645" y="198"/>
                  </a:lnTo>
                  <a:lnTo>
                    <a:pt x="651" y="196"/>
                  </a:lnTo>
                  <a:lnTo>
                    <a:pt x="656" y="319"/>
                  </a:lnTo>
                  <a:lnTo>
                    <a:pt x="661" y="317"/>
                  </a:lnTo>
                  <a:lnTo>
                    <a:pt x="666" y="315"/>
                  </a:lnTo>
                  <a:lnTo>
                    <a:pt x="672" y="313"/>
                  </a:lnTo>
                  <a:lnTo>
                    <a:pt x="677" y="311"/>
                  </a:lnTo>
                  <a:lnTo>
                    <a:pt x="682" y="309"/>
                  </a:lnTo>
                  <a:lnTo>
                    <a:pt x="687" y="307"/>
                  </a:lnTo>
                  <a:lnTo>
                    <a:pt x="693" y="305"/>
                  </a:lnTo>
                  <a:lnTo>
                    <a:pt x="698" y="303"/>
                  </a:lnTo>
                  <a:lnTo>
                    <a:pt x="703" y="301"/>
                  </a:lnTo>
                  <a:lnTo>
                    <a:pt x="708" y="299"/>
                  </a:lnTo>
                  <a:lnTo>
                    <a:pt x="714" y="297"/>
                  </a:lnTo>
                  <a:lnTo>
                    <a:pt x="719" y="295"/>
                  </a:lnTo>
                  <a:lnTo>
                    <a:pt x="724" y="293"/>
                  </a:lnTo>
                  <a:lnTo>
                    <a:pt x="729" y="291"/>
                  </a:lnTo>
                  <a:lnTo>
                    <a:pt x="735" y="289"/>
                  </a:lnTo>
                  <a:lnTo>
                    <a:pt x="740" y="287"/>
                  </a:lnTo>
                  <a:lnTo>
                    <a:pt x="745" y="285"/>
                  </a:lnTo>
                  <a:lnTo>
                    <a:pt x="750" y="283"/>
                  </a:lnTo>
                  <a:lnTo>
                    <a:pt x="756" y="281"/>
                  </a:lnTo>
                  <a:lnTo>
                    <a:pt x="761" y="279"/>
                  </a:lnTo>
                  <a:lnTo>
                    <a:pt x="766" y="277"/>
                  </a:lnTo>
                  <a:lnTo>
                    <a:pt x="771" y="276"/>
                  </a:lnTo>
                  <a:lnTo>
                    <a:pt x="777" y="274"/>
                  </a:lnTo>
                  <a:lnTo>
                    <a:pt x="782" y="272"/>
                  </a:lnTo>
                  <a:lnTo>
                    <a:pt x="787" y="270"/>
                  </a:lnTo>
                  <a:lnTo>
                    <a:pt x="792" y="269"/>
                  </a:lnTo>
                  <a:lnTo>
                    <a:pt x="798" y="267"/>
                  </a:lnTo>
                  <a:lnTo>
                    <a:pt x="803" y="265"/>
                  </a:lnTo>
                  <a:lnTo>
                    <a:pt x="808" y="263"/>
                  </a:lnTo>
                  <a:lnTo>
                    <a:pt x="813" y="262"/>
                  </a:lnTo>
                  <a:lnTo>
                    <a:pt x="819" y="260"/>
                  </a:lnTo>
                  <a:lnTo>
                    <a:pt x="824" y="258"/>
                  </a:lnTo>
                  <a:lnTo>
                    <a:pt x="829" y="257"/>
                  </a:lnTo>
                  <a:lnTo>
                    <a:pt x="834" y="255"/>
                  </a:lnTo>
                  <a:lnTo>
                    <a:pt x="840" y="254"/>
                  </a:lnTo>
                  <a:lnTo>
                    <a:pt x="845" y="252"/>
                  </a:lnTo>
                  <a:lnTo>
                    <a:pt x="850" y="251"/>
                  </a:lnTo>
                  <a:lnTo>
                    <a:pt x="855" y="249"/>
                  </a:lnTo>
                  <a:lnTo>
                    <a:pt x="861" y="248"/>
                  </a:lnTo>
                  <a:lnTo>
                    <a:pt x="866" y="246"/>
                  </a:lnTo>
                  <a:lnTo>
                    <a:pt x="871" y="245"/>
                  </a:lnTo>
                  <a:lnTo>
                    <a:pt x="876" y="243"/>
                  </a:lnTo>
                  <a:lnTo>
                    <a:pt x="882" y="242"/>
                  </a:lnTo>
                  <a:lnTo>
                    <a:pt x="887" y="240"/>
                  </a:lnTo>
                  <a:lnTo>
                    <a:pt x="892" y="239"/>
                  </a:lnTo>
                  <a:lnTo>
                    <a:pt x="897" y="238"/>
                  </a:lnTo>
                  <a:lnTo>
                    <a:pt x="903" y="236"/>
                  </a:lnTo>
                  <a:lnTo>
                    <a:pt x="908" y="235"/>
                  </a:lnTo>
                  <a:lnTo>
                    <a:pt x="913" y="234"/>
                  </a:lnTo>
                  <a:lnTo>
                    <a:pt x="918" y="232"/>
                  </a:lnTo>
                  <a:lnTo>
                    <a:pt x="924" y="231"/>
                  </a:lnTo>
                  <a:lnTo>
                    <a:pt x="929" y="230"/>
                  </a:lnTo>
                  <a:lnTo>
                    <a:pt x="934" y="229"/>
                  </a:lnTo>
                  <a:lnTo>
                    <a:pt x="939" y="227"/>
                  </a:lnTo>
                  <a:lnTo>
                    <a:pt x="945" y="226"/>
                  </a:lnTo>
                  <a:lnTo>
                    <a:pt x="950" y="225"/>
                  </a:lnTo>
                  <a:lnTo>
                    <a:pt x="955" y="224"/>
                  </a:lnTo>
                  <a:lnTo>
                    <a:pt x="960" y="223"/>
                  </a:lnTo>
                  <a:lnTo>
                    <a:pt x="966" y="222"/>
                  </a:lnTo>
                  <a:lnTo>
                    <a:pt x="971" y="220"/>
                  </a:lnTo>
                  <a:lnTo>
                    <a:pt x="976" y="219"/>
                  </a:lnTo>
                  <a:lnTo>
                    <a:pt x="981" y="218"/>
                  </a:lnTo>
                  <a:lnTo>
                    <a:pt x="987" y="217"/>
                  </a:lnTo>
                  <a:lnTo>
                    <a:pt x="992" y="216"/>
                  </a:lnTo>
                  <a:lnTo>
                    <a:pt x="997" y="215"/>
                  </a:lnTo>
                  <a:lnTo>
                    <a:pt x="1002" y="214"/>
                  </a:lnTo>
                  <a:lnTo>
                    <a:pt x="1008" y="213"/>
                  </a:lnTo>
                  <a:lnTo>
                    <a:pt x="1013" y="212"/>
                  </a:lnTo>
                  <a:lnTo>
                    <a:pt x="1018" y="211"/>
                  </a:lnTo>
                  <a:lnTo>
                    <a:pt x="1023" y="210"/>
                  </a:lnTo>
                  <a:lnTo>
                    <a:pt x="1029" y="209"/>
                  </a:lnTo>
                  <a:lnTo>
                    <a:pt x="1034" y="208"/>
                  </a:lnTo>
                  <a:lnTo>
                    <a:pt x="1039" y="207"/>
                  </a:lnTo>
                  <a:lnTo>
                    <a:pt x="1044" y="206"/>
                  </a:lnTo>
                  <a:lnTo>
                    <a:pt x="1050" y="205"/>
                  </a:lnTo>
                  <a:lnTo>
                    <a:pt x="1055" y="204"/>
                  </a:lnTo>
                  <a:lnTo>
                    <a:pt x="1060" y="203"/>
                  </a:lnTo>
                  <a:lnTo>
                    <a:pt x="1065" y="203"/>
                  </a:lnTo>
                  <a:lnTo>
                    <a:pt x="1071" y="202"/>
                  </a:lnTo>
                  <a:lnTo>
                    <a:pt x="1076" y="201"/>
                  </a:lnTo>
                  <a:lnTo>
                    <a:pt x="1081" y="200"/>
                  </a:lnTo>
                  <a:lnTo>
                    <a:pt x="1086" y="199"/>
                  </a:lnTo>
                  <a:lnTo>
                    <a:pt x="1092" y="198"/>
                  </a:lnTo>
                  <a:lnTo>
                    <a:pt x="1097" y="197"/>
                  </a:lnTo>
                  <a:lnTo>
                    <a:pt x="1102" y="197"/>
                  </a:lnTo>
                  <a:lnTo>
                    <a:pt x="1107" y="196"/>
                  </a:lnTo>
                  <a:lnTo>
                    <a:pt x="1113" y="195"/>
                  </a:lnTo>
                  <a:lnTo>
                    <a:pt x="1118" y="194"/>
                  </a:lnTo>
                  <a:lnTo>
                    <a:pt x="1123" y="194"/>
                  </a:lnTo>
                  <a:lnTo>
                    <a:pt x="1128" y="193"/>
                  </a:lnTo>
                  <a:lnTo>
                    <a:pt x="1134" y="192"/>
                  </a:lnTo>
                  <a:lnTo>
                    <a:pt x="1139" y="191"/>
                  </a:lnTo>
                  <a:lnTo>
                    <a:pt x="1144" y="191"/>
                  </a:lnTo>
                  <a:lnTo>
                    <a:pt x="1149" y="190"/>
                  </a:lnTo>
                  <a:lnTo>
                    <a:pt x="1155" y="189"/>
                  </a:lnTo>
                  <a:lnTo>
                    <a:pt x="1160" y="188"/>
                  </a:lnTo>
                  <a:lnTo>
                    <a:pt x="1165" y="188"/>
                  </a:lnTo>
                  <a:lnTo>
                    <a:pt x="1170" y="187"/>
                  </a:lnTo>
                  <a:lnTo>
                    <a:pt x="1176" y="186"/>
                  </a:lnTo>
                  <a:lnTo>
                    <a:pt x="1181" y="186"/>
                  </a:lnTo>
                  <a:lnTo>
                    <a:pt x="1186" y="185"/>
                  </a:lnTo>
                  <a:lnTo>
                    <a:pt x="1191" y="184"/>
                  </a:lnTo>
                  <a:lnTo>
                    <a:pt x="1197" y="184"/>
                  </a:lnTo>
                  <a:lnTo>
                    <a:pt x="1202" y="183"/>
                  </a:lnTo>
                  <a:lnTo>
                    <a:pt x="1207" y="182"/>
                  </a:lnTo>
                  <a:lnTo>
                    <a:pt x="1212" y="182"/>
                  </a:lnTo>
                  <a:lnTo>
                    <a:pt x="1218" y="181"/>
                  </a:lnTo>
                  <a:lnTo>
                    <a:pt x="1223" y="181"/>
                  </a:lnTo>
                  <a:lnTo>
                    <a:pt x="1228" y="180"/>
                  </a:lnTo>
                  <a:lnTo>
                    <a:pt x="1233" y="179"/>
                  </a:lnTo>
                  <a:lnTo>
                    <a:pt x="1239" y="179"/>
                  </a:lnTo>
                  <a:lnTo>
                    <a:pt x="1244" y="178"/>
                  </a:lnTo>
                  <a:lnTo>
                    <a:pt x="1249" y="178"/>
                  </a:lnTo>
                  <a:lnTo>
                    <a:pt x="1254" y="177"/>
                  </a:lnTo>
                  <a:lnTo>
                    <a:pt x="1260" y="176"/>
                  </a:lnTo>
                  <a:lnTo>
                    <a:pt x="1265" y="176"/>
                  </a:lnTo>
                  <a:lnTo>
                    <a:pt x="1270" y="175"/>
                  </a:lnTo>
                  <a:lnTo>
                    <a:pt x="1275" y="175"/>
                  </a:lnTo>
                  <a:lnTo>
                    <a:pt x="1281" y="174"/>
                  </a:lnTo>
                  <a:lnTo>
                    <a:pt x="1286" y="174"/>
                  </a:lnTo>
                  <a:lnTo>
                    <a:pt x="1291" y="173"/>
                  </a:lnTo>
                  <a:lnTo>
                    <a:pt x="1296" y="173"/>
                  </a:lnTo>
                  <a:lnTo>
                    <a:pt x="1302" y="172"/>
                  </a:lnTo>
                  <a:lnTo>
                    <a:pt x="1307" y="172"/>
                  </a:lnTo>
                  <a:lnTo>
                    <a:pt x="1312" y="171"/>
                  </a:lnTo>
                  <a:lnTo>
                    <a:pt x="1317" y="171"/>
                  </a:lnTo>
                  <a:lnTo>
                    <a:pt x="1323" y="170"/>
                  </a:lnTo>
                  <a:lnTo>
                    <a:pt x="1328" y="170"/>
                  </a:lnTo>
                  <a:lnTo>
                    <a:pt x="1333" y="169"/>
                  </a:lnTo>
                  <a:lnTo>
                    <a:pt x="1338" y="169"/>
                  </a:lnTo>
                  <a:lnTo>
                    <a:pt x="1344" y="168"/>
                  </a:lnTo>
                  <a:lnTo>
                    <a:pt x="1349" y="168"/>
                  </a:lnTo>
                  <a:lnTo>
                    <a:pt x="1354" y="167"/>
                  </a:lnTo>
                  <a:lnTo>
                    <a:pt x="1359" y="167"/>
                  </a:lnTo>
                  <a:lnTo>
                    <a:pt x="1365" y="166"/>
                  </a:lnTo>
                  <a:lnTo>
                    <a:pt x="1370" y="166"/>
                  </a:lnTo>
                  <a:lnTo>
                    <a:pt x="1375" y="166"/>
                  </a:lnTo>
                  <a:lnTo>
                    <a:pt x="1380" y="165"/>
                  </a:lnTo>
                  <a:lnTo>
                    <a:pt x="1386" y="165"/>
                  </a:lnTo>
                  <a:lnTo>
                    <a:pt x="1391" y="164"/>
                  </a:lnTo>
                  <a:lnTo>
                    <a:pt x="1396" y="164"/>
                  </a:lnTo>
                  <a:lnTo>
                    <a:pt x="1401" y="163"/>
                  </a:lnTo>
                  <a:lnTo>
                    <a:pt x="1407" y="163"/>
                  </a:lnTo>
                  <a:lnTo>
                    <a:pt x="1412" y="163"/>
                  </a:lnTo>
                  <a:lnTo>
                    <a:pt x="1417" y="162"/>
                  </a:lnTo>
                  <a:lnTo>
                    <a:pt x="1422" y="162"/>
                  </a:lnTo>
                  <a:lnTo>
                    <a:pt x="1428" y="161"/>
                  </a:lnTo>
                  <a:lnTo>
                    <a:pt x="1433" y="161"/>
                  </a:lnTo>
                  <a:lnTo>
                    <a:pt x="1438" y="161"/>
                  </a:lnTo>
                  <a:lnTo>
                    <a:pt x="1443" y="160"/>
                  </a:lnTo>
                  <a:lnTo>
                    <a:pt x="1449" y="160"/>
                  </a:lnTo>
                  <a:lnTo>
                    <a:pt x="1454" y="160"/>
                  </a:lnTo>
                  <a:lnTo>
                    <a:pt x="1459" y="159"/>
                  </a:lnTo>
                  <a:lnTo>
                    <a:pt x="1464" y="159"/>
                  </a:lnTo>
                  <a:lnTo>
                    <a:pt x="1470" y="158"/>
                  </a:lnTo>
                  <a:lnTo>
                    <a:pt x="1475" y="158"/>
                  </a:lnTo>
                  <a:lnTo>
                    <a:pt x="1480" y="158"/>
                  </a:lnTo>
                  <a:lnTo>
                    <a:pt x="1485" y="157"/>
                  </a:lnTo>
                  <a:lnTo>
                    <a:pt x="1491" y="157"/>
                  </a:lnTo>
                  <a:lnTo>
                    <a:pt x="1496" y="157"/>
                  </a:lnTo>
                  <a:lnTo>
                    <a:pt x="1501" y="156"/>
                  </a:lnTo>
                  <a:lnTo>
                    <a:pt x="1506" y="156"/>
                  </a:lnTo>
                  <a:lnTo>
                    <a:pt x="1512" y="156"/>
                  </a:lnTo>
                  <a:lnTo>
                    <a:pt x="1517" y="155"/>
                  </a:lnTo>
                  <a:lnTo>
                    <a:pt x="1522" y="155"/>
                  </a:lnTo>
                  <a:lnTo>
                    <a:pt x="1527" y="155"/>
                  </a:lnTo>
                  <a:lnTo>
                    <a:pt x="1533" y="154"/>
                  </a:lnTo>
                  <a:lnTo>
                    <a:pt x="1538" y="154"/>
                  </a:lnTo>
                  <a:lnTo>
                    <a:pt x="1543" y="154"/>
                  </a:lnTo>
                  <a:lnTo>
                    <a:pt x="1548" y="153"/>
                  </a:lnTo>
                  <a:lnTo>
                    <a:pt x="1554" y="153"/>
                  </a:lnTo>
                  <a:lnTo>
                    <a:pt x="1559" y="153"/>
                  </a:lnTo>
                  <a:lnTo>
                    <a:pt x="1564" y="152"/>
                  </a:lnTo>
                  <a:lnTo>
                    <a:pt x="1569" y="152"/>
                  </a:lnTo>
                  <a:lnTo>
                    <a:pt x="1575" y="15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6418080" y="3728520"/>
              <a:ext cx="2023920" cy="431640"/>
            </a:xfrm>
            <a:custGeom>
              <a:avLst/>
              <a:gdLst/>
              <a:ahLst/>
              <a:rect l="l" t="t" r="r" b="b"/>
              <a:pathLst>
                <a:path w="1575" h="334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6" y="2"/>
                  </a:lnTo>
                  <a:lnTo>
                    <a:pt x="31" y="2"/>
                  </a:lnTo>
                  <a:lnTo>
                    <a:pt x="36" y="3"/>
                  </a:lnTo>
                  <a:lnTo>
                    <a:pt x="42" y="4"/>
                  </a:lnTo>
                  <a:lnTo>
                    <a:pt x="47" y="5"/>
                  </a:lnTo>
                  <a:lnTo>
                    <a:pt x="52" y="6"/>
                  </a:lnTo>
                  <a:lnTo>
                    <a:pt x="57" y="7"/>
                  </a:lnTo>
                  <a:lnTo>
                    <a:pt x="63" y="8"/>
                  </a:lnTo>
                  <a:lnTo>
                    <a:pt x="68" y="9"/>
                  </a:lnTo>
                  <a:lnTo>
                    <a:pt x="73" y="11"/>
                  </a:lnTo>
                  <a:lnTo>
                    <a:pt x="78" y="12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8"/>
                  </a:lnTo>
                  <a:lnTo>
                    <a:pt x="99" y="20"/>
                  </a:lnTo>
                  <a:lnTo>
                    <a:pt x="105" y="22"/>
                  </a:lnTo>
                  <a:lnTo>
                    <a:pt x="110" y="24"/>
                  </a:lnTo>
                  <a:lnTo>
                    <a:pt x="115" y="26"/>
                  </a:lnTo>
                  <a:lnTo>
                    <a:pt x="120" y="29"/>
                  </a:lnTo>
                  <a:lnTo>
                    <a:pt x="126" y="31"/>
                  </a:lnTo>
                  <a:lnTo>
                    <a:pt x="131" y="34"/>
                  </a:lnTo>
                  <a:lnTo>
                    <a:pt x="136" y="36"/>
                  </a:lnTo>
                  <a:lnTo>
                    <a:pt x="141" y="39"/>
                  </a:lnTo>
                  <a:lnTo>
                    <a:pt x="147" y="42"/>
                  </a:lnTo>
                  <a:lnTo>
                    <a:pt x="152" y="45"/>
                  </a:lnTo>
                  <a:lnTo>
                    <a:pt x="157" y="48"/>
                  </a:lnTo>
                  <a:lnTo>
                    <a:pt x="162" y="51"/>
                  </a:lnTo>
                  <a:lnTo>
                    <a:pt x="168" y="54"/>
                  </a:lnTo>
                  <a:lnTo>
                    <a:pt x="173" y="57"/>
                  </a:lnTo>
                  <a:lnTo>
                    <a:pt x="178" y="61"/>
                  </a:lnTo>
                  <a:lnTo>
                    <a:pt x="183" y="64"/>
                  </a:lnTo>
                  <a:lnTo>
                    <a:pt x="189" y="68"/>
                  </a:lnTo>
                  <a:lnTo>
                    <a:pt x="194" y="71"/>
                  </a:lnTo>
                  <a:lnTo>
                    <a:pt x="199" y="75"/>
                  </a:lnTo>
                  <a:lnTo>
                    <a:pt x="204" y="79"/>
                  </a:lnTo>
                  <a:lnTo>
                    <a:pt x="210" y="83"/>
                  </a:lnTo>
                  <a:lnTo>
                    <a:pt x="215" y="87"/>
                  </a:lnTo>
                  <a:lnTo>
                    <a:pt x="220" y="91"/>
                  </a:lnTo>
                  <a:lnTo>
                    <a:pt x="225" y="95"/>
                  </a:lnTo>
                  <a:lnTo>
                    <a:pt x="231" y="99"/>
                  </a:lnTo>
                  <a:lnTo>
                    <a:pt x="236" y="103"/>
                  </a:lnTo>
                  <a:lnTo>
                    <a:pt x="241" y="108"/>
                  </a:lnTo>
                  <a:lnTo>
                    <a:pt x="246" y="112"/>
                  </a:lnTo>
                  <a:lnTo>
                    <a:pt x="252" y="117"/>
                  </a:lnTo>
                  <a:lnTo>
                    <a:pt x="257" y="121"/>
                  </a:lnTo>
                  <a:lnTo>
                    <a:pt x="262" y="126"/>
                  </a:lnTo>
                  <a:lnTo>
                    <a:pt x="267" y="131"/>
                  </a:lnTo>
                  <a:lnTo>
                    <a:pt x="273" y="135"/>
                  </a:lnTo>
                  <a:lnTo>
                    <a:pt x="278" y="140"/>
                  </a:lnTo>
                  <a:lnTo>
                    <a:pt x="283" y="145"/>
                  </a:lnTo>
                  <a:lnTo>
                    <a:pt x="288" y="150"/>
                  </a:lnTo>
                  <a:lnTo>
                    <a:pt x="294" y="155"/>
                  </a:lnTo>
                  <a:lnTo>
                    <a:pt x="299" y="160"/>
                  </a:lnTo>
                  <a:lnTo>
                    <a:pt x="304" y="165"/>
                  </a:lnTo>
                  <a:lnTo>
                    <a:pt x="309" y="170"/>
                  </a:lnTo>
                  <a:lnTo>
                    <a:pt x="315" y="175"/>
                  </a:lnTo>
                  <a:lnTo>
                    <a:pt x="320" y="180"/>
                  </a:lnTo>
                  <a:lnTo>
                    <a:pt x="325" y="185"/>
                  </a:lnTo>
                  <a:lnTo>
                    <a:pt x="330" y="190"/>
                  </a:lnTo>
                  <a:lnTo>
                    <a:pt x="336" y="195"/>
                  </a:lnTo>
                  <a:lnTo>
                    <a:pt x="341" y="200"/>
                  </a:lnTo>
                  <a:lnTo>
                    <a:pt x="346" y="205"/>
                  </a:lnTo>
                  <a:lnTo>
                    <a:pt x="351" y="210"/>
                  </a:lnTo>
                  <a:lnTo>
                    <a:pt x="357" y="215"/>
                  </a:lnTo>
                  <a:lnTo>
                    <a:pt x="362" y="220"/>
                  </a:lnTo>
                  <a:lnTo>
                    <a:pt x="367" y="225"/>
                  </a:lnTo>
                  <a:lnTo>
                    <a:pt x="372" y="230"/>
                  </a:lnTo>
                  <a:lnTo>
                    <a:pt x="378" y="234"/>
                  </a:lnTo>
                  <a:lnTo>
                    <a:pt x="383" y="239"/>
                  </a:lnTo>
                  <a:lnTo>
                    <a:pt x="388" y="243"/>
                  </a:lnTo>
                  <a:lnTo>
                    <a:pt x="393" y="248"/>
                  </a:lnTo>
                  <a:lnTo>
                    <a:pt x="399" y="252"/>
                  </a:lnTo>
                  <a:lnTo>
                    <a:pt x="404" y="256"/>
                  </a:lnTo>
                  <a:lnTo>
                    <a:pt x="409" y="260"/>
                  </a:lnTo>
                  <a:lnTo>
                    <a:pt x="414" y="264"/>
                  </a:lnTo>
                  <a:lnTo>
                    <a:pt x="420" y="267"/>
                  </a:lnTo>
                  <a:lnTo>
                    <a:pt x="425" y="271"/>
                  </a:lnTo>
                  <a:lnTo>
                    <a:pt x="430" y="274"/>
                  </a:lnTo>
                  <a:lnTo>
                    <a:pt x="435" y="277"/>
                  </a:lnTo>
                  <a:lnTo>
                    <a:pt x="441" y="280"/>
                  </a:lnTo>
                  <a:lnTo>
                    <a:pt x="446" y="283"/>
                  </a:lnTo>
                  <a:lnTo>
                    <a:pt x="451" y="285"/>
                  </a:lnTo>
                  <a:lnTo>
                    <a:pt x="456" y="288"/>
                  </a:lnTo>
                  <a:lnTo>
                    <a:pt x="462" y="290"/>
                  </a:lnTo>
                  <a:lnTo>
                    <a:pt x="467" y="292"/>
                  </a:lnTo>
                  <a:lnTo>
                    <a:pt x="472" y="293"/>
                  </a:lnTo>
                  <a:lnTo>
                    <a:pt x="477" y="295"/>
                  </a:lnTo>
                  <a:lnTo>
                    <a:pt x="483" y="296"/>
                  </a:lnTo>
                  <a:lnTo>
                    <a:pt x="488" y="297"/>
                  </a:lnTo>
                  <a:lnTo>
                    <a:pt x="493" y="298"/>
                  </a:lnTo>
                  <a:lnTo>
                    <a:pt x="498" y="299"/>
                  </a:lnTo>
                  <a:lnTo>
                    <a:pt x="504" y="299"/>
                  </a:lnTo>
                  <a:lnTo>
                    <a:pt x="509" y="300"/>
                  </a:lnTo>
                  <a:lnTo>
                    <a:pt x="514" y="300"/>
                  </a:lnTo>
                  <a:lnTo>
                    <a:pt x="519" y="300"/>
                  </a:lnTo>
                  <a:lnTo>
                    <a:pt x="525" y="299"/>
                  </a:lnTo>
                  <a:lnTo>
                    <a:pt x="530" y="299"/>
                  </a:lnTo>
                  <a:lnTo>
                    <a:pt x="535" y="298"/>
                  </a:lnTo>
                  <a:lnTo>
                    <a:pt x="540" y="297"/>
                  </a:lnTo>
                  <a:lnTo>
                    <a:pt x="546" y="296"/>
                  </a:lnTo>
                  <a:lnTo>
                    <a:pt x="551" y="295"/>
                  </a:lnTo>
                  <a:lnTo>
                    <a:pt x="556" y="294"/>
                  </a:lnTo>
                  <a:lnTo>
                    <a:pt x="561" y="293"/>
                  </a:lnTo>
                  <a:lnTo>
                    <a:pt x="567" y="291"/>
                  </a:lnTo>
                  <a:lnTo>
                    <a:pt x="572" y="290"/>
                  </a:lnTo>
                  <a:lnTo>
                    <a:pt x="577" y="288"/>
                  </a:lnTo>
                  <a:lnTo>
                    <a:pt x="582" y="286"/>
                  </a:lnTo>
                  <a:lnTo>
                    <a:pt x="588" y="284"/>
                  </a:lnTo>
                  <a:lnTo>
                    <a:pt x="593" y="282"/>
                  </a:lnTo>
                  <a:lnTo>
                    <a:pt x="598" y="280"/>
                  </a:lnTo>
                  <a:lnTo>
                    <a:pt x="603" y="278"/>
                  </a:lnTo>
                  <a:lnTo>
                    <a:pt x="609" y="276"/>
                  </a:lnTo>
                  <a:lnTo>
                    <a:pt x="614" y="274"/>
                  </a:lnTo>
                  <a:lnTo>
                    <a:pt x="619" y="271"/>
                  </a:lnTo>
                  <a:lnTo>
                    <a:pt x="624" y="269"/>
                  </a:lnTo>
                  <a:lnTo>
                    <a:pt x="630" y="267"/>
                  </a:lnTo>
                  <a:lnTo>
                    <a:pt x="635" y="264"/>
                  </a:lnTo>
                  <a:lnTo>
                    <a:pt x="640" y="262"/>
                  </a:lnTo>
                  <a:lnTo>
                    <a:pt x="645" y="259"/>
                  </a:lnTo>
                  <a:lnTo>
                    <a:pt x="651" y="257"/>
                  </a:lnTo>
                  <a:lnTo>
                    <a:pt x="656" y="254"/>
                  </a:lnTo>
                  <a:lnTo>
                    <a:pt x="661" y="252"/>
                  </a:lnTo>
                  <a:lnTo>
                    <a:pt x="666" y="249"/>
                  </a:lnTo>
                  <a:lnTo>
                    <a:pt x="672" y="247"/>
                  </a:lnTo>
                  <a:lnTo>
                    <a:pt x="677" y="244"/>
                  </a:lnTo>
                  <a:lnTo>
                    <a:pt x="682" y="242"/>
                  </a:lnTo>
                  <a:lnTo>
                    <a:pt x="687" y="239"/>
                  </a:lnTo>
                  <a:lnTo>
                    <a:pt x="693" y="237"/>
                  </a:lnTo>
                  <a:lnTo>
                    <a:pt x="698" y="234"/>
                  </a:lnTo>
                  <a:lnTo>
                    <a:pt x="703" y="232"/>
                  </a:lnTo>
                  <a:lnTo>
                    <a:pt x="708" y="229"/>
                  </a:lnTo>
                  <a:lnTo>
                    <a:pt x="714" y="227"/>
                  </a:lnTo>
                  <a:lnTo>
                    <a:pt x="719" y="225"/>
                  </a:lnTo>
                  <a:lnTo>
                    <a:pt x="724" y="222"/>
                  </a:lnTo>
                  <a:lnTo>
                    <a:pt x="729" y="220"/>
                  </a:lnTo>
                  <a:lnTo>
                    <a:pt x="735" y="217"/>
                  </a:lnTo>
                  <a:lnTo>
                    <a:pt x="740" y="215"/>
                  </a:lnTo>
                  <a:lnTo>
                    <a:pt x="745" y="213"/>
                  </a:lnTo>
                  <a:lnTo>
                    <a:pt x="750" y="210"/>
                  </a:lnTo>
                  <a:lnTo>
                    <a:pt x="756" y="334"/>
                  </a:lnTo>
                  <a:lnTo>
                    <a:pt x="761" y="331"/>
                  </a:lnTo>
                  <a:lnTo>
                    <a:pt x="766" y="329"/>
                  </a:lnTo>
                  <a:lnTo>
                    <a:pt x="771" y="326"/>
                  </a:lnTo>
                  <a:lnTo>
                    <a:pt x="777" y="324"/>
                  </a:lnTo>
                  <a:lnTo>
                    <a:pt x="782" y="321"/>
                  </a:lnTo>
                  <a:lnTo>
                    <a:pt x="787" y="319"/>
                  </a:lnTo>
                  <a:lnTo>
                    <a:pt x="792" y="317"/>
                  </a:lnTo>
                  <a:lnTo>
                    <a:pt x="798" y="314"/>
                  </a:lnTo>
                  <a:lnTo>
                    <a:pt x="803" y="312"/>
                  </a:lnTo>
                  <a:lnTo>
                    <a:pt x="808" y="310"/>
                  </a:lnTo>
                  <a:lnTo>
                    <a:pt x="813" y="308"/>
                  </a:lnTo>
                  <a:lnTo>
                    <a:pt x="819" y="305"/>
                  </a:lnTo>
                  <a:lnTo>
                    <a:pt x="824" y="303"/>
                  </a:lnTo>
                  <a:lnTo>
                    <a:pt x="829" y="301"/>
                  </a:lnTo>
                  <a:lnTo>
                    <a:pt x="834" y="299"/>
                  </a:lnTo>
                  <a:lnTo>
                    <a:pt x="840" y="297"/>
                  </a:lnTo>
                  <a:lnTo>
                    <a:pt x="845" y="295"/>
                  </a:lnTo>
                  <a:lnTo>
                    <a:pt x="850" y="293"/>
                  </a:lnTo>
                  <a:lnTo>
                    <a:pt x="855" y="291"/>
                  </a:lnTo>
                  <a:lnTo>
                    <a:pt x="861" y="289"/>
                  </a:lnTo>
                  <a:lnTo>
                    <a:pt x="866" y="287"/>
                  </a:lnTo>
                  <a:lnTo>
                    <a:pt x="871" y="285"/>
                  </a:lnTo>
                  <a:lnTo>
                    <a:pt x="876" y="283"/>
                  </a:lnTo>
                  <a:lnTo>
                    <a:pt x="882" y="281"/>
                  </a:lnTo>
                  <a:lnTo>
                    <a:pt x="887" y="279"/>
                  </a:lnTo>
                  <a:lnTo>
                    <a:pt x="892" y="277"/>
                  </a:lnTo>
                  <a:lnTo>
                    <a:pt x="897" y="276"/>
                  </a:lnTo>
                  <a:lnTo>
                    <a:pt x="903" y="274"/>
                  </a:lnTo>
                  <a:lnTo>
                    <a:pt x="908" y="272"/>
                  </a:lnTo>
                  <a:lnTo>
                    <a:pt x="913" y="270"/>
                  </a:lnTo>
                  <a:lnTo>
                    <a:pt x="918" y="269"/>
                  </a:lnTo>
                  <a:lnTo>
                    <a:pt x="924" y="267"/>
                  </a:lnTo>
                  <a:lnTo>
                    <a:pt x="929" y="265"/>
                  </a:lnTo>
                  <a:lnTo>
                    <a:pt x="934" y="264"/>
                  </a:lnTo>
                  <a:lnTo>
                    <a:pt x="939" y="262"/>
                  </a:lnTo>
                  <a:lnTo>
                    <a:pt x="945" y="260"/>
                  </a:lnTo>
                  <a:lnTo>
                    <a:pt x="950" y="259"/>
                  </a:lnTo>
                  <a:lnTo>
                    <a:pt x="955" y="257"/>
                  </a:lnTo>
                  <a:lnTo>
                    <a:pt x="960" y="256"/>
                  </a:lnTo>
                  <a:lnTo>
                    <a:pt x="966" y="254"/>
                  </a:lnTo>
                  <a:lnTo>
                    <a:pt x="971" y="253"/>
                  </a:lnTo>
                  <a:lnTo>
                    <a:pt x="976" y="251"/>
                  </a:lnTo>
                  <a:lnTo>
                    <a:pt x="981" y="250"/>
                  </a:lnTo>
                  <a:lnTo>
                    <a:pt x="987" y="249"/>
                  </a:lnTo>
                  <a:lnTo>
                    <a:pt x="992" y="247"/>
                  </a:lnTo>
                  <a:lnTo>
                    <a:pt x="997" y="246"/>
                  </a:lnTo>
                  <a:lnTo>
                    <a:pt x="1002" y="244"/>
                  </a:lnTo>
                  <a:lnTo>
                    <a:pt x="1008" y="243"/>
                  </a:lnTo>
                  <a:lnTo>
                    <a:pt x="1013" y="242"/>
                  </a:lnTo>
                  <a:lnTo>
                    <a:pt x="1018" y="240"/>
                  </a:lnTo>
                  <a:lnTo>
                    <a:pt x="1023" y="239"/>
                  </a:lnTo>
                  <a:lnTo>
                    <a:pt x="1029" y="238"/>
                  </a:lnTo>
                  <a:lnTo>
                    <a:pt x="1034" y="237"/>
                  </a:lnTo>
                  <a:lnTo>
                    <a:pt x="1039" y="235"/>
                  </a:lnTo>
                  <a:lnTo>
                    <a:pt x="1044" y="234"/>
                  </a:lnTo>
                  <a:lnTo>
                    <a:pt x="1050" y="233"/>
                  </a:lnTo>
                  <a:lnTo>
                    <a:pt x="1055" y="232"/>
                  </a:lnTo>
                  <a:lnTo>
                    <a:pt x="1060" y="231"/>
                  </a:lnTo>
                  <a:lnTo>
                    <a:pt x="1065" y="229"/>
                  </a:lnTo>
                  <a:lnTo>
                    <a:pt x="1071" y="228"/>
                  </a:lnTo>
                  <a:lnTo>
                    <a:pt x="1076" y="227"/>
                  </a:lnTo>
                  <a:lnTo>
                    <a:pt x="1081" y="226"/>
                  </a:lnTo>
                  <a:lnTo>
                    <a:pt x="1086" y="225"/>
                  </a:lnTo>
                  <a:lnTo>
                    <a:pt x="1092" y="224"/>
                  </a:lnTo>
                  <a:lnTo>
                    <a:pt x="1097" y="223"/>
                  </a:lnTo>
                  <a:lnTo>
                    <a:pt x="1102" y="222"/>
                  </a:lnTo>
                  <a:lnTo>
                    <a:pt x="1107" y="221"/>
                  </a:lnTo>
                  <a:lnTo>
                    <a:pt x="1113" y="220"/>
                  </a:lnTo>
                  <a:lnTo>
                    <a:pt x="1118" y="219"/>
                  </a:lnTo>
                  <a:lnTo>
                    <a:pt x="1123" y="218"/>
                  </a:lnTo>
                  <a:lnTo>
                    <a:pt x="1128" y="217"/>
                  </a:lnTo>
                  <a:lnTo>
                    <a:pt x="1134" y="216"/>
                  </a:lnTo>
                  <a:lnTo>
                    <a:pt x="1139" y="215"/>
                  </a:lnTo>
                  <a:lnTo>
                    <a:pt x="1144" y="214"/>
                  </a:lnTo>
                  <a:lnTo>
                    <a:pt x="1149" y="213"/>
                  </a:lnTo>
                  <a:lnTo>
                    <a:pt x="1155" y="212"/>
                  </a:lnTo>
                  <a:lnTo>
                    <a:pt x="1160" y="211"/>
                  </a:lnTo>
                  <a:lnTo>
                    <a:pt x="1165" y="210"/>
                  </a:lnTo>
                  <a:lnTo>
                    <a:pt x="1170" y="209"/>
                  </a:lnTo>
                  <a:lnTo>
                    <a:pt x="1176" y="208"/>
                  </a:lnTo>
                  <a:lnTo>
                    <a:pt x="1181" y="207"/>
                  </a:lnTo>
                  <a:lnTo>
                    <a:pt x="1186" y="207"/>
                  </a:lnTo>
                  <a:lnTo>
                    <a:pt x="1191" y="206"/>
                  </a:lnTo>
                  <a:lnTo>
                    <a:pt x="1197" y="205"/>
                  </a:lnTo>
                  <a:lnTo>
                    <a:pt x="1202" y="204"/>
                  </a:lnTo>
                  <a:lnTo>
                    <a:pt x="1207" y="203"/>
                  </a:lnTo>
                  <a:lnTo>
                    <a:pt x="1212" y="202"/>
                  </a:lnTo>
                  <a:lnTo>
                    <a:pt x="1218" y="202"/>
                  </a:lnTo>
                  <a:lnTo>
                    <a:pt x="1223" y="201"/>
                  </a:lnTo>
                  <a:lnTo>
                    <a:pt x="1228" y="200"/>
                  </a:lnTo>
                  <a:lnTo>
                    <a:pt x="1233" y="199"/>
                  </a:lnTo>
                  <a:lnTo>
                    <a:pt x="1239" y="199"/>
                  </a:lnTo>
                  <a:lnTo>
                    <a:pt x="1244" y="198"/>
                  </a:lnTo>
                  <a:lnTo>
                    <a:pt x="1249" y="197"/>
                  </a:lnTo>
                  <a:lnTo>
                    <a:pt x="1254" y="196"/>
                  </a:lnTo>
                  <a:lnTo>
                    <a:pt x="1260" y="196"/>
                  </a:lnTo>
                  <a:lnTo>
                    <a:pt x="1265" y="195"/>
                  </a:lnTo>
                  <a:lnTo>
                    <a:pt x="1270" y="194"/>
                  </a:lnTo>
                  <a:lnTo>
                    <a:pt x="1275" y="193"/>
                  </a:lnTo>
                  <a:lnTo>
                    <a:pt x="1281" y="193"/>
                  </a:lnTo>
                  <a:lnTo>
                    <a:pt x="1286" y="192"/>
                  </a:lnTo>
                  <a:lnTo>
                    <a:pt x="1291" y="191"/>
                  </a:lnTo>
                  <a:lnTo>
                    <a:pt x="1296" y="191"/>
                  </a:lnTo>
                  <a:lnTo>
                    <a:pt x="1302" y="190"/>
                  </a:lnTo>
                  <a:lnTo>
                    <a:pt x="1307" y="189"/>
                  </a:lnTo>
                  <a:lnTo>
                    <a:pt x="1312" y="189"/>
                  </a:lnTo>
                  <a:lnTo>
                    <a:pt x="1317" y="188"/>
                  </a:lnTo>
                  <a:lnTo>
                    <a:pt x="1323" y="188"/>
                  </a:lnTo>
                  <a:lnTo>
                    <a:pt x="1328" y="187"/>
                  </a:lnTo>
                  <a:lnTo>
                    <a:pt x="1333" y="186"/>
                  </a:lnTo>
                  <a:lnTo>
                    <a:pt x="1338" y="186"/>
                  </a:lnTo>
                  <a:lnTo>
                    <a:pt x="1344" y="185"/>
                  </a:lnTo>
                  <a:lnTo>
                    <a:pt x="1349" y="184"/>
                  </a:lnTo>
                  <a:lnTo>
                    <a:pt x="1354" y="184"/>
                  </a:lnTo>
                  <a:lnTo>
                    <a:pt x="1359" y="183"/>
                  </a:lnTo>
                  <a:lnTo>
                    <a:pt x="1365" y="183"/>
                  </a:lnTo>
                  <a:lnTo>
                    <a:pt x="1370" y="182"/>
                  </a:lnTo>
                  <a:lnTo>
                    <a:pt x="1375" y="182"/>
                  </a:lnTo>
                  <a:lnTo>
                    <a:pt x="1380" y="181"/>
                  </a:lnTo>
                  <a:lnTo>
                    <a:pt x="1386" y="180"/>
                  </a:lnTo>
                  <a:lnTo>
                    <a:pt x="1391" y="180"/>
                  </a:lnTo>
                  <a:lnTo>
                    <a:pt x="1396" y="179"/>
                  </a:lnTo>
                  <a:lnTo>
                    <a:pt x="1401" y="179"/>
                  </a:lnTo>
                  <a:lnTo>
                    <a:pt x="1407" y="178"/>
                  </a:lnTo>
                  <a:lnTo>
                    <a:pt x="1412" y="178"/>
                  </a:lnTo>
                  <a:lnTo>
                    <a:pt x="1417" y="177"/>
                  </a:lnTo>
                  <a:lnTo>
                    <a:pt x="1422" y="177"/>
                  </a:lnTo>
                  <a:lnTo>
                    <a:pt x="1428" y="176"/>
                  </a:lnTo>
                  <a:lnTo>
                    <a:pt x="1433" y="176"/>
                  </a:lnTo>
                  <a:lnTo>
                    <a:pt x="1438" y="175"/>
                  </a:lnTo>
                  <a:lnTo>
                    <a:pt x="1443" y="175"/>
                  </a:lnTo>
                  <a:lnTo>
                    <a:pt x="1449" y="174"/>
                  </a:lnTo>
                  <a:lnTo>
                    <a:pt x="1454" y="174"/>
                  </a:lnTo>
                  <a:lnTo>
                    <a:pt x="1459" y="173"/>
                  </a:lnTo>
                  <a:lnTo>
                    <a:pt x="1464" y="173"/>
                  </a:lnTo>
                  <a:lnTo>
                    <a:pt x="1470" y="172"/>
                  </a:lnTo>
                  <a:lnTo>
                    <a:pt x="1475" y="172"/>
                  </a:lnTo>
                  <a:lnTo>
                    <a:pt x="1480" y="172"/>
                  </a:lnTo>
                  <a:lnTo>
                    <a:pt x="1485" y="171"/>
                  </a:lnTo>
                  <a:lnTo>
                    <a:pt x="1491" y="171"/>
                  </a:lnTo>
                  <a:lnTo>
                    <a:pt x="1496" y="170"/>
                  </a:lnTo>
                  <a:lnTo>
                    <a:pt x="1501" y="170"/>
                  </a:lnTo>
                  <a:lnTo>
                    <a:pt x="1506" y="169"/>
                  </a:lnTo>
                  <a:lnTo>
                    <a:pt x="1512" y="169"/>
                  </a:lnTo>
                  <a:lnTo>
                    <a:pt x="1517" y="168"/>
                  </a:lnTo>
                  <a:lnTo>
                    <a:pt x="1522" y="168"/>
                  </a:lnTo>
                  <a:lnTo>
                    <a:pt x="1527" y="168"/>
                  </a:lnTo>
                  <a:lnTo>
                    <a:pt x="1533" y="167"/>
                  </a:lnTo>
                  <a:lnTo>
                    <a:pt x="1538" y="167"/>
                  </a:lnTo>
                  <a:lnTo>
                    <a:pt x="1543" y="166"/>
                  </a:lnTo>
                  <a:lnTo>
                    <a:pt x="1548" y="166"/>
                  </a:lnTo>
                  <a:lnTo>
                    <a:pt x="1554" y="166"/>
                  </a:lnTo>
                  <a:lnTo>
                    <a:pt x="1559" y="165"/>
                  </a:lnTo>
                  <a:lnTo>
                    <a:pt x="1564" y="165"/>
                  </a:lnTo>
                  <a:lnTo>
                    <a:pt x="1569" y="164"/>
                  </a:lnTo>
                  <a:lnTo>
                    <a:pt x="1575" y="16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6418080" y="3668040"/>
              <a:ext cx="2023920" cy="492120"/>
            </a:xfrm>
            <a:custGeom>
              <a:avLst/>
              <a:gdLst/>
              <a:ahLst/>
              <a:rect l="l" t="t" r="r" b="b"/>
              <a:pathLst>
                <a:path w="1575" h="381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6" y="2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42" y="5"/>
                  </a:lnTo>
                  <a:lnTo>
                    <a:pt x="47" y="6"/>
                  </a:lnTo>
                  <a:lnTo>
                    <a:pt x="52" y="7"/>
                  </a:lnTo>
                  <a:lnTo>
                    <a:pt x="57" y="8"/>
                  </a:lnTo>
                  <a:lnTo>
                    <a:pt x="63" y="10"/>
                  </a:lnTo>
                  <a:lnTo>
                    <a:pt x="68" y="11"/>
                  </a:lnTo>
                  <a:lnTo>
                    <a:pt x="73" y="13"/>
                  </a:lnTo>
                  <a:lnTo>
                    <a:pt x="78" y="15"/>
                  </a:lnTo>
                  <a:lnTo>
                    <a:pt x="84" y="17"/>
                  </a:lnTo>
                  <a:lnTo>
                    <a:pt x="89" y="19"/>
                  </a:lnTo>
                  <a:lnTo>
                    <a:pt x="94" y="21"/>
                  </a:lnTo>
                  <a:lnTo>
                    <a:pt x="99" y="24"/>
                  </a:lnTo>
                  <a:lnTo>
                    <a:pt x="105" y="26"/>
                  </a:lnTo>
                  <a:lnTo>
                    <a:pt x="110" y="29"/>
                  </a:lnTo>
                  <a:lnTo>
                    <a:pt x="115" y="32"/>
                  </a:lnTo>
                  <a:lnTo>
                    <a:pt x="120" y="34"/>
                  </a:lnTo>
                  <a:lnTo>
                    <a:pt x="126" y="37"/>
                  </a:lnTo>
                  <a:lnTo>
                    <a:pt x="131" y="40"/>
                  </a:lnTo>
                  <a:lnTo>
                    <a:pt x="136" y="44"/>
                  </a:lnTo>
                  <a:lnTo>
                    <a:pt x="141" y="47"/>
                  </a:lnTo>
                  <a:lnTo>
                    <a:pt x="147" y="50"/>
                  </a:lnTo>
                  <a:lnTo>
                    <a:pt x="152" y="54"/>
                  </a:lnTo>
                  <a:lnTo>
                    <a:pt x="157" y="58"/>
                  </a:lnTo>
                  <a:lnTo>
                    <a:pt x="162" y="61"/>
                  </a:lnTo>
                  <a:lnTo>
                    <a:pt x="168" y="65"/>
                  </a:lnTo>
                  <a:lnTo>
                    <a:pt x="173" y="69"/>
                  </a:lnTo>
                  <a:lnTo>
                    <a:pt x="178" y="73"/>
                  </a:lnTo>
                  <a:lnTo>
                    <a:pt x="183" y="78"/>
                  </a:lnTo>
                  <a:lnTo>
                    <a:pt x="189" y="82"/>
                  </a:lnTo>
                  <a:lnTo>
                    <a:pt x="194" y="87"/>
                  </a:lnTo>
                  <a:lnTo>
                    <a:pt x="199" y="91"/>
                  </a:lnTo>
                  <a:lnTo>
                    <a:pt x="204" y="96"/>
                  </a:lnTo>
                  <a:lnTo>
                    <a:pt x="210" y="101"/>
                  </a:lnTo>
                  <a:lnTo>
                    <a:pt x="215" y="106"/>
                  </a:lnTo>
                  <a:lnTo>
                    <a:pt x="220" y="111"/>
                  </a:lnTo>
                  <a:lnTo>
                    <a:pt x="225" y="116"/>
                  </a:lnTo>
                  <a:lnTo>
                    <a:pt x="231" y="121"/>
                  </a:lnTo>
                  <a:lnTo>
                    <a:pt x="236" y="127"/>
                  </a:lnTo>
                  <a:lnTo>
                    <a:pt x="241" y="132"/>
                  </a:lnTo>
                  <a:lnTo>
                    <a:pt x="246" y="138"/>
                  </a:lnTo>
                  <a:lnTo>
                    <a:pt x="252" y="143"/>
                  </a:lnTo>
                  <a:lnTo>
                    <a:pt x="257" y="149"/>
                  </a:lnTo>
                  <a:lnTo>
                    <a:pt x="262" y="155"/>
                  </a:lnTo>
                  <a:lnTo>
                    <a:pt x="267" y="161"/>
                  </a:lnTo>
                  <a:lnTo>
                    <a:pt x="273" y="167"/>
                  </a:lnTo>
                  <a:lnTo>
                    <a:pt x="278" y="173"/>
                  </a:lnTo>
                  <a:lnTo>
                    <a:pt x="283" y="179"/>
                  </a:lnTo>
                  <a:lnTo>
                    <a:pt x="288" y="185"/>
                  </a:lnTo>
                  <a:lnTo>
                    <a:pt x="294" y="192"/>
                  </a:lnTo>
                  <a:lnTo>
                    <a:pt x="299" y="198"/>
                  </a:lnTo>
                  <a:lnTo>
                    <a:pt x="304" y="204"/>
                  </a:lnTo>
                  <a:lnTo>
                    <a:pt x="309" y="211"/>
                  </a:lnTo>
                  <a:lnTo>
                    <a:pt x="315" y="217"/>
                  </a:lnTo>
                  <a:lnTo>
                    <a:pt x="320" y="224"/>
                  </a:lnTo>
                  <a:lnTo>
                    <a:pt x="325" y="230"/>
                  </a:lnTo>
                  <a:lnTo>
                    <a:pt x="330" y="237"/>
                  </a:lnTo>
                  <a:lnTo>
                    <a:pt x="336" y="243"/>
                  </a:lnTo>
                  <a:lnTo>
                    <a:pt x="341" y="250"/>
                  </a:lnTo>
                  <a:lnTo>
                    <a:pt x="346" y="256"/>
                  </a:lnTo>
                  <a:lnTo>
                    <a:pt x="351" y="263"/>
                  </a:lnTo>
                  <a:lnTo>
                    <a:pt x="357" y="269"/>
                  </a:lnTo>
                  <a:lnTo>
                    <a:pt x="362" y="276"/>
                  </a:lnTo>
                  <a:lnTo>
                    <a:pt x="367" y="282"/>
                  </a:lnTo>
                  <a:lnTo>
                    <a:pt x="372" y="288"/>
                  </a:lnTo>
                  <a:lnTo>
                    <a:pt x="378" y="294"/>
                  </a:lnTo>
                  <a:lnTo>
                    <a:pt x="383" y="300"/>
                  </a:lnTo>
                  <a:lnTo>
                    <a:pt x="388" y="306"/>
                  </a:lnTo>
                  <a:lnTo>
                    <a:pt x="393" y="312"/>
                  </a:lnTo>
                  <a:lnTo>
                    <a:pt x="399" y="317"/>
                  </a:lnTo>
                  <a:lnTo>
                    <a:pt x="404" y="323"/>
                  </a:lnTo>
                  <a:lnTo>
                    <a:pt x="409" y="328"/>
                  </a:lnTo>
                  <a:lnTo>
                    <a:pt x="414" y="333"/>
                  </a:lnTo>
                  <a:lnTo>
                    <a:pt x="420" y="338"/>
                  </a:lnTo>
                  <a:lnTo>
                    <a:pt x="425" y="342"/>
                  </a:lnTo>
                  <a:lnTo>
                    <a:pt x="430" y="347"/>
                  </a:lnTo>
                  <a:lnTo>
                    <a:pt x="435" y="351"/>
                  </a:lnTo>
                  <a:lnTo>
                    <a:pt x="441" y="355"/>
                  </a:lnTo>
                  <a:lnTo>
                    <a:pt x="446" y="359"/>
                  </a:lnTo>
                  <a:lnTo>
                    <a:pt x="451" y="362"/>
                  </a:lnTo>
                  <a:lnTo>
                    <a:pt x="456" y="365"/>
                  </a:lnTo>
                  <a:lnTo>
                    <a:pt x="462" y="368"/>
                  </a:lnTo>
                  <a:lnTo>
                    <a:pt x="467" y="371"/>
                  </a:lnTo>
                  <a:lnTo>
                    <a:pt x="472" y="373"/>
                  </a:lnTo>
                  <a:lnTo>
                    <a:pt x="477" y="375"/>
                  </a:lnTo>
                  <a:lnTo>
                    <a:pt x="483" y="377"/>
                  </a:lnTo>
                  <a:lnTo>
                    <a:pt x="488" y="378"/>
                  </a:lnTo>
                  <a:lnTo>
                    <a:pt x="493" y="379"/>
                  </a:lnTo>
                  <a:lnTo>
                    <a:pt x="498" y="380"/>
                  </a:lnTo>
                  <a:lnTo>
                    <a:pt x="504" y="381"/>
                  </a:lnTo>
                  <a:lnTo>
                    <a:pt x="509" y="381"/>
                  </a:lnTo>
                  <a:lnTo>
                    <a:pt x="514" y="381"/>
                  </a:lnTo>
                  <a:lnTo>
                    <a:pt x="519" y="381"/>
                  </a:lnTo>
                  <a:lnTo>
                    <a:pt x="525" y="381"/>
                  </a:lnTo>
                  <a:lnTo>
                    <a:pt x="530" y="380"/>
                  </a:lnTo>
                  <a:lnTo>
                    <a:pt x="535" y="379"/>
                  </a:lnTo>
                  <a:lnTo>
                    <a:pt x="540" y="378"/>
                  </a:lnTo>
                  <a:lnTo>
                    <a:pt x="546" y="377"/>
                  </a:lnTo>
                  <a:lnTo>
                    <a:pt x="551" y="375"/>
                  </a:lnTo>
                  <a:lnTo>
                    <a:pt x="556" y="374"/>
                  </a:lnTo>
                  <a:lnTo>
                    <a:pt x="561" y="372"/>
                  </a:lnTo>
                  <a:lnTo>
                    <a:pt x="567" y="370"/>
                  </a:lnTo>
                  <a:lnTo>
                    <a:pt x="572" y="368"/>
                  </a:lnTo>
                  <a:lnTo>
                    <a:pt x="577" y="365"/>
                  </a:lnTo>
                  <a:lnTo>
                    <a:pt x="582" y="363"/>
                  </a:lnTo>
                  <a:lnTo>
                    <a:pt x="588" y="360"/>
                  </a:lnTo>
                  <a:lnTo>
                    <a:pt x="593" y="358"/>
                  </a:lnTo>
                  <a:lnTo>
                    <a:pt x="598" y="355"/>
                  </a:lnTo>
                  <a:lnTo>
                    <a:pt x="603" y="352"/>
                  </a:lnTo>
                  <a:lnTo>
                    <a:pt x="609" y="349"/>
                  </a:lnTo>
                  <a:lnTo>
                    <a:pt x="614" y="346"/>
                  </a:lnTo>
                  <a:lnTo>
                    <a:pt x="619" y="343"/>
                  </a:lnTo>
                  <a:lnTo>
                    <a:pt x="624" y="340"/>
                  </a:lnTo>
                  <a:lnTo>
                    <a:pt x="630" y="337"/>
                  </a:lnTo>
                  <a:lnTo>
                    <a:pt x="635" y="334"/>
                  </a:lnTo>
                  <a:lnTo>
                    <a:pt x="640" y="331"/>
                  </a:lnTo>
                  <a:lnTo>
                    <a:pt x="645" y="327"/>
                  </a:lnTo>
                  <a:lnTo>
                    <a:pt x="651" y="324"/>
                  </a:lnTo>
                  <a:lnTo>
                    <a:pt x="656" y="321"/>
                  </a:lnTo>
                  <a:lnTo>
                    <a:pt x="661" y="317"/>
                  </a:lnTo>
                  <a:lnTo>
                    <a:pt x="666" y="314"/>
                  </a:lnTo>
                  <a:lnTo>
                    <a:pt x="672" y="311"/>
                  </a:lnTo>
                  <a:lnTo>
                    <a:pt x="677" y="307"/>
                  </a:lnTo>
                  <a:lnTo>
                    <a:pt x="682" y="304"/>
                  </a:lnTo>
                  <a:lnTo>
                    <a:pt x="687" y="301"/>
                  </a:lnTo>
                  <a:lnTo>
                    <a:pt x="693" y="298"/>
                  </a:lnTo>
                  <a:lnTo>
                    <a:pt x="698" y="294"/>
                  </a:lnTo>
                  <a:lnTo>
                    <a:pt x="703" y="291"/>
                  </a:lnTo>
                  <a:lnTo>
                    <a:pt x="708" y="288"/>
                  </a:lnTo>
                  <a:lnTo>
                    <a:pt x="714" y="285"/>
                  </a:lnTo>
                  <a:lnTo>
                    <a:pt x="719" y="281"/>
                  </a:lnTo>
                  <a:lnTo>
                    <a:pt x="724" y="278"/>
                  </a:lnTo>
                  <a:lnTo>
                    <a:pt x="729" y="275"/>
                  </a:lnTo>
                  <a:lnTo>
                    <a:pt x="735" y="272"/>
                  </a:lnTo>
                  <a:lnTo>
                    <a:pt x="740" y="269"/>
                  </a:lnTo>
                  <a:lnTo>
                    <a:pt x="745" y="266"/>
                  </a:lnTo>
                  <a:lnTo>
                    <a:pt x="750" y="263"/>
                  </a:lnTo>
                  <a:lnTo>
                    <a:pt x="756" y="260"/>
                  </a:lnTo>
                  <a:lnTo>
                    <a:pt x="761" y="257"/>
                  </a:lnTo>
                  <a:lnTo>
                    <a:pt x="766" y="254"/>
                  </a:lnTo>
                  <a:lnTo>
                    <a:pt x="771" y="251"/>
                  </a:lnTo>
                  <a:lnTo>
                    <a:pt x="777" y="248"/>
                  </a:lnTo>
                  <a:lnTo>
                    <a:pt x="782" y="245"/>
                  </a:lnTo>
                  <a:lnTo>
                    <a:pt x="787" y="242"/>
                  </a:lnTo>
                  <a:lnTo>
                    <a:pt x="792" y="240"/>
                  </a:lnTo>
                  <a:lnTo>
                    <a:pt x="798" y="237"/>
                  </a:lnTo>
                  <a:lnTo>
                    <a:pt x="803" y="234"/>
                  </a:lnTo>
                  <a:lnTo>
                    <a:pt x="808" y="232"/>
                  </a:lnTo>
                  <a:lnTo>
                    <a:pt x="813" y="229"/>
                  </a:lnTo>
                  <a:lnTo>
                    <a:pt x="819" y="226"/>
                  </a:lnTo>
                  <a:lnTo>
                    <a:pt x="824" y="224"/>
                  </a:lnTo>
                  <a:lnTo>
                    <a:pt x="829" y="221"/>
                  </a:lnTo>
                  <a:lnTo>
                    <a:pt x="834" y="219"/>
                  </a:lnTo>
                  <a:lnTo>
                    <a:pt x="840" y="343"/>
                  </a:lnTo>
                  <a:lnTo>
                    <a:pt x="845" y="340"/>
                  </a:lnTo>
                  <a:lnTo>
                    <a:pt x="850" y="338"/>
                  </a:lnTo>
                  <a:lnTo>
                    <a:pt x="855" y="335"/>
                  </a:lnTo>
                  <a:lnTo>
                    <a:pt x="861" y="333"/>
                  </a:lnTo>
                  <a:lnTo>
                    <a:pt x="866" y="330"/>
                  </a:lnTo>
                  <a:lnTo>
                    <a:pt x="871" y="328"/>
                  </a:lnTo>
                  <a:lnTo>
                    <a:pt x="876" y="325"/>
                  </a:lnTo>
                  <a:lnTo>
                    <a:pt x="882" y="323"/>
                  </a:lnTo>
                  <a:lnTo>
                    <a:pt x="887" y="320"/>
                  </a:lnTo>
                  <a:lnTo>
                    <a:pt x="892" y="318"/>
                  </a:lnTo>
                  <a:lnTo>
                    <a:pt x="897" y="316"/>
                  </a:lnTo>
                  <a:lnTo>
                    <a:pt x="903" y="314"/>
                  </a:lnTo>
                  <a:lnTo>
                    <a:pt x="908" y="311"/>
                  </a:lnTo>
                  <a:lnTo>
                    <a:pt x="913" y="309"/>
                  </a:lnTo>
                  <a:lnTo>
                    <a:pt x="918" y="307"/>
                  </a:lnTo>
                  <a:lnTo>
                    <a:pt x="924" y="305"/>
                  </a:lnTo>
                  <a:lnTo>
                    <a:pt x="929" y="303"/>
                  </a:lnTo>
                  <a:lnTo>
                    <a:pt x="934" y="301"/>
                  </a:lnTo>
                  <a:lnTo>
                    <a:pt x="939" y="299"/>
                  </a:lnTo>
                  <a:lnTo>
                    <a:pt x="945" y="297"/>
                  </a:lnTo>
                  <a:lnTo>
                    <a:pt x="950" y="295"/>
                  </a:lnTo>
                  <a:lnTo>
                    <a:pt x="955" y="293"/>
                  </a:lnTo>
                  <a:lnTo>
                    <a:pt x="960" y="291"/>
                  </a:lnTo>
                  <a:lnTo>
                    <a:pt x="966" y="289"/>
                  </a:lnTo>
                  <a:lnTo>
                    <a:pt x="971" y="287"/>
                  </a:lnTo>
                  <a:lnTo>
                    <a:pt x="976" y="285"/>
                  </a:lnTo>
                  <a:lnTo>
                    <a:pt x="981" y="283"/>
                  </a:lnTo>
                  <a:lnTo>
                    <a:pt x="987" y="282"/>
                  </a:lnTo>
                  <a:lnTo>
                    <a:pt x="992" y="280"/>
                  </a:lnTo>
                  <a:lnTo>
                    <a:pt x="997" y="278"/>
                  </a:lnTo>
                  <a:lnTo>
                    <a:pt x="1002" y="276"/>
                  </a:lnTo>
                  <a:lnTo>
                    <a:pt x="1008" y="275"/>
                  </a:lnTo>
                  <a:lnTo>
                    <a:pt x="1013" y="273"/>
                  </a:lnTo>
                  <a:lnTo>
                    <a:pt x="1018" y="271"/>
                  </a:lnTo>
                  <a:lnTo>
                    <a:pt x="1023" y="270"/>
                  </a:lnTo>
                  <a:lnTo>
                    <a:pt x="1029" y="268"/>
                  </a:lnTo>
                  <a:lnTo>
                    <a:pt x="1034" y="266"/>
                  </a:lnTo>
                  <a:lnTo>
                    <a:pt x="1039" y="265"/>
                  </a:lnTo>
                  <a:lnTo>
                    <a:pt x="1044" y="263"/>
                  </a:lnTo>
                  <a:lnTo>
                    <a:pt x="1050" y="262"/>
                  </a:lnTo>
                  <a:lnTo>
                    <a:pt x="1055" y="260"/>
                  </a:lnTo>
                  <a:lnTo>
                    <a:pt x="1060" y="259"/>
                  </a:lnTo>
                  <a:lnTo>
                    <a:pt x="1065" y="257"/>
                  </a:lnTo>
                  <a:lnTo>
                    <a:pt x="1071" y="256"/>
                  </a:lnTo>
                  <a:lnTo>
                    <a:pt x="1076" y="255"/>
                  </a:lnTo>
                  <a:lnTo>
                    <a:pt x="1081" y="253"/>
                  </a:lnTo>
                  <a:lnTo>
                    <a:pt x="1086" y="252"/>
                  </a:lnTo>
                  <a:lnTo>
                    <a:pt x="1092" y="250"/>
                  </a:lnTo>
                  <a:lnTo>
                    <a:pt x="1097" y="249"/>
                  </a:lnTo>
                  <a:lnTo>
                    <a:pt x="1102" y="248"/>
                  </a:lnTo>
                  <a:lnTo>
                    <a:pt x="1107" y="247"/>
                  </a:lnTo>
                  <a:lnTo>
                    <a:pt x="1113" y="245"/>
                  </a:lnTo>
                  <a:lnTo>
                    <a:pt x="1118" y="244"/>
                  </a:lnTo>
                  <a:lnTo>
                    <a:pt x="1123" y="243"/>
                  </a:lnTo>
                  <a:lnTo>
                    <a:pt x="1128" y="241"/>
                  </a:lnTo>
                  <a:lnTo>
                    <a:pt x="1134" y="240"/>
                  </a:lnTo>
                  <a:lnTo>
                    <a:pt x="1139" y="239"/>
                  </a:lnTo>
                  <a:lnTo>
                    <a:pt x="1144" y="238"/>
                  </a:lnTo>
                  <a:lnTo>
                    <a:pt x="1149" y="237"/>
                  </a:lnTo>
                  <a:lnTo>
                    <a:pt x="1155" y="236"/>
                  </a:lnTo>
                  <a:lnTo>
                    <a:pt x="1160" y="234"/>
                  </a:lnTo>
                  <a:lnTo>
                    <a:pt x="1165" y="233"/>
                  </a:lnTo>
                  <a:lnTo>
                    <a:pt x="1170" y="232"/>
                  </a:lnTo>
                  <a:lnTo>
                    <a:pt x="1176" y="231"/>
                  </a:lnTo>
                  <a:lnTo>
                    <a:pt x="1181" y="230"/>
                  </a:lnTo>
                  <a:lnTo>
                    <a:pt x="1186" y="229"/>
                  </a:lnTo>
                  <a:lnTo>
                    <a:pt x="1191" y="228"/>
                  </a:lnTo>
                  <a:lnTo>
                    <a:pt x="1197" y="227"/>
                  </a:lnTo>
                  <a:lnTo>
                    <a:pt x="1202" y="226"/>
                  </a:lnTo>
                  <a:lnTo>
                    <a:pt x="1207" y="225"/>
                  </a:lnTo>
                  <a:lnTo>
                    <a:pt x="1212" y="224"/>
                  </a:lnTo>
                  <a:lnTo>
                    <a:pt x="1218" y="223"/>
                  </a:lnTo>
                  <a:lnTo>
                    <a:pt x="1223" y="222"/>
                  </a:lnTo>
                  <a:lnTo>
                    <a:pt x="1228" y="221"/>
                  </a:lnTo>
                  <a:lnTo>
                    <a:pt x="1233" y="220"/>
                  </a:lnTo>
                  <a:lnTo>
                    <a:pt x="1239" y="219"/>
                  </a:lnTo>
                  <a:lnTo>
                    <a:pt x="1244" y="218"/>
                  </a:lnTo>
                  <a:lnTo>
                    <a:pt x="1249" y="217"/>
                  </a:lnTo>
                  <a:lnTo>
                    <a:pt x="1254" y="216"/>
                  </a:lnTo>
                  <a:lnTo>
                    <a:pt x="1260" y="215"/>
                  </a:lnTo>
                  <a:lnTo>
                    <a:pt x="1265" y="214"/>
                  </a:lnTo>
                  <a:lnTo>
                    <a:pt x="1270" y="214"/>
                  </a:lnTo>
                  <a:lnTo>
                    <a:pt x="1275" y="213"/>
                  </a:lnTo>
                  <a:lnTo>
                    <a:pt x="1281" y="212"/>
                  </a:lnTo>
                  <a:lnTo>
                    <a:pt x="1286" y="211"/>
                  </a:lnTo>
                  <a:lnTo>
                    <a:pt x="1291" y="210"/>
                  </a:lnTo>
                  <a:lnTo>
                    <a:pt x="1296" y="209"/>
                  </a:lnTo>
                  <a:lnTo>
                    <a:pt x="1302" y="209"/>
                  </a:lnTo>
                  <a:lnTo>
                    <a:pt x="1307" y="208"/>
                  </a:lnTo>
                  <a:lnTo>
                    <a:pt x="1312" y="207"/>
                  </a:lnTo>
                  <a:lnTo>
                    <a:pt x="1317" y="206"/>
                  </a:lnTo>
                  <a:lnTo>
                    <a:pt x="1323" y="205"/>
                  </a:lnTo>
                  <a:lnTo>
                    <a:pt x="1328" y="205"/>
                  </a:lnTo>
                  <a:lnTo>
                    <a:pt x="1333" y="204"/>
                  </a:lnTo>
                  <a:lnTo>
                    <a:pt x="1338" y="203"/>
                  </a:lnTo>
                  <a:lnTo>
                    <a:pt x="1344" y="202"/>
                  </a:lnTo>
                  <a:lnTo>
                    <a:pt x="1349" y="202"/>
                  </a:lnTo>
                  <a:lnTo>
                    <a:pt x="1354" y="201"/>
                  </a:lnTo>
                  <a:lnTo>
                    <a:pt x="1359" y="200"/>
                  </a:lnTo>
                  <a:lnTo>
                    <a:pt x="1365" y="199"/>
                  </a:lnTo>
                  <a:lnTo>
                    <a:pt x="1370" y="199"/>
                  </a:lnTo>
                  <a:lnTo>
                    <a:pt x="1375" y="198"/>
                  </a:lnTo>
                  <a:lnTo>
                    <a:pt x="1380" y="197"/>
                  </a:lnTo>
                  <a:lnTo>
                    <a:pt x="1386" y="197"/>
                  </a:lnTo>
                  <a:lnTo>
                    <a:pt x="1391" y="196"/>
                  </a:lnTo>
                  <a:lnTo>
                    <a:pt x="1396" y="195"/>
                  </a:lnTo>
                  <a:lnTo>
                    <a:pt x="1401" y="195"/>
                  </a:lnTo>
                  <a:lnTo>
                    <a:pt x="1407" y="194"/>
                  </a:lnTo>
                  <a:lnTo>
                    <a:pt x="1412" y="193"/>
                  </a:lnTo>
                  <a:lnTo>
                    <a:pt x="1417" y="193"/>
                  </a:lnTo>
                  <a:lnTo>
                    <a:pt x="1422" y="192"/>
                  </a:lnTo>
                  <a:lnTo>
                    <a:pt x="1428" y="192"/>
                  </a:lnTo>
                  <a:lnTo>
                    <a:pt x="1433" y="191"/>
                  </a:lnTo>
                  <a:lnTo>
                    <a:pt x="1438" y="190"/>
                  </a:lnTo>
                  <a:lnTo>
                    <a:pt x="1443" y="190"/>
                  </a:lnTo>
                  <a:lnTo>
                    <a:pt x="1449" y="189"/>
                  </a:lnTo>
                  <a:lnTo>
                    <a:pt x="1454" y="188"/>
                  </a:lnTo>
                  <a:lnTo>
                    <a:pt x="1459" y="188"/>
                  </a:lnTo>
                  <a:lnTo>
                    <a:pt x="1464" y="187"/>
                  </a:lnTo>
                  <a:lnTo>
                    <a:pt x="1470" y="187"/>
                  </a:lnTo>
                  <a:lnTo>
                    <a:pt x="1475" y="186"/>
                  </a:lnTo>
                  <a:lnTo>
                    <a:pt x="1480" y="186"/>
                  </a:lnTo>
                  <a:lnTo>
                    <a:pt x="1485" y="185"/>
                  </a:lnTo>
                  <a:lnTo>
                    <a:pt x="1491" y="185"/>
                  </a:lnTo>
                  <a:lnTo>
                    <a:pt x="1496" y="184"/>
                  </a:lnTo>
                  <a:lnTo>
                    <a:pt x="1501" y="183"/>
                  </a:lnTo>
                  <a:lnTo>
                    <a:pt x="1506" y="183"/>
                  </a:lnTo>
                  <a:lnTo>
                    <a:pt x="1512" y="182"/>
                  </a:lnTo>
                  <a:lnTo>
                    <a:pt x="1517" y="182"/>
                  </a:lnTo>
                  <a:lnTo>
                    <a:pt x="1522" y="181"/>
                  </a:lnTo>
                  <a:lnTo>
                    <a:pt x="1527" y="181"/>
                  </a:lnTo>
                  <a:lnTo>
                    <a:pt x="1533" y="180"/>
                  </a:lnTo>
                  <a:lnTo>
                    <a:pt x="1538" y="180"/>
                  </a:lnTo>
                  <a:lnTo>
                    <a:pt x="1543" y="179"/>
                  </a:lnTo>
                  <a:lnTo>
                    <a:pt x="1548" y="179"/>
                  </a:lnTo>
                  <a:lnTo>
                    <a:pt x="1554" y="178"/>
                  </a:lnTo>
                  <a:lnTo>
                    <a:pt x="1559" y="178"/>
                  </a:lnTo>
                  <a:lnTo>
                    <a:pt x="1564" y="177"/>
                  </a:lnTo>
                  <a:lnTo>
                    <a:pt x="1569" y="177"/>
                  </a:lnTo>
                  <a:lnTo>
                    <a:pt x="1575" y="17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6418080" y="3549240"/>
              <a:ext cx="2023920" cy="610920"/>
            </a:xfrm>
            <a:custGeom>
              <a:avLst/>
              <a:gdLst/>
              <a:ahLst/>
              <a:rect l="l" t="t" r="r" b="b"/>
              <a:pathLst>
                <a:path w="1575" h="473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6" y="2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42" y="5"/>
                  </a:lnTo>
                  <a:lnTo>
                    <a:pt x="47" y="6"/>
                  </a:lnTo>
                  <a:lnTo>
                    <a:pt x="52" y="8"/>
                  </a:lnTo>
                  <a:lnTo>
                    <a:pt x="57" y="9"/>
                  </a:lnTo>
                  <a:lnTo>
                    <a:pt x="63" y="11"/>
                  </a:lnTo>
                  <a:lnTo>
                    <a:pt x="68" y="13"/>
                  </a:lnTo>
                  <a:lnTo>
                    <a:pt x="73" y="15"/>
                  </a:lnTo>
                  <a:lnTo>
                    <a:pt x="78" y="17"/>
                  </a:lnTo>
                  <a:lnTo>
                    <a:pt x="84" y="20"/>
                  </a:lnTo>
                  <a:lnTo>
                    <a:pt x="89" y="22"/>
                  </a:lnTo>
                  <a:lnTo>
                    <a:pt x="94" y="25"/>
                  </a:lnTo>
                  <a:lnTo>
                    <a:pt x="99" y="28"/>
                  </a:lnTo>
                  <a:lnTo>
                    <a:pt x="105" y="31"/>
                  </a:lnTo>
                  <a:lnTo>
                    <a:pt x="110" y="34"/>
                  </a:lnTo>
                  <a:lnTo>
                    <a:pt x="115" y="37"/>
                  </a:lnTo>
                  <a:lnTo>
                    <a:pt x="120" y="40"/>
                  </a:lnTo>
                  <a:lnTo>
                    <a:pt x="126" y="44"/>
                  </a:lnTo>
                  <a:lnTo>
                    <a:pt x="131" y="47"/>
                  </a:lnTo>
                  <a:lnTo>
                    <a:pt x="136" y="51"/>
                  </a:lnTo>
                  <a:lnTo>
                    <a:pt x="141" y="55"/>
                  </a:lnTo>
                  <a:lnTo>
                    <a:pt x="147" y="59"/>
                  </a:lnTo>
                  <a:lnTo>
                    <a:pt x="152" y="63"/>
                  </a:lnTo>
                  <a:lnTo>
                    <a:pt x="157" y="68"/>
                  </a:lnTo>
                  <a:lnTo>
                    <a:pt x="162" y="72"/>
                  </a:lnTo>
                  <a:lnTo>
                    <a:pt x="168" y="77"/>
                  </a:lnTo>
                  <a:lnTo>
                    <a:pt x="173" y="82"/>
                  </a:lnTo>
                  <a:lnTo>
                    <a:pt x="178" y="87"/>
                  </a:lnTo>
                  <a:lnTo>
                    <a:pt x="183" y="92"/>
                  </a:lnTo>
                  <a:lnTo>
                    <a:pt x="189" y="97"/>
                  </a:lnTo>
                  <a:lnTo>
                    <a:pt x="194" y="102"/>
                  </a:lnTo>
                  <a:lnTo>
                    <a:pt x="199" y="108"/>
                  </a:lnTo>
                  <a:lnTo>
                    <a:pt x="204" y="114"/>
                  </a:lnTo>
                  <a:lnTo>
                    <a:pt x="210" y="119"/>
                  </a:lnTo>
                  <a:lnTo>
                    <a:pt x="215" y="125"/>
                  </a:lnTo>
                  <a:lnTo>
                    <a:pt x="220" y="131"/>
                  </a:lnTo>
                  <a:lnTo>
                    <a:pt x="225" y="138"/>
                  </a:lnTo>
                  <a:lnTo>
                    <a:pt x="231" y="144"/>
                  </a:lnTo>
                  <a:lnTo>
                    <a:pt x="236" y="151"/>
                  </a:lnTo>
                  <a:lnTo>
                    <a:pt x="241" y="157"/>
                  </a:lnTo>
                  <a:lnTo>
                    <a:pt x="246" y="164"/>
                  </a:lnTo>
                  <a:lnTo>
                    <a:pt x="252" y="171"/>
                  </a:lnTo>
                  <a:lnTo>
                    <a:pt x="257" y="178"/>
                  </a:lnTo>
                  <a:lnTo>
                    <a:pt x="262" y="185"/>
                  </a:lnTo>
                  <a:lnTo>
                    <a:pt x="267" y="192"/>
                  </a:lnTo>
                  <a:lnTo>
                    <a:pt x="273" y="200"/>
                  </a:lnTo>
                  <a:lnTo>
                    <a:pt x="278" y="207"/>
                  </a:lnTo>
                  <a:lnTo>
                    <a:pt x="283" y="215"/>
                  </a:lnTo>
                  <a:lnTo>
                    <a:pt x="288" y="223"/>
                  </a:lnTo>
                  <a:lnTo>
                    <a:pt x="294" y="230"/>
                  </a:lnTo>
                  <a:lnTo>
                    <a:pt x="299" y="238"/>
                  </a:lnTo>
                  <a:lnTo>
                    <a:pt x="304" y="246"/>
                  </a:lnTo>
                  <a:lnTo>
                    <a:pt x="309" y="254"/>
                  </a:lnTo>
                  <a:lnTo>
                    <a:pt x="315" y="262"/>
                  </a:lnTo>
                  <a:lnTo>
                    <a:pt x="320" y="270"/>
                  </a:lnTo>
                  <a:lnTo>
                    <a:pt x="325" y="279"/>
                  </a:lnTo>
                  <a:lnTo>
                    <a:pt x="330" y="287"/>
                  </a:lnTo>
                  <a:lnTo>
                    <a:pt x="336" y="295"/>
                  </a:lnTo>
                  <a:lnTo>
                    <a:pt x="341" y="303"/>
                  </a:lnTo>
                  <a:lnTo>
                    <a:pt x="346" y="312"/>
                  </a:lnTo>
                  <a:lnTo>
                    <a:pt x="351" y="320"/>
                  </a:lnTo>
                  <a:lnTo>
                    <a:pt x="357" y="328"/>
                  </a:lnTo>
                  <a:lnTo>
                    <a:pt x="362" y="336"/>
                  </a:lnTo>
                  <a:lnTo>
                    <a:pt x="367" y="344"/>
                  </a:lnTo>
                  <a:lnTo>
                    <a:pt x="372" y="352"/>
                  </a:lnTo>
                  <a:lnTo>
                    <a:pt x="378" y="360"/>
                  </a:lnTo>
                  <a:lnTo>
                    <a:pt x="383" y="367"/>
                  </a:lnTo>
                  <a:lnTo>
                    <a:pt x="388" y="375"/>
                  </a:lnTo>
                  <a:lnTo>
                    <a:pt x="393" y="382"/>
                  </a:lnTo>
                  <a:lnTo>
                    <a:pt x="399" y="390"/>
                  </a:lnTo>
                  <a:lnTo>
                    <a:pt x="404" y="397"/>
                  </a:lnTo>
                  <a:lnTo>
                    <a:pt x="409" y="403"/>
                  </a:lnTo>
                  <a:lnTo>
                    <a:pt x="414" y="410"/>
                  </a:lnTo>
                  <a:lnTo>
                    <a:pt x="420" y="416"/>
                  </a:lnTo>
                  <a:lnTo>
                    <a:pt x="425" y="422"/>
                  </a:lnTo>
                  <a:lnTo>
                    <a:pt x="430" y="428"/>
                  </a:lnTo>
                  <a:lnTo>
                    <a:pt x="435" y="433"/>
                  </a:lnTo>
                  <a:lnTo>
                    <a:pt x="441" y="439"/>
                  </a:lnTo>
                  <a:lnTo>
                    <a:pt x="446" y="443"/>
                  </a:lnTo>
                  <a:lnTo>
                    <a:pt x="451" y="448"/>
                  </a:lnTo>
                  <a:lnTo>
                    <a:pt x="456" y="452"/>
                  </a:lnTo>
                  <a:lnTo>
                    <a:pt x="462" y="456"/>
                  </a:lnTo>
                  <a:lnTo>
                    <a:pt x="467" y="459"/>
                  </a:lnTo>
                  <a:lnTo>
                    <a:pt x="472" y="462"/>
                  </a:lnTo>
                  <a:lnTo>
                    <a:pt x="477" y="465"/>
                  </a:lnTo>
                  <a:lnTo>
                    <a:pt x="483" y="467"/>
                  </a:lnTo>
                  <a:lnTo>
                    <a:pt x="488" y="469"/>
                  </a:lnTo>
                  <a:lnTo>
                    <a:pt x="493" y="471"/>
                  </a:lnTo>
                  <a:lnTo>
                    <a:pt x="498" y="472"/>
                  </a:lnTo>
                  <a:lnTo>
                    <a:pt x="504" y="473"/>
                  </a:lnTo>
                  <a:lnTo>
                    <a:pt x="509" y="473"/>
                  </a:lnTo>
                  <a:lnTo>
                    <a:pt x="514" y="473"/>
                  </a:lnTo>
                  <a:lnTo>
                    <a:pt x="519" y="473"/>
                  </a:lnTo>
                  <a:lnTo>
                    <a:pt x="525" y="473"/>
                  </a:lnTo>
                  <a:lnTo>
                    <a:pt x="530" y="472"/>
                  </a:lnTo>
                  <a:lnTo>
                    <a:pt x="535" y="471"/>
                  </a:lnTo>
                  <a:lnTo>
                    <a:pt x="540" y="469"/>
                  </a:lnTo>
                  <a:lnTo>
                    <a:pt x="546" y="467"/>
                  </a:lnTo>
                  <a:lnTo>
                    <a:pt x="551" y="465"/>
                  </a:lnTo>
                  <a:lnTo>
                    <a:pt x="556" y="463"/>
                  </a:lnTo>
                  <a:lnTo>
                    <a:pt x="561" y="461"/>
                  </a:lnTo>
                  <a:lnTo>
                    <a:pt x="567" y="458"/>
                  </a:lnTo>
                  <a:lnTo>
                    <a:pt x="572" y="455"/>
                  </a:lnTo>
                  <a:lnTo>
                    <a:pt x="577" y="452"/>
                  </a:lnTo>
                  <a:lnTo>
                    <a:pt x="582" y="449"/>
                  </a:lnTo>
                  <a:lnTo>
                    <a:pt x="588" y="446"/>
                  </a:lnTo>
                  <a:lnTo>
                    <a:pt x="593" y="442"/>
                  </a:lnTo>
                  <a:lnTo>
                    <a:pt x="598" y="439"/>
                  </a:lnTo>
                  <a:lnTo>
                    <a:pt x="603" y="435"/>
                  </a:lnTo>
                  <a:lnTo>
                    <a:pt x="609" y="431"/>
                  </a:lnTo>
                  <a:lnTo>
                    <a:pt x="614" y="427"/>
                  </a:lnTo>
                  <a:lnTo>
                    <a:pt x="619" y="423"/>
                  </a:lnTo>
                  <a:lnTo>
                    <a:pt x="624" y="419"/>
                  </a:lnTo>
                  <a:lnTo>
                    <a:pt x="630" y="415"/>
                  </a:lnTo>
                  <a:lnTo>
                    <a:pt x="635" y="411"/>
                  </a:lnTo>
                  <a:lnTo>
                    <a:pt x="640" y="407"/>
                  </a:lnTo>
                  <a:lnTo>
                    <a:pt x="645" y="403"/>
                  </a:lnTo>
                  <a:lnTo>
                    <a:pt x="651" y="398"/>
                  </a:lnTo>
                  <a:lnTo>
                    <a:pt x="656" y="394"/>
                  </a:lnTo>
                  <a:lnTo>
                    <a:pt x="661" y="390"/>
                  </a:lnTo>
                  <a:lnTo>
                    <a:pt x="666" y="386"/>
                  </a:lnTo>
                  <a:lnTo>
                    <a:pt x="672" y="381"/>
                  </a:lnTo>
                  <a:lnTo>
                    <a:pt x="677" y="377"/>
                  </a:lnTo>
                  <a:lnTo>
                    <a:pt x="682" y="373"/>
                  </a:lnTo>
                  <a:lnTo>
                    <a:pt x="687" y="368"/>
                  </a:lnTo>
                  <a:lnTo>
                    <a:pt x="693" y="364"/>
                  </a:lnTo>
                  <a:lnTo>
                    <a:pt x="698" y="360"/>
                  </a:lnTo>
                  <a:lnTo>
                    <a:pt x="703" y="356"/>
                  </a:lnTo>
                  <a:lnTo>
                    <a:pt x="708" y="352"/>
                  </a:lnTo>
                  <a:lnTo>
                    <a:pt x="714" y="348"/>
                  </a:lnTo>
                  <a:lnTo>
                    <a:pt x="719" y="343"/>
                  </a:lnTo>
                  <a:lnTo>
                    <a:pt x="724" y="339"/>
                  </a:lnTo>
                  <a:lnTo>
                    <a:pt x="729" y="335"/>
                  </a:lnTo>
                  <a:lnTo>
                    <a:pt x="735" y="331"/>
                  </a:lnTo>
                  <a:lnTo>
                    <a:pt x="740" y="327"/>
                  </a:lnTo>
                  <a:lnTo>
                    <a:pt x="745" y="324"/>
                  </a:lnTo>
                  <a:lnTo>
                    <a:pt x="750" y="320"/>
                  </a:lnTo>
                  <a:lnTo>
                    <a:pt x="756" y="316"/>
                  </a:lnTo>
                  <a:lnTo>
                    <a:pt x="761" y="312"/>
                  </a:lnTo>
                  <a:lnTo>
                    <a:pt x="766" y="308"/>
                  </a:lnTo>
                  <a:lnTo>
                    <a:pt x="771" y="305"/>
                  </a:lnTo>
                  <a:lnTo>
                    <a:pt x="777" y="301"/>
                  </a:lnTo>
                  <a:lnTo>
                    <a:pt x="782" y="298"/>
                  </a:lnTo>
                  <a:lnTo>
                    <a:pt x="787" y="294"/>
                  </a:lnTo>
                  <a:lnTo>
                    <a:pt x="792" y="291"/>
                  </a:lnTo>
                  <a:lnTo>
                    <a:pt x="798" y="287"/>
                  </a:lnTo>
                  <a:lnTo>
                    <a:pt x="803" y="284"/>
                  </a:lnTo>
                  <a:lnTo>
                    <a:pt x="808" y="280"/>
                  </a:lnTo>
                  <a:lnTo>
                    <a:pt x="813" y="277"/>
                  </a:lnTo>
                  <a:lnTo>
                    <a:pt x="819" y="274"/>
                  </a:lnTo>
                  <a:lnTo>
                    <a:pt x="824" y="271"/>
                  </a:lnTo>
                  <a:lnTo>
                    <a:pt x="829" y="268"/>
                  </a:lnTo>
                  <a:lnTo>
                    <a:pt x="834" y="264"/>
                  </a:lnTo>
                  <a:lnTo>
                    <a:pt x="840" y="261"/>
                  </a:lnTo>
                  <a:lnTo>
                    <a:pt x="845" y="258"/>
                  </a:lnTo>
                  <a:lnTo>
                    <a:pt x="850" y="255"/>
                  </a:lnTo>
                  <a:lnTo>
                    <a:pt x="855" y="252"/>
                  </a:lnTo>
                  <a:lnTo>
                    <a:pt x="861" y="250"/>
                  </a:lnTo>
                  <a:lnTo>
                    <a:pt x="866" y="247"/>
                  </a:lnTo>
                  <a:lnTo>
                    <a:pt x="871" y="244"/>
                  </a:lnTo>
                  <a:lnTo>
                    <a:pt x="876" y="241"/>
                  </a:lnTo>
                  <a:lnTo>
                    <a:pt x="882" y="238"/>
                  </a:lnTo>
                  <a:lnTo>
                    <a:pt x="887" y="236"/>
                  </a:lnTo>
                  <a:lnTo>
                    <a:pt x="892" y="233"/>
                  </a:lnTo>
                  <a:lnTo>
                    <a:pt x="897" y="231"/>
                  </a:lnTo>
                  <a:lnTo>
                    <a:pt x="903" y="228"/>
                  </a:lnTo>
                  <a:lnTo>
                    <a:pt x="908" y="225"/>
                  </a:lnTo>
                  <a:lnTo>
                    <a:pt x="913" y="223"/>
                  </a:lnTo>
                  <a:lnTo>
                    <a:pt x="918" y="348"/>
                  </a:lnTo>
                  <a:lnTo>
                    <a:pt x="924" y="345"/>
                  </a:lnTo>
                  <a:lnTo>
                    <a:pt x="929" y="342"/>
                  </a:lnTo>
                  <a:lnTo>
                    <a:pt x="934" y="340"/>
                  </a:lnTo>
                  <a:lnTo>
                    <a:pt x="939" y="337"/>
                  </a:lnTo>
                  <a:lnTo>
                    <a:pt x="945" y="335"/>
                  </a:lnTo>
                  <a:lnTo>
                    <a:pt x="950" y="332"/>
                  </a:lnTo>
                  <a:lnTo>
                    <a:pt x="955" y="330"/>
                  </a:lnTo>
                  <a:lnTo>
                    <a:pt x="960" y="328"/>
                  </a:lnTo>
                  <a:lnTo>
                    <a:pt x="966" y="325"/>
                  </a:lnTo>
                  <a:lnTo>
                    <a:pt x="971" y="323"/>
                  </a:lnTo>
                  <a:lnTo>
                    <a:pt x="976" y="321"/>
                  </a:lnTo>
                  <a:lnTo>
                    <a:pt x="981" y="318"/>
                  </a:lnTo>
                  <a:lnTo>
                    <a:pt x="987" y="316"/>
                  </a:lnTo>
                  <a:lnTo>
                    <a:pt x="992" y="314"/>
                  </a:lnTo>
                  <a:lnTo>
                    <a:pt x="997" y="312"/>
                  </a:lnTo>
                  <a:lnTo>
                    <a:pt x="1002" y="310"/>
                  </a:lnTo>
                  <a:lnTo>
                    <a:pt x="1008" y="308"/>
                  </a:lnTo>
                  <a:lnTo>
                    <a:pt x="1013" y="306"/>
                  </a:lnTo>
                  <a:lnTo>
                    <a:pt x="1018" y="304"/>
                  </a:lnTo>
                  <a:lnTo>
                    <a:pt x="1023" y="302"/>
                  </a:lnTo>
                  <a:lnTo>
                    <a:pt x="1029" y="300"/>
                  </a:lnTo>
                  <a:lnTo>
                    <a:pt x="1034" y="298"/>
                  </a:lnTo>
                  <a:lnTo>
                    <a:pt x="1039" y="296"/>
                  </a:lnTo>
                  <a:lnTo>
                    <a:pt x="1044" y="294"/>
                  </a:lnTo>
                  <a:lnTo>
                    <a:pt x="1050" y="292"/>
                  </a:lnTo>
                  <a:lnTo>
                    <a:pt x="1055" y="290"/>
                  </a:lnTo>
                  <a:lnTo>
                    <a:pt x="1060" y="289"/>
                  </a:lnTo>
                  <a:lnTo>
                    <a:pt x="1065" y="287"/>
                  </a:lnTo>
                  <a:lnTo>
                    <a:pt x="1071" y="285"/>
                  </a:lnTo>
                  <a:lnTo>
                    <a:pt x="1076" y="283"/>
                  </a:lnTo>
                  <a:lnTo>
                    <a:pt x="1081" y="282"/>
                  </a:lnTo>
                  <a:lnTo>
                    <a:pt x="1086" y="280"/>
                  </a:lnTo>
                  <a:lnTo>
                    <a:pt x="1092" y="278"/>
                  </a:lnTo>
                  <a:lnTo>
                    <a:pt x="1097" y="277"/>
                  </a:lnTo>
                  <a:lnTo>
                    <a:pt x="1102" y="275"/>
                  </a:lnTo>
                  <a:lnTo>
                    <a:pt x="1107" y="273"/>
                  </a:lnTo>
                  <a:lnTo>
                    <a:pt x="1113" y="272"/>
                  </a:lnTo>
                  <a:lnTo>
                    <a:pt x="1118" y="270"/>
                  </a:lnTo>
                  <a:lnTo>
                    <a:pt x="1123" y="269"/>
                  </a:lnTo>
                  <a:lnTo>
                    <a:pt x="1128" y="267"/>
                  </a:lnTo>
                  <a:lnTo>
                    <a:pt x="1134" y="266"/>
                  </a:lnTo>
                  <a:lnTo>
                    <a:pt x="1139" y="264"/>
                  </a:lnTo>
                  <a:lnTo>
                    <a:pt x="1144" y="263"/>
                  </a:lnTo>
                  <a:lnTo>
                    <a:pt x="1149" y="262"/>
                  </a:lnTo>
                  <a:lnTo>
                    <a:pt x="1155" y="260"/>
                  </a:lnTo>
                  <a:lnTo>
                    <a:pt x="1160" y="259"/>
                  </a:lnTo>
                  <a:lnTo>
                    <a:pt x="1165" y="257"/>
                  </a:lnTo>
                  <a:lnTo>
                    <a:pt x="1170" y="256"/>
                  </a:lnTo>
                  <a:lnTo>
                    <a:pt x="1176" y="255"/>
                  </a:lnTo>
                  <a:lnTo>
                    <a:pt x="1181" y="253"/>
                  </a:lnTo>
                  <a:lnTo>
                    <a:pt x="1186" y="252"/>
                  </a:lnTo>
                  <a:lnTo>
                    <a:pt x="1191" y="251"/>
                  </a:lnTo>
                  <a:lnTo>
                    <a:pt x="1197" y="250"/>
                  </a:lnTo>
                  <a:lnTo>
                    <a:pt x="1202" y="248"/>
                  </a:lnTo>
                  <a:lnTo>
                    <a:pt x="1207" y="247"/>
                  </a:lnTo>
                  <a:lnTo>
                    <a:pt x="1212" y="246"/>
                  </a:lnTo>
                  <a:lnTo>
                    <a:pt x="1218" y="245"/>
                  </a:lnTo>
                  <a:lnTo>
                    <a:pt x="1223" y="244"/>
                  </a:lnTo>
                  <a:lnTo>
                    <a:pt x="1228" y="242"/>
                  </a:lnTo>
                  <a:lnTo>
                    <a:pt x="1233" y="241"/>
                  </a:lnTo>
                  <a:lnTo>
                    <a:pt x="1239" y="240"/>
                  </a:lnTo>
                  <a:lnTo>
                    <a:pt x="1244" y="239"/>
                  </a:lnTo>
                  <a:lnTo>
                    <a:pt x="1249" y="238"/>
                  </a:lnTo>
                  <a:lnTo>
                    <a:pt x="1254" y="237"/>
                  </a:lnTo>
                  <a:lnTo>
                    <a:pt x="1260" y="236"/>
                  </a:lnTo>
                  <a:lnTo>
                    <a:pt x="1265" y="235"/>
                  </a:lnTo>
                  <a:lnTo>
                    <a:pt x="1270" y="234"/>
                  </a:lnTo>
                  <a:lnTo>
                    <a:pt x="1275" y="233"/>
                  </a:lnTo>
                  <a:lnTo>
                    <a:pt x="1281" y="231"/>
                  </a:lnTo>
                  <a:lnTo>
                    <a:pt x="1286" y="230"/>
                  </a:lnTo>
                  <a:lnTo>
                    <a:pt x="1291" y="229"/>
                  </a:lnTo>
                  <a:lnTo>
                    <a:pt x="1296" y="228"/>
                  </a:lnTo>
                  <a:lnTo>
                    <a:pt x="1302" y="227"/>
                  </a:lnTo>
                  <a:lnTo>
                    <a:pt x="1307" y="227"/>
                  </a:lnTo>
                  <a:lnTo>
                    <a:pt x="1312" y="226"/>
                  </a:lnTo>
                  <a:lnTo>
                    <a:pt x="1317" y="225"/>
                  </a:lnTo>
                  <a:lnTo>
                    <a:pt x="1323" y="224"/>
                  </a:lnTo>
                  <a:lnTo>
                    <a:pt x="1328" y="223"/>
                  </a:lnTo>
                  <a:lnTo>
                    <a:pt x="1333" y="222"/>
                  </a:lnTo>
                  <a:lnTo>
                    <a:pt x="1338" y="221"/>
                  </a:lnTo>
                  <a:lnTo>
                    <a:pt x="1344" y="220"/>
                  </a:lnTo>
                  <a:lnTo>
                    <a:pt x="1349" y="219"/>
                  </a:lnTo>
                  <a:lnTo>
                    <a:pt x="1354" y="218"/>
                  </a:lnTo>
                  <a:lnTo>
                    <a:pt x="1359" y="217"/>
                  </a:lnTo>
                  <a:lnTo>
                    <a:pt x="1365" y="217"/>
                  </a:lnTo>
                  <a:lnTo>
                    <a:pt x="1370" y="216"/>
                  </a:lnTo>
                  <a:lnTo>
                    <a:pt x="1375" y="215"/>
                  </a:lnTo>
                  <a:lnTo>
                    <a:pt x="1380" y="214"/>
                  </a:lnTo>
                  <a:lnTo>
                    <a:pt x="1386" y="213"/>
                  </a:lnTo>
                  <a:lnTo>
                    <a:pt x="1391" y="212"/>
                  </a:lnTo>
                  <a:lnTo>
                    <a:pt x="1396" y="212"/>
                  </a:lnTo>
                  <a:lnTo>
                    <a:pt x="1401" y="211"/>
                  </a:lnTo>
                  <a:lnTo>
                    <a:pt x="1407" y="210"/>
                  </a:lnTo>
                  <a:lnTo>
                    <a:pt x="1412" y="209"/>
                  </a:lnTo>
                  <a:lnTo>
                    <a:pt x="1417" y="209"/>
                  </a:lnTo>
                  <a:lnTo>
                    <a:pt x="1422" y="208"/>
                  </a:lnTo>
                  <a:lnTo>
                    <a:pt x="1428" y="207"/>
                  </a:lnTo>
                  <a:lnTo>
                    <a:pt x="1433" y="206"/>
                  </a:lnTo>
                  <a:lnTo>
                    <a:pt x="1438" y="206"/>
                  </a:lnTo>
                  <a:lnTo>
                    <a:pt x="1443" y="205"/>
                  </a:lnTo>
                  <a:lnTo>
                    <a:pt x="1449" y="204"/>
                  </a:lnTo>
                  <a:lnTo>
                    <a:pt x="1454" y="204"/>
                  </a:lnTo>
                  <a:lnTo>
                    <a:pt x="1459" y="203"/>
                  </a:lnTo>
                  <a:lnTo>
                    <a:pt x="1464" y="202"/>
                  </a:lnTo>
                  <a:lnTo>
                    <a:pt x="1470" y="201"/>
                  </a:lnTo>
                  <a:lnTo>
                    <a:pt x="1475" y="201"/>
                  </a:lnTo>
                  <a:lnTo>
                    <a:pt x="1480" y="200"/>
                  </a:lnTo>
                  <a:lnTo>
                    <a:pt x="1485" y="199"/>
                  </a:lnTo>
                  <a:lnTo>
                    <a:pt x="1491" y="199"/>
                  </a:lnTo>
                  <a:lnTo>
                    <a:pt x="1496" y="198"/>
                  </a:lnTo>
                  <a:lnTo>
                    <a:pt x="1501" y="197"/>
                  </a:lnTo>
                  <a:lnTo>
                    <a:pt x="1506" y="197"/>
                  </a:lnTo>
                  <a:lnTo>
                    <a:pt x="1512" y="196"/>
                  </a:lnTo>
                  <a:lnTo>
                    <a:pt x="1517" y="196"/>
                  </a:lnTo>
                  <a:lnTo>
                    <a:pt x="1522" y="195"/>
                  </a:lnTo>
                  <a:lnTo>
                    <a:pt x="1527" y="194"/>
                  </a:lnTo>
                  <a:lnTo>
                    <a:pt x="1533" y="194"/>
                  </a:lnTo>
                  <a:lnTo>
                    <a:pt x="1538" y="193"/>
                  </a:lnTo>
                  <a:lnTo>
                    <a:pt x="1543" y="193"/>
                  </a:lnTo>
                  <a:lnTo>
                    <a:pt x="1548" y="192"/>
                  </a:lnTo>
                  <a:lnTo>
                    <a:pt x="1554" y="191"/>
                  </a:lnTo>
                  <a:lnTo>
                    <a:pt x="1559" y="191"/>
                  </a:lnTo>
                  <a:lnTo>
                    <a:pt x="1564" y="190"/>
                  </a:lnTo>
                  <a:lnTo>
                    <a:pt x="1569" y="190"/>
                  </a:lnTo>
                  <a:lnTo>
                    <a:pt x="1575" y="18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418080" y="3414960"/>
              <a:ext cx="2023920" cy="745920"/>
            </a:xfrm>
            <a:custGeom>
              <a:avLst/>
              <a:gdLst/>
              <a:ahLst/>
              <a:rect l="l" t="t" r="r" b="b"/>
              <a:pathLst>
                <a:path w="1575" h="578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6" y="3"/>
                  </a:lnTo>
                  <a:lnTo>
                    <a:pt x="31" y="4"/>
                  </a:lnTo>
                  <a:lnTo>
                    <a:pt x="36" y="5"/>
                  </a:lnTo>
                  <a:lnTo>
                    <a:pt x="42" y="6"/>
                  </a:lnTo>
                  <a:lnTo>
                    <a:pt x="47" y="7"/>
                  </a:lnTo>
                  <a:lnTo>
                    <a:pt x="52" y="9"/>
                  </a:lnTo>
                  <a:lnTo>
                    <a:pt x="57" y="11"/>
                  </a:lnTo>
                  <a:lnTo>
                    <a:pt x="63" y="13"/>
                  </a:lnTo>
                  <a:lnTo>
                    <a:pt x="68" y="15"/>
                  </a:lnTo>
                  <a:lnTo>
                    <a:pt x="73" y="17"/>
                  </a:lnTo>
                  <a:lnTo>
                    <a:pt x="78" y="20"/>
                  </a:lnTo>
                  <a:lnTo>
                    <a:pt x="84" y="22"/>
                  </a:lnTo>
                  <a:lnTo>
                    <a:pt x="89" y="25"/>
                  </a:lnTo>
                  <a:lnTo>
                    <a:pt x="94" y="28"/>
                  </a:lnTo>
                  <a:lnTo>
                    <a:pt x="99" y="32"/>
                  </a:lnTo>
                  <a:lnTo>
                    <a:pt x="105" y="35"/>
                  </a:lnTo>
                  <a:lnTo>
                    <a:pt x="110" y="39"/>
                  </a:lnTo>
                  <a:lnTo>
                    <a:pt x="115" y="42"/>
                  </a:lnTo>
                  <a:lnTo>
                    <a:pt x="120" y="46"/>
                  </a:lnTo>
                  <a:lnTo>
                    <a:pt x="126" y="50"/>
                  </a:lnTo>
                  <a:lnTo>
                    <a:pt x="131" y="54"/>
                  </a:lnTo>
                  <a:lnTo>
                    <a:pt x="136" y="59"/>
                  </a:lnTo>
                  <a:lnTo>
                    <a:pt x="141" y="63"/>
                  </a:lnTo>
                  <a:lnTo>
                    <a:pt x="147" y="68"/>
                  </a:lnTo>
                  <a:lnTo>
                    <a:pt x="152" y="73"/>
                  </a:lnTo>
                  <a:lnTo>
                    <a:pt x="157" y="78"/>
                  </a:lnTo>
                  <a:lnTo>
                    <a:pt x="162" y="83"/>
                  </a:lnTo>
                  <a:lnTo>
                    <a:pt x="168" y="89"/>
                  </a:lnTo>
                  <a:lnTo>
                    <a:pt x="173" y="94"/>
                  </a:lnTo>
                  <a:lnTo>
                    <a:pt x="178" y="100"/>
                  </a:lnTo>
                  <a:lnTo>
                    <a:pt x="183" y="106"/>
                  </a:lnTo>
                  <a:lnTo>
                    <a:pt x="189" y="112"/>
                  </a:lnTo>
                  <a:lnTo>
                    <a:pt x="194" y="119"/>
                  </a:lnTo>
                  <a:lnTo>
                    <a:pt x="199" y="125"/>
                  </a:lnTo>
                  <a:lnTo>
                    <a:pt x="204" y="132"/>
                  </a:lnTo>
                  <a:lnTo>
                    <a:pt x="210" y="139"/>
                  </a:lnTo>
                  <a:lnTo>
                    <a:pt x="215" y="146"/>
                  </a:lnTo>
                  <a:lnTo>
                    <a:pt x="220" y="153"/>
                  </a:lnTo>
                  <a:lnTo>
                    <a:pt x="225" y="160"/>
                  </a:lnTo>
                  <a:lnTo>
                    <a:pt x="231" y="168"/>
                  </a:lnTo>
                  <a:lnTo>
                    <a:pt x="236" y="176"/>
                  </a:lnTo>
                  <a:lnTo>
                    <a:pt x="241" y="183"/>
                  </a:lnTo>
                  <a:lnTo>
                    <a:pt x="246" y="192"/>
                  </a:lnTo>
                  <a:lnTo>
                    <a:pt x="252" y="200"/>
                  </a:lnTo>
                  <a:lnTo>
                    <a:pt x="257" y="208"/>
                  </a:lnTo>
                  <a:lnTo>
                    <a:pt x="262" y="217"/>
                  </a:lnTo>
                  <a:lnTo>
                    <a:pt x="267" y="226"/>
                  </a:lnTo>
                  <a:lnTo>
                    <a:pt x="273" y="235"/>
                  </a:lnTo>
                  <a:lnTo>
                    <a:pt x="278" y="244"/>
                  </a:lnTo>
                  <a:lnTo>
                    <a:pt x="283" y="253"/>
                  </a:lnTo>
                  <a:lnTo>
                    <a:pt x="288" y="262"/>
                  </a:lnTo>
                  <a:lnTo>
                    <a:pt x="294" y="272"/>
                  </a:lnTo>
                  <a:lnTo>
                    <a:pt x="299" y="281"/>
                  </a:lnTo>
                  <a:lnTo>
                    <a:pt x="304" y="291"/>
                  </a:lnTo>
                  <a:lnTo>
                    <a:pt x="309" y="301"/>
                  </a:lnTo>
                  <a:lnTo>
                    <a:pt x="315" y="311"/>
                  </a:lnTo>
                  <a:lnTo>
                    <a:pt x="320" y="321"/>
                  </a:lnTo>
                  <a:lnTo>
                    <a:pt x="325" y="331"/>
                  </a:lnTo>
                  <a:lnTo>
                    <a:pt x="330" y="341"/>
                  </a:lnTo>
                  <a:lnTo>
                    <a:pt x="336" y="351"/>
                  </a:lnTo>
                  <a:lnTo>
                    <a:pt x="341" y="361"/>
                  </a:lnTo>
                  <a:lnTo>
                    <a:pt x="346" y="372"/>
                  </a:lnTo>
                  <a:lnTo>
                    <a:pt x="351" y="382"/>
                  </a:lnTo>
                  <a:lnTo>
                    <a:pt x="357" y="392"/>
                  </a:lnTo>
                  <a:lnTo>
                    <a:pt x="362" y="402"/>
                  </a:lnTo>
                  <a:lnTo>
                    <a:pt x="367" y="412"/>
                  </a:lnTo>
                  <a:lnTo>
                    <a:pt x="372" y="422"/>
                  </a:lnTo>
                  <a:lnTo>
                    <a:pt x="378" y="432"/>
                  </a:lnTo>
                  <a:lnTo>
                    <a:pt x="383" y="442"/>
                  </a:lnTo>
                  <a:lnTo>
                    <a:pt x="388" y="451"/>
                  </a:lnTo>
                  <a:lnTo>
                    <a:pt x="393" y="461"/>
                  </a:lnTo>
                  <a:lnTo>
                    <a:pt x="399" y="470"/>
                  </a:lnTo>
                  <a:lnTo>
                    <a:pt x="404" y="479"/>
                  </a:lnTo>
                  <a:lnTo>
                    <a:pt x="409" y="488"/>
                  </a:lnTo>
                  <a:lnTo>
                    <a:pt x="414" y="496"/>
                  </a:lnTo>
                  <a:lnTo>
                    <a:pt x="420" y="504"/>
                  </a:lnTo>
                  <a:lnTo>
                    <a:pt x="425" y="512"/>
                  </a:lnTo>
                  <a:lnTo>
                    <a:pt x="430" y="519"/>
                  </a:lnTo>
                  <a:lnTo>
                    <a:pt x="435" y="526"/>
                  </a:lnTo>
                  <a:lnTo>
                    <a:pt x="441" y="533"/>
                  </a:lnTo>
                  <a:lnTo>
                    <a:pt x="446" y="539"/>
                  </a:lnTo>
                  <a:lnTo>
                    <a:pt x="451" y="545"/>
                  </a:lnTo>
                  <a:lnTo>
                    <a:pt x="456" y="550"/>
                  </a:lnTo>
                  <a:lnTo>
                    <a:pt x="462" y="555"/>
                  </a:lnTo>
                  <a:lnTo>
                    <a:pt x="467" y="560"/>
                  </a:lnTo>
                  <a:lnTo>
                    <a:pt x="472" y="564"/>
                  </a:lnTo>
                  <a:lnTo>
                    <a:pt x="477" y="567"/>
                  </a:lnTo>
                  <a:lnTo>
                    <a:pt x="483" y="570"/>
                  </a:lnTo>
                  <a:lnTo>
                    <a:pt x="488" y="572"/>
                  </a:lnTo>
                  <a:lnTo>
                    <a:pt x="493" y="575"/>
                  </a:lnTo>
                  <a:lnTo>
                    <a:pt x="498" y="576"/>
                  </a:lnTo>
                  <a:lnTo>
                    <a:pt x="504" y="577"/>
                  </a:lnTo>
                  <a:lnTo>
                    <a:pt x="509" y="578"/>
                  </a:lnTo>
                  <a:lnTo>
                    <a:pt x="514" y="578"/>
                  </a:lnTo>
                  <a:lnTo>
                    <a:pt x="519" y="578"/>
                  </a:lnTo>
                  <a:lnTo>
                    <a:pt x="525" y="577"/>
                  </a:lnTo>
                  <a:lnTo>
                    <a:pt x="530" y="576"/>
                  </a:lnTo>
                  <a:lnTo>
                    <a:pt x="535" y="574"/>
                  </a:lnTo>
                  <a:lnTo>
                    <a:pt x="540" y="573"/>
                  </a:lnTo>
                  <a:lnTo>
                    <a:pt x="546" y="570"/>
                  </a:lnTo>
                  <a:lnTo>
                    <a:pt x="551" y="568"/>
                  </a:lnTo>
                  <a:lnTo>
                    <a:pt x="556" y="565"/>
                  </a:lnTo>
                  <a:lnTo>
                    <a:pt x="561" y="562"/>
                  </a:lnTo>
                  <a:lnTo>
                    <a:pt x="567" y="558"/>
                  </a:lnTo>
                  <a:lnTo>
                    <a:pt x="572" y="555"/>
                  </a:lnTo>
                  <a:lnTo>
                    <a:pt x="577" y="551"/>
                  </a:lnTo>
                  <a:lnTo>
                    <a:pt x="582" y="547"/>
                  </a:lnTo>
                  <a:lnTo>
                    <a:pt x="588" y="542"/>
                  </a:lnTo>
                  <a:lnTo>
                    <a:pt x="593" y="538"/>
                  </a:lnTo>
                  <a:lnTo>
                    <a:pt x="598" y="533"/>
                  </a:lnTo>
                  <a:lnTo>
                    <a:pt x="603" y="528"/>
                  </a:lnTo>
                  <a:lnTo>
                    <a:pt x="609" y="523"/>
                  </a:lnTo>
                  <a:lnTo>
                    <a:pt x="614" y="518"/>
                  </a:lnTo>
                  <a:lnTo>
                    <a:pt x="619" y="513"/>
                  </a:lnTo>
                  <a:lnTo>
                    <a:pt x="624" y="508"/>
                  </a:lnTo>
                  <a:lnTo>
                    <a:pt x="630" y="503"/>
                  </a:lnTo>
                  <a:lnTo>
                    <a:pt x="635" y="497"/>
                  </a:lnTo>
                  <a:lnTo>
                    <a:pt x="640" y="492"/>
                  </a:lnTo>
                  <a:lnTo>
                    <a:pt x="645" y="487"/>
                  </a:lnTo>
                  <a:lnTo>
                    <a:pt x="651" y="481"/>
                  </a:lnTo>
                  <a:lnTo>
                    <a:pt x="656" y="476"/>
                  </a:lnTo>
                  <a:lnTo>
                    <a:pt x="661" y="470"/>
                  </a:lnTo>
                  <a:lnTo>
                    <a:pt x="666" y="465"/>
                  </a:lnTo>
                  <a:lnTo>
                    <a:pt x="672" y="459"/>
                  </a:lnTo>
                  <a:lnTo>
                    <a:pt x="677" y="454"/>
                  </a:lnTo>
                  <a:lnTo>
                    <a:pt x="682" y="449"/>
                  </a:lnTo>
                  <a:lnTo>
                    <a:pt x="687" y="443"/>
                  </a:lnTo>
                  <a:lnTo>
                    <a:pt x="693" y="438"/>
                  </a:lnTo>
                  <a:lnTo>
                    <a:pt x="698" y="432"/>
                  </a:lnTo>
                  <a:lnTo>
                    <a:pt x="703" y="427"/>
                  </a:lnTo>
                  <a:lnTo>
                    <a:pt x="708" y="422"/>
                  </a:lnTo>
                  <a:lnTo>
                    <a:pt x="714" y="417"/>
                  </a:lnTo>
                  <a:lnTo>
                    <a:pt x="719" y="412"/>
                  </a:lnTo>
                  <a:lnTo>
                    <a:pt x="724" y="406"/>
                  </a:lnTo>
                  <a:lnTo>
                    <a:pt x="729" y="401"/>
                  </a:lnTo>
                  <a:lnTo>
                    <a:pt x="735" y="396"/>
                  </a:lnTo>
                  <a:lnTo>
                    <a:pt x="740" y="392"/>
                  </a:lnTo>
                  <a:lnTo>
                    <a:pt x="745" y="387"/>
                  </a:lnTo>
                  <a:lnTo>
                    <a:pt x="750" y="382"/>
                  </a:lnTo>
                  <a:lnTo>
                    <a:pt x="756" y="377"/>
                  </a:lnTo>
                  <a:lnTo>
                    <a:pt x="761" y="372"/>
                  </a:lnTo>
                  <a:lnTo>
                    <a:pt x="766" y="368"/>
                  </a:lnTo>
                  <a:lnTo>
                    <a:pt x="771" y="363"/>
                  </a:lnTo>
                  <a:lnTo>
                    <a:pt x="777" y="359"/>
                  </a:lnTo>
                  <a:lnTo>
                    <a:pt x="782" y="354"/>
                  </a:lnTo>
                  <a:lnTo>
                    <a:pt x="787" y="350"/>
                  </a:lnTo>
                  <a:lnTo>
                    <a:pt x="792" y="346"/>
                  </a:lnTo>
                  <a:lnTo>
                    <a:pt x="798" y="341"/>
                  </a:lnTo>
                  <a:lnTo>
                    <a:pt x="803" y="337"/>
                  </a:lnTo>
                  <a:lnTo>
                    <a:pt x="808" y="333"/>
                  </a:lnTo>
                  <a:lnTo>
                    <a:pt x="813" y="329"/>
                  </a:lnTo>
                  <a:lnTo>
                    <a:pt x="819" y="325"/>
                  </a:lnTo>
                  <a:lnTo>
                    <a:pt x="824" y="321"/>
                  </a:lnTo>
                  <a:lnTo>
                    <a:pt x="829" y="317"/>
                  </a:lnTo>
                  <a:lnTo>
                    <a:pt x="834" y="313"/>
                  </a:lnTo>
                  <a:lnTo>
                    <a:pt x="840" y="310"/>
                  </a:lnTo>
                  <a:lnTo>
                    <a:pt x="845" y="306"/>
                  </a:lnTo>
                  <a:lnTo>
                    <a:pt x="850" y="302"/>
                  </a:lnTo>
                  <a:lnTo>
                    <a:pt x="855" y="299"/>
                  </a:lnTo>
                  <a:lnTo>
                    <a:pt x="861" y="295"/>
                  </a:lnTo>
                  <a:lnTo>
                    <a:pt x="866" y="292"/>
                  </a:lnTo>
                  <a:lnTo>
                    <a:pt x="871" y="288"/>
                  </a:lnTo>
                  <a:lnTo>
                    <a:pt x="876" y="285"/>
                  </a:lnTo>
                  <a:lnTo>
                    <a:pt x="882" y="282"/>
                  </a:lnTo>
                  <a:lnTo>
                    <a:pt x="887" y="278"/>
                  </a:lnTo>
                  <a:lnTo>
                    <a:pt x="892" y="275"/>
                  </a:lnTo>
                  <a:lnTo>
                    <a:pt x="897" y="272"/>
                  </a:lnTo>
                  <a:lnTo>
                    <a:pt x="903" y="269"/>
                  </a:lnTo>
                  <a:lnTo>
                    <a:pt x="908" y="266"/>
                  </a:lnTo>
                  <a:lnTo>
                    <a:pt x="913" y="263"/>
                  </a:lnTo>
                  <a:lnTo>
                    <a:pt x="918" y="260"/>
                  </a:lnTo>
                  <a:lnTo>
                    <a:pt x="924" y="257"/>
                  </a:lnTo>
                  <a:lnTo>
                    <a:pt x="929" y="254"/>
                  </a:lnTo>
                  <a:lnTo>
                    <a:pt x="934" y="251"/>
                  </a:lnTo>
                  <a:lnTo>
                    <a:pt x="939" y="248"/>
                  </a:lnTo>
                  <a:lnTo>
                    <a:pt x="945" y="246"/>
                  </a:lnTo>
                  <a:lnTo>
                    <a:pt x="950" y="243"/>
                  </a:lnTo>
                  <a:lnTo>
                    <a:pt x="955" y="240"/>
                  </a:lnTo>
                  <a:lnTo>
                    <a:pt x="960" y="238"/>
                  </a:lnTo>
                  <a:lnTo>
                    <a:pt x="966" y="235"/>
                  </a:lnTo>
                  <a:lnTo>
                    <a:pt x="971" y="233"/>
                  </a:lnTo>
                  <a:lnTo>
                    <a:pt x="976" y="230"/>
                  </a:lnTo>
                  <a:lnTo>
                    <a:pt x="981" y="228"/>
                  </a:lnTo>
                  <a:lnTo>
                    <a:pt x="987" y="353"/>
                  </a:lnTo>
                  <a:lnTo>
                    <a:pt x="992" y="350"/>
                  </a:lnTo>
                  <a:lnTo>
                    <a:pt x="997" y="348"/>
                  </a:lnTo>
                  <a:lnTo>
                    <a:pt x="1002" y="345"/>
                  </a:lnTo>
                  <a:lnTo>
                    <a:pt x="1008" y="343"/>
                  </a:lnTo>
                  <a:lnTo>
                    <a:pt x="1013" y="340"/>
                  </a:lnTo>
                  <a:lnTo>
                    <a:pt x="1018" y="338"/>
                  </a:lnTo>
                  <a:lnTo>
                    <a:pt x="1023" y="335"/>
                  </a:lnTo>
                  <a:lnTo>
                    <a:pt x="1029" y="333"/>
                  </a:lnTo>
                  <a:lnTo>
                    <a:pt x="1034" y="331"/>
                  </a:lnTo>
                  <a:lnTo>
                    <a:pt x="1039" y="328"/>
                  </a:lnTo>
                  <a:lnTo>
                    <a:pt x="1044" y="326"/>
                  </a:lnTo>
                  <a:lnTo>
                    <a:pt x="1050" y="324"/>
                  </a:lnTo>
                  <a:lnTo>
                    <a:pt x="1055" y="322"/>
                  </a:lnTo>
                  <a:lnTo>
                    <a:pt x="1060" y="320"/>
                  </a:lnTo>
                  <a:lnTo>
                    <a:pt x="1065" y="317"/>
                  </a:lnTo>
                  <a:lnTo>
                    <a:pt x="1071" y="315"/>
                  </a:lnTo>
                  <a:lnTo>
                    <a:pt x="1076" y="313"/>
                  </a:lnTo>
                  <a:lnTo>
                    <a:pt x="1081" y="311"/>
                  </a:lnTo>
                  <a:lnTo>
                    <a:pt x="1086" y="309"/>
                  </a:lnTo>
                  <a:lnTo>
                    <a:pt x="1092" y="307"/>
                  </a:lnTo>
                  <a:lnTo>
                    <a:pt x="1097" y="305"/>
                  </a:lnTo>
                  <a:lnTo>
                    <a:pt x="1102" y="303"/>
                  </a:lnTo>
                  <a:lnTo>
                    <a:pt x="1107" y="302"/>
                  </a:lnTo>
                  <a:lnTo>
                    <a:pt x="1113" y="300"/>
                  </a:lnTo>
                  <a:lnTo>
                    <a:pt x="1118" y="298"/>
                  </a:lnTo>
                  <a:lnTo>
                    <a:pt x="1123" y="296"/>
                  </a:lnTo>
                  <a:lnTo>
                    <a:pt x="1128" y="294"/>
                  </a:lnTo>
                  <a:lnTo>
                    <a:pt x="1134" y="292"/>
                  </a:lnTo>
                  <a:lnTo>
                    <a:pt x="1139" y="291"/>
                  </a:lnTo>
                  <a:lnTo>
                    <a:pt x="1144" y="289"/>
                  </a:lnTo>
                  <a:lnTo>
                    <a:pt x="1149" y="287"/>
                  </a:lnTo>
                  <a:lnTo>
                    <a:pt x="1155" y="286"/>
                  </a:lnTo>
                  <a:lnTo>
                    <a:pt x="1160" y="284"/>
                  </a:lnTo>
                  <a:lnTo>
                    <a:pt x="1165" y="282"/>
                  </a:lnTo>
                  <a:lnTo>
                    <a:pt x="1170" y="281"/>
                  </a:lnTo>
                  <a:lnTo>
                    <a:pt x="1176" y="279"/>
                  </a:lnTo>
                  <a:lnTo>
                    <a:pt x="1181" y="278"/>
                  </a:lnTo>
                  <a:lnTo>
                    <a:pt x="1186" y="276"/>
                  </a:lnTo>
                  <a:lnTo>
                    <a:pt x="1191" y="275"/>
                  </a:lnTo>
                  <a:lnTo>
                    <a:pt x="1197" y="273"/>
                  </a:lnTo>
                  <a:lnTo>
                    <a:pt x="1202" y="272"/>
                  </a:lnTo>
                  <a:lnTo>
                    <a:pt x="1207" y="270"/>
                  </a:lnTo>
                  <a:lnTo>
                    <a:pt x="1212" y="269"/>
                  </a:lnTo>
                  <a:lnTo>
                    <a:pt x="1218" y="267"/>
                  </a:lnTo>
                  <a:lnTo>
                    <a:pt x="1223" y="266"/>
                  </a:lnTo>
                  <a:lnTo>
                    <a:pt x="1228" y="265"/>
                  </a:lnTo>
                  <a:lnTo>
                    <a:pt x="1233" y="263"/>
                  </a:lnTo>
                  <a:lnTo>
                    <a:pt x="1239" y="262"/>
                  </a:lnTo>
                  <a:lnTo>
                    <a:pt x="1244" y="261"/>
                  </a:lnTo>
                  <a:lnTo>
                    <a:pt x="1249" y="259"/>
                  </a:lnTo>
                  <a:lnTo>
                    <a:pt x="1254" y="258"/>
                  </a:lnTo>
                  <a:lnTo>
                    <a:pt x="1260" y="257"/>
                  </a:lnTo>
                  <a:lnTo>
                    <a:pt x="1265" y="255"/>
                  </a:lnTo>
                  <a:lnTo>
                    <a:pt x="1270" y="254"/>
                  </a:lnTo>
                  <a:lnTo>
                    <a:pt x="1275" y="253"/>
                  </a:lnTo>
                  <a:lnTo>
                    <a:pt x="1281" y="252"/>
                  </a:lnTo>
                  <a:lnTo>
                    <a:pt x="1286" y="251"/>
                  </a:lnTo>
                  <a:lnTo>
                    <a:pt x="1291" y="249"/>
                  </a:lnTo>
                  <a:lnTo>
                    <a:pt x="1296" y="248"/>
                  </a:lnTo>
                  <a:lnTo>
                    <a:pt x="1302" y="247"/>
                  </a:lnTo>
                  <a:lnTo>
                    <a:pt x="1307" y="246"/>
                  </a:lnTo>
                  <a:lnTo>
                    <a:pt x="1312" y="245"/>
                  </a:lnTo>
                  <a:lnTo>
                    <a:pt x="1317" y="244"/>
                  </a:lnTo>
                  <a:lnTo>
                    <a:pt x="1323" y="243"/>
                  </a:lnTo>
                  <a:lnTo>
                    <a:pt x="1328" y="241"/>
                  </a:lnTo>
                  <a:lnTo>
                    <a:pt x="1333" y="240"/>
                  </a:lnTo>
                  <a:lnTo>
                    <a:pt x="1338" y="239"/>
                  </a:lnTo>
                  <a:lnTo>
                    <a:pt x="1344" y="238"/>
                  </a:lnTo>
                  <a:lnTo>
                    <a:pt x="1349" y="237"/>
                  </a:lnTo>
                  <a:lnTo>
                    <a:pt x="1354" y="236"/>
                  </a:lnTo>
                  <a:lnTo>
                    <a:pt x="1359" y="235"/>
                  </a:lnTo>
                  <a:lnTo>
                    <a:pt x="1365" y="234"/>
                  </a:lnTo>
                  <a:lnTo>
                    <a:pt x="1370" y="233"/>
                  </a:lnTo>
                  <a:lnTo>
                    <a:pt x="1375" y="232"/>
                  </a:lnTo>
                  <a:lnTo>
                    <a:pt x="1380" y="231"/>
                  </a:lnTo>
                  <a:lnTo>
                    <a:pt x="1386" y="230"/>
                  </a:lnTo>
                  <a:lnTo>
                    <a:pt x="1391" y="229"/>
                  </a:lnTo>
                  <a:lnTo>
                    <a:pt x="1396" y="228"/>
                  </a:lnTo>
                  <a:lnTo>
                    <a:pt x="1401" y="228"/>
                  </a:lnTo>
                  <a:lnTo>
                    <a:pt x="1407" y="227"/>
                  </a:lnTo>
                  <a:lnTo>
                    <a:pt x="1412" y="226"/>
                  </a:lnTo>
                  <a:lnTo>
                    <a:pt x="1417" y="225"/>
                  </a:lnTo>
                  <a:lnTo>
                    <a:pt x="1422" y="224"/>
                  </a:lnTo>
                  <a:lnTo>
                    <a:pt x="1428" y="223"/>
                  </a:lnTo>
                  <a:lnTo>
                    <a:pt x="1433" y="222"/>
                  </a:lnTo>
                  <a:lnTo>
                    <a:pt x="1438" y="221"/>
                  </a:lnTo>
                  <a:lnTo>
                    <a:pt x="1443" y="221"/>
                  </a:lnTo>
                  <a:lnTo>
                    <a:pt x="1449" y="220"/>
                  </a:lnTo>
                  <a:lnTo>
                    <a:pt x="1454" y="219"/>
                  </a:lnTo>
                  <a:lnTo>
                    <a:pt x="1459" y="218"/>
                  </a:lnTo>
                  <a:lnTo>
                    <a:pt x="1464" y="217"/>
                  </a:lnTo>
                  <a:lnTo>
                    <a:pt x="1470" y="216"/>
                  </a:lnTo>
                  <a:lnTo>
                    <a:pt x="1475" y="216"/>
                  </a:lnTo>
                  <a:lnTo>
                    <a:pt x="1480" y="215"/>
                  </a:lnTo>
                  <a:lnTo>
                    <a:pt x="1485" y="214"/>
                  </a:lnTo>
                  <a:lnTo>
                    <a:pt x="1491" y="213"/>
                  </a:lnTo>
                  <a:lnTo>
                    <a:pt x="1496" y="213"/>
                  </a:lnTo>
                  <a:lnTo>
                    <a:pt x="1501" y="212"/>
                  </a:lnTo>
                  <a:lnTo>
                    <a:pt x="1506" y="211"/>
                  </a:lnTo>
                  <a:lnTo>
                    <a:pt x="1512" y="210"/>
                  </a:lnTo>
                  <a:lnTo>
                    <a:pt x="1517" y="210"/>
                  </a:lnTo>
                  <a:lnTo>
                    <a:pt x="1522" y="209"/>
                  </a:lnTo>
                  <a:lnTo>
                    <a:pt x="1527" y="208"/>
                  </a:lnTo>
                  <a:lnTo>
                    <a:pt x="1533" y="208"/>
                  </a:lnTo>
                  <a:lnTo>
                    <a:pt x="1538" y="207"/>
                  </a:lnTo>
                  <a:lnTo>
                    <a:pt x="1543" y="206"/>
                  </a:lnTo>
                  <a:lnTo>
                    <a:pt x="1548" y="205"/>
                  </a:lnTo>
                  <a:lnTo>
                    <a:pt x="1554" y="205"/>
                  </a:lnTo>
                  <a:lnTo>
                    <a:pt x="1559" y="204"/>
                  </a:lnTo>
                  <a:lnTo>
                    <a:pt x="1564" y="203"/>
                  </a:lnTo>
                  <a:lnTo>
                    <a:pt x="1569" y="203"/>
                  </a:lnTo>
                  <a:lnTo>
                    <a:pt x="1575" y="20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348320" y="5053320"/>
              <a:ext cx="99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500680" y="3965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579880" y="405936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619840" y="39657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=0,1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500680" y="3786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579880" y="38800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619840" y="37864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=0,8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98040" y="28591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017920" y="29512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103960" y="2889360"/>
              <a:ext cx="244080" cy="96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51680" y="2841840"/>
              <a:ext cx="93240" cy="1951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497640" y="28591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N1880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496200" y="3056040"/>
              <a:ext cx="41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rve a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DB30-E1EC-4A1A-9B44-A75A74D3E6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N 1993-1-1: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two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new sets of formula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nex A (Method 1): general, accurate, transparent, consist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nex B (Method 2): accurate, simple, global fact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ructure of lectur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ross-section resist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asic formulation of beam-column design ru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tension to spatial and elastic-plastic behavi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ign rules in EN 1993-1-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90EA-4201-4432-B8CD-6FAC238779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thod 2 design ru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lobal factors: influence of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ending moment distribu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79280" y="2584440"/>
            <a:ext cx="83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80360" y="25812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108000" y="2133720"/>
            <a:ext cx="2873160" cy="3316320"/>
            <a:chOff x="108000" y="2133720"/>
            <a:chExt cx="2873160" cy="3316320"/>
          </a:xfrm>
        </p:grpSpPr>
        <p:sp>
          <p:nvSpPr>
            <p:cNvPr id="817" name=""/>
            <p:cNvSpPr/>
            <p:nvPr/>
          </p:nvSpPr>
          <p:spPr>
            <a:xfrm>
              <a:off x="108000" y="2133720"/>
              <a:ext cx="2873160" cy="331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85720" y="2775240"/>
              <a:ext cx="1927080" cy="193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1226880" y="2773440"/>
              <a:ext cx="0" cy="19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1869840" y="2773440"/>
              <a:ext cx="0" cy="19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472400" y="488160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67440" y="5004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83920" y="4711680"/>
              <a:ext cx="1930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83920" y="4711680"/>
              <a:ext cx="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226880" y="4711680"/>
              <a:ext cx="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1869840" y="4711680"/>
              <a:ext cx="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2514600" y="4711680"/>
              <a:ext cx="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5760" y="481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88720" y="481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33120" y="481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76080" y="481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83920" y="2773440"/>
              <a:ext cx="1930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83920" y="3741840"/>
              <a:ext cx="1930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33200" y="3144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55240" y="32497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y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00680" y="3144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9600" y="3249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583920" y="2773440"/>
              <a:ext cx="0" cy="1938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58720" y="4711680"/>
              <a:ext cx="25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720" y="3741840"/>
              <a:ext cx="25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8720" y="2773440"/>
              <a:ext cx="25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98800" y="46324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98800" y="36626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98800" y="26956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514600" y="2773440"/>
              <a:ext cx="0" cy="1938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47640" y="3915720"/>
              <a:ext cx="1866960" cy="19080"/>
            </a:xfrm>
            <a:custGeom>
              <a:avLst/>
              <a:gdLst/>
              <a:ahLst/>
              <a:rect l="l" t="t" r="r" b="b"/>
              <a:pathLst>
                <a:path w="1523" h="16">
                  <a:moveTo>
                    <a:pt x="0" y="16"/>
                  </a:moveTo>
                  <a:lnTo>
                    <a:pt x="53" y="16"/>
                  </a:lnTo>
                  <a:lnTo>
                    <a:pt x="105" y="15"/>
                  </a:lnTo>
                  <a:lnTo>
                    <a:pt x="158" y="15"/>
                  </a:lnTo>
                  <a:lnTo>
                    <a:pt x="210" y="13"/>
                  </a:lnTo>
                  <a:lnTo>
                    <a:pt x="263" y="13"/>
                  </a:lnTo>
                  <a:lnTo>
                    <a:pt x="315" y="12"/>
                  </a:lnTo>
                  <a:lnTo>
                    <a:pt x="368" y="10"/>
                  </a:lnTo>
                  <a:lnTo>
                    <a:pt x="420" y="9"/>
                  </a:lnTo>
                  <a:lnTo>
                    <a:pt x="473" y="8"/>
                  </a:lnTo>
                  <a:lnTo>
                    <a:pt x="525" y="6"/>
                  </a:lnTo>
                  <a:lnTo>
                    <a:pt x="578" y="5"/>
                  </a:lnTo>
                  <a:lnTo>
                    <a:pt x="630" y="3"/>
                  </a:lnTo>
                  <a:lnTo>
                    <a:pt x="683" y="2"/>
                  </a:lnTo>
                  <a:lnTo>
                    <a:pt x="735" y="2"/>
                  </a:lnTo>
                  <a:lnTo>
                    <a:pt x="152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647640" y="4033080"/>
              <a:ext cx="1866960" cy="81000"/>
            </a:xfrm>
            <a:custGeom>
              <a:avLst/>
              <a:gdLst/>
              <a:ahLst/>
              <a:rect l="l" t="t" r="r" b="b"/>
              <a:pathLst>
                <a:path w="1523" h="67">
                  <a:moveTo>
                    <a:pt x="0" y="67"/>
                  </a:moveTo>
                  <a:lnTo>
                    <a:pt x="53" y="67"/>
                  </a:lnTo>
                  <a:lnTo>
                    <a:pt x="105" y="62"/>
                  </a:lnTo>
                  <a:lnTo>
                    <a:pt x="158" y="58"/>
                  </a:lnTo>
                  <a:lnTo>
                    <a:pt x="210" y="55"/>
                  </a:lnTo>
                  <a:lnTo>
                    <a:pt x="263" y="50"/>
                  </a:lnTo>
                  <a:lnTo>
                    <a:pt x="315" y="46"/>
                  </a:lnTo>
                  <a:lnTo>
                    <a:pt x="368" y="40"/>
                  </a:lnTo>
                  <a:lnTo>
                    <a:pt x="420" y="32"/>
                  </a:lnTo>
                  <a:lnTo>
                    <a:pt x="473" y="24"/>
                  </a:lnTo>
                  <a:lnTo>
                    <a:pt x="525" y="17"/>
                  </a:lnTo>
                  <a:lnTo>
                    <a:pt x="578" y="11"/>
                  </a:lnTo>
                  <a:lnTo>
                    <a:pt x="630" y="8"/>
                  </a:lnTo>
                  <a:lnTo>
                    <a:pt x="683" y="6"/>
                  </a:lnTo>
                  <a:lnTo>
                    <a:pt x="735" y="3"/>
                  </a:lnTo>
                  <a:lnTo>
                    <a:pt x="788" y="2"/>
                  </a:lnTo>
                  <a:lnTo>
                    <a:pt x="840" y="0"/>
                  </a:lnTo>
                  <a:lnTo>
                    <a:pt x="893" y="0"/>
                  </a:lnTo>
                  <a:lnTo>
                    <a:pt x="945" y="0"/>
                  </a:lnTo>
                  <a:lnTo>
                    <a:pt x="998" y="0"/>
                  </a:lnTo>
                  <a:lnTo>
                    <a:pt x="1050" y="0"/>
                  </a:lnTo>
                  <a:lnTo>
                    <a:pt x="1103" y="0"/>
                  </a:lnTo>
                  <a:lnTo>
                    <a:pt x="1155" y="0"/>
                  </a:lnTo>
                  <a:lnTo>
                    <a:pt x="1208" y="0"/>
                  </a:lnTo>
                  <a:lnTo>
                    <a:pt x="1260" y="0"/>
                  </a:lnTo>
                  <a:lnTo>
                    <a:pt x="1313" y="0"/>
                  </a:lnTo>
                  <a:lnTo>
                    <a:pt x="1365" y="0"/>
                  </a:lnTo>
                  <a:lnTo>
                    <a:pt x="1417" y="0"/>
                  </a:lnTo>
                  <a:lnTo>
                    <a:pt x="1470" y="0"/>
                  </a:lnTo>
                  <a:lnTo>
                    <a:pt x="1523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647640" y="4112640"/>
              <a:ext cx="1866960" cy="120600"/>
            </a:xfrm>
            <a:custGeom>
              <a:avLst/>
              <a:gdLst/>
              <a:ahLst/>
              <a:rect l="l" t="t" r="r" b="b"/>
              <a:pathLst>
                <a:path w="1523" h="98">
                  <a:moveTo>
                    <a:pt x="0" y="98"/>
                  </a:moveTo>
                  <a:lnTo>
                    <a:pt x="53" y="98"/>
                  </a:lnTo>
                  <a:lnTo>
                    <a:pt x="105" y="89"/>
                  </a:lnTo>
                  <a:lnTo>
                    <a:pt x="158" y="82"/>
                  </a:lnTo>
                  <a:lnTo>
                    <a:pt x="210" y="74"/>
                  </a:lnTo>
                  <a:lnTo>
                    <a:pt x="263" y="62"/>
                  </a:lnTo>
                  <a:lnTo>
                    <a:pt x="315" y="51"/>
                  </a:lnTo>
                  <a:lnTo>
                    <a:pt x="368" y="42"/>
                  </a:lnTo>
                  <a:lnTo>
                    <a:pt x="420" y="38"/>
                  </a:lnTo>
                  <a:lnTo>
                    <a:pt x="473" y="33"/>
                  </a:lnTo>
                  <a:lnTo>
                    <a:pt x="525" y="25"/>
                  </a:lnTo>
                  <a:lnTo>
                    <a:pt x="578" y="17"/>
                  </a:lnTo>
                  <a:lnTo>
                    <a:pt x="630" y="11"/>
                  </a:lnTo>
                  <a:lnTo>
                    <a:pt x="683" y="5"/>
                  </a:lnTo>
                  <a:lnTo>
                    <a:pt x="735" y="3"/>
                  </a:lnTo>
                  <a:lnTo>
                    <a:pt x="788" y="2"/>
                  </a:lnTo>
                  <a:lnTo>
                    <a:pt x="840" y="0"/>
                  </a:lnTo>
                  <a:lnTo>
                    <a:pt x="893" y="0"/>
                  </a:lnTo>
                  <a:lnTo>
                    <a:pt x="945" y="0"/>
                  </a:lnTo>
                  <a:lnTo>
                    <a:pt x="998" y="2"/>
                  </a:lnTo>
                  <a:lnTo>
                    <a:pt x="1050" y="2"/>
                  </a:lnTo>
                  <a:lnTo>
                    <a:pt x="1155" y="3"/>
                  </a:lnTo>
                  <a:lnTo>
                    <a:pt x="1208" y="4"/>
                  </a:lnTo>
                  <a:lnTo>
                    <a:pt x="1260" y="4"/>
                  </a:lnTo>
                  <a:lnTo>
                    <a:pt x="1313" y="5"/>
                  </a:lnTo>
                  <a:lnTo>
                    <a:pt x="1365" y="5"/>
                  </a:lnTo>
                  <a:lnTo>
                    <a:pt x="1417" y="7"/>
                  </a:lnTo>
                  <a:lnTo>
                    <a:pt x="1470" y="8"/>
                  </a:lnTo>
                  <a:lnTo>
                    <a:pt x="1523" y="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647640" y="4141800"/>
              <a:ext cx="1866960" cy="147600"/>
            </a:xfrm>
            <a:custGeom>
              <a:avLst/>
              <a:gdLst/>
              <a:ahLst/>
              <a:rect l="l" t="t" r="r" b="b"/>
              <a:pathLst>
                <a:path w="1523" h="121">
                  <a:moveTo>
                    <a:pt x="0" y="121"/>
                  </a:moveTo>
                  <a:lnTo>
                    <a:pt x="53" y="121"/>
                  </a:lnTo>
                  <a:lnTo>
                    <a:pt x="105" y="102"/>
                  </a:lnTo>
                  <a:lnTo>
                    <a:pt x="158" y="86"/>
                  </a:lnTo>
                  <a:lnTo>
                    <a:pt x="315" y="81"/>
                  </a:lnTo>
                  <a:lnTo>
                    <a:pt x="368" y="86"/>
                  </a:lnTo>
                  <a:lnTo>
                    <a:pt x="420" y="86"/>
                  </a:lnTo>
                  <a:lnTo>
                    <a:pt x="473" y="78"/>
                  </a:lnTo>
                  <a:lnTo>
                    <a:pt x="525" y="67"/>
                  </a:lnTo>
                  <a:lnTo>
                    <a:pt x="578" y="52"/>
                  </a:lnTo>
                  <a:lnTo>
                    <a:pt x="630" y="39"/>
                  </a:lnTo>
                  <a:lnTo>
                    <a:pt x="683" y="28"/>
                  </a:lnTo>
                  <a:lnTo>
                    <a:pt x="735" y="21"/>
                  </a:lnTo>
                  <a:lnTo>
                    <a:pt x="788" y="14"/>
                  </a:lnTo>
                  <a:lnTo>
                    <a:pt x="840" y="10"/>
                  </a:lnTo>
                  <a:lnTo>
                    <a:pt x="945" y="3"/>
                  </a:lnTo>
                  <a:lnTo>
                    <a:pt x="998" y="1"/>
                  </a:lnTo>
                  <a:lnTo>
                    <a:pt x="1050" y="1"/>
                  </a:lnTo>
                  <a:lnTo>
                    <a:pt x="1103" y="1"/>
                  </a:lnTo>
                  <a:lnTo>
                    <a:pt x="1155" y="0"/>
                  </a:lnTo>
                  <a:lnTo>
                    <a:pt x="1208" y="1"/>
                  </a:lnTo>
                  <a:lnTo>
                    <a:pt x="1260" y="1"/>
                  </a:lnTo>
                  <a:lnTo>
                    <a:pt x="1313" y="1"/>
                  </a:lnTo>
                  <a:lnTo>
                    <a:pt x="1365" y="3"/>
                  </a:lnTo>
                  <a:lnTo>
                    <a:pt x="1417" y="3"/>
                  </a:lnTo>
                  <a:lnTo>
                    <a:pt x="1470" y="4"/>
                  </a:lnTo>
                  <a:lnTo>
                    <a:pt x="1523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12800" y="4143600"/>
              <a:ext cx="1801800" cy="163440"/>
            </a:xfrm>
            <a:custGeom>
              <a:avLst/>
              <a:gdLst/>
              <a:ahLst/>
              <a:rect l="l" t="t" r="r" b="b"/>
              <a:pathLst>
                <a:path w="1470" h="133">
                  <a:moveTo>
                    <a:pt x="0" y="133"/>
                  </a:moveTo>
                  <a:lnTo>
                    <a:pt x="52" y="108"/>
                  </a:lnTo>
                  <a:lnTo>
                    <a:pt x="105" y="84"/>
                  </a:lnTo>
                  <a:lnTo>
                    <a:pt x="262" y="95"/>
                  </a:lnTo>
                  <a:lnTo>
                    <a:pt x="315" y="106"/>
                  </a:lnTo>
                  <a:lnTo>
                    <a:pt x="472" y="102"/>
                  </a:lnTo>
                  <a:lnTo>
                    <a:pt x="525" y="87"/>
                  </a:lnTo>
                  <a:lnTo>
                    <a:pt x="577" y="71"/>
                  </a:lnTo>
                  <a:lnTo>
                    <a:pt x="630" y="55"/>
                  </a:lnTo>
                  <a:lnTo>
                    <a:pt x="735" y="30"/>
                  </a:lnTo>
                  <a:lnTo>
                    <a:pt x="787" y="21"/>
                  </a:lnTo>
                  <a:lnTo>
                    <a:pt x="840" y="13"/>
                  </a:lnTo>
                  <a:lnTo>
                    <a:pt x="892" y="8"/>
                  </a:lnTo>
                  <a:lnTo>
                    <a:pt x="945" y="5"/>
                  </a:lnTo>
                  <a:lnTo>
                    <a:pt x="997" y="4"/>
                  </a:lnTo>
                  <a:lnTo>
                    <a:pt x="1050" y="2"/>
                  </a:lnTo>
                  <a:lnTo>
                    <a:pt x="1102" y="0"/>
                  </a:lnTo>
                  <a:lnTo>
                    <a:pt x="1155" y="0"/>
                  </a:lnTo>
                  <a:lnTo>
                    <a:pt x="1207" y="0"/>
                  </a:lnTo>
                  <a:lnTo>
                    <a:pt x="1260" y="0"/>
                  </a:lnTo>
                  <a:lnTo>
                    <a:pt x="1312" y="0"/>
                  </a:lnTo>
                  <a:lnTo>
                    <a:pt x="1364" y="2"/>
                  </a:lnTo>
                  <a:lnTo>
                    <a:pt x="1417" y="2"/>
                  </a:lnTo>
                  <a:lnTo>
                    <a:pt x="1470" y="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47640" y="4128480"/>
              <a:ext cx="1866960" cy="173160"/>
            </a:xfrm>
            <a:custGeom>
              <a:avLst/>
              <a:gdLst/>
              <a:ahLst/>
              <a:rect l="l" t="t" r="r" b="b"/>
              <a:pathLst>
                <a:path w="1523" h="141">
                  <a:moveTo>
                    <a:pt x="0" y="129"/>
                  </a:moveTo>
                  <a:lnTo>
                    <a:pt x="53" y="129"/>
                  </a:lnTo>
                  <a:lnTo>
                    <a:pt x="105" y="90"/>
                  </a:lnTo>
                  <a:lnTo>
                    <a:pt x="158" y="65"/>
                  </a:lnTo>
                  <a:lnTo>
                    <a:pt x="210" y="63"/>
                  </a:lnTo>
                  <a:lnTo>
                    <a:pt x="315" y="86"/>
                  </a:lnTo>
                  <a:lnTo>
                    <a:pt x="368" y="107"/>
                  </a:lnTo>
                  <a:lnTo>
                    <a:pt x="420" y="129"/>
                  </a:lnTo>
                  <a:lnTo>
                    <a:pt x="473" y="141"/>
                  </a:lnTo>
                  <a:lnTo>
                    <a:pt x="525" y="136"/>
                  </a:lnTo>
                  <a:lnTo>
                    <a:pt x="578" y="124"/>
                  </a:lnTo>
                  <a:lnTo>
                    <a:pt x="630" y="104"/>
                  </a:lnTo>
                  <a:lnTo>
                    <a:pt x="683" y="86"/>
                  </a:lnTo>
                  <a:lnTo>
                    <a:pt x="735" y="67"/>
                  </a:lnTo>
                  <a:lnTo>
                    <a:pt x="788" y="50"/>
                  </a:lnTo>
                  <a:lnTo>
                    <a:pt x="840" y="37"/>
                  </a:lnTo>
                  <a:lnTo>
                    <a:pt x="893" y="26"/>
                  </a:lnTo>
                  <a:lnTo>
                    <a:pt x="945" y="18"/>
                  </a:lnTo>
                  <a:lnTo>
                    <a:pt x="998" y="12"/>
                  </a:lnTo>
                  <a:lnTo>
                    <a:pt x="1050" y="8"/>
                  </a:lnTo>
                  <a:lnTo>
                    <a:pt x="1103" y="4"/>
                  </a:lnTo>
                  <a:lnTo>
                    <a:pt x="1155" y="2"/>
                  </a:lnTo>
                  <a:lnTo>
                    <a:pt x="1208" y="0"/>
                  </a:lnTo>
                  <a:lnTo>
                    <a:pt x="1260" y="0"/>
                  </a:lnTo>
                  <a:lnTo>
                    <a:pt x="1313" y="0"/>
                  </a:lnTo>
                  <a:lnTo>
                    <a:pt x="1365" y="0"/>
                  </a:lnTo>
                  <a:lnTo>
                    <a:pt x="1417" y="0"/>
                  </a:lnTo>
                  <a:lnTo>
                    <a:pt x="1470" y="0"/>
                  </a:lnTo>
                  <a:lnTo>
                    <a:pt x="1523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647640" y="4073760"/>
              <a:ext cx="1866960" cy="210960"/>
            </a:xfrm>
            <a:custGeom>
              <a:avLst/>
              <a:gdLst/>
              <a:ahLst/>
              <a:rect l="l" t="t" r="r" b="b"/>
              <a:pathLst>
                <a:path w="1523" h="172">
                  <a:moveTo>
                    <a:pt x="0" y="120"/>
                  </a:moveTo>
                  <a:lnTo>
                    <a:pt x="53" y="117"/>
                  </a:lnTo>
                  <a:lnTo>
                    <a:pt x="105" y="60"/>
                  </a:lnTo>
                  <a:lnTo>
                    <a:pt x="158" y="34"/>
                  </a:lnTo>
                  <a:lnTo>
                    <a:pt x="263" y="34"/>
                  </a:lnTo>
                  <a:lnTo>
                    <a:pt x="315" y="51"/>
                  </a:lnTo>
                  <a:lnTo>
                    <a:pt x="368" y="94"/>
                  </a:lnTo>
                  <a:lnTo>
                    <a:pt x="420" y="141"/>
                  </a:lnTo>
                  <a:lnTo>
                    <a:pt x="525" y="172"/>
                  </a:lnTo>
                  <a:lnTo>
                    <a:pt x="578" y="161"/>
                  </a:lnTo>
                  <a:lnTo>
                    <a:pt x="630" y="141"/>
                  </a:lnTo>
                  <a:lnTo>
                    <a:pt x="683" y="120"/>
                  </a:lnTo>
                  <a:lnTo>
                    <a:pt x="735" y="98"/>
                  </a:lnTo>
                  <a:lnTo>
                    <a:pt x="788" y="75"/>
                  </a:lnTo>
                  <a:lnTo>
                    <a:pt x="840" y="60"/>
                  </a:lnTo>
                  <a:lnTo>
                    <a:pt x="893" y="42"/>
                  </a:lnTo>
                  <a:lnTo>
                    <a:pt x="945" y="31"/>
                  </a:lnTo>
                  <a:lnTo>
                    <a:pt x="998" y="22"/>
                  </a:lnTo>
                  <a:lnTo>
                    <a:pt x="1050" y="14"/>
                  </a:lnTo>
                  <a:lnTo>
                    <a:pt x="1103" y="8"/>
                  </a:lnTo>
                  <a:lnTo>
                    <a:pt x="1155" y="6"/>
                  </a:lnTo>
                  <a:lnTo>
                    <a:pt x="1208" y="3"/>
                  </a:lnTo>
                  <a:lnTo>
                    <a:pt x="1260" y="3"/>
                  </a:lnTo>
                  <a:lnTo>
                    <a:pt x="1313" y="3"/>
                  </a:lnTo>
                  <a:lnTo>
                    <a:pt x="1365" y="0"/>
                  </a:lnTo>
                  <a:lnTo>
                    <a:pt x="1417" y="0"/>
                  </a:lnTo>
                  <a:lnTo>
                    <a:pt x="1470" y="0"/>
                  </a:lnTo>
                  <a:lnTo>
                    <a:pt x="1523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647640" y="4016520"/>
              <a:ext cx="1866960" cy="303120"/>
            </a:xfrm>
            <a:custGeom>
              <a:avLst/>
              <a:gdLst/>
              <a:ahLst/>
              <a:rect l="l" t="t" r="r" b="b"/>
              <a:pathLst>
                <a:path w="1523" h="247">
                  <a:moveTo>
                    <a:pt x="0" y="145"/>
                  </a:moveTo>
                  <a:lnTo>
                    <a:pt x="53" y="145"/>
                  </a:lnTo>
                  <a:lnTo>
                    <a:pt x="105" y="66"/>
                  </a:lnTo>
                  <a:lnTo>
                    <a:pt x="158" y="28"/>
                  </a:lnTo>
                  <a:lnTo>
                    <a:pt x="210" y="0"/>
                  </a:lnTo>
                  <a:lnTo>
                    <a:pt x="263" y="16"/>
                  </a:lnTo>
                  <a:lnTo>
                    <a:pt x="315" y="57"/>
                  </a:lnTo>
                  <a:lnTo>
                    <a:pt x="368" y="121"/>
                  </a:lnTo>
                  <a:lnTo>
                    <a:pt x="420" y="186"/>
                  </a:lnTo>
                  <a:lnTo>
                    <a:pt x="473" y="241"/>
                  </a:lnTo>
                  <a:lnTo>
                    <a:pt x="578" y="247"/>
                  </a:lnTo>
                  <a:lnTo>
                    <a:pt x="683" y="197"/>
                  </a:lnTo>
                  <a:lnTo>
                    <a:pt x="735" y="170"/>
                  </a:lnTo>
                  <a:lnTo>
                    <a:pt x="788" y="145"/>
                  </a:lnTo>
                  <a:lnTo>
                    <a:pt x="840" y="125"/>
                  </a:lnTo>
                  <a:lnTo>
                    <a:pt x="893" y="106"/>
                  </a:lnTo>
                  <a:lnTo>
                    <a:pt x="945" y="97"/>
                  </a:lnTo>
                  <a:lnTo>
                    <a:pt x="998" y="84"/>
                  </a:lnTo>
                  <a:lnTo>
                    <a:pt x="1050" y="70"/>
                  </a:lnTo>
                  <a:lnTo>
                    <a:pt x="1103" y="66"/>
                  </a:lnTo>
                  <a:lnTo>
                    <a:pt x="1155" y="57"/>
                  </a:lnTo>
                  <a:lnTo>
                    <a:pt x="1208" y="53"/>
                  </a:lnTo>
                  <a:lnTo>
                    <a:pt x="1260" y="49"/>
                  </a:lnTo>
                  <a:lnTo>
                    <a:pt x="1313" y="49"/>
                  </a:lnTo>
                  <a:lnTo>
                    <a:pt x="1365" y="49"/>
                  </a:lnTo>
                  <a:lnTo>
                    <a:pt x="1417" y="49"/>
                  </a:lnTo>
                  <a:lnTo>
                    <a:pt x="1470" y="49"/>
                  </a:lnTo>
                  <a:lnTo>
                    <a:pt x="1523" y="4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2187360" y="2850840"/>
              <a:ext cx="2397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57000" y="28242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MNI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7720" y="299412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PE 40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471320" y="4915080"/>
              <a:ext cx="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569680" y="3832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646000" y="39211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684520" y="383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=0,1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569680" y="423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646000" y="43261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684520" y="4237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=0,8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95840" y="282420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109600" y="29131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2187360" y="285120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187360" y="2851200"/>
              <a:ext cx="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3011400" y="2133720"/>
            <a:ext cx="3025800" cy="3319200"/>
            <a:chOff x="3011400" y="2133720"/>
            <a:chExt cx="3025800" cy="3319200"/>
          </a:xfrm>
        </p:grpSpPr>
        <p:sp>
          <p:nvSpPr>
            <p:cNvPr id="869" name=""/>
            <p:cNvSpPr/>
            <p:nvPr/>
          </p:nvSpPr>
          <p:spPr>
            <a:xfrm>
              <a:off x="3011400" y="2133720"/>
              <a:ext cx="3025800" cy="331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629160" y="2771640"/>
              <a:ext cx="1938240" cy="193320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4275000" y="2771640"/>
              <a:ext cx="0" cy="19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4921200" y="2771640"/>
              <a:ext cx="0" cy="19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21960" y="487512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17360" y="4995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629160" y="4705200"/>
              <a:ext cx="1938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3629160" y="4705200"/>
              <a:ext cx="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4275000" y="4705200"/>
              <a:ext cx="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4921200" y="4705200"/>
              <a:ext cx="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5567400" y="4705200"/>
              <a:ext cx="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590640" y="480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236840" y="480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882680" y="480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528880" y="480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629160" y="2771640"/>
              <a:ext cx="1938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29160" y="3736800"/>
              <a:ext cx="1938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35160" y="3135240"/>
              <a:ext cx="19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"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17320" y="324000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y 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396600" y="3135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83720" y="3240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539520" y="3135240"/>
              <a:ext cx="6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629160" y="2771640"/>
              <a:ext cx="0" cy="1933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05040" y="4705200"/>
              <a:ext cx="24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605040" y="3736800"/>
              <a:ext cx="24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05040" y="2771640"/>
              <a:ext cx="24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343680" y="46256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43680" y="36590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343680" y="26938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5567400" y="2771640"/>
              <a:ext cx="0" cy="1933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629160" y="3526560"/>
              <a:ext cx="1938240" cy="231480"/>
            </a:xfrm>
            <a:custGeom>
              <a:avLst/>
              <a:gdLst/>
              <a:ahLst/>
              <a:rect l="l" t="t" r="r" b="b"/>
              <a:pathLst>
                <a:path w="1575" h="189">
                  <a:moveTo>
                    <a:pt x="0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1" y="4"/>
                  </a:lnTo>
                  <a:lnTo>
                    <a:pt x="36" y="5"/>
                  </a:lnTo>
                  <a:lnTo>
                    <a:pt x="42" y="5"/>
                  </a:lnTo>
                  <a:lnTo>
                    <a:pt x="47" y="6"/>
                  </a:lnTo>
                  <a:lnTo>
                    <a:pt x="52" y="7"/>
                  </a:lnTo>
                  <a:lnTo>
                    <a:pt x="57" y="7"/>
                  </a:lnTo>
                  <a:lnTo>
                    <a:pt x="63" y="8"/>
                  </a:lnTo>
                  <a:lnTo>
                    <a:pt x="68" y="8"/>
                  </a:lnTo>
                  <a:lnTo>
                    <a:pt x="73" y="9"/>
                  </a:lnTo>
                  <a:lnTo>
                    <a:pt x="78" y="10"/>
                  </a:lnTo>
                  <a:lnTo>
                    <a:pt x="84" y="10"/>
                  </a:lnTo>
                  <a:lnTo>
                    <a:pt x="89" y="11"/>
                  </a:lnTo>
                  <a:lnTo>
                    <a:pt x="94" y="12"/>
                  </a:lnTo>
                  <a:lnTo>
                    <a:pt x="99" y="12"/>
                  </a:lnTo>
                  <a:lnTo>
                    <a:pt x="105" y="13"/>
                  </a:lnTo>
                  <a:lnTo>
                    <a:pt x="110" y="14"/>
                  </a:lnTo>
                  <a:lnTo>
                    <a:pt x="115" y="14"/>
                  </a:lnTo>
                  <a:lnTo>
                    <a:pt x="120" y="15"/>
                  </a:lnTo>
                  <a:lnTo>
                    <a:pt x="126" y="15"/>
                  </a:lnTo>
                  <a:lnTo>
                    <a:pt x="131" y="16"/>
                  </a:lnTo>
                  <a:lnTo>
                    <a:pt x="136" y="17"/>
                  </a:lnTo>
                  <a:lnTo>
                    <a:pt x="141" y="17"/>
                  </a:lnTo>
                  <a:lnTo>
                    <a:pt x="147" y="18"/>
                  </a:lnTo>
                  <a:lnTo>
                    <a:pt x="152" y="19"/>
                  </a:lnTo>
                  <a:lnTo>
                    <a:pt x="157" y="19"/>
                  </a:lnTo>
                  <a:lnTo>
                    <a:pt x="162" y="20"/>
                  </a:lnTo>
                  <a:lnTo>
                    <a:pt x="168" y="20"/>
                  </a:lnTo>
                  <a:lnTo>
                    <a:pt x="173" y="21"/>
                  </a:lnTo>
                  <a:lnTo>
                    <a:pt x="178" y="22"/>
                  </a:lnTo>
                  <a:lnTo>
                    <a:pt x="183" y="22"/>
                  </a:lnTo>
                  <a:lnTo>
                    <a:pt x="189" y="23"/>
                  </a:lnTo>
                  <a:lnTo>
                    <a:pt x="194" y="24"/>
                  </a:lnTo>
                  <a:lnTo>
                    <a:pt x="199" y="24"/>
                  </a:lnTo>
                  <a:lnTo>
                    <a:pt x="204" y="25"/>
                  </a:lnTo>
                  <a:lnTo>
                    <a:pt x="210" y="25"/>
                  </a:lnTo>
                  <a:lnTo>
                    <a:pt x="215" y="26"/>
                  </a:lnTo>
                  <a:lnTo>
                    <a:pt x="220" y="27"/>
                  </a:lnTo>
                  <a:lnTo>
                    <a:pt x="225" y="27"/>
                  </a:lnTo>
                  <a:lnTo>
                    <a:pt x="231" y="28"/>
                  </a:lnTo>
                  <a:lnTo>
                    <a:pt x="236" y="29"/>
                  </a:lnTo>
                  <a:lnTo>
                    <a:pt x="241" y="29"/>
                  </a:lnTo>
                  <a:lnTo>
                    <a:pt x="246" y="30"/>
                  </a:lnTo>
                  <a:lnTo>
                    <a:pt x="252" y="31"/>
                  </a:lnTo>
                  <a:lnTo>
                    <a:pt x="257" y="31"/>
                  </a:lnTo>
                  <a:lnTo>
                    <a:pt x="262" y="32"/>
                  </a:lnTo>
                  <a:lnTo>
                    <a:pt x="267" y="32"/>
                  </a:lnTo>
                  <a:lnTo>
                    <a:pt x="273" y="33"/>
                  </a:lnTo>
                  <a:lnTo>
                    <a:pt x="278" y="34"/>
                  </a:lnTo>
                  <a:lnTo>
                    <a:pt x="283" y="34"/>
                  </a:lnTo>
                  <a:lnTo>
                    <a:pt x="288" y="35"/>
                  </a:lnTo>
                  <a:lnTo>
                    <a:pt x="294" y="36"/>
                  </a:lnTo>
                  <a:lnTo>
                    <a:pt x="299" y="36"/>
                  </a:lnTo>
                  <a:lnTo>
                    <a:pt x="304" y="37"/>
                  </a:lnTo>
                  <a:lnTo>
                    <a:pt x="309" y="37"/>
                  </a:lnTo>
                  <a:lnTo>
                    <a:pt x="315" y="38"/>
                  </a:lnTo>
                  <a:lnTo>
                    <a:pt x="320" y="39"/>
                  </a:lnTo>
                  <a:lnTo>
                    <a:pt x="325" y="39"/>
                  </a:lnTo>
                  <a:lnTo>
                    <a:pt x="330" y="40"/>
                  </a:lnTo>
                  <a:lnTo>
                    <a:pt x="336" y="41"/>
                  </a:lnTo>
                  <a:lnTo>
                    <a:pt x="341" y="41"/>
                  </a:lnTo>
                  <a:lnTo>
                    <a:pt x="346" y="42"/>
                  </a:lnTo>
                  <a:lnTo>
                    <a:pt x="351" y="42"/>
                  </a:lnTo>
                  <a:lnTo>
                    <a:pt x="357" y="43"/>
                  </a:lnTo>
                  <a:lnTo>
                    <a:pt x="362" y="44"/>
                  </a:lnTo>
                  <a:lnTo>
                    <a:pt x="367" y="44"/>
                  </a:lnTo>
                  <a:lnTo>
                    <a:pt x="372" y="45"/>
                  </a:lnTo>
                  <a:lnTo>
                    <a:pt x="378" y="46"/>
                  </a:lnTo>
                  <a:lnTo>
                    <a:pt x="383" y="46"/>
                  </a:lnTo>
                  <a:lnTo>
                    <a:pt x="388" y="47"/>
                  </a:lnTo>
                  <a:lnTo>
                    <a:pt x="393" y="48"/>
                  </a:lnTo>
                  <a:lnTo>
                    <a:pt x="399" y="48"/>
                  </a:lnTo>
                  <a:lnTo>
                    <a:pt x="404" y="49"/>
                  </a:lnTo>
                  <a:lnTo>
                    <a:pt x="409" y="49"/>
                  </a:lnTo>
                  <a:lnTo>
                    <a:pt x="414" y="50"/>
                  </a:lnTo>
                  <a:lnTo>
                    <a:pt x="420" y="51"/>
                  </a:lnTo>
                  <a:lnTo>
                    <a:pt x="425" y="51"/>
                  </a:lnTo>
                  <a:lnTo>
                    <a:pt x="430" y="52"/>
                  </a:lnTo>
                  <a:lnTo>
                    <a:pt x="435" y="53"/>
                  </a:lnTo>
                  <a:lnTo>
                    <a:pt x="441" y="53"/>
                  </a:lnTo>
                  <a:lnTo>
                    <a:pt x="446" y="54"/>
                  </a:lnTo>
                  <a:lnTo>
                    <a:pt x="451" y="54"/>
                  </a:lnTo>
                  <a:lnTo>
                    <a:pt x="456" y="55"/>
                  </a:lnTo>
                  <a:lnTo>
                    <a:pt x="462" y="56"/>
                  </a:lnTo>
                  <a:lnTo>
                    <a:pt x="467" y="56"/>
                  </a:lnTo>
                  <a:lnTo>
                    <a:pt x="472" y="57"/>
                  </a:lnTo>
                  <a:lnTo>
                    <a:pt x="477" y="58"/>
                  </a:lnTo>
                  <a:lnTo>
                    <a:pt x="483" y="58"/>
                  </a:lnTo>
                  <a:lnTo>
                    <a:pt x="488" y="59"/>
                  </a:lnTo>
                  <a:lnTo>
                    <a:pt x="493" y="60"/>
                  </a:lnTo>
                  <a:lnTo>
                    <a:pt x="498" y="60"/>
                  </a:lnTo>
                  <a:lnTo>
                    <a:pt x="504" y="61"/>
                  </a:lnTo>
                  <a:lnTo>
                    <a:pt x="509" y="61"/>
                  </a:lnTo>
                  <a:lnTo>
                    <a:pt x="514" y="62"/>
                  </a:lnTo>
                  <a:lnTo>
                    <a:pt x="519" y="63"/>
                  </a:lnTo>
                  <a:lnTo>
                    <a:pt x="525" y="63"/>
                  </a:lnTo>
                  <a:lnTo>
                    <a:pt x="530" y="64"/>
                  </a:lnTo>
                  <a:lnTo>
                    <a:pt x="535" y="65"/>
                  </a:lnTo>
                  <a:lnTo>
                    <a:pt x="540" y="65"/>
                  </a:lnTo>
                  <a:lnTo>
                    <a:pt x="546" y="66"/>
                  </a:lnTo>
                  <a:lnTo>
                    <a:pt x="551" y="66"/>
                  </a:lnTo>
                  <a:lnTo>
                    <a:pt x="556" y="67"/>
                  </a:lnTo>
                  <a:lnTo>
                    <a:pt x="561" y="68"/>
                  </a:lnTo>
                  <a:lnTo>
                    <a:pt x="567" y="68"/>
                  </a:lnTo>
                  <a:lnTo>
                    <a:pt x="572" y="69"/>
                  </a:lnTo>
                  <a:lnTo>
                    <a:pt x="577" y="70"/>
                  </a:lnTo>
                  <a:lnTo>
                    <a:pt x="582" y="70"/>
                  </a:lnTo>
                  <a:lnTo>
                    <a:pt x="588" y="71"/>
                  </a:lnTo>
                  <a:lnTo>
                    <a:pt x="593" y="71"/>
                  </a:lnTo>
                  <a:lnTo>
                    <a:pt x="598" y="72"/>
                  </a:lnTo>
                  <a:lnTo>
                    <a:pt x="603" y="73"/>
                  </a:lnTo>
                  <a:lnTo>
                    <a:pt x="609" y="73"/>
                  </a:lnTo>
                  <a:lnTo>
                    <a:pt x="614" y="74"/>
                  </a:lnTo>
                  <a:lnTo>
                    <a:pt x="619" y="75"/>
                  </a:lnTo>
                  <a:lnTo>
                    <a:pt x="624" y="75"/>
                  </a:lnTo>
                  <a:lnTo>
                    <a:pt x="630" y="76"/>
                  </a:lnTo>
                  <a:lnTo>
                    <a:pt x="635" y="77"/>
                  </a:lnTo>
                  <a:lnTo>
                    <a:pt x="640" y="77"/>
                  </a:lnTo>
                  <a:lnTo>
                    <a:pt x="645" y="78"/>
                  </a:lnTo>
                  <a:lnTo>
                    <a:pt x="651" y="78"/>
                  </a:lnTo>
                  <a:lnTo>
                    <a:pt x="656" y="79"/>
                  </a:lnTo>
                  <a:lnTo>
                    <a:pt x="661" y="80"/>
                  </a:lnTo>
                  <a:lnTo>
                    <a:pt x="666" y="80"/>
                  </a:lnTo>
                  <a:lnTo>
                    <a:pt x="672" y="81"/>
                  </a:lnTo>
                  <a:lnTo>
                    <a:pt x="677" y="82"/>
                  </a:lnTo>
                  <a:lnTo>
                    <a:pt x="682" y="82"/>
                  </a:lnTo>
                  <a:lnTo>
                    <a:pt x="687" y="83"/>
                  </a:lnTo>
                  <a:lnTo>
                    <a:pt x="693" y="83"/>
                  </a:lnTo>
                  <a:lnTo>
                    <a:pt x="698" y="84"/>
                  </a:lnTo>
                  <a:lnTo>
                    <a:pt x="703" y="85"/>
                  </a:lnTo>
                  <a:lnTo>
                    <a:pt x="708" y="85"/>
                  </a:lnTo>
                  <a:lnTo>
                    <a:pt x="714" y="86"/>
                  </a:lnTo>
                  <a:lnTo>
                    <a:pt x="719" y="87"/>
                  </a:lnTo>
                  <a:lnTo>
                    <a:pt x="724" y="87"/>
                  </a:lnTo>
                  <a:lnTo>
                    <a:pt x="729" y="88"/>
                  </a:lnTo>
                  <a:lnTo>
                    <a:pt x="735" y="88"/>
                  </a:lnTo>
                  <a:lnTo>
                    <a:pt x="740" y="89"/>
                  </a:lnTo>
                  <a:lnTo>
                    <a:pt x="745" y="90"/>
                  </a:lnTo>
                  <a:lnTo>
                    <a:pt x="750" y="90"/>
                  </a:lnTo>
                  <a:lnTo>
                    <a:pt x="756" y="91"/>
                  </a:lnTo>
                  <a:lnTo>
                    <a:pt x="761" y="92"/>
                  </a:lnTo>
                  <a:lnTo>
                    <a:pt x="766" y="92"/>
                  </a:lnTo>
                  <a:lnTo>
                    <a:pt x="771" y="93"/>
                  </a:lnTo>
                  <a:lnTo>
                    <a:pt x="777" y="94"/>
                  </a:lnTo>
                  <a:lnTo>
                    <a:pt x="782" y="94"/>
                  </a:lnTo>
                  <a:lnTo>
                    <a:pt x="787" y="95"/>
                  </a:lnTo>
                  <a:lnTo>
                    <a:pt x="792" y="95"/>
                  </a:lnTo>
                  <a:lnTo>
                    <a:pt x="798" y="96"/>
                  </a:lnTo>
                  <a:lnTo>
                    <a:pt x="803" y="97"/>
                  </a:lnTo>
                  <a:lnTo>
                    <a:pt x="808" y="97"/>
                  </a:lnTo>
                  <a:lnTo>
                    <a:pt x="813" y="98"/>
                  </a:lnTo>
                  <a:lnTo>
                    <a:pt x="819" y="99"/>
                  </a:lnTo>
                  <a:lnTo>
                    <a:pt x="824" y="99"/>
                  </a:lnTo>
                  <a:lnTo>
                    <a:pt x="829" y="100"/>
                  </a:lnTo>
                  <a:lnTo>
                    <a:pt x="834" y="100"/>
                  </a:lnTo>
                  <a:lnTo>
                    <a:pt x="840" y="101"/>
                  </a:lnTo>
                  <a:lnTo>
                    <a:pt x="845" y="102"/>
                  </a:lnTo>
                  <a:lnTo>
                    <a:pt x="850" y="102"/>
                  </a:lnTo>
                  <a:lnTo>
                    <a:pt x="855" y="103"/>
                  </a:lnTo>
                  <a:lnTo>
                    <a:pt x="861" y="104"/>
                  </a:lnTo>
                  <a:lnTo>
                    <a:pt x="866" y="104"/>
                  </a:lnTo>
                  <a:lnTo>
                    <a:pt x="871" y="105"/>
                  </a:lnTo>
                  <a:lnTo>
                    <a:pt x="876" y="105"/>
                  </a:lnTo>
                  <a:lnTo>
                    <a:pt x="882" y="106"/>
                  </a:lnTo>
                  <a:lnTo>
                    <a:pt x="887" y="107"/>
                  </a:lnTo>
                  <a:lnTo>
                    <a:pt x="892" y="107"/>
                  </a:lnTo>
                  <a:lnTo>
                    <a:pt x="897" y="108"/>
                  </a:lnTo>
                  <a:lnTo>
                    <a:pt x="903" y="109"/>
                  </a:lnTo>
                  <a:lnTo>
                    <a:pt x="908" y="109"/>
                  </a:lnTo>
                  <a:lnTo>
                    <a:pt x="913" y="110"/>
                  </a:lnTo>
                  <a:lnTo>
                    <a:pt x="918" y="111"/>
                  </a:lnTo>
                  <a:lnTo>
                    <a:pt x="924" y="111"/>
                  </a:lnTo>
                  <a:lnTo>
                    <a:pt x="929" y="112"/>
                  </a:lnTo>
                  <a:lnTo>
                    <a:pt x="934" y="112"/>
                  </a:lnTo>
                  <a:lnTo>
                    <a:pt x="939" y="113"/>
                  </a:lnTo>
                  <a:lnTo>
                    <a:pt x="945" y="114"/>
                  </a:lnTo>
                  <a:lnTo>
                    <a:pt x="950" y="114"/>
                  </a:lnTo>
                  <a:lnTo>
                    <a:pt x="955" y="115"/>
                  </a:lnTo>
                  <a:lnTo>
                    <a:pt x="960" y="116"/>
                  </a:lnTo>
                  <a:lnTo>
                    <a:pt x="966" y="116"/>
                  </a:lnTo>
                  <a:lnTo>
                    <a:pt x="971" y="117"/>
                  </a:lnTo>
                  <a:lnTo>
                    <a:pt x="976" y="117"/>
                  </a:lnTo>
                  <a:lnTo>
                    <a:pt x="981" y="118"/>
                  </a:lnTo>
                  <a:lnTo>
                    <a:pt x="987" y="119"/>
                  </a:lnTo>
                  <a:lnTo>
                    <a:pt x="992" y="119"/>
                  </a:lnTo>
                  <a:lnTo>
                    <a:pt x="997" y="120"/>
                  </a:lnTo>
                  <a:lnTo>
                    <a:pt x="1002" y="121"/>
                  </a:lnTo>
                  <a:lnTo>
                    <a:pt x="1008" y="121"/>
                  </a:lnTo>
                  <a:lnTo>
                    <a:pt x="1013" y="122"/>
                  </a:lnTo>
                  <a:lnTo>
                    <a:pt x="1018" y="123"/>
                  </a:lnTo>
                  <a:lnTo>
                    <a:pt x="1023" y="123"/>
                  </a:lnTo>
                  <a:lnTo>
                    <a:pt x="1029" y="124"/>
                  </a:lnTo>
                  <a:lnTo>
                    <a:pt x="1034" y="124"/>
                  </a:lnTo>
                  <a:lnTo>
                    <a:pt x="1039" y="125"/>
                  </a:lnTo>
                  <a:lnTo>
                    <a:pt x="1044" y="126"/>
                  </a:lnTo>
                  <a:lnTo>
                    <a:pt x="1050" y="126"/>
                  </a:lnTo>
                  <a:lnTo>
                    <a:pt x="1055" y="127"/>
                  </a:lnTo>
                  <a:lnTo>
                    <a:pt x="1060" y="128"/>
                  </a:lnTo>
                  <a:lnTo>
                    <a:pt x="1065" y="128"/>
                  </a:lnTo>
                  <a:lnTo>
                    <a:pt x="1071" y="129"/>
                  </a:lnTo>
                  <a:lnTo>
                    <a:pt x="1076" y="129"/>
                  </a:lnTo>
                  <a:lnTo>
                    <a:pt x="1081" y="130"/>
                  </a:lnTo>
                  <a:lnTo>
                    <a:pt x="1086" y="131"/>
                  </a:lnTo>
                  <a:lnTo>
                    <a:pt x="1092" y="131"/>
                  </a:lnTo>
                  <a:lnTo>
                    <a:pt x="1097" y="132"/>
                  </a:lnTo>
                  <a:lnTo>
                    <a:pt x="1102" y="133"/>
                  </a:lnTo>
                  <a:lnTo>
                    <a:pt x="1107" y="133"/>
                  </a:lnTo>
                  <a:lnTo>
                    <a:pt x="1113" y="134"/>
                  </a:lnTo>
                  <a:lnTo>
                    <a:pt x="1118" y="134"/>
                  </a:lnTo>
                  <a:lnTo>
                    <a:pt x="1123" y="135"/>
                  </a:lnTo>
                  <a:lnTo>
                    <a:pt x="1128" y="136"/>
                  </a:lnTo>
                  <a:lnTo>
                    <a:pt x="1134" y="136"/>
                  </a:lnTo>
                  <a:lnTo>
                    <a:pt x="1139" y="137"/>
                  </a:lnTo>
                  <a:lnTo>
                    <a:pt x="1144" y="138"/>
                  </a:lnTo>
                  <a:lnTo>
                    <a:pt x="1149" y="138"/>
                  </a:lnTo>
                  <a:lnTo>
                    <a:pt x="1155" y="139"/>
                  </a:lnTo>
                  <a:lnTo>
                    <a:pt x="1160" y="140"/>
                  </a:lnTo>
                  <a:lnTo>
                    <a:pt x="1165" y="140"/>
                  </a:lnTo>
                  <a:lnTo>
                    <a:pt x="1170" y="141"/>
                  </a:lnTo>
                  <a:lnTo>
                    <a:pt x="1176" y="141"/>
                  </a:lnTo>
                  <a:lnTo>
                    <a:pt x="1181" y="142"/>
                  </a:lnTo>
                  <a:lnTo>
                    <a:pt x="1186" y="143"/>
                  </a:lnTo>
                  <a:lnTo>
                    <a:pt x="1191" y="143"/>
                  </a:lnTo>
                  <a:lnTo>
                    <a:pt x="1197" y="144"/>
                  </a:lnTo>
                  <a:lnTo>
                    <a:pt x="1202" y="145"/>
                  </a:lnTo>
                  <a:lnTo>
                    <a:pt x="1207" y="145"/>
                  </a:lnTo>
                  <a:lnTo>
                    <a:pt x="1212" y="146"/>
                  </a:lnTo>
                  <a:lnTo>
                    <a:pt x="1218" y="146"/>
                  </a:lnTo>
                  <a:lnTo>
                    <a:pt x="1223" y="147"/>
                  </a:lnTo>
                  <a:lnTo>
                    <a:pt x="1228" y="148"/>
                  </a:lnTo>
                  <a:lnTo>
                    <a:pt x="1233" y="148"/>
                  </a:lnTo>
                  <a:lnTo>
                    <a:pt x="1239" y="149"/>
                  </a:lnTo>
                  <a:lnTo>
                    <a:pt x="1244" y="150"/>
                  </a:lnTo>
                  <a:lnTo>
                    <a:pt x="1249" y="150"/>
                  </a:lnTo>
                  <a:lnTo>
                    <a:pt x="1254" y="151"/>
                  </a:lnTo>
                  <a:lnTo>
                    <a:pt x="1260" y="151"/>
                  </a:lnTo>
                  <a:lnTo>
                    <a:pt x="1265" y="152"/>
                  </a:lnTo>
                  <a:lnTo>
                    <a:pt x="1270" y="153"/>
                  </a:lnTo>
                  <a:lnTo>
                    <a:pt x="1275" y="153"/>
                  </a:lnTo>
                  <a:lnTo>
                    <a:pt x="1281" y="154"/>
                  </a:lnTo>
                  <a:lnTo>
                    <a:pt x="1286" y="155"/>
                  </a:lnTo>
                  <a:lnTo>
                    <a:pt x="1291" y="155"/>
                  </a:lnTo>
                  <a:lnTo>
                    <a:pt x="1296" y="156"/>
                  </a:lnTo>
                  <a:lnTo>
                    <a:pt x="1302" y="157"/>
                  </a:lnTo>
                  <a:lnTo>
                    <a:pt x="1307" y="157"/>
                  </a:lnTo>
                  <a:lnTo>
                    <a:pt x="1312" y="158"/>
                  </a:lnTo>
                  <a:lnTo>
                    <a:pt x="1317" y="158"/>
                  </a:lnTo>
                  <a:lnTo>
                    <a:pt x="1323" y="159"/>
                  </a:lnTo>
                  <a:lnTo>
                    <a:pt x="1328" y="160"/>
                  </a:lnTo>
                  <a:lnTo>
                    <a:pt x="1333" y="160"/>
                  </a:lnTo>
                  <a:lnTo>
                    <a:pt x="1338" y="161"/>
                  </a:lnTo>
                  <a:lnTo>
                    <a:pt x="1344" y="162"/>
                  </a:lnTo>
                  <a:lnTo>
                    <a:pt x="1349" y="162"/>
                  </a:lnTo>
                  <a:lnTo>
                    <a:pt x="1354" y="163"/>
                  </a:lnTo>
                  <a:lnTo>
                    <a:pt x="1359" y="163"/>
                  </a:lnTo>
                  <a:lnTo>
                    <a:pt x="1365" y="164"/>
                  </a:lnTo>
                  <a:lnTo>
                    <a:pt x="1370" y="165"/>
                  </a:lnTo>
                  <a:lnTo>
                    <a:pt x="1375" y="165"/>
                  </a:lnTo>
                  <a:lnTo>
                    <a:pt x="1380" y="166"/>
                  </a:lnTo>
                  <a:lnTo>
                    <a:pt x="1386" y="167"/>
                  </a:lnTo>
                  <a:lnTo>
                    <a:pt x="1391" y="167"/>
                  </a:lnTo>
                  <a:lnTo>
                    <a:pt x="1396" y="168"/>
                  </a:lnTo>
                  <a:lnTo>
                    <a:pt x="1401" y="168"/>
                  </a:lnTo>
                  <a:lnTo>
                    <a:pt x="1407" y="169"/>
                  </a:lnTo>
                  <a:lnTo>
                    <a:pt x="1412" y="170"/>
                  </a:lnTo>
                  <a:lnTo>
                    <a:pt x="1417" y="170"/>
                  </a:lnTo>
                  <a:lnTo>
                    <a:pt x="1422" y="171"/>
                  </a:lnTo>
                  <a:lnTo>
                    <a:pt x="1428" y="172"/>
                  </a:lnTo>
                  <a:lnTo>
                    <a:pt x="1433" y="172"/>
                  </a:lnTo>
                  <a:lnTo>
                    <a:pt x="1438" y="173"/>
                  </a:lnTo>
                  <a:lnTo>
                    <a:pt x="1443" y="174"/>
                  </a:lnTo>
                  <a:lnTo>
                    <a:pt x="1449" y="174"/>
                  </a:lnTo>
                  <a:lnTo>
                    <a:pt x="1454" y="175"/>
                  </a:lnTo>
                  <a:lnTo>
                    <a:pt x="1459" y="175"/>
                  </a:lnTo>
                  <a:lnTo>
                    <a:pt x="1464" y="176"/>
                  </a:lnTo>
                  <a:lnTo>
                    <a:pt x="1470" y="177"/>
                  </a:lnTo>
                  <a:lnTo>
                    <a:pt x="1475" y="177"/>
                  </a:lnTo>
                  <a:lnTo>
                    <a:pt x="1480" y="178"/>
                  </a:lnTo>
                  <a:lnTo>
                    <a:pt x="1485" y="179"/>
                  </a:lnTo>
                  <a:lnTo>
                    <a:pt x="1491" y="179"/>
                  </a:lnTo>
                  <a:lnTo>
                    <a:pt x="1496" y="180"/>
                  </a:lnTo>
                  <a:lnTo>
                    <a:pt x="1501" y="180"/>
                  </a:lnTo>
                  <a:lnTo>
                    <a:pt x="1506" y="181"/>
                  </a:lnTo>
                  <a:lnTo>
                    <a:pt x="1512" y="182"/>
                  </a:lnTo>
                  <a:lnTo>
                    <a:pt x="1517" y="182"/>
                  </a:lnTo>
                  <a:lnTo>
                    <a:pt x="1522" y="183"/>
                  </a:lnTo>
                  <a:lnTo>
                    <a:pt x="1527" y="184"/>
                  </a:lnTo>
                  <a:lnTo>
                    <a:pt x="1533" y="184"/>
                  </a:lnTo>
                  <a:lnTo>
                    <a:pt x="1538" y="185"/>
                  </a:lnTo>
                  <a:lnTo>
                    <a:pt x="1543" y="186"/>
                  </a:lnTo>
                  <a:lnTo>
                    <a:pt x="1548" y="186"/>
                  </a:lnTo>
                  <a:lnTo>
                    <a:pt x="1554" y="187"/>
                  </a:lnTo>
                  <a:lnTo>
                    <a:pt x="1559" y="187"/>
                  </a:lnTo>
                  <a:lnTo>
                    <a:pt x="1564" y="188"/>
                  </a:lnTo>
                  <a:lnTo>
                    <a:pt x="1569" y="189"/>
                  </a:lnTo>
                  <a:lnTo>
                    <a:pt x="1575" y="18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3629160" y="3315240"/>
              <a:ext cx="1938240" cy="464760"/>
            </a:xfrm>
            <a:custGeom>
              <a:avLst/>
              <a:gdLst/>
              <a:ahLst/>
              <a:rect l="l" t="t" r="r" b="b"/>
              <a:pathLst>
                <a:path w="1575" h="378">
                  <a:moveTo>
                    <a:pt x="0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6" y="6"/>
                  </a:lnTo>
                  <a:lnTo>
                    <a:pt x="31" y="7"/>
                  </a:lnTo>
                  <a:lnTo>
                    <a:pt x="36" y="8"/>
                  </a:lnTo>
                  <a:lnTo>
                    <a:pt x="42" y="10"/>
                  </a:lnTo>
                  <a:lnTo>
                    <a:pt x="47" y="11"/>
                  </a:lnTo>
                  <a:lnTo>
                    <a:pt x="52" y="12"/>
                  </a:lnTo>
                  <a:lnTo>
                    <a:pt x="57" y="13"/>
                  </a:lnTo>
                  <a:lnTo>
                    <a:pt x="63" y="15"/>
                  </a:lnTo>
                  <a:lnTo>
                    <a:pt x="68" y="16"/>
                  </a:lnTo>
                  <a:lnTo>
                    <a:pt x="73" y="17"/>
                  </a:lnTo>
                  <a:lnTo>
                    <a:pt x="78" y="18"/>
                  </a:lnTo>
                  <a:lnTo>
                    <a:pt x="84" y="20"/>
                  </a:lnTo>
                  <a:lnTo>
                    <a:pt x="89" y="21"/>
                  </a:lnTo>
                  <a:lnTo>
                    <a:pt x="94" y="22"/>
                  </a:lnTo>
                  <a:lnTo>
                    <a:pt x="99" y="24"/>
                  </a:lnTo>
                  <a:lnTo>
                    <a:pt x="105" y="25"/>
                  </a:lnTo>
                  <a:lnTo>
                    <a:pt x="110" y="26"/>
                  </a:lnTo>
                  <a:lnTo>
                    <a:pt x="115" y="27"/>
                  </a:lnTo>
                  <a:lnTo>
                    <a:pt x="120" y="29"/>
                  </a:lnTo>
                  <a:lnTo>
                    <a:pt x="126" y="30"/>
                  </a:lnTo>
                  <a:lnTo>
                    <a:pt x="131" y="31"/>
                  </a:lnTo>
                  <a:lnTo>
                    <a:pt x="136" y="32"/>
                  </a:lnTo>
                  <a:lnTo>
                    <a:pt x="141" y="34"/>
                  </a:lnTo>
                  <a:lnTo>
                    <a:pt x="147" y="35"/>
                  </a:lnTo>
                  <a:lnTo>
                    <a:pt x="152" y="36"/>
                  </a:lnTo>
                  <a:lnTo>
                    <a:pt x="157" y="37"/>
                  </a:lnTo>
                  <a:lnTo>
                    <a:pt x="162" y="39"/>
                  </a:lnTo>
                  <a:lnTo>
                    <a:pt x="168" y="40"/>
                  </a:lnTo>
                  <a:lnTo>
                    <a:pt x="173" y="41"/>
                  </a:lnTo>
                  <a:lnTo>
                    <a:pt x="178" y="42"/>
                  </a:lnTo>
                  <a:lnTo>
                    <a:pt x="183" y="44"/>
                  </a:lnTo>
                  <a:lnTo>
                    <a:pt x="189" y="45"/>
                  </a:lnTo>
                  <a:lnTo>
                    <a:pt x="194" y="46"/>
                  </a:lnTo>
                  <a:lnTo>
                    <a:pt x="199" y="47"/>
                  </a:lnTo>
                  <a:lnTo>
                    <a:pt x="204" y="49"/>
                  </a:lnTo>
                  <a:lnTo>
                    <a:pt x="210" y="50"/>
                  </a:lnTo>
                  <a:lnTo>
                    <a:pt x="215" y="51"/>
                  </a:lnTo>
                  <a:lnTo>
                    <a:pt x="220" y="52"/>
                  </a:lnTo>
                  <a:lnTo>
                    <a:pt x="225" y="54"/>
                  </a:lnTo>
                  <a:lnTo>
                    <a:pt x="231" y="55"/>
                  </a:lnTo>
                  <a:lnTo>
                    <a:pt x="236" y="56"/>
                  </a:lnTo>
                  <a:lnTo>
                    <a:pt x="241" y="58"/>
                  </a:lnTo>
                  <a:lnTo>
                    <a:pt x="246" y="59"/>
                  </a:lnTo>
                  <a:lnTo>
                    <a:pt x="252" y="60"/>
                  </a:lnTo>
                  <a:lnTo>
                    <a:pt x="257" y="61"/>
                  </a:lnTo>
                  <a:lnTo>
                    <a:pt x="262" y="63"/>
                  </a:lnTo>
                  <a:lnTo>
                    <a:pt x="267" y="64"/>
                  </a:lnTo>
                  <a:lnTo>
                    <a:pt x="273" y="65"/>
                  </a:lnTo>
                  <a:lnTo>
                    <a:pt x="278" y="66"/>
                  </a:lnTo>
                  <a:lnTo>
                    <a:pt x="283" y="68"/>
                  </a:lnTo>
                  <a:lnTo>
                    <a:pt x="288" y="69"/>
                  </a:lnTo>
                  <a:lnTo>
                    <a:pt x="294" y="70"/>
                  </a:lnTo>
                  <a:lnTo>
                    <a:pt x="299" y="71"/>
                  </a:lnTo>
                  <a:lnTo>
                    <a:pt x="304" y="73"/>
                  </a:lnTo>
                  <a:lnTo>
                    <a:pt x="309" y="74"/>
                  </a:lnTo>
                  <a:lnTo>
                    <a:pt x="315" y="75"/>
                  </a:lnTo>
                  <a:lnTo>
                    <a:pt x="320" y="76"/>
                  </a:lnTo>
                  <a:lnTo>
                    <a:pt x="325" y="78"/>
                  </a:lnTo>
                  <a:lnTo>
                    <a:pt x="330" y="79"/>
                  </a:lnTo>
                  <a:lnTo>
                    <a:pt x="336" y="80"/>
                  </a:lnTo>
                  <a:lnTo>
                    <a:pt x="341" y="81"/>
                  </a:lnTo>
                  <a:lnTo>
                    <a:pt x="346" y="83"/>
                  </a:lnTo>
                  <a:lnTo>
                    <a:pt x="351" y="84"/>
                  </a:lnTo>
                  <a:lnTo>
                    <a:pt x="357" y="85"/>
                  </a:lnTo>
                  <a:lnTo>
                    <a:pt x="362" y="87"/>
                  </a:lnTo>
                  <a:lnTo>
                    <a:pt x="367" y="88"/>
                  </a:lnTo>
                  <a:lnTo>
                    <a:pt x="372" y="89"/>
                  </a:lnTo>
                  <a:lnTo>
                    <a:pt x="378" y="90"/>
                  </a:lnTo>
                  <a:lnTo>
                    <a:pt x="383" y="92"/>
                  </a:lnTo>
                  <a:lnTo>
                    <a:pt x="388" y="93"/>
                  </a:lnTo>
                  <a:lnTo>
                    <a:pt x="393" y="94"/>
                  </a:lnTo>
                  <a:lnTo>
                    <a:pt x="399" y="95"/>
                  </a:lnTo>
                  <a:lnTo>
                    <a:pt x="404" y="97"/>
                  </a:lnTo>
                  <a:lnTo>
                    <a:pt x="409" y="98"/>
                  </a:lnTo>
                  <a:lnTo>
                    <a:pt x="414" y="99"/>
                  </a:lnTo>
                  <a:lnTo>
                    <a:pt x="420" y="100"/>
                  </a:lnTo>
                  <a:lnTo>
                    <a:pt x="425" y="102"/>
                  </a:lnTo>
                  <a:lnTo>
                    <a:pt x="430" y="103"/>
                  </a:lnTo>
                  <a:lnTo>
                    <a:pt x="435" y="104"/>
                  </a:lnTo>
                  <a:lnTo>
                    <a:pt x="441" y="105"/>
                  </a:lnTo>
                  <a:lnTo>
                    <a:pt x="446" y="107"/>
                  </a:lnTo>
                  <a:lnTo>
                    <a:pt x="451" y="108"/>
                  </a:lnTo>
                  <a:lnTo>
                    <a:pt x="456" y="109"/>
                  </a:lnTo>
                  <a:lnTo>
                    <a:pt x="462" y="110"/>
                  </a:lnTo>
                  <a:lnTo>
                    <a:pt x="467" y="112"/>
                  </a:lnTo>
                  <a:lnTo>
                    <a:pt x="472" y="113"/>
                  </a:lnTo>
                  <a:lnTo>
                    <a:pt x="477" y="114"/>
                  </a:lnTo>
                  <a:lnTo>
                    <a:pt x="483" y="115"/>
                  </a:lnTo>
                  <a:lnTo>
                    <a:pt x="488" y="117"/>
                  </a:lnTo>
                  <a:lnTo>
                    <a:pt x="493" y="118"/>
                  </a:lnTo>
                  <a:lnTo>
                    <a:pt x="498" y="119"/>
                  </a:lnTo>
                  <a:lnTo>
                    <a:pt x="504" y="121"/>
                  </a:lnTo>
                  <a:lnTo>
                    <a:pt x="509" y="122"/>
                  </a:lnTo>
                  <a:lnTo>
                    <a:pt x="514" y="123"/>
                  </a:lnTo>
                  <a:lnTo>
                    <a:pt x="519" y="124"/>
                  </a:lnTo>
                  <a:lnTo>
                    <a:pt x="525" y="126"/>
                  </a:lnTo>
                  <a:lnTo>
                    <a:pt x="530" y="127"/>
                  </a:lnTo>
                  <a:lnTo>
                    <a:pt x="535" y="128"/>
                  </a:lnTo>
                  <a:lnTo>
                    <a:pt x="540" y="129"/>
                  </a:lnTo>
                  <a:lnTo>
                    <a:pt x="546" y="131"/>
                  </a:lnTo>
                  <a:lnTo>
                    <a:pt x="551" y="132"/>
                  </a:lnTo>
                  <a:lnTo>
                    <a:pt x="556" y="133"/>
                  </a:lnTo>
                  <a:lnTo>
                    <a:pt x="561" y="134"/>
                  </a:lnTo>
                  <a:lnTo>
                    <a:pt x="567" y="136"/>
                  </a:lnTo>
                  <a:lnTo>
                    <a:pt x="572" y="137"/>
                  </a:lnTo>
                  <a:lnTo>
                    <a:pt x="577" y="138"/>
                  </a:lnTo>
                  <a:lnTo>
                    <a:pt x="582" y="139"/>
                  </a:lnTo>
                  <a:lnTo>
                    <a:pt x="588" y="141"/>
                  </a:lnTo>
                  <a:lnTo>
                    <a:pt x="593" y="142"/>
                  </a:lnTo>
                  <a:lnTo>
                    <a:pt x="598" y="143"/>
                  </a:lnTo>
                  <a:lnTo>
                    <a:pt x="603" y="144"/>
                  </a:lnTo>
                  <a:lnTo>
                    <a:pt x="609" y="146"/>
                  </a:lnTo>
                  <a:lnTo>
                    <a:pt x="614" y="147"/>
                  </a:lnTo>
                  <a:lnTo>
                    <a:pt x="619" y="148"/>
                  </a:lnTo>
                  <a:lnTo>
                    <a:pt x="624" y="150"/>
                  </a:lnTo>
                  <a:lnTo>
                    <a:pt x="630" y="151"/>
                  </a:lnTo>
                  <a:lnTo>
                    <a:pt x="635" y="152"/>
                  </a:lnTo>
                  <a:lnTo>
                    <a:pt x="640" y="153"/>
                  </a:lnTo>
                  <a:lnTo>
                    <a:pt x="645" y="155"/>
                  </a:lnTo>
                  <a:lnTo>
                    <a:pt x="651" y="156"/>
                  </a:lnTo>
                  <a:lnTo>
                    <a:pt x="656" y="157"/>
                  </a:lnTo>
                  <a:lnTo>
                    <a:pt x="661" y="158"/>
                  </a:lnTo>
                  <a:lnTo>
                    <a:pt x="666" y="160"/>
                  </a:lnTo>
                  <a:lnTo>
                    <a:pt x="672" y="161"/>
                  </a:lnTo>
                  <a:lnTo>
                    <a:pt x="677" y="162"/>
                  </a:lnTo>
                  <a:lnTo>
                    <a:pt x="682" y="163"/>
                  </a:lnTo>
                  <a:lnTo>
                    <a:pt x="687" y="165"/>
                  </a:lnTo>
                  <a:lnTo>
                    <a:pt x="693" y="166"/>
                  </a:lnTo>
                  <a:lnTo>
                    <a:pt x="698" y="167"/>
                  </a:lnTo>
                  <a:lnTo>
                    <a:pt x="703" y="168"/>
                  </a:lnTo>
                  <a:lnTo>
                    <a:pt x="708" y="170"/>
                  </a:lnTo>
                  <a:lnTo>
                    <a:pt x="714" y="171"/>
                  </a:lnTo>
                  <a:lnTo>
                    <a:pt x="719" y="172"/>
                  </a:lnTo>
                  <a:lnTo>
                    <a:pt x="724" y="173"/>
                  </a:lnTo>
                  <a:lnTo>
                    <a:pt x="729" y="175"/>
                  </a:lnTo>
                  <a:lnTo>
                    <a:pt x="735" y="176"/>
                  </a:lnTo>
                  <a:lnTo>
                    <a:pt x="740" y="177"/>
                  </a:lnTo>
                  <a:lnTo>
                    <a:pt x="745" y="178"/>
                  </a:lnTo>
                  <a:lnTo>
                    <a:pt x="750" y="180"/>
                  </a:lnTo>
                  <a:lnTo>
                    <a:pt x="756" y="181"/>
                  </a:lnTo>
                  <a:lnTo>
                    <a:pt x="761" y="182"/>
                  </a:lnTo>
                  <a:lnTo>
                    <a:pt x="766" y="184"/>
                  </a:lnTo>
                  <a:lnTo>
                    <a:pt x="771" y="185"/>
                  </a:lnTo>
                  <a:lnTo>
                    <a:pt x="777" y="186"/>
                  </a:lnTo>
                  <a:lnTo>
                    <a:pt x="782" y="187"/>
                  </a:lnTo>
                  <a:lnTo>
                    <a:pt x="787" y="189"/>
                  </a:lnTo>
                  <a:lnTo>
                    <a:pt x="792" y="190"/>
                  </a:lnTo>
                  <a:lnTo>
                    <a:pt x="798" y="191"/>
                  </a:lnTo>
                  <a:lnTo>
                    <a:pt x="803" y="192"/>
                  </a:lnTo>
                  <a:lnTo>
                    <a:pt x="808" y="194"/>
                  </a:lnTo>
                  <a:lnTo>
                    <a:pt x="813" y="195"/>
                  </a:lnTo>
                  <a:lnTo>
                    <a:pt x="819" y="196"/>
                  </a:lnTo>
                  <a:lnTo>
                    <a:pt x="824" y="197"/>
                  </a:lnTo>
                  <a:lnTo>
                    <a:pt x="829" y="199"/>
                  </a:lnTo>
                  <a:lnTo>
                    <a:pt x="834" y="200"/>
                  </a:lnTo>
                  <a:lnTo>
                    <a:pt x="840" y="201"/>
                  </a:lnTo>
                  <a:lnTo>
                    <a:pt x="845" y="202"/>
                  </a:lnTo>
                  <a:lnTo>
                    <a:pt x="850" y="204"/>
                  </a:lnTo>
                  <a:lnTo>
                    <a:pt x="855" y="205"/>
                  </a:lnTo>
                  <a:lnTo>
                    <a:pt x="861" y="206"/>
                  </a:lnTo>
                  <a:lnTo>
                    <a:pt x="866" y="207"/>
                  </a:lnTo>
                  <a:lnTo>
                    <a:pt x="871" y="209"/>
                  </a:lnTo>
                  <a:lnTo>
                    <a:pt x="876" y="210"/>
                  </a:lnTo>
                  <a:lnTo>
                    <a:pt x="882" y="211"/>
                  </a:lnTo>
                  <a:lnTo>
                    <a:pt x="887" y="213"/>
                  </a:lnTo>
                  <a:lnTo>
                    <a:pt x="892" y="214"/>
                  </a:lnTo>
                  <a:lnTo>
                    <a:pt x="897" y="215"/>
                  </a:lnTo>
                  <a:lnTo>
                    <a:pt x="903" y="216"/>
                  </a:lnTo>
                  <a:lnTo>
                    <a:pt x="908" y="218"/>
                  </a:lnTo>
                  <a:lnTo>
                    <a:pt x="913" y="219"/>
                  </a:lnTo>
                  <a:lnTo>
                    <a:pt x="918" y="220"/>
                  </a:lnTo>
                  <a:lnTo>
                    <a:pt x="924" y="221"/>
                  </a:lnTo>
                  <a:lnTo>
                    <a:pt x="929" y="223"/>
                  </a:lnTo>
                  <a:lnTo>
                    <a:pt x="934" y="224"/>
                  </a:lnTo>
                  <a:lnTo>
                    <a:pt x="939" y="225"/>
                  </a:lnTo>
                  <a:lnTo>
                    <a:pt x="945" y="226"/>
                  </a:lnTo>
                  <a:lnTo>
                    <a:pt x="950" y="228"/>
                  </a:lnTo>
                  <a:lnTo>
                    <a:pt x="955" y="229"/>
                  </a:lnTo>
                  <a:lnTo>
                    <a:pt x="960" y="230"/>
                  </a:lnTo>
                  <a:lnTo>
                    <a:pt x="966" y="231"/>
                  </a:lnTo>
                  <a:lnTo>
                    <a:pt x="971" y="233"/>
                  </a:lnTo>
                  <a:lnTo>
                    <a:pt x="976" y="234"/>
                  </a:lnTo>
                  <a:lnTo>
                    <a:pt x="981" y="235"/>
                  </a:lnTo>
                  <a:lnTo>
                    <a:pt x="987" y="236"/>
                  </a:lnTo>
                  <a:lnTo>
                    <a:pt x="992" y="238"/>
                  </a:lnTo>
                  <a:lnTo>
                    <a:pt x="997" y="239"/>
                  </a:lnTo>
                  <a:lnTo>
                    <a:pt x="1002" y="240"/>
                  </a:lnTo>
                  <a:lnTo>
                    <a:pt x="1008" y="241"/>
                  </a:lnTo>
                  <a:lnTo>
                    <a:pt x="1013" y="243"/>
                  </a:lnTo>
                  <a:lnTo>
                    <a:pt x="1018" y="244"/>
                  </a:lnTo>
                  <a:lnTo>
                    <a:pt x="1023" y="245"/>
                  </a:lnTo>
                  <a:lnTo>
                    <a:pt x="1029" y="247"/>
                  </a:lnTo>
                  <a:lnTo>
                    <a:pt x="1034" y="248"/>
                  </a:lnTo>
                  <a:lnTo>
                    <a:pt x="1039" y="249"/>
                  </a:lnTo>
                  <a:lnTo>
                    <a:pt x="1044" y="250"/>
                  </a:lnTo>
                  <a:lnTo>
                    <a:pt x="1050" y="252"/>
                  </a:lnTo>
                  <a:lnTo>
                    <a:pt x="1055" y="253"/>
                  </a:lnTo>
                  <a:lnTo>
                    <a:pt x="1060" y="254"/>
                  </a:lnTo>
                  <a:lnTo>
                    <a:pt x="1065" y="255"/>
                  </a:lnTo>
                  <a:lnTo>
                    <a:pt x="1071" y="257"/>
                  </a:lnTo>
                  <a:lnTo>
                    <a:pt x="1076" y="258"/>
                  </a:lnTo>
                  <a:lnTo>
                    <a:pt x="1081" y="259"/>
                  </a:lnTo>
                  <a:lnTo>
                    <a:pt x="1086" y="260"/>
                  </a:lnTo>
                  <a:lnTo>
                    <a:pt x="1092" y="262"/>
                  </a:lnTo>
                  <a:lnTo>
                    <a:pt x="1097" y="263"/>
                  </a:lnTo>
                  <a:lnTo>
                    <a:pt x="1102" y="264"/>
                  </a:lnTo>
                  <a:lnTo>
                    <a:pt x="1107" y="265"/>
                  </a:lnTo>
                  <a:lnTo>
                    <a:pt x="1113" y="267"/>
                  </a:lnTo>
                  <a:lnTo>
                    <a:pt x="1118" y="268"/>
                  </a:lnTo>
                  <a:lnTo>
                    <a:pt x="1123" y="269"/>
                  </a:lnTo>
                  <a:lnTo>
                    <a:pt x="1128" y="270"/>
                  </a:lnTo>
                  <a:lnTo>
                    <a:pt x="1134" y="272"/>
                  </a:lnTo>
                  <a:lnTo>
                    <a:pt x="1139" y="273"/>
                  </a:lnTo>
                  <a:lnTo>
                    <a:pt x="1144" y="274"/>
                  </a:lnTo>
                  <a:lnTo>
                    <a:pt x="1149" y="276"/>
                  </a:lnTo>
                  <a:lnTo>
                    <a:pt x="1155" y="277"/>
                  </a:lnTo>
                  <a:lnTo>
                    <a:pt x="1160" y="278"/>
                  </a:lnTo>
                  <a:lnTo>
                    <a:pt x="1165" y="279"/>
                  </a:lnTo>
                  <a:lnTo>
                    <a:pt x="1170" y="281"/>
                  </a:lnTo>
                  <a:lnTo>
                    <a:pt x="1176" y="282"/>
                  </a:lnTo>
                  <a:lnTo>
                    <a:pt x="1181" y="283"/>
                  </a:lnTo>
                  <a:lnTo>
                    <a:pt x="1186" y="284"/>
                  </a:lnTo>
                  <a:lnTo>
                    <a:pt x="1191" y="286"/>
                  </a:lnTo>
                  <a:lnTo>
                    <a:pt x="1197" y="287"/>
                  </a:lnTo>
                  <a:lnTo>
                    <a:pt x="1202" y="288"/>
                  </a:lnTo>
                  <a:lnTo>
                    <a:pt x="1207" y="289"/>
                  </a:lnTo>
                  <a:lnTo>
                    <a:pt x="1212" y="291"/>
                  </a:lnTo>
                  <a:lnTo>
                    <a:pt x="1218" y="292"/>
                  </a:lnTo>
                  <a:lnTo>
                    <a:pt x="1223" y="293"/>
                  </a:lnTo>
                  <a:lnTo>
                    <a:pt x="1228" y="294"/>
                  </a:lnTo>
                  <a:lnTo>
                    <a:pt x="1233" y="296"/>
                  </a:lnTo>
                  <a:lnTo>
                    <a:pt x="1239" y="297"/>
                  </a:lnTo>
                  <a:lnTo>
                    <a:pt x="1244" y="298"/>
                  </a:lnTo>
                  <a:lnTo>
                    <a:pt x="1249" y="299"/>
                  </a:lnTo>
                  <a:lnTo>
                    <a:pt x="1254" y="301"/>
                  </a:lnTo>
                  <a:lnTo>
                    <a:pt x="1260" y="302"/>
                  </a:lnTo>
                  <a:lnTo>
                    <a:pt x="1265" y="303"/>
                  </a:lnTo>
                  <a:lnTo>
                    <a:pt x="1270" y="304"/>
                  </a:lnTo>
                  <a:lnTo>
                    <a:pt x="1275" y="306"/>
                  </a:lnTo>
                  <a:lnTo>
                    <a:pt x="1281" y="307"/>
                  </a:lnTo>
                  <a:lnTo>
                    <a:pt x="1286" y="308"/>
                  </a:lnTo>
                  <a:lnTo>
                    <a:pt x="1291" y="310"/>
                  </a:lnTo>
                  <a:lnTo>
                    <a:pt x="1296" y="311"/>
                  </a:lnTo>
                  <a:lnTo>
                    <a:pt x="1302" y="312"/>
                  </a:lnTo>
                  <a:lnTo>
                    <a:pt x="1307" y="313"/>
                  </a:lnTo>
                  <a:lnTo>
                    <a:pt x="1312" y="315"/>
                  </a:lnTo>
                  <a:lnTo>
                    <a:pt x="1317" y="316"/>
                  </a:lnTo>
                  <a:lnTo>
                    <a:pt x="1323" y="317"/>
                  </a:lnTo>
                  <a:lnTo>
                    <a:pt x="1328" y="318"/>
                  </a:lnTo>
                  <a:lnTo>
                    <a:pt x="1333" y="320"/>
                  </a:lnTo>
                  <a:lnTo>
                    <a:pt x="1338" y="321"/>
                  </a:lnTo>
                  <a:lnTo>
                    <a:pt x="1344" y="322"/>
                  </a:lnTo>
                  <a:lnTo>
                    <a:pt x="1349" y="323"/>
                  </a:lnTo>
                  <a:lnTo>
                    <a:pt x="1354" y="325"/>
                  </a:lnTo>
                  <a:lnTo>
                    <a:pt x="1359" y="326"/>
                  </a:lnTo>
                  <a:lnTo>
                    <a:pt x="1365" y="327"/>
                  </a:lnTo>
                  <a:lnTo>
                    <a:pt x="1370" y="328"/>
                  </a:lnTo>
                  <a:lnTo>
                    <a:pt x="1375" y="330"/>
                  </a:lnTo>
                  <a:lnTo>
                    <a:pt x="1380" y="331"/>
                  </a:lnTo>
                  <a:lnTo>
                    <a:pt x="1386" y="332"/>
                  </a:lnTo>
                  <a:lnTo>
                    <a:pt x="1391" y="333"/>
                  </a:lnTo>
                  <a:lnTo>
                    <a:pt x="1396" y="335"/>
                  </a:lnTo>
                  <a:lnTo>
                    <a:pt x="1401" y="336"/>
                  </a:lnTo>
                  <a:lnTo>
                    <a:pt x="1407" y="337"/>
                  </a:lnTo>
                  <a:lnTo>
                    <a:pt x="1412" y="339"/>
                  </a:lnTo>
                  <a:lnTo>
                    <a:pt x="1417" y="340"/>
                  </a:lnTo>
                  <a:lnTo>
                    <a:pt x="1422" y="341"/>
                  </a:lnTo>
                  <a:lnTo>
                    <a:pt x="1428" y="342"/>
                  </a:lnTo>
                  <a:lnTo>
                    <a:pt x="1433" y="344"/>
                  </a:lnTo>
                  <a:lnTo>
                    <a:pt x="1438" y="345"/>
                  </a:lnTo>
                  <a:lnTo>
                    <a:pt x="1443" y="346"/>
                  </a:lnTo>
                  <a:lnTo>
                    <a:pt x="1449" y="347"/>
                  </a:lnTo>
                  <a:lnTo>
                    <a:pt x="1454" y="349"/>
                  </a:lnTo>
                  <a:lnTo>
                    <a:pt x="1459" y="350"/>
                  </a:lnTo>
                  <a:lnTo>
                    <a:pt x="1464" y="351"/>
                  </a:lnTo>
                  <a:lnTo>
                    <a:pt x="1470" y="352"/>
                  </a:lnTo>
                  <a:lnTo>
                    <a:pt x="1475" y="354"/>
                  </a:lnTo>
                  <a:lnTo>
                    <a:pt x="1480" y="355"/>
                  </a:lnTo>
                  <a:lnTo>
                    <a:pt x="1485" y="356"/>
                  </a:lnTo>
                  <a:lnTo>
                    <a:pt x="1491" y="357"/>
                  </a:lnTo>
                  <a:lnTo>
                    <a:pt x="1496" y="359"/>
                  </a:lnTo>
                  <a:lnTo>
                    <a:pt x="1501" y="360"/>
                  </a:lnTo>
                  <a:lnTo>
                    <a:pt x="1506" y="361"/>
                  </a:lnTo>
                  <a:lnTo>
                    <a:pt x="1512" y="362"/>
                  </a:lnTo>
                  <a:lnTo>
                    <a:pt x="1517" y="364"/>
                  </a:lnTo>
                  <a:lnTo>
                    <a:pt x="1522" y="365"/>
                  </a:lnTo>
                  <a:lnTo>
                    <a:pt x="1527" y="366"/>
                  </a:lnTo>
                  <a:lnTo>
                    <a:pt x="1533" y="367"/>
                  </a:lnTo>
                  <a:lnTo>
                    <a:pt x="1538" y="369"/>
                  </a:lnTo>
                  <a:lnTo>
                    <a:pt x="1543" y="370"/>
                  </a:lnTo>
                  <a:lnTo>
                    <a:pt x="1548" y="371"/>
                  </a:lnTo>
                  <a:lnTo>
                    <a:pt x="1554" y="373"/>
                  </a:lnTo>
                  <a:lnTo>
                    <a:pt x="1559" y="374"/>
                  </a:lnTo>
                  <a:lnTo>
                    <a:pt x="1564" y="375"/>
                  </a:lnTo>
                  <a:lnTo>
                    <a:pt x="1569" y="376"/>
                  </a:lnTo>
                  <a:lnTo>
                    <a:pt x="1575" y="37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3629160" y="3105720"/>
              <a:ext cx="1938240" cy="695160"/>
            </a:xfrm>
            <a:custGeom>
              <a:avLst/>
              <a:gdLst/>
              <a:ahLst/>
              <a:rect l="l" t="t" r="r" b="b"/>
              <a:pathLst>
                <a:path w="1575" h="567">
                  <a:moveTo>
                    <a:pt x="0" y="0"/>
                  </a:moveTo>
                  <a:lnTo>
                    <a:pt x="5" y="2"/>
                  </a:lnTo>
                  <a:lnTo>
                    <a:pt x="10" y="4"/>
                  </a:lnTo>
                  <a:lnTo>
                    <a:pt x="15" y="6"/>
                  </a:lnTo>
                  <a:lnTo>
                    <a:pt x="21" y="7"/>
                  </a:lnTo>
                  <a:lnTo>
                    <a:pt x="26" y="9"/>
                  </a:lnTo>
                  <a:lnTo>
                    <a:pt x="31" y="11"/>
                  </a:lnTo>
                  <a:lnTo>
                    <a:pt x="36" y="13"/>
                  </a:lnTo>
                  <a:lnTo>
                    <a:pt x="42" y="15"/>
                  </a:lnTo>
                  <a:lnTo>
                    <a:pt x="47" y="17"/>
                  </a:lnTo>
                  <a:lnTo>
                    <a:pt x="52" y="19"/>
                  </a:lnTo>
                  <a:lnTo>
                    <a:pt x="57" y="21"/>
                  </a:lnTo>
                  <a:lnTo>
                    <a:pt x="63" y="23"/>
                  </a:lnTo>
                  <a:lnTo>
                    <a:pt x="68" y="24"/>
                  </a:lnTo>
                  <a:lnTo>
                    <a:pt x="73" y="26"/>
                  </a:lnTo>
                  <a:lnTo>
                    <a:pt x="78" y="28"/>
                  </a:lnTo>
                  <a:lnTo>
                    <a:pt x="84" y="30"/>
                  </a:lnTo>
                  <a:lnTo>
                    <a:pt x="89" y="32"/>
                  </a:lnTo>
                  <a:lnTo>
                    <a:pt x="94" y="34"/>
                  </a:lnTo>
                  <a:lnTo>
                    <a:pt x="99" y="36"/>
                  </a:lnTo>
                  <a:lnTo>
                    <a:pt x="105" y="38"/>
                  </a:lnTo>
                  <a:lnTo>
                    <a:pt x="110" y="40"/>
                  </a:lnTo>
                  <a:lnTo>
                    <a:pt x="115" y="41"/>
                  </a:lnTo>
                  <a:lnTo>
                    <a:pt x="120" y="43"/>
                  </a:lnTo>
                  <a:lnTo>
                    <a:pt x="126" y="45"/>
                  </a:lnTo>
                  <a:lnTo>
                    <a:pt x="131" y="47"/>
                  </a:lnTo>
                  <a:lnTo>
                    <a:pt x="136" y="49"/>
                  </a:lnTo>
                  <a:lnTo>
                    <a:pt x="141" y="51"/>
                  </a:lnTo>
                  <a:lnTo>
                    <a:pt x="147" y="53"/>
                  </a:lnTo>
                  <a:lnTo>
                    <a:pt x="152" y="55"/>
                  </a:lnTo>
                  <a:lnTo>
                    <a:pt x="157" y="57"/>
                  </a:lnTo>
                  <a:lnTo>
                    <a:pt x="162" y="58"/>
                  </a:lnTo>
                  <a:lnTo>
                    <a:pt x="168" y="60"/>
                  </a:lnTo>
                  <a:lnTo>
                    <a:pt x="173" y="62"/>
                  </a:lnTo>
                  <a:lnTo>
                    <a:pt x="178" y="64"/>
                  </a:lnTo>
                  <a:lnTo>
                    <a:pt x="183" y="66"/>
                  </a:lnTo>
                  <a:lnTo>
                    <a:pt x="189" y="68"/>
                  </a:lnTo>
                  <a:lnTo>
                    <a:pt x="194" y="70"/>
                  </a:lnTo>
                  <a:lnTo>
                    <a:pt x="199" y="72"/>
                  </a:lnTo>
                  <a:lnTo>
                    <a:pt x="204" y="74"/>
                  </a:lnTo>
                  <a:lnTo>
                    <a:pt x="210" y="75"/>
                  </a:lnTo>
                  <a:lnTo>
                    <a:pt x="215" y="77"/>
                  </a:lnTo>
                  <a:lnTo>
                    <a:pt x="220" y="79"/>
                  </a:lnTo>
                  <a:lnTo>
                    <a:pt x="225" y="81"/>
                  </a:lnTo>
                  <a:lnTo>
                    <a:pt x="231" y="83"/>
                  </a:lnTo>
                  <a:lnTo>
                    <a:pt x="236" y="85"/>
                  </a:lnTo>
                  <a:lnTo>
                    <a:pt x="241" y="87"/>
                  </a:lnTo>
                  <a:lnTo>
                    <a:pt x="246" y="89"/>
                  </a:lnTo>
                  <a:lnTo>
                    <a:pt x="252" y="91"/>
                  </a:lnTo>
                  <a:lnTo>
                    <a:pt x="257" y="92"/>
                  </a:lnTo>
                  <a:lnTo>
                    <a:pt x="262" y="94"/>
                  </a:lnTo>
                  <a:lnTo>
                    <a:pt x="267" y="96"/>
                  </a:lnTo>
                  <a:lnTo>
                    <a:pt x="273" y="98"/>
                  </a:lnTo>
                  <a:lnTo>
                    <a:pt x="278" y="100"/>
                  </a:lnTo>
                  <a:lnTo>
                    <a:pt x="283" y="102"/>
                  </a:lnTo>
                  <a:lnTo>
                    <a:pt x="288" y="104"/>
                  </a:lnTo>
                  <a:lnTo>
                    <a:pt x="294" y="106"/>
                  </a:lnTo>
                  <a:lnTo>
                    <a:pt x="299" y="108"/>
                  </a:lnTo>
                  <a:lnTo>
                    <a:pt x="304" y="109"/>
                  </a:lnTo>
                  <a:lnTo>
                    <a:pt x="309" y="111"/>
                  </a:lnTo>
                  <a:lnTo>
                    <a:pt x="315" y="113"/>
                  </a:lnTo>
                  <a:lnTo>
                    <a:pt x="320" y="115"/>
                  </a:lnTo>
                  <a:lnTo>
                    <a:pt x="325" y="117"/>
                  </a:lnTo>
                  <a:lnTo>
                    <a:pt x="330" y="119"/>
                  </a:lnTo>
                  <a:lnTo>
                    <a:pt x="336" y="121"/>
                  </a:lnTo>
                  <a:lnTo>
                    <a:pt x="341" y="123"/>
                  </a:lnTo>
                  <a:lnTo>
                    <a:pt x="346" y="125"/>
                  </a:lnTo>
                  <a:lnTo>
                    <a:pt x="351" y="126"/>
                  </a:lnTo>
                  <a:lnTo>
                    <a:pt x="357" y="128"/>
                  </a:lnTo>
                  <a:lnTo>
                    <a:pt x="362" y="130"/>
                  </a:lnTo>
                  <a:lnTo>
                    <a:pt x="367" y="132"/>
                  </a:lnTo>
                  <a:lnTo>
                    <a:pt x="372" y="134"/>
                  </a:lnTo>
                  <a:lnTo>
                    <a:pt x="378" y="136"/>
                  </a:lnTo>
                  <a:lnTo>
                    <a:pt x="383" y="138"/>
                  </a:lnTo>
                  <a:lnTo>
                    <a:pt x="388" y="140"/>
                  </a:lnTo>
                  <a:lnTo>
                    <a:pt x="393" y="142"/>
                  </a:lnTo>
                  <a:lnTo>
                    <a:pt x="399" y="143"/>
                  </a:lnTo>
                  <a:lnTo>
                    <a:pt x="404" y="145"/>
                  </a:lnTo>
                  <a:lnTo>
                    <a:pt x="409" y="147"/>
                  </a:lnTo>
                  <a:lnTo>
                    <a:pt x="414" y="149"/>
                  </a:lnTo>
                  <a:lnTo>
                    <a:pt x="420" y="151"/>
                  </a:lnTo>
                  <a:lnTo>
                    <a:pt x="425" y="153"/>
                  </a:lnTo>
                  <a:lnTo>
                    <a:pt x="430" y="155"/>
                  </a:lnTo>
                  <a:lnTo>
                    <a:pt x="435" y="157"/>
                  </a:lnTo>
                  <a:lnTo>
                    <a:pt x="441" y="159"/>
                  </a:lnTo>
                  <a:lnTo>
                    <a:pt x="446" y="160"/>
                  </a:lnTo>
                  <a:lnTo>
                    <a:pt x="451" y="162"/>
                  </a:lnTo>
                  <a:lnTo>
                    <a:pt x="456" y="164"/>
                  </a:lnTo>
                  <a:lnTo>
                    <a:pt x="462" y="166"/>
                  </a:lnTo>
                  <a:lnTo>
                    <a:pt x="467" y="168"/>
                  </a:lnTo>
                  <a:lnTo>
                    <a:pt x="472" y="170"/>
                  </a:lnTo>
                  <a:lnTo>
                    <a:pt x="477" y="172"/>
                  </a:lnTo>
                  <a:lnTo>
                    <a:pt x="483" y="174"/>
                  </a:lnTo>
                  <a:lnTo>
                    <a:pt x="488" y="176"/>
                  </a:lnTo>
                  <a:lnTo>
                    <a:pt x="493" y="178"/>
                  </a:lnTo>
                  <a:lnTo>
                    <a:pt x="498" y="179"/>
                  </a:lnTo>
                  <a:lnTo>
                    <a:pt x="504" y="181"/>
                  </a:lnTo>
                  <a:lnTo>
                    <a:pt x="509" y="183"/>
                  </a:lnTo>
                  <a:lnTo>
                    <a:pt x="514" y="185"/>
                  </a:lnTo>
                  <a:lnTo>
                    <a:pt x="519" y="187"/>
                  </a:lnTo>
                  <a:lnTo>
                    <a:pt x="525" y="189"/>
                  </a:lnTo>
                  <a:lnTo>
                    <a:pt x="530" y="191"/>
                  </a:lnTo>
                  <a:lnTo>
                    <a:pt x="535" y="193"/>
                  </a:lnTo>
                  <a:lnTo>
                    <a:pt x="540" y="195"/>
                  </a:lnTo>
                  <a:lnTo>
                    <a:pt x="546" y="196"/>
                  </a:lnTo>
                  <a:lnTo>
                    <a:pt x="551" y="198"/>
                  </a:lnTo>
                  <a:lnTo>
                    <a:pt x="556" y="200"/>
                  </a:lnTo>
                  <a:lnTo>
                    <a:pt x="561" y="202"/>
                  </a:lnTo>
                  <a:lnTo>
                    <a:pt x="567" y="204"/>
                  </a:lnTo>
                  <a:lnTo>
                    <a:pt x="572" y="206"/>
                  </a:lnTo>
                  <a:lnTo>
                    <a:pt x="577" y="208"/>
                  </a:lnTo>
                  <a:lnTo>
                    <a:pt x="582" y="210"/>
                  </a:lnTo>
                  <a:lnTo>
                    <a:pt x="588" y="212"/>
                  </a:lnTo>
                  <a:lnTo>
                    <a:pt x="593" y="213"/>
                  </a:lnTo>
                  <a:lnTo>
                    <a:pt x="598" y="215"/>
                  </a:lnTo>
                  <a:lnTo>
                    <a:pt x="603" y="217"/>
                  </a:lnTo>
                  <a:lnTo>
                    <a:pt x="609" y="219"/>
                  </a:lnTo>
                  <a:lnTo>
                    <a:pt x="614" y="221"/>
                  </a:lnTo>
                  <a:lnTo>
                    <a:pt x="619" y="223"/>
                  </a:lnTo>
                  <a:lnTo>
                    <a:pt x="624" y="225"/>
                  </a:lnTo>
                  <a:lnTo>
                    <a:pt x="630" y="227"/>
                  </a:lnTo>
                  <a:lnTo>
                    <a:pt x="635" y="229"/>
                  </a:lnTo>
                  <a:lnTo>
                    <a:pt x="640" y="230"/>
                  </a:lnTo>
                  <a:lnTo>
                    <a:pt x="645" y="232"/>
                  </a:lnTo>
                  <a:lnTo>
                    <a:pt x="651" y="234"/>
                  </a:lnTo>
                  <a:lnTo>
                    <a:pt x="656" y="236"/>
                  </a:lnTo>
                  <a:lnTo>
                    <a:pt x="661" y="238"/>
                  </a:lnTo>
                  <a:lnTo>
                    <a:pt x="666" y="240"/>
                  </a:lnTo>
                  <a:lnTo>
                    <a:pt x="672" y="242"/>
                  </a:lnTo>
                  <a:lnTo>
                    <a:pt x="677" y="244"/>
                  </a:lnTo>
                  <a:lnTo>
                    <a:pt x="682" y="246"/>
                  </a:lnTo>
                  <a:lnTo>
                    <a:pt x="687" y="247"/>
                  </a:lnTo>
                  <a:lnTo>
                    <a:pt x="693" y="249"/>
                  </a:lnTo>
                  <a:lnTo>
                    <a:pt x="698" y="251"/>
                  </a:lnTo>
                  <a:lnTo>
                    <a:pt x="703" y="253"/>
                  </a:lnTo>
                  <a:lnTo>
                    <a:pt x="708" y="255"/>
                  </a:lnTo>
                  <a:lnTo>
                    <a:pt x="714" y="257"/>
                  </a:lnTo>
                  <a:lnTo>
                    <a:pt x="719" y="259"/>
                  </a:lnTo>
                  <a:lnTo>
                    <a:pt x="724" y="261"/>
                  </a:lnTo>
                  <a:lnTo>
                    <a:pt x="729" y="263"/>
                  </a:lnTo>
                  <a:lnTo>
                    <a:pt x="735" y="264"/>
                  </a:lnTo>
                  <a:lnTo>
                    <a:pt x="740" y="266"/>
                  </a:lnTo>
                  <a:lnTo>
                    <a:pt x="745" y="268"/>
                  </a:lnTo>
                  <a:lnTo>
                    <a:pt x="750" y="270"/>
                  </a:lnTo>
                  <a:lnTo>
                    <a:pt x="756" y="272"/>
                  </a:lnTo>
                  <a:lnTo>
                    <a:pt x="761" y="274"/>
                  </a:lnTo>
                  <a:lnTo>
                    <a:pt x="766" y="276"/>
                  </a:lnTo>
                  <a:lnTo>
                    <a:pt x="771" y="278"/>
                  </a:lnTo>
                  <a:lnTo>
                    <a:pt x="777" y="280"/>
                  </a:lnTo>
                  <a:lnTo>
                    <a:pt x="782" y="281"/>
                  </a:lnTo>
                  <a:lnTo>
                    <a:pt x="787" y="283"/>
                  </a:lnTo>
                  <a:lnTo>
                    <a:pt x="792" y="285"/>
                  </a:lnTo>
                  <a:lnTo>
                    <a:pt x="798" y="287"/>
                  </a:lnTo>
                  <a:lnTo>
                    <a:pt x="803" y="289"/>
                  </a:lnTo>
                  <a:lnTo>
                    <a:pt x="808" y="291"/>
                  </a:lnTo>
                  <a:lnTo>
                    <a:pt x="813" y="293"/>
                  </a:lnTo>
                  <a:lnTo>
                    <a:pt x="819" y="295"/>
                  </a:lnTo>
                  <a:lnTo>
                    <a:pt x="824" y="297"/>
                  </a:lnTo>
                  <a:lnTo>
                    <a:pt x="829" y="298"/>
                  </a:lnTo>
                  <a:lnTo>
                    <a:pt x="834" y="300"/>
                  </a:lnTo>
                  <a:lnTo>
                    <a:pt x="840" y="302"/>
                  </a:lnTo>
                  <a:lnTo>
                    <a:pt x="845" y="304"/>
                  </a:lnTo>
                  <a:lnTo>
                    <a:pt x="850" y="306"/>
                  </a:lnTo>
                  <a:lnTo>
                    <a:pt x="855" y="308"/>
                  </a:lnTo>
                  <a:lnTo>
                    <a:pt x="861" y="310"/>
                  </a:lnTo>
                  <a:lnTo>
                    <a:pt x="866" y="312"/>
                  </a:lnTo>
                  <a:lnTo>
                    <a:pt x="871" y="314"/>
                  </a:lnTo>
                  <a:lnTo>
                    <a:pt x="876" y="315"/>
                  </a:lnTo>
                  <a:lnTo>
                    <a:pt x="882" y="317"/>
                  </a:lnTo>
                  <a:lnTo>
                    <a:pt x="887" y="319"/>
                  </a:lnTo>
                  <a:lnTo>
                    <a:pt x="892" y="321"/>
                  </a:lnTo>
                  <a:lnTo>
                    <a:pt x="897" y="323"/>
                  </a:lnTo>
                  <a:lnTo>
                    <a:pt x="903" y="325"/>
                  </a:lnTo>
                  <a:lnTo>
                    <a:pt x="908" y="327"/>
                  </a:lnTo>
                  <a:lnTo>
                    <a:pt x="913" y="329"/>
                  </a:lnTo>
                  <a:lnTo>
                    <a:pt x="918" y="331"/>
                  </a:lnTo>
                  <a:lnTo>
                    <a:pt x="924" y="332"/>
                  </a:lnTo>
                  <a:lnTo>
                    <a:pt x="929" y="334"/>
                  </a:lnTo>
                  <a:lnTo>
                    <a:pt x="934" y="336"/>
                  </a:lnTo>
                  <a:lnTo>
                    <a:pt x="939" y="338"/>
                  </a:lnTo>
                  <a:lnTo>
                    <a:pt x="945" y="340"/>
                  </a:lnTo>
                  <a:lnTo>
                    <a:pt x="950" y="342"/>
                  </a:lnTo>
                  <a:lnTo>
                    <a:pt x="955" y="344"/>
                  </a:lnTo>
                  <a:lnTo>
                    <a:pt x="960" y="346"/>
                  </a:lnTo>
                  <a:lnTo>
                    <a:pt x="966" y="348"/>
                  </a:lnTo>
                  <a:lnTo>
                    <a:pt x="971" y="349"/>
                  </a:lnTo>
                  <a:lnTo>
                    <a:pt x="976" y="351"/>
                  </a:lnTo>
                  <a:lnTo>
                    <a:pt x="981" y="353"/>
                  </a:lnTo>
                  <a:lnTo>
                    <a:pt x="987" y="355"/>
                  </a:lnTo>
                  <a:lnTo>
                    <a:pt x="992" y="357"/>
                  </a:lnTo>
                  <a:lnTo>
                    <a:pt x="997" y="359"/>
                  </a:lnTo>
                  <a:lnTo>
                    <a:pt x="1002" y="361"/>
                  </a:lnTo>
                  <a:lnTo>
                    <a:pt x="1008" y="363"/>
                  </a:lnTo>
                  <a:lnTo>
                    <a:pt x="1013" y="365"/>
                  </a:lnTo>
                  <a:lnTo>
                    <a:pt x="1018" y="367"/>
                  </a:lnTo>
                  <a:lnTo>
                    <a:pt x="1023" y="368"/>
                  </a:lnTo>
                  <a:lnTo>
                    <a:pt x="1029" y="370"/>
                  </a:lnTo>
                  <a:lnTo>
                    <a:pt x="1034" y="372"/>
                  </a:lnTo>
                  <a:lnTo>
                    <a:pt x="1039" y="374"/>
                  </a:lnTo>
                  <a:lnTo>
                    <a:pt x="1044" y="376"/>
                  </a:lnTo>
                  <a:lnTo>
                    <a:pt x="1050" y="378"/>
                  </a:lnTo>
                  <a:lnTo>
                    <a:pt x="1055" y="380"/>
                  </a:lnTo>
                  <a:lnTo>
                    <a:pt x="1060" y="382"/>
                  </a:lnTo>
                  <a:lnTo>
                    <a:pt x="1065" y="384"/>
                  </a:lnTo>
                  <a:lnTo>
                    <a:pt x="1071" y="385"/>
                  </a:lnTo>
                  <a:lnTo>
                    <a:pt x="1076" y="387"/>
                  </a:lnTo>
                  <a:lnTo>
                    <a:pt x="1081" y="389"/>
                  </a:lnTo>
                  <a:lnTo>
                    <a:pt x="1086" y="391"/>
                  </a:lnTo>
                  <a:lnTo>
                    <a:pt x="1092" y="393"/>
                  </a:lnTo>
                  <a:lnTo>
                    <a:pt x="1097" y="395"/>
                  </a:lnTo>
                  <a:lnTo>
                    <a:pt x="1102" y="397"/>
                  </a:lnTo>
                  <a:lnTo>
                    <a:pt x="1107" y="399"/>
                  </a:lnTo>
                  <a:lnTo>
                    <a:pt x="1113" y="401"/>
                  </a:lnTo>
                  <a:lnTo>
                    <a:pt x="1118" y="402"/>
                  </a:lnTo>
                  <a:lnTo>
                    <a:pt x="1123" y="404"/>
                  </a:lnTo>
                  <a:lnTo>
                    <a:pt x="1128" y="406"/>
                  </a:lnTo>
                  <a:lnTo>
                    <a:pt x="1134" y="408"/>
                  </a:lnTo>
                  <a:lnTo>
                    <a:pt x="1139" y="410"/>
                  </a:lnTo>
                  <a:lnTo>
                    <a:pt x="1144" y="412"/>
                  </a:lnTo>
                  <a:lnTo>
                    <a:pt x="1149" y="414"/>
                  </a:lnTo>
                  <a:lnTo>
                    <a:pt x="1155" y="416"/>
                  </a:lnTo>
                  <a:lnTo>
                    <a:pt x="1160" y="418"/>
                  </a:lnTo>
                  <a:lnTo>
                    <a:pt x="1165" y="419"/>
                  </a:lnTo>
                  <a:lnTo>
                    <a:pt x="1170" y="421"/>
                  </a:lnTo>
                  <a:lnTo>
                    <a:pt x="1176" y="423"/>
                  </a:lnTo>
                  <a:lnTo>
                    <a:pt x="1181" y="425"/>
                  </a:lnTo>
                  <a:lnTo>
                    <a:pt x="1186" y="427"/>
                  </a:lnTo>
                  <a:lnTo>
                    <a:pt x="1191" y="429"/>
                  </a:lnTo>
                  <a:lnTo>
                    <a:pt x="1197" y="431"/>
                  </a:lnTo>
                  <a:lnTo>
                    <a:pt x="1202" y="433"/>
                  </a:lnTo>
                  <a:lnTo>
                    <a:pt x="1207" y="435"/>
                  </a:lnTo>
                  <a:lnTo>
                    <a:pt x="1212" y="436"/>
                  </a:lnTo>
                  <a:lnTo>
                    <a:pt x="1218" y="438"/>
                  </a:lnTo>
                  <a:lnTo>
                    <a:pt x="1223" y="440"/>
                  </a:lnTo>
                  <a:lnTo>
                    <a:pt x="1228" y="442"/>
                  </a:lnTo>
                  <a:lnTo>
                    <a:pt x="1233" y="444"/>
                  </a:lnTo>
                  <a:lnTo>
                    <a:pt x="1239" y="446"/>
                  </a:lnTo>
                  <a:lnTo>
                    <a:pt x="1244" y="448"/>
                  </a:lnTo>
                  <a:lnTo>
                    <a:pt x="1249" y="450"/>
                  </a:lnTo>
                  <a:lnTo>
                    <a:pt x="1254" y="452"/>
                  </a:lnTo>
                  <a:lnTo>
                    <a:pt x="1260" y="453"/>
                  </a:lnTo>
                  <a:lnTo>
                    <a:pt x="1265" y="455"/>
                  </a:lnTo>
                  <a:lnTo>
                    <a:pt x="1270" y="457"/>
                  </a:lnTo>
                  <a:lnTo>
                    <a:pt x="1275" y="459"/>
                  </a:lnTo>
                  <a:lnTo>
                    <a:pt x="1281" y="461"/>
                  </a:lnTo>
                  <a:lnTo>
                    <a:pt x="1286" y="463"/>
                  </a:lnTo>
                  <a:lnTo>
                    <a:pt x="1291" y="465"/>
                  </a:lnTo>
                  <a:lnTo>
                    <a:pt x="1296" y="467"/>
                  </a:lnTo>
                  <a:lnTo>
                    <a:pt x="1302" y="469"/>
                  </a:lnTo>
                  <a:lnTo>
                    <a:pt x="1307" y="470"/>
                  </a:lnTo>
                  <a:lnTo>
                    <a:pt x="1312" y="472"/>
                  </a:lnTo>
                  <a:lnTo>
                    <a:pt x="1317" y="474"/>
                  </a:lnTo>
                  <a:lnTo>
                    <a:pt x="1323" y="476"/>
                  </a:lnTo>
                  <a:lnTo>
                    <a:pt x="1328" y="478"/>
                  </a:lnTo>
                  <a:lnTo>
                    <a:pt x="1333" y="480"/>
                  </a:lnTo>
                  <a:lnTo>
                    <a:pt x="1338" y="482"/>
                  </a:lnTo>
                  <a:lnTo>
                    <a:pt x="1344" y="484"/>
                  </a:lnTo>
                  <a:lnTo>
                    <a:pt x="1349" y="486"/>
                  </a:lnTo>
                  <a:lnTo>
                    <a:pt x="1354" y="487"/>
                  </a:lnTo>
                  <a:lnTo>
                    <a:pt x="1359" y="489"/>
                  </a:lnTo>
                  <a:lnTo>
                    <a:pt x="1365" y="491"/>
                  </a:lnTo>
                  <a:lnTo>
                    <a:pt x="1370" y="493"/>
                  </a:lnTo>
                  <a:lnTo>
                    <a:pt x="1375" y="495"/>
                  </a:lnTo>
                  <a:lnTo>
                    <a:pt x="1380" y="497"/>
                  </a:lnTo>
                  <a:lnTo>
                    <a:pt x="1386" y="499"/>
                  </a:lnTo>
                  <a:lnTo>
                    <a:pt x="1391" y="501"/>
                  </a:lnTo>
                  <a:lnTo>
                    <a:pt x="1396" y="503"/>
                  </a:lnTo>
                  <a:lnTo>
                    <a:pt x="1401" y="504"/>
                  </a:lnTo>
                  <a:lnTo>
                    <a:pt x="1407" y="506"/>
                  </a:lnTo>
                  <a:lnTo>
                    <a:pt x="1412" y="508"/>
                  </a:lnTo>
                  <a:lnTo>
                    <a:pt x="1417" y="510"/>
                  </a:lnTo>
                  <a:lnTo>
                    <a:pt x="1422" y="512"/>
                  </a:lnTo>
                  <a:lnTo>
                    <a:pt x="1428" y="514"/>
                  </a:lnTo>
                  <a:lnTo>
                    <a:pt x="1433" y="516"/>
                  </a:lnTo>
                  <a:lnTo>
                    <a:pt x="1438" y="518"/>
                  </a:lnTo>
                  <a:lnTo>
                    <a:pt x="1443" y="520"/>
                  </a:lnTo>
                  <a:lnTo>
                    <a:pt x="1449" y="521"/>
                  </a:lnTo>
                  <a:lnTo>
                    <a:pt x="1454" y="523"/>
                  </a:lnTo>
                  <a:lnTo>
                    <a:pt x="1459" y="525"/>
                  </a:lnTo>
                  <a:lnTo>
                    <a:pt x="1464" y="527"/>
                  </a:lnTo>
                  <a:lnTo>
                    <a:pt x="1470" y="529"/>
                  </a:lnTo>
                  <a:lnTo>
                    <a:pt x="1475" y="531"/>
                  </a:lnTo>
                  <a:lnTo>
                    <a:pt x="1480" y="533"/>
                  </a:lnTo>
                  <a:lnTo>
                    <a:pt x="1485" y="535"/>
                  </a:lnTo>
                  <a:lnTo>
                    <a:pt x="1491" y="537"/>
                  </a:lnTo>
                  <a:lnTo>
                    <a:pt x="1496" y="538"/>
                  </a:lnTo>
                  <a:lnTo>
                    <a:pt x="1501" y="540"/>
                  </a:lnTo>
                  <a:lnTo>
                    <a:pt x="1506" y="542"/>
                  </a:lnTo>
                  <a:lnTo>
                    <a:pt x="1512" y="544"/>
                  </a:lnTo>
                  <a:lnTo>
                    <a:pt x="1517" y="546"/>
                  </a:lnTo>
                  <a:lnTo>
                    <a:pt x="1522" y="548"/>
                  </a:lnTo>
                  <a:lnTo>
                    <a:pt x="1527" y="550"/>
                  </a:lnTo>
                  <a:lnTo>
                    <a:pt x="1533" y="552"/>
                  </a:lnTo>
                  <a:lnTo>
                    <a:pt x="1538" y="554"/>
                  </a:lnTo>
                  <a:lnTo>
                    <a:pt x="1543" y="556"/>
                  </a:lnTo>
                  <a:lnTo>
                    <a:pt x="1548" y="557"/>
                  </a:lnTo>
                  <a:lnTo>
                    <a:pt x="1554" y="559"/>
                  </a:lnTo>
                  <a:lnTo>
                    <a:pt x="1559" y="561"/>
                  </a:lnTo>
                  <a:lnTo>
                    <a:pt x="1564" y="563"/>
                  </a:lnTo>
                  <a:lnTo>
                    <a:pt x="1569" y="565"/>
                  </a:lnTo>
                  <a:lnTo>
                    <a:pt x="1575" y="5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3629160" y="2896920"/>
              <a:ext cx="1938240" cy="926640"/>
            </a:xfrm>
            <a:custGeom>
              <a:avLst/>
              <a:gdLst/>
              <a:ahLst/>
              <a:rect l="l" t="t" r="r" b="b"/>
              <a:pathLst>
                <a:path w="1575" h="756">
                  <a:moveTo>
                    <a:pt x="0" y="0"/>
                  </a:moveTo>
                  <a:lnTo>
                    <a:pt x="5" y="3"/>
                  </a:lnTo>
                  <a:lnTo>
                    <a:pt x="10" y="5"/>
                  </a:lnTo>
                  <a:lnTo>
                    <a:pt x="15" y="8"/>
                  </a:lnTo>
                  <a:lnTo>
                    <a:pt x="21" y="10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6" y="18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2" y="25"/>
                  </a:lnTo>
                  <a:lnTo>
                    <a:pt x="57" y="28"/>
                  </a:lnTo>
                  <a:lnTo>
                    <a:pt x="63" y="30"/>
                  </a:lnTo>
                  <a:lnTo>
                    <a:pt x="68" y="33"/>
                  </a:lnTo>
                  <a:lnTo>
                    <a:pt x="73" y="35"/>
                  </a:lnTo>
                  <a:lnTo>
                    <a:pt x="78" y="38"/>
                  </a:lnTo>
                  <a:lnTo>
                    <a:pt x="84" y="40"/>
                  </a:lnTo>
                  <a:lnTo>
                    <a:pt x="89" y="43"/>
                  </a:lnTo>
                  <a:lnTo>
                    <a:pt x="94" y="45"/>
                  </a:lnTo>
                  <a:lnTo>
                    <a:pt x="99" y="48"/>
                  </a:lnTo>
                  <a:lnTo>
                    <a:pt x="105" y="51"/>
                  </a:lnTo>
                  <a:lnTo>
                    <a:pt x="110" y="53"/>
                  </a:lnTo>
                  <a:lnTo>
                    <a:pt x="115" y="56"/>
                  </a:lnTo>
                  <a:lnTo>
                    <a:pt x="120" y="58"/>
                  </a:lnTo>
                  <a:lnTo>
                    <a:pt x="126" y="61"/>
                  </a:lnTo>
                  <a:lnTo>
                    <a:pt x="131" y="63"/>
                  </a:lnTo>
                  <a:lnTo>
                    <a:pt x="136" y="66"/>
                  </a:lnTo>
                  <a:lnTo>
                    <a:pt x="141" y="68"/>
                  </a:lnTo>
                  <a:lnTo>
                    <a:pt x="147" y="71"/>
                  </a:lnTo>
                  <a:lnTo>
                    <a:pt x="152" y="73"/>
                  </a:lnTo>
                  <a:lnTo>
                    <a:pt x="157" y="76"/>
                  </a:lnTo>
                  <a:lnTo>
                    <a:pt x="162" y="78"/>
                  </a:lnTo>
                  <a:lnTo>
                    <a:pt x="168" y="81"/>
                  </a:lnTo>
                  <a:lnTo>
                    <a:pt x="173" y="83"/>
                  </a:lnTo>
                  <a:lnTo>
                    <a:pt x="178" y="86"/>
                  </a:lnTo>
                  <a:lnTo>
                    <a:pt x="183" y="88"/>
                  </a:lnTo>
                  <a:lnTo>
                    <a:pt x="189" y="91"/>
                  </a:lnTo>
                  <a:lnTo>
                    <a:pt x="194" y="93"/>
                  </a:lnTo>
                  <a:lnTo>
                    <a:pt x="199" y="96"/>
                  </a:lnTo>
                  <a:lnTo>
                    <a:pt x="204" y="98"/>
                  </a:lnTo>
                  <a:lnTo>
                    <a:pt x="210" y="101"/>
                  </a:lnTo>
                  <a:lnTo>
                    <a:pt x="215" y="103"/>
                  </a:lnTo>
                  <a:lnTo>
                    <a:pt x="220" y="106"/>
                  </a:lnTo>
                  <a:lnTo>
                    <a:pt x="225" y="108"/>
                  </a:lnTo>
                  <a:lnTo>
                    <a:pt x="231" y="111"/>
                  </a:lnTo>
                  <a:lnTo>
                    <a:pt x="236" y="114"/>
                  </a:lnTo>
                  <a:lnTo>
                    <a:pt x="241" y="116"/>
                  </a:lnTo>
                  <a:lnTo>
                    <a:pt x="246" y="119"/>
                  </a:lnTo>
                  <a:lnTo>
                    <a:pt x="252" y="121"/>
                  </a:lnTo>
                  <a:lnTo>
                    <a:pt x="257" y="124"/>
                  </a:lnTo>
                  <a:lnTo>
                    <a:pt x="262" y="126"/>
                  </a:lnTo>
                  <a:lnTo>
                    <a:pt x="267" y="129"/>
                  </a:lnTo>
                  <a:lnTo>
                    <a:pt x="273" y="131"/>
                  </a:lnTo>
                  <a:lnTo>
                    <a:pt x="278" y="134"/>
                  </a:lnTo>
                  <a:lnTo>
                    <a:pt x="283" y="136"/>
                  </a:lnTo>
                  <a:lnTo>
                    <a:pt x="288" y="139"/>
                  </a:lnTo>
                  <a:lnTo>
                    <a:pt x="294" y="141"/>
                  </a:lnTo>
                  <a:lnTo>
                    <a:pt x="299" y="144"/>
                  </a:lnTo>
                  <a:lnTo>
                    <a:pt x="304" y="146"/>
                  </a:lnTo>
                  <a:lnTo>
                    <a:pt x="309" y="149"/>
                  </a:lnTo>
                  <a:lnTo>
                    <a:pt x="315" y="151"/>
                  </a:lnTo>
                  <a:lnTo>
                    <a:pt x="320" y="154"/>
                  </a:lnTo>
                  <a:lnTo>
                    <a:pt x="325" y="156"/>
                  </a:lnTo>
                  <a:lnTo>
                    <a:pt x="330" y="159"/>
                  </a:lnTo>
                  <a:lnTo>
                    <a:pt x="336" y="161"/>
                  </a:lnTo>
                  <a:lnTo>
                    <a:pt x="341" y="164"/>
                  </a:lnTo>
                  <a:lnTo>
                    <a:pt x="346" y="166"/>
                  </a:lnTo>
                  <a:lnTo>
                    <a:pt x="351" y="169"/>
                  </a:lnTo>
                  <a:lnTo>
                    <a:pt x="357" y="171"/>
                  </a:lnTo>
                  <a:lnTo>
                    <a:pt x="362" y="174"/>
                  </a:lnTo>
                  <a:lnTo>
                    <a:pt x="367" y="177"/>
                  </a:lnTo>
                  <a:lnTo>
                    <a:pt x="372" y="179"/>
                  </a:lnTo>
                  <a:lnTo>
                    <a:pt x="378" y="182"/>
                  </a:lnTo>
                  <a:lnTo>
                    <a:pt x="383" y="184"/>
                  </a:lnTo>
                  <a:lnTo>
                    <a:pt x="388" y="187"/>
                  </a:lnTo>
                  <a:lnTo>
                    <a:pt x="393" y="189"/>
                  </a:lnTo>
                  <a:lnTo>
                    <a:pt x="399" y="192"/>
                  </a:lnTo>
                  <a:lnTo>
                    <a:pt x="404" y="194"/>
                  </a:lnTo>
                  <a:lnTo>
                    <a:pt x="409" y="197"/>
                  </a:lnTo>
                  <a:lnTo>
                    <a:pt x="414" y="199"/>
                  </a:lnTo>
                  <a:lnTo>
                    <a:pt x="420" y="202"/>
                  </a:lnTo>
                  <a:lnTo>
                    <a:pt x="425" y="204"/>
                  </a:lnTo>
                  <a:lnTo>
                    <a:pt x="430" y="207"/>
                  </a:lnTo>
                  <a:lnTo>
                    <a:pt x="435" y="209"/>
                  </a:lnTo>
                  <a:lnTo>
                    <a:pt x="441" y="212"/>
                  </a:lnTo>
                  <a:lnTo>
                    <a:pt x="446" y="214"/>
                  </a:lnTo>
                  <a:lnTo>
                    <a:pt x="451" y="217"/>
                  </a:lnTo>
                  <a:lnTo>
                    <a:pt x="456" y="219"/>
                  </a:lnTo>
                  <a:lnTo>
                    <a:pt x="462" y="222"/>
                  </a:lnTo>
                  <a:lnTo>
                    <a:pt x="467" y="224"/>
                  </a:lnTo>
                  <a:lnTo>
                    <a:pt x="472" y="227"/>
                  </a:lnTo>
                  <a:lnTo>
                    <a:pt x="477" y="229"/>
                  </a:lnTo>
                  <a:lnTo>
                    <a:pt x="483" y="232"/>
                  </a:lnTo>
                  <a:lnTo>
                    <a:pt x="488" y="234"/>
                  </a:lnTo>
                  <a:lnTo>
                    <a:pt x="493" y="237"/>
                  </a:lnTo>
                  <a:lnTo>
                    <a:pt x="498" y="240"/>
                  </a:lnTo>
                  <a:lnTo>
                    <a:pt x="504" y="242"/>
                  </a:lnTo>
                  <a:lnTo>
                    <a:pt x="509" y="245"/>
                  </a:lnTo>
                  <a:lnTo>
                    <a:pt x="514" y="247"/>
                  </a:lnTo>
                  <a:lnTo>
                    <a:pt x="519" y="250"/>
                  </a:lnTo>
                  <a:lnTo>
                    <a:pt x="525" y="252"/>
                  </a:lnTo>
                  <a:lnTo>
                    <a:pt x="530" y="255"/>
                  </a:lnTo>
                  <a:lnTo>
                    <a:pt x="535" y="257"/>
                  </a:lnTo>
                  <a:lnTo>
                    <a:pt x="540" y="260"/>
                  </a:lnTo>
                  <a:lnTo>
                    <a:pt x="546" y="262"/>
                  </a:lnTo>
                  <a:lnTo>
                    <a:pt x="551" y="265"/>
                  </a:lnTo>
                  <a:lnTo>
                    <a:pt x="556" y="267"/>
                  </a:lnTo>
                  <a:lnTo>
                    <a:pt x="561" y="270"/>
                  </a:lnTo>
                  <a:lnTo>
                    <a:pt x="567" y="272"/>
                  </a:lnTo>
                  <a:lnTo>
                    <a:pt x="572" y="275"/>
                  </a:lnTo>
                  <a:lnTo>
                    <a:pt x="577" y="277"/>
                  </a:lnTo>
                  <a:lnTo>
                    <a:pt x="582" y="280"/>
                  </a:lnTo>
                  <a:lnTo>
                    <a:pt x="588" y="282"/>
                  </a:lnTo>
                  <a:lnTo>
                    <a:pt x="593" y="285"/>
                  </a:lnTo>
                  <a:lnTo>
                    <a:pt x="598" y="287"/>
                  </a:lnTo>
                  <a:lnTo>
                    <a:pt x="603" y="290"/>
                  </a:lnTo>
                  <a:lnTo>
                    <a:pt x="609" y="292"/>
                  </a:lnTo>
                  <a:lnTo>
                    <a:pt x="614" y="295"/>
                  </a:lnTo>
                  <a:lnTo>
                    <a:pt x="619" y="297"/>
                  </a:lnTo>
                  <a:lnTo>
                    <a:pt x="624" y="300"/>
                  </a:lnTo>
                  <a:lnTo>
                    <a:pt x="630" y="303"/>
                  </a:lnTo>
                  <a:lnTo>
                    <a:pt x="635" y="305"/>
                  </a:lnTo>
                  <a:lnTo>
                    <a:pt x="640" y="308"/>
                  </a:lnTo>
                  <a:lnTo>
                    <a:pt x="645" y="310"/>
                  </a:lnTo>
                  <a:lnTo>
                    <a:pt x="651" y="313"/>
                  </a:lnTo>
                  <a:lnTo>
                    <a:pt x="656" y="315"/>
                  </a:lnTo>
                  <a:lnTo>
                    <a:pt x="661" y="318"/>
                  </a:lnTo>
                  <a:lnTo>
                    <a:pt x="666" y="320"/>
                  </a:lnTo>
                  <a:lnTo>
                    <a:pt x="672" y="323"/>
                  </a:lnTo>
                  <a:lnTo>
                    <a:pt x="677" y="325"/>
                  </a:lnTo>
                  <a:lnTo>
                    <a:pt x="682" y="328"/>
                  </a:lnTo>
                  <a:lnTo>
                    <a:pt x="687" y="330"/>
                  </a:lnTo>
                  <a:lnTo>
                    <a:pt x="693" y="333"/>
                  </a:lnTo>
                  <a:lnTo>
                    <a:pt x="698" y="335"/>
                  </a:lnTo>
                  <a:lnTo>
                    <a:pt x="703" y="338"/>
                  </a:lnTo>
                  <a:lnTo>
                    <a:pt x="708" y="340"/>
                  </a:lnTo>
                  <a:lnTo>
                    <a:pt x="714" y="343"/>
                  </a:lnTo>
                  <a:lnTo>
                    <a:pt x="719" y="345"/>
                  </a:lnTo>
                  <a:lnTo>
                    <a:pt x="724" y="348"/>
                  </a:lnTo>
                  <a:lnTo>
                    <a:pt x="729" y="350"/>
                  </a:lnTo>
                  <a:lnTo>
                    <a:pt x="735" y="353"/>
                  </a:lnTo>
                  <a:lnTo>
                    <a:pt x="740" y="355"/>
                  </a:lnTo>
                  <a:lnTo>
                    <a:pt x="745" y="358"/>
                  </a:lnTo>
                  <a:lnTo>
                    <a:pt x="750" y="360"/>
                  </a:lnTo>
                  <a:lnTo>
                    <a:pt x="756" y="363"/>
                  </a:lnTo>
                  <a:lnTo>
                    <a:pt x="761" y="366"/>
                  </a:lnTo>
                  <a:lnTo>
                    <a:pt x="766" y="368"/>
                  </a:lnTo>
                  <a:lnTo>
                    <a:pt x="771" y="371"/>
                  </a:lnTo>
                  <a:lnTo>
                    <a:pt x="777" y="373"/>
                  </a:lnTo>
                  <a:lnTo>
                    <a:pt x="782" y="376"/>
                  </a:lnTo>
                  <a:lnTo>
                    <a:pt x="787" y="378"/>
                  </a:lnTo>
                  <a:lnTo>
                    <a:pt x="792" y="381"/>
                  </a:lnTo>
                  <a:lnTo>
                    <a:pt x="798" y="383"/>
                  </a:lnTo>
                  <a:lnTo>
                    <a:pt x="803" y="386"/>
                  </a:lnTo>
                  <a:lnTo>
                    <a:pt x="808" y="388"/>
                  </a:lnTo>
                  <a:lnTo>
                    <a:pt x="813" y="391"/>
                  </a:lnTo>
                  <a:lnTo>
                    <a:pt x="819" y="393"/>
                  </a:lnTo>
                  <a:lnTo>
                    <a:pt x="824" y="396"/>
                  </a:lnTo>
                  <a:lnTo>
                    <a:pt x="829" y="398"/>
                  </a:lnTo>
                  <a:lnTo>
                    <a:pt x="834" y="401"/>
                  </a:lnTo>
                  <a:lnTo>
                    <a:pt x="840" y="403"/>
                  </a:lnTo>
                  <a:lnTo>
                    <a:pt x="845" y="406"/>
                  </a:lnTo>
                  <a:lnTo>
                    <a:pt x="850" y="408"/>
                  </a:lnTo>
                  <a:lnTo>
                    <a:pt x="855" y="411"/>
                  </a:lnTo>
                  <a:lnTo>
                    <a:pt x="861" y="413"/>
                  </a:lnTo>
                  <a:lnTo>
                    <a:pt x="866" y="416"/>
                  </a:lnTo>
                  <a:lnTo>
                    <a:pt x="871" y="418"/>
                  </a:lnTo>
                  <a:lnTo>
                    <a:pt x="876" y="421"/>
                  </a:lnTo>
                  <a:lnTo>
                    <a:pt x="882" y="423"/>
                  </a:lnTo>
                  <a:lnTo>
                    <a:pt x="887" y="426"/>
                  </a:lnTo>
                  <a:lnTo>
                    <a:pt x="892" y="429"/>
                  </a:lnTo>
                  <a:lnTo>
                    <a:pt x="897" y="431"/>
                  </a:lnTo>
                  <a:lnTo>
                    <a:pt x="903" y="434"/>
                  </a:lnTo>
                  <a:lnTo>
                    <a:pt x="908" y="436"/>
                  </a:lnTo>
                  <a:lnTo>
                    <a:pt x="913" y="439"/>
                  </a:lnTo>
                  <a:lnTo>
                    <a:pt x="918" y="441"/>
                  </a:lnTo>
                  <a:lnTo>
                    <a:pt x="924" y="444"/>
                  </a:lnTo>
                  <a:lnTo>
                    <a:pt x="929" y="446"/>
                  </a:lnTo>
                  <a:lnTo>
                    <a:pt x="934" y="449"/>
                  </a:lnTo>
                  <a:lnTo>
                    <a:pt x="939" y="451"/>
                  </a:lnTo>
                  <a:lnTo>
                    <a:pt x="945" y="454"/>
                  </a:lnTo>
                  <a:lnTo>
                    <a:pt x="950" y="456"/>
                  </a:lnTo>
                  <a:lnTo>
                    <a:pt x="955" y="459"/>
                  </a:lnTo>
                  <a:lnTo>
                    <a:pt x="960" y="461"/>
                  </a:lnTo>
                  <a:lnTo>
                    <a:pt x="966" y="464"/>
                  </a:lnTo>
                  <a:lnTo>
                    <a:pt x="971" y="466"/>
                  </a:lnTo>
                  <a:lnTo>
                    <a:pt x="976" y="469"/>
                  </a:lnTo>
                  <a:lnTo>
                    <a:pt x="981" y="471"/>
                  </a:lnTo>
                  <a:lnTo>
                    <a:pt x="987" y="474"/>
                  </a:lnTo>
                  <a:lnTo>
                    <a:pt x="992" y="476"/>
                  </a:lnTo>
                  <a:lnTo>
                    <a:pt x="997" y="479"/>
                  </a:lnTo>
                  <a:lnTo>
                    <a:pt x="1002" y="481"/>
                  </a:lnTo>
                  <a:lnTo>
                    <a:pt x="1008" y="484"/>
                  </a:lnTo>
                  <a:lnTo>
                    <a:pt x="1013" y="486"/>
                  </a:lnTo>
                  <a:lnTo>
                    <a:pt x="1018" y="489"/>
                  </a:lnTo>
                  <a:lnTo>
                    <a:pt x="1023" y="492"/>
                  </a:lnTo>
                  <a:lnTo>
                    <a:pt x="1029" y="494"/>
                  </a:lnTo>
                  <a:lnTo>
                    <a:pt x="1034" y="497"/>
                  </a:lnTo>
                  <a:lnTo>
                    <a:pt x="1039" y="499"/>
                  </a:lnTo>
                  <a:lnTo>
                    <a:pt x="1044" y="502"/>
                  </a:lnTo>
                  <a:lnTo>
                    <a:pt x="1050" y="504"/>
                  </a:lnTo>
                  <a:lnTo>
                    <a:pt x="1055" y="507"/>
                  </a:lnTo>
                  <a:lnTo>
                    <a:pt x="1060" y="509"/>
                  </a:lnTo>
                  <a:lnTo>
                    <a:pt x="1065" y="512"/>
                  </a:lnTo>
                  <a:lnTo>
                    <a:pt x="1071" y="514"/>
                  </a:lnTo>
                  <a:lnTo>
                    <a:pt x="1076" y="517"/>
                  </a:lnTo>
                  <a:lnTo>
                    <a:pt x="1081" y="519"/>
                  </a:lnTo>
                  <a:lnTo>
                    <a:pt x="1086" y="522"/>
                  </a:lnTo>
                  <a:lnTo>
                    <a:pt x="1092" y="524"/>
                  </a:lnTo>
                  <a:lnTo>
                    <a:pt x="1097" y="527"/>
                  </a:lnTo>
                  <a:lnTo>
                    <a:pt x="1102" y="529"/>
                  </a:lnTo>
                  <a:lnTo>
                    <a:pt x="1107" y="532"/>
                  </a:lnTo>
                  <a:lnTo>
                    <a:pt x="1113" y="534"/>
                  </a:lnTo>
                  <a:lnTo>
                    <a:pt x="1118" y="537"/>
                  </a:lnTo>
                  <a:lnTo>
                    <a:pt x="1123" y="539"/>
                  </a:lnTo>
                  <a:lnTo>
                    <a:pt x="1128" y="542"/>
                  </a:lnTo>
                  <a:lnTo>
                    <a:pt x="1134" y="544"/>
                  </a:lnTo>
                  <a:lnTo>
                    <a:pt x="1139" y="547"/>
                  </a:lnTo>
                  <a:lnTo>
                    <a:pt x="1144" y="549"/>
                  </a:lnTo>
                  <a:lnTo>
                    <a:pt x="1149" y="552"/>
                  </a:lnTo>
                  <a:lnTo>
                    <a:pt x="1155" y="555"/>
                  </a:lnTo>
                  <a:lnTo>
                    <a:pt x="1160" y="557"/>
                  </a:lnTo>
                  <a:lnTo>
                    <a:pt x="1165" y="560"/>
                  </a:lnTo>
                  <a:lnTo>
                    <a:pt x="1170" y="562"/>
                  </a:lnTo>
                  <a:lnTo>
                    <a:pt x="1176" y="565"/>
                  </a:lnTo>
                  <a:lnTo>
                    <a:pt x="1181" y="567"/>
                  </a:lnTo>
                  <a:lnTo>
                    <a:pt x="1186" y="570"/>
                  </a:lnTo>
                  <a:lnTo>
                    <a:pt x="1191" y="572"/>
                  </a:lnTo>
                  <a:lnTo>
                    <a:pt x="1197" y="575"/>
                  </a:lnTo>
                  <a:lnTo>
                    <a:pt x="1202" y="577"/>
                  </a:lnTo>
                  <a:lnTo>
                    <a:pt x="1207" y="580"/>
                  </a:lnTo>
                  <a:lnTo>
                    <a:pt x="1212" y="582"/>
                  </a:lnTo>
                  <a:lnTo>
                    <a:pt x="1218" y="585"/>
                  </a:lnTo>
                  <a:lnTo>
                    <a:pt x="1223" y="587"/>
                  </a:lnTo>
                  <a:lnTo>
                    <a:pt x="1228" y="590"/>
                  </a:lnTo>
                  <a:lnTo>
                    <a:pt x="1233" y="592"/>
                  </a:lnTo>
                  <a:lnTo>
                    <a:pt x="1239" y="595"/>
                  </a:lnTo>
                  <a:lnTo>
                    <a:pt x="1244" y="597"/>
                  </a:lnTo>
                  <a:lnTo>
                    <a:pt x="1249" y="600"/>
                  </a:lnTo>
                  <a:lnTo>
                    <a:pt x="1254" y="602"/>
                  </a:lnTo>
                  <a:lnTo>
                    <a:pt x="1260" y="605"/>
                  </a:lnTo>
                  <a:lnTo>
                    <a:pt x="1265" y="607"/>
                  </a:lnTo>
                  <a:lnTo>
                    <a:pt x="1270" y="610"/>
                  </a:lnTo>
                  <a:lnTo>
                    <a:pt x="1275" y="612"/>
                  </a:lnTo>
                  <a:lnTo>
                    <a:pt x="1281" y="615"/>
                  </a:lnTo>
                  <a:lnTo>
                    <a:pt x="1286" y="618"/>
                  </a:lnTo>
                  <a:lnTo>
                    <a:pt x="1291" y="620"/>
                  </a:lnTo>
                  <a:lnTo>
                    <a:pt x="1296" y="623"/>
                  </a:lnTo>
                  <a:lnTo>
                    <a:pt x="1302" y="625"/>
                  </a:lnTo>
                  <a:lnTo>
                    <a:pt x="1307" y="628"/>
                  </a:lnTo>
                  <a:lnTo>
                    <a:pt x="1312" y="630"/>
                  </a:lnTo>
                  <a:lnTo>
                    <a:pt x="1317" y="633"/>
                  </a:lnTo>
                  <a:lnTo>
                    <a:pt x="1323" y="635"/>
                  </a:lnTo>
                  <a:lnTo>
                    <a:pt x="1328" y="638"/>
                  </a:lnTo>
                  <a:lnTo>
                    <a:pt x="1333" y="640"/>
                  </a:lnTo>
                  <a:lnTo>
                    <a:pt x="1338" y="643"/>
                  </a:lnTo>
                  <a:lnTo>
                    <a:pt x="1344" y="645"/>
                  </a:lnTo>
                  <a:lnTo>
                    <a:pt x="1349" y="648"/>
                  </a:lnTo>
                  <a:lnTo>
                    <a:pt x="1354" y="650"/>
                  </a:lnTo>
                  <a:lnTo>
                    <a:pt x="1359" y="653"/>
                  </a:lnTo>
                  <a:lnTo>
                    <a:pt x="1365" y="655"/>
                  </a:lnTo>
                  <a:lnTo>
                    <a:pt x="1370" y="658"/>
                  </a:lnTo>
                  <a:lnTo>
                    <a:pt x="1375" y="660"/>
                  </a:lnTo>
                  <a:lnTo>
                    <a:pt x="1380" y="663"/>
                  </a:lnTo>
                  <a:lnTo>
                    <a:pt x="1386" y="665"/>
                  </a:lnTo>
                  <a:lnTo>
                    <a:pt x="1391" y="668"/>
                  </a:lnTo>
                  <a:lnTo>
                    <a:pt x="1396" y="670"/>
                  </a:lnTo>
                  <a:lnTo>
                    <a:pt x="1401" y="673"/>
                  </a:lnTo>
                  <a:lnTo>
                    <a:pt x="1407" y="675"/>
                  </a:lnTo>
                  <a:lnTo>
                    <a:pt x="1412" y="678"/>
                  </a:lnTo>
                  <a:lnTo>
                    <a:pt x="1417" y="681"/>
                  </a:lnTo>
                  <a:lnTo>
                    <a:pt x="1422" y="683"/>
                  </a:lnTo>
                  <a:lnTo>
                    <a:pt x="1428" y="686"/>
                  </a:lnTo>
                  <a:lnTo>
                    <a:pt x="1433" y="688"/>
                  </a:lnTo>
                  <a:lnTo>
                    <a:pt x="1438" y="691"/>
                  </a:lnTo>
                  <a:lnTo>
                    <a:pt x="1443" y="693"/>
                  </a:lnTo>
                  <a:lnTo>
                    <a:pt x="1449" y="696"/>
                  </a:lnTo>
                  <a:lnTo>
                    <a:pt x="1454" y="698"/>
                  </a:lnTo>
                  <a:lnTo>
                    <a:pt x="1459" y="701"/>
                  </a:lnTo>
                  <a:lnTo>
                    <a:pt x="1464" y="703"/>
                  </a:lnTo>
                  <a:lnTo>
                    <a:pt x="1470" y="706"/>
                  </a:lnTo>
                  <a:lnTo>
                    <a:pt x="1475" y="708"/>
                  </a:lnTo>
                  <a:lnTo>
                    <a:pt x="1480" y="711"/>
                  </a:lnTo>
                  <a:lnTo>
                    <a:pt x="1485" y="713"/>
                  </a:lnTo>
                  <a:lnTo>
                    <a:pt x="1491" y="716"/>
                  </a:lnTo>
                  <a:lnTo>
                    <a:pt x="1496" y="718"/>
                  </a:lnTo>
                  <a:lnTo>
                    <a:pt x="1501" y="721"/>
                  </a:lnTo>
                  <a:lnTo>
                    <a:pt x="1506" y="723"/>
                  </a:lnTo>
                  <a:lnTo>
                    <a:pt x="1512" y="726"/>
                  </a:lnTo>
                  <a:lnTo>
                    <a:pt x="1517" y="728"/>
                  </a:lnTo>
                  <a:lnTo>
                    <a:pt x="1522" y="731"/>
                  </a:lnTo>
                  <a:lnTo>
                    <a:pt x="1527" y="733"/>
                  </a:lnTo>
                  <a:lnTo>
                    <a:pt x="1533" y="736"/>
                  </a:lnTo>
                  <a:lnTo>
                    <a:pt x="1538" y="738"/>
                  </a:lnTo>
                  <a:lnTo>
                    <a:pt x="1543" y="741"/>
                  </a:lnTo>
                  <a:lnTo>
                    <a:pt x="1548" y="744"/>
                  </a:lnTo>
                  <a:lnTo>
                    <a:pt x="1554" y="746"/>
                  </a:lnTo>
                  <a:lnTo>
                    <a:pt x="1559" y="749"/>
                  </a:lnTo>
                  <a:lnTo>
                    <a:pt x="1564" y="751"/>
                  </a:lnTo>
                  <a:lnTo>
                    <a:pt x="1569" y="754"/>
                  </a:lnTo>
                  <a:lnTo>
                    <a:pt x="1575" y="7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3629160" y="2771640"/>
              <a:ext cx="1938240" cy="1074240"/>
            </a:xfrm>
            <a:custGeom>
              <a:avLst/>
              <a:gdLst/>
              <a:ahLst/>
              <a:rect l="l" t="t" r="r" b="b"/>
              <a:pathLst>
                <a:path w="1575" h="876">
                  <a:moveTo>
                    <a:pt x="0" y="0"/>
                  </a:moveTo>
                  <a:lnTo>
                    <a:pt x="5" y="4"/>
                  </a:lnTo>
                  <a:lnTo>
                    <a:pt x="10" y="7"/>
                  </a:lnTo>
                  <a:lnTo>
                    <a:pt x="15" y="10"/>
                  </a:lnTo>
                  <a:lnTo>
                    <a:pt x="21" y="13"/>
                  </a:lnTo>
                  <a:lnTo>
                    <a:pt x="26" y="16"/>
                  </a:lnTo>
                  <a:lnTo>
                    <a:pt x="31" y="19"/>
                  </a:lnTo>
                  <a:lnTo>
                    <a:pt x="36" y="22"/>
                  </a:lnTo>
                  <a:lnTo>
                    <a:pt x="42" y="26"/>
                  </a:lnTo>
                  <a:lnTo>
                    <a:pt x="47" y="29"/>
                  </a:lnTo>
                  <a:lnTo>
                    <a:pt x="52" y="32"/>
                  </a:lnTo>
                  <a:lnTo>
                    <a:pt x="57" y="35"/>
                  </a:lnTo>
                  <a:lnTo>
                    <a:pt x="63" y="38"/>
                  </a:lnTo>
                  <a:lnTo>
                    <a:pt x="68" y="41"/>
                  </a:lnTo>
                  <a:lnTo>
                    <a:pt x="73" y="45"/>
                  </a:lnTo>
                  <a:lnTo>
                    <a:pt x="78" y="48"/>
                  </a:lnTo>
                  <a:lnTo>
                    <a:pt x="84" y="51"/>
                  </a:lnTo>
                  <a:lnTo>
                    <a:pt x="89" y="54"/>
                  </a:lnTo>
                  <a:lnTo>
                    <a:pt x="94" y="57"/>
                  </a:lnTo>
                  <a:lnTo>
                    <a:pt x="99" y="60"/>
                  </a:lnTo>
                  <a:lnTo>
                    <a:pt x="105" y="63"/>
                  </a:lnTo>
                  <a:lnTo>
                    <a:pt x="110" y="67"/>
                  </a:lnTo>
                  <a:lnTo>
                    <a:pt x="115" y="70"/>
                  </a:lnTo>
                  <a:lnTo>
                    <a:pt x="120" y="73"/>
                  </a:lnTo>
                  <a:lnTo>
                    <a:pt x="126" y="76"/>
                  </a:lnTo>
                  <a:lnTo>
                    <a:pt x="131" y="79"/>
                  </a:lnTo>
                  <a:lnTo>
                    <a:pt x="136" y="82"/>
                  </a:lnTo>
                  <a:lnTo>
                    <a:pt x="141" y="85"/>
                  </a:lnTo>
                  <a:lnTo>
                    <a:pt x="147" y="89"/>
                  </a:lnTo>
                  <a:lnTo>
                    <a:pt x="152" y="92"/>
                  </a:lnTo>
                  <a:lnTo>
                    <a:pt x="157" y="95"/>
                  </a:lnTo>
                  <a:lnTo>
                    <a:pt x="162" y="98"/>
                  </a:lnTo>
                  <a:lnTo>
                    <a:pt x="168" y="101"/>
                  </a:lnTo>
                  <a:lnTo>
                    <a:pt x="173" y="104"/>
                  </a:lnTo>
                  <a:lnTo>
                    <a:pt x="178" y="108"/>
                  </a:lnTo>
                  <a:lnTo>
                    <a:pt x="183" y="111"/>
                  </a:lnTo>
                  <a:lnTo>
                    <a:pt x="189" y="114"/>
                  </a:lnTo>
                  <a:lnTo>
                    <a:pt x="194" y="117"/>
                  </a:lnTo>
                  <a:lnTo>
                    <a:pt x="199" y="120"/>
                  </a:lnTo>
                  <a:lnTo>
                    <a:pt x="204" y="123"/>
                  </a:lnTo>
                  <a:lnTo>
                    <a:pt x="210" y="126"/>
                  </a:lnTo>
                  <a:lnTo>
                    <a:pt x="215" y="130"/>
                  </a:lnTo>
                  <a:lnTo>
                    <a:pt x="220" y="133"/>
                  </a:lnTo>
                  <a:lnTo>
                    <a:pt x="225" y="136"/>
                  </a:lnTo>
                  <a:lnTo>
                    <a:pt x="231" y="139"/>
                  </a:lnTo>
                  <a:lnTo>
                    <a:pt x="236" y="142"/>
                  </a:lnTo>
                  <a:lnTo>
                    <a:pt x="241" y="145"/>
                  </a:lnTo>
                  <a:lnTo>
                    <a:pt x="246" y="148"/>
                  </a:lnTo>
                  <a:lnTo>
                    <a:pt x="252" y="152"/>
                  </a:lnTo>
                  <a:lnTo>
                    <a:pt x="257" y="155"/>
                  </a:lnTo>
                  <a:lnTo>
                    <a:pt x="262" y="158"/>
                  </a:lnTo>
                  <a:lnTo>
                    <a:pt x="267" y="161"/>
                  </a:lnTo>
                  <a:lnTo>
                    <a:pt x="273" y="164"/>
                  </a:lnTo>
                  <a:lnTo>
                    <a:pt x="278" y="167"/>
                  </a:lnTo>
                  <a:lnTo>
                    <a:pt x="283" y="171"/>
                  </a:lnTo>
                  <a:lnTo>
                    <a:pt x="288" y="174"/>
                  </a:lnTo>
                  <a:lnTo>
                    <a:pt x="294" y="177"/>
                  </a:lnTo>
                  <a:lnTo>
                    <a:pt x="299" y="180"/>
                  </a:lnTo>
                  <a:lnTo>
                    <a:pt x="304" y="183"/>
                  </a:lnTo>
                  <a:lnTo>
                    <a:pt x="309" y="186"/>
                  </a:lnTo>
                  <a:lnTo>
                    <a:pt x="315" y="189"/>
                  </a:lnTo>
                  <a:lnTo>
                    <a:pt x="320" y="193"/>
                  </a:lnTo>
                  <a:lnTo>
                    <a:pt x="325" y="196"/>
                  </a:lnTo>
                  <a:lnTo>
                    <a:pt x="330" y="199"/>
                  </a:lnTo>
                  <a:lnTo>
                    <a:pt x="336" y="202"/>
                  </a:lnTo>
                  <a:lnTo>
                    <a:pt x="341" y="205"/>
                  </a:lnTo>
                  <a:lnTo>
                    <a:pt x="346" y="208"/>
                  </a:lnTo>
                  <a:lnTo>
                    <a:pt x="351" y="211"/>
                  </a:lnTo>
                  <a:lnTo>
                    <a:pt x="357" y="215"/>
                  </a:lnTo>
                  <a:lnTo>
                    <a:pt x="362" y="218"/>
                  </a:lnTo>
                  <a:lnTo>
                    <a:pt x="367" y="221"/>
                  </a:lnTo>
                  <a:lnTo>
                    <a:pt x="372" y="224"/>
                  </a:lnTo>
                  <a:lnTo>
                    <a:pt x="378" y="227"/>
                  </a:lnTo>
                  <a:lnTo>
                    <a:pt x="383" y="230"/>
                  </a:lnTo>
                  <a:lnTo>
                    <a:pt x="388" y="234"/>
                  </a:lnTo>
                  <a:lnTo>
                    <a:pt x="393" y="237"/>
                  </a:lnTo>
                  <a:lnTo>
                    <a:pt x="399" y="240"/>
                  </a:lnTo>
                  <a:lnTo>
                    <a:pt x="404" y="243"/>
                  </a:lnTo>
                  <a:lnTo>
                    <a:pt x="409" y="246"/>
                  </a:lnTo>
                  <a:lnTo>
                    <a:pt x="414" y="249"/>
                  </a:lnTo>
                  <a:lnTo>
                    <a:pt x="420" y="252"/>
                  </a:lnTo>
                  <a:lnTo>
                    <a:pt x="425" y="256"/>
                  </a:lnTo>
                  <a:lnTo>
                    <a:pt x="430" y="259"/>
                  </a:lnTo>
                  <a:lnTo>
                    <a:pt x="435" y="262"/>
                  </a:lnTo>
                  <a:lnTo>
                    <a:pt x="441" y="265"/>
                  </a:lnTo>
                  <a:lnTo>
                    <a:pt x="446" y="268"/>
                  </a:lnTo>
                  <a:lnTo>
                    <a:pt x="451" y="271"/>
                  </a:lnTo>
                  <a:lnTo>
                    <a:pt x="456" y="274"/>
                  </a:lnTo>
                  <a:lnTo>
                    <a:pt x="462" y="278"/>
                  </a:lnTo>
                  <a:lnTo>
                    <a:pt x="467" y="281"/>
                  </a:lnTo>
                  <a:lnTo>
                    <a:pt x="472" y="284"/>
                  </a:lnTo>
                  <a:lnTo>
                    <a:pt x="477" y="287"/>
                  </a:lnTo>
                  <a:lnTo>
                    <a:pt x="483" y="290"/>
                  </a:lnTo>
                  <a:lnTo>
                    <a:pt x="488" y="293"/>
                  </a:lnTo>
                  <a:lnTo>
                    <a:pt x="493" y="297"/>
                  </a:lnTo>
                  <a:lnTo>
                    <a:pt x="498" y="300"/>
                  </a:lnTo>
                  <a:lnTo>
                    <a:pt x="504" y="303"/>
                  </a:lnTo>
                  <a:lnTo>
                    <a:pt x="509" y="306"/>
                  </a:lnTo>
                  <a:lnTo>
                    <a:pt x="514" y="309"/>
                  </a:lnTo>
                  <a:lnTo>
                    <a:pt x="519" y="312"/>
                  </a:lnTo>
                  <a:lnTo>
                    <a:pt x="525" y="315"/>
                  </a:lnTo>
                  <a:lnTo>
                    <a:pt x="530" y="319"/>
                  </a:lnTo>
                  <a:lnTo>
                    <a:pt x="535" y="322"/>
                  </a:lnTo>
                  <a:lnTo>
                    <a:pt x="540" y="325"/>
                  </a:lnTo>
                  <a:lnTo>
                    <a:pt x="546" y="328"/>
                  </a:lnTo>
                  <a:lnTo>
                    <a:pt x="551" y="331"/>
                  </a:lnTo>
                  <a:lnTo>
                    <a:pt x="556" y="334"/>
                  </a:lnTo>
                  <a:lnTo>
                    <a:pt x="561" y="337"/>
                  </a:lnTo>
                  <a:lnTo>
                    <a:pt x="567" y="341"/>
                  </a:lnTo>
                  <a:lnTo>
                    <a:pt x="572" y="344"/>
                  </a:lnTo>
                  <a:lnTo>
                    <a:pt x="577" y="347"/>
                  </a:lnTo>
                  <a:lnTo>
                    <a:pt x="582" y="350"/>
                  </a:lnTo>
                  <a:lnTo>
                    <a:pt x="588" y="353"/>
                  </a:lnTo>
                  <a:lnTo>
                    <a:pt x="593" y="356"/>
                  </a:lnTo>
                  <a:lnTo>
                    <a:pt x="598" y="360"/>
                  </a:lnTo>
                  <a:lnTo>
                    <a:pt x="603" y="363"/>
                  </a:lnTo>
                  <a:lnTo>
                    <a:pt x="609" y="366"/>
                  </a:lnTo>
                  <a:lnTo>
                    <a:pt x="614" y="369"/>
                  </a:lnTo>
                  <a:lnTo>
                    <a:pt x="619" y="372"/>
                  </a:lnTo>
                  <a:lnTo>
                    <a:pt x="624" y="375"/>
                  </a:lnTo>
                  <a:lnTo>
                    <a:pt x="630" y="378"/>
                  </a:lnTo>
                  <a:lnTo>
                    <a:pt x="635" y="382"/>
                  </a:lnTo>
                  <a:lnTo>
                    <a:pt x="640" y="385"/>
                  </a:lnTo>
                  <a:lnTo>
                    <a:pt x="645" y="388"/>
                  </a:lnTo>
                  <a:lnTo>
                    <a:pt x="651" y="391"/>
                  </a:lnTo>
                  <a:lnTo>
                    <a:pt x="656" y="394"/>
                  </a:lnTo>
                  <a:lnTo>
                    <a:pt x="661" y="397"/>
                  </a:lnTo>
                  <a:lnTo>
                    <a:pt x="666" y="400"/>
                  </a:lnTo>
                  <a:lnTo>
                    <a:pt x="672" y="404"/>
                  </a:lnTo>
                  <a:lnTo>
                    <a:pt x="677" y="407"/>
                  </a:lnTo>
                  <a:lnTo>
                    <a:pt x="682" y="410"/>
                  </a:lnTo>
                  <a:lnTo>
                    <a:pt x="687" y="413"/>
                  </a:lnTo>
                  <a:lnTo>
                    <a:pt x="693" y="416"/>
                  </a:lnTo>
                  <a:lnTo>
                    <a:pt x="698" y="419"/>
                  </a:lnTo>
                  <a:lnTo>
                    <a:pt x="703" y="423"/>
                  </a:lnTo>
                  <a:lnTo>
                    <a:pt x="708" y="426"/>
                  </a:lnTo>
                  <a:lnTo>
                    <a:pt x="714" y="429"/>
                  </a:lnTo>
                  <a:lnTo>
                    <a:pt x="719" y="432"/>
                  </a:lnTo>
                  <a:lnTo>
                    <a:pt x="724" y="435"/>
                  </a:lnTo>
                  <a:lnTo>
                    <a:pt x="729" y="438"/>
                  </a:lnTo>
                  <a:lnTo>
                    <a:pt x="735" y="441"/>
                  </a:lnTo>
                  <a:lnTo>
                    <a:pt x="740" y="445"/>
                  </a:lnTo>
                  <a:lnTo>
                    <a:pt x="745" y="448"/>
                  </a:lnTo>
                  <a:lnTo>
                    <a:pt x="750" y="451"/>
                  </a:lnTo>
                  <a:lnTo>
                    <a:pt x="756" y="454"/>
                  </a:lnTo>
                  <a:lnTo>
                    <a:pt x="761" y="457"/>
                  </a:lnTo>
                  <a:lnTo>
                    <a:pt x="766" y="460"/>
                  </a:lnTo>
                  <a:lnTo>
                    <a:pt x="771" y="463"/>
                  </a:lnTo>
                  <a:lnTo>
                    <a:pt x="777" y="467"/>
                  </a:lnTo>
                  <a:lnTo>
                    <a:pt x="782" y="470"/>
                  </a:lnTo>
                  <a:lnTo>
                    <a:pt x="787" y="473"/>
                  </a:lnTo>
                  <a:lnTo>
                    <a:pt x="792" y="476"/>
                  </a:lnTo>
                  <a:lnTo>
                    <a:pt x="798" y="479"/>
                  </a:lnTo>
                  <a:lnTo>
                    <a:pt x="803" y="482"/>
                  </a:lnTo>
                  <a:lnTo>
                    <a:pt x="808" y="486"/>
                  </a:lnTo>
                  <a:lnTo>
                    <a:pt x="813" y="489"/>
                  </a:lnTo>
                  <a:lnTo>
                    <a:pt x="819" y="492"/>
                  </a:lnTo>
                  <a:lnTo>
                    <a:pt x="824" y="495"/>
                  </a:lnTo>
                  <a:lnTo>
                    <a:pt x="829" y="498"/>
                  </a:lnTo>
                  <a:lnTo>
                    <a:pt x="834" y="501"/>
                  </a:lnTo>
                  <a:lnTo>
                    <a:pt x="840" y="504"/>
                  </a:lnTo>
                  <a:lnTo>
                    <a:pt x="845" y="508"/>
                  </a:lnTo>
                  <a:lnTo>
                    <a:pt x="850" y="511"/>
                  </a:lnTo>
                  <a:lnTo>
                    <a:pt x="855" y="514"/>
                  </a:lnTo>
                  <a:lnTo>
                    <a:pt x="861" y="517"/>
                  </a:lnTo>
                  <a:lnTo>
                    <a:pt x="866" y="520"/>
                  </a:lnTo>
                  <a:lnTo>
                    <a:pt x="871" y="523"/>
                  </a:lnTo>
                  <a:lnTo>
                    <a:pt x="876" y="526"/>
                  </a:lnTo>
                  <a:lnTo>
                    <a:pt x="882" y="530"/>
                  </a:lnTo>
                  <a:lnTo>
                    <a:pt x="887" y="533"/>
                  </a:lnTo>
                  <a:lnTo>
                    <a:pt x="892" y="536"/>
                  </a:lnTo>
                  <a:lnTo>
                    <a:pt x="897" y="539"/>
                  </a:lnTo>
                  <a:lnTo>
                    <a:pt x="903" y="542"/>
                  </a:lnTo>
                  <a:lnTo>
                    <a:pt x="908" y="545"/>
                  </a:lnTo>
                  <a:lnTo>
                    <a:pt x="913" y="549"/>
                  </a:lnTo>
                  <a:lnTo>
                    <a:pt x="918" y="552"/>
                  </a:lnTo>
                  <a:lnTo>
                    <a:pt x="924" y="555"/>
                  </a:lnTo>
                  <a:lnTo>
                    <a:pt x="929" y="558"/>
                  </a:lnTo>
                  <a:lnTo>
                    <a:pt x="934" y="561"/>
                  </a:lnTo>
                  <a:lnTo>
                    <a:pt x="939" y="564"/>
                  </a:lnTo>
                  <a:lnTo>
                    <a:pt x="945" y="567"/>
                  </a:lnTo>
                  <a:lnTo>
                    <a:pt x="950" y="571"/>
                  </a:lnTo>
                  <a:lnTo>
                    <a:pt x="955" y="574"/>
                  </a:lnTo>
                  <a:lnTo>
                    <a:pt x="960" y="577"/>
                  </a:lnTo>
                  <a:lnTo>
                    <a:pt x="966" y="580"/>
                  </a:lnTo>
                  <a:lnTo>
                    <a:pt x="971" y="583"/>
                  </a:lnTo>
                  <a:lnTo>
                    <a:pt x="976" y="586"/>
                  </a:lnTo>
                  <a:lnTo>
                    <a:pt x="981" y="589"/>
                  </a:lnTo>
                  <a:lnTo>
                    <a:pt x="987" y="593"/>
                  </a:lnTo>
                  <a:lnTo>
                    <a:pt x="992" y="596"/>
                  </a:lnTo>
                  <a:lnTo>
                    <a:pt x="997" y="599"/>
                  </a:lnTo>
                  <a:lnTo>
                    <a:pt x="1002" y="602"/>
                  </a:lnTo>
                  <a:lnTo>
                    <a:pt x="1008" y="605"/>
                  </a:lnTo>
                  <a:lnTo>
                    <a:pt x="1013" y="608"/>
                  </a:lnTo>
                  <a:lnTo>
                    <a:pt x="1018" y="612"/>
                  </a:lnTo>
                  <a:lnTo>
                    <a:pt x="1023" y="615"/>
                  </a:lnTo>
                  <a:lnTo>
                    <a:pt x="1029" y="618"/>
                  </a:lnTo>
                  <a:lnTo>
                    <a:pt x="1034" y="621"/>
                  </a:lnTo>
                  <a:lnTo>
                    <a:pt x="1039" y="624"/>
                  </a:lnTo>
                  <a:lnTo>
                    <a:pt x="1044" y="627"/>
                  </a:lnTo>
                  <a:lnTo>
                    <a:pt x="1050" y="630"/>
                  </a:lnTo>
                  <a:lnTo>
                    <a:pt x="1055" y="634"/>
                  </a:lnTo>
                  <a:lnTo>
                    <a:pt x="1060" y="637"/>
                  </a:lnTo>
                  <a:lnTo>
                    <a:pt x="1065" y="640"/>
                  </a:lnTo>
                  <a:lnTo>
                    <a:pt x="1071" y="643"/>
                  </a:lnTo>
                  <a:lnTo>
                    <a:pt x="1076" y="646"/>
                  </a:lnTo>
                  <a:lnTo>
                    <a:pt x="1081" y="649"/>
                  </a:lnTo>
                  <a:lnTo>
                    <a:pt x="1086" y="652"/>
                  </a:lnTo>
                  <a:lnTo>
                    <a:pt x="1092" y="656"/>
                  </a:lnTo>
                  <a:lnTo>
                    <a:pt x="1097" y="659"/>
                  </a:lnTo>
                  <a:lnTo>
                    <a:pt x="1102" y="662"/>
                  </a:lnTo>
                  <a:lnTo>
                    <a:pt x="1107" y="665"/>
                  </a:lnTo>
                  <a:lnTo>
                    <a:pt x="1113" y="668"/>
                  </a:lnTo>
                  <a:lnTo>
                    <a:pt x="1118" y="671"/>
                  </a:lnTo>
                  <a:lnTo>
                    <a:pt x="1123" y="675"/>
                  </a:lnTo>
                  <a:lnTo>
                    <a:pt x="1128" y="678"/>
                  </a:lnTo>
                  <a:lnTo>
                    <a:pt x="1134" y="681"/>
                  </a:lnTo>
                  <a:lnTo>
                    <a:pt x="1139" y="684"/>
                  </a:lnTo>
                  <a:lnTo>
                    <a:pt x="1144" y="687"/>
                  </a:lnTo>
                  <a:lnTo>
                    <a:pt x="1149" y="690"/>
                  </a:lnTo>
                  <a:lnTo>
                    <a:pt x="1155" y="693"/>
                  </a:lnTo>
                  <a:lnTo>
                    <a:pt x="1160" y="697"/>
                  </a:lnTo>
                  <a:lnTo>
                    <a:pt x="1165" y="700"/>
                  </a:lnTo>
                  <a:lnTo>
                    <a:pt x="1170" y="703"/>
                  </a:lnTo>
                  <a:lnTo>
                    <a:pt x="1176" y="706"/>
                  </a:lnTo>
                  <a:lnTo>
                    <a:pt x="1181" y="709"/>
                  </a:lnTo>
                  <a:lnTo>
                    <a:pt x="1186" y="712"/>
                  </a:lnTo>
                  <a:lnTo>
                    <a:pt x="1191" y="715"/>
                  </a:lnTo>
                  <a:lnTo>
                    <a:pt x="1197" y="719"/>
                  </a:lnTo>
                  <a:lnTo>
                    <a:pt x="1202" y="722"/>
                  </a:lnTo>
                  <a:lnTo>
                    <a:pt x="1207" y="725"/>
                  </a:lnTo>
                  <a:lnTo>
                    <a:pt x="1212" y="728"/>
                  </a:lnTo>
                  <a:lnTo>
                    <a:pt x="1218" y="731"/>
                  </a:lnTo>
                  <a:lnTo>
                    <a:pt x="1223" y="734"/>
                  </a:lnTo>
                  <a:lnTo>
                    <a:pt x="1228" y="738"/>
                  </a:lnTo>
                  <a:lnTo>
                    <a:pt x="1233" y="741"/>
                  </a:lnTo>
                  <a:lnTo>
                    <a:pt x="1239" y="744"/>
                  </a:lnTo>
                  <a:lnTo>
                    <a:pt x="1244" y="747"/>
                  </a:lnTo>
                  <a:lnTo>
                    <a:pt x="1249" y="750"/>
                  </a:lnTo>
                  <a:lnTo>
                    <a:pt x="1254" y="753"/>
                  </a:lnTo>
                  <a:lnTo>
                    <a:pt x="1260" y="756"/>
                  </a:lnTo>
                  <a:lnTo>
                    <a:pt x="1265" y="760"/>
                  </a:lnTo>
                  <a:lnTo>
                    <a:pt x="1270" y="763"/>
                  </a:lnTo>
                  <a:lnTo>
                    <a:pt x="1275" y="766"/>
                  </a:lnTo>
                  <a:lnTo>
                    <a:pt x="1281" y="769"/>
                  </a:lnTo>
                  <a:lnTo>
                    <a:pt x="1286" y="772"/>
                  </a:lnTo>
                  <a:lnTo>
                    <a:pt x="1291" y="775"/>
                  </a:lnTo>
                  <a:lnTo>
                    <a:pt x="1296" y="778"/>
                  </a:lnTo>
                  <a:lnTo>
                    <a:pt x="1302" y="782"/>
                  </a:lnTo>
                  <a:lnTo>
                    <a:pt x="1307" y="785"/>
                  </a:lnTo>
                  <a:lnTo>
                    <a:pt x="1312" y="788"/>
                  </a:lnTo>
                  <a:lnTo>
                    <a:pt x="1317" y="791"/>
                  </a:lnTo>
                  <a:lnTo>
                    <a:pt x="1323" y="794"/>
                  </a:lnTo>
                  <a:lnTo>
                    <a:pt x="1328" y="797"/>
                  </a:lnTo>
                  <a:lnTo>
                    <a:pt x="1333" y="801"/>
                  </a:lnTo>
                  <a:lnTo>
                    <a:pt x="1338" y="804"/>
                  </a:lnTo>
                  <a:lnTo>
                    <a:pt x="1344" y="807"/>
                  </a:lnTo>
                  <a:lnTo>
                    <a:pt x="1349" y="810"/>
                  </a:lnTo>
                  <a:lnTo>
                    <a:pt x="1354" y="813"/>
                  </a:lnTo>
                  <a:lnTo>
                    <a:pt x="1359" y="816"/>
                  </a:lnTo>
                  <a:lnTo>
                    <a:pt x="1365" y="819"/>
                  </a:lnTo>
                  <a:lnTo>
                    <a:pt x="1370" y="823"/>
                  </a:lnTo>
                  <a:lnTo>
                    <a:pt x="1375" y="826"/>
                  </a:lnTo>
                  <a:lnTo>
                    <a:pt x="1380" y="829"/>
                  </a:lnTo>
                  <a:lnTo>
                    <a:pt x="1386" y="832"/>
                  </a:lnTo>
                  <a:lnTo>
                    <a:pt x="1391" y="835"/>
                  </a:lnTo>
                  <a:lnTo>
                    <a:pt x="1396" y="838"/>
                  </a:lnTo>
                  <a:lnTo>
                    <a:pt x="1401" y="841"/>
                  </a:lnTo>
                  <a:lnTo>
                    <a:pt x="1407" y="845"/>
                  </a:lnTo>
                  <a:lnTo>
                    <a:pt x="1412" y="848"/>
                  </a:lnTo>
                  <a:lnTo>
                    <a:pt x="1417" y="851"/>
                  </a:lnTo>
                  <a:lnTo>
                    <a:pt x="1422" y="854"/>
                  </a:lnTo>
                  <a:lnTo>
                    <a:pt x="1428" y="857"/>
                  </a:lnTo>
                  <a:lnTo>
                    <a:pt x="1433" y="860"/>
                  </a:lnTo>
                  <a:lnTo>
                    <a:pt x="1438" y="864"/>
                  </a:lnTo>
                  <a:lnTo>
                    <a:pt x="1443" y="867"/>
                  </a:lnTo>
                  <a:lnTo>
                    <a:pt x="1449" y="870"/>
                  </a:lnTo>
                  <a:lnTo>
                    <a:pt x="1454" y="873"/>
                  </a:lnTo>
                  <a:lnTo>
                    <a:pt x="1459" y="876"/>
                  </a:lnTo>
                  <a:lnTo>
                    <a:pt x="1464" y="876"/>
                  </a:lnTo>
                  <a:lnTo>
                    <a:pt x="1470" y="876"/>
                  </a:lnTo>
                  <a:lnTo>
                    <a:pt x="1475" y="876"/>
                  </a:lnTo>
                  <a:lnTo>
                    <a:pt x="1480" y="876"/>
                  </a:lnTo>
                  <a:lnTo>
                    <a:pt x="1485" y="876"/>
                  </a:lnTo>
                  <a:lnTo>
                    <a:pt x="1491" y="876"/>
                  </a:lnTo>
                  <a:lnTo>
                    <a:pt x="1496" y="876"/>
                  </a:lnTo>
                  <a:lnTo>
                    <a:pt x="1501" y="876"/>
                  </a:lnTo>
                  <a:lnTo>
                    <a:pt x="1506" y="876"/>
                  </a:lnTo>
                  <a:lnTo>
                    <a:pt x="1512" y="876"/>
                  </a:lnTo>
                  <a:lnTo>
                    <a:pt x="1517" y="876"/>
                  </a:lnTo>
                  <a:lnTo>
                    <a:pt x="1522" y="876"/>
                  </a:lnTo>
                  <a:lnTo>
                    <a:pt x="1527" y="876"/>
                  </a:lnTo>
                  <a:lnTo>
                    <a:pt x="1533" y="876"/>
                  </a:lnTo>
                  <a:lnTo>
                    <a:pt x="1538" y="876"/>
                  </a:lnTo>
                  <a:lnTo>
                    <a:pt x="1543" y="876"/>
                  </a:lnTo>
                  <a:lnTo>
                    <a:pt x="1548" y="876"/>
                  </a:lnTo>
                  <a:lnTo>
                    <a:pt x="1554" y="876"/>
                  </a:lnTo>
                  <a:lnTo>
                    <a:pt x="1559" y="876"/>
                  </a:lnTo>
                  <a:lnTo>
                    <a:pt x="1564" y="876"/>
                  </a:lnTo>
                  <a:lnTo>
                    <a:pt x="1569" y="876"/>
                  </a:lnTo>
                  <a:lnTo>
                    <a:pt x="1575" y="87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3629160" y="2770920"/>
              <a:ext cx="1938240" cy="1094760"/>
            </a:xfrm>
            <a:custGeom>
              <a:avLst/>
              <a:gdLst/>
              <a:ahLst/>
              <a:rect l="l" t="t" r="r" b="b"/>
              <a:pathLst>
                <a:path w="1575" h="893">
                  <a:moveTo>
                    <a:pt x="0" y="0"/>
                  </a:moveTo>
                  <a:lnTo>
                    <a:pt x="5" y="3"/>
                  </a:lnTo>
                  <a:lnTo>
                    <a:pt x="10" y="7"/>
                  </a:lnTo>
                  <a:lnTo>
                    <a:pt x="15" y="11"/>
                  </a:lnTo>
                  <a:lnTo>
                    <a:pt x="21" y="15"/>
                  </a:lnTo>
                  <a:lnTo>
                    <a:pt x="26" y="19"/>
                  </a:lnTo>
                  <a:lnTo>
                    <a:pt x="31" y="22"/>
                  </a:lnTo>
                  <a:lnTo>
                    <a:pt x="36" y="26"/>
                  </a:lnTo>
                  <a:lnTo>
                    <a:pt x="42" y="30"/>
                  </a:lnTo>
                  <a:lnTo>
                    <a:pt x="47" y="34"/>
                  </a:lnTo>
                  <a:lnTo>
                    <a:pt x="52" y="37"/>
                  </a:lnTo>
                  <a:lnTo>
                    <a:pt x="57" y="41"/>
                  </a:lnTo>
                  <a:lnTo>
                    <a:pt x="63" y="45"/>
                  </a:lnTo>
                  <a:lnTo>
                    <a:pt x="68" y="49"/>
                  </a:lnTo>
                  <a:lnTo>
                    <a:pt x="73" y="53"/>
                  </a:lnTo>
                  <a:lnTo>
                    <a:pt x="78" y="56"/>
                  </a:lnTo>
                  <a:lnTo>
                    <a:pt x="84" y="60"/>
                  </a:lnTo>
                  <a:lnTo>
                    <a:pt x="89" y="64"/>
                  </a:lnTo>
                  <a:lnTo>
                    <a:pt x="94" y="68"/>
                  </a:lnTo>
                  <a:lnTo>
                    <a:pt x="99" y="72"/>
                  </a:lnTo>
                  <a:lnTo>
                    <a:pt x="105" y="75"/>
                  </a:lnTo>
                  <a:lnTo>
                    <a:pt x="110" y="79"/>
                  </a:lnTo>
                  <a:lnTo>
                    <a:pt x="115" y="83"/>
                  </a:lnTo>
                  <a:lnTo>
                    <a:pt x="120" y="87"/>
                  </a:lnTo>
                  <a:lnTo>
                    <a:pt x="126" y="90"/>
                  </a:lnTo>
                  <a:lnTo>
                    <a:pt x="131" y="94"/>
                  </a:lnTo>
                  <a:lnTo>
                    <a:pt x="136" y="98"/>
                  </a:lnTo>
                  <a:lnTo>
                    <a:pt x="141" y="102"/>
                  </a:lnTo>
                  <a:lnTo>
                    <a:pt x="147" y="106"/>
                  </a:lnTo>
                  <a:lnTo>
                    <a:pt x="152" y="109"/>
                  </a:lnTo>
                  <a:lnTo>
                    <a:pt x="157" y="113"/>
                  </a:lnTo>
                  <a:lnTo>
                    <a:pt x="162" y="117"/>
                  </a:lnTo>
                  <a:lnTo>
                    <a:pt x="168" y="121"/>
                  </a:lnTo>
                  <a:lnTo>
                    <a:pt x="173" y="124"/>
                  </a:lnTo>
                  <a:lnTo>
                    <a:pt x="178" y="128"/>
                  </a:lnTo>
                  <a:lnTo>
                    <a:pt x="183" y="132"/>
                  </a:lnTo>
                  <a:lnTo>
                    <a:pt x="189" y="136"/>
                  </a:lnTo>
                  <a:lnTo>
                    <a:pt x="194" y="140"/>
                  </a:lnTo>
                  <a:lnTo>
                    <a:pt x="199" y="143"/>
                  </a:lnTo>
                  <a:lnTo>
                    <a:pt x="204" y="147"/>
                  </a:lnTo>
                  <a:lnTo>
                    <a:pt x="210" y="151"/>
                  </a:lnTo>
                  <a:lnTo>
                    <a:pt x="215" y="155"/>
                  </a:lnTo>
                  <a:lnTo>
                    <a:pt x="220" y="158"/>
                  </a:lnTo>
                  <a:lnTo>
                    <a:pt x="225" y="162"/>
                  </a:lnTo>
                  <a:lnTo>
                    <a:pt x="231" y="166"/>
                  </a:lnTo>
                  <a:lnTo>
                    <a:pt x="236" y="170"/>
                  </a:lnTo>
                  <a:lnTo>
                    <a:pt x="241" y="174"/>
                  </a:lnTo>
                  <a:lnTo>
                    <a:pt x="246" y="177"/>
                  </a:lnTo>
                  <a:lnTo>
                    <a:pt x="252" y="181"/>
                  </a:lnTo>
                  <a:lnTo>
                    <a:pt x="257" y="185"/>
                  </a:lnTo>
                  <a:lnTo>
                    <a:pt x="262" y="189"/>
                  </a:lnTo>
                  <a:lnTo>
                    <a:pt x="267" y="192"/>
                  </a:lnTo>
                  <a:lnTo>
                    <a:pt x="273" y="196"/>
                  </a:lnTo>
                  <a:lnTo>
                    <a:pt x="278" y="200"/>
                  </a:lnTo>
                  <a:lnTo>
                    <a:pt x="283" y="204"/>
                  </a:lnTo>
                  <a:lnTo>
                    <a:pt x="288" y="208"/>
                  </a:lnTo>
                  <a:lnTo>
                    <a:pt x="294" y="211"/>
                  </a:lnTo>
                  <a:lnTo>
                    <a:pt x="299" y="215"/>
                  </a:lnTo>
                  <a:lnTo>
                    <a:pt x="304" y="219"/>
                  </a:lnTo>
                  <a:lnTo>
                    <a:pt x="309" y="223"/>
                  </a:lnTo>
                  <a:lnTo>
                    <a:pt x="315" y="226"/>
                  </a:lnTo>
                  <a:lnTo>
                    <a:pt x="320" y="230"/>
                  </a:lnTo>
                  <a:lnTo>
                    <a:pt x="325" y="234"/>
                  </a:lnTo>
                  <a:lnTo>
                    <a:pt x="330" y="238"/>
                  </a:lnTo>
                  <a:lnTo>
                    <a:pt x="336" y="242"/>
                  </a:lnTo>
                  <a:lnTo>
                    <a:pt x="341" y="245"/>
                  </a:lnTo>
                  <a:lnTo>
                    <a:pt x="346" y="249"/>
                  </a:lnTo>
                  <a:lnTo>
                    <a:pt x="351" y="253"/>
                  </a:lnTo>
                  <a:lnTo>
                    <a:pt x="357" y="257"/>
                  </a:lnTo>
                  <a:lnTo>
                    <a:pt x="362" y="261"/>
                  </a:lnTo>
                  <a:lnTo>
                    <a:pt x="367" y="264"/>
                  </a:lnTo>
                  <a:lnTo>
                    <a:pt x="372" y="268"/>
                  </a:lnTo>
                  <a:lnTo>
                    <a:pt x="378" y="272"/>
                  </a:lnTo>
                  <a:lnTo>
                    <a:pt x="383" y="276"/>
                  </a:lnTo>
                  <a:lnTo>
                    <a:pt x="388" y="279"/>
                  </a:lnTo>
                  <a:lnTo>
                    <a:pt x="393" y="283"/>
                  </a:lnTo>
                  <a:lnTo>
                    <a:pt x="399" y="287"/>
                  </a:lnTo>
                  <a:lnTo>
                    <a:pt x="404" y="291"/>
                  </a:lnTo>
                  <a:lnTo>
                    <a:pt x="409" y="295"/>
                  </a:lnTo>
                  <a:lnTo>
                    <a:pt x="414" y="298"/>
                  </a:lnTo>
                  <a:lnTo>
                    <a:pt x="420" y="302"/>
                  </a:lnTo>
                  <a:lnTo>
                    <a:pt x="425" y="306"/>
                  </a:lnTo>
                  <a:lnTo>
                    <a:pt x="430" y="310"/>
                  </a:lnTo>
                  <a:lnTo>
                    <a:pt x="435" y="313"/>
                  </a:lnTo>
                  <a:lnTo>
                    <a:pt x="441" y="317"/>
                  </a:lnTo>
                  <a:lnTo>
                    <a:pt x="446" y="321"/>
                  </a:lnTo>
                  <a:lnTo>
                    <a:pt x="451" y="325"/>
                  </a:lnTo>
                  <a:lnTo>
                    <a:pt x="456" y="329"/>
                  </a:lnTo>
                  <a:lnTo>
                    <a:pt x="462" y="332"/>
                  </a:lnTo>
                  <a:lnTo>
                    <a:pt x="467" y="336"/>
                  </a:lnTo>
                  <a:lnTo>
                    <a:pt x="472" y="340"/>
                  </a:lnTo>
                  <a:lnTo>
                    <a:pt x="477" y="344"/>
                  </a:lnTo>
                  <a:lnTo>
                    <a:pt x="483" y="347"/>
                  </a:lnTo>
                  <a:lnTo>
                    <a:pt x="488" y="351"/>
                  </a:lnTo>
                  <a:lnTo>
                    <a:pt x="493" y="355"/>
                  </a:lnTo>
                  <a:lnTo>
                    <a:pt x="498" y="359"/>
                  </a:lnTo>
                  <a:lnTo>
                    <a:pt x="504" y="363"/>
                  </a:lnTo>
                  <a:lnTo>
                    <a:pt x="509" y="366"/>
                  </a:lnTo>
                  <a:lnTo>
                    <a:pt x="514" y="370"/>
                  </a:lnTo>
                  <a:lnTo>
                    <a:pt x="519" y="374"/>
                  </a:lnTo>
                  <a:lnTo>
                    <a:pt x="525" y="378"/>
                  </a:lnTo>
                  <a:lnTo>
                    <a:pt x="530" y="381"/>
                  </a:lnTo>
                  <a:lnTo>
                    <a:pt x="535" y="385"/>
                  </a:lnTo>
                  <a:lnTo>
                    <a:pt x="540" y="389"/>
                  </a:lnTo>
                  <a:lnTo>
                    <a:pt x="546" y="393"/>
                  </a:lnTo>
                  <a:lnTo>
                    <a:pt x="551" y="397"/>
                  </a:lnTo>
                  <a:lnTo>
                    <a:pt x="556" y="400"/>
                  </a:lnTo>
                  <a:lnTo>
                    <a:pt x="561" y="404"/>
                  </a:lnTo>
                  <a:lnTo>
                    <a:pt x="567" y="408"/>
                  </a:lnTo>
                  <a:lnTo>
                    <a:pt x="572" y="412"/>
                  </a:lnTo>
                  <a:lnTo>
                    <a:pt x="577" y="415"/>
                  </a:lnTo>
                  <a:lnTo>
                    <a:pt x="582" y="419"/>
                  </a:lnTo>
                  <a:lnTo>
                    <a:pt x="588" y="423"/>
                  </a:lnTo>
                  <a:lnTo>
                    <a:pt x="593" y="427"/>
                  </a:lnTo>
                  <a:lnTo>
                    <a:pt x="598" y="431"/>
                  </a:lnTo>
                  <a:lnTo>
                    <a:pt x="603" y="434"/>
                  </a:lnTo>
                  <a:lnTo>
                    <a:pt x="609" y="438"/>
                  </a:lnTo>
                  <a:lnTo>
                    <a:pt x="614" y="442"/>
                  </a:lnTo>
                  <a:lnTo>
                    <a:pt x="619" y="446"/>
                  </a:lnTo>
                  <a:lnTo>
                    <a:pt x="624" y="450"/>
                  </a:lnTo>
                  <a:lnTo>
                    <a:pt x="630" y="453"/>
                  </a:lnTo>
                  <a:lnTo>
                    <a:pt x="635" y="457"/>
                  </a:lnTo>
                  <a:lnTo>
                    <a:pt x="640" y="461"/>
                  </a:lnTo>
                  <a:lnTo>
                    <a:pt x="645" y="465"/>
                  </a:lnTo>
                  <a:lnTo>
                    <a:pt x="651" y="468"/>
                  </a:lnTo>
                  <a:lnTo>
                    <a:pt x="656" y="472"/>
                  </a:lnTo>
                  <a:lnTo>
                    <a:pt x="661" y="476"/>
                  </a:lnTo>
                  <a:lnTo>
                    <a:pt x="666" y="480"/>
                  </a:lnTo>
                  <a:lnTo>
                    <a:pt x="672" y="484"/>
                  </a:lnTo>
                  <a:lnTo>
                    <a:pt x="677" y="487"/>
                  </a:lnTo>
                  <a:lnTo>
                    <a:pt x="682" y="491"/>
                  </a:lnTo>
                  <a:lnTo>
                    <a:pt x="687" y="495"/>
                  </a:lnTo>
                  <a:lnTo>
                    <a:pt x="693" y="499"/>
                  </a:lnTo>
                  <a:lnTo>
                    <a:pt x="698" y="502"/>
                  </a:lnTo>
                  <a:lnTo>
                    <a:pt x="703" y="506"/>
                  </a:lnTo>
                  <a:lnTo>
                    <a:pt x="708" y="510"/>
                  </a:lnTo>
                  <a:lnTo>
                    <a:pt x="714" y="514"/>
                  </a:lnTo>
                  <a:lnTo>
                    <a:pt x="719" y="518"/>
                  </a:lnTo>
                  <a:lnTo>
                    <a:pt x="724" y="521"/>
                  </a:lnTo>
                  <a:lnTo>
                    <a:pt x="729" y="525"/>
                  </a:lnTo>
                  <a:lnTo>
                    <a:pt x="735" y="529"/>
                  </a:lnTo>
                  <a:lnTo>
                    <a:pt x="740" y="533"/>
                  </a:lnTo>
                  <a:lnTo>
                    <a:pt x="745" y="536"/>
                  </a:lnTo>
                  <a:lnTo>
                    <a:pt x="750" y="540"/>
                  </a:lnTo>
                  <a:lnTo>
                    <a:pt x="756" y="544"/>
                  </a:lnTo>
                  <a:lnTo>
                    <a:pt x="761" y="548"/>
                  </a:lnTo>
                  <a:lnTo>
                    <a:pt x="766" y="552"/>
                  </a:lnTo>
                  <a:lnTo>
                    <a:pt x="771" y="555"/>
                  </a:lnTo>
                  <a:lnTo>
                    <a:pt x="777" y="559"/>
                  </a:lnTo>
                  <a:lnTo>
                    <a:pt x="782" y="563"/>
                  </a:lnTo>
                  <a:lnTo>
                    <a:pt x="787" y="567"/>
                  </a:lnTo>
                  <a:lnTo>
                    <a:pt x="792" y="570"/>
                  </a:lnTo>
                  <a:lnTo>
                    <a:pt x="798" y="574"/>
                  </a:lnTo>
                  <a:lnTo>
                    <a:pt x="803" y="578"/>
                  </a:lnTo>
                  <a:lnTo>
                    <a:pt x="808" y="582"/>
                  </a:lnTo>
                  <a:lnTo>
                    <a:pt x="813" y="586"/>
                  </a:lnTo>
                  <a:lnTo>
                    <a:pt x="819" y="589"/>
                  </a:lnTo>
                  <a:lnTo>
                    <a:pt x="824" y="593"/>
                  </a:lnTo>
                  <a:lnTo>
                    <a:pt x="829" y="597"/>
                  </a:lnTo>
                  <a:lnTo>
                    <a:pt x="834" y="601"/>
                  </a:lnTo>
                  <a:lnTo>
                    <a:pt x="840" y="604"/>
                  </a:lnTo>
                  <a:lnTo>
                    <a:pt x="845" y="608"/>
                  </a:lnTo>
                  <a:lnTo>
                    <a:pt x="850" y="612"/>
                  </a:lnTo>
                  <a:lnTo>
                    <a:pt x="855" y="616"/>
                  </a:lnTo>
                  <a:lnTo>
                    <a:pt x="861" y="620"/>
                  </a:lnTo>
                  <a:lnTo>
                    <a:pt x="866" y="623"/>
                  </a:lnTo>
                  <a:lnTo>
                    <a:pt x="871" y="627"/>
                  </a:lnTo>
                  <a:lnTo>
                    <a:pt x="876" y="631"/>
                  </a:lnTo>
                  <a:lnTo>
                    <a:pt x="882" y="635"/>
                  </a:lnTo>
                  <a:lnTo>
                    <a:pt x="887" y="639"/>
                  </a:lnTo>
                  <a:lnTo>
                    <a:pt x="892" y="642"/>
                  </a:lnTo>
                  <a:lnTo>
                    <a:pt x="897" y="646"/>
                  </a:lnTo>
                  <a:lnTo>
                    <a:pt x="903" y="650"/>
                  </a:lnTo>
                  <a:lnTo>
                    <a:pt x="908" y="654"/>
                  </a:lnTo>
                  <a:lnTo>
                    <a:pt x="913" y="657"/>
                  </a:lnTo>
                  <a:lnTo>
                    <a:pt x="918" y="661"/>
                  </a:lnTo>
                  <a:lnTo>
                    <a:pt x="924" y="665"/>
                  </a:lnTo>
                  <a:lnTo>
                    <a:pt x="929" y="669"/>
                  </a:lnTo>
                  <a:lnTo>
                    <a:pt x="934" y="673"/>
                  </a:lnTo>
                  <a:lnTo>
                    <a:pt x="939" y="676"/>
                  </a:lnTo>
                  <a:lnTo>
                    <a:pt x="945" y="680"/>
                  </a:lnTo>
                  <a:lnTo>
                    <a:pt x="950" y="684"/>
                  </a:lnTo>
                  <a:lnTo>
                    <a:pt x="955" y="688"/>
                  </a:lnTo>
                  <a:lnTo>
                    <a:pt x="960" y="691"/>
                  </a:lnTo>
                  <a:lnTo>
                    <a:pt x="966" y="695"/>
                  </a:lnTo>
                  <a:lnTo>
                    <a:pt x="971" y="699"/>
                  </a:lnTo>
                  <a:lnTo>
                    <a:pt x="976" y="703"/>
                  </a:lnTo>
                  <a:lnTo>
                    <a:pt x="981" y="707"/>
                  </a:lnTo>
                  <a:lnTo>
                    <a:pt x="987" y="710"/>
                  </a:lnTo>
                  <a:lnTo>
                    <a:pt x="992" y="714"/>
                  </a:lnTo>
                  <a:lnTo>
                    <a:pt x="997" y="718"/>
                  </a:lnTo>
                  <a:lnTo>
                    <a:pt x="1002" y="722"/>
                  </a:lnTo>
                  <a:lnTo>
                    <a:pt x="1008" y="725"/>
                  </a:lnTo>
                  <a:lnTo>
                    <a:pt x="1013" y="729"/>
                  </a:lnTo>
                  <a:lnTo>
                    <a:pt x="1018" y="733"/>
                  </a:lnTo>
                  <a:lnTo>
                    <a:pt x="1023" y="737"/>
                  </a:lnTo>
                  <a:lnTo>
                    <a:pt x="1029" y="741"/>
                  </a:lnTo>
                  <a:lnTo>
                    <a:pt x="1034" y="744"/>
                  </a:lnTo>
                  <a:lnTo>
                    <a:pt x="1039" y="748"/>
                  </a:lnTo>
                  <a:lnTo>
                    <a:pt x="1044" y="752"/>
                  </a:lnTo>
                  <a:lnTo>
                    <a:pt x="1050" y="756"/>
                  </a:lnTo>
                  <a:lnTo>
                    <a:pt x="1055" y="759"/>
                  </a:lnTo>
                  <a:lnTo>
                    <a:pt x="1060" y="763"/>
                  </a:lnTo>
                  <a:lnTo>
                    <a:pt x="1065" y="767"/>
                  </a:lnTo>
                  <a:lnTo>
                    <a:pt x="1071" y="771"/>
                  </a:lnTo>
                  <a:lnTo>
                    <a:pt x="1076" y="775"/>
                  </a:lnTo>
                  <a:lnTo>
                    <a:pt x="1081" y="778"/>
                  </a:lnTo>
                  <a:lnTo>
                    <a:pt x="1086" y="782"/>
                  </a:lnTo>
                  <a:lnTo>
                    <a:pt x="1092" y="786"/>
                  </a:lnTo>
                  <a:lnTo>
                    <a:pt x="1097" y="790"/>
                  </a:lnTo>
                  <a:lnTo>
                    <a:pt x="1102" y="793"/>
                  </a:lnTo>
                  <a:lnTo>
                    <a:pt x="1107" y="797"/>
                  </a:lnTo>
                  <a:lnTo>
                    <a:pt x="1113" y="801"/>
                  </a:lnTo>
                  <a:lnTo>
                    <a:pt x="1118" y="805"/>
                  </a:lnTo>
                  <a:lnTo>
                    <a:pt x="1123" y="809"/>
                  </a:lnTo>
                  <a:lnTo>
                    <a:pt x="1128" y="812"/>
                  </a:lnTo>
                  <a:lnTo>
                    <a:pt x="1134" y="816"/>
                  </a:lnTo>
                  <a:lnTo>
                    <a:pt x="1139" y="820"/>
                  </a:lnTo>
                  <a:lnTo>
                    <a:pt x="1144" y="824"/>
                  </a:lnTo>
                  <a:lnTo>
                    <a:pt x="1149" y="828"/>
                  </a:lnTo>
                  <a:lnTo>
                    <a:pt x="1155" y="831"/>
                  </a:lnTo>
                  <a:lnTo>
                    <a:pt x="1160" y="835"/>
                  </a:lnTo>
                  <a:lnTo>
                    <a:pt x="1165" y="839"/>
                  </a:lnTo>
                  <a:lnTo>
                    <a:pt x="1170" y="843"/>
                  </a:lnTo>
                  <a:lnTo>
                    <a:pt x="1176" y="846"/>
                  </a:lnTo>
                  <a:lnTo>
                    <a:pt x="1181" y="850"/>
                  </a:lnTo>
                  <a:lnTo>
                    <a:pt x="1186" y="854"/>
                  </a:lnTo>
                  <a:lnTo>
                    <a:pt x="1191" y="858"/>
                  </a:lnTo>
                  <a:lnTo>
                    <a:pt x="1197" y="862"/>
                  </a:lnTo>
                  <a:lnTo>
                    <a:pt x="1202" y="865"/>
                  </a:lnTo>
                  <a:lnTo>
                    <a:pt x="1207" y="869"/>
                  </a:lnTo>
                  <a:lnTo>
                    <a:pt x="1212" y="873"/>
                  </a:lnTo>
                  <a:lnTo>
                    <a:pt x="1218" y="877"/>
                  </a:lnTo>
                  <a:lnTo>
                    <a:pt x="1223" y="880"/>
                  </a:lnTo>
                  <a:lnTo>
                    <a:pt x="1228" y="884"/>
                  </a:lnTo>
                  <a:lnTo>
                    <a:pt x="1233" y="888"/>
                  </a:lnTo>
                  <a:lnTo>
                    <a:pt x="1239" y="892"/>
                  </a:lnTo>
                  <a:lnTo>
                    <a:pt x="1244" y="893"/>
                  </a:lnTo>
                  <a:lnTo>
                    <a:pt x="1249" y="893"/>
                  </a:lnTo>
                  <a:lnTo>
                    <a:pt x="1254" y="893"/>
                  </a:lnTo>
                  <a:lnTo>
                    <a:pt x="1260" y="893"/>
                  </a:lnTo>
                  <a:lnTo>
                    <a:pt x="1265" y="893"/>
                  </a:lnTo>
                  <a:lnTo>
                    <a:pt x="1270" y="893"/>
                  </a:lnTo>
                  <a:lnTo>
                    <a:pt x="1275" y="893"/>
                  </a:lnTo>
                  <a:lnTo>
                    <a:pt x="1281" y="893"/>
                  </a:lnTo>
                  <a:lnTo>
                    <a:pt x="1286" y="893"/>
                  </a:lnTo>
                  <a:lnTo>
                    <a:pt x="1291" y="893"/>
                  </a:lnTo>
                  <a:lnTo>
                    <a:pt x="1296" y="893"/>
                  </a:lnTo>
                  <a:lnTo>
                    <a:pt x="1302" y="893"/>
                  </a:lnTo>
                  <a:lnTo>
                    <a:pt x="1307" y="893"/>
                  </a:lnTo>
                  <a:lnTo>
                    <a:pt x="1312" y="893"/>
                  </a:lnTo>
                  <a:lnTo>
                    <a:pt x="1317" y="893"/>
                  </a:lnTo>
                  <a:lnTo>
                    <a:pt x="1323" y="893"/>
                  </a:lnTo>
                  <a:lnTo>
                    <a:pt x="1328" y="893"/>
                  </a:lnTo>
                  <a:lnTo>
                    <a:pt x="1333" y="893"/>
                  </a:lnTo>
                  <a:lnTo>
                    <a:pt x="1338" y="893"/>
                  </a:lnTo>
                  <a:lnTo>
                    <a:pt x="1344" y="893"/>
                  </a:lnTo>
                  <a:lnTo>
                    <a:pt x="1349" y="893"/>
                  </a:lnTo>
                  <a:lnTo>
                    <a:pt x="1354" y="893"/>
                  </a:lnTo>
                  <a:lnTo>
                    <a:pt x="1359" y="893"/>
                  </a:lnTo>
                  <a:lnTo>
                    <a:pt x="1365" y="893"/>
                  </a:lnTo>
                  <a:lnTo>
                    <a:pt x="1370" y="893"/>
                  </a:lnTo>
                  <a:lnTo>
                    <a:pt x="1375" y="893"/>
                  </a:lnTo>
                  <a:lnTo>
                    <a:pt x="1380" y="893"/>
                  </a:lnTo>
                  <a:lnTo>
                    <a:pt x="1386" y="893"/>
                  </a:lnTo>
                  <a:lnTo>
                    <a:pt x="1391" y="893"/>
                  </a:lnTo>
                  <a:lnTo>
                    <a:pt x="1396" y="893"/>
                  </a:lnTo>
                  <a:lnTo>
                    <a:pt x="1401" y="893"/>
                  </a:lnTo>
                  <a:lnTo>
                    <a:pt x="1407" y="893"/>
                  </a:lnTo>
                  <a:lnTo>
                    <a:pt x="1412" y="893"/>
                  </a:lnTo>
                  <a:lnTo>
                    <a:pt x="1417" y="893"/>
                  </a:lnTo>
                  <a:lnTo>
                    <a:pt x="1422" y="893"/>
                  </a:lnTo>
                  <a:lnTo>
                    <a:pt x="1428" y="893"/>
                  </a:lnTo>
                  <a:lnTo>
                    <a:pt x="1433" y="893"/>
                  </a:lnTo>
                  <a:lnTo>
                    <a:pt x="1438" y="893"/>
                  </a:lnTo>
                  <a:lnTo>
                    <a:pt x="1443" y="893"/>
                  </a:lnTo>
                  <a:lnTo>
                    <a:pt x="1449" y="893"/>
                  </a:lnTo>
                  <a:lnTo>
                    <a:pt x="1454" y="893"/>
                  </a:lnTo>
                  <a:lnTo>
                    <a:pt x="1459" y="893"/>
                  </a:lnTo>
                  <a:lnTo>
                    <a:pt x="1464" y="893"/>
                  </a:lnTo>
                  <a:lnTo>
                    <a:pt x="1470" y="893"/>
                  </a:lnTo>
                  <a:lnTo>
                    <a:pt x="1475" y="893"/>
                  </a:lnTo>
                  <a:lnTo>
                    <a:pt x="1480" y="893"/>
                  </a:lnTo>
                  <a:lnTo>
                    <a:pt x="1485" y="893"/>
                  </a:lnTo>
                  <a:lnTo>
                    <a:pt x="1491" y="893"/>
                  </a:lnTo>
                  <a:lnTo>
                    <a:pt x="1496" y="893"/>
                  </a:lnTo>
                  <a:lnTo>
                    <a:pt x="1501" y="893"/>
                  </a:lnTo>
                  <a:lnTo>
                    <a:pt x="1506" y="893"/>
                  </a:lnTo>
                  <a:lnTo>
                    <a:pt x="1512" y="893"/>
                  </a:lnTo>
                  <a:lnTo>
                    <a:pt x="1517" y="893"/>
                  </a:lnTo>
                  <a:lnTo>
                    <a:pt x="1522" y="893"/>
                  </a:lnTo>
                  <a:lnTo>
                    <a:pt x="1527" y="893"/>
                  </a:lnTo>
                  <a:lnTo>
                    <a:pt x="1533" y="893"/>
                  </a:lnTo>
                  <a:lnTo>
                    <a:pt x="1538" y="893"/>
                  </a:lnTo>
                  <a:lnTo>
                    <a:pt x="1543" y="893"/>
                  </a:lnTo>
                  <a:lnTo>
                    <a:pt x="1548" y="893"/>
                  </a:lnTo>
                  <a:lnTo>
                    <a:pt x="1554" y="893"/>
                  </a:lnTo>
                  <a:lnTo>
                    <a:pt x="1559" y="893"/>
                  </a:lnTo>
                  <a:lnTo>
                    <a:pt x="1564" y="893"/>
                  </a:lnTo>
                  <a:lnTo>
                    <a:pt x="1569" y="893"/>
                  </a:lnTo>
                  <a:lnTo>
                    <a:pt x="1575" y="89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3629160" y="2770920"/>
              <a:ext cx="1938240" cy="1117080"/>
            </a:xfrm>
            <a:custGeom>
              <a:avLst/>
              <a:gdLst/>
              <a:ahLst/>
              <a:rect l="l" t="t" r="r" b="b"/>
              <a:pathLst>
                <a:path w="1575" h="911">
                  <a:moveTo>
                    <a:pt x="0" y="0"/>
                  </a:moveTo>
                  <a:lnTo>
                    <a:pt x="5" y="4"/>
                  </a:lnTo>
                  <a:lnTo>
                    <a:pt x="10" y="9"/>
                  </a:lnTo>
                  <a:lnTo>
                    <a:pt x="15" y="13"/>
                  </a:lnTo>
                  <a:lnTo>
                    <a:pt x="21" y="18"/>
                  </a:lnTo>
                  <a:lnTo>
                    <a:pt x="26" y="22"/>
                  </a:lnTo>
                  <a:lnTo>
                    <a:pt x="31" y="26"/>
                  </a:lnTo>
                  <a:lnTo>
                    <a:pt x="36" y="31"/>
                  </a:lnTo>
                  <a:lnTo>
                    <a:pt x="42" y="35"/>
                  </a:lnTo>
                  <a:lnTo>
                    <a:pt x="47" y="40"/>
                  </a:lnTo>
                  <a:lnTo>
                    <a:pt x="52" y="44"/>
                  </a:lnTo>
                  <a:lnTo>
                    <a:pt x="57" y="48"/>
                  </a:lnTo>
                  <a:lnTo>
                    <a:pt x="63" y="53"/>
                  </a:lnTo>
                  <a:lnTo>
                    <a:pt x="68" y="57"/>
                  </a:lnTo>
                  <a:lnTo>
                    <a:pt x="73" y="62"/>
                  </a:lnTo>
                  <a:lnTo>
                    <a:pt x="78" y="66"/>
                  </a:lnTo>
                  <a:lnTo>
                    <a:pt x="84" y="71"/>
                  </a:lnTo>
                  <a:lnTo>
                    <a:pt x="89" y="75"/>
                  </a:lnTo>
                  <a:lnTo>
                    <a:pt x="94" y="79"/>
                  </a:lnTo>
                  <a:lnTo>
                    <a:pt x="99" y="84"/>
                  </a:lnTo>
                  <a:lnTo>
                    <a:pt x="105" y="88"/>
                  </a:lnTo>
                  <a:lnTo>
                    <a:pt x="110" y="93"/>
                  </a:lnTo>
                  <a:lnTo>
                    <a:pt x="115" y="97"/>
                  </a:lnTo>
                  <a:lnTo>
                    <a:pt x="120" y="101"/>
                  </a:lnTo>
                  <a:lnTo>
                    <a:pt x="126" y="106"/>
                  </a:lnTo>
                  <a:lnTo>
                    <a:pt x="131" y="110"/>
                  </a:lnTo>
                  <a:lnTo>
                    <a:pt x="136" y="115"/>
                  </a:lnTo>
                  <a:lnTo>
                    <a:pt x="141" y="119"/>
                  </a:lnTo>
                  <a:lnTo>
                    <a:pt x="147" y="123"/>
                  </a:lnTo>
                  <a:lnTo>
                    <a:pt x="152" y="128"/>
                  </a:lnTo>
                  <a:lnTo>
                    <a:pt x="157" y="132"/>
                  </a:lnTo>
                  <a:lnTo>
                    <a:pt x="162" y="137"/>
                  </a:lnTo>
                  <a:lnTo>
                    <a:pt x="168" y="141"/>
                  </a:lnTo>
                  <a:lnTo>
                    <a:pt x="173" y="145"/>
                  </a:lnTo>
                  <a:lnTo>
                    <a:pt x="178" y="150"/>
                  </a:lnTo>
                  <a:lnTo>
                    <a:pt x="183" y="154"/>
                  </a:lnTo>
                  <a:lnTo>
                    <a:pt x="189" y="159"/>
                  </a:lnTo>
                  <a:lnTo>
                    <a:pt x="194" y="163"/>
                  </a:lnTo>
                  <a:lnTo>
                    <a:pt x="199" y="168"/>
                  </a:lnTo>
                  <a:lnTo>
                    <a:pt x="204" y="172"/>
                  </a:lnTo>
                  <a:lnTo>
                    <a:pt x="210" y="176"/>
                  </a:lnTo>
                  <a:lnTo>
                    <a:pt x="215" y="181"/>
                  </a:lnTo>
                  <a:lnTo>
                    <a:pt x="220" y="185"/>
                  </a:lnTo>
                  <a:lnTo>
                    <a:pt x="225" y="190"/>
                  </a:lnTo>
                  <a:lnTo>
                    <a:pt x="231" y="194"/>
                  </a:lnTo>
                  <a:lnTo>
                    <a:pt x="236" y="198"/>
                  </a:lnTo>
                  <a:lnTo>
                    <a:pt x="241" y="203"/>
                  </a:lnTo>
                  <a:lnTo>
                    <a:pt x="246" y="207"/>
                  </a:lnTo>
                  <a:lnTo>
                    <a:pt x="252" y="212"/>
                  </a:lnTo>
                  <a:lnTo>
                    <a:pt x="257" y="216"/>
                  </a:lnTo>
                  <a:lnTo>
                    <a:pt x="262" y="220"/>
                  </a:lnTo>
                  <a:lnTo>
                    <a:pt x="267" y="225"/>
                  </a:lnTo>
                  <a:lnTo>
                    <a:pt x="273" y="229"/>
                  </a:lnTo>
                  <a:lnTo>
                    <a:pt x="278" y="234"/>
                  </a:lnTo>
                  <a:lnTo>
                    <a:pt x="283" y="238"/>
                  </a:lnTo>
                  <a:lnTo>
                    <a:pt x="288" y="243"/>
                  </a:lnTo>
                  <a:lnTo>
                    <a:pt x="294" y="247"/>
                  </a:lnTo>
                  <a:lnTo>
                    <a:pt x="299" y="251"/>
                  </a:lnTo>
                  <a:lnTo>
                    <a:pt x="304" y="256"/>
                  </a:lnTo>
                  <a:lnTo>
                    <a:pt x="309" y="260"/>
                  </a:lnTo>
                  <a:lnTo>
                    <a:pt x="315" y="265"/>
                  </a:lnTo>
                  <a:lnTo>
                    <a:pt x="320" y="269"/>
                  </a:lnTo>
                  <a:lnTo>
                    <a:pt x="325" y="273"/>
                  </a:lnTo>
                  <a:lnTo>
                    <a:pt x="330" y="278"/>
                  </a:lnTo>
                  <a:lnTo>
                    <a:pt x="336" y="282"/>
                  </a:lnTo>
                  <a:lnTo>
                    <a:pt x="341" y="287"/>
                  </a:lnTo>
                  <a:lnTo>
                    <a:pt x="346" y="291"/>
                  </a:lnTo>
                  <a:lnTo>
                    <a:pt x="351" y="295"/>
                  </a:lnTo>
                  <a:lnTo>
                    <a:pt x="357" y="300"/>
                  </a:lnTo>
                  <a:lnTo>
                    <a:pt x="362" y="304"/>
                  </a:lnTo>
                  <a:lnTo>
                    <a:pt x="367" y="309"/>
                  </a:lnTo>
                  <a:lnTo>
                    <a:pt x="372" y="313"/>
                  </a:lnTo>
                  <a:lnTo>
                    <a:pt x="378" y="317"/>
                  </a:lnTo>
                  <a:lnTo>
                    <a:pt x="383" y="322"/>
                  </a:lnTo>
                  <a:lnTo>
                    <a:pt x="388" y="326"/>
                  </a:lnTo>
                  <a:lnTo>
                    <a:pt x="393" y="331"/>
                  </a:lnTo>
                  <a:lnTo>
                    <a:pt x="399" y="335"/>
                  </a:lnTo>
                  <a:lnTo>
                    <a:pt x="404" y="340"/>
                  </a:lnTo>
                  <a:lnTo>
                    <a:pt x="409" y="344"/>
                  </a:lnTo>
                  <a:lnTo>
                    <a:pt x="414" y="348"/>
                  </a:lnTo>
                  <a:lnTo>
                    <a:pt x="420" y="353"/>
                  </a:lnTo>
                  <a:lnTo>
                    <a:pt x="425" y="357"/>
                  </a:lnTo>
                  <a:lnTo>
                    <a:pt x="430" y="362"/>
                  </a:lnTo>
                  <a:lnTo>
                    <a:pt x="435" y="366"/>
                  </a:lnTo>
                  <a:lnTo>
                    <a:pt x="441" y="370"/>
                  </a:lnTo>
                  <a:lnTo>
                    <a:pt x="446" y="375"/>
                  </a:lnTo>
                  <a:lnTo>
                    <a:pt x="451" y="379"/>
                  </a:lnTo>
                  <a:lnTo>
                    <a:pt x="456" y="384"/>
                  </a:lnTo>
                  <a:lnTo>
                    <a:pt x="462" y="388"/>
                  </a:lnTo>
                  <a:lnTo>
                    <a:pt x="467" y="392"/>
                  </a:lnTo>
                  <a:lnTo>
                    <a:pt x="472" y="397"/>
                  </a:lnTo>
                  <a:lnTo>
                    <a:pt x="477" y="401"/>
                  </a:lnTo>
                  <a:lnTo>
                    <a:pt x="483" y="406"/>
                  </a:lnTo>
                  <a:lnTo>
                    <a:pt x="488" y="410"/>
                  </a:lnTo>
                  <a:lnTo>
                    <a:pt x="493" y="415"/>
                  </a:lnTo>
                  <a:lnTo>
                    <a:pt x="498" y="419"/>
                  </a:lnTo>
                  <a:lnTo>
                    <a:pt x="504" y="423"/>
                  </a:lnTo>
                  <a:lnTo>
                    <a:pt x="509" y="428"/>
                  </a:lnTo>
                  <a:lnTo>
                    <a:pt x="514" y="432"/>
                  </a:lnTo>
                  <a:lnTo>
                    <a:pt x="519" y="437"/>
                  </a:lnTo>
                  <a:lnTo>
                    <a:pt x="525" y="441"/>
                  </a:lnTo>
                  <a:lnTo>
                    <a:pt x="530" y="445"/>
                  </a:lnTo>
                  <a:lnTo>
                    <a:pt x="535" y="450"/>
                  </a:lnTo>
                  <a:lnTo>
                    <a:pt x="540" y="454"/>
                  </a:lnTo>
                  <a:lnTo>
                    <a:pt x="546" y="459"/>
                  </a:lnTo>
                  <a:lnTo>
                    <a:pt x="551" y="463"/>
                  </a:lnTo>
                  <a:lnTo>
                    <a:pt x="556" y="467"/>
                  </a:lnTo>
                  <a:lnTo>
                    <a:pt x="561" y="472"/>
                  </a:lnTo>
                  <a:lnTo>
                    <a:pt x="567" y="476"/>
                  </a:lnTo>
                  <a:lnTo>
                    <a:pt x="572" y="481"/>
                  </a:lnTo>
                  <a:lnTo>
                    <a:pt x="577" y="485"/>
                  </a:lnTo>
                  <a:lnTo>
                    <a:pt x="582" y="489"/>
                  </a:lnTo>
                  <a:lnTo>
                    <a:pt x="588" y="494"/>
                  </a:lnTo>
                  <a:lnTo>
                    <a:pt x="593" y="498"/>
                  </a:lnTo>
                  <a:lnTo>
                    <a:pt x="598" y="503"/>
                  </a:lnTo>
                  <a:lnTo>
                    <a:pt x="603" y="507"/>
                  </a:lnTo>
                  <a:lnTo>
                    <a:pt x="609" y="512"/>
                  </a:lnTo>
                  <a:lnTo>
                    <a:pt x="614" y="516"/>
                  </a:lnTo>
                  <a:lnTo>
                    <a:pt x="619" y="520"/>
                  </a:lnTo>
                  <a:lnTo>
                    <a:pt x="624" y="525"/>
                  </a:lnTo>
                  <a:lnTo>
                    <a:pt x="630" y="529"/>
                  </a:lnTo>
                  <a:lnTo>
                    <a:pt x="635" y="534"/>
                  </a:lnTo>
                  <a:lnTo>
                    <a:pt x="640" y="538"/>
                  </a:lnTo>
                  <a:lnTo>
                    <a:pt x="645" y="542"/>
                  </a:lnTo>
                  <a:lnTo>
                    <a:pt x="651" y="547"/>
                  </a:lnTo>
                  <a:lnTo>
                    <a:pt x="656" y="551"/>
                  </a:lnTo>
                  <a:lnTo>
                    <a:pt x="661" y="556"/>
                  </a:lnTo>
                  <a:lnTo>
                    <a:pt x="666" y="560"/>
                  </a:lnTo>
                  <a:lnTo>
                    <a:pt x="672" y="564"/>
                  </a:lnTo>
                  <a:lnTo>
                    <a:pt x="677" y="569"/>
                  </a:lnTo>
                  <a:lnTo>
                    <a:pt x="682" y="573"/>
                  </a:lnTo>
                  <a:lnTo>
                    <a:pt x="687" y="578"/>
                  </a:lnTo>
                  <a:lnTo>
                    <a:pt x="693" y="582"/>
                  </a:lnTo>
                  <a:lnTo>
                    <a:pt x="698" y="586"/>
                  </a:lnTo>
                  <a:lnTo>
                    <a:pt x="703" y="591"/>
                  </a:lnTo>
                  <a:lnTo>
                    <a:pt x="708" y="595"/>
                  </a:lnTo>
                  <a:lnTo>
                    <a:pt x="714" y="600"/>
                  </a:lnTo>
                  <a:lnTo>
                    <a:pt x="719" y="604"/>
                  </a:lnTo>
                  <a:lnTo>
                    <a:pt x="724" y="609"/>
                  </a:lnTo>
                  <a:lnTo>
                    <a:pt x="729" y="613"/>
                  </a:lnTo>
                  <a:lnTo>
                    <a:pt x="735" y="617"/>
                  </a:lnTo>
                  <a:lnTo>
                    <a:pt x="740" y="622"/>
                  </a:lnTo>
                  <a:lnTo>
                    <a:pt x="745" y="626"/>
                  </a:lnTo>
                  <a:lnTo>
                    <a:pt x="750" y="631"/>
                  </a:lnTo>
                  <a:lnTo>
                    <a:pt x="756" y="635"/>
                  </a:lnTo>
                  <a:lnTo>
                    <a:pt x="761" y="639"/>
                  </a:lnTo>
                  <a:lnTo>
                    <a:pt x="766" y="644"/>
                  </a:lnTo>
                  <a:lnTo>
                    <a:pt x="771" y="648"/>
                  </a:lnTo>
                  <a:lnTo>
                    <a:pt x="777" y="653"/>
                  </a:lnTo>
                  <a:lnTo>
                    <a:pt x="782" y="657"/>
                  </a:lnTo>
                  <a:lnTo>
                    <a:pt x="787" y="661"/>
                  </a:lnTo>
                  <a:lnTo>
                    <a:pt x="792" y="666"/>
                  </a:lnTo>
                  <a:lnTo>
                    <a:pt x="798" y="670"/>
                  </a:lnTo>
                  <a:lnTo>
                    <a:pt x="803" y="675"/>
                  </a:lnTo>
                  <a:lnTo>
                    <a:pt x="808" y="679"/>
                  </a:lnTo>
                  <a:lnTo>
                    <a:pt x="813" y="684"/>
                  </a:lnTo>
                  <a:lnTo>
                    <a:pt x="819" y="688"/>
                  </a:lnTo>
                  <a:lnTo>
                    <a:pt x="824" y="692"/>
                  </a:lnTo>
                  <a:lnTo>
                    <a:pt x="829" y="697"/>
                  </a:lnTo>
                  <a:lnTo>
                    <a:pt x="834" y="701"/>
                  </a:lnTo>
                  <a:lnTo>
                    <a:pt x="840" y="706"/>
                  </a:lnTo>
                  <a:lnTo>
                    <a:pt x="845" y="710"/>
                  </a:lnTo>
                  <a:lnTo>
                    <a:pt x="850" y="714"/>
                  </a:lnTo>
                  <a:lnTo>
                    <a:pt x="855" y="719"/>
                  </a:lnTo>
                  <a:lnTo>
                    <a:pt x="861" y="723"/>
                  </a:lnTo>
                  <a:lnTo>
                    <a:pt x="866" y="728"/>
                  </a:lnTo>
                  <a:lnTo>
                    <a:pt x="871" y="732"/>
                  </a:lnTo>
                  <a:lnTo>
                    <a:pt x="876" y="736"/>
                  </a:lnTo>
                  <a:lnTo>
                    <a:pt x="882" y="741"/>
                  </a:lnTo>
                  <a:lnTo>
                    <a:pt x="887" y="745"/>
                  </a:lnTo>
                  <a:lnTo>
                    <a:pt x="892" y="750"/>
                  </a:lnTo>
                  <a:lnTo>
                    <a:pt x="897" y="754"/>
                  </a:lnTo>
                  <a:lnTo>
                    <a:pt x="903" y="758"/>
                  </a:lnTo>
                  <a:lnTo>
                    <a:pt x="908" y="763"/>
                  </a:lnTo>
                  <a:lnTo>
                    <a:pt x="913" y="767"/>
                  </a:lnTo>
                  <a:lnTo>
                    <a:pt x="918" y="772"/>
                  </a:lnTo>
                  <a:lnTo>
                    <a:pt x="924" y="776"/>
                  </a:lnTo>
                  <a:lnTo>
                    <a:pt x="929" y="781"/>
                  </a:lnTo>
                  <a:lnTo>
                    <a:pt x="934" y="785"/>
                  </a:lnTo>
                  <a:lnTo>
                    <a:pt x="939" y="789"/>
                  </a:lnTo>
                  <a:lnTo>
                    <a:pt x="945" y="794"/>
                  </a:lnTo>
                  <a:lnTo>
                    <a:pt x="950" y="798"/>
                  </a:lnTo>
                  <a:lnTo>
                    <a:pt x="955" y="803"/>
                  </a:lnTo>
                  <a:lnTo>
                    <a:pt x="960" y="807"/>
                  </a:lnTo>
                  <a:lnTo>
                    <a:pt x="966" y="811"/>
                  </a:lnTo>
                  <a:lnTo>
                    <a:pt x="971" y="816"/>
                  </a:lnTo>
                  <a:lnTo>
                    <a:pt x="976" y="820"/>
                  </a:lnTo>
                  <a:lnTo>
                    <a:pt x="981" y="825"/>
                  </a:lnTo>
                  <a:lnTo>
                    <a:pt x="987" y="829"/>
                  </a:lnTo>
                  <a:lnTo>
                    <a:pt x="992" y="833"/>
                  </a:lnTo>
                  <a:lnTo>
                    <a:pt x="997" y="838"/>
                  </a:lnTo>
                  <a:lnTo>
                    <a:pt x="1002" y="842"/>
                  </a:lnTo>
                  <a:lnTo>
                    <a:pt x="1008" y="847"/>
                  </a:lnTo>
                  <a:lnTo>
                    <a:pt x="1013" y="851"/>
                  </a:lnTo>
                  <a:lnTo>
                    <a:pt x="1018" y="856"/>
                  </a:lnTo>
                  <a:lnTo>
                    <a:pt x="1023" y="860"/>
                  </a:lnTo>
                  <a:lnTo>
                    <a:pt x="1029" y="864"/>
                  </a:lnTo>
                  <a:lnTo>
                    <a:pt x="1034" y="869"/>
                  </a:lnTo>
                  <a:lnTo>
                    <a:pt x="1039" y="873"/>
                  </a:lnTo>
                  <a:lnTo>
                    <a:pt x="1044" y="878"/>
                  </a:lnTo>
                  <a:lnTo>
                    <a:pt x="1050" y="882"/>
                  </a:lnTo>
                  <a:lnTo>
                    <a:pt x="1055" y="886"/>
                  </a:lnTo>
                  <a:lnTo>
                    <a:pt x="1060" y="891"/>
                  </a:lnTo>
                  <a:lnTo>
                    <a:pt x="1065" y="895"/>
                  </a:lnTo>
                  <a:lnTo>
                    <a:pt x="1071" y="900"/>
                  </a:lnTo>
                  <a:lnTo>
                    <a:pt x="1076" y="904"/>
                  </a:lnTo>
                  <a:lnTo>
                    <a:pt x="1081" y="908"/>
                  </a:lnTo>
                  <a:lnTo>
                    <a:pt x="1086" y="911"/>
                  </a:lnTo>
                  <a:lnTo>
                    <a:pt x="1092" y="911"/>
                  </a:lnTo>
                  <a:lnTo>
                    <a:pt x="1097" y="911"/>
                  </a:lnTo>
                  <a:lnTo>
                    <a:pt x="1102" y="911"/>
                  </a:lnTo>
                  <a:lnTo>
                    <a:pt x="1107" y="911"/>
                  </a:lnTo>
                  <a:lnTo>
                    <a:pt x="1113" y="911"/>
                  </a:lnTo>
                  <a:lnTo>
                    <a:pt x="1118" y="911"/>
                  </a:lnTo>
                  <a:lnTo>
                    <a:pt x="1123" y="911"/>
                  </a:lnTo>
                  <a:lnTo>
                    <a:pt x="1128" y="911"/>
                  </a:lnTo>
                  <a:lnTo>
                    <a:pt x="1134" y="911"/>
                  </a:lnTo>
                  <a:lnTo>
                    <a:pt x="1139" y="911"/>
                  </a:lnTo>
                  <a:lnTo>
                    <a:pt x="1144" y="911"/>
                  </a:lnTo>
                  <a:lnTo>
                    <a:pt x="1149" y="911"/>
                  </a:lnTo>
                  <a:lnTo>
                    <a:pt x="1155" y="911"/>
                  </a:lnTo>
                  <a:lnTo>
                    <a:pt x="1160" y="911"/>
                  </a:lnTo>
                  <a:lnTo>
                    <a:pt x="1165" y="911"/>
                  </a:lnTo>
                  <a:lnTo>
                    <a:pt x="1170" y="911"/>
                  </a:lnTo>
                  <a:lnTo>
                    <a:pt x="1176" y="911"/>
                  </a:lnTo>
                  <a:lnTo>
                    <a:pt x="1181" y="911"/>
                  </a:lnTo>
                  <a:lnTo>
                    <a:pt x="1186" y="911"/>
                  </a:lnTo>
                  <a:lnTo>
                    <a:pt x="1191" y="911"/>
                  </a:lnTo>
                  <a:lnTo>
                    <a:pt x="1197" y="911"/>
                  </a:lnTo>
                  <a:lnTo>
                    <a:pt x="1202" y="911"/>
                  </a:lnTo>
                  <a:lnTo>
                    <a:pt x="1207" y="911"/>
                  </a:lnTo>
                  <a:lnTo>
                    <a:pt x="1212" y="911"/>
                  </a:lnTo>
                  <a:lnTo>
                    <a:pt x="1218" y="911"/>
                  </a:lnTo>
                  <a:lnTo>
                    <a:pt x="1223" y="911"/>
                  </a:lnTo>
                  <a:lnTo>
                    <a:pt x="1228" y="911"/>
                  </a:lnTo>
                  <a:lnTo>
                    <a:pt x="1233" y="911"/>
                  </a:lnTo>
                  <a:lnTo>
                    <a:pt x="1239" y="911"/>
                  </a:lnTo>
                  <a:lnTo>
                    <a:pt x="1244" y="911"/>
                  </a:lnTo>
                  <a:lnTo>
                    <a:pt x="1249" y="911"/>
                  </a:lnTo>
                  <a:lnTo>
                    <a:pt x="1254" y="911"/>
                  </a:lnTo>
                  <a:lnTo>
                    <a:pt x="1260" y="911"/>
                  </a:lnTo>
                  <a:lnTo>
                    <a:pt x="1265" y="911"/>
                  </a:lnTo>
                  <a:lnTo>
                    <a:pt x="1270" y="911"/>
                  </a:lnTo>
                  <a:lnTo>
                    <a:pt x="1275" y="911"/>
                  </a:lnTo>
                  <a:lnTo>
                    <a:pt x="1281" y="911"/>
                  </a:lnTo>
                  <a:lnTo>
                    <a:pt x="1286" y="911"/>
                  </a:lnTo>
                  <a:lnTo>
                    <a:pt x="1291" y="911"/>
                  </a:lnTo>
                  <a:lnTo>
                    <a:pt x="1296" y="911"/>
                  </a:lnTo>
                  <a:lnTo>
                    <a:pt x="1302" y="911"/>
                  </a:lnTo>
                  <a:lnTo>
                    <a:pt x="1307" y="911"/>
                  </a:lnTo>
                  <a:lnTo>
                    <a:pt x="1312" y="911"/>
                  </a:lnTo>
                  <a:lnTo>
                    <a:pt x="1317" y="911"/>
                  </a:lnTo>
                  <a:lnTo>
                    <a:pt x="1323" y="911"/>
                  </a:lnTo>
                  <a:lnTo>
                    <a:pt x="1328" y="911"/>
                  </a:lnTo>
                  <a:lnTo>
                    <a:pt x="1333" y="911"/>
                  </a:lnTo>
                  <a:lnTo>
                    <a:pt x="1338" y="911"/>
                  </a:lnTo>
                  <a:lnTo>
                    <a:pt x="1344" y="911"/>
                  </a:lnTo>
                  <a:lnTo>
                    <a:pt x="1349" y="911"/>
                  </a:lnTo>
                  <a:lnTo>
                    <a:pt x="1354" y="911"/>
                  </a:lnTo>
                  <a:lnTo>
                    <a:pt x="1359" y="911"/>
                  </a:lnTo>
                  <a:lnTo>
                    <a:pt x="1365" y="911"/>
                  </a:lnTo>
                  <a:lnTo>
                    <a:pt x="1370" y="911"/>
                  </a:lnTo>
                  <a:lnTo>
                    <a:pt x="1375" y="911"/>
                  </a:lnTo>
                  <a:lnTo>
                    <a:pt x="1380" y="911"/>
                  </a:lnTo>
                  <a:lnTo>
                    <a:pt x="1386" y="911"/>
                  </a:lnTo>
                  <a:lnTo>
                    <a:pt x="1391" y="911"/>
                  </a:lnTo>
                  <a:lnTo>
                    <a:pt x="1396" y="911"/>
                  </a:lnTo>
                  <a:lnTo>
                    <a:pt x="1401" y="911"/>
                  </a:lnTo>
                  <a:lnTo>
                    <a:pt x="1407" y="911"/>
                  </a:lnTo>
                  <a:lnTo>
                    <a:pt x="1412" y="911"/>
                  </a:lnTo>
                  <a:lnTo>
                    <a:pt x="1417" y="911"/>
                  </a:lnTo>
                  <a:lnTo>
                    <a:pt x="1422" y="911"/>
                  </a:lnTo>
                  <a:lnTo>
                    <a:pt x="1428" y="911"/>
                  </a:lnTo>
                  <a:lnTo>
                    <a:pt x="1433" y="911"/>
                  </a:lnTo>
                  <a:lnTo>
                    <a:pt x="1438" y="911"/>
                  </a:lnTo>
                  <a:lnTo>
                    <a:pt x="1443" y="911"/>
                  </a:lnTo>
                  <a:lnTo>
                    <a:pt x="1449" y="911"/>
                  </a:lnTo>
                  <a:lnTo>
                    <a:pt x="1454" y="911"/>
                  </a:lnTo>
                  <a:lnTo>
                    <a:pt x="1459" y="911"/>
                  </a:lnTo>
                  <a:lnTo>
                    <a:pt x="1464" y="911"/>
                  </a:lnTo>
                  <a:lnTo>
                    <a:pt x="1470" y="911"/>
                  </a:lnTo>
                  <a:lnTo>
                    <a:pt x="1475" y="911"/>
                  </a:lnTo>
                  <a:lnTo>
                    <a:pt x="1480" y="911"/>
                  </a:lnTo>
                  <a:lnTo>
                    <a:pt x="1485" y="911"/>
                  </a:lnTo>
                  <a:lnTo>
                    <a:pt x="1491" y="911"/>
                  </a:lnTo>
                  <a:lnTo>
                    <a:pt x="1496" y="911"/>
                  </a:lnTo>
                  <a:lnTo>
                    <a:pt x="1501" y="911"/>
                  </a:lnTo>
                  <a:lnTo>
                    <a:pt x="1506" y="911"/>
                  </a:lnTo>
                  <a:lnTo>
                    <a:pt x="1512" y="911"/>
                  </a:lnTo>
                  <a:lnTo>
                    <a:pt x="1517" y="911"/>
                  </a:lnTo>
                  <a:lnTo>
                    <a:pt x="1522" y="911"/>
                  </a:lnTo>
                  <a:lnTo>
                    <a:pt x="1527" y="911"/>
                  </a:lnTo>
                  <a:lnTo>
                    <a:pt x="1533" y="911"/>
                  </a:lnTo>
                  <a:lnTo>
                    <a:pt x="1538" y="911"/>
                  </a:lnTo>
                  <a:lnTo>
                    <a:pt x="1543" y="911"/>
                  </a:lnTo>
                  <a:lnTo>
                    <a:pt x="1548" y="911"/>
                  </a:lnTo>
                  <a:lnTo>
                    <a:pt x="1554" y="911"/>
                  </a:lnTo>
                  <a:lnTo>
                    <a:pt x="1559" y="911"/>
                  </a:lnTo>
                  <a:lnTo>
                    <a:pt x="1564" y="911"/>
                  </a:lnTo>
                  <a:lnTo>
                    <a:pt x="1569" y="911"/>
                  </a:lnTo>
                  <a:lnTo>
                    <a:pt x="1575" y="91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3629160" y="2770920"/>
              <a:ext cx="1938240" cy="1139400"/>
            </a:xfrm>
            <a:custGeom>
              <a:avLst/>
              <a:gdLst/>
              <a:ahLst/>
              <a:rect l="l" t="t" r="r" b="b"/>
              <a:pathLst>
                <a:path w="1575" h="929">
                  <a:moveTo>
                    <a:pt x="0" y="0"/>
                  </a:moveTo>
                  <a:lnTo>
                    <a:pt x="5" y="5"/>
                  </a:lnTo>
                  <a:lnTo>
                    <a:pt x="10" y="10"/>
                  </a:lnTo>
                  <a:lnTo>
                    <a:pt x="15" y="15"/>
                  </a:lnTo>
                  <a:lnTo>
                    <a:pt x="21" y="20"/>
                  </a:lnTo>
                  <a:lnTo>
                    <a:pt x="26" y="25"/>
                  </a:lnTo>
                  <a:lnTo>
                    <a:pt x="31" y="30"/>
                  </a:lnTo>
                  <a:lnTo>
                    <a:pt x="36" y="36"/>
                  </a:lnTo>
                  <a:lnTo>
                    <a:pt x="42" y="41"/>
                  </a:lnTo>
                  <a:lnTo>
                    <a:pt x="47" y="46"/>
                  </a:lnTo>
                  <a:lnTo>
                    <a:pt x="52" y="51"/>
                  </a:lnTo>
                  <a:lnTo>
                    <a:pt x="57" y="56"/>
                  </a:lnTo>
                  <a:lnTo>
                    <a:pt x="63" y="61"/>
                  </a:lnTo>
                  <a:lnTo>
                    <a:pt x="68" y="66"/>
                  </a:lnTo>
                  <a:lnTo>
                    <a:pt x="73" y="71"/>
                  </a:lnTo>
                  <a:lnTo>
                    <a:pt x="78" y="76"/>
                  </a:lnTo>
                  <a:lnTo>
                    <a:pt x="84" y="81"/>
                  </a:lnTo>
                  <a:lnTo>
                    <a:pt x="89" y="86"/>
                  </a:lnTo>
                  <a:lnTo>
                    <a:pt x="94" y="91"/>
                  </a:lnTo>
                  <a:lnTo>
                    <a:pt x="99" y="96"/>
                  </a:lnTo>
                  <a:lnTo>
                    <a:pt x="105" y="101"/>
                  </a:lnTo>
                  <a:lnTo>
                    <a:pt x="110" y="106"/>
                  </a:lnTo>
                  <a:lnTo>
                    <a:pt x="115" y="111"/>
                  </a:lnTo>
                  <a:lnTo>
                    <a:pt x="120" y="116"/>
                  </a:lnTo>
                  <a:lnTo>
                    <a:pt x="126" y="121"/>
                  </a:lnTo>
                  <a:lnTo>
                    <a:pt x="131" y="126"/>
                  </a:lnTo>
                  <a:lnTo>
                    <a:pt x="136" y="131"/>
                  </a:lnTo>
                  <a:lnTo>
                    <a:pt x="141" y="136"/>
                  </a:lnTo>
                  <a:lnTo>
                    <a:pt x="147" y="141"/>
                  </a:lnTo>
                  <a:lnTo>
                    <a:pt x="152" y="146"/>
                  </a:lnTo>
                  <a:lnTo>
                    <a:pt x="157" y="151"/>
                  </a:lnTo>
                  <a:lnTo>
                    <a:pt x="162" y="156"/>
                  </a:lnTo>
                  <a:lnTo>
                    <a:pt x="168" y="162"/>
                  </a:lnTo>
                  <a:lnTo>
                    <a:pt x="173" y="167"/>
                  </a:lnTo>
                  <a:lnTo>
                    <a:pt x="178" y="172"/>
                  </a:lnTo>
                  <a:lnTo>
                    <a:pt x="183" y="177"/>
                  </a:lnTo>
                  <a:lnTo>
                    <a:pt x="189" y="182"/>
                  </a:lnTo>
                  <a:lnTo>
                    <a:pt x="194" y="187"/>
                  </a:lnTo>
                  <a:lnTo>
                    <a:pt x="199" y="192"/>
                  </a:lnTo>
                  <a:lnTo>
                    <a:pt x="204" y="197"/>
                  </a:lnTo>
                  <a:lnTo>
                    <a:pt x="210" y="202"/>
                  </a:lnTo>
                  <a:lnTo>
                    <a:pt x="215" y="207"/>
                  </a:lnTo>
                  <a:lnTo>
                    <a:pt x="220" y="212"/>
                  </a:lnTo>
                  <a:lnTo>
                    <a:pt x="225" y="217"/>
                  </a:lnTo>
                  <a:lnTo>
                    <a:pt x="231" y="222"/>
                  </a:lnTo>
                  <a:lnTo>
                    <a:pt x="236" y="227"/>
                  </a:lnTo>
                  <a:lnTo>
                    <a:pt x="241" y="232"/>
                  </a:lnTo>
                  <a:lnTo>
                    <a:pt x="246" y="237"/>
                  </a:lnTo>
                  <a:lnTo>
                    <a:pt x="252" y="242"/>
                  </a:lnTo>
                  <a:lnTo>
                    <a:pt x="257" y="247"/>
                  </a:lnTo>
                  <a:lnTo>
                    <a:pt x="262" y="252"/>
                  </a:lnTo>
                  <a:lnTo>
                    <a:pt x="267" y="257"/>
                  </a:lnTo>
                  <a:lnTo>
                    <a:pt x="273" y="262"/>
                  </a:lnTo>
                  <a:lnTo>
                    <a:pt x="278" y="267"/>
                  </a:lnTo>
                  <a:lnTo>
                    <a:pt x="283" y="272"/>
                  </a:lnTo>
                  <a:lnTo>
                    <a:pt x="288" y="277"/>
                  </a:lnTo>
                  <a:lnTo>
                    <a:pt x="294" y="282"/>
                  </a:lnTo>
                  <a:lnTo>
                    <a:pt x="299" y="288"/>
                  </a:lnTo>
                  <a:lnTo>
                    <a:pt x="304" y="293"/>
                  </a:lnTo>
                  <a:lnTo>
                    <a:pt x="309" y="298"/>
                  </a:lnTo>
                  <a:lnTo>
                    <a:pt x="315" y="303"/>
                  </a:lnTo>
                  <a:lnTo>
                    <a:pt x="320" y="308"/>
                  </a:lnTo>
                  <a:lnTo>
                    <a:pt x="325" y="313"/>
                  </a:lnTo>
                  <a:lnTo>
                    <a:pt x="330" y="318"/>
                  </a:lnTo>
                  <a:lnTo>
                    <a:pt x="336" y="323"/>
                  </a:lnTo>
                  <a:lnTo>
                    <a:pt x="341" y="328"/>
                  </a:lnTo>
                  <a:lnTo>
                    <a:pt x="346" y="333"/>
                  </a:lnTo>
                  <a:lnTo>
                    <a:pt x="351" y="338"/>
                  </a:lnTo>
                  <a:lnTo>
                    <a:pt x="357" y="343"/>
                  </a:lnTo>
                  <a:lnTo>
                    <a:pt x="362" y="348"/>
                  </a:lnTo>
                  <a:lnTo>
                    <a:pt x="367" y="353"/>
                  </a:lnTo>
                  <a:lnTo>
                    <a:pt x="372" y="358"/>
                  </a:lnTo>
                  <a:lnTo>
                    <a:pt x="378" y="363"/>
                  </a:lnTo>
                  <a:lnTo>
                    <a:pt x="383" y="368"/>
                  </a:lnTo>
                  <a:lnTo>
                    <a:pt x="388" y="373"/>
                  </a:lnTo>
                  <a:lnTo>
                    <a:pt x="393" y="378"/>
                  </a:lnTo>
                  <a:lnTo>
                    <a:pt x="399" y="383"/>
                  </a:lnTo>
                  <a:lnTo>
                    <a:pt x="404" y="388"/>
                  </a:lnTo>
                  <a:lnTo>
                    <a:pt x="409" y="393"/>
                  </a:lnTo>
                  <a:lnTo>
                    <a:pt x="414" y="398"/>
                  </a:lnTo>
                  <a:lnTo>
                    <a:pt x="420" y="403"/>
                  </a:lnTo>
                  <a:lnTo>
                    <a:pt x="425" y="408"/>
                  </a:lnTo>
                  <a:lnTo>
                    <a:pt x="430" y="414"/>
                  </a:lnTo>
                  <a:lnTo>
                    <a:pt x="435" y="419"/>
                  </a:lnTo>
                  <a:lnTo>
                    <a:pt x="441" y="424"/>
                  </a:lnTo>
                  <a:lnTo>
                    <a:pt x="446" y="429"/>
                  </a:lnTo>
                  <a:lnTo>
                    <a:pt x="451" y="434"/>
                  </a:lnTo>
                  <a:lnTo>
                    <a:pt x="456" y="439"/>
                  </a:lnTo>
                  <a:lnTo>
                    <a:pt x="462" y="444"/>
                  </a:lnTo>
                  <a:lnTo>
                    <a:pt x="467" y="449"/>
                  </a:lnTo>
                  <a:lnTo>
                    <a:pt x="472" y="454"/>
                  </a:lnTo>
                  <a:lnTo>
                    <a:pt x="477" y="459"/>
                  </a:lnTo>
                  <a:lnTo>
                    <a:pt x="483" y="464"/>
                  </a:lnTo>
                  <a:lnTo>
                    <a:pt x="488" y="469"/>
                  </a:lnTo>
                  <a:lnTo>
                    <a:pt x="493" y="474"/>
                  </a:lnTo>
                  <a:lnTo>
                    <a:pt x="498" y="479"/>
                  </a:lnTo>
                  <a:lnTo>
                    <a:pt x="504" y="484"/>
                  </a:lnTo>
                  <a:lnTo>
                    <a:pt x="509" y="489"/>
                  </a:lnTo>
                  <a:lnTo>
                    <a:pt x="514" y="494"/>
                  </a:lnTo>
                  <a:lnTo>
                    <a:pt x="519" y="499"/>
                  </a:lnTo>
                  <a:lnTo>
                    <a:pt x="525" y="504"/>
                  </a:lnTo>
                  <a:lnTo>
                    <a:pt x="530" y="509"/>
                  </a:lnTo>
                  <a:lnTo>
                    <a:pt x="535" y="514"/>
                  </a:lnTo>
                  <a:lnTo>
                    <a:pt x="540" y="519"/>
                  </a:lnTo>
                  <a:lnTo>
                    <a:pt x="546" y="524"/>
                  </a:lnTo>
                  <a:lnTo>
                    <a:pt x="551" y="529"/>
                  </a:lnTo>
                  <a:lnTo>
                    <a:pt x="556" y="534"/>
                  </a:lnTo>
                  <a:lnTo>
                    <a:pt x="561" y="540"/>
                  </a:lnTo>
                  <a:lnTo>
                    <a:pt x="567" y="545"/>
                  </a:lnTo>
                  <a:lnTo>
                    <a:pt x="572" y="550"/>
                  </a:lnTo>
                  <a:lnTo>
                    <a:pt x="577" y="555"/>
                  </a:lnTo>
                  <a:lnTo>
                    <a:pt x="582" y="560"/>
                  </a:lnTo>
                  <a:lnTo>
                    <a:pt x="588" y="565"/>
                  </a:lnTo>
                  <a:lnTo>
                    <a:pt x="593" y="570"/>
                  </a:lnTo>
                  <a:lnTo>
                    <a:pt x="598" y="575"/>
                  </a:lnTo>
                  <a:lnTo>
                    <a:pt x="603" y="580"/>
                  </a:lnTo>
                  <a:lnTo>
                    <a:pt x="609" y="585"/>
                  </a:lnTo>
                  <a:lnTo>
                    <a:pt x="614" y="590"/>
                  </a:lnTo>
                  <a:lnTo>
                    <a:pt x="619" y="595"/>
                  </a:lnTo>
                  <a:lnTo>
                    <a:pt x="624" y="600"/>
                  </a:lnTo>
                  <a:lnTo>
                    <a:pt x="630" y="605"/>
                  </a:lnTo>
                  <a:lnTo>
                    <a:pt x="635" y="610"/>
                  </a:lnTo>
                  <a:lnTo>
                    <a:pt x="640" y="615"/>
                  </a:lnTo>
                  <a:lnTo>
                    <a:pt x="645" y="620"/>
                  </a:lnTo>
                  <a:lnTo>
                    <a:pt x="651" y="625"/>
                  </a:lnTo>
                  <a:lnTo>
                    <a:pt x="656" y="630"/>
                  </a:lnTo>
                  <a:lnTo>
                    <a:pt x="661" y="635"/>
                  </a:lnTo>
                  <a:lnTo>
                    <a:pt x="666" y="640"/>
                  </a:lnTo>
                  <a:lnTo>
                    <a:pt x="672" y="645"/>
                  </a:lnTo>
                  <a:lnTo>
                    <a:pt x="677" y="650"/>
                  </a:lnTo>
                  <a:lnTo>
                    <a:pt x="682" y="655"/>
                  </a:lnTo>
                  <a:lnTo>
                    <a:pt x="687" y="660"/>
                  </a:lnTo>
                  <a:lnTo>
                    <a:pt x="693" y="666"/>
                  </a:lnTo>
                  <a:lnTo>
                    <a:pt x="698" y="671"/>
                  </a:lnTo>
                  <a:lnTo>
                    <a:pt x="703" y="676"/>
                  </a:lnTo>
                  <a:lnTo>
                    <a:pt x="708" y="681"/>
                  </a:lnTo>
                  <a:lnTo>
                    <a:pt x="714" y="686"/>
                  </a:lnTo>
                  <a:lnTo>
                    <a:pt x="719" y="691"/>
                  </a:lnTo>
                  <a:lnTo>
                    <a:pt x="724" y="696"/>
                  </a:lnTo>
                  <a:lnTo>
                    <a:pt x="729" y="701"/>
                  </a:lnTo>
                  <a:lnTo>
                    <a:pt x="735" y="706"/>
                  </a:lnTo>
                  <a:lnTo>
                    <a:pt x="740" y="711"/>
                  </a:lnTo>
                  <a:lnTo>
                    <a:pt x="745" y="716"/>
                  </a:lnTo>
                  <a:lnTo>
                    <a:pt x="750" y="721"/>
                  </a:lnTo>
                  <a:lnTo>
                    <a:pt x="756" y="726"/>
                  </a:lnTo>
                  <a:lnTo>
                    <a:pt x="761" y="731"/>
                  </a:lnTo>
                  <a:lnTo>
                    <a:pt x="766" y="736"/>
                  </a:lnTo>
                  <a:lnTo>
                    <a:pt x="771" y="741"/>
                  </a:lnTo>
                  <a:lnTo>
                    <a:pt x="777" y="746"/>
                  </a:lnTo>
                  <a:lnTo>
                    <a:pt x="782" y="751"/>
                  </a:lnTo>
                  <a:lnTo>
                    <a:pt x="787" y="756"/>
                  </a:lnTo>
                  <a:lnTo>
                    <a:pt x="792" y="761"/>
                  </a:lnTo>
                  <a:lnTo>
                    <a:pt x="798" y="766"/>
                  </a:lnTo>
                  <a:lnTo>
                    <a:pt x="803" y="771"/>
                  </a:lnTo>
                  <a:lnTo>
                    <a:pt x="808" y="776"/>
                  </a:lnTo>
                  <a:lnTo>
                    <a:pt x="813" y="781"/>
                  </a:lnTo>
                  <a:lnTo>
                    <a:pt x="819" y="786"/>
                  </a:lnTo>
                  <a:lnTo>
                    <a:pt x="824" y="792"/>
                  </a:lnTo>
                  <a:lnTo>
                    <a:pt x="829" y="797"/>
                  </a:lnTo>
                  <a:lnTo>
                    <a:pt x="834" y="802"/>
                  </a:lnTo>
                  <a:lnTo>
                    <a:pt x="840" y="807"/>
                  </a:lnTo>
                  <a:lnTo>
                    <a:pt x="845" y="812"/>
                  </a:lnTo>
                  <a:lnTo>
                    <a:pt x="850" y="817"/>
                  </a:lnTo>
                  <a:lnTo>
                    <a:pt x="855" y="822"/>
                  </a:lnTo>
                  <a:lnTo>
                    <a:pt x="861" y="827"/>
                  </a:lnTo>
                  <a:lnTo>
                    <a:pt x="866" y="832"/>
                  </a:lnTo>
                  <a:lnTo>
                    <a:pt x="871" y="837"/>
                  </a:lnTo>
                  <a:lnTo>
                    <a:pt x="876" y="842"/>
                  </a:lnTo>
                  <a:lnTo>
                    <a:pt x="882" y="847"/>
                  </a:lnTo>
                  <a:lnTo>
                    <a:pt x="887" y="852"/>
                  </a:lnTo>
                  <a:lnTo>
                    <a:pt x="892" y="857"/>
                  </a:lnTo>
                  <a:lnTo>
                    <a:pt x="897" y="862"/>
                  </a:lnTo>
                  <a:lnTo>
                    <a:pt x="903" y="867"/>
                  </a:lnTo>
                  <a:lnTo>
                    <a:pt x="908" y="872"/>
                  </a:lnTo>
                  <a:lnTo>
                    <a:pt x="913" y="877"/>
                  </a:lnTo>
                  <a:lnTo>
                    <a:pt x="918" y="882"/>
                  </a:lnTo>
                  <a:lnTo>
                    <a:pt x="924" y="887"/>
                  </a:lnTo>
                  <a:lnTo>
                    <a:pt x="929" y="892"/>
                  </a:lnTo>
                  <a:lnTo>
                    <a:pt x="934" y="897"/>
                  </a:lnTo>
                  <a:lnTo>
                    <a:pt x="939" y="902"/>
                  </a:lnTo>
                  <a:lnTo>
                    <a:pt x="945" y="907"/>
                  </a:lnTo>
                  <a:lnTo>
                    <a:pt x="950" y="912"/>
                  </a:lnTo>
                  <a:lnTo>
                    <a:pt x="955" y="918"/>
                  </a:lnTo>
                  <a:lnTo>
                    <a:pt x="960" y="923"/>
                  </a:lnTo>
                  <a:lnTo>
                    <a:pt x="966" y="928"/>
                  </a:lnTo>
                  <a:lnTo>
                    <a:pt x="971" y="929"/>
                  </a:lnTo>
                  <a:lnTo>
                    <a:pt x="976" y="929"/>
                  </a:lnTo>
                  <a:lnTo>
                    <a:pt x="981" y="929"/>
                  </a:lnTo>
                  <a:lnTo>
                    <a:pt x="987" y="929"/>
                  </a:lnTo>
                  <a:lnTo>
                    <a:pt x="992" y="929"/>
                  </a:lnTo>
                  <a:lnTo>
                    <a:pt x="997" y="929"/>
                  </a:lnTo>
                  <a:lnTo>
                    <a:pt x="1002" y="929"/>
                  </a:lnTo>
                  <a:lnTo>
                    <a:pt x="1008" y="929"/>
                  </a:lnTo>
                  <a:lnTo>
                    <a:pt x="1013" y="929"/>
                  </a:lnTo>
                  <a:lnTo>
                    <a:pt x="1018" y="929"/>
                  </a:lnTo>
                  <a:lnTo>
                    <a:pt x="1023" y="929"/>
                  </a:lnTo>
                  <a:lnTo>
                    <a:pt x="1029" y="929"/>
                  </a:lnTo>
                  <a:lnTo>
                    <a:pt x="1034" y="929"/>
                  </a:lnTo>
                  <a:lnTo>
                    <a:pt x="1039" y="929"/>
                  </a:lnTo>
                  <a:lnTo>
                    <a:pt x="1044" y="929"/>
                  </a:lnTo>
                  <a:lnTo>
                    <a:pt x="1050" y="929"/>
                  </a:lnTo>
                  <a:lnTo>
                    <a:pt x="1055" y="929"/>
                  </a:lnTo>
                  <a:lnTo>
                    <a:pt x="1060" y="929"/>
                  </a:lnTo>
                  <a:lnTo>
                    <a:pt x="1065" y="929"/>
                  </a:lnTo>
                  <a:lnTo>
                    <a:pt x="1071" y="929"/>
                  </a:lnTo>
                  <a:lnTo>
                    <a:pt x="1076" y="929"/>
                  </a:lnTo>
                  <a:lnTo>
                    <a:pt x="1081" y="929"/>
                  </a:lnTo>
                  <a:lnTo>
                    <a:pt x="1086" y="929"/>
                  </a:lnTo>
                  <a:lnTo>
                    <a:pt x="1092" y="929"/>
                  </a:lnTo>
                  <a:lnTo>
                    <a:pt x="1097" y="929"/>
                  </a:lnTo>
                  <a:lnTo>
                    <a:pt x="1102" y="929"/>
                  </a:lnTo>
                  <a:lnTo>
                    <a:pt x="1107" y="929"/>
                  </a:lnTo>
                  <a:lnTo>
                    <a:pt x="1113" y="929"/>
                  </a:lnTo>
                  <a:lnTo>
                    <a:pt x="1118" y="929"/>
                  </a:lnTo>
                  <a:lnTo>
                    <a:pt x="1123" y="929"/>
                  </a:lnTo>
                  <a:lnTo>
                    <a:pt x="1128" y="929"/>
                  </a:lnTo>
                  <a:lnTo>
                    <a:pt x="1134" y="929"/>
                  </a:lnTo>
                  <a:lnTo>
                    <a:pt x="1139" y="929"/>
                  </a:lnTo>
                  <a:lnTo>
                    <a:pt x="1144" y="929"/>
                  </a:lnTo>
                  <a:lnTo>
                    <a:pt x="1149" y="929"/>
                  </a:lnTo>
                  <a:lnTo>
                    <a:pt x="1155" y="929"/>
                  </a:lnTo>
                  <a:lnTo>
                    <a:pt x="1160" y="929"/>
                  </a:lnTo>
                  <a:lnTo>
                    <a:pt x="1165" y="929"/>
                  </a:lnTo>
                  <a:lnTo>
                    <a:pt x="1170" y="929"/>
                  </a:lnTo>
                  <a:lnTo>
                    <a:pt x="1176" y="929"/>
                  </a:lnTo>
                  <a:lnTo>
                    <a:pt x="1181" y="929"/>
                  </a:lnTo>
                  <a:lnTo>
                    <a:pt x="1186" y="929"/>
                  </a:lnTo>
                  <a:lnTo>
                    <a:pt x="1191" y="929"/>
                  </a:lnTo>
                  <a:lnTo>
                    <a:pt x="1197" y="929"/>
                  </a:lnTo>
                  <a:lnTo>
                    <a:pt x="1202" y="929"/>
                  </a:lnTo>
                  <a:lnTo>
                    <a:pt x="1207" y="929"/>
                  </a:lnTo>
                  <a:lnTo>
                    <a:pt x="1212" y="929"/>
                  </a:lnTo>
                  <a:lnTo>
                    <a:pt x="1218" y="929"/>
                  </a:lnTo>
                  <a:lnTo>
                    <a:pt x="1223" y="929"/>
                  </a:lnTo>
                  <a:lnTo>
                    <a:pt x="1228" y="929"/>
                  </a:lnTo>
                  <a:lnTo>
                    <a:pt x="1233" y="929"/>
                  </a:lnTo>
                  <a:lnTo>
                    <a:pt x="1239" y="929"/>
                  </a:lnTo>
                  <a:lnTo>
                    <a:pt x="1244" y="929"/>
                  </a:lnTo>
                  <a:lnTo>
                    <a:pt x="1249" y="929"/>
                  </a:lnTo>
                  <a:lnTo>
                    <a:pt x="1254" y="929"/>
                  </a:lnTo>
                  <a:lnTo>
                    <a:pt x="1260" y="929"/>
                  </a:lnTo>
                  <a:lnTo>
                    <a:pt x="1265" y="929"/>
                  </a:lnTo>
                  <a:lnTo>
                    <a:pt x="1270" y="929"/>
                  </a:lnTo>
                  <a:lnTo>
                    <a:pt x="1275" y="929"/>
                  </a:lnTo>
                  <a:lnTo>
                    <a:pt x="1281" y="929"/>
                  </a:lnTo>
                  <a:lnTo>
                    <a:pt x="1286" y="929"/>
                  </a:lnTo>
                  <a:lnTo>
                    <a:pt x="1291" y="929"/>
                  </a:lnTo>
                  <a:lnTo>
                    <a:pt x="1296" y="929"/>
                  </a:lnTo>
                  <a:lnTo>
                    <a:pt x="1302" y="929"/>
                  </a:lnTo>
                  <a:lnTo>
                    <a:pt x="1307" y="929"/>
                  </a:lnTo>
                  <a:lnTo>
                    <a:pt x="1312" y="929"/>
                  </a:lnTo>
                  <a:lnTo>
                    <a:pt x="1317" y="929"/>
                  </a:lnTo>
                  <a:lnTo>
                    <a:pt x="1323" y="929"/>
                  </a:lnTo>
                  <a:lnTo>
                    <a:pt x="1328" y="929"/>
                  </a:lnTo>
                  <a:lnTo>
                    <a:pt x="1333" y="929"/>
                  </a:lnTo>
                  <a:lnTo>
                    <a:pt x="1338" y="929"/>
                  </a:lnTo>
                  <a:lnTo>
                    <a:pt x="1344" y="929"/>
                  </a:lnTo>
                  <a:lnTo>
                    <a:pt x="1349" y="929"/>
                  </a:lnTo>
                  <a:lnTo>
                    <a:pt x="1354" y="929"/>
                  </a:lnTo>
                  <a:lnTo>
                    <a:pt x="1359" y="929"/>
                  </a:lnTo>
                  <a:lnTo>
                    <a:pt x="1365" y="929"/>
                  </a:lnTo>
                  <a:lnTo>
                    <a:pt x="1370" y="929"/>
                  </a:lnTo>
                  <a:lnTo>
                    <a:pt x="1375" y="929"/>
                  </a:lnTo>
                  <a:lnTo>
                    <a:pt x="1380" y="929"/>
                  </a:lnTo>
                  <a:lnTo>
                    <a:pt x="1386" y="929"/>
                  </a:lnTo>
                  <a:lnTo>
                    <a:pt x="1391" y="929"/>
                  </a:lnTo>
                  <a:lnTo>
                    <a:pt x="1396" y="929"/>
                  </a:lnTo>
                  <a:lnTo>
                    <a:pt x="1401" y="929"/>
                  </a:lnTo>
                  <a:lnTo>
                    <a:pt x="1407" y="929"/>
                  </a:lnTo>
                  <a:lnTo>
                    <a:pt x="1412" y="929"/>
                  </a:lnTo>
                  <a:lnTo>
                    <a:pt x="1417" y="929"/>
                  </a:lnTo>
                  <a:lnTo>
                    <a:pt x="1422" y="929"/>
                  </a:lnTo>
                  <a:lnTo>
                    <a:pt x="1428" y="929"/>
                  </a:lnTo>
                  <a:lnTo>
                    <a:pt x="1433" y="929"/>
                  </a:lnTo>
                  <a:lnTo>
                    <a:pt x="1438" y="929"/>
                  </a:lnTo>
                  <a:lnTo>
                    <a:pt x="1443" y="929"/>
                  </a:lnTo>
                  <a:lnTo>
                    <a:pt x="1449" y="929"/>
                  </a:lnTo>
                  <a:lnTo>
                    <a:pt x="1454" y="929"/>
                  </a:lnTo>
                  <a:lnTo>
                    <a:pt x="1459" y="929"/>
                  </a:lnTo>
                  <a:lnTo>
                    <a:pt x="1464" y="929"/>
                  </a:lnTo>
                  <a:lnTo>
                    <a:pt x="1470" y="929"/>
                  </a:lnTo>
                  <a:lnTo>
                    <a:pt x="1475" y="929"/>
                  </a:lnTo>
                  <a:lnTo>
                    <a:pt x="1480" y="929"/>
                  </a:lnTo>
                  <a:lnTo>
                    <a:pt x="1485" y="929"/>
                  </a:lnTo>
                  <a:lnTo>
                    <a:pt x="1491" y="929"/>
                  </a:lnTo>
                  <a:lnTo>
                    <a:pt x="1496" y="929"/>
                  </a:lnTo>
                  <a:lnTo>
                    <a:pt x="1501" y="929"/>
                  </a:lnTo>
                  <a:lnTo>
                    <a:pt x="1506" y="929"/>
                  </a:lnTo>
                  <a:lnTo>
                    <a:pt x="1512" y="929"/>
                  </a:lnTo>
                  <a:lnTo>
                    <a:pt x="1517" y="929"/>
                  </a:lnTo>
                  <a:lnTo>
                    <a:pt x="1522" y="929"/>
                  </a:lnTo>
                  <a:lnTo>
                    <a:pt x="1527" y="929"/>
                  </a:lnTo>
                  <a:lnTo>
                    <a:pt x="1533" y="929"/>
                  </a:lnTo>
                  <a:lnTo>
                    <a:pt x="1538" y="929"/>
                  </a:lnTo>
                  <a:lnTo>
                    <a:pt x="1543" y="929"/>
                  </a:lnTo>
                  <a:lnTo>
                    <a:pt x="1548" y="929"/>
                  </a:lnTo>
                  <a:lnTo>
                    <a:pt x="1554" y="929"/>
                  </a:lnTo>
                  <a:lnTo>
                    <a:pt x="1559" y="929"/>
                  </a:lnTo>
                  <a:lnTo>
                    <a:pt x="1564" y="929"/>
                  </a:lnTo>
                  <a:lnTo>
                    <a:pt x="1569" y="929"/>
                  </a:lnTo>
                  <a:lnTo>
                    <a:pt x="1575" y="92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76680" y="2819160"/>
              <a:ext cx="766800" cy="204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694680" y="285084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C 3 (ENV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21240" y="4908240"/>
              <a:ext cx="950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24280" y="3444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700600" y="3533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738760" y="34444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=0,1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24280" y="26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00600" y="2788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738760" y="2698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=0,8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3895560" y="4430160"/>
              <a:ext cx="241560" cy="9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702600" y="44017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17800" y="4490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3895200" y="4430520"/>
              <a:ext cx="24156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95560" y="4430520"/>
              <a:ext cx="0" cy="9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230880" y="2133720"/>
            <a:ext cx="2884680" cy="3328920"/>
            <a:chOff x="6230880" y="2133720"/>
            <a:chExt cx="2884680" cy="3328920"/>
          </a:xfrm>
        </p:grpSpPr>
        <p:sp>
          <p:nvSpPr>
            <p:cNvPr id="922" name=""/>
            <p:cNvSpPr/>
            <p:nvPr/>
          </p:nvSpPr>
          <p:spPr>
            <a:xfrm>
              <a:off x="6230880" y="2133720"/>
              <a:ext cx="2884680" cy="332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27680" y="2776680"/>
              <a:ext cx="1916280" cy="1940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7365960" y="2774880"/>
              <a:ext cx="0" cy="19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8005680" y="2774880"/>
              <a:ext cx="0" cy="19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609680" y="488808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703280" y="5011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726240" y="4718160"/>
              <a:ext cx="1919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6726240" y="4718160"/>
              <a:ext cx="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7365960" y="4718160"/>
              <a:ext cx="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8005680" y="4718160"/>
              <a:ext cx="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8645400" y="4718160"/>
              <a:ext cx="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687720" y="4822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27440" y="4822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67160" y="4822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606880" y="4822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26240" y="2775240"/>
              <a:ext cx="1919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726240" y="3745080"/>
              <a:ext cx="1919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256440" y="315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376680" y="325944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y 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54160" y="3152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41280" y="3259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6726240" y="2774880"/>
              <a:ext cx="0" cy="1942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702480" y="471816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702480" y="374508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02480" y="277524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44000" y="46404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44000" y="36673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44000" y="26974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8645400" y="2774880"/>
              <a:ext cx="0" cy="1942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6726240" y="3938760"/>
              <a:ext cx="1919160" cy="1440"/>
            </a:xfrm>
            <a:custGeom>
              <a:avLst/>
              <a:gdLst/>
              <a:ahLst/>
              <a:rect l="l" t="t" r="r" b="b"/>
              <a:pathLst>
                <a:path w="1575" h="2">
                  <a:moveTo>
                    <a:pt x="0" y="2"/>
                  </a:moveTo>
                  <a:lnTo>
                    <a:pt x="5" y="2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21" y="2"/>
                  </a:lnTo>
                  <a:lnTo>
                    <a:pt x="26" y="2"/>
                  </a:lnTo>
                  <a:lnTo>
                    <a:pt x="31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4" y="2"/>
                  </a:lnTo>
                  <a:lnTo>
                    <a:pt x="89" y="2"/>
                  </a:lnTo>
                  <a:lnTo>
                    <a:pt x="94" y="2"/>
                  </a:lnTo>
                  <a:lnTo>
                    <a:pt x="99" y="2"/>
                  </a:lnTo>
                  <a:lnTo>
                    <a:pt x="105" y="2"/>
                  </a:lnTo>
                  <a:lnTo>
                    <a:pt x="110" y="1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3" y="0"/>
                  </a:lnTo>
                  <a:lnTo>
                    <a:pt x="189" y="0"/>
                  </a:lnTo>
                  <a:lnTo>
                    <a:pt x="194" y="0"/>
                  </a:lnTo>
                  <a:lnTo>
                    <a:pt x="199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5" y="0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0"/>
                  </a:lnTo>
                  <a:lnTo>
                    <a:pt x="241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67" y="0"/>
                  </a:lnTo>
                  <a:lnTo>
                    <a:pt x="273" y="0"/>
                  </a:lnTo>
                  <a:lnTo>
                    <a:pt x="278" y="0"/>
                  </a:lnTo>
                  <a:lnTo>
                    <a:pt x="283" y="0"/>
                  </a:lnTo>
                  <a:lnTo>
                    <a:pt x="288" y="0"/>
                  </a:lnTo>
                  <a:lnTo>
                    <a:pt x="294" y="0"/>
                  </a:lnTo>
                  <a:lnTo>
                    <a:pt x="299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5" y="0"/>
                  </a:lnTo>
                  <a:lnTo>
                    <a:pt x="320" y="0"/>
                  </a:lnTo>
                  <a:lnTo>
                    <a:pt x="325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1" y="0"/>
                  </a:lnTo>
                  <a:lnTo>
                    <a:pt x="346" y="0"/>
                  </a:lnTo>
                  <a:lnTo>
                    <a:pt x="351" y="0"/>
                  </a:lnTo>
                  <a:lnTo>
                    <a:pt x="357" y="0"/>
                  </a:lnTo>
                  <a:lnTo>
                    <a:pt x="362" y="0"/>
                  </a:lnTo>
                  <a:lnTo>
                    <a:pt x="367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383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09" y="0"/>
                  </a:lnTo>
                  <a:lnTo>
                    <a:pt x="414" y="0"/>
                  </a:lnTo>
                  <a:lnTo>
                    <a:pt x="420" y="0"/>
                  </a:lnTo>
                  <a:lnTo>
                    <a:pt x="425" y="0"/>
                  </a:lnTo>
                  <a:lnTo>
                    <a:pt x="430" y="0"/>
                  </a:lnTo>
                  <a:lnTo>
                    <a:pt x="435" y="0"/>
                  </a:lnTo>
                  <a:lnTo>
                    <a:pt x="441" y="0"/>
                  </a:lnTo>
                  <a:lnTo>
                    <a:pt x="446" y="0"/>
                  </a:lnTo>
                  <a:lnTo>
                    <a:pt x="451" y="0"/>
                  </a:lnTo>
                  <a:lnTo>
                    <a:pt x="456" y="0"/>
                  </a:lnTo>
                  <a:lnTo>
                    <a:pt x="462" y="0"/>
                  </a:lnTo>
                  <a:lnTo>
                    <a:pt x="467" y="0"/>
                  </a:lnTo>
                  <a:lnTo>
                    <a:pt x="472" y="0"/>
                  </a:lnTo>
                  <a:lnTo>
                    <a:pt x="477" y="0"/>
                  </a:lnTo>
                  <a:lnTo>
                    <a:pt x="483" y="0"/>
                  </a:lnTo>
                  <a:lnTo>
                    <a:pt x="488" y="0"/>
                  </a:lnTo>
                  <a:lnTo>
                    <a:pt x="493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09" y="0"/>
                  </a:lnTo>
                  <a:lnTo>
                    <a:pt x="514" y="0"/>
                  </a:lnTo>
                  <a:lnTo>
                    <a:pt x="519" y="0"/>
                  </a:lnTo>
                  <a:lnTo>
                    <a:pt x="525" y="0"/>
                  </a:lnTo>
                  <a:lnTo>
                    <a:pt x="530" y="0"/>
                  </a:lnTo>
                  <a:lnTo>
                    <a:pt x="535" y="0"/>
                  </a:lnTo>
                  <a:lnTo>
                    <a:pt x="540" y="0"/>
                  </a:lnTo>
                  <a:lnTo>
                    <a:pt x="546" y="0"/>
                  </a:lnTo>
                  <a:lnTo>
                    <a:pt x="551" y="0"/>
                  </a:lnTo>
                  <a:lnTo>
                    <a:pt x="556" y="0"/>
                  </a:lnTo>
                  <a:lnTo>
                    <a:pt x="561" y="0"/>
                  </a:lnTo>
                  <a:lnTo>
                    <a:pt x="567" y="0"/>
                  </a:lnTo>
                  <a:lnTo>
                    <a:pt x="572" y="0"/>
                  </a:lnTo>
                  <a:lnTo>
                    <a:pt x="577" y="0"/>
                  </a:lnTo>
                  <a:lnTo>
                    <a:pt x="582" y="0"/>
                  </a:lnTo>
                  <a:lnTo>
                    <a:pt x="588" y="0"/>
                  </a:lnTo>
                  <a:lnTo>
                    <a:pt x="593" y="0"/>
                  </a:lnTo>
                  <a:lnTo>
                    <a:pt x="598" y="0"/>
                  </a:lnTo>
                  <a:lnTo>
                    <a:pt x="603" y="0"/>
                  </a:lnTo>
                  <a:lnTo>
                    <a:pt x="609" y="0"/>
                  </a:lnTo>
                  <a:lnTo>
                    <a:pt x="614" y="0"/>
                  </a:lnTo>
                  <a:lnTo>
                    <a:pt x="619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35" y="0"/>
                  </a:lnTo>
                  <a:lnTo>
                    <a:pt x="640" y="0"/>
                  </a:lnTo>
                  <a:lnTo>
                    <a:pt x="645" y="0"/>
                  </a:lnTo>
                  <a:lnTo>
                    <a:pt x="651" y="0"/>
                  </a:lnTo>
                  <a:lnTo>
                    <a:pt x="656" y="0"/>
                  </a:lnTo>
                  <a:lnTo>
                    <a:pt x="661" y="0"/>
                  </a:lnTo>
                  <a:lnTo>
                    <a:pt x="666" y="0"/>
                  </a:lnTo>
                  <a:lnTo>
                    <a:pt x="672" y="0"/>
                  </a:lnTo>
                  <a:lnTo>
                    <a:pt x="677" y="0"/>
                  </a:lnTo>
                  <a:lnTo>
                    <a:pt x="682" y="0"/>
                  </a:lnTo>
                  <a:lnTo>
                    <a:pt x="687" y="0"/>
                  </a:lnTo>
                  <a:lnTo>
                    <a:pt x="693" y="0"/>
                  </a:lnTo>
                  <a:lnTo>
                    <a:pt x="698" y="0"/>
                  </a:lnTo>
                  <a:lnTo>
                    <a:pt x="703" y="0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19" y="0"/>
                  </a:lnTo>
                  <a:lnTo>
                    <a:pt x="724" y="0"/>
                  </a:lnTo>
                  <a:lnTo>
                    <a:pt x="729" y="0"/>
                  </a:lnTo>
                  <a:lnTo>
                    <a:pt x="735" y="0"/>
                  </a:lnTo>
                  <a:lnTo>
                    <a:pt x="740" y="0"/>
                  </a:lnTo>
                  <a:lnTo>
                    <a:pt x="745" y="0"/>
                  </a:lnTo>
                  <a:lnTo>
                    <a:pt x="750" y="0"/>
                  </a:lnTo>
                  <a:lnTo>
                    <a:pt x="756" y="0"/>
                  </a:lnTo>
                  <a:lnTo>
                    <a:pt x="761" y="0"/>
                  </a:lnTo>
                  <a:lnTo>
                    <a:pt x="766" y="0"/>
                  </a:lnTo>
                  <a:lnTo>
                    <a:pt x="771" y="0"/>
                  </a:lnTo>
                  <a:lnTo>
                    <a:pt x="777" y="0"/>
                  </a:lnTo>
                  <a:lnTo>
                    <a:pt x="782" y="0"/>
                  </a:lnTo>
                  <a:lnTo>
                    <a:pt x="787" y="0"/>
                  </a:lnTo>
                  <a:lnTo>
                    <a:pt x="792" y="0"/>
                  </a:lnTo>
                  <a:lnTo>
                    <a:pt x="798" y="0"/>
                  </a:lnTo>
                  <a:lnTo>
                    <a:pt x="803" y="0"/>
                  </a:lnTo>
                  <a:lnTo>
                    <a:pt x="808" y="0"/>
                  </a:lnTo>
                  <a:lnTo>
                    <a:pt x="813" y="0"/>
                  </a:lnTo>
                  <a:lnTo>
                    <a:pt x="819" y="0"/>
                  </a:lnTo>
                  <a:lnTo>
                    <a:pt x="824" y="0"/>
                  </a:lnTo>
                  <a:lnTo>
                    <a:pt x="829" y="0"/>
                  </a:lnTo>
                  <a:lnTo>
                    <a:pt x="834" y="0"/>
                  </a:lnTo>
                  <a:lnTo>
                    <a:pt x="840" y="0"/>
                  </a:lnTo>
                  <a:lnTo>
                    <a:pt x="845" y="0"/>
                  </a:lnTo>
                  <a:lnTo>
                    <a:pt x="850" y="0"/>
                  </a:lnTo>
                  <a:lnTo>
                    <a:pt x="855" y="0"/>
                  </a:lnTo>
                  <a:lnTo>
                    <a:pt x="861" y="0"/>
                  </a:lnTo>
                  <a:lnTo>
                    <a:pt x="866" y="0"/>
                  </a:lnTo>
                  <a:lnTo>
                    <a:pt x="871" y="0"/>
                  </a:lnTo>
                  <a:lnTo>
                    <a:pt x="876" y="0"/>
                  </a:lnTo>
                  <a:lnTo>
                    <a:pt x="882" y="0"/>
                  </a:lnTo>
                  <a:lnTo>
                    <a:pt x="887" y="0"/>
                  </a:lnTo>
                  <a:lnTo>
                    <a:pt x="892" y="0"/>
                  </a:lnTo>
                  <a:lnTo>
                    <a:pt x="897" y="0"/>
                  </a:lnTo>
                  <a:lnTo>
                    <a:pt x="903" y="0"/>
                  </a:lnTo>
                  <a:lnTo>
                    <a:pt x="908" y="0"/>
                  </a:lnTo>
                  <a:lnTo>
                    <a:pt x="913" y="0"/>
                  </a:lnTo>
                  <a:lnTo>
                    <a:pt x="918" y="0"/>
                  </a:lnTo>
                  <a:lnTo>
                    <a:pt x="924" y="0"/>
                  </a:lnTo>
                  <a:lnTo>
                    <a:pt x="929" y="0"/>
                  </a:lnTo>
                  <a:lnTo>
                    <a:pt x="934" y="0"/>
                  </a:lnTo>
                  <a:lnTo>
                    <a:pt x="939" y="0"/>
                  </a:lnTo>
                  <a:lnTo>
                    <a:pt x="945" y="0"/>
                  </a:lnTo>
                  <a:lnTo>
                    <a:pt x="950" y="0"/>
                  </a:lnTo>
                  <a:lnTo>
                    <a:pt x="955" y="0"/>
                  </a:lnTo>
                  <a:lnTo>
                    <a:pt x="960" y="0"/>
                  </a:lnTo>
                  <a:lnTo>
                    <a:pt x="966" y="0"/>
                  </a:lnTo>
                  <a:lnTo>
                    <a:pt x="971" y="0"/>
                  </a:lnTo>
                  <a:lnTo>
                    <a:pt x="976" y="0"/>
                  </a:lnTo>
                  <a:lnTo>
                    <a:pt x="981" y="0"/>
                  </a:lnTo>
                  <a:lnTo>
                    <a:pt x="987" y="0"/>
                  </a:lnTo>
                  <a:lnTo>
                    <a:pt x="992" y="0"/>
                  </a:lnTo>
                  <a:lnTo>
                    <a:pt x="997" y="0"/>
                  </a:lnTo>
                  <a:lnTo>
                    <a:pt x="1002" y="0"/>
                  </a:lnTo>
                  <a:lnTo>
                    <a:pt x="1008" y="0"/>
                  </a:lnTo>
                  <a:lnTo>
                    <a:pt x="1013" y="0"/>
                  </a:lnTo>
                  <a:lnTo>
                    <a:pt x="1018" y="0"/>
                  </a:lnTo>
                  <a:lnTo>
                    <a:pt x="1023" y="0"/>
                  </a:lnTo>
                  <a:lnTo>
                    <a:pt x="1029" y="0"/>
                  </a:lnTo>
                  <a:lnTo>
                    <a:pt x="1034" y="0"/>
                  </a:lnTo>
                  <a:lnTo>
                    <a:pt x="1039" y="0"/>
                  </a:lnTo>
                  <a:lnTo>
                    <a:pt x="1044" y="0"/>
                  </a:lnTo>
                  <a:lnTo>
                    <a:pt x="1050" y="0"/>
                  </a:lnTo>
                  <a:lnTo>
                    <a:pt x="1055" y="0"/>
                  </a:lnTo>
                  <a:lnTo>
                    <a:pt x="1060" y="0"/>
                  </a:lnTo>
                  <a:lnTo>
                    <a:pt x="1065" y="0"/>
                  </a:lnTo>
                  <a:lnTo>
                    <a:pt x="1071" y="0"/>
                  </a:lnTo>
                  <a:lnTo>
                    <a:pt x="1076" y="0"/>
                  </a:lnTo>
                  <a:lnTo>
                    <a:pt x="1081" y="0"/>
                  </a:lnTo>
                  <a:lnTo>
                    <a:pt x="1086" y="0"/>
                  </a:lnTo>
                  <a:lnTo>
                    <a:pt x="1092" y="0"/>
                  </a:lnTo>
                  <a:lnTo>
                    <a:pt x="1097" y="0"/>
                  </a:lnTo>
                  <a:lnTo>
                    <a:pt x="1102" y="0"/>
                  </a:lnTo>
                  <a:lnTo>
                    <a:pt x="1107" y="0"/>
                  </a:lnTo>
                  <a:lnTo>
                    <a:pt x="1113" y="0"/>
                  </a:lnTo>
                  <a:lnTo>
                    <a:pt x="1118" y="0"/>
                  </a:lnTo>
                  <a:lnTo>
                    <a:pt x="1123" y="0"/>
                  </a:lnTo>
                  <a:lnTo>
                    <a:pt x="1128" y="0"/>
                  </a:lnTo>
                  <a:lnTo>
                    <a:pt x="1134" y="0"/>
                  </a:lnTo>
                  <a:lnTo>
                    <a:pt x="1139" y="0"/>
                  </a:lnTo>
                  <a:lnTo>
                    <a:pt x="1144" y="0"/>
                  </a:lnTo>
                  <a:lnTo>
                    <a:pt x="1149" y="0"/>
                  </a:lnTo>
                  <a:lnTo>
                    <a:pt x="1155" y="0"/>
                  </a:lnTo>
                  <a:lnTo>
                    <a:pt x="1160" y="0"/>
                  </a:lnTo>
                  <a:lnTo>
                    <a:pt x="1165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1" y="0"/>
                  </a:lnTo>
                  <a:lnTo>
                    <a:pt x="1186" y="0"/>
                  </a:lnTo>
                  <a:lnTo>
                    <a:pt x="1191" y="0"/>
                  </a:lnTo>
                  <a:lnTo>
                    <a:pt x="1197" y="0"/>
                  </a:lnTo>
                  <a:lnTo>
                    <a:pt x="1202" y="0"/>
                  </a:lnTo>
                  <a:lnTo>
                    <a:pt x="1207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23" y="0"/>
                  </a:lnTo>
                  <a:lnTo>
                    <a:pt x="1228" y="0"/>
                  </a:lnTo>
                  <a:lnTo>
                    <a:pt x="1233" y="0"/>
                  </a:lnTo>
                  <a:lnTo>
                    <a:pt x="1239" y="0"/>
                  </a:lnTo>
                  <a:lnTo>
                    <a:pt x="1244" y="0"/>
                  </a:lnTo>
                  <a:lnTo>
                    <a:pt x="1249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5" y="0"/>
                  </a:lnTo>
                  <a:lnTo>
                    <a:pt x="1270" y="0"/>
                  </a:lnTo>
                  <a:lnTo>
                    <a:pt x="1275" y="0"/>
                  </a:lnTo>
                  <a:lnTo>
                    <a:pt x="1281" y="0"/>
                  </a:lnTo>
                  <a:lnTo>
                    <a:pt x="1286" y="0"/>
                  </a:lnTo>
                  <a:lnTo>
                    <a:pt x="1291" y="0"/>
                  </a:lnTo>
                  <a:lnTo>
                    <a:pt x="1296" y="0"/>
                  </a:lnTo>
                  <a:lnTo>
                    <a:pt x="1302" y="0"/>
                  </a:lnTo>
                  <a:lnTo>
                    <a:pt x="1307" y="0"/>
                  </a:lnTo>
                  <a:lnTo>
                    <a:pt x="1312" y="0"/>
                  </a:lnTo>
                  <a:lnTo>
                    <a:pt x="1317" y="0"/>
                  </a:lnTo>
                  <a:lnTo>
                    <a:pt x="1323" y="0"/>
                  </a:lnTo>
                  <a:lnTo>
                    <a:pt x="1328" y="0"/>
                  </a:lnTo>
                  <a:lnTo>
                    <a:pt x="1333" y="0"/>
                  </a:lnTo>
                  <a:lnTo>
                    <a:pt x="1338" y="0"/>
                  </a:lnTo>
                  <a:lnTo>
                    <a:pt x="1344" y="0"/>
                  </a:lnTo>
                  <a:lnTo>
                    <a:pt x="1349" y="0"/>
                  </a:lnTo>
                  <a:lnTo>
                    <a:pt x="1354" y="0"/>
                  </a:lnTo>
                  <a:lnTo>
                    <a:pt x="1359" y="0"/>
                  </a:lnTo>
                  <a:lnTo>
                    <a:pt x="1365" y="0"/>
                  </a:lnTo>
                  <a:lnTo>
                    <a:pt x="1370" y="0"/>
                  </a:lnTo>
                  <a:lnTo>
                    <a:pt x="1375" y="0"/>
                  </a:lnTo>
                  <a:lnTo>
                    <a:pt x="1380" y="0"/>
                  </a:lnTo>
                  <a:lnTo>
                    <a:pt x="1386" y="0"/>
                  </a:lnTo>
                  <a:lnTo>
                    <a:pt x="1391" y="0"/>
                  </a:lnTo>
                  <a:lnTo>
                    <a:pt x="1396" y="0"/>
                  </a:lnTo>
                  <a:lnTo>
                    <a:pt x="1401" y="0"/>
                  </a:lnTo>
                  <a:lnTo>
                    <a:pt x="1407" y="0"/>
                  </a:lnTo>
                  <a:lnTo>
                    <a:pt x="1412" y="0"/>
                  </a:lnTo>
                  <a:lnTo>
                    <a:pt x="1417" y="0"/>
                  </a:lnTo>
                  <a:lnTo>
                    <a:pt x="1422" y="0"/>
                  </a:lnTo>
                  <a:lnTo>
                    <a:pt x="1428" y="0"/>
                  </a:lnTo>
                  <a:lnTo>
                    <a:pt x="1433" y="0"/>
                  </a:lnTo>
                  <a:lnTo>
                    <a:pt x="1438" y="0"/>
                  </a:lnTo>
                  <a:lnTo>
                    <a:pt x="1443" y="0"/>
                  </a:lnTo>
                  <a:lnTo>
                    <a:pt x="1449" y="0"/>
                  </a:lnTo>
                  <a:lnTo>
                    <a:pt x="1454" y="0"/>
                  </a:lnTo>
                  <a:lnTo>
                    <a:pt x="1459" y="0"/>
                  </a:lnTo>
                  <a:lnTo>
                    <a:pt x="1464" y="0"/>
                  </a:lnTo>
                  <a:lnTo>
                    <a:pt x="1470" y="0"/>
                  </a:lnTo>
                  <a:lnTo>
                    <a:pt x="1475" y="0"/>
                  </a:lnTo>
                  <a:lnTo>
                    <a:pt x="1480" y="0"/>
                  </a:lnTo>
                  <a:lnTo>
                    <a:pt x="1485" y="0"/>
                  </a:lnTo>
                  <a:lnTo>
                    <a:pt x="1491" y="0"/>
                  </a:lnTo>
                  <a:lnTo>
                    <a:pt x="1496" y="0"/>
                  </a:lnTo>
                  <a:lnTo>
                    <a:pt x="1501" y="0"/>
                  </a:lnTo>
                  <a:lnTo>
                    <a:pt x="1506" y="0"/>
                  </a:lnTo>
                  <a:lnTo>
                    <a:pt x="1512" y="0"/>
                  </a:lnTo>
                  <a:lnTo>
                    <a:pt x="1517" y="0"/>
                  </a:lnTo>
                  <a:lnTo>
                    <a:pt x="1522" y="0"/>
                  </a:lnTo>
                  <a:lnTo>
                    <a:pt x="1527" y="0"/>
                  </a:lnTo>
                  <a:lnTo>
                    <a:pt x="1533" y="0"/>
                  </a:lnTo>
                  <a:lnTo>
                    <a:pt x="1538" y="0"/>
                  </a:lnTo>
                  <a:lnTo>
                    <a:pt x="1543" y="0"/>
                  </a:lnTo>
                  <a:lnTo>
                    <a:pt x="1548" y="0"/>
                  </a:lnTo>
                  <a:lnTo>
                    <a:pt x="1554" y="0"/>
                  </a:lnTo>
                  <a:lnTo>
                    <a:pt x="1559" y="0"/>
                  </a:lnTo>
                  <a:lnTo>
                    <a:pt x="1564" y="0"/>
                  </a:lnTo>
                  <a:lnTo>
                    <a:pt x="1569" y="0"/>
                  </a:lnTo>
                  <a:lnTo>
                    <a:pt x="157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6726240" y="3938760"/>
              <a:ext cx="1919160" cy="195120"/>
            </a:xfrm>
            <a:custGeom>
              <a:avLst/>
              <a:gdLst/>
              <a:ahLst/>
              <a:rect l="l" t="t" r="r" b="b"/>
              <a:pathLst>
                <a:path w="1575" h="159">
                  <a:moveTo>
                    <a:pt x="0" y="159"/>
                  </a:moveTo>
                  <a:lnTo>
                    <a:pt x="5" y="159"/>
                  </a:lnTo>
                  <a:lnTo>
                    <a:pt x="10" y="159"/>
                  </a:lnTo>
                  <a:lnTo>
                    <a:pt x="15" y="159"/>
                  </a:lnTo>
                  <a:lnTo>
                    <a:pt x="21" y="159"/>
                  </a:lnTo>
                  <a:lnTo>
                    <a:pt x="26" y="159"/>
                  </a:lnTo>
                  <a:lnTo>
                    <a:pt x="31" y="159"/>
                  </a:lnTo>
                  <a:lnTo>
                    <a:pt x="36" y="159"/>
                  </a:lnTo>
                  <a:lnTo>
                    <a:pt x="42" y="159"/>
                  </a:lnTo>
                  <a:lnTo>
                    <a:pt x="47" y="159"/>
                  </a:lnTo>
                  <a:lnTo>
                    <a:pt x="52" y="159"/>
                  </a:lnTo>
                  <a:lnTo>
                    <a:pt x="57" y="159"/>
                  </a:lnTo>
                  <a:lnTo>
                    <a:pt x="63" y="159"/>
                  </a:lnTo>
                  <a:lnTo>
                    <a:pt x="68" y="159"/>
                  </a:lnTo>
                  <a:lnTo>
                    <a:pt x="73" y="159"/>
                  </a:lnTo>
                  <a:lnTo>
                    <a:pt x="78" y="159"/>
                  </a:lnTo>
                  <a:lnTo>
                    <a:pt x="84" y="159"/>
                  </a:lnTo>
                  <a:lnTo>
                    <a:pt x="89" y="159"/>
                  </a:lnTo>
                  <a:lnTo>
                    <a:pt x="94" y="159"/>
                  </a:lnTo>
                  <a:lnTo>
                    <a:pt x="99" y="159"/>
                  </a:lnTo>
                  <a:lnTo>
                    <a:pt x="105" y="159"/>
                  </a:lnTo>
                  <a:lnTo>
                    <a:pt x="110" y="158"/>
                  </a:lnTo>
                  <a:lnTo>
                    <a:pt x="115" y="156"/>
                  </a:lnTo>
                  <a:lnTo>
                    <a:pt x="120" y="155"/>
                  </a:lnTo>
                  <a:lnTo>
                    <a:pt x="126" y="154"/>
                  </a:lnTo>
                  <a:lnTo>
                    <a:pt x="131" y="153"/>
                  </a:lnTo>
                  <a:lnTo>
                    <a:pt x="136" y="151"/>
                  </a:lnTo>
                  <a:lnTo>
                    <a:pt x="141" y="150"/>
                  </a:lnTo>
                  <a:lnTo>
                    <a:pt x="147" y="149"/>
                  </a:lnTo>
                  <a:lnTo>
                    <a:pt x="152" y="148"/>
                  </a:lnTo>
                  <a:lnTo>
                    <a:pt x="157" y="146"/>
                  </a:lnTo>
                  <a:lnTo>
                    <a:pt x="162" y="145"/>
                  </a:lnTo>
                  <a:lnTo>
                    <a:pt x="168" y="144"/>
                  </a:lnTo>
                  <a:lnTo>
                    <a:pt x="173" y="142"/>
                  </a:lnTo>
                  <a:lnTo>
                    <a:pt x="178" y="141"/>
                  </a:lnTo>
                  <a:lnTo>
                    <a:pt x="183" y="140"/>
                  </a:lnTo>
                  <a:lnTo>
                    <a:pt x="189" y="139"/>
                  </a:lnTo>
                  <a:lnTo>
                    <a:pt x="194" y="137"/>
                  </a:lnTo>
                  <a:lnTo>
                    <a:pt x="199" y="136"/>
                  </a:lnTo>
                  <a:lnTo>
                    <a:pt x="204" y="135"/>
                  </a:lnTo>
                  <a:lnTo>
                    <a:pt x="210" y="133"/>
                  </a:lnTo>
                  <a:lnTo>
                    <a:pt x="215" y="132"/>
                  </a:lnTo>
                  <a:lnTo>
                    <a:pt x="220" y="130"/>
                  </a:lnTo>
                  <a:lnTo>
                    <a:pt x="225" y="129"/>
                  </a:lnTo>
                  <a:lnTo>
                    <a:pt x="231" y="128"/>
                  </a:lnTo>
                  <a:lnTo>
                    <a:pt x="236" y="126"/>
                  </a:lnTo>
                  <a:lnTo>
                    <a:pt x="241" y="125"/>
                  </a:lnTo>
                  <a:lnTo>
                    <a:pt x="246" y="123"/>
                  </a:lnTo>
                  <a:lnTo>
                    <a:pt x="252" y="122"/>
                  </a:lnTo>
                  <a:lnTo>
                    <a:pt x="257" y="120"/>
                  </a:lnTo>
                  <a:lnTo>
                    <a:pt x="262" y="119"/>
                  </a:lnTo>
                  <a:lnTo>
                    <a:pt x="267" y="118"/>
                  </a:lnTo>
                  <a:lnTo>
                    <a:pt x="273" y="116"/>
                  </a:lnTo>
                  <a:lnTo>
                    <a:pt x="278" y="114"/>
                  </a:lnTo>
                  <a:lnTo>
                    <a:pt x="283" y="113"/>
                  </a:lnTo>
                  <a:lnTo>
                    <a:pt x="288" y="111"/>
                  </a:lnTo>
                  <a:lnTo>
                    <a:pt x="294" y="110"/>
                  </a:lnTo>
                  <a:lnTo>
                    <a:pt x="299" y="108"/>
                  </a:lnTo>
                  <a:lnTo>
                    <a:pt x="304" y="107"/>
                  </a:lnTo>
                  <a:lnTo>
                    <a:pt x="309" y="105"/>
                  </a:lnTo>
                  <a:lnTo>
                    <a:pt x="315" y="103"/>
                  </a:lnTo>
                  <a:lnTo>
                    <a:pt x="320" y="102"/>
                  </a:lnTo>
                  <a:lnTo>
                    <a:pt x="325" y="100"/>
                  </a:lnTo>
                  <a:lnTo>
                    <a:pt x="330" y="98"/>
                  </a:lnTo>
                  <a:lnTo>
                    <a:pt x="336" y="97"/>
                  </a:lnTo>
                  <a:lnTo>
                    <a:pt x="341" y="95"/>
                  </a:lnTo>
                  <a:lnTo>
                    <a:pt x="346" y="93"/>
                  </a:lnTo>
                  <a:lnTo>
                    <a:pt x="351" y="91"/>
                  </a:lnTo>
                  <a:lnTo>
                    <a:pt x="357" y="90"/>
                  </a:lnTo>
                  <a:lnTo>
                    <a:pt x="362" y="88"/>
                  </a:lnTo>
                  <a:lnTo>
                    <a:pt x="367" y="86"/>
                  </a:lnTo>
                  <a:lnTo>
                    <a:pt x="372" y="84"/>
                  </a:lnTo>
                  <a:lnTo>
                    <a:pt x="378" y="82"/>
                  </a:lnTo>
                  <a:lnTo>
                    <a:pt x="383" y="81"/>
                  </a:lnTo>
                  <a:lnTo>
                    <a:pt x="388" y="79"/>
                  </a:lnTo>
                  <a:lnTo>
                    <a:pt x="393" y="77"/>
                  </a:lnTo>
                  <a:lnTo>
                    <a:pt x="399" y="75"/>
                  </a:lnTo>
                  <a:lnTo>
                    <a:pt x="404" y="73"/>
                  </a:lnTo>
                  <a:lnTo>
                    <a:pt x="409" y="71"/>
                  </a:lnTo>
                  <a:lnTo>
                    <a:pt x="414" y="69"/>
                  </a:lnTo>
                  <a:lnTo>
                    <a:pt x="420" y="67"/>
                  </a:lnTo>
                  <a:lnTo>
                    <a:pt x="425" y="66"/>
                  </a:lnTo>
                  <a:lnTo>
                    <a:pt x="430" y="64"/>
                  </a:lnTo>
                  <a:lnTo>
                    <a:pt x="435" y="62"/>
                  </a:lnTo>
                  <a:lnTo>
                    <a:pt x="441" y="60"/>
                  </a:lnTo>
                  <a:lnTo>
                    <a:pt x="446" y="58"/>
                  </a:lnTo>
                  <a:lnTo>
                    <a:pt x="451" y="56"/>
                  </a:lnTo>
                  <a:lnTo>
                    <a:pt x="456" y="54"/>
                  </a:lnTo>
                  <a:lnTo>
                    <a:pt x="462" y="52"/>
                  </a:lnTo>
                  <a:lnTo>
                    <a:pt x="467" y="50"/>
                  </a:lnTo>
                  <a:lnTo>
                    <a:pt x="472" y="48"/>
                  </a:lnTo>
                  <a:lnTo>
                    <a:pt x="477" y="46"/>
                  </a:lnTo>
                  <a:lnTo>
                    <a:pt x="483" y="44"/>
                  </a:lnTo>
                  <a:lnTo>
                    <a:pt x="488" y="42"/>
                  </a:lnTo>
                  <a:lnTo>
                    <a:pt x="493" y="40"/>
                  </a:lnTo>
                  <a:lnTo>
                    <a:pt x="498" y="38"/>
                  </a:lnTo>
                  <a:lnTo>
                    <a:pt x="504" y="37"/>
                  </a:lnTo>
                  <a:lnTo>
                    <a:pt x="509" y="35"/>
                  </a:lnTo>
                  <a:lnTo>
                    <a:pt x="514" y="33"/>
                  </a:lnTo>
                  <a:lnTo>
                    <a:pt x="519" y="31"/>
                  </a:lnTo>
                  <a:lnTo>
                    <a:pt x="525" y="29"/>
                  </a:lnTo>
                  <a:lnTo>
                    <a:pt x="530" y="27"/>
                  </a:lnTo>
                  <a:lnTo>
                    <a:pt x="535" y="25"/>
                  </a:lnTo>
                  <a:lnTo>
                    <a:pt x="540" y="24"/>
                  </a:lnTo>
                  <a:lnTo>
                    <a:pt x="546" y="22"/>
                  </a:lnTo>
                  <a:lnTo>
                    <a:pt x="551" y="20"/>
                  </a:lnTo>
                  <a:lnTo>
                    <a:pt x="556" y="18"/>
                  </a:lnTo>
                  <a:lnTo>
                    <a:pt x="561" y="16"/>
                  </a:lnTo>
                  <a:lnTo>
                    <a:pt x="567" y="15"/>
                  </a:lnTo>
                  <a:lnTo>
                    <a:pt x="572" y="13"/>
                  </a:lnTo>
                  <a:lnTo>
                    <a:pt x="577" y="11"/>
                  </a:lnTo>
                  <a:lnTo>
                    <a:pt x="582" y="10"/>
                  </a:lnTo>
                  <a:lnTo>
                    <a:pt x="588" y="8"/>
                  </a:lnTo>
                  <a:lnTo>
                    <a:pt x="593" y="6"/>
                  </a:lnTo>
                  <a:lnTo>
                    <a:pt x="598" y="5"/>
                  </a:lnTo>
                  <a:lnTo>
                    <a:pt x="603" y="3"/>
                  </a:lnTo>
                  <a:lnTo>
                    <a:pt x="609" y="1"/>
                  </a:lnTo>
                  <a:lnTo>
                    <a:pt x="614" y="0"/>
                  </a:lnTo>
                  <a:lnTo>
                    <a:pt x="619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35" y="0"/>
                  </a:lnTo>
                  <a:lnTo>
                    <a:pt x="640" y="0"/>
                  </a:lnTo>
                  <a:lnTo>
                    <a:pt x="645" y="0"/>
                  </a:lnTo>
                  <a:lnTo>
                    <a:pt x="651" y="0"/>
                  </a:lnTo>
                  <a:lnTo>
                    <a:pt x="656" y="0"/>
                  </a:lnTo>
                  <a:lnTo>
                    <a:pt x="661" y="0"/>
                  </a:lnTo>
                  <a:lnTo>
                    <a:pt x="666" y="0"/>
                  </a:lnTo>
                  <a:lnTo>
                    <a:pt x="672" y="0"/>
                  </a:lnTo>
                  <a:lnTo>
                    <a:pt x="677" y="0"/>
                  </a:lnTo>
                  <a:lnTo>
                    <a:pt x="682" y="0"/>
                  </a:lnTo>
                  <a:lnTo>
                    <a:pt x="687" y="0"/>
                  </a:lnTo>
                  <a:lnTo>
                    <a:pt x="693" y="0"/>
                  </a:lnTo>
                  <a:lnTo>
                    <a:pt x="698" y="0"/>
                  </a:lnTo>
                  <a:lnTo>
                    <a:pt x="703" y="0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19" y="0"/>
                  </a:lnTo>
                  <a:lnTo>
                    <a:pt x="724" y="0"/>
                  </a:lnTo>
                  <a:lnTo>
                    <a:pt x="729" y="0"/>
                  </a:lnTo>
                  <a:lnTo>
                    <a:pt x="735" y="0"/>
                  </a:lnTo>
                  <a:lnTo>
                    <a:pt x="740" y="0"/>
                  </a:lnTo>
                  <a:lnTo>
                    <a:pt x="745" y="0"/>
                  </a:lnTo>
                  <a:lnTo>
                    <a:pt x="750" y="0"/>
                  </a:lnTo>
                  <a:lnTo>
                    <a:pt x="756" y="0"/>
                  </a:lnTo>
                  <a:lnTo>
                    <a:pt x="761" y="0"/>
                  </a:lnTo>
                  <a:lnTo>
                    <a:pt x="766" y="0"/>
                  </a:lnTo>
                  <a:lnTo>
                    <a:pt x="771" y="0"/>
                  </a:lnTo>
                  <a:lnTo>
                    <a:pt x="777" y="0"/>
                  </a:lnTo>
                  <a:lnTo>
                    <a:pt x="782" y="0"/>
                  </a:lnTo>
                  <a:lnTo>
                    <a:pt x="787" y="0"/>
                  </a:lnTo>
                  <a:lnTo>
                    <a:pt x="792" y="0"/>
                  </a:lnTo>
                  <a:lnTo>
                    <a:pt x="798" y="0"/>
                  </a:lnTo>
                  <a:lnTo>
                    <a:pt x="803" y="0"/>
                  </a:lnTo>
                  <a:lnTo>
                    <a:pt x="808" y="0"/>
                  </a:lnTo>
                  <a:lnTo>
                    <a:pt x="813" y="0"/>
                  </a:lnTo>
                  <a:lnTo>
                    <a:pt x="819" y="0"/>
                  </a:lnTo>
                  <a:lnTo>
                    <a:pt x="824" y="0"/>
                  </a:lnTo>
                  <a:lnTo>
                    <a:pt x="829" y="0"/>
                  </a:lnTo>
                  <a:lnTo>
                    <a:pt x="834" y="0"/>
                  </a:lnTo>
                  <a:lnTo>
                    <a:pt x="840" y="0"/>
                  </a:lnTo>
                  <a:lnTo>
                    <a:pt x="845" y="0"/>
                  </a:lnTo>
                  <a:lnTo>
                    <a:pt x="850" y="0"/>
                  </a:lnTo>
                  <a:lnTo>
                    <a:pt x="855" y="0"/>
                  </a:lnTo>
                  <a:lnTo>
                    <a:pt x="861" y="0"/>
                  </a:lnTo>
                  <a:lnTo>
                    <a:pt x="866" y="0"/>
                  </a:lnTo>
                  <a:lnTo>
                    <a:pt x="871" y="0"/>
                  </a:lnTo>
                  <a:lnTo>
                    <a:pt x="876" y="0"/>
                  </a:lnTo>
                  <a:lnTo>
                    <a:pt x="882" y="0"/>
                  </a:lnTo>
                  <a:lnTo>
                    <a:pt x="887" y="0"/>
                  </a:lnTo>
                  <a:lnTo>
                    <a:pt x="892" y="0"/>
                  </a:lnTo>
                  <a:lnTo>
                    <a:pt x="897" y="0"/>
                  </a:lnTo>
                  <a:lnTo>
                    <a:pt x="903" y="0"/>
                  </a:lnTo>
                  <a:lnTo>
                    <a:pt x="908" y="0"/>
                  </a:lnTo>
                  <a:lnTo>
                    <a:pt x="913" y="0"/>
                  </a:lnTo>
                  <a:lnTo>
                    <a:pt x="918" y="0"/>
                  </a:lnTo>
                  <a:lnTo>
                    <a:pt x="924" y="0"/>
                  </a:lnTo>
                  <a:lnTo>
                    <a:pt x="929" y="0"/>
                  </a:lnTo>
                  <a:lnTo>
                    <a:pt x="934" y="0"/>
                  </a:lnTo>
                  <a:lnTo>
                    <a:pt x="939" y="0"/>
                  </a:lnTo>
                  <a:lnTo>
                    <a:pt x="945" y="0"/>
                  </a:lnTo>
                  <a:lnTo>
                    <a:pt x="950" y="0"/>
                  </a:lnTo>
                  <a:lnTo>
                    <a:pt x="955" y="0"/>
                  </a:lnTo>
                  <a:lnTo>
                    <a:pt x="960" y="0"/>
                  </a:lnTo>
                  <a:lnTo>
                    <a:pt x="966" y="0"/>
                  </a:lnTo>
                  <a:lnTo>
                    <a:pt x="971" y="0"/>
                  </a:lnTo>
                  <a:lnTo>
                    <a:pt x="976" y="0"/>
                  </a:lnTo>
                  <a:lnTo>
                    <a:pt x="981" y="0"/>
                  </a:lnTo>
                  <a:lnTo>
                    <a:pt x="987" y="0"/>
                  </a:lnTo>
                  <a:lnTo>
                    <a:pt x="992" y="0"/>
                  </a:lnTo>
                  <a:lnTo>
                    <a:pt x="997" y="0"/>
                  </a:lnTo>
                  <a:lnTo>
                    <a:pt x="1002" y="0"/>
                  </a:lnTo>
                  <a:lnTo>
                    <a:pt x="1008" y="0"/>
                  </a:lnTo>
                  <a:lnTo>
                    <a:pt x="1013" y="0"/>
                  </a:lnTo>
                  <a:lnTo>
                    <a:pt x="1018" y="0"/>
                  </a:lnTo>
                  <a:lnTo>
                    <a:pt x="1023" y="0"/>
                  </a:lnTo>
                  <a:lnTo>
                    <a:pt x="1029" y="0"/>
                  </a:lnTo>
                  <a:lnTo>
                    <a:pt x="1034" y="0"/>
                  </a:lnTo>
                  <a:lnTo>
                    <a:pt x="1039" y="0"/>
                  </a:lnTo>
                  <a:lnTo>
                    <a:pt x="1044" y="0"/>
                  </a:lnTo>
                  <a:lnTo>
                    <a:pt x="1050" y="0"/>
                  </a:lnTo>
                  <a:lnTo>
                    <a:pt x="1055" y="0"/>
                  </a:lnTo>
                  <a:lnTo>
                    <a:pt x="1060" y="0"/>
                  </a:lnTo>
                  <a:lnTo>
                    <a:pt x="1065" y="0"/>
                  </a:lnTo>
                  <a:lnTo>
                    <a:pt x="1071" y="0"/>
                  </a:lnTo>
                  <a:lnTo>
                    <a:pt x="1076" y="0"/>
                  </a:lnTo>
                  <a:lnTo>
                    <a:pt x="1081" y="0"/>
                  </a:lnTo>
                  <a:lnTo>
                    <a:pt x="1086" y="0"/>
                  </a:lnTo>
                  <a:lnTo>
                    <a:pt x="1092" y="0"/>
                  </a:lnTo>
                  <a:lnTo>
                    <a:pt x="1097" y="0"/>
                  </a:lnTo>
                  <a:lnTo>
                    <a:pt x="1102" y="0"/>
                  </a:lnTo>
                  <a:lnTo>
                    <a:pt x="1107" y="0"/>
                  </a:lnTo>
                  <a:lnTo>
                    <a:pt x="1113" y="0"/>
                  </a:lnTo>
                  <a:lnTo>
                    <a:pt x="1118" y="0"/>
                  </a:lnTo>
                  <a:lnTo>
                    <a:pt x="1123" y="0"/>
                  </a:lnTo>
                  <a:lnTo>
                    <a:pt x="1128" y="0"/>
                  </a:lnTo>
                  <a:lnTo>
                    <a:pt x="1134" y="0"/>
                  </a:lnTo>
                  <a:lnTo>
                    <a:pt x="1139" y="0"/>
                  </a:lnTo>
                  <a:lnTo>
                    <a:pt x="1144" y="0"/>
                  </a:lnTo>
                  <a:lnTo>
                    <a:pt x="1149" y="0"/>
                  </a:lnTo>
                  <a:lnTo>
                    <a:pt x="1155" y="0"/>
                  </a:lnTo>
                  <a:lnTo>
                    <a:pt x="1160" y="0"/>
                  </a:lnTo>
                  <a:lnTo>
                    <a:pt x="1165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1" y="0"/>
                  </a:lnTo>
                  <a:lnTo>
                    <a:pt x="1186" y="0"/>
                  </a:lnTo>
                  <a:lnTo>
                    <a:pt x="1191" y="0"/>
                  </a:lnTo>
                  <a:lnTo>
                    <a:pt x="1197" y="0"/>
                  </a:lnTo>
                  <a:lnTo>
                    <a:pt x="1202" y="0"/>
                  </a:lnTo>
                  <a:lnTo>
                    <a:pt x="1207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23" y="0"/>
                  </a:lnTo>
                  <a:lnTo>
                    <a:pt x="1228" y="0"/>
                  </a:lnTo>
                  <a:lnTo>
                    <a:pt x="1233" y="0"/>
                  </a:lnTo>
                  <a:lnTo>
                    <a:pt x="1239" y="0"/>
                  </a:lnTo>
                  <a:lnTo>
                    <a:pt x="1244" y="0"/>
                  </a:lnTo>
                  <a:lnTo>
                    <a:pt x="1249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5" y="0"/>
                  </a:lnTo>
                  <a:lnTo>
                    <a:pt x="1270" y="0"/>
                  </a:lnTo>
                  <a:lnTo>
                    <a:pt x="1275" y="0"/>
                  </a:lnTo>
                  <a:lnTo>
                    <a:pt x="1281" y="0"/>
                  </a:lnTo>
                  <a:lnTo>
                    <a:pt x="1286" y="0"/>
                  </a:lnTo>
                  <a:lnTo>
                    <a:pt x="1291" y="0"/>
                  </a:lnTo>
                  <a:lnTo>
                    <a:pt x="1296" y="0"/>
                  </a:lnTo>
                  <a:lnTo>
                    <a:pt x="1302" y="0"/>
                  </a:lnTo>
                  <a:lnTo>
                    <a:pt x="1307" y="0"/>
                  </a:lnTo>
                  <a:lnTo>
                    <a:pt x="1312" y="0"/>
                  </a:lnTo>
                  <a:lnTo>
                    <a:pt x="1317" y="0"/>
                  </a:lnTo>
                  <a:lnTo>
                    <a:pt x="1323" y="0"/>
                  </a:lnTo>
                  <a:lnTo>
                    <a:pt x="1328" y="0"/>
                  </a:lnTo>
                  <a:lnTo>
                    <a:pt x="1333" y="0"/>
                  </a:lnTo>
                  <a:lnTo>
                    <a:pt x="1338" y="0"/>
                  </a:lnTo>
                  <a:lnTo>
                    <a:pt x="1344" y="0"/>
                  </a:lnTo>
                  <a:lnTo>
                    <a:pt x="1349" y="0"/>
                  </a:lnTo>
                  <a:lnTo>
                    <a:pt x="1354" y="0"/>
                  </a:lnTo>
                  <a:lnTo>
                    <a:pt x="1359" y="0"/>
                  </a:lnTo>
                  <a:lnTo>
                    <a:pt x="1365" y="0"/>
                  </a:lnTo>
                  <a:lnTo>
                    <a:pt x="1370" y="0"/>
                  </a:lnTo>
                  <a:lnTo>
                    <a:pt x="1375" y="0"/>
                  </a:lnTo>
                  <a:lnTo>
                    <a:pt x="1380" y="0"/>
                  </a:lnTo>
                  <a:lnTo>
                    <a:pt x="1386" y="0"/>
                  </a:lnTo>
                  <a:lnTo>
                    <a:pt x="1391" y="0"/>
                  </a:lnTo>
                  <a:lnTo>
                    <a:pt x="1396" y="0"/>
                  </a:lnTo>
                  <a:lnTo>
                    <a:pt x="1401" y="0"/>
                  </a:lnTo>
                  <a:lnTo>
                    <a:pt x="1407" y="0"/>
                  </a:lnTo>
                  <a:lnTo>
                    <a:pt x="1412" y="0"/>
                  </a:lnTo>
                  <a:lnTo>
                    <a:pt x="1417" y="0"/>
                  </a:lnTo>
                  <a:lnTo>
                    <a:pt x="1422" y="0"/>
                  </a:lnTo>
                  <a:lnTo>
                    <a:pt x="1428" y="0"/>
                  </a:lnTo>
                  <a:lnTo>
                    <a:pt x="1433" y="0"/>
                  </a:lnTo>
                  <a:lnTo>
                    <a:pt x="1438" y="0"/>
                  </a:lnTo>
                  <a:lnTo>
                    <a:pt x="1443" y="0"/>
                  </a:lnTo>
                  <a:lnTo>
                    <a:pt x="1449" y="0"/>
                  </a:lnTo>
                  <a:lnTo>
                    <a:pt x="1454" y="0"/>
                  </a:lnTo>
                  <a:lnTo>
                    <a:pt x="1459" y="0"/>
                  </a:lnTo>
                  <a:lnTo>
                    <a:pt x="1464" y="0"/>
                  </a:lnTo>
                  <a:lnTo>
                    <a:pt x="1470" y="0"/>
                  </a:lnTo>
                  <a:lnTo>
                    <a:pt x="1475" y="0"/>
                  </a:lnTo>
                  <a:lnTo>
                    <a:pt x="1480" y="0"/>
                  </a:lnTo>
                  <a:lnTo>
                    <a:pt x="1485" y="0"/>
                  </a:lnTo>
                  <a:lnTo>
                    <a:pt x="1491" y="0"/>
                  </a:lnTo>
                  <a:lnTo>
                    <a:pt x="1496" y="0"/>
                  </a:lnTo>
                  <a:lnTo>
                    <a:pt x="1501" y="0"/>
                  </a:lnTo>
                  <a:lnTo>
                    <a:pt x="1506" y="0"/>
                  </a:lnTo>
                  <a:lnTo>
                    <a:pt x="1512" y="0"/>
                  </a:lnTo>
                  <a:lnTo>
                    <a:pt x="1517" y="0"/>
                  </a:lnTo>
                  <a:lnTo>
                    <a:pt x="1522" y="0"/>
                  </a:lnTo>
                  <a:lnTo>
                    <a:pt x="1527" y="0"/>
                  </a:lnTo>
                  <a:lnTo>
                    <a:pt x="1533" y="0"/>
                  </a:lnTo>
                  <a:lnTo>
                    <a:pt x="1538" y="0"/>
                  </a:lnTo>
                  <a:lnTo>
                    <a:pt x="1543" y="0"/>
                  </a:lnTo>
                  <a:lnTo>
                    <a:pt x="1548" y="0"/>
                  </a:lnTo>
                  <a:lnTo>
                    <a:pt x="1554" y="0"/>
                  </a:lnTo>
                  <a:lnTo>
                    <a:pt x="1559" y="0"/>
                  </a:lnTo>
                  <a:lnTo>
                    <a:pt x="1564" y="0"/>
                  </a:lnTo>
                  <a:lnTo>
                    <a:pt x="1569" y="0"/>
                  </a:lnTo>
                  <a:lnTo>
                    <a:pt x="157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6726240" y="3938040"/>
              <a:ext cx="1919160" cy="304920"/>
            </a:xfrm>
            <a:custGeom>
              <a:avLst/>
              <a:gdLst/>
              <a:ahLst/>
              <a:rect l="l" t="t" r="r" b="b"/>
              <a:pathLst>
                <a:path w="1575" h="247">
                  <a:moveTo>
                    <a:pt x="0" y="247"/>
                  </a:moveTo>
                  <a:lnTo>
                    <a:pt x="5" y="247"/>
                  </a:lnTo>
                  <a:lnTo>
                    <a:pt x="10" y="247"/>
                  </a:lnTo>
                  <a:lnTo>
                    <a:pt x="15" y="247"/>
                  </a:lnTo>
                  <a:lnTo>
                    <a:pt x="21" y="247"/>
                  </a:lnTo>
                  <a:lnTo>
                    <a:pt x="26" y="247"/>
                  </a:lnTo>
                  <a:lnTo>
                    <a:pt x="31" y="247"/>
                  </a:lnTo>
                  <a:lnTo>
                    <a:pt x="36" y="247"/>
                  </a:lnTo>
                  <a:lnTo>
                    <a:pt x="42" y="247"/>
                  </a:lnTo>
                  <a:lnTo>
                    <a:pt x="47" y="247"/>
                  </a:lnTo>
                  <a:lnTo>
                    <a:pt x="52" y="247"/>
                  </a:lnTo>
                  <a:lnTo>
                    <a:pt x="57" y="247"/>
                  </a:lnTo>
                  <a:lnTo>
                    <a:pt x="63" y="247"/>
                  </a:lnTo>
                  <a:lnTo>
                    <a:pt x="68" y="247"/>
                  </a:lnTo>
                  <a:lnTo>
                    <a:pt x="73" y="247"/>
                  </a:lnTo>
                  <a:lnTo>
                    <a:pt x="78" y="247"/>
                  </a:lnTo>
                  <a:lnTo>
                    <a:pt x="84" y="247"/>
                  </a:lnTo>
                  <a:lnTo>
                    <a:pt x="89" y="247"/>
                  </a:lnTo>
                  <a:lnTo>
                    <a:pt x="94" y="247"/>
                  </a:lnTo>
                  <a:lnTo>
                    <a:pt x="99" y="247"/>
                  </a:lnTo>
                  <a:lnTo>
                    <a:pt x="105" y="247"/>
                  </a:lnTo>
                  <a:lnTo>
                    <a:pt x="110" y="245"/>
                  </a:lnTo>
                  <a:lnTo>
                    <a:pt x="115" y="243"/>
                  </a:lnTo>
                  <a:lnTo>
                    <a:pt x="120" y="240"/>
                  </a:lnTo>
                  <a:lnTo>
                    <a:pt x="126" y="238"/>
                  </a:lnTo>
                  <a:lnTo>
                    <a:pt x="131" y="236"/>
                  </a:lnTo>
                  <a:lnTo>
                    <a:pt x="136" y="234"/>
                  </a:lnTo>
                  <a:lnTo>
                    <a:pt x="141" y="232"/>
                  </a:lnTo>
                  <a:lnTo>
                    <a:pt x="147" y="230"/>
                  </a:lnTo>
                  <a:lnTo>
                    <a:pt x="152" y="228"/>
                  </a:lnTo>
                  <a:lnTo>
                    <a:pt x="157" y="225"/>
                  </a:lnTo>
                  <a:lnTo>
                    <a:pt x="162" y="223"/>
                  </a:lnTo>
                  <a:lnTo>
                    <a:pt x="168" y="221"/>
                  </a:lnTo>
                  <a:lnTo>
                    <a:pt x="173" y="219"/>
                  </a:lnTo>
                  <a:lnTo>
                    <a:pt x="178" y="217"/>
                  </a:lnTo>
                  <a:lnTo>
                    <a:pt x="183" y="215"/>
                  </a:lnTo>
                  <a:lnTo>
                    <a:pt x="189" y="212"/>
                  </a:lnTo>
                  <a:lnTo>
                    <a:pt x="194" y="210"/>
                  </a:lnTo>
                  <a:lnTo>
                    <a:pt x="199" y="208"/>
                  </a:lnTo>
                  <a:lnTo>
                    <a:pt x="204" y="206"/>
                  </a:lnTo>
                  <a:lnTo>
                    <a:pt x="210" y="203"/>
                  </a:lnTo>
                  <a:lnTo>
                    <a:pt x="215" y="201"/>
                  </a:lnTo>
                  <a:lnTo>
                    <a:pt x="220" y="199"/>
                  </a:lnTo>
                  <a:lnTo>
                    <a:pt x="225" y="196"/>
                  </a:lnTo>
                  <a:lnTo>
                    <a:pt x="231" y="194"/>
                  </a:lnTo>
                  <a:lnTo>
                    <a:pt x="236" y="192"/>
                  </a:lnTo>
                  <a:lnTo>
                    <a:pt x="241" y="189"/>
                  </a:lnTo>
                  <a:lnTo>
                    <a:pt x="246" y="187"/>
                  </a:lnTo>
                  <a:lnTo>
                    <a:pt x="252" y="185"/>
                  </a:lnTo>
                  <a:lnTo>
                    <a:pt x="257" y="182"/>
                  </a:lnTo>
                  <a:lnTo>
                    <a:pt x="262" y="180"/>
                  </a:lnTo>
                  <a:lnTo>
                    <a:pt x="267" y="177"/>
                  </a:lnTo>
                  <a:lnTo>
                    <a:pt x="273" y="175"/>
                  </a:lnTo>
                  <a:lnTo>
                    <a:pt x="278" y="172"/>
                  </a:lnTo>
                  <a:lnTo>
                    <a:pt x="283" y="170"/>
                  </a:lnTo>
                  <a:lnTo>
                    <a:pt x="288" y="167"/>
                  </a:lnTo>
                  <a:lnTo>
                    <a:pt x="294" y="165"/>
                  </a:lnTo>
                  <a:lnTo>
                    <a:pt x="299" y="162"/>
                  </a:lnTo>
                  <a:lnTo>
                    <a:pt x="304" y="160"/>
                  </a:lnTo>
                  <a:lnTo>
                    <a:pt x="309" y="157"/>
                  </a:lnTo>
                  <a:lnTo>
                    <a:pt x="315" y="154"/>
                  </a:lnTo>
                  <a:lnTo>
                    <a:pt x="320" y="152"/>
                  </a:lnTo>
                  <a:lnTo>
                    <a:pt x="325" y="149"/>
                  </a:lnTo>
                  <a:lnTo>
                    <a:pt x="330" y="146"/>
                  </a:lnTo>
                  <a:lnTo>
                    <a:pt x="336" y="143"/>
                  </a:lnTo>
                  <a:lnTo>
                    <a:pt x="341" y="141"/>
                  </a:lnTo>
                  <a:lnTo>
                    <a:pt x="346" y="138"/>
                  </a:lnTo>
                  <a:lnTo>
                    <a:pt x="351" y="135"/>
                  </a:lnTo>
                  <a:lnTo>
                    <a:pt x="357" y="132"/>
                  </a:lnTo>
                  <a:lnTo>
                    <a:pt x="362" y="129"/>
                  </a:lnTo>
                  <a:lnTo>
                    <a:pt x="367" y="127"/>
                  </a:lnTo>
                  <a:lnTo>
                    <a:pt x="372" y="124"/>
                  </a:lnTo>
                  <a:lnTo>
                    <a:pt x="378" y="121"/>
                  </a:lnTo>
                  <a:lnTo>
                    <a:pt x="383" y="118"/>
                  </a:lnTo>
                  <a:lnTo>
                    <a:pt x="388" y="115"/>
                  </a:lnTo>
                  <a:lnTo>
                    <a:pt x="393" y="112"/>
                  </a:lnTo>
                  <a:lnTo>
                    <a:pt x="399" y="109"/>
                  </a:lnTo>
                  <a:lnTo>
                    <a:pt x="404" y="106"/>
                  </a:lnTo>
                  <a:lnTo>
                    <a:pt x="409" y="103"/>
                  </a:lnTo>
                  <a:lnTo>
                    <a:pt x="414" y="100"/>
                  </a:lnTo>
                  <a:lnTo>
                    <a:pt x="420" y="97"/>
                  </a:lnTo>
                  <a:lnTo>
                    <a:pt x="425" y="94"/>
                  </a:lnTo>
                  <a:lnTo>
                    <a:pt x="430" y="91"/>
                  </a:lnTo>
                  <a:lnTo>
                    <a:pt x="435" y="88"/>
                  </a:lnTo>
                  <a:lnTo>
                    <a:pt x="441" y="85"/>
                  </a:lnTo>
                  <a:lnTo>
                    <a:pt x="446" y="82"/>
                  </a:lnTo>
                  <a:lnTo>
                    <a:pt x="451" y="79"/>
                  </a:lnTo>
                  <a:lnTo>
                    <a:pt x="456" y="76"/>
                  </a:lnTo>
                  <a:lnTo>
                    <a:pt x="462" y="73"/>
                  </a:lnTo>
                  <a:lnTo>
                    <a:pt x="467" y="70"/>
                  </a:lnTo>
                  <a:lnTo>
                    <a:pt x="472" y="67"/>
                  </a:lnTo>
                  <a:lnTo>
                    <a:pt x="477" y="64"/>
                  </a:lnTo>
                  <a:lnTo>
                    <a:pt x="483" y="61"/>
                  </a:lnTo>
                  <a:lnTo>
                    <a:pt x="488" y="58"/>
                  </a:lnTo>
                  <a:lnTo>
                    <a:pt x="493" y="55"/>
                  </a:lnTo>
                  <a:lnTo>
                    <a:pt x="498" y="52"/>
                  </a:lnTo>
                  <a:lnTo>
                    <a:pt x="504" y="49"/>
                  </a:lnTo>
                  <a:lnTo>
                    <a:pt x="509" y="46"/>
                  </a:lnTo>
                  <a:lnTo>
                    <a:pt x="514" y="44"/>
                  </a:lnTo>
                  <a:lnTo>
                    <a:pt x="519" y="41"/>
                  </a:lnTo>
                  <a:lnTo>
                    <a:pt x="525" y="38"/>
                  </a:lnTo>
                  <a:lnTo>
                    <a:pt x="530" y="35"/>
                  </a:lnTo>
                  <a:lnTo>
                    <a:pt x="535" y="32"/>
                  </a:lnTo>
                  <a:lnTo>
                    <a:pt x="540" y="30"/>
                  </a:lnTo>
                  <a:lnTo>
                    <a:pt x="546" y="27"/>
                  </a:lnTo>
                  <a:lnTo>
                    <a:pt x="551" y="24"/>
                  </a:lnTo>
                  <a:lnTo>
                    <a:pt x="556" y="22"/>
                  </a:lnTo>
                  <a:lnTo>
                    <a:pt x="561" y="19"/>
                  </a:lnTo>
                  <a:lnTo>
                    <a:pt x="567" y="16"/>
                  </a:lnTo>
                  <a:lnTo>
                    <a:pt x="572" y="14"/>
                  </a:lnTo>
                  <a:lnTo>
                    <a:pt x="577" y="11"/>
                  </a:lnTo>
                  <a:lnTo>
                    <a:pt x="582" y="9"/>
                  </a:lnTo>
                  <a:lnTo>
                    <a:pt x="588" y="6"/>
                  </a:lnTo>
                  <a:lnTo>
                    <a:pt x="593" y="4"/>
                  </a:lnTo>
                  <a:lnTo>
                    <a:pt x="598" y="1"/>
                  </a:lnTo>
                  <a:lnTo>
                    <a:pt x="603" y="0"/>
                  </a:lnTo>
                  <a:lnTo>
                    <a:pt x="609" y="0"/>
                  </a:lnTo>
                  <a:lnTo>
                    <a:pt x="614" y="0"/>
                  </a:lnTo>
                  <a:lnTo>
                    <a:pt x="619" y="0"/>
                  </a:lnTo>
                  <a:lnTo>
                    <a:pt x="624" y="0"/>
                  </a:lnTo>
                  <a:lnTo>
                    <a:pt x="630" y="0"/>
                  </a:lnTo>
                  <a:lnTo>
                    <a:pt x="635" y="0"/>
                  </a:lnTo>
                  <a:lnTo>
                    <a:pt x="640" y="0"/>
                  </a:lnTo>
                  <a:lnTo>
                    <a:pt x="645" y="0"/>
                  </a:lnTo>
                  <a:lnTo>
                    <a:pt x="651" y="0"/>
                  </a:lnTo>
                  <a:lnTo>
                    <a:pt x="656" y="0"/>
                  </a:lnTo>
                  <a:lnTo>
                    <a:pt x="661" y="0"/>
                  </a:lnTo>
                  <a:lnTo>
                    <a:pt x="666" y="0"/>
                  </a:lnTo>
                  <a:lnTo>
                    <a:pt x="672" y="0"/>
                  </a:lnTo>
                  <a:lnTo>
                    <a:pt x="677" y="0"/>
                  </a:lnTo>
                  <a:lnTo>
                    <a:pt x="682" y="0"/>
                  </a:lnTo>
                  <a:lnTo>
                    <a:pt x="687" y="0"/>
                  </a:lnTo>
                  <a:lnTo>
                    <a:pt x="693" y="0"/>
                  </a:lnTo>
                  <a:lnTo>
                    <a:pt x="698" y="0"/>
                  </a:lnTo>
                  <a:lnTo>
                    <a:pt x="703" y="0"/>
                  </a:lnTo>
                  <a:lnTo>
                    <a:pt x="708" y="0"/>
                  </a:lnTo>
                  <a:lnTo>
                    <a:pt x="714" y="0"/>
                  </a:lnTo>
                  <a:lnTo>
                    <a:pt x="719" y="0"/>
                  </a:lnTo>
                  <a:lnTo>
                    <a:pt x="724" y="0"/>
                  </a:lnTo>
                  <a:lnTo>
                    <a:pt x="729" y="0"/>
                  </a:lnTo>
                  <a:lnTo>
                    <a:pt x="735" y="0"/>
                  </a:lnTo>
                  <a:lnTo>
                    <a:pt x="740" y="0"/>
                  </a:lnTo>
                  <a:lnTo>
                    <a:pt x="745" y="0"/>
                  </a:lnTo>
                  <a:lnTo>
                    <a:pt x="750" y="0"/>
                  </a:lnTo>
                  <a:lnTo>
                    <a:pt x="756" y="0"/>
                  </a:lnTo>
                  <a:lnTo>
                    <a:pt x="761" y="0"/>
                  </a:lnTo>
                  <a:lnTo>
                    <a:pt x="766" y="0"/>
                  </a:lnTo>
                  <a:lnTo>
                    <a:pt x="771" y="0"/>
                  </a:lnTo>
                  <a:lnTo>
                    <a:pt x="777" y="0"/>
                  </a:lnTo>
                  <a:lnTo>
                    <a:pt x="782" y="0"/>
                  </a:lnTo>
                  <a:lnTo>
                    <a:pt x="787" y="0"/>
                  </a:lnTo>
                  <a:lnTo>
                    <a:pt x="792" y="0"/>
                  </a:lnTo>
                  <a:lnTo>
                    <a:pt x="798" y="0"/>
                  </a:lnTo>
                  <a:lnTo>
                    <a:pt x="803" y="0"/>
                  </a:lnTo>
                  <a:lnTo>
                    <a:pt x="808" y="0"/>
                  </a:lnTo>
                  <a:lnTo>
                    <a:pt x="813" y="0"/>
                  </a:lnTo>
                  <a:lnTo>
                    <a:pt x="819" y="0"/>
                  </a:lnTo>
                  <a:lnTo>
                    <a:pt x="824" y="0"/>
                  </a:lnTo>
                  <a:lnTo>
                    <a:pt x="829" y="0"/>
                  </a:lnTo>
                  <a:lnTo>
                    <a:pt x="834" y="0"/>
                  </a:lnTo>
                  <a:lnTo>
                    <a:pt x="840" y="0"/>
                  </a:lnTo>
                  <a:lnTo>
                    <a:pt x="845" y="0"/>
                  </a:lnTo>
                  <a:lnTo>
                    <a:pt x="850" y="0"/>
                  </a:lnTo>
                  <a:lnTo>
                    <a:pt x="855" y="0"/>
                  </a:lnTo>
                  <a:lnTo>
                    <a:pt x="861" y="0"/>
                  </a:lnTo>
                  <a:lnTo>
                    <a:pt x="866" y="0"/>
                  </a:lnTo>
                  <a:lnTo>
                    <a:pt x="871" y="0"/>
                  </a:lnTo>
                  <a:lnTo>
                    <a:pt x="876" y="0"/>
                  </a:lnTo>
                  <a:lnTo>
                    <a:pt x="882" y="0"/>
                  </a:lnTo>
                  <a:lnTo>
                    <a:pt x="887" y="0"/>
                  </a:lnTo>
                  <a:lnTo>
                    <a:pt x="892" y="0"/>
                  </a:lnTo>
                  <a:lnTo>
                    <a:pt x="897" y="0"/>
                  </a:lnTo>
                  <a:lnTo>
                    <a:pt x="903" y="0"/>
                  </a:lnTo>
                  <a:lnTo>
                    <a:pt x="908" y="0"/>
                  </a:lnTo>
                  <a:lnTo>
                    <a:pt x="913" y="0"/>
                  </a:lnTo>
                  <a:lnTo>
                    <a:pt x="918" y="0"/>
                  </a:lnTo>
                  <a:lnTo>
                    <a:pt x="924" y="0"/>
                  </a:lnTo>
                  <a:lnTo>
                    <a:pt x="929" y="0"/>
                  </a:lnTo>
                  <a:lnTo>
                    <a:pt x="934" y="0"/>
                  </a:lnTo>
                  <a:lnTo>
                    <a:pt x="939" y="0"/>
                  </a:lnTo>
                  <a:lnTo>
                    <a:pt x="945" y="0"/>
                  </a:lnTo>
                  <a:lnTo>
                    <a:pt x="950" y="0"/>
                  </a:lnTo>
                  <a:lnTo>
                    <a:pt x="955" y="0"/>
                  </a:lnTo>
                  <a:lnTo>
                    <a:pt x="960" y="0"/>
                  </a:lnTo>
                  <a:lnTo>
                    <a:pt x="966" y="0"/>
                  </a:lnTo>
                  <a:lnTo>
                    <a:pt x="971" y="0"/>
                  </a:lnTo>
                  <a:lnTo>
                    <a:pt x="976" y="0"/>
                  </a:lnTo>
                  <a:lnTo>
                    <a:pt x="981" y="0"/>
                  </a:lnTo>
                  <a:lnTo>
                    <a:pt x="987" y="0"/>
                  </a:lnTo>
                  <a:lnTo>
                    <a:pt x="992" y="0"/>
                  </a:lnTo>
                  <a:lnTo>
                    <a:pt x="997" y="0"/>
                  </a:lnTo>
                  <a:lnTo>
                    <a:pt x="1002" y="0"/>
                  </a:lnTo>
                  <a:lnTo>
                    <a:pt x="1008" y="0"/>
                  </a:lnTo>
                  <a:lnTo>
                    <a:pt x="1013" y="0"/>
                  </a:lnTo>
                  <a:lnTo>
                    <a:pt x="1018" y="0"/>
                  </a:lnTo>
                  <a:lnTo>
                    <a:pt x="1023" y="0"/>
                  </a:lnTo>
                  <a:lnTo>
                    <a:pt x="1029" y="0"/>
                  </a:lnTo>
                  <a:lnTo>
                    <a:pt x="1034" y="0"/>
                  </a:lnTo>
                  <a:lnTo>
                    <a:pt x="1039" y="0"/>
                  </a:lnTo>
                  <a:lnTo>
                    <a:pt x="1044" y="0"/>
                  </a:lnTo>
                  <a:lnTo>
                    <a:pt x="1050" y="0"/>
                  </a:lnTo>
                  <a:lnTo>
                    <a:pt x="1055" y="0"/>
                  </a:lnTo>
                  <a:lnTo>
                    <a:pt x="1060" y="0"/>
                  </a:lnTo>
                  <a:lnTo>
                    <a:pt x="1065" y="0"/>
                  </a:lnTo>
                  <a:lnTo>
                    <a:pt x="1071" y="0"/>
                  </a:lnTo>
                  <a:lnTo>
                    <a:pt x="1076" y="0"/>
                  </a:lnTo>
                  <a:lnTo>
                    <a:pt x="1081" y="0"/>
                  </a:lnTo>
                  <a:lnTo>
                    <a:pt x="1086" y="0"/>
                  </a:lnTo>
                  <a:lnTo>
                    <a:pt x="1092" y="0"/>
                  </a:lnTo>
                  <a:lnTo>
                    <a:pt x="1097" y="0"/>
                  </a:lnTo>
                  <a:lnTo>
                    <a:pt x="1102" y="0"/>
                  </a:lnTo>
                  <a:lnTo>
                    <a:pt x="1107" y="0"/>
                  </a:lnTo>
                  <a:lnTo>
                    <a:pt x="1113" y="0"/>
                  </a:lnTo>
                  <a:lnTo>
                    <a:pt x="1118" y="0"/>
                  </a:lnTo>
                  <a:lnTo>
                    <a:pt x="1123" y="0"/>
                  </a:lnTo>
                  <a:lnTo>
                    <a:pt x="1128" y="0"/>
                  </a:lnTo>
                  <a:lnTo>
                    <a:pt x="1134" y="0"/>
                  </a:lnTo>
                  <a:lnTo>
                    <a:pt x="1139" y="0"/>
                  </a:lnTo>
                  <a:lnTo>
                    <a:pt x="1144" y="0"/>
                  </a:lnTo>
                  <a:lnTo>
                    <a:pt x="1149" y="0"/>
                  </a:lnTo>
                  <a:lnTo>
                    <a:pt x="1155" y="0"/>
                  </a:lnTo>
                  <a:lnTo>
                    <a:pt x="1160" y="0"/>
                  </a:lnTo>
                  <a:lnTo>
                    <a:pt x="1165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1" y="0"/>
                  </a:lnTo>
                  <a:lnTo>
                    <a:pt x="1186" y="0"/>
                  </a:lnTo>
                  <a:lnTo>
                    <a:pt x="1191" y="0"/>
                  </a:lnTo>
                  <a:lnTo>
                    <a:pt x="1197" y="0"/>
                  </a:lnTo>
                  <a:lnTo>
                    <a:pt x="1202" y="0"/>
                  </a:lnTo>
                  <a:lnTo>
                    <a:pt x="1207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23" y="0"/>
                  </a:lnTo>
                  <a:lnTo>
                    <a:pt x="1228" y="0"/>
                  </a:lnTo>
                  <a:lnTo>
                    <a:pt x="1233" y="0"/>
                  </a:lnTo>
                  <a:lnTo>
                    <a:pt x="1239" y="0"/>
                  </a:lnTo>
                  <a:lnTo>
                    <a:pt x="1244" y="0"/>
                  </a:lnTo>
                  <a:lnTo>
                    <a:pt x="1249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5" y="0"/>
                  </a:lnTo>
                  <a:lnTo>
                    <a:pt x="1270" y="0"/>
                  </a:lnTo>
                  <a:lnTo>
                    <a:pt x="1275" y="0"/>
                  </a:lnTo>
                  <a:lnTo>
                    <a:pt x="1281" y="0"/>
                  </a:lnTo>
                  <a:lnTo>
                    <a:pt x="1286" y="0"/>
                  </a:lnTo>
                  <a:lnTo>
                    <a:pt x="1291" y="0"/>
                  </a:lnTo>
                  <a:lnTo>
                    <a:pt x="1296" y="0"/>
                  </a:lnTo>
                  <a:lnTo>
                    <a:pt x="1302" y="0"/>
                  </a:lnTo>
                  <a:lnTo>
                    <a:pt x="1307" y="0"/>
                  </a:lnTo>
                  <a:lnTo>
                    <a:pt x="1312" y="0"/>
                  </a:lnTo>
                  <a:lnTo>
                    <a:pt x="1317" y="0"/>
                  </a:lnTo>
                  <a:lnTo>
                    <a:pt x="1323" y="0"/>
                  </a:lnTo>
                  <a:lnTo>
                    <a:pt x="1328" y="0"/>
                  </a:lnTo>
                  <a:lnTo>
                    <a:pt x="1333" y="0"/>
                  </a:lnTo>
                  <a:lnTo>
                    <a:pt x="1338" y="0"/>
                  </a:lnTo>
                  <a:lnTo>
                    <a:pt x="1344" y="0"/>
                  </a:lnTo>
                  <a:lnTo>
                    <a:pt x="1349" y="0"/>
                  </a:lnTo>
                  <a:lnTo>
                    <a:pt x="1354" y="0"/>
                  </a:lnTo>
                  <a:lnTo>
                    <a:pt x="1359" y="0"/>
                  </a:lnTo>
                  <a:lnTo>
                    <a:pt x="1365" y="0"/>
                  </a:lnTo>
                  <a:lnTo>
                    <a:pt x="1370" y="0"/>
                  </a:lnTo>
                  <a:lnTo>
                    <a:pt x="1375" y="0"/>
                  </a:lnTo>
                  <a:lnTo>
                    <a:pt x="1380" y="0"/>
                  </a:lnTo>
                  <a:lnTo>
                    <a:pt x="1386" y="0"/>
                  </a:lnTo>
                  <a:lnTo>
                    <a:pt x="1391" y="0"/>
                  </a:lnTo>
                  <a:lnTo>
                    <a:pt x="1396" y="0"/>
                  </a:lnTo>
                  <a:lnTo>
                    <a:pt x="1401" y="0"/>
                  </a:lnTo>
                  <a:lnTo>
                    <a:pt x="1407" y="0"/>
                  </a:lnTo>
                  <a:lnTo>
                    <a:pt x="1412" y="0"/>
                  </a:lnTo>
                  <a:lnTo>
                    <a:pt x="1417" y="0"/>
                  </a:lnTo>
                  <a:lnTo>
                    <a:pt x="1422" y="0"/>
                  </a:lnTo>
                  <a:lnTo>
                    <a:pt x="1428" y="0"/>
                  </a:lnTo>
                  <a:lnTo>
                    <a:pt x="1433" y="0"/>
                  </a:lnTo>
                  <a:lnTo>
                    <a:pt x="1438" y="0"/>
                  </a:lnTo>
                  <a:lnTo>
                    <a:pt x="1443" y="0"/>
                  </a:lnTo>
                  <a:lnTo>
                    <a:pt x="1449" y="0"/>
                  </a:lnTo>
                  <a:lnTo>
                    <a:pt x="1454" y="0"/>
                  </a:lnTo>
                  <a:lnTo>
                    <a:pt x="1459" y="0"/>
                  </a:lnTo>
                  <a:lnTo>
                    <a:pt x="1464" y="0"/>
                  </a:lnTo>
                  <a:lnTo>
                    <a:pt x="1470" y="0"/>
                  </a:lnTo>
                  <a:lnTo>
                    <a:pt x="1475" y="0"/>
                  </a:lnTo>
                  <a:lnTo>
                    <a:pt x="1480" y="0"/>
                  </a:lnTo>
                  <a:lnTo>
                    <a:pt x="1485" y="0"/>
                  </a:lnTo>
                  <a:lnTo>
                    <a:pt x="1491" y="0"/>
                  </a:lnTo>
                  <a:lnTo>
                    <a:pt x="1496" y="0"/>
                  </a:lnTo>
                  <a:lnTo>
                    <a:pt x="1501" y="0"/>
                  </a:lnTo>
                  <a:lnTo>
                    <a:pt x="1506" y="0"/>
                  </a:lnTo>
                  <a:lnTo>
                    <a:pt x="1512" y="0"/>
                  </a:lnTo>
                  <a:lnTo>
                    <a:pt x="1517" y="0"/>
                  </a:lnTo>
                  <a:lnTo>
                    <a:pt x="1522" y="0"/>
                  </a:lnTo>
                  <a:lnTo>
                    <a:pt x="1527" y="0"/>
                  </a:lnTo>
                  <a:lnTo>
                    <a:pt x="1533" y="0"/>
                  </a:lnTo>
                  <a:lnTo>
                    <a:pt x="1538" y="0"/>
                  </a:lnTo>
                  <a:lnTo>
                    <a:pt x="1543" y="0"/>
                  </a:lnTo>
                  <a:lnTo>
                    <a:pt x="1548" y="0"/>
                  </a:lnTo>
                  <a:lnTo>
                    <a:pt x="1554" y="0"/>
                  </a:lnTo>
                  <a:lnTo>
                    <a:pt x="1559" y="0"/>
                  </a:lnTo>
                  <a:lnTo>
                    <a:pt x="1564" y="0"/>
                  </a:lnTo>
                  <a:lnTo>
                    <a:pt x="1569" y="0"/>
                  </a:lnTo>
                  <a:lnTo>
                    <a:pt x="157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6726240" y="3938760"/>
              <a:ext cx="1919160" cy="287280"/>
            </a:xfrm>
            <a:custGeom>
              <a:avLst/>
              <a:gdLst/>
              <a:ahLst/>
              <a:rect l="l" t="t" r="r" b="b"/>
              <a:pathLst>
                <a:path w="1575" h="233">
                  <a:moveTo>
                    <a:pt x="0" y="233"/>
                  </a:moveTo>
                  <a:lnTo>
                    <a:pt x="5" y="233"/>
                  </a:lnTo>
                  <a:lnTo>
                    <a:pt x="10" y="233"/>
                  </a:lnTo>
                  <a:lnTo>
                    <a:pt x="15" y="233"/>
                  </a:lnTo>
                  <a:lnTo>
                    <a:pt x="21" y="233"/>
                  </a:lnTo>
                  <a:lnTo>
                    <a:pt x="26" y="233"/>
                  </a:lnTo>
                  <a:lnTo>
                    <a:pt x="31" y="233"/>
                  </a:lnTo>
                  <a:lnTo>
                    <a:pt x="36" y="233"/>
                  </a:lnTo>
                  <a:lnTo>
                    <a:pt x="42" y="233"/>
                  </a:lnTo>
                  <a:lnTo>
                    <a:pt x="47" y="233"/>
                  </a:lnTo>
                  <a:lnTo>
                    <a:pt x="52" y="233"/>
                  </a:lnTo>
                  <a:lnTo>
                    <a:pt x="57" y="233"/>
                  </a:lnTo>
                  <a:lnTo>
                    <a:pt x="63" y="233"/>
                  </a:lnTo>
                  <a:lnTo>
                    <a:pt x="68" y="233"/>
                  </a:lnTo>
                  <a:lnTo>
                    <a:pt x="73" y="233"/>
                  </a:lnTo>
                  <a:lnTo>
                    <a:pt x="78" y="233"/>
                  </a:lnTo>
                  <a:lnTo>
                    <a:pt x="84" y="233"/>
                  </a:lnTo>
                  <a:lnTo>
                    <a:pt x="89" y="233"/>
                  </a:lnTo>
                  <a:lnTo>
                    <a:pt x="94" y="233"/>
                  </a:lnTo>
                  <a:lnTo>
                    <a:pt x="99" y="233"/>
                  </a:lnTo>
                  <a:lnTo>
                    <a:pt x="105" y="233"/>
                  </a:lnTo>
                  <a:lnTo>
                    <a:pt x="110" y="230"/>
                  </a:lnTo>
                  <a:lnTo>
                    <a:pt x="115" y="226"/>
                  </a:lnTo>
                  <a:lnTo>
                    <a:pt x="120" y="223"/>
                  </a:lnTo>
                  <a:lnTo>
                    <a:pt x="126" y="220"/>
                  </a:lnTo>
                  <a:lnTo>
                    <a:pt x="131" y="216"/>
                  </a:lnTo>
                  <a:lnTo>
                    <a:pt x="136" y="213"/>
                  </a:lnTo>
                  <a:lnTo>
                    <a:pt x="141" y="210"/>
                  </a:lnTo>
                  <a:lnTo>
                    <a:pt x="147" y="206"/>
                  </a:lnTo>
                  <a:lnTo>
                    <a:pt x="152" y="203"/>
                  </a:lnTo>
                  <a:lnTo>
                    <a:pt x="157" y="200"/>
                  </a:lnTo>
                  <a:lnTo>
                    <a:pt x="162" y="196"/>
                  </a:lnTo>
                  <a:lnTo>
                    <a:pt x="168" y="193"/>
                  </a:lnTo>
                  <a:lnTo>
                    <a:pt x="173" y="190"/>
                  </a:lnTo>
                  <a:lnTo>
                    <a:pt x="178" y="186"/>
                  </a:lnTo>
                  <a:lnTo>
                    <a:pt x="183" y="183"/>
                  </a:lnTo>
                  <a:lnTo>
                    <a:pt x="189" y="180"/>
                  </a:lnTo>
                  <a:lnTo>
                    <a:pt x="194" y="176"/>
                  </a:lnTo>
                  <a:lnTo>
                    <a:pt x="199" y="173"/>
                  </a:lnTo>
                  <a:lnTo>
                    <a:pt x="204" y="170"/>
                  </a:lnTo>
                  <a:lnTo>
                    <a:pt x="210" y="166"/>
                  </a:lnTo>
                  <a:lnTo>
                    <a:pt x="215" y="163"/>
                  </a:lnTo>
                  <a:lnTo>
                    <a:pt x="220" y="159"/>
                  </a:lnTo>
                  <a:lnTo>
                    <a:pt x="225" y="156"/>
                  </a:lnTo>
                  <a:lnTo>
                    <a:pt x="231" y="153"/>
                  </a:lnTo>
                  <a:lnTo>
                    <a:pt x="236" y="149"/>
                  </a:lnTo>
                  <a:lnTo>
                    <a:pt x="241" y="146"/>
                  </a:lnTo>
                  <a:lnTo>
                    <a:pt x="246" y="142"/>
                  </a:lnTo>
                  <a:lnTo>
                    <a:pt x="252" y="138"/>
                  </a:lnTo>
                  <a:lnTo>
                    <a:pt x="257" y="135"/>
                  </a:lnTo>
                  <a:lnTo>
                    <a:pt x="262" y="131"/>
                  </a:lnTo>
                  <a:lnTo>
                    <a:pt x="267" y="128"/>
                  </a:lnTo>
                  <a:lnTo>
                    <a:pt x="273" y="124"/>
                  </a:lnTo>
                  <a:lnTo>
                    <a:pt x="278" y="120"/>
                  </a:lnTo>
                  <a:lnTo>
                    <a:pt x="283" y="117"/>
                  </a:lnTo>
                  <a:lnTo>
                    <a:pt x="288" y="113"/>
                  </a:lnTo>
                  <a:lnTo>
                    <a:pt x="294" y="109"/>
                  </a:lnTo>
                  <a:lnTo>
                    <a:pt x="299" y="105"/>
                  </a:lnTo>
                  <a:lnTo>
                    <a:pt x="304" y="102"/>
                  </a:lnTo>
                  <a:lnTo>
                    <a:pt x="309" y="98"/>
                  </a:lnTo>
                  <a:lnTo>
                    <a:pt x="315" y="94"/>
                  </a:lnTo>
                  <a:lnTo>
                    <a:pt x="320" y="90"/>
                  </a:lnTo>
                  <a:lnTo>
                    <a:pt x="325" y="86"/>
                  </a:lnTo>
                  <a:lnTo>
                    <a:pt x="330" y="82"/>
                  </a:lnTo>
                  <a:lnTo>
                    <a:pt x="336" y="78"/>
                  </a:lnTo>
                  <a:lnTo>
                    <a:pt x="341" y="74"/>
                  </a:lnTo>
                  <a:lnTo>
                    <a:pt x="346" y="70"/>
                  </a:lnTo>
                  <a:lnTo>
                    <a:pt x="351" y="66"/>
                  </a:lnTo>
                  <a:lnTo>
                    <a:pt x="357" y="62"/>
                  </a:lnTo>
                  <a:lnTo>
                    <a:pt x="362" y="58"/>
                  </a:lnTo>
                  <a:lnTo>
                    <a:pt x="367" y="54"/>
                  </a:lnTo>
                  <a:lnTo>
                    <a:pt x="372" y="50"/>
                  </a:lnTo>
                  <a:lnTo>
                    <a:pt x="378" y="46"/>
                  </a:lnTo>
                  <a:lnTo>
                    <a:pt x="383" y="42"/>
                  </a:lnTo>
                  <a:lnTo>
                    <a:pt x="388" y="38"/>
                  </a:lnTo>
                  <a:lnTo>
                    <a:pt x="393" y="34"/>
                  </a:lnTo>
                  <a:lnTo>
                    <a:pt x="399" y="29"/>
                  </a:lnTo>
                  <a:lnTo>
                    <a:pt x="404" y="25"/>
                  </a:lnTo>
                  <a:lnTo>
                    <a:pt x="409" y="21"/>
                  </a:lnTo>
                  <a:lnTo>
                    <a:pt x="414" y="17"/>
                  </a:lnTo>
                  <a:lnTo>
                    <a:pt x="420" y="13"/>
                  </a:lnTo>
                  <a:lnTo>
                    <a:pt x="425" y="9"/>
                  </a:lnTo>
                  <a:lnTo>
                    <a:pt x="430" y="4"/>
                  </a:lnTo>
                  <a:lnTo>
                    <a:pt x="435" y="0"/>
                  </a:lnTo>
                  <a:lnTo>
                    <a:pt x="441" y="1"/>
                  </a:lnTo>
                  <a:lnTo>
                    <a:pt x="446" y="5"/>
                  </a:lnTo>
                  <a:lnTo>
                    <a:pt x="451" y="8"/>
                  </a:lnTo>
                  <a:lnTo>
                    <a:pt x="456" y="12"/>
                  </a:lnTo>
                  <a:lnTo>
                    <a:pt x="462" y="16"/>
                  </a:lnTo>
                  <a:lnTo>
                    <a:pt x="467" y="20"/>
                  </a:lnTo>
                  <a:lnTo>
                    <a:pt x="472" y="24"/>
                  </a:lnTo>
                  <a:lnTo>
                    <a:pt x="477" y="27"/>
                  </a:lnTo>
                  <a:lnTo>
                    <a:pt x="483" y="31"/>
                  </a:lnTo>
                  <a:lnTo>
                    <a:pt x="488" y="35"/>
                  </a:lnTo>
                  <a:lnTo>
                    <a:pt x="493" y="39"/>
                  </a:lnTo>
                  <a:lnTo>
                    <a:pt x="498" y="42"/>
                  </a:lnTo>
                  <a:lnTo>
                    <a:pt x="504" y="46"/>
                  </a:lnTo>
                  <a:lnTo>
                    <a:pt x="509" y="50"/>
                  </a:lnTo>
                  <a:lnTo>
                    <a:pt x="514" y="54"/>
                  </a:lnTo>
                  <a:lnTo>
                    <a:pt x="519" y="58"/>
                  </a:lnTo>
                  <a:lnTo>
                    <a:pt x="525" y="61"/>
                  </a:lnTo>
                  <a:lnTo>
                    <a:pt x="530" y="61"/>
                  </a:lnTo>
                  <a:lnTo>
                    <a:pt x="535" y="61"/>
                  </a:lnTo>
                  <a:lnTo>
                    <a:pt x="540" y="61"/>
                  </a:lnTo>
                  <a:lnTo>
                    <a:pt x="546" y="61"/>
                  </a:lnTo>
                  <a:lnTo>
                    <a:pt x="551" y="61"/>
                  </a:lnTo>
                  <a:lnTo>
                    <a:pt x="556" y="61"/>
                  </a:lnTo>
                  <a:lnTo>
                    <a:pt x="561" y="61"/>
                  </a:lnTo>
                  <a:lnTo>
                    <a:pt x="567" y="61"/>
                  </a:lnTo>
                  <a:lnTo>
                    <a:pt x="572" y="61"/>
                  </a:lnTo>
                  <a:lnTo>
                    <a:pt x="577" y="61"/>
                  </a:lnTo>
                  <a:lnTo>
                    <a:pt x="582" y="61"/>
                  </a:lnTo>
                  <a:lnTo>
                    <a:pt x="588" y="61"/>
                  </a:lnTo>
                  <a:lnTo>
                    <a:pt x="593" y="61"/>
                  </a:lnTo>
                  <a:lnTo>
                    <a:pt x="598" y="61"/>
                  </a:lnTo>
                  <a:lnTo>
                    <a:pt x="603" y="61"/>
                  </a:lnTo>
                  <a:lnTo>
                    <a:pt x="609" y="61"/>
                  </a:lnTo>
                  <a:lnTo>
                    <a:pt x="614" y="61"/>
                  </a:lnTo>
                  <a:lnTo>
                    <a:pt x="619" y="61"/>
                  </a:lnTo>
                  <a:lnTo>
                    <a:pt x="624" y="61"/>
                  </a:lnTo>
                  <a:lnTo>
                    <a:pt x="630" y="61"/>
                  </a:lnTo>
                  <a:lnTo>
                    <a:pt x="635" y="61"/>
                  </a:lnTo>
                  <a:lnTo>
                    <a:pt x="640" y="61"/>
                  </a:lnTo>
                  <a:lnTo>
                    <a:pt x="645" y="61"/>
                  </a:lnTo>
                  <a:lnTo>
                    <a:pt x="651" y="61"/>
                  </a:lnTo>
                  <a:lnTo>
                    <a:pt x="656" y="61"/>
                  </a:lnTo>
                  <a:lnTo>
                    <a:pt x="661" y="61"/>
                  </a:lnTo>
                  <a:lnTo>
                    <a:pt x="666" y="61"/>
                  </a:lnTo>
                  <a:lnTo>
                    <a:pt x="672" y="61"/>
                  </a:lnTo>
                  <a:lnTo>
                    <a:pt x="677" y="61"/>
                  </a:lnTo>
                  <a:lnTo>
                    <a:pt x="682" y="61"/>
                  </a:lnTo>
                  <a:lnTo>
                    <a:pt x="687" y="61"/>
                  </a:lnTo>
                  <a:lnTo>
                    <a:pt x="693" y="61"/>
                  </a:lnTo>
                  <a:lnTo>
                    <a:pt x="698" y="61"/>
                  </a:lnTo>
                  <a:lnTo>
                    <a:pt x="703" y="61"/>
                  </a:lnTo>
                  <a:lnTo>
                    <a:pt x="708" y="61"/>
                  </a:lnTo>
                  <a:lnTo>
                    <a:pt x="714" y="61"/>
                  </a:lnTo>
                  <a:lnTo>
                    <a:pt x="719" y="61"/>
                  </a:lnTo>
                  <a:lnTo>
                    <a:pt x="724" y="61"/>
                  </a:lnTo>
                  <a:lnTo>
                    <a:pt x="729" y="61"/>
                  </a:lnTo>
                  <a:lnTo>
                    <a:pt x="735" y="61"/>
                  </a:lnTo>
                  <a:lnTo>
                    <a:pt x="740" y="61"/>
                  </a:lnTo>
                  <a:lnTo>
                    <a:pt x="745" y="61"/>
                  </a:lnTo>
                  <a:lnTo>
                    <a:pt x="750" y="61"/>
                  </a:lnTo>
                  <a:lnTo>
                    <a:pt x="756" y="61"/>
                  </a:lnTo>
                  <a:lnTo>
                    <a:pt x="761" y="61"/>
                  </a:lnTo>
                  <a:lnTo>
                    <a:pt x="766" y="61"/>
                  </a:lnTo>
                  <a:lnTo>
                    <a:pt x="771" y="61"/>
                  </a:lnTo>
                  <a:lnTo>
                    <a:pt x="777" y="61"/>
                  </a:lnTo>
                  <a:lnTo>
                    <a:pt x="782" y="61"/>
                  </a:lnTo>
                  <a:lnTo>
                    <a:pt x="787" y="61"/>
                  </a:lnTo>
                  <a:lnTo>
                    <a:pt x="792" y="61"/>
                  </a:lnTo>
                  <a:lnTo>
                    <a:pt x="798" y="61"/>
                  </a:lnTo>
                  <a:lnTo>
                    <a:pt x="803" y="61"/>
                  </a:lnTo>
                  <a:lnTo>
                    <a:pt x="808" y="61"/>
                  </a:lnTo>
                  <a:lnTo>
                    <a:pt x="813" y="61"/>
                  </a:lnTo>
                  <a:lnTo>
                    <a:pt x="819" y="61"/>
                  </a:lnTo>
                  <a:lnTo>
                    <a:pt x="824" y="61"/>
                  </a:lnTo>
                  <a:lnTo>
                    <a:pt x="829" y="61"/>
                  </a:lnTo>
                  <a:lnTo>
                    <a:pt x="834" y="61"/>
                  </a:lnTo>
                  <a:lnTo>
                    <a:pt x="840" y="61"/>
                  </a:lnTo>
                  <a:lnTo>
                    <a:pt x="845" y="61"/>
                  </a:lnTo>
                  <a:lnTo>
                    <a:pt x="850" y="61"/>
                  </a:lnTo>
                  <a:lnTo>
                    <a:pt x="855" y="61"/>
                  </a:lnTo>
                  <a:lnTo>
                    <a:pt x="861" y="61"/>
                  </a:lnTo>
                  <a:lnTo>
                    <a:pt x="866" y="61"/>
                  </a:lnTo>
                  <a:lnTo>
                    <a:pt x="871" y="61"/>
                  </a:lnTo>
                  <a:lnTo>
                    <a:pt x="876" y="61"/>
                  </a:lnTo>
                  <a:lnTo>
                    <a:pt x="882" y="61"/>
                  </a:lnTo>
                  <a:lnTo>
                    <a:pt x="887" y="61"/>
                  </a:lnTo>
                  <a:lnTo>
                    <a:pt x="892" y="61"/>
                  </a:lnTo>
                  <a:lnTo>
                    <a:pt x="897" y="61"/>
                  </a:lnTo>
                  <a:lnTo>
                    <a:pt x="903" y="61"/>
                  </a:lnTo>
                  <a:lnTo>
                    <a:pt x="908" y="61"/>
                  </a:lnTo>
                  <a:lnTo>
                    <a:pt x="913" y="61"/>
                  </a:lnTo>
                  <a:lnTo>
                    <a:pt x="918" y="61"/>
                  </a:lnTo>
                  <a:lnTo>
                    <a:pt x="924" y="61"/>
                  </a:lnTo>
                  <a:lnTo>
                    <a:pt x="929" y="61"/>
                  </a:lnTo>
                  <a:lnTo>
                    <a:pt x="934" y="61"/>
                  </a:lnTo>
                  <a:lnTo>
                    <a:pt x="939" y="61"/>
                  </a:lnTo>
                  <a:lnTo>
                    <a:pt x="945" y="61"/>
                  </a:lnTo>
                  <a:lnTo>
                    <a:pt x="950" y="61"/>
                  </a:lnTo>
                  <a:lnTo>
                    <a:pt x="955" y="61"/>
                  </a:lnTo>
                  <a:lnTo>
                    <a:pt x="960" y="61"/>
                  </a:lnTo>
                  <a:lnTo>
                    <a:pt x="966" y="61"/>
                  </a:lnTo>
                  <a:lnTo>
                    <a:pt x="971" y="61"/>
                  </a:lnTo>
                  <a:lnTo>
                    <a:pt x="976" y="61"/>
                  </a:lnTo>
                  <a:lnTo>
                    <a:pt x="981" y="61"/>
                  </a:lnTo>
                  <a:lnTo>
                    <a:pt x="987" y="61"/>
                  </a:lnTo>
                  <a:lnTo>
                    <a:pt x="992" y="61"/>
                  </a:lnTo>
                  <a:lnTo>
                    <a:pt x="997" y="61"/>
                  </a:lnTo>
                  <a:lnTo>
                    <a:pt x="1002" y="61"/>
                  </a:lnTo>
                  <a:lnTo>
                    <a:pt x="1008" y="61"/>
                  </a:lnTo>
                  <a:lnTo>
                    <a:pt x="1013" y="61"/>
                  </a:lnTo>
                  <a:lnTo>
                    <a:pt x="1018" y="61"/>
                  </a:lnTo>
                  <a:lnTo>
                    <a:pt x="1023" y="61"/>
                  </a:lnTo>
                  <a:lnTo>
                    <a:pt x="1029" y="61"/>
                  </a:lnTo>
                  <a:lnTo>
                    <a:pt x="1034" y="61"/>
                  </a:lnTo>
                  <a:lnTo>
                    <a:pt x="1039" y="61"/>
                  </a:lnTo>
                  <a:lnTo>
                    <a:pt x="1044" y="61"/>
                  </a:lnTo>
                  <a:lnTo>
                    <a:pt x="1050" y="61"/>
                  </a:lnTo>
                  <a:lnTo>
                    <a:pt x="1055" y="61"/>
                  </a:lnTo>
                  <a:lnTo>
                    <a:pt x="1060" y="61"/>
                  </a:lnTo>
                  <a:lnTo>
                    <a:pt x="1065" y="61"/>
                  </a:lnTo>
                  <a:lnTo>
                    <a:pt x="1071" y="61"/>
                  </a:lnTo>
                  <a:lnTo>
                    <a:pt x="1076" y="61"/>
                  </a:lnTo>
                  <a:lnTo>
                    <a:pt x="1081" y="61"/>
                  </a:lnTo>
                  <a:lnTo>
                    <a:pt x="1086" y="61"/>
                  </a:lnTo>
                  <a:lnTo>
                    <a:pt x="1092" y="61"/>
                  </a:lnTo>
                  <a:lnTo>
                    <a:pt x="1097" y="61"/>
                  </a:lnTo>
                  <a:lnTo>
                    <a:pt x="1102" y="61"/>
                  </a:lnTo>
                  <a:lnTo>
                    <a:pt x="1107" y="61"/>
                  </a:lnTo>
                  <a:lnTo>
                    <a:pt x="1113" y="61"/>
                  </a:lnTo>
                  <a:lnTo>
                    <a:pt x="1118" y="61"/>
                  </a:lnTo>
                  <a:lnTo>
                    <a:pt x="1123" y="61"/>
                  </a:lnTo>
                  <a:lnTo>
                    <a:pt x="1128" y="61"/>
                  </a:lnTo>
                  <a:lnTo>
                    <a:pt x="1134" y="61"/>
                  </a:lnTo>
                  <a:lnTo>
                    <a:pt x="1139" y="61"/>
                  </a:lnTo>
                  <a:lnTo>
                    <a:pt x="1144" y="61"/>
                  </a:lnTo>
                  <a:lnTo>
                    <a:pt x="1149" y="61"/>
                  </a:lnTo>
                  <a:lnTo>
                    <a:pt x="1155" y="61"/>
                  </a:lnTo>
                  <a:lnTo>
                    <a:pt x="1160" y="61"/>
                  </a:lnTo>
                  <a:lnTo>
                    <a:pt x="1165" y="61"/>
                  </a:lnTo>
                  <a:lnTo>
                    <a:pt x="1170" y="61"/>
                  </a:lnTo>
                  <a:lnTo>
                    <a:pt x="1176" y="61"/>
                  </a:lnTo>
                  <a:lnTo>
                    <a:pt x="1181" y="61"/>
                  </a:lnTo>
                  <a:lnTo>
                    <a:pt x="1186" y="61"/>
                  </a:lnTo>
                  <a:lnTo>
                    <a:pt x="1191" y="61"/>
                  </a:lnTo>
                  <a:lnTo>
                    <a:pt x="1197" y="61"/>
                  </a:lnTo>
                  <a:lnTo>
                    <a:pt x="1202" y="61"/>
                  </a:lnTo>
                  <a:lnTo>
                    <a:pt x="1207" y="61"/>
                  </a:lnTo>
                  <a:lnTo>
                    <a:pt x="1212" y="61"/>
                  </a:lnTo>
                  <a:lnTo>
                    <a:pt x="1218" y="61"/>
                  </a:lnTo>
                  <a:lnTo>
                    <a:pt x="1223" y="61"/>
                  </a:lnTo>
                  <a:lnTo>
                    <a:pt x="1228" y="61"/>
                  </a:lnTo>
                  <a:lnTo>
                    <a:pt x="1233" y="61"/>
                  </a:lnTo>
                  <a:lnTo>
                    <a:pt x="1239" y="61"/>
                  </a:lnTo>
                  <a:lnTo>
                    <a:pt x="1244" y="61"/>
                  </a:lnTo>
                  <a:lnTo>
                    <a:pt x="1249" y="61"/>
                  </a:lnTo>
                  <a:lnTo>
                    <a:pt x="1254" y="61"/>
                  </a:lnTo>
                  <a:lnTo>
                    <a:pt x="1260" y="61"/>
                  </a:lnTo>
                  <a:lnTo>
                    <a:pt x="1265" y="61"/>
                  </a:lnTo>
                  <a:lnTo>
                    <a:pt x="1270" y="61"/>
                  </a:lnTo>
                  <a:lnTo>
                    <a:pt x="1275" y="61"/>
                  </a:lnTo>
                  <a:lnTo>
                    <a:pt x="1281" y="61"/>
                  </a:lnTo>
                  <a:lnTo>
                    <a:pt x="1286" y="61"/>
                  </a:lnTo>
                  <a:lnTo>
                    <a:pt x="1291" y="61"/>
                  </a:lnTo>
                  <a:lnTo>
                    <a:pt x="1296" y="61"/>
                  </a:lnTo>
                  <a:lnTo>
                    <a:pt x="1302" y="61"/>
                  </a:lnTo>
                  <a:lnTo>
                    <a:pt x="1307" y="61"/>
                  </a:lnTo>
                  <a:lnTo>
                    <a:pt x="1312" y="61"/>
                  </a:lnTo>
                  <a:lnTo>
                    <a:pt x="1317" y="61"/>
                  </a:lnTo>
                  <a:lnTo>
                    <a:pt x="1323" y="61"/>
                  </a:lnTo>
                  <a:lnTo>
                    <a:pt x="1328" y="61"/>
                  </a:lnTo>
                  <a:lnTo>
                    <a:pt x="1333" y="61"/>
                  </a:lnTo>
                  <a:lnTo>
                    <a:pt x="1338" y="61"/>
                  </a:lnTo>
                  <a:lnTo>
                    <a:pt x="1344" y="61"/>
                  </a:lnTo>
                  <a:lnTo>
                    <a:pt x="1349" y="61"/>
                  </a:lnTo>
                  <a:lnTo>
                    <a:pt x="1354" y="61"/>
                  </a:lnTo>
                  <a:lnTo>
                    <a:pt x="1359" y="61"/>
                  </a:lnTo>
                  <a:lnTo>
                    <a:pt x="1365" y="61"/>
                  </a:lnTo>
                  <a:lnTo>
                    <a:pt x="1370" y="61"/>
                  </a:lnTo>
                  <a:lnTo>
                    <a:pt x="1375" y="61"/>
                  </a:lnTo>
                  <a:lnTo>
                    <a:pt x="1380" y="61"/>
                  </a:lnTo>
                  <a:lnTo>
                    <a:pt x="1386" y="61"/>
                  </a:lnTo>
                  <a:lnTo>
                    <a:pt x="1391" y="61"/>
                  </a:lnTo>
                  <a:lnTo>
                    <a:pt x="1396" y="61"/>
                  </a:lnTo>
                  <a:lnTo>
                    <a:pt x="1401" y="61"/>
                  </a:lnTo>
                  <a:lnTo>
                    <a:pt x="1407" y="61"/>
                  </a:lnTo>
                  <a:lnTo>
                    <a:pt x="1412" y="61"/>
                  </a:lnTo>
                  <a:lnTo>
                    <a:pt x="1417" y="61"/>
                  </a:lnTo>
                  <a:lnTo>
                    <a:pt x="1422" y="61"/>
                  </a:lnTo>
                  <a:lnTo>
                    <a:pt x="1428" y="61"/>
                  </a:lnTo>
                  <a:lnTo>
                    <a:pt x="1433" y="61"/>
                  </a:lnTo>
                  <a:lnTo>
                    <a:pt x="1438" y="61"/>
                  </a:lnTo>
                  <a:lnTo>
                    <a:pt x="1443" y="61"/>
                  </a:lnTo>
                  <a:lnTo>
                    <a:pt x="1449" y="61"/>
                  </a:lnTo>
                  <a:lnTo>
                    <a:pt x="1454" y="61"/>
                  </a:lnTo>
                  <a:lnTo>
                    <a:pt x="1459" y="61"/>
                  </a:lnTo>
                  <a:lnTo>
                    <a:pt x="1464" y="61"/>
                  </a:lnTo>
                  <a:lnTo>
                    <a:pt x="1470" y="61"/>
                  </a:lnTo>
                  <a:lnTo>
                    <a:pt x="1475" y="61"/>
                  </a:lnTo>
                  <a:lnTo>
                    <a:pt x="1480" y="61"/>
                  </a:lnTo>
                  <a:lnTo>
                    <a:pt x="1485" y="61"/>
                  </a:lnTo>
                  <a:lnTo>
                    <a:pt x="1491" y="61"/>
                  </a:lnTo>
                  <a:lnTo>
                    <a:pt x="1496" y="61"/>
                  </a:lnTo>
                  <a:lnTo>
                    <a:pt x="1501" y="61"/>
                  </a:lnTo>
                  <a:lnTo>
                    <a:pt x="1506" y="61"/>
                  </a:lnTo>
                  <a:lnTo>
                    <a:pt x="1512" y="61"/>
                  </a:lnTo>
                  <a:lnTo>
                    <a:pt x="1517" y="61"/>
                  </a:lnTo>
                  <a:lnTo>
                    <a:pt x="1522" y="61"/>
                  </a:lnTo>
                  <a:lnTo>
                    <a:pt x="1527" y="61"/>
                  </a:lnTo>
                  <a:lnTo>
                    <a:pt x="1533" y="61"/>
                  </a:lnTo>
                  <a:lnTo>
                    <a:pt x="1538" y="61"/>
                  </a:lnTo>
                  <a:lnTo>
                    <a:pt x="1543" y="61"/>
                  </a:lnTo>
                  <a:lnTo>
                    <a:pt x="1548" y="61"/>
                  </a:lnTo>
                  <a:lnTo>
                    <a:pt x="1554" y="61"/>
                  </a:lnTo>
                  <a:lnTo>
                    <a:pt x="1559" y="61"/>
                  </a:lnTo>
                  <a:lnTo>
                    <a:pt x="1564" y="61"/>
                  </a:lnTo>
                  <a:lnTo>
                    <a:pt x="1569" y="61"/>
                  </a:lnTo>
                  <a:lnTo>
                    <a:pt x="1575" y="6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726240" y="3938040"/>
              <a:ext cx="1919160" cy="298440"/>
            </a:xfrm>
            <a:custGeom>
              <a:avLst/>
              <a:gdLst/>
              <a:ahLst/>
              <a:rect l="l" t="t" r="r" b="b"/>
              <a:pathLst>
                <a:path w="1575" h="242">
                  <a:moveTo>
                    <a:pt x="0" y="242"/>
                  </a:moveTo>
                  <a:lnTo>
                    <a:pt x="5" y="242"/>
                  </a:lnTo>
                  <a:lnTo>
                    <a:pt x="10" y="242"/>
                  </a:lnTo>
                  <a:lnTo>
                    <a:pt x="15" y="242"/>
                  </a:lnTo>
                  <a:lnTo>
                    <a:pt x="21" y="242"/>
                  </a:lnTo>
                  <a:lnTo>
                    <a:pt x="26" y="242"/>
                  </a:lnTo>
                  <a:lnTo>
                    <a:pt x="31" y="242"/>
                  </a:lnTo>
                  <a:lnTo>
                    <a:pt x="36" y="242"/>
                  </a:lnTo>
                  <a:lnTo>
                    <a:pt x="42" y="242"/>
                  </a:lnTo>
                  <a:lnTo>
                    <a:pt x="47" y="242"/>
                  </a:lnTo>
                  <a:lnTo>
                    <a:pt x="52" y="242"/>
                  </a:lnTo>
                  <a:lnTo>
                    <a:pt x="57" y="242"/>
                  </a:lnTo>
                  <a:lnTo>
                    <a:pt x="63" y="242"/>
                  </a:lnTo>
                  <a:lnTo>
                    <a:pt x="68" y="242"/>
                  </a:lnTo>
                  <a:lnTo>
                    <a:pt x="73" y="242"/>
                  </a:lnTo>
                  <a:lnTo>
                    <a:pt x="78" y="242"/>
                  </a:lnTo>
                  <a:lnTo>
                    <a:pt x="84" y="242"/>
                  </a:lnTo>
                  <a:lnTo>
                    <a:pt x="89" y="242"/>
                  </a:lnTo>
                  <a:lnTo>
                    <a:pt x="94" y="242"/>
                  </a:lnTo>
                  <a:lnTo>
                    <a:pt x="99" y="242"/>
                  </a:lnTo>
                  <a:lnTo>
                    <a:pt x="105" y="242"/>
                  </a:lnTo>
                  <a:lnTo>
                    <a:pt x="110" y="237"/>
                  </a:lnTo>
                  <a:lnTo>
                    <a:pt x="115" y="232"/>
                  </a:lnTo>
                  <a:lnTo>
                    <a:pt x="120" y="227"/>
                  </a:lnTo>
                  <a:lnTo>
                    <a:pt x="126" y="222"/>
                  </a:lnTo>
                  <a:lnTo>
                    <a:pt x="131" y="217"/>
                  </a:lnTo>
                  <a:lnTo>
                    <a:pt x="136" y="212"/>
                  </a:lnTo>
                  <a:lnTo>
                    <a:pt x="141" y="207"/>
                  </a:lnTo>
                  <a:lnTo>
                    <a:pt x="147" y="202"/>
                  </a:lnTo>
                  <a:lnTo>
                    <a:pt x="152" y="198"/>
                  </a:lnTo>
                  <a:lnTo>
                    <a:pt x="157" y="193"/>
                  </a:lnTo>
                  <a:lnTo>
                    <a:pt x="162" y="188"/>
                  </a:lnTo>
                  <a:lnTo>
                    <a:pt x="168" y="183"/>
                  </a:lnTo>
                  <a:lnTo>
                    <a:pt x="173" y="178"/>
                  </a:lnTo>
                  <a:lnTo>
                    <a:pt x="178" y="173"/>
                  </a:lnTo>
                  <a:lnTo>
                    <a:pt x="183" y="169"/>
                  </a:lnTo>
                  <a:lnTo>
                    <a:pt x="189" y="164"/>
                  </a:lnTo>
                  <a:lnTo>
                    <a:pt x="194" y="159"/>
                  </a:lnTo>
                  <a:lnTo>
                    <a:pt x="199" y="154"/>
                  </a:lnTo>
                  <a:lnTo>
                    <a:pt x="204" y="149"/>
                  </a:lnTo>
                  <a:lnTo>
                    <a:pt x="210" y="144"/>
                  </a:lnTo>
                  <a:lnTo>
                    <a:pt x="215" y="139"/>
                  </a:lnTo>
                  <a:lnTo>
                    <a:pt x="220" y="134"/>
                  </a:lnTo>
                  <a:lnTo>
                    <a:pt x="225" y="130"/>
                  </a:lnTo>
                  <a:lnTo>
                    <a:pt x="231" y="125"/>
                  </a:lnTo>
                  <a:lnTo>
                    <a:pt x="236" y="120"/>
                  </a:lnTo>
                  <a:lnTo>
                    <a:pt x="241" y="115"/>
                  </a:lnTo>
                  <a:lnTo>
                    <a:pt x="246" y="110"/>
                  </a:lnTo>
                  <a:lnTo>
                    <a:pt x="252" y="105"/>
                  </a:lnTo>
                  <a:lnTo>
                    <a:pt x="257" y="100"/>
                  </a:lnTo>
                  <a:lnTo>
                    <a:pt x="262" y="95"/>
                  </a:lnTo>
                  <a:lnTo>
                    <a:pt x="267" y="90"/>
                  </a:lnTo>
                  <a:lnTo>
                    <a:pt x="273" y="85"/>
                  </a:lnTo>
                  <a:lnTo>
                    <a:pt x="278" y="79"/>
                  </a:lnTo>
                  <a:lnTo>
                    <a:pt x="283" y="74"/>
                  </a:lnTo>
                  <a:lnTo>
                    <a:pt x="288" y="69"/>
                  </a:lnTo>
                  <a:lnTo>
                    <a:pt x="294" y="64"/>
                  </a:lnTo>
                  <a:lnTo>
                    <a:pt x="299" y="59"/>
                  </a:lnTo>
                  <a:lnTo>
                    <a:pt x="304" y="54"/>
                  </a:lnTo>
                  <a:lnTo>
                    <a:pt x="309" y="48"/>
                  </a:lnTo>
                  <a:lnTo>
                    <a:pt x="315" y="43"/>
                  </a:lnTo>
                  <a:lnTo>
                    <a:pt x="320" y="38"/>
                  </a:lnTo>
                  <a:lnTo>
                    <a:pt x="325" y="33"/>
                  </a:lnTo>
                  <a:lnTo>
                    <a:pt x="330" y="27"/>
                  </a:lnTo>
                  <a:lnTo>
                    <a:pt x="336" y="22"/>
                  </a:lnTo>
                  <a:lnTo>
                    <a:pt x="341" y="17"/>
                  </a:lnTo>
                  <a:lnTo>
                    <a:pt x="346" y="11"/>
                  </a:lnTo>
                  <a:lnTo>
                    <a:pt x="351" y="6"/>
                  </a:lnTo>
                  <a:lnTo>
                    <a:pt x="357" y="0"/>
                  </a:lnTo>
                  <a:lnTo>
                    <a:pt x="362" y="0"/>
                  </a:lnTo>
                  <a:lnTo>
                    <a:pt x="367" y="4"/>
                  </a:lnTo>
                  <a:lnTo>
                    <a:pt x="372" y="9"/>
                  </a:lnTo>
                  <a:lnTo>
                    <a:pt x="378" y="14"/>
                  </a:lnTo>
                  <a:lnTo>
                    <a:pt x="383" y="18"/>
                  </a:lnTo>
                  <a:lnTo>
                    <a:pt x="388" y="23"/>
                  </a:lnTo>
                  <a:lnTo>
                    <a:pt x="393" y="28"/>
                  </a:lnTo>
                  <a:lnTo>
                    <a:pt x="399" y="33"/>
                  </a:lnTo>
                  <a:lnTo>
                    <a:pt x="404" y="37"/>
                  </a:lnTo>
                  <a:lnTo>
                    <a:pt x="409" y="42"/>
                  </a:lnTo>
                  <a:lnTo>
                    <a:pt x="414" y="47"/>
                  </a:lnTo>
                  <a:lnTo>
                    <a:pt x="420" y="51"/>
                  </a:lnTo>
                  <a:lnTo>
                    <a:pt x="425" y="56"/>
                  </a:lnTo>
                  <a:lnTo>
                    <a:pt x="430" y="61"/>
                  </a:lnTo>
                  <a:lnTo>
                    <a:pt x="435" y="66"/>
                  </a:lnTo>
                  <a:lnTo>
                    <a:pt x="441" y="70"/>
                  </a:lnTo>
                  <a:lnTo>
                    <a:pt x="446" y="75"/>
                  </a:lnTo>
                  <a:lnTo>
                    <a:pt x="451" y="80"/>
                  </a:lnTo>
                  <a:lnTo>
                    <a:pt x="456" y="85"/>
                  </a:lnTo>
                  <a:lnTo>
                    <a:pt x="462" y="89"/>
                  </a:lnTo>
                  <a:lnTo>
                    <a:pt x="467" y="94"/>
                  </a:lnTo>
                  <a:lnTo>
                    <a:pt x="472" y="99"/>
                  </a:lnTo>
                  <a:lnTo>
                    <a:pt x="477" y="103"/>
                  </a:lnTo>
                  <a:lnTo>
                    <a:pt x="483" y="108"/>
                  </a:lnTo>
                  <a:lnTo>
                    <a:pt x="488" y="113"/>
                  </a:lnTo>
                  <a:lnTo>
                    <a:pt x="493" y="118"/>
                  </a:lnTo>
                  <a:lnTo>
                    <a:pt x="498" y="122"/>
                  </a:lnTo>
                  <a:lnTo>
                    <a:pt x="504" y="127"/>
                  </a:lnTo>
                  <a:lnTo>
                    <a:pt x="509" y="132"/>
                  </a:lnTo>
                  <a:lnTo>
                    <a:pt x="514" y="137"/>
                  </a:lnTo>
                  <a:lnTo>
                    <a:pt x="519" y="141"/>
                  </a:lnTo>
                  <a:lnTo>
                    <a:pt x="525" y="146"/>
                  </a:lnTo>
                  <a:lnTo>
                    <a:pt x="530" y="146"/>
                  </a:lnTo>
                  <a:lnTo>
                    <a:pt x="535" y="146"/>
                  </a:lnTo>
                  <a:lnTo>
                    <a:pt x="540" y="146"/>
                  </a:lnTo>
                  <a:lnTo>
                    <a:pt x="546" y="146"/>
                  </a:lnTo>
                  <a:lnTo>
                    <a:pt x="551" y="146"/>
                  </a:lnTo>
                  <a:lnTo>
                    <a:pt x="556" y="146"/>
                  </a:lnTo>
                  <a:lnTo>
                    <a:pt x="561" y="146"/>
                  </a:lnTo>
                  <a:lnTo>
                    <a:pt x="567" y="146"/>
                  </a:lnTo>
                  <a:lnTo>
                    <a:pt x="572" y="146"/>
                  </a:lnTo>
                  <a:lnTo>
                    <a:pt x="577" y="146"/>
                  </a:lnTo>
                  <a:lnTo>
                    <a:pt x="582" y="146"/>
                  </a:lnTo>
                  <a:lnTo>
                    <a:pt x="588" y="146"/>
                  </a:lnTo>
                  <a:lnTo>
                    <a:pt x="593" y="146"/>
                  </a:lnTo>
                  <a:lnTo>
                    <a:pt x="598" y="146"/>
                  </a:lnTo>
                  <a:lnTo>
                    <a:pt x="603" y="146"/>
                  </a:lnTo>
                  <a:lnTo>
                    <a:pt x="609" y="146"/>
                  </a:lnTo>
                  <a:lnTo>
                    <a:pt x="614" y="146"/>
                  </a:lnTo>
                  <a:lnTo>
                    <a:pt x="619" y="146"/>
                  </a:lnTo>
                  <a:lnTo>
                    <a:pt x="624" y="146"/>
                  </a:lnTo>
                  <a:lnTo>
                    <a:pt x="630" y="146"/>
                  </a:lnTo>
                  <a:lnTo>
                    <a:pt x="635" y="146"/>
                  </a:lnTo>
                  <a:lnTo>
                    <a:pt x="640" y="146"/>
                  </a:lnTo>
                  <a:lnTo>
                    <a:pt x="645" y="146"/>
                  </a:lnTo>
                  <a:lnTo>
                    <a:pt x="651" y="146"/>
                  </a:lnTo>
                  <a:lnTo>
                    <a:pt x="656" y="146"/>
                  </a:lnTo>
                  <a:lnTo>
                    <a:pt x="661" y="146"/>
                  </a:lnTo>
                  <a:lnTo>
                    <a:pt x="666" y="146"/>
                  </a:lnTo>
                  <a:lnTo>
                    <a:pt x="672" y="146"/>
                  </a:lnTo>
                  <a:lnTo>
                    <a:pt x="677" y="146"/>
                  </a:lnTo>
                  <a:lnTo>
                    <a:pt x="682" y="146"/>
                  </a:lnTo>
                  <a:lnTo>
                    <a:pt x="687" y="146"/>
                  </a:lnTo>
                  <a:lnTo>
                    <a:pt x="693" y="146"/>
                  </a:lnTo>
                  <a:lnTo>
                    <a:pt x="698" y="146"/>
                  </a:lnTo>
                  <a:lnTo>
                    <a:pt x="703" y="146"/>
                  </a:lnTo>
                  <a:lnTo>
                    <a:pt x="708" y="146"/>
                  </a:lnTo>
                  <a:lnTo>
                    <a:pt x="714" y="146"/>
                  </a:lnTo>
                  <a:lnTo>
                    <a:pt x="719" y="146"/>
                  </a:lnTo>
                  <a:lnTo>
                    <a:pt x="724" y="146"/>
                  </a:lnTo>
                  <a:lnTo>
                    <a:pt x="729" y="146"/>
                  </a:lnTo>
                  <a:lnTo>
                    <a:pt x="735" y="146"/>
                  </a:lnTo>
                  <a:lnTo>
                    <a:pt x="740" y="146"/>
                  </a:lnTo>
                  <a:lnTo>
                    <a:pt x="745" y="146"/>
                  </a:lnTo>
                  <a:lnTo>
                    <a:pt x="750" y="146"/>
                  </a:lnTo>
                  <a:lnTo>
                    <a:pt x="756" y="146"/>
                  </a:lnTo>
                  <a:lnTo>
                    <a:pt x="761" y="146"/>
                  </a:lnTo>
                  <a:lnTo>
                    <a:pt x="766" y="146"/>
                  </a:lnTo>
                  <a:lnTo>
                    <a:pt x="771" y="146"/>
                  </a:lnTo>
                  <a:lnTo>
                    <a:pt x="777" y="146"/>
                  </a:lnTo>
                  <a:lnTo>
                    <a:pt x="782" y="146"/>
                  </a:lnTo>
                  <a:lnTo>
                    <a:pt x="787" y="146"/>
                  </a:lnTo>
                  <a:lnTo>
                    <a:pt x="792" y="146"/>
                  </a:lnTo>
                  <a:lnTo>
                    <a:pt x="798" y="146"/>
                  </a:lnTo>
                  <a:lnTo>
                    <a:pt x="803" y="146"/>
                  </a:lnTo>
                  <a:lnTo>
                    <a:pt x="808" y="146"/>
                  </a:lnTo>
                  <a:lnTo>
                    <a:pt x="813" y="146"/>
                  </a:lnTo>
                  <a:lnTo>
                    <a:pt x="819" y="146"/>
                  </a:lnTo>
                  <a:lnTo>
                    <a:pt x="824" y="146"/>
                  </a:lnTo>
                  <a:lnTo>
                    <a:pt x="829" y="146"/>
                  </a:lnTo>
                  <a:lnTo>
                    <a:pt x="834" y="146"/>
                  </a:lnTo>
                  <a:lnTo>
                    <a:pt x="840" y="146"/>
                  </a:lnTo>
                  <a:lnTo>
                    <a:pt x="845" y="146"/>
                  </a:lnTo>
                  <a:lnTo>
                    <a:pt x="850" y="146"/>
                  </a:lnTo>
                  <a:lnTo>
                    <a:pt x="855" y="146"/>
                  </a:lnTo>
                  <a:lnTo>
                    <a:pt x="861" y="146"/>
                  </a:lnTo>
                  <a:lnTo>
                    <a:pt x="866" y="146"/>
                  </a:lnTo>
                  <a:lnTo>
                    <a:pt x="871" y="146"/>
                  </a:lnTo>
                  <a:lnTo>
                    <a:pt x="876" y="146"/>
                  </a:lnTo>
                  <a:lnTo>
                    <a:pt x="882" y="146"/>
                  </a:lnTo>
                  <a:lnTo>
                    <a:pt x="887" y="146"/>
                  </a:lnTo>
                  <a:lnTo>
                    <a:pt x="892" y="146"/>
                  </a:lnTo>
                  <a:lnTo>
                    <a:pt x="897" y="146"/>
                  </a:lnTo>
                  <a:lnTo>
                    <a:pt x="903" y="146"/>
                  </a:lnTo>
                  <a:lnTo>
                    <a:pt x="908" y="146"/>
                  </a:lnTo>
                  <a:lnTo>
                    <a:pt x="913" y="146"/>
                  </a:lnTo>
                  <a:lnTo>
                    <a:pt x="918" y="146"/>
                  </a:lnTo>
                  <a:lnTo>
                    <a:pt x="924" y="146"/>
                  </a:lnTo>
                  <a:lnTo>
                    <a:pt x="929" y="146"/>
                  </a:lnTo>
                  <a:lnTo>
                    <a:pt x="934" y="146"/>
                  </a:lnTo>
                  <a:lnTo>
                    <a:pt x="939" y="146"/>
                  </a:lnTo>
                  <a:lnTo>
                    <a:pt x="945" y="146"/>
                  </a:lnTo>
                  <a:lnTo>
                    <a:pt x="950" y="146"/>
                  </a:lnTo>
                  <a:lnTo>
                    <a:pt x="955" y="146"/>
                  </a:lnTo>
                  <a:lnTo>
                    <a:pt x="960" y="146"/>
                  </a:lnTo>
                  <a:lnTo>
                    <a:pt x="966" y="146"/>
                  </a:lnTo>
                  <a:lnTo>
                    <a:pt x="971" y="146"/>
                  </a:lnTo>
                  <a:lnTo>
                    <a:pt x="976" y="146"/>
                  </a:lnTo>
                  <a:lnTo>
                    <a:pt x="981" y="146"/>
                  </a:lnTo>
                  <a:lnTo>
                    <a:pt x="987" y="146"/>
                  </a:lnTo>
                  <a:lnTo>
                    <a:pt x="992" y="146"/>
                  </a:lnTo>
                  <a:lnTo>
                    <a:pt x="997" y="146"/>
                  </a:lnTo>
                  <a:lnTo>
                    <a:pt x="1002" y="146"/>
                  </a:lnTo>
                  <a:lnTo>
                    <a:pt x="1008" y="146"/>
                  </a:lnTo>
                  <a:lnTo>
                    <a:pt x="1013" y="146"/>
                  </a:lnTo>
                  <a:lnTo>
                    <a:pt x="1018" y="146"/>
                  </a:lnTo>
                  <a:lnTo>
                    <a:pt x="1023" y="146"/>
                  </a:lnTo>
                  <a:lnTo>
                    <a:pt x="1029" y="146"/>
                  </a:lnTo>
                  <a:lnTo>
                    <a:pt x="1034" y="146"/>
                  </a:lnTo>
                  <a:lnTo>
                    <a:pt x="1039" y="146"/>
                  </a:lnTo>
                  <a:lnTo>
                    <a:pt x="1044" y="146"/>
                  </a:lnTo>
                  <a:lnTo>
                    <a:pt x="1050" y="146"/>
                  </a:lnTo>
                  <a:lnTo>
                    <a:pt x="1055" y="146"/>
                  </a:lnTo>
                  <a:lnTo>
                    <a:pt x="1060" y="146"/>
                  </a:lnTo>
                  <a:lnTo>
                    <a:pt x="1065" y="146"/>
                  </a:lnTo>
                  <a:lnTo>
                    <a:pt x="1071" y="146"/>
                  </a:lnTo>
                  <a:lnTo>
                    <a:pt x="1076" y="146"/>
                  </a:lnTo>
                  <a:lnTo>
                    <a:pt x="1081" y="146"/>
                  </a:lnTo>
                  <a:lnTo>
                    <a:pt x="1086" y="146"/>
                  </a:lnTo>
                  <a:lnTo>
                    <a:pt x="1092" y="146"/>
                  </a:lnTo>
                  <a:lnTo>
                    <a:pt x="1097" y="146"/>
                  </a:lnTo>
                  <a:lnTo>
                    <a:pt x="1102" y="146"/>
                  </a:lnTo>
                  <a:lnTo>
                    <a:pt x="1107" y="146"/>
                  </a:lnTo>
                  <a:lnTo>
                    <a:pt x="1113" y="146"/>
                  </a:lnTo>
                  <a:lnTo>
                    <a:pt x="1118" y="146"/>
                  </a:lnTo>
                  <a:lnTo>
                    <a:pt x="1123" y="146"/>
                  </a:lnTo>
                  <a:lnTo>
                    <a:pt x="1128" y="146"/>
                  </a:lnTo>
                  <a:lnTo>
                    <a:pt x="1134" y="146"/>
                  </a:lnTo>
                  <a:lnTo>
                    <a:pt x="1139" y="146"/>
                  </a:lnTo>
                  <a:lnTo>
                    <a:pt x="1144" y="146"/>
                  </a:lnTo>
                  <a:lnTo>
                    <a:pt x="1149" y="146"/>
                  </a:lnTo>
                  <a:lnTo>
                    <a:pt x="1155" y="146"/>
                  </a:lnTo>
                  <a:lnTo>
                    <a:pt x="1160" y="146"/>
                  </a:lnTo>
                  <a:lnTo>
                    <a:pt x="1165" y="146"/>
                  </a:lnTo>
                  <a:lnTo>
                    <a:pt x="1170" y="146"/>
                  </a:lnTo>
                  <a:lnTo>
                    <a:pt x="1176" y="146"/>
                  </a:lnTo>
                  <a:lnTo>
                    <a:pt x="1181" y="146"/>
                  </a:lnTo>
                  <a:lnTo>
                    <a:pt x="1186" y="146"/>
                  </a:lnTo>
                  <a:lnTo>
                    <a:pt x="1191" y="146"/>
                  </a:lnTo>
                  <a:lnTo>
                    <a:pt x="1197" y="146"/>
                  </a:lnTo>
                  <a:lnTo>
                    <a:pt x="1202" y="146"/>
                  </a:lnTo>
                  <a:lnTo>
                    <a:pt x="1207" y="146"/>
                  </a:lnTo>
                  <a:lnTo>
                    <a:pt x="1212" y="146"/>
                  </a:lnTo>
                  <a:lnTo>
                    <a:pt x="1218" y="146"/>
                  </a:lnTo>
                  <a:lnTo>
                    <a:pt x="1223" y="146"/>
                  </a:lnTo>
                  <a:lnTo>
                    <a:pt x="1228" y="146"/>
                  </a:lnTo>
                  <a:lnTo>
                    <a:pt x="1233" y="146"/>
                  </a:lnTo>
                  <a:lnTo>
                    <a:pt x="1239" y="146"/>
                  </a:lnTo>
                  <a:lnTo>
                    <a:pt x="1244" y="146"/>
                  </a:lnTo>
                  <a:lnTo>
                    <a:pt x="1249" y="146"/>
                  </a:lnTo>
                  <a:lnTo>
                    <a:pt x="1254" y="146"/>
                  </a:lnTo>
                  <a:lnTo>
                    <a:pt x="1260" y="146"/>
                  </a:lnTo>
                  <a:lnTo>
                    <a:pt x="1265" y="146"/>
                  </a:lnTo>
                  <a:lnTo>
                    <a:pt x="1270" y="146"/>
                  </a:lnTo>
                  <a:lnTo>
                    <a:pt x="1275" y="146"/>
                  </a:lnTo>
                  <a:lnTo>
                    <a:pt x="1281" y="146"/>
                  </a:lnTo>
                  <a:lnTo>
                    <a:pt x="1286" y="146"/>
                  </a:lnTo>
                  <a:lnTo>
                    <a:pt x="1291" y="146"/>
                  </a:lnTo>
                  <a:lnTo>
                    <a:pt x="1296" y="146"/>
                  </a:lnTo>
                  <a:lnTo>
                    <a:pt x="1302" y="146"/>
                  </a:lnTo>
                  <a:lnTo>
                    <a:pt x="1307" y="146"/>
                  </a:lnTo>
                  <a:lnTo>
                    <a:pt x="1312" y="146"/>
                  </a:lnTo>
                  <a:lnTo>
                    <a:pt x="1317" y="146"/>
                  </a:lnTo>
                  <a:lnTo>
                    <a:pt x="1323" y="146"/>
                  </a:lnTo>
                  <a:lnTo>
                    <a:pt x="1328" y="146"/>
                  </a:lnTo>
                  <a:lnTo>
                    <a:pt x="1333" y="146"/>
                  </a:lnTo>
                  <a:lnTo>
                    <a:pt x="1338" y="146"/>
                  </a:lnTo>
                  <a:lnTo>
                    <a:pt x="1344" y="146"/>
                  </a:lnTo>
                  <a:lnTo>
                    <a:pt x="1349" y="146"/>
                  </a:lnTo>
                  <a:lnTo>
                    <a:pt x="1354" y="146"/>
                  </a:lnTo>
                  <a:lnTo>
                    <a:pt x="1359" y="146"/>
                  </a:lnTo>
                  <a:lnTo>
                    <a:pt x="1365" y="146"/>
                  </a:lnTo>
                  <a:lnTo>
                    <a:pt x="1370" y="146"/>
                  </a:lnTo>
                  <a:lnTo>
                    <a:pt x="1375" y="146"/>
                  </a:lnTo>
                  <a:lnTo>
                    <a:pt x="1380" y="146"/>
                  </a:lnTo>
                  <a:lnTo>
                    <a:pt x="1386" y="146"/>
                  </a:lnTo>
                  <a:lnTo>
                    <a:pt x="1391" y="146"/>
                  </a:lnTo>
                  <a:lnTo>
                    <a:pt x="1396" y="146"/>
                  </a:lnTo>
                  <a:lnTo>
                    <a:pt x="1401" y="146"/>
                  </a:lnTo>
                  <a:lnTo>
                    <a:pt x="1407" y="146"/>
                  </a:lnTo>
                  <a:lnTo>
                    <a:pt x="1412" y="146"/>
                  </a:lnTo>
                  <a:lnTo>
                    <a:pt x="1417" y="146"/>
                  </a:lnTo>
                  <a:lnTo>
                    <a:pt x="1422" y="146"/>
                  </a:lnTo>
                  <a:lnTo>
                    <a:pt x="1428" y="146"/>
                  </a:lnTo>
                  <a:lnTo>
                    <a:pt x="1433" y="146"/>
                  </a:lnTo>
                  <a:lnTo>
                    <a:pt x="1438" y="146"/>
                  </a:lnTo>
                  <a:lnTo>
                    <a:pt x="1443" y="146"/>
                  </a:lnTo>
                  <a:lnTo>
                    <a:pt x="1449" y="146"/>
                  </a:lnTo>
                  <a:lnTo>
                    <a:pt x="1454" y="146"/>
                  </a:lnTo>
                  <a:lnTo>
                    <a:pt x="1459" y="146"/>
                  </a:lnTo>
                  <a:lnTo>
                    <a:pt x="1464" y="146"/>
                  </a:lnTo>
                  <a:lnTo>
                    <a:pt x="1470" y="146"/>
                  </a:lnTo>
                  <a:lnTo>
                    <a:pt x="1475" y="146"/>
                  </a:lnTo>
                  <a:lnTo>
                    <a:pt x="1480" y="146"/>
                  </a:lnTo>
                  <a:lnTo>
                    <a:pt x="1485" y="146"/>
                  </a:lnTo>
                  <a:lnTo>
                    <a:pt x="1491" y="146"/>
                  </a:lnTo>
                  <a:lnTo>
                    <a:pt x="1496" y="146"/>
                  </a:lnTo>
                  <a:lnTo>
                    <a:pt x="1501" y="146"/>
                  </a:lnTo>
                  <a:lnTo>
                    <a:pt x="1506" y="146"/>
                  </a:lnTo>
                  <a:lnTo>
                    <a:pt x="1512" y="146"/>
                  </a:lnTo>
                  <a:lnTo>
                    <a:pt x="1517" y="146"/>
                  </a:lnTo>
                  <a:lnTo>
                    <a:pt x="1522" y="146"/>
                  </a:lnTo>
                  <a:lnTo>
                    <a:pt x="1527" y="146"/>
                  </a:lnTo>
                  <a:lnTo>
                    <a:pt x="1533" y="146"/>
                  </a:lnTo>
                  <a:lnTo>
                    <a:pt x="1538" y="146"/>
                  </a:lnTo>
                  <a:lnTo>
                    <a:pt x="1543" y="146"/>
                  </a:lnTo>
                  <a:lnTo>
                    <a:pt x="1548" y="146"/>
                  </a:lnTo>
                  <a:lnTo>
                    <a:pt x="1554" y="146"/>
                  </a:lnTo>
                  <a:lnTo>
                    <a:pt x="1559" y="146"/>
                  </a:lnTo>
                  <a:lnTo>
                    <a:pt x="1564" y="146"/>
                  </a:lnTo>
                  <a:lnTo>
                    <a:pt x="1569" y="146"/>
                  </a:lnTo>
                  <a:lnTo>
                    <a:pt x="1575" y="1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6726240" y="3938760"/>
              <a:ext cx="1919160" cy="318960"/>
            </a:xfrm>
            <a:custGeom>
              <a:avLst/>
              <a:gdLst/>
              <a:ahLst/>
              <a:rect l="l" t="t" r="r" b="b"/>
              <a:pathLst>
                <a:path w="1575" h="259">
                  <a:moveTo>
                    <a:pt x="0" y="259"/>
                  </a:moveTo>
                  <a:lnTo>
                    <a:pt x="5" y="259"/>
                  </a:lnTo>
                  <a:lnTo>
                    <a:pt x="10" y="259"/>
                  </a:lnTo>
                  <a:lnTo>
                    <a:pt x="15" y="259"/>
                  </a:lnTo>
                  <a:lnTo>
                    <a:pt x="21" y="259"/>
                  </a:lnTo>
                  <a:lnTo>
                    <a:pt x="26" y="259"/>
                  </a:lnTo>
                  <a:lnTo>
                    <a:pt x="31" y="259"/>
                  </a:lnTo>
                  <a:lnTo>
                    <a:pt x="36" y="259"/>
                  </a:lnTo>
                  <a:lnTo>
                    <a:pt x="42" y="259"/>
                  </a:lnTo>
                  <a:lnTo>
                    <a:pt x="47" y="259"/>
                  </a:lnTo>
                  <a:lnTo>
                    <a:pt x="52" y="259"/>
                  </a:lnTo>
                  <a:lnTo>
                    <a:pt x="57" y="259"/>
                  </a:lnTo>
                  <a:lnTo>
                    <a:pt x="63" y="259"/>
                  </a:lnTo>
                  <a:lnTo>
                    <a:pt x="68" y="259"/>
                  </a:lnTo>
                  <a:lnTo>
                    <a:pt x="73" y="259"/>
                  </a:lnTo>
                  <a:lnTo>
                    <a:pt x="78" y="259"/>
                  </a:lnTo>
                  <a:lnTo>
                    <a:pt x="84" y="259"/>
                  </a:lnTo>
                  <a:lnTo>
                    <a:pt x="89" y="259"/>
                  </a:lnTo>
                  <a:lnTo>
                    <a:pt x="94" y="259"/>
                  </a:lnTo>
                  <a:lnTo>
                    <a:pt x="99" y="259"/>
                  </a:lnTo>
                  <a:lnTo>
                    <a:pt x="105" y="259"/>
                  </a:lnTo>
                  <a:lnTo>
                    <a:pt x="110" y="251"/>
                  </a:lnTo>
                  <a:lnTo>
                    <a:pt x="115" y="244"/>
                  </a:lnTo>
                  <a:lnTo>
                    <a:pt x="120" y="237"/>
                  </a:lnTo>
                  <a:lnTo>
                    <a:pt x="126" y="229"/>
                  </a:lnTo>
                  <a:lnTo>
                    <a:pt x="131" y="222"/>
                  </a:lnTo>
                  <a:lnTo>
                    <a:pt x="136" y="215"/>
                  </a:lnTo>
                  <a:lnTo>
                    <a:pt x="141" y="208"/>
                  </a:lnTo>
                  <a:lnTo>
                    <a:pt x="147" y="201"/>
                  </a:lnTo>
                  <a:lnTo>
                    <a:pt x="152" y="193"/>
                  </a:lnTo>
                  <a:lnTo>
                    <a:pt x="157" y="186"/>
                  </a:lnTo>
                  <a:lnTo>
                    <a:pt x="162" y="179"/>
                  </a:lnTo>
                  <a:lnTo>
                    <a:pt x="168" y="172"/>
                  </a:lnTo>
                  <a:lnTo>
                    <a:pt x="173" y="165"/>
                  </a:lnTo>
                  <a:lnTo>
                    <a:pt x="178" y="159"/>
                  </a:lnTo>
                  <a:lnTo>
                    <a:pt x="183" y="152"/>
                  </a:lnTo>
                  <a:lnTo>
                    <a:pt x="189" y="145"/>
                  </a:lnTo>
                  <a:lnTo>
                    <a:pt x="194" y="138"/>
                  </a:lnTo>
                  <a:lnTo>
                    <a:pt x="199" y="131"/>
                  </a:lnTo>
                  <a:lnTo>
                    <a:pt x="204" y="124"/>
                  </a:lnTo>
                  <a:lnTo>
                    <a:pt x="210" y="117"/>
                  </a:lnTo>
                  <a:lnTo>
                    <a:pt x="215" y="110"/>
                  </a:lnTo>
                  <a:lnTo>
                    <a:pt x="220" y="104"/>
                  </a:lnTo>
                  <a:lnTo>
                    <a:pt x="225" y="97"/>
                  </a:lnTo>
                  <a:lnTo>
                    <a:pt x="231" y="90"/>
                  </a:lnTo>
                  <a:lnTo>
                    <a:pt x="236" y="83"/>
                  </a:lnTo>
                  <a:lnTo>
                    <a:pt x="241" y="76"/>
                  </a:lnTo>
                  <a:lnTo>
                    <a:pt x="246" y="69"/>
                  </a:lnTo>
                  <a:lnTo>
                    <a:pt x="252" y="63"/>
                  </a:lnTo>
                  <a:lnTo>
                    <a:pt x="257" y="56"/>
                  </a:lnTo>
                  <a:lnTo>
                    <a:pt x="262" y="49"/>
                  </a:lnTo>
                  <a:lnTo>
                    <a:pt x="267" y="42"/>
                  </a:lnTo>
                  <a:lnTo>
                    <a:pt x="273" y="35"/>
                  </a:lnTo>
                  <a:lnTo>
                    <a:pt x="278" y="28"/>
                  </a:lnTo>
                  <a:lnTo>
                    <a:pt x="283" y="22"/>
                  </a:lnTo>
                  <a:lnTo>
                    <a:pt x="288" y="15"/>
                  </a:lnTo>
                  <a:lnTo>
                    <a:pt x="294" y="8"/>
                  </a:lnTo>
                  <a:lnTo>
                    <a:pt x="299" y="1"/>
                  </a:lnTo>
                  <a:lnTo>
                    <a:pt x="304" y="0"/>
                  </a:lnTo>
                  <a:lnTo>
                    <a:pt x="309" y="6"/>
                  </a:lnTo>
                  <a:lnTo>
                    <a:pt x="315" y="12"/>
                  </a:lnTo>
                  <a:lnTo>
                    <a:pt x="320" y="17"/>
                  </a:lnTo>
                  <a:lnTo>
                    <a:pt x="325" y="23"/>
                  </a:lnTo>
                  <a:lnTo>
                    <a:pt x="330" y="29"/>
                  </a:lnTo>
                  <a:lnTo>
                    <a:pt x="336" y="34"/>
                  </a:lnTo>
                  <a:lnTo>
                    <a:pt x="341" y="40"/>
                  </a:lnTo>
                  <a:lnTo>
                    <a:pt x="346" y="46"/>
                  </a:lnTo>
                  <a:lnTo>
                    <a:pt x="351" y="51"/>
                  </a:lnTo>
                  <a:lnTo>
                    <a:pt x="357" y="57"/>
                  </a:lnTo>
                  <a:lnTo>
                    <a:pt x="362" y="63"/>
                  </a:lnTo>
                  <a:lnTo>
                    <a:pt x="367" y="68"/>
                  </a:lnTo>
                  <a:lnTo>
                    <a:pt x="372" y="74"/>
                  </a:lnTo>
                  <a:lnTo>
                    <a:pt x="378" y="80"/>
                  </a:lnTo>
                  <a:lnTo>
                    <a:pt x="383" y="86"/>
                  </a:lnTo>
                  <a:lnTo>
                    <a:pt x="388" y="91"/>
                  </a:lnTo>
                  <a:lnTo>
                    <a:pt x="393" y="97"/>
                  </a:lnTo>
                  <a:lnTo>
                    <a:pt x="399" y="103"/>
                  </a:lnTo>
                  <a:lnTo>
                    <a:pt x="404" y="108"/>
                  </a:lnTo>
                  <a:lnTo>
                    <a:pt x="409" y="114"/>
                  </a:lnTo>
                  <a:lnTo>
                    <a:pt x="414" y="120"/>
                  </a:lnTo>
                  <a:lnTo>
                    <a:pt x="420" y="125"/>
                  </a:lnTo>
                  <a:lnTo>
                    <a:pt x="425" y="131"/>
                  </a:lnTo>
                  <a:lnTo>
                    <a:pt x="430" y="137"/>
                  </a:lnTo>
                  <a:lnTo>
                    <a:pt x="435" y="142"/>
                  </a:lnTo>
                  <a:lnTo>
                    <a:pt x="441" y="148"/>
                  </a:lnTo>
                  <a:lnTo>
                    <a:pt x="446" y="154"/>
                  </a:lnTo>
                  <a:lnTo>
                    <a:pt x="451" y="159"/>
                  </a:lnTo>
                  <a:lnTo>
                    <a:pt x="456" y="165"/>
                  </a:lnTo>
                  <a:lnTo>
                    <a:pt x="462" y="171"/>
                  </a:lnTo>
                  <a:lnTo>
                    <a:pt x="467" y="176"/>
                  </a:lnTo>
                  <a:lnTo>
                    <a:pt x="472" y="182"/>
                  </a:lnTo>
                  <a:lnTo>
                    <a:pt x="477" y="188"/>
                  </a:lnTo>
                  <a:lnTo>
                    <a:pt x="483" y="193"/>
                  </a:lnTo>
                  <a:lnTo>
                    <a:pt x="488" y="199"/>
                  </a:lnTo>
                  <a:lnTo>
                    <a:pt x="493" y="205"/>
                  </a:lnTo>
                  <a:lnTo>
                    <a:pt x="498" y="210"/>
                  </a:lnTo>
                  <a:lnTo>
                    <a:pt x="504" y="216"/>
                  </a:lnTo>
                  <a:lnTo>
                    <a:pt x="509" y="222"/>
                  </a:lnTo>
                  <a:lnTo>
                    <a:pt x="514" y="227"/>
                  </a:lnTo>
                  <a:lnTo>
                    <a:pt x="519" y="233"/>
                  </a:lnTo>
                  <a:lnTo>
                    <a:pt x="525" y="239"/>
                  </a:lnTo>
                  <a:lnTo>
                    <a:pt x="530" y="239"/>
                  </a:lnTo>
                  <a:lnTo>
                    <a:pt x="535" y="239"/>
                  </a:lnTo>
                  <a:lnTo>
                    <a:pt x="540" y="239"/>
                  </a:lnTo>
                  <a:lnTo>
                    <a:pt x="546" y="239"/>
                  </a:lnTo>
                  <a:lnTo>
                    <a:pt x="551" y="239"/>
                  </a:lnTo>
                  <a:lnTo>
                    <a:pt x="556" y="239"/>
                  </a:lnTo>
                  <a:lnTo>
                    <a:pt x="561" y="239"/>
                  </a:lnTo>
                  <a:lnTo>
                    <a:pt x="567" y="239"/>
                  </a:lnTo>
                  <a:lnTo>
                    <a:pt x="572" y="239"/>
                  </a:lnTo>
                  <a:lnTo>
                    <a:pt x="577" y="239"/>
                  </a:lnTo>
                  <a:lnTo>
                    <a:pt x="582" y="239"/>
                  </a:lnTo>
                  <a:lnTo>
                    <a:pt x="588" y="239"/>
                  </a:lnTo>
                  <a:lnTo>
                    <a:pt x="593" y="239"/>
                  </a:lnTo>
                  <a:lnTo>
                    <a:pt x="598" y="239"/>
                  </a:lnTo>
                  <a:lnTo>
                    <a:pt x="603" y="239"/>
                  </a:lnTo>
                  <a:lnTo>
                    <a:pt x="609" y="239"/>
                  </a:lnTo>
                  <a:lnTo>
                    <a:pt x="614" y="239"/>
                  </a:lnTo>
                  <a:lnTo>
                    <a:pt x="619" y="239"/>
                  </a:lnTo>
                  <a:lnTo>
                    <a:pt x="624" y="239"/>
                  </a:lnTo>
                  <a:lnTo>
                    <a:pt x="630" y="239"/>
                  </a:lnTo>
                  <a:lnTo>
                    <a:pt x="635" y="239"/>
                  </a:lnTo>
                  <a:lnTo>
                    <a:pt x="640" y="239"/>
                  </a:lnTo>
                  <a:lnTo>
                    <a:pt x="645" y="239"/>
                  </a:lnTo>
                  <a:lnTo>
                    <a:pt x="651" y="239"/>
                  </a:lnTo>
                  <a:lnTo>
                    <a:pt x="656" y="239"/>
                  </a:lnTo>
                  <a:lnTo>
                    <a:pt x="661" y="239"/>
                  </a:lnTo>
                  <a:lnTo>
                    <a:pt x="666" y="239"/>
                  </a:lnTo>
                  <a:lnTo>
                    <a:pt x="672" y="239"/>
                  </a:lnTo>
                  <a:lnTo>
                    <a:pt x="677" y="239"/>
                  </a:lnTo>
                  <a:lnTo>
                    <a:pt x="682" y="239"/>
                  </a:lnTo>
                  <a:lnTo>
                    <a:pt x="687" y="239"/>
                  </a:lnTo>
                  <a:lnTo>
                    <a:pt x="693" y="239"/>
                  </a:lnTo>
                  <a:lnTo>
                    <a:pt x="698" y="239"/>
                  </a:lnTo>
                  <a:lnTo>
                    <a:pt x="703" y="239"/>
                  </a:lnTo>
                  <a:lnTo>
                    <a:pt x="708" y="239"/>
                  </a:lnTo>
                  <a:lnTo>
                    <a:pt x="714" y="239"/>
                  </a:lnTo>
                  <a:lnTo>
                    <a:pt x="719" y="239"/>
                  </a:lnTo>
                  <a:lnTo>
                    <a:pt x="724" y="239"/>
                  </a:lnTo>
                  <a:lnTo>
                    <a:pt x="729" y="239"/>
                  </a:lnTo>
                  <a:lnTo>
                    <a:pt x="735" y="239"/>
                  </a:lnTo>
                  <a:lnTo>
                    <a:pt x="740" y="239"/>
                  </a:lnTo>
                  <a:lnTo>
                    <a:pt x="745" y="239"/>
                  </a:lnTo>
                  <a:lnTo>
                    <a:pt x="750" y="239"/>
                  </a:lnTo>
                  <a:lnTo>
                    <a:pt x="756" y="239"/>
                  </a:lnTo>
                  <a:lnTo>
                    <a:pt x="761" y="239"/>
                  </a:lnTo>
                  <a:lnTo>
                    <a:pt x="766" y="239"/>
                  </a:lnTo>
                  <a:lnTo>
                    <a:pt x="771" y="239"/>
                  </a:lnTo>
                  <a:lnTo>
                    <a:pt x="777" y="239"/>
                  </a:lnTo>
                  <a:lnTo>
                    <a:pt x="782" y="239"/>
                  </a:lnTo>
                  <a:lnTo>
                    <a:pt x="787" y="239"/>
                  </a:lnTo>
                  <a:lnTo>
                    <a:pt x="792" y="239"/>
                  </a:lnTo>
                  <a:lnTo>
                    <a:pt x="798" y="239"/>
                  </a:lnTo>
                  <a:lnTo>
                    <a:pt x="803" y="239"/>
                  </a:lnTo>
                  <a:lnTo>
                    <a:pt x="808" y="239"/>
                  </a:lnTo>
                  <a:lnTo>
                    <a:pt x="813" y="239"/>
                  </a:lnTo>
                  <a:lnTo>
                    <a:pt x="819" y="239"/>
                  </a:lnTo>
                  <a:lnTo>
                    <a:pt x="824" y="239"/>
                  </a:lnTo>
                  <a:lnTo>
                    <a:pt x="829" y="239"/>
                  </a:lnTo>
                  <a:lnTo>
                    <a:pt x="834" y="239"/>
                  </a:lnTo>
                  <a:lnTo>
                    <a:pt x="840" y="239"/>
                  </a:lnTo>
                  <a:lnTo>
                    <a:pt x="845" y="239"/>
                  </a:lnTo>
                  <a:lnTo>
                    <a:pt x="850" y="239"/>
                  </a:lnTo>
                  <a:lnTo>
                    <a:pt x="855" y="239"/>
                  </a:lnTo>
                  <a:lnTo>
                    <a:pt x="861" y="239"/>
                  </a:lnTo>
                  <a:lnTo>
                    <a:pt x="866" y="239"/>
                  </a:lnTo>
                  <a:lnTo>
                    <a:pt x="871" y="239"/>
                  </a:lnTo>
                  <a:lnTo>
                    <a:pt x="876" y="239"/>
                  </a:lnTo>
                  <a:lnTo>
                    <a:pt x="882" y="239"/>
                  </a:lnTo>
                  <a:lnTo>
                    <a:pt x="887" y="239"/>
                  </a:lnTo>
                  <a:lnTo>
                    <a:pt x="892" y="239"/>
                  </a:lnTo>
                  <a:lnTo>
                    <a:pt x="897" y="239"/>
                  </a:lnTo>
                  <a:lnTo>
                    <a:pt x="903" y="239"/>
                  </a:lnTo>
                  <a:lnTo>
                    <a:pt x="908" y="239"/>
                  </a:lnTo>
                  <a:lnTo>
                    <a:pt x="913" y="239"/>
                  </a:lnTo>
                  <a:lnTo>
                    <a:pt x="918" y="239"/>
                  </a:lnTo>
                  <a:lnTo>
                    <a:pt x="924" y="239"/>
                  </a:lnTo>
                  <a:lnTo>
                    <a:pt x="929" y="239"/>
                  </a:lnTo>
                  <a:lnTo>
                    <a:pt x="934" y="239"/>
                  </a:lnTo>
                  <a:lnTo>
                    <a:pt x="939" y="239"/>
                  </a:lnTo>
                  <a:lnTo>
                    <a:pt x="945" y="239"/>
                  </a:lnTo>
                  <a:lnTo>
                    <a:pt x="950" y="239"/>
                  </a:lnTo>
                  <a:lnTo>
                    <a:pt x="955" y="239"/>
                  </a:lnTo>
                  <a:lnTo>
                    <a:pt x="960" y="239"/>
                  </a:lnTo>
                  <a:lnTo>
                    <a:pt x="966" y="239"/>
                  </a:lnTo>
                  <a:lnTo>
                    <a:pt x="971" y="239"/>
                  </a:lnTo>
                  <a:lnTo>
                    <a:pt x="976" y="239"/>
                  </a:lnTo>
                  <a:lnTo>
                    <a:pt x="981" y="239"/>
                  </a:lnTo>
                  <a:lnTo>
                    <a:pt x="987" y="239"/>
                  </a:lnTo>
                  <a:lnTo>
                    <a:pt x="992" y="239"/>
                  </a:lnTo>
                  <a:lnTo>
                    <a:pt x="997" y="239"/>
                  </a:lnTo>
                  <a:lnTo>
                    <a:pt x="1002" y="239"/>
                  </a:lnTo>
                  <a:lnTo>
                    <a:pt x="1008" y="239"/>
                  </a:lnTo>
                  <a:lnTo>
                    <a:pt x="1013" y="239"/>
                  </a:lnTo>
                  <a:lnTo>
                    <a:pt x="1018" y="239"/>
                  </a:lnTo>
                  <a:lnTo>
                    <a:pt x="1023" y="239"/>
                  </a:lnTo>
                  <a:lnTo>
                    <a:pt x="1029" y="239"/>
                  </a:lnTo>
                  <a:lnTo>
                    <a:pt x="1034" y="239"/>
                  </a:lnTo>
                  <a:lnTo>
                    <a:pt x="1039" y="239"/>
                  </a:lnTo>
                  <a:lnTo>
                    <a:pt x="1044" y="239"/>
                  </a:lnTo>
                  <a:lnTo>
                    <a:pt x="1050" y="239"/>
                  </a:lnTo>
                  <a:lnTo>
                    <a:pt x="1055" y="239"/>
                  </a:lnTo>
                  <a:lnTo>
                    <a:pt x="1060" y="239"/>
                  </a:lnTo>
                  <a:lnTo>
                    <a:pt x="1065" y="239"/>
                  </a:lnTo>
                  <a:lnTo>
                    <a:pt x="1071" y="239"/>
                  </a:lnTo>
                  <a:lnTo>
                    <a:pt x="1076" y="239"/>
                  </a:lnTo>
                  <a:lnTo>
                    <a:pt x="1081" y="239"/>
                  </a:lnTo>
                  <a:lnTo>
                    <a:pt x="1086" y="239"/>
                  </a:lnTo>
                  <a:lnTo>
                    <a:pt x="1092" y="239"/>
                  </a:lnTo>
                  <a:lnTo>
                    <a:pt x="1097" y="239"/>
                  </a:lnTo>
                  <a:lnTo>
                    <a:pt x="1102" y="239"/>
                  </a:lnTo>
                  <a:lnTo>
                    <a:pt x="1107" y="239"/>
                  </a:lnTo>
                  <a:lnTo>
                    <a:pt x="1113" y="239"/>
                  </a:lnTo>
                  <a:lnTo>
                    <a:pt x="1118" y="239"/>
                  </a:lnTo>
                  <a:lnTo>
                    <a:pt x="1123" y="239"/>
                  </a:lnTo>
                  <a:lnTo>
                    <a:pt x="1128" y="239"/>
                  </a:lnTo>
                  <a:lnTo>
                    <a:pt x="1134" y="239"/>
                  </a:lnTo>
                  <a:lnTo>
                    <a:pt x="1139" y="239"/>
                  </a:lnTo>
                  <a:lnTo>
                    <a:pt x="1144" y="239"/>
                  </a:lnTo>
                  <a:lnTo>
                    <a:pt x="1149" y="239"/>
                  </a:lnTo>
                  <a:lnTo>
                    <a:pt x="1155" y="239"/>
                  </a:lnTo>
                  <a:lnTo>
                    <a:pt x="1160" y="239"/>
                  </a:lnTo>
                  <a:lnTo>
                    <a:pt x="1165" y="239"/>
                  </a:lnTo>
                  <a:lnTo>
                    <a:pt x="1170" y="239"/>
                  </a:lnTo>
                  <a:lnTo>
                    <a:pt x="1176" y="239"/>
                  </a:lnTo>
                  <a:lnTo>
                    <a:pt x="1181" y="239"/>
                  </a:lnTo>
                  <a:lnTo>
                    <a:pt x="1186" y="239"/>
                  </a:lnTo>
                  <a:lnTo>
                    <a:pt x="1191" y="239"/>
                  </a:lnTo>
                  <a:lnTo>
                    <a:pt x="1197" y="239"/>
                  </a:lnTo>
                  <a:lnTo>
                    <a:pt x="1202" y="239"/>
                  </a:lnTo>
                  <a:lnTo>
                    <a:pt x="1207" y="239"/>
                  </a:lnTo>
                  <a:lnTo>
                    <a:pt x="1212" y="239"/>
                  </a:lnTo>
                  <a:lnTo>
                    <a:pt x="1218" y="239"/>
                  </a:lnTo>
                  <a:lnTo>
                    <a:pt x="1223" y="239"/>
                  </a:lnTo>
                  <a:lnTo>
                    <a:pt x="1228" y="239"/>
                  </a:lnTo>
                  <a:lnTo>
                    <a:pt x="1233" y="239"/>
                  </a:lnTo>
                  <a:lnTo>
                    <a:pt x="1239" y="239"/>
                  </a:lnTo>
                  <a:lnTo>
                    <a:pt x="1244" y="239"/>
                  </a:lnTo>
                  <a:lnTo>
                    <a:pt x="1249" y="239"/>
                  </a:lnTo>
                  <a:lnTo>
                    <a:pt x="1254" y="239"/>
                  </a:lnTo>
                  <a:lnTo>
                    <a:pt x="1260" y="239"/>
                  </a:lnTo>
                  <a:lnTo>
                    <a:pt x="1265" y="239"/>
                  </a:lnTo>
                  <a:lnTo>
                    <a:pt x="1270" y="239"/>
                  </a:lnTo>
                  <a:lnTo>
                    <a:pt x="1275" y="239"/>
                  </a:lnTo>
                  <a:lnTo>
                    <a:pt x="1281" y="239"/>
                  </a:lnTo>
                  <a:lnTo>
                    <a:pt x="1286" y="239"/>
                  </a:lnTo>
                  <a:lnTo>
                    <a:pt x="1291" y="239"/>
                  </a:lnTo>
                  <a:lnTo>
                    <a:pt x="1296" y="239"/>
                  </a:lnTo>
                  <a:lnTo>
                    <a:pt x="1302" y="239"/>
                  </a:lnTo>
                  <a:lnTo>
                    <a:pt x="1307" y="239"/>
                  </a:lnTo>
                  <a:lnTo>
                    <a:pt x="1312" y="239"/>
                  </a:lnTo>
                  <a:lnTo>
                    <a:pt x="1317" y="239"/>
                  </a:lnTo>
                  <a:lnTo>
                    <a:pt x="1323" y="239"/>
                  </a:lnTo>
                  <a:lnTo>
                    <a:pt x="1328" y="239"/>
                  </a:lnTo>
                  <a:lnTo>
                    <a:pt x="1333" y="239"/>
                  </a:lnTo>
                  <a:lnTo>
                    <a:pt x="1338" y="239"/>
                  </a:lnTo>
                  <a:lnTo>
                    <a:pt x="1344" y="239"/>
                  </a:lnTo>
                  <a:lnTo>
                    <a:pt x="1349" y="239"/>
                  </a:lnTo>
                  <a:lnTo>
                    <a:pt x="1354" y="239"/>
                  </a:lnTo>
                  <a:lnTo>
                    <a:pt x="1359" y="239"/>
                  </a:lnTo>
                  <a:lnTo>
                    <a:pt x="1365" y="239"/>
                  </a:lnTo>
                  <a:lnTo>
                    <a:pt x="1370" y="239"/>
                  </a:lnTo>
                  <a:lnTo>
                    <a:pt x="1375" y="239"/>
                  </a:lnTo>
                  <a:lnTo>
                    <a:pt x="1380" y="239"/>
                  </a:lnTo>
                  <a:lnTo>
                    <a:pt x="1386" y="239"/>
                  </a:lnTo>
                  <a:lnTo>
                    <a:pt x="1391" y="239"/>
                  </a:lnTo>
                  <a:lnTo>
                    <a:pt x="1396" y="239"/>
                  </a:lnTo>
                  <a:lnTo>
                    <a:pt x="1401" y="239"/>
                  </a:lnTo>
                  <a:lnTo>
                    <a:pt x="1407" y="239"/>
                  </a:lnTo>
                  <a:lnTo>
                    <a:pt x="1412" y="239"/>
                  </a:lnTo>
                  <a:lnTo>
                    <a:pt x="1417" y="239"/>
                  </a:lnTo>
                  <a:lnTo>
                    <a:pt x="1422" y="239"/>
                  </a:lnTo>
                  <a:lnTo>
                    <a:pt x="1428" y="239"/>
                  </a:lnTo>
                  <a:lnTo>
                    <a:pt x="1433" y="239"/>
                  </a:lnTo>
                  <a:lnTo>
                    <a:pt x="1438" y="239"/>
                  </a:lnTo>
                  <a:lnTo>
                    <a:pt x="1443" y="239"/>
                  </a:lnTo>
                  <a:lnTo>
                    <a:pt x="1449" y="239"/>
                  </a:lnTo>
                  <a:lnTo>
                    <a:pt x="1454" y="239"/>
                  </a:lnTo>
                  <a:lnTo>
                    <a:pt x="1459" y="239"/>
                  </a:lnTo>
                  <a:lnTo>
                    <a:pt x="1464" y="239"/>
                  </a:lnTo>
                  <a:lnTo>
                    <a:pt x="1470" y="239"/>
                  </a:lnTo>
                  <a:lnTo>
                    <a:pt x="1475" y="239"/>
                  </a:lnTo>
                  <a:lnTo>
                    <a:pt x="1480" y="239"/>
                  </a:lnTo>
                  <a:lnTo>
                    <a:pt x="1485" y="239"/>
                  </a:lnTo>
                  <a:lnTo>
                    <a:pt x="1491" y="239"/>
                  </a:lnTo>
                  <a:lnTo>
                    <a:pt x="1496" y="239"/>
                  </a:lnTo>
                  <a:lnTo>
                    <a:pt x="1501" y="239"/>
                  </a:lnTo>
                  <a:lnTo>
                    <a:pt x="1506" y="239"/>
                  </a:lnTo>
                  <a:lnTo>
                    <a:pt x="1512" y="239"/>
                  </a:lnTo>
                  <a:lnTo>
                    <a:pt x="1517" y="239"/>
                  </a:lnTo>
                  <a:lnTo>
                    <a:pt x="1522" y="239"/>
                  </a:lnTo>
                  <a:lnTo>
                    <a:pt x="1527" y="239"/>
                  </a:lnTo>
                  <a:lnTo>
                    <a:pt x="1533" y="239"/>
                  </a:lnTo>
                  <a:lnTo>
                    <a:pt x="1538" y="239"/>
                  </a:lnTo>
                  <a:lnTo>
                    <a:pt x="1543" y="239"/>
                  </a:lnTo>
                  <a:lnTo>
                    <a:pt x="1548" y="239"/>
                  </a:lnTo>
                  <a:lnTo>
                    <a:pt x="1554" y="239"/>
                  </a:lnTo>
                  <a:lnTo>
                    <a:pt x="1559" y="239"/>
                  </a:lnTo>
                  <a:lnTo>
                    <a:pt x="1564" y="239"/>
                  </a:lnTo>
                  <a:lnTo>
                    <a:pt x="1569" y="239"/>
                  </a:lnTo>
                  <a:lnTo>
                    <a:pt x="1575" y="23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6726240" y="3870360"/>
              <a:ext cx="1919160" cy="417600"/>
            </a:xfrm>
            <a:custGeom>
              <a:avLst/>
              <a:gdLst/>
              <a:ahLst/>
              <a:rect l="l" t="t" r="r" b="b"/>
              <a:pathLst>
                <a:path w="1575" h="339">
                  <a:moveTo>
                    <a:pt x="0" y="284"/>
                  </a:moveTo>
                  <a:lnTo>
                    <a:pt x="5" y="284"/>
                  </a:lnTo>
                  <a:lnTo>
                    <a:pt x="10" y="284"/>
                  </a:lnTo>
                  <a:lnTo>
                    <a:pt x="15" y="284"/>
                  </a:lnTo>
                  <a:lnTo>
                    <a:pt x="21" y="284"/>
                  </a:lnTo>
                  <a:lnTo>
                    <a:pt x="26" y="284"/>
                  </a:lnTo>
                  <a:lnTo>
                    <a:pt x="31" y="284"/>
                  </a:lnTo>
                  <a:lnTo>
                    <a:pt x="36" y="284"/>
                  </a:lnTo>
                  <a:lnTo>
                    <a:pt x="42" y="284"/>
                  </a:lnTo>
                  <a:lnTo>
                    <a:pt x="47" y="284"/>
                  </a:lnTo>
                  <a:lnTo>
                    <a:pt x="52" y="284"/>
                  </a:lnTo>
                  <a:lnTo>
                    <a:pt x="57" y="284"/>
                  </a:lnTo>
                  <a:lnTo>
                    <a:pt x="63" y="284"/>
                  </a:lnTo>
                  <a:lnTo>
                    <a:pt x="68" y="284"/>
                  </a:lnTo>
                  <a:lnTo>
                    <a:pt x="73" y="284"/>
                  </a:lnTo>
                  <a:lnTo>
                    <a:pt x="78" y="284"/>
                  </a:lnTo>
                  <a:lnTo>
                    <a:pt x="84" y="284"/>
                  </a:lnTo>
                  <a:lnTo>
                    <a:pt x="89" y="284"/>
                  </a:lnTo>
                  <a:lnTo>
                    <a:pt x="94" y="284"/>
                  </a:lnTo>
                  <a:lnTo>
                    <a:pt x="99" y="284"/>
                  </a:lnTo>
                  <a:lnTo>
                    <a:pt x="105" y="284"/>
                  </a:lnTo>
                  <a:lnTo>
                    <a:pt x="110" y="272"/>
                  </a:lnTo>
                  <a:lnTo>
                    <a:pt x="115" y="261"/>
                  </a:lnTo>
                  <a:lnTo>
                    <a:pt x="120" y="250"/>
                  </a:lnTo>
                  <a:lnTo>
                    <a:pt x="126" y="238"/>
                  </a:lnTo>
                  <a:lnTo>
                    <a:pt x="131" y="227"/>
                  </a:lnTo>
                  <a:lnTo>
                    <a:pt x="136" y="217"/>
                  </a:lnTo>
                  <a:lnTo>
                    <a:pt x="141" y="206"/>
                  </a:lnTo>
                  <a:lnTo>
                    <a:pt x="147" y="195"/>
                  </a:lnTo>
                  <a:lnTo>
                    <a:pt x="152" y="185"/>
                  </a:lnTo>
                  <a:lnTo>
                    <a:pt x="157" y="174"/>
                  </a:lnTo>
                  <a:lnTo>
                    <a:pt x="162" y="164"/>
                  </a:lnTo>
                  <a:lnTo>
                    <a:pt x="168" y="154"/>
                  </a:lnTo>
                  <a:lnTo>
                    <a:pt x="173" y="144"/>
                  </a:lnTo>
                  <a:lnTo>
                    <a:pt x="178" y="134"/>
                  </a:lnTo>
                  <a:lnTo>
                    <a:pt x="183" y="124"/>
                  </a:lnTo>
                  <a:lnTo>
                    <a:pt x="189" y="114"/>
                  </a:lnTo>
                  <a:lnTo>
                    <a:pt x="194" y="104"/>
                  </a:lnTo>
                  <a:lnTo>
                    <a:pt x="199" y="94"/>
                  </a:lnTo>
                  <a:lnTo>
                    <a:pt x="204" y="85"/>
                  </a:lnTo>
                  <a:lnTo>
                    <a:pt x="210" y="75"/>
                  </a:lnTo>
                  <a:lnTo>
                    <a:pt x="215" y="66"/>
                  </a:lnTo>
                  <a:lnTo>
                    <a:pt x="220" y="56"/>
                  </a:lnTo>
                  <a:lnTo>
                    <a:pt x="225" y="47"/>
                  </a:lnTo>
                  <a:lnTo>
                    <a:pt x="231" y="37"/>
                  </a:lnTo>
                  <a:lnTo>
                    <a:pt x="236" y="28"/>
                  </a:lnTo>
                  <a:lnTo>
                    <a:pt x="241" y="19"/>
                  </a:lnTo>
                  <a:lnTo>
                    <a:pt x="246" y="10"/>
                  </a:lnTo>
                  <a:lnTo>
                    <a:pt x="252" y="0"/>
                  </a:lnTo>
                  <a:lnTo>
                    <a:pt x="257" y="2"/>
                  </a:lnTo>
                  <a:lnTo>
                    <a:pt x="262" y="8"/>
                  </a:lnTo>
                  <a:lnTo>
                    <a:pt x="267" y="15"/>
                  </a:lnTo>
                  <a:lnTo>
                    <a:pt x="273" y="22"/>
                  </a:lnTo>
                  <a:lnTo>
                    <a:pt x="278" y="28"/>
                  </a:lnTo>
                  <a:lnTo>
                    <a:pt x="283" y="35"/>
                  </a:lnTo>
                  <a:lnTo>
                    <a:pt x="288" y="42"/>
                  </a:lnTo>
                  <a:lnTo>
                    <a:pt x="294" y="48"/>
                  </a:lnTo>
                  <a:lnTo>
                    <a:pt x="299" y="55"/>
                  </a:lnTo>
                  <a:lnTo>
                    <a:pt x="304" y="61"/>
                  </a:lnTo>
                  <a:lnTo>
                    <a:pt x="309" y="68"/>
                  </a:lnTo>
                  <a:lnTo>
                    <a:pt x="315" y="75"/>
                  </a:lnTo>
                  <a:lnTo>
                    <a:pt x="320" y="81"/>
                  </a:lnTo>
                  <a:lnTo>
                    <a:pt x="325" y="88"/>
                  </a:lnTo>
                  <a:lnTo>
                    <a:pt x="330" y="94"/>
                  </a:lnTo>
                  <a:lnTo>
                    <a:pt x="336" y="101"/>
                  </a:lnTo>
                  <a:lnTo>
                    <a:pt x="341" y="108"/>
                  </a:lnTo>
                  <a:lnTo>
                    <a:pt x="346" y="114"/>
                  </a:lnTo>
                  <a:lnTo>
                    <a:pt x="351" y="121"/>
                  </a:lnTo>
                  <a:lnTo>
                    <a:pt x="357" y="128"/>
                  </a:lnTo>
                  <a:lnTo>
                    <a:pt x="362" y="134"/>
                  </a:lnTo>
                  <a:lnTo>
                    <a:pt x="367" y="141"/>
                  </a:lnTo>
                  <a:lnTo>
                    <a:pt x="372" y="147"/>
                  </a:lnTo>
                  <a:lnTo>
                    <a:pt x="378" y="154"/>
                  </a:lnTo>
                  <a:lnTo>
                    <a:pt x="383" y="161"/>
                  </a:lnTo>
                  <a:lnTo>
                    <a:pt x="388" y="167"/>
                  </a:lnTo>
                  <a:lnTo>
                    <a:pt x="393" y="174"/>
                  </a:lnTo>
                  <a:lnTo>
                    <a:pt x="399" y="180"/>
                  </a:lnTo>
                  <a:lnTo>
                    <a:pt x="404" y="187"/>
                  </a:lnTo>
                  <a:lnTo>
                    <a:pt x="409" y="194"/>
                  </a:lnTo>
                  <a:lnTo>
                    <a:pt x="414" y="200"/>
                  </a:lnTo>
                  <a:lnTo>
                    <a:pt x="420" y="207"/>
                  </a:lnTo>
                  <a:lnTo>
                    <a:pt x="425" y="214"/>
                  </a:lnTo>
                  <a:lnTo>
                    <a:pt x="430" y="220"/>
                  </a:lnTo>
                  <a:lnTo>
                    <a:pt x="435" y="227"/>
                  </a:lnTo>
                  <a:lnTo>
                    <a:pt x="441" y="233"/>
                  </a:lnTo>
                  <a:lnTo>
                    <a:pt x="446" y="240"/>
                  </a:lnTo>
                  <a:lnTo>
                    <a:pt x="451" y="247"/>
                  </a:lnTo>
                  <a:lnTo>
                    <a:pt x="456" y="253"/>
                  </a:lnTo>
                  <a:lnTo>
                    <a:pt x="462" y="260"/>
                  </a:lnTo>
                  <a:lnTo>
                    <a:pt x="467" y="266"/>
                  </a:lnTo>
                  <a:lnTo>
                    <a:pt x="472" y="273"/>
                  </a:lnTo>
                  <a:lnTo>
                    <a:pt x="477" y="280"/>
                  </a:lnTo>
                  <a:lnTo>
                    <a:pt x="483" y="286"/>
                  </a:lnTo>
                  <a:lnTo>
                    <a:pt x="488" y="293"/>
                  </a:lnTo>
                  <a:lnTo>
                    <a:pt x="493" y="300"/>
                  </a:lnTo>
                  <a:lnTo>
                    <a:pt x="498" y="306"/>
                  </a:lnTo>
                  <a:lnTo>
                    <a:pt x="504" y="313"/>
                  </a:lnTo>
                  <a:lnTo>
                    <a:pt x="509" y="319"/>
                  </a:lnTo>
                  <a:lnTo>
                    <a:pt x="514" y="326"/>
                  </a:lnTo>
                  <a:lnTo>
                    <a:pt x="519" y="333"/>
                  </a:lnTo>
                  <a:lnTo>
                    <a:pt x="525" y="339"/>
                  </a:lnTo>
                  <a:lnTo>
                    <a:pt x="530" y="339"/>
                  </a:lnTo>
                  <a:lnTo>
                    <a:pt x="535" y="339"/>
                  </a:lnTo>
                  <a:lnTo>
                    <a:pt x="540" y="339"/>
                  </a:lnTo>
                  <a:lnTo>
                    <a:pt x="546" y="339"/>
                  </a:lnTo>
                  <a:lnTo>
                    <a:pt x="551" y="339"/>
                  </a:lnTo>
                  <a:lnTo>
                    <a:pt x="556" y="339"/>
                  </a:lnTo>
                  <a:lnTo>
                    <a:pt x="561" y="339"/>
                  </a:lnTo>
                  <a:lnTo>
                    <a:pt x="567" y="339"/>
                  </a:lnTo>
                  <a:lnTo>
                    <a:pt x="572" y="339"/>
                  </a:lnTo>
                  <a:lnTo>
                    <a:pt x="577" y="339"/>
                  </a:lnTo>
                  <a:lnTo>
                    <a:pt x="582" y="339"/>
                  </a:lnTo>
                  <a:lnTo>
                    <a:pt x="588" y="339"/>
                  </a:lnTo>
                  <a:lnTo>
                    <a:pt x="593" y="339"/>
                  </a:lnTo>
                  <a:lnTo>
                    <a:pt x="598" y="339"/>
                  </a:lnTo>
                  <a:lnTo>
                    <a:pt x="603" y="339"/>
                  </a:lnTo>
                  <a:lnTo>
                    <a:pt x="609" y="339"/>
                  </a:lnTo>
                  <a:lnTo>
                    <a:pt x="614" y="339"/>
                  </a:lnTo>
                  <a:lnTo>
                    <a:pt x="619" y="339"/>
                  </a:lnTo>
                  <a:lnTo>
                    <a:pt x="624" y="339"/>
                  </a:lnTo>
                  <a:lnTo>
                    <a:pt x="630" y="339"/>
                  </a:lnTo>
                  <a:lnTo>
                    <a:pt x="635" y="339"/>
                  </a:lnTo>
                  <a:lnTo>
                    <a:pt x="640" y="339"/>
                  </a:lnTo>
                  <a:lnTo>
                    <a:pt x="645" y="339"/>
                  </a:lnTo>
                  <a:lnTo>
                    <a:pt x="651" y="339"/>
                  </a:lnTo>
                  <a:lnTo>
                    <a:pt x="656" y="339"/>
                  </a:lnTo>
                  <a:lnTo>
                    <a:pt x="661" y="339"/>
                  </a:lnTo>
                  <a:lnTo>
                    <a:pt x="666" y="339"/>
                  </a:lnTo>
                  <a:lnTo>
                    <a:pt x="672" y="339"/>
                  </a:lnTo>
                  <a:lnTo>
                    <a:pt x="677" y="339"/>
                  </a:lnTo>
                  <a:lnTo>
                    <a:pt x="682" y="339"/>
                  </a:lnTo>
                  <a:lnTo>
                    <a:pt x="687" y="339"/>
                  </a:lnTo>
                  <a:lnTo>
                    <a:pt x="693" y="339"/>
                  </a:lnTo>
                  <a:lnTo>
                    <a:pt x="698" y="339"/>
                  </a:lnTo>
                  <a:lnTo>
                    <a:pt x="703" y="339"/>
                  </a:lnTo>
                  <a:lnTo>
                    <a:pt x="708" y="339"/>
                  </a:lnTo>
                  <a:lnTo>
                    <a:pt x="714" y="339"/>
                  </a:lnTo>
                  <a:lnTo>
                    <a:pt x="719" y="339"/>
                  </a:lnTo>
                  <a:lnTo>
                    <a:pt x="724" y="339"/>
                  </a:lnTo>
                  <a:lnTo>
                    <a:pt x="729" y="339"/>
                  </a:lnTo>
                  <a:lnTo>
                    <a:pt x="735" y="339"/>
                  </a:lnTo>
                  <a:lnTo>
                    <a:pt x="740" y="339"/>
                  </a:lnTo>
                  <a:lnTo>
                    <a:pt x="745" y="339"/>
                  </a:lnTo>
                  <a:lnTo>
                    <a:pt x="750" y="339"/>
                  </a:lnTo>
                  <a:lnTo>
                    <a:pt x="756" y="339"/>
                  </a:lnTo>
                  <a:lnTo>
                    <a:pt x="761" y="339"/>
                  </a:lnTo>
                  <a:lnTo>
                    <a:pt x="766" y="339"/>
                  </a:lnTo>
                  <a:lnTo>
                    <a:pt x="771" y="339"/>
                  </a:lnTo>
                  <a:lnTo>
                    <a:pt x="777" y="339"/>
                  </a:lnTo>
                  <a:lnTo>
                    <a:pt x="782" y="339"/>
                  </a:lnTo>
                  <a:lnTo>
                    <a:pt x="787" y="339"/>
                  </a:lnTo>
                  <a:lnTo>
                    <a:pt x="792" y="339"/>
                  </a:lnTo>
                  <a:lnTo>
                    <a:pt x="798" y="339"/>
                  </a:lnTo>
                  <a:lnTo>
                    <a:pt x="803" y="339"/>
                  </a:lnTo>
                  <a:lnTo>
                    <a:pt x="808" y="339"/>
                  </a:lnTo>
                  <a:lnTo>
                    <a:pt x="813" y="339"/>
                  </a:lnTo>
                  <a:lnTo>
                    <a:pt x="819" y="339"/>
                  </a:lnTo>
                  <a:lnTo>
                    <a:pt x="824" y="339"/>
                  </a:lnTo>
                  <a:lnTo>
                    <a:pt x="829" y="339"/>
                  </a:lnTo>
                  <a:lnTo>
                    <a:pt x="834" y="339"/>
                  </a:lnTo>
                  <a:lnTo>
                    <a:pt x="840" y="339"/>
                  </a:lnTo>
                  <a:lnTo>
                    <a:pt x="845" y="339"/>
                  </a:lnTo>
                  <a:lnTo>
                    <a:pt x="850" y="339"/>
                  </a:lnTo>
                  <a:lnTo>
                    <a:pt x="855" y="339"/>
                  </a:lnTo>
                  <a:lnTo>
                    <a:pt x="861" y="339"/>
                  </a:lnTo>
                  <a:lnTo>
                    <a:pt x="866" y="339"/>
                  </a:lnTo>
                  <a:lnTo>
                    <a:pt x="871" y="339"/>
                  </a:lnTo>
                  <a:lnTo>
                    <a:pt x="876" y="339"/>
                  </a:lnTo>
                  <a:lnTo>
                    <a:pt x="882" y="339"/>
                  </a:lnTo>
                  <a:lnTo>
                    <a:pt x="887" y="339"/>
                  </a:lnTo>
                  <a:lnTo>
                    <a:pt x="892" y="339"/>
                  </a:lnTo>
                  <a:lnTo>
                    <a:pt x="897" y="339"/>
                  </a:lnTo>
                  <a:lnTo>
                    <a:pt x="903" y="339"/>
                  </a:lnTo>
                  <a:lnTo>
                    <a:pt x="908" y="339"/>
                  </a:lnTo>
                  <a:lnTo>
                    <a:pt x="913" y="339"/>
                  </a:lnTo>
                  <a:lnTo>
                    <a:pt x="918" y="339"/>
                  </a:lnTo>
                  <a:lnTo>
                    <a:pt x="924" y="339"/>
                  </a:lnTo>
                  <a:lnTo>
                    <a:pt x="929" y="339"/>
                  </a:lnTo>
                  <a:lnTo>
                    <a:pt x="934" y="339"/>
                  </a:lnTo>
                  <a:lnTo>
                    <a:pt x="939" y="339"/>
                  </a:lnTo>
                  <a:lnTo>
                    <a:pt x="945" y="339"/>
                  </a:lnTo>
                  <a:lnTo>
                    <a:pt x="950" y="339"/>
                  </a:lnTo>
                  <a:lnTo>
                    <a:pt x="955" y="339"/>
                  </a:lnTo>
                  <a:lnTo>
                    <a:pt x="960" y="339"/>
                  </a:lnTo>
                  <a:lnTo>
                    <a:pt x="966" y="339"/>
                  </a:lnTo>
                  <a:lnTo>
                    <a:pt x="971" y="339"/>
                  </a:lnTo>
                  <a:lnTo>
                    <a:pt x="976" y="339"/>
                  </a:lnTo>
                  <a:lnTo>
                    <a:pt x="981" y="339"/>
                  </a:lnTo>
                  <a:lnTo>
                    <a:pt x="987" y="339"/>
                  </a:lnTo>
                  <a:lnTo>
                    <a:pt x="992" y="339"/>
                  </a:lnTo>
                  <a:lnTo>
                    <a:pt x="997" y="339"/>
                  </a:lnTo>
                  <a:lnTo>
                    <a:pt x="1002" y="339"/>
                  </a:lnTo>
                  <a:lnTo>
                    <a:pt x="1008" y="339"/>
                  </a:lnTo>
                  <a:lnTo>
                    <a:pt x="1013" y="339"/>
                  </a:lnTo>
                  <a:lnTo>
                    <a:pt x="1018" y="339"/>
                  </a:lnTo>
                  <a:lnTo>
                    <a:pt x="1023" y="339"/>
                  </a:lnTo>
                  <a:lnTo>
                    <a:pt x="1029" y="339"/>
                  </a:lnTo>
                  <a:lnTo>
                    <a:pt x="1034" y="339"/>
                  </a:lnTo>
                  <a:lnTo>
                    <a:pt x="1039" y="339"/>
                  </a:lnTo>
                  <a:lnTo>
                    <a:pt x="1044" y="339"/>
                  </a:lnTo>
                  <a:lnTo>
                    <a:pt x="1050" y="339"/>
                  </a:lnTo>
                  <a:lnTo>
                    <a:pt x="1055" y="339"/>
                  </a:lnTo>
                  <a:lnTo>
                    <a:pt x="1060" y="339"/>
                  </a:lnTo>
                  <a:lnTo>
                    <a:pt x="1065" y="339"/>
                  </a:lnTo>
                  <a:lnTo>
                    <a:pt x="1071" y="339"/>
                  </a:lnTo>
                  <a:lnTo>
                    <a:pt x="1076" y="339"/>
                  </a:lnTo>
                  <a:lnTo>
                    <a:pt x="1081" y="339"/>
                  </a:lnTo>
                  <a:lnTo>
                    <a:pt x="1086" y="339"/>
                  </a:lnTo>
                  <a:lnTo>
                    <a:pt x="1092" y="339"/>
                  </a:lnTo>
                  <a:lnTo>
                    <a:pt x="1097" y="339"/>
                  </a:lnTo>
                  <a:lnTo>
                    <a:pt x="1102" y="339"/>
                  </a:lnTo>
                  <a:lnTo>
                    <a:pt x="1107" y="339"/>
                  </a:lnTo>
                  <a:lnTo>
                    <a:pt x="1113" y="339"/>
                  </a:lnTo>
                  <a:lnTo>
                    <a:pt x="1118" y="339"/>
                  </a:lnTo>
                  <a:lnTo>
                    <a:pt x="1123" y="339"/>
                  </a:lnTo>
                  <a:lnTo>
                    <a:pt x="1128" y="339"/>
                  </a:lnTo>
                  <a:lnTo>
                    <a:pt x="1134" y="339"/>
                  </a:lnTo>
                  <a:lnTo>
                    <a:pt x="1139" y="339"/>
                  </a:lnTo>
                  <a:lnTo>
                    <a:pt x="1144" y="339"/>
                  </a:lnTo>
                  <a:lnTo>
                    <a:pt x="1149" y="339"/>
                  </a:lnTo>
                  <a:lnTo>
                    <a:pt x="1155" y="339"/>
                  </a:lnTo>
                  <a:lnTo>
                    <a:pt x="1160" y="339"/>
                  </a:lnTo>
                  <a:lnTo>
                    <a:pt x="1165" y="339"/>
                  </a:lnTo>
                  <a:lnTo>
                    <a:pt x="1170" y="339"/>
                  </a:lnTo>
                  <a:lnTo>
                    <a:pt x="1176" y="339"/>
                  </a:lnTo>
                  <a:lnTo>
                    <a:pt x="1181" y="339"/>
                  </a:lnTo>
                  <a:lnTo>
                    <a:pt x="1186" y="339"/>
                  </a:lnTo>
                  <a:lnTo>
                    <a:pt x="1191" y="339"/>
                  </a:lnTo>
                  <a:lnTo>
                    <a:pt x="1197" y="339"/>
                  </a:lnTo>
                  <a:lnTo>
                    <a:pt x="1202" y="339"/>
                  </a:lnTo>
                  <a:lnTo>
                    <a:pt x="1207" y="339"/>
                  </a:lnTo>
                  <a:lnTo>
                    <a:pt x="1212" y="339"/>
                  </a:lnTo>
                  <a:lnTo>
                    <a:pt x="1218" y="339"/>
                  </a:lnTo>
                  <a:lnTo>
                    <a:pt x="1223" y="339"/>
                  </a:lnTo>
                  <a:lnTo>
                    <a:pt x="1228" y="339"/>
                  </a:lnTo>
                  <a:lnTo>
                    <a:pt x="1233" y="339"/>
                  </a:lnTo>
                  <a:lnTo>
                    <a:pt x="1239" y="339"/>
                  </a:lnTo>
                  <a:lnTo>
                    <a:pt x="1244" y="339"/>
                  </a:lnTo>
                  <a:lnTo>
                    <a:pt x="1249" y="339"/>
                  </a:lnTo>
                  <a:lnTo>
                    <a:pt x="1254" y="339"/>
                  </a:lnTo>
                  <a:lnTo>
                    <a:pt x="1260" y="339"/>
                  </a:lnTo>
                  <a:lnTo>
                    <a:pt x="1265" y="339"/>
                  </a:lnTo>
                  <a:lnTo>
                    <a:pt x="1270" y="339"/>
                  </a:lnTo>
                  <a:lnTo>
                    <a:pt x="1275" y="339"/>
                  </a:lnTo>
                  <a:lnTo>
                    <a:pt x="1281" y="339"/>
                  </a:lnTo>
                  <a:lnTo>
                    <a:pt x="1286" y="339"/>
                  </a:lnTo>
                  <a:lnTo>
                    <a:pt x="1291" y="339"/>
                  </a:lnTo>
                  <a:lnTo>
                    <a:pt x="1296" y="339"/>
                  </a:lnTo>
                  <a:lnTo>
                    <a:pt x="1302" y="339"/>
                  </a:lnTo>
                  <a:lnTo>
                    <a:pt x="1307" y="339"/>
                  </a:lnTo>
                  <a:lnTo>
                    <a:pt x="1312" y="339"/>
                  </a:lnTo>
                  <a:lnTo>
                    <a:pt x="1317" y="339"/>
                  </a:lnTo>
                  <a:lnTo>
                    <a:pt x="1323" y="339"/>
                  </a:lnTo>
                  <a:lnTo>
                    <a:pt x="1328" y="339"/>
                  </a:lnTo>
                  <a:lnTo>
                    <a:pt x="1333" y="339"/>
                  </a:lnTo>
                  <a:lnTo>
                    <a:pt x="1338" y="339"/>
                  </a:lnTo>
                  <a:lnTo>
                    <a:pt x="1344" y="339"/>
                  </a:lnTo>
                  <a:lnTo>
                    <a:pt x="1349" y="339"/>
                  </a:lnTo>
                  <a:lnTo>
                    <a:pt x="1354" y="339"/>
                  </a:lnTo>
                  <a:lnTo>
                    <a:pt x="1359" y="339"/>
                  </a:lnTo>
                  <a:lnTo>
                    <a:pt x="1365" y="339"/>
                  </a:lnTo>
                  <a:lnTo>
                    <a:pt x="1370" y="339"/>
                  </a:lnTo>
                  <a:lnTo>
                    <a:pt x="1375" y="339"/>
                  </a:lnTo>
                  <a:lnTo>
                    <a:pt x="1380" y="339"/>
                  </a:lnTo>
                  <a:lnTo>
                    <a:pt x="1386" y="339"/>
                  </a:lnTo>
                  <a:lnTo>
                    <a:pt x="1391" y="339"/>
                  </a:lnTo>
                  <a:lnTo>
                    <a:pt x="1396" y="339"/>
                  </a:lnTo>
                  <a:lnTo>
                    <a:pt x="1401" y="339"/>
                  </a:lnTo>
                  <a:lnTo>
                    <a:pt x="1407" y="339"/>
                  </a:lnTo>
                  <a:lnTo>
                    <a:pt x="1412" y="339"/>
                  </a:lnTo>
                  <a:lnTo>
                    <a:pt x="1417" y="339"/>
                  </a:lnTo>
                  <a:lnTo>
                    <a:pt x="1422" y="339"/>
                  </a:lnTo>
                  <a:lnTo>
                    <a:pt x="1428" y="339"/>
                  </a:lnTo>
                  <a:lnTo>
                    <a:pt x="1433" y="339"/>
                  </a:lnTo>
                  <a:lnTo>
                    <a:pt x="1438" y="339"/>
                  </a:lnTo>
                  <a:lnTo>
                    <a:pt x="1443" y="339"/>
                  </a:lnTo>
                  <a:lnTo>
                    <a:pt x="1449" y="339"/>
                  </a:lnTo>
                  <a:lnTo>
                    <a:pt x="1454" y="339"/>
                  </a:lnTo>
                  <a:lnTo>
                    <a:pt x="1459" y="339"/>
                  </a:lnTo>
                  <a:lnTo>
                    <a:pt x="1464" y="339"/>
                  </a:lnTo>
                  <a:lnTo>
                    <a:pt x="1470" y="339"/>
                  </a:lnTo>
                  <a:lnTo>
                    <a:pt x="1475" y="339"/>
                  </a:lnTo>
                  <a:lnTo>
                    <a:pt x="1480" y="339"/>
                  </a:lnTo>
                  <a:lnTo>
                    <a:pt x="1485" y="339"/>
                  </a:lnTo>
                  <a:lnTo>
                    <a:pt x="1491" y="339"/>
                  </a:lnTo>
                  <a:lnTo>
                    <a:pt x="1496" y="339"/>
                  </a:lnTo>
                  <a:lnTo>
                    <a:pt x="1501" y="339"/>
                  </a:lnTo>
                  <a:lnTo>
                    <a:pt x="1506" y="339"/>
                  </a:lnTo>
                  <a:lnTo>
                    <a:pt x="1512" y="339"/>
                  </a:lnTo>
                  <a:lnTo>
                    <a:pt x="1517" y="339"/>
                  </a:lnTo>
                  <a:lnTo>
                    <a:pt x="1522" y="339"/>
                  </a:lnTo>
                  <a:lnTo>
                    <a:pt x="1527" y="339"/>
                  </a:lnTo>
                  <a:lnTo>
                    <a:pt x="1533" y="339"/>
                  </a:lnTo>
                  <a:lnTo>
                    <a:pt x="1538" y="339"/>
                  </a:lnTo>
                  <a:lnTo>
                    <a:pt x="1543" y="339"/>
                  </a:lnTo>
                  <a:lnTo>
                    <a:pt x="1548" y="339"/>
                  </a:lnTo>
                  <a:lnTo>
                    <a:pt x="1554" y="339"/>
                  </a:lnTo>
                  <a:lnTo>
                    <a:pt x="1559" y="339"/>
                  </a:lnTo>
                  <a:lnTo>
                    <a:pt x="1564" y="339"/>
                  </a:lnTo>
                  <a:lnTo>
                    <a:pt x="1569" y="339"/>
                  </a:lnTo>
                  <a:lnTo>
                    <a:pt x="1575" y="33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6726240" y="3776040"/>
              <a:ext cx="1919160" cy="560520"/>
            </a:xfrm>
            <a:custGeom>
              <a:avLst/>
              <a:gdLst/>
              <a:ahLst/>
              <a:rect l="l" t="t" r="r" b="b"/>
              <a:pathLst>
                <a:path w="1575" h="454">
                  <a:moveTo>
                    <a:pt x="0" y="323"/>
                  </a:moveTo>
                  <a:lnTo>
                    <a:pt x="5" y="323"/>
                  </a:lnTo>
                  <a:lnTo>
                    <a:pt x="10" y="323"/>
                  </a:lnTo>
                  <a:lnTo>
                    <a:pt x="15" y="323"/>
                  </a:lnTo>
                  <a:lnTo>
                    <a:pt x="21" y="323"/>
                  </a:lnTo>
                  <a:lnTo>
                    <a:pt x="26" y="323"/>
                  </a:lnTo>
                  <a:lnTo>
                    <a:pt x="31" y="323"/>
                  </a:lnTo>
                  <a:lnTo>
                    <a:pt x="36" y="323"/>
                  </a:lnTo>
                  <a:lnTo>
                    <a:pt x="42" y="323"/>
                  </a:lnTo>
                  <a:lnTo>
                    <a:pt x="47" y="323"/>
                  </a:lnTo>
                  <a:lnTo>
                    <a:pt x="52" y="323"/>
                  </a:lnTo>
                  <a:lnTo>
                    <a:pt x="57" y="323"/>
                  </a:lnTo>
                  <a:lnTo>
                    <a:pt x="63" y="323"/>
                  </a:lnTo>
                  <a:lnTo>
                    <a:pt x="68" y="323"/>
                  </a:lnTo>
                  <a:lnTo>
                    <a:pt x="73" y="323"/>
                  </a:lnTo>
                  <a:lnTo>
                    <a:pt x="78" y="323"/>
                  </a:lnTo>
                  <a:lnTo>
                    <a:pt x="84" y="323"/>
                  </a:lnTo>
                  <a:lnTo>
                    <a:pt x="89" y="323"/>
                  </a:lnTo>
                  <a:lnTo>
                    <a:pt x="94" y="323"/>
                  </a:lnTo>
                  <a:lnTo>
                    <a:pt x="99" y="323"/>
                  </a:lnTo>
                  <a:lnTo>
                    <a:pt x="105" y="323"/>
                  </a:lnTo>
                  <a:lnTo>
                    <a:pt x="110" y="303"/>
                  </a:lnTo>
                  <a:lnTo>
                    <a:pt x="115" y="284"/>
                  </a:lnTo>
                  <a:lnTo>
                    <a:pt x="120" y="265"/>
                  </a:lnTo>
                  <a:lnTo>
                    <a:pt x="126" y="247"/>
                  </a:lnTo>
                  <a:lnTo>
                    <a:pt x="131" y="229"/>
                  </a:lnTo>
                  <a:lnTo>
                    <a:pt x="136" y="211"/>
                  </a:lnTo>
                  <a:lnTo>
                    <a:pt x="141" y="194"/>
                  </a:lnTo>
                  <a:lnTo>
                    <a:pt x="147" y="177"/>
                  </a:lnTo>
                  <a:lnTo>
                    <a:pt x="152" y="161"/>
                  </a:lnTo>
                  <a:lnTo>
                    <a:pt x="157" y="145"/>
                  </a:lnTo>
                  <a:lnTo>
                    <a:pt x="162" y="129"/>
                  </a:lnTo>
                  <a:lnTo>
                    <a:pt x="168" y="114"/>
                  </a:lnTo>
                  <a:lnTo>
                    <a:pt x="173" y="98"/>
                  </a:lnTo>
                  <a:lnTo>
                    <a:pt x="178" y="83"/>
                  </a:lnTo>
                  <a:lnTo>
                    <a:pt x="183" y="69"/>
                  </a:lnTo>
                  <a:lnTo>
                    <a:pt x="189" y="54"/>
                  </a:lnTo>
                  <a:lnTo>
                    <a:pt x="194" y="40"/>
                  </a:lnTo>
                  <a:lnTo>
                    <a:pt x="199" y="26"/>
                  </a:lnTo>
                  <a:lnTo>
                    <a:pt x="204" y="13"/>
                  </a:lnTo>
                  <a:lnTo>
                    <a:pt x="210" y="0"/>
                  </a:lnTo>
                  <a:lnTo>
                    <a:pt x="215" y="8"/>
                  </a:lnTo>
                  <a:lnTo>
                    <a:pt x="220" y="15"/>
                  </a:lnTo>
                  <a:lnTo>
                    <a:pt x="225" y="23"/>
                  </a:lnTo>
                  <a:lnTo>
                    <a:pt x="231" y="30"/>
                  </a:lnTo>
                  <a:lnTo>
                    <a:pt x="236" y="38"/>
                  </a:lnTo>
                  <a:lnTo>
                    <a:pt x="241" y="46"/>
                  </a:lnTo>
                  <a:lnTo>
                    <a:pt x="246" y="53"/>
                  </a:lnTo>
                  <a:lnTo>
                    <a:pt x="252" y="61"/>
                  </a:lnTo>
                  <a:lnTo>
                    <a:pt x="257" y="68"/>
                  </a:lnTo>
                  <a:lnTo>
                    <a:pt x="262" y="76"/>
                  </a:lnTo>
                  <a:lnTo>
                    <a:pt x="267" y="83"/>
                  </a:lnTo>
                  <a:lnTo>
                    <a:pt x="273" y="91"/>
                  </a:lnTo>
                  <a:lnTo>
                    <a:pt x="278" y="98"/>
                  </a:lnTo>
                  <a:lnTo>
                    <a:pt x="283" y="106"/>
                  </a:lnTo>
                  <a:lnTo>
                    <a:pt x="288" y="114"/>
                  </a:lnTo>
                  <a:lnTo>
                    <a:pt x="294" y="121"/>
                  </a:lnTo>
                  <a:lnTo>
                    <a:pt x="299" y="129"/>
                  </a:lnTo>
                  <a:lnTo>
                    <a:pt x="304" y="136"/>
                  </a:lnTo>
                  <a:lnTo>
                    <a:pt x="309" y="144"/>
                  </a:lnTo>
                  <a:lnTo>
                    <a:pt x="315" y="151"/>
                  </a:lnTo>
                  <a:lnTo>
                    <a:pt x="320" y="159"/>
                  </a:lnTo>
                  <a:lnTo>
                    <a:pt x="325" y="167"/>
                  </a:lnTo>
                  <a:lnTo>
                    <a:pt x="330" y="174"/>
                  </a:lnTo>
                  <a:lnTo>
                    <a:pt x="336" y="182"/>
                  </a:lnTo>
                  <a:lnTo>
                    <a:pt x="341" y="189"/>
                  </a:lnTo>
                  <a:lnTo>
                    <a:pt x="346" y="197"/>
                  </a:lnTo>
                  <a:lnTo>
                    <a:pt x="351" y="204"/>
                  </a:lnTo>
                  <a:lnTo>
                    <a:pt x="357" y="212"/>
                  </a:lnTo>
                  <a:lnTo>
                    <a:pt x="362" y="219"/>
                  </a:lnTo>
                  <a:lnTo>
                    <a:pt x="367" y="227"/>
                  </a:lnTo>
                  <a:lnTo>
                    <a:pt x="372" y="235"/>
                  </a:lnTo>
                  <a:lnTo>
                    <a:pt x="378" y="242"/>
                  </a:lnTo>
                  <a:lnTo>
                    <a:pt x="383" y="250"/>
                  </a:lnTo>
                  <a:lnTo>
                    <a:pt x="388" y="257"/>
                  </a:lnTo>
                  <a:lnTo>
                    <a:pt x="393" y="265"/>
                  </a:lnTo>
                  <a:lnTo>
                    <a:pt x="399" y="272"/>
                  </a:lnTo>
                  <a:lnTo>
                    <a:pt x="404" y="280"/>
                  </a:lnTo>
                  <a:lnTo>
                    <a:pt x="409" y="287"/>
                  </a:lnTo>
                  <a:lnTo>
                    <a:pt x="414" y="295"/>
                  </a:lnTo>
                  <a:lnTo>
                    <a:pt x="420" y="303"/>
                  </a:lnTo>
                  <a:lnTo>
                    <a:pt x="425" y="310"/>
                  </a:lnTo>
                  <a:lnTo>
                    <a:pt x="430" y="318"/>
                  </a:lnTo>
                  <a:lnTo>
                    <a:pt x="435" y="325"/>
                  </a:lnTo>
                  <a:lnTo>
                    <a:pt x="441" y="333"/>
                  </a:lnTo>
                  <a:lnTo>
                    <a:pt x="446" y="340"/>
                  </a:lnTo>
                  <a:lnTo>
                    <a:pt x="451" y="348"/>
                  </a:lnTo>
                  <a:lnTo>
                    <a:pt x="456" y="356"/>
                  </a:lnTo>
                  <a:lnTo>
                    <a:pt x="462" y="363"/>
                  </a:lnTo>
                  <a:lnTo>
                    <a:pt x="467" y="371"/>
                  </a:lnTo>
                  <a:lnTo>
                    <a:pt x="472" y="378"/>
                  </a:lnTo>
                  <a:lnTo>
                    <a:pt x="477" y="386"/>
                  </a:lnTo>
                  <a:lnTo>
                    <a:pt x="483" y="393"/>
                  </a:lnTo>
                  <a:lnTo>
                    <a:pt x="488" y="401"/>
                  </a:lnTo>
                  <a:lnTo>
                    <a:pt x="493" y="408"/>
                  </a:lnTo>
                  <a:lnTo>
                    <a:pt x="498" y="416"/>
                  </a:lnTo>
                  <a:lnTo>
                    <a:pt x="504" y="424"/>
                  </a:lnTo>
                  <a:lnTo>
                    <a:pt x="509" y="431"/>
                  </a:lnTo>
                  <a:lnTo>
                    <a:pt x="514" y="439"/>
                  </a:lnTo>
                  <a:lnTo>
                    <a:pt x="519" y="446"/>
                  </a:lnTo>
                  <a:lnTo>
                    <a:pt x="525" y="454"/>
                  </a:lnTo>
                  <a:lnTo>
                    <a:pt x="530" y="454"/>
                  </a:lnTo>
                  <a:lnTo>
                    <a:pt x="535" y="454"/>
                  </a:lnTo>
                  <a:lnTo>
                    <a:pt x="540" y="454"/>
                  </a:lnTo>
                  <a:lnTo>
                    <a:pt x="546" y="454"/>
                  </a:lnTo>
                  <a:lnTo>
                    <a:pt x="551" y="454"/>
                  </a:lnTo>
                  <a:lnTo>
                    <a:pt x="556" y="454"/>
                  </a:lnTo>
                  <a:lnTo>
                    <a:pt x="561" y="454"/>
                  </a:lnTo>
                  <a:lnTo>
                    <a:pt x="567" y="454"/>
                  </a:lnTo>
                  <a:lnTo>
                    <a:pt x="572" y="454"/>
                  </a:lnTo>
                  <a:lnTo>
                    <a:pt x="577" y="454"/>
                  </a:lnTo>
                  <a:lnTo>
                    <a:pt x="582" y="454"/>
                  </a:lnTo>
                  <a:lnTo>
                    <a:pt x="588" y="454"/>
                  </a:lnTo>
                  <a:lnTo>
                    <a:pt x="593" y="454"/>
                  </a:lnTo>
                  <a:lnTo>
                    <a:pt x="598" y="454"/>
                  </a:lnTo>
                  <a:lnTo>
                    <a:pt x="603" y="454"/>
                  </a:lnTo>
                  <a:lnTo>
                    <a:pt x="609" y="454"/>
                  </a:lnTo>
                  <a:lnTo>
                    <a:pt x="614" y="454"/>
                  </a:lnTo>
                  <a:lnTo>
                    <a:pt x="619" y="454"/>
                  </a:lnTo>
                  <a:lnTo>
                    <a:pt x="624" y="454"/>
                  </a:lnTo>
                  <a:lnTo>
                    <a:pt x="630" y="454"/>
                  </a:lnTo>
                  <a:lnTo>
                    <a:pt x="635" y="454"/>
                  </a:lnTo>
                  <a:lnTo>
                    <a:pt x="640" y="454"/>
                  </a:lnTo>
                  <a:lnTo>
                    <a:pt x="645" y="454"/>
                  </a:lnTo>
                  <a:lnTo>
                    <a:pt x="651" y="454"/>
                  </a:lnTo>
                  <a:lnTo>
                    <a:pt x="656" y="454"/>
                  </a:lnTo>
                  <a:lnTo>
                    <a:pt x="661" y="454"/>
                  </a:lnTo>
                  <a:lnTo>
                    <a:pt x="666" y="454"/>
                  </a:lnTo>
                  <a:lnTo>
                    <a:pt x="672" y="454"/>
                  </a:lnTo>
                  <a:lnTo>
                    <a:pt x="677" y="454"/>
                  </a:lnTo>
                  <a:lnTo>
                    <a:pt x="682" y="454"/>
                  </a:lnTo>
                  <a:lnTo>
                    <a:pt x="687" y="454"/>
                  </a:lnTo>
                  <a:lnTo>
                    <a:pt x="693" y="454"/>
                  </a:lnTo>
                  <a:lnTo>
                    <a:pt x="698" y="454"/>
                  </a:lnTo>
                  <a:lnTo>
                    <a:pt x="703" y="454"/>
                  </a:lnTo>
                  <a:lnTo>
                    <a:pt x="708" y="454"/>
                  </a:lnTo>
                  <a:lnTo>
                    <a:pt x="714" y="454"/>
                  </a:lnTo>
                  <a:lnTo>
                    <a:pt x="719" y="454"/>
                  </a:lnTo>
                  <a:lnTo>
                    <a:pt x="724" y="454"/>
                  </a:lnTo>
                  <a:lnTo>
                    <a:pt x="729" y="454"/>
                  </a:lnTo>
                  <a:lnTo>
                    <a:pt x="735" y="454"/>
                  </a:lnTo>
                  <a:lnTo>
                    <a:pt x="740" y="454"/>
                  </a:lnTo>
                  <a:lnTo>
                    <a:pt x="745" y="454"/>
                  </a:lnTo>
                  <a:lnTo>
                    <a:pt x="750" y="454"/>
                  </a:lnTo>
                  <a:lnTo>
                    <a:pt x="756" y="454"/>
                  </a:lnTo>
                  <a:lnTo>
                    <a:pt x="761" y="454"/>
                  </a:lnTo>
                  <a:lnTo>
                    <a:pt x="766" y="454"/>
                  </a:lnTo>
                  <a:lnTo>
                    <a:pt x="771" y="454"/>
                  </a:lnTo>
                  <a:lnTo>
                    <a:pt x="777" y="454"/>
                  </a:lnTo>
                  <a:lnTo>
                    <a:pt x="782" y="454"/>
                  </a:lnTo>
                  <a:lnTo>
                    <a:pt x="787" y="454"/>
                  </a:lnTo>
                  <a:lnTo>
                    <a:pt x="792" y="454"/>
                  </a:lnTo>
                  <a:lnTo>
                    <a:pt x="798" y="454"/>
                  </a:lnTo>
                  <a:lnTo>
                    <a:pt x="803" y="454"/>
                  </a:lnTo>
                  <a:lnTo>
                    <a:pt x="808" y="454"/>
                  </a:lnTo>
                  <a:lnTo>
                    <a:pt x="813" y="454"/>
                  </a:lnTo>
                  <a:lnTo>
                    <a:pt x="819" y="454"/>
                  </a:lnTo>
                  <a:lnTo>
                    <a:pt x="824" y="454"/>
                  </a:lnTo>
                  <a:lnTo>
                    <a:pt x="829" y="454"/>
                  </a:lnTo>
                  <a:lnTo>
                    <a:pt x="834" y="454"/>
                  </a:lnTo>
                  <a:lnTo>
                    <a:pt x="840" y="454"/>
                  </a:lnTo>
                  <a:lnTo>
                    <a:pt x="845" y="454"/>
                  </a:lnTo>
                  <a:lnTo>
                    <a:pt x="850" y="454"/>
                  </a:lnTo>
                  <a:lnTo>
                    <a:pt x="855" y="454"/>
                  </a:lnTo>
                  <a:lnTo>
                    <a:pt x="861" y="454"/>
                  </a:lnTo>
                  <a:lnTo>
                    <a:pt x="866" y="454"/>
                  </a:lnTo>
                  <a:lnTo>
                    <a:pt x="871" y="454"/>
                  </a:lnTo>
                  <a:lnTo>
                    <a:pt x="876" y="454"/>
                  </a:lnTo>
                  <a:lnTo>
                    <a:pt x="882" y="454"/>
                  </a:lnTo>
                  <a:lnTo>
                    <a:pt x="887" y="454"/>
                  </a:lnTo>
                  <a:lnTo>
                    <a:pt x="892" y="454"/>
                  </a:lnTo>
                  <a:lnTo>
                    <a:pt x="897" y="454"/>
                  </a:lnTo>
                  <a:lnTo>
                    <a:pt x="903" y="454"/>
                  </a:lnTo>
                  <a:lnTo>
                    <a:pt x="908" y="454"/>
                  </a:lnTo>
                  <a:lnTo>
                    <a:pt x="913" y="454"/>
                  </a:lnTo>
                  <a:lnTo>
                    <a:pt x="918" y="454"/>
                  </a:lnTo>
                  <a:lnTo>
                    <a:pt x="924" y="454"/>
                  </a:lnTo>
                  <a:lnTo>
                    <a:pt x="929" y="454"/>
                  </a:lnTo>
                  <a:lnTo>
                    <a:pt x="934" y="454"/>
                  </a:lnTo>
                  <a:lnTo>
                    <a:pt x="939" y="454"/>
                  </a:lnTo>
                  <a:lnTo>
                    <a:pt x="945" y="454"/>
                  </a:lnTo>
                  <a:lnTo>
                    <a:pt x="950" y="454"/>
                  </a:lnTo>
                  <a:lnTo>
                    <a:pt x="955" y="454"/>
                  </a:lnTo>
                  <a:lnTo>
                    <a:pt x="960" y="454"/>
                  </a:lnTo>
                  <a:lnTo>
                    <a:pt x="966" y="454"/>
                  </a:lnTo>
                  <a:lnTo>
                    <a:pt x="971" y="454"/>
                  </a:lnTo>
                  <a:lnTo>
                    <a:pt x="976" y="454"/>
                  </a:lnTo>
                  <a:lnTo>
                    <a:pt x="981" y="454"/>
                  </a:lnTo>
                  <a:lnTo>
                    <a:pt x="987" y="454"/>
                  </a:lnTo>
                  <a:lnTo>
                    <a:pt x="992" y="454"/>
                  </a:lnTo>
                  <a:lnTo>
                    <a:pt x="997" y="454"/>
                  </a:lnTo>
                  <a:lnTo>
                    <a:pt x="1002" y="454"/>
                  </a:lnTo>
                  <a:lnTo>
                    <a:pt x="1008" y="454"/>
                  </a:lnTo>
                  <a:lnTo>
                    <a:pt x="1013" y="454"/>
                  </a:lnTo>
                  <a:lnTo>
                    <a:pt x="1018" y="454"/>
                  </a:lnTo>
                  <a:lnTo>
                    <a:pt x="1023" y="454"/>
                  </a:lnTo>
                  <a:lnTo>
                    <a:pt x="1029" y="454"/>
                  </a:lnTo>
                  <a:lnTo>
                    <a:pt x="1034" y="454"/>
                  </a:lnTo>
                  <a:lnTo>
                    <a:pt x="1039" y="454"/>
                  </a:lnTo>
                  <a:lnTo>
                    <a:pt x="1044" y="454"/>
                  </a:lnTo>
                  <a:lnTo>
                    <a:pt x="1050" y="454"/>
                  </a:lnTo>
                  <a:lnTo>
                    <a:pt x="1055" y="454"/>
                  </a:lnTo>
                  <a:lnTo>
                    <a:pt x="1060" y="454"/>
                  </a:lnTo>
                  <a:lnTo>
                    <a:pt x="1065" y="454"/>
                  </a:lnTo>
                  <a:lnTo>
                    <a:pt x="1071" y="454"/>
                  </a:lnTo>
                  <a:lnTo>
                    <a:pt x="1076" y="454"/>
                  </a:lnTo>
                  <a:lnTo>
                    <a:pt x="1081" y="454"/>
                  </a:lnTo>
                  <a:lnTo>
                    <a:pt x="1086" y="454"/>
                  </a:lnTo>
                  <a:lnTo>
                    <a:pt x="1092" y="454"/>
                  </a:lnTo>
                  <a:lnTo>
                    <a:pt x="1097" y="454"/>
                  </a:lnTo>
                  <a:lnTo>
                    <a:pt x="1102" y="454"/>
                  </a:lnTo>
                  <a:lnTo>
                    <a:pt x="1107" y="454"/>
                  </a:lnTo>
                  <a:lnTo>
                    <a:pt x="1113" y="454"/>
                  </a:lnTo>
                  <a:lnTo>
                    <a:pt x="1118" y="454"/>
                  </a:lnTo>
                  <a:lnTo>
                    <a:pt x="1123" y="454"/>
                  </a:lnTo>
                  <a:lnTo>
                    <a:pt x="1128" y="454"/>
                  </a:lnTo>
                  <a:lnTo>
                    <a:pt x="1134" y="454"/>
                  </a:lnTo>
                  <a:lnTo>
                    <a:pt x="1139" y="454"/>
                  </a:lnTo>
                  <a:lnTo>
                    <a:pt x="1144" y="454"/>
                  </a:lnTo>
                  <a:lnTo>
                    <a:pt x="1149" y="454"/>
                  </a:lnTo>
                  <a:lnTo>
                    <a:pt x="1155" y="454"/>
                  </a:lnTo>
                  <a:lnTo>
                    <a:pt x="1160" y="454"/>
                  </a:lnTo>
                  <a:lnTo>
                    <a:pt x="1165" y="454"/>
                  </a:lnTo>
                  <a:lnTo>
                    <a:pt x="1170" y="454"/>
                  </a:lnTo>
                  <a:lnTo>
                    <a:pt x="1176" y="454"/>
                  </a:lnTo>
                  <a:lnTo>
                    <a:pt x="1181" y="454"/>
                  </a:lnTo>
                  <a:lnTo>
                    <a:pt x="1186" y="454"/>
                  </a:lnTo>
                  <a:lnTo>
                    <a:pt x="1191" y="454"/>
                  </a:lnTo>
                  <a:lnTo>
                    <a:pt x="1197" y="454"/>
                  </a:lnTo>
                  <a:lnTo>
                    <a:pt x="1202" y="454"/>
                  </a:lnTo>
                  <a:lnTo>
                    <a:pt x="1207" y="454"/>
                  </a:lnTo>
                  <a:lnTo>
                    <a:pt x="1212" y="454"/>
                  </a:lnTo>
                  <a:lnTo>
                    <a:pt x="1218" y="454"/>
                  </a:lnTo>
                  <a:lnTo>
                    <a:pt x="1223" y="454"/>
                  </a:lnTo>
                  <a:lnTo>
                    <a:pt x="1228" y="454"/>
                  </a:lnTo>
                  <a:lnTo>
                    <a:pt x="1233" y="454"/>
                  </a:lnTo>
                  <a:lnTo>
                    <a:pt x="1239" y="454"/>
                  </a:lnTo>
                  <a:lnTo>
                    <a:pt x="1244" y="454"/>
                  </a:lnTo>
                  <a:lnTo>
                    <a:pt x="1249" y="454"/>
                  </a:lnTo>
                  <a:lnTo>
                    <a:pt x="1254" y="454"/>
                  </a:lnTo>
                  <a:lnTo>
                    <a:pt x="1260" y="454"/>
                  </a:lnTo>
                  <a:lnTo>
                    <a:pt x="1265" y="454"/>
                  </a:lnTo>
                  <a:lnTo>
                    <a:pt x="1270" y="454"/>
                  </a:lnTo>
                  <a:lnTo>
                    <a:pt x="1275" y="454"/>
                  </a:lnTo>
                  <a:lnTo>
                    <a:pt x="1281" y="454"/>
                  </a:lnTo>
                  <a:lnTo>
                    <a:pt x="1286" y="454"/>
                  </a:lnTo>
                  <a:lnTo>
                    <a:pt x="1291" y="454"/>
                  </a:lnTo>
                  <a:lnTo>
                    <a:pt x="1296" y="454"/>
                  </a:lnTo>
                  <a:lnTo>
                    <a:pt x="1302" y="454"/>
                  </a:lnTo>
                  <a:lnTo>
                    <a:pt x="1307" y="454"/>
                  </a:lnTo>
                  <a:lnTo>
                    <a:pt x="1312" y="454"/>
                  </a:lnTo>
                  <a:lnTo>
                    <a:pt x="1317" y="454"/>
                  </a:lnTo>
                  <a:lnTo>
                    <a:pt x="1323" y="454"/>
                  </a:lnTo>
                  <a:lnTo>
                    <a:pt x="1328" y="454"/>
                  </a:lnTo>
                  <a:lnTo>
                    <a:pt x="1333" y="454"/>
                  </a:lnTo>
                  <a:lnTo>
                    <a:pt x="1338" y="454"/>
                  </a:lnTo>
                  <a:lnTo>
                    <a:pt x="1344" y="454"/>
                  </a:lnTo>
                  <a:lnTo>
                    <a:pt x="1349" y="454"/>
                  </a:lnTo>
                  <a:lnTo>
                    <a:pt x="1354" y="454"/>
                  </a:lnTo>
                  <a:lnTo>
                    <a:pt x="1359" y="454"/>
                  </a:lnTo>
                  <a:lnTo>
                    <a:pt x="1365" y="454"/>
                  </a:lnTo>
                  <a:lnTo>
                    <a:pt x="1370" y="454"/>
                  </a:lnTo>
                  <a:lnTo>
                    <a:pt x="1375" y="454"/>
                  </a:lnTo>
                  <a:lnTo>
                    <a:pt x="1380" y="454"/>
                  </a:lnTo>
                  <a:lnTo>
                    <a:pt x="1386" y="454"/>
                  </a:lnTo>
                  <a:lnTo>
                    <a:pt x="1391" y="454"/>
                  </a:lnTo>
                  <a:lnTo>
                    <a:pt x="1396" y="454"/>
                  </a:lnTo>
                  <a:lnTo>
                    <a:pt x="1401" y="454"/>
                  </a:lnTo>
                  <a:lnTo>
                    <a:pt x="1407" y="454"/>
                  </a:lnTo>
                  <a:lnTo>
                    <a:pt x="1412" y="454"/>
                  </a:lnTo>
                  <a:lnTo>
                    <a:pt x="1417" y="454"/>
                  </a:lnTo>
                  <a:lnTo>
                    <a:pt x="1422" y="454"/>
                  </a:lnTo>
                  <a:lnTo>
                    <a:pt x="1428" y="454"/>
                  </a:lnTo>
                  <a:lnTo>
                    <a:pt x="1433" y="454"/>
                  </a:lnTo>
                  <a:lnTo>
                    <a:pt x="1438" y="454"/>
                  </a:lnTo>
                  <a:lnTo>
                    <a:pt x="1443" y="454"/>
                  </a:lnTo>
                  <a:lnTo>
                    <a:pt x="1449" y="454"/>
                  </a:lnTo>
                  <a:lnTo>
                    <a:pt x="1454" y="454"/>
                  </a:lnTo>
                  <a:lnTo>
                    <a:pt x="1459" y="454"/>
                  </a:lnTo>
                  <a:lnTo>
                    <a:pt x="1464" y="454"/>
                  </a:lnTo>
                  <a:lnTo>
                    <a:pt x="1470" y="454"/>
                  </a:lnTo>
                  <a:lnTo>
                    <a:pt x="1475" y="454"/>
                  </a:lnTo>
                  <a:lnTo>
                    <a:pt x="1480" y="454"/>
                  </a:lnTo>
                  <a:lnTo>
                    <a:pt x="1485" y="454"/>
                  </a:lnTo>
                  <a:lnTo>
                    <a:pt x="1491" y="454"/>
                  </a:lnTo>
                  <a:lnTo>
                    <a:pt x="1496" y="454"/>
                  </a:lnTo>
                  <a:lnTo>
                    <a:pt x="1501" y="454"/>
                  </a:lnTo>
                  <a:lnTo>
                    <a:pt x="1506" y="454"/>
                  </a:lnTo>
                  <a:lnTo>
                    <a:pt x="1512" y="454"/>
                  </a:lnTo>
                  <a:lnTo>
                    <a:pt x="1517" y="454"/>
                  </a:lnTo>
                  <a:lnTo>
                    <a:pt x="1522" y="454"/>
                  </a:lnTo>
                  <a:lnTo>
                    <a:pt x="1527" y="454"/>
                  </a:lnTo>
                  <a:lnTo>
                    <a:pt x="1533" y="454"/>
                  </a:lnTo>
                  <a:lnTo>
                    <a:pt x="1538" y="454"/>
                  </a:lnTo>
                  <a:lnTo>
                    <a:pt x="1543" y="454"/>
                  </a:lnTo>
                  <a:lnTo>
                    <a:pt x="1548" y="454"/>
                  </a:lnTo>
                  <a:lnTo>
                    <a:pt x="1554" y="454"/>
                  </a:lnTo>
                  <a:lnTo>
                    <a:pt x="1559" y="454"/>
                  </a:lnTo>
                  <a:lnTo>
                    <a:pt x="1564" y="454"/>
                  </a:lnTo>
                  <a:lnTo>
                    <a:pt x="1569" y="454"/>
                  </a:lnTo>
                  <a:lnTo>
                    <a:pt x="1575" y="4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77000" y="2833920"/>
              <a:ext cx="652320" cy="2109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808320" y="285768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C3 (EN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608960" y="4923000"/>
              <a:ext cx="9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706960" y="3837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83280" y="392436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820360" y="3837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=0,1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706960" y="3665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783280" y="37530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820360" y="36658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=0,8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8321760" y="2901600"/>
              <a:ext cx="23652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130240" y="28753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243640" y="29624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8321400" y="2901960"/>
              <a:ext cx="23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321760" y="2901960"/>
              <a:ext cx="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706960" y="4050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783280" y="4138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820360" y="40500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=0,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706960" y="4214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783280" y="43038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820360" y="42148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=0,3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712560" y="524520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98A3-0C3D-4EEC-BB74-115F70107F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Class 1 &amp; 2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sections: plastic resistance (strong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ith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equivalent format for weak axi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ross-section resistanc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348000" y="2276640"/>
          <a:ext cx="167652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276640"/>
                    <a:ext cx="16765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847880" y="3213000"/>
          <a:ext cx="467676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7880" y="3213000"/>
                    <a:ext cx="46767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268360" y="4221000"/>
          <a:ext cx="1298880" cy="88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4221000"/>
                    <a:ext cx="129888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343400" y="4221000"/>
          <a:ext cx="2465280" cy="78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4221000"/>
                    <a:ext cx="24652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9763-32A9-410C-9BD7-BB30FBF330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ross-section resistanc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axial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ending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ircular hollow sections: </a:t>
            </a:r>
            <a:r>
              <a:rPr b="0" i="1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0" i="1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ctangular hollow section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700360" y="2421000"/>
          <a:ext cx="359892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421000"/>
                    <a:ext cx="359892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097080" y="4941720"/>
          <a:ext cx="2552760" cy="7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7080" y="4941720"/>
                    <a:ext cx="255276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41E8-6779-4917-9C62-3FE23C90D3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ross-section resistanc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lass 3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cross-section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lass 4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cross-section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340000" y="2421000"/>
          <a:ext cx="3718080" cy="9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421000"/>
                    <a:ext cx="37180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763640" y="4581360"/>
          <a:ext cx="5467320" cy="9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4581360"/>
                    <a:ext cx="546732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1F12-9E2A-405B-A146-4937F82AFE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embers: theoretical backgrou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asi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elastic 2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order in-plane behavi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eck of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ost heavily loade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cross-secti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mplification factor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63640" y="2637000"/>
          <a:ext cx="5138640" cy="9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637000"/>
                    <a:ext cx="51386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556000" y="386064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cc33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 order bending moment due to imperfection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3816360" y="2313000"/>
            <a:ext cx="216000" cy="27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87"/>
                </a:lnTo>
                <a:cubicBezTo>
                  <a:pt x="10800" y="9687"/>
                  <a:pt x="5400" y="10587"/>
                  <a:pt x="0" y="10587"/>
                </a:cubicBezTo>
                <a:cubicBezTo>
                  <a:pt x="5400" y="10587"/>
                  <a:pt x="10800" y="11487"/>
                  <a:pt x="10800" y="1238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0" y="3860640"/>
            <a:ext cx="29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cc33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 order bending moment due to end moments and/or transverse load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5832360" y="3105000"/>
            <a:ext cx="216000" cy="115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87"/>
                </a:lnTo>
                <a:cubicBezTo>
                  <a:pt x="10800" y="9687"/>
                  <a:pt x="5400" y="10587"/>
                  <a:pt x="0" y="10587"/>
                </a:cubicBezTo>
                <a:cubicBezTo>
                  <a:pt x="5400" y="10587"/>
                  <a:pt x="10800" y="11487"/>
                  <a:pt x="10800" y="1238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708360" y="4941720"/>
          <a:ext cx="174168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941720"/>
                    <a:ext cx="17416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D0E5-2C6F-40F3-B0D4-4AC40A8044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embers: theoretical backgrou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oblem: determination of position of most heavily loaded cross-section (2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order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se of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quivalent moment concept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651640" y="2205000"/>
          <a:ext cx="2828880" cy="9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205000"/>
                    <a:ext cx="28288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78920" y="357336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79280" y="3573360"/>
            <a:ext cx="4383360" cy="1849680"/>
            <a:chOff x="179280" y="3573360"/>
            <a:chExt cx="4383360" cy="1849680"/>
          </a:xfrm>
        </p:grpSpPr>
        <p:sp>
          <p:nvSpPr>
            <p:cNvPr id="151" name=""/>
            <p:cNvSpPr/>
            <p:nvPr/>
          </p:nvSpPr>
          <p:spPr>
            <a:xfrm>
              <a:off x="179280" y="357336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67040" y="4138560"/>
              <a:ext cx="21744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70280" y="4138560"/>
              <a:ext cx="211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4640" y="4167360"/>
              <a:ext cx="21744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7880" y="4167360"/>
              <a:ext cx="210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9640" y="3576600"/>
              <a:ext cx="6238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5760" y="4032360"/>
              <a:ext cx="5587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5760" y="3649680"/>
              <a:ext cx="2491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1440" y="36561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2640" y="365904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4000" y="3745080"/>
              <a:ext cx="23004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640" y="374508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</a:rPr>
                <a:t>Ed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7960" y="3747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46480" y="4038480"/>
              <a:ext cx="416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454280" y="4900680"/>
              <a:ext cx="3240" cy="34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03880" y="482760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4" y="0"/>
                  </a:lnTo>
                  <a:lnTo>
                    <a:pt x="0" y="70"/>
                  </a:lnTo>
                  <a:lnTo>
                    <a:pt x="34" y="48"/>
                  </a:lnTo>
                  <a:lnTo>
                    <a:pt x="7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97400" y="5207040"/>
              <a:ext cx="111240" cy="11412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0" y="0"/>
                  </a:moveTo>
                  <a:lnTo>
                    <a:pt x="36" y="72"/>
                  </a:lnTo>
                  <a:lnTo>
                    <a:pt x="70" y="2"/>
                  </a:lnTo>
                  <a:lnTo>
                    <a:pt x="36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94120" y="4929120"/>
              <a:ext cx="4953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6040" y="4932360"/>
              <a:ext cx="2397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98800" y="4883040"/>
              <a:ext cx="19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45760" y="494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64120" y="4910040"/>
              <a:ext cx="3096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87800" y="501156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7320" y="4610160"/>
              <a:ext cx="3081240" cy="768240"/>
            </a:xfrm>
            <a:custGeom>
              <a:avLst/>
              <a:gdLst/>
              <a:ahLst/>
              <a:rect l="l" t="t" r="r" b="b"/>
              <a:pathLst>
                <a:path w="1941" h="484">
                  <a:moveTo>
                    <a:pt x="0" y="135"/>
                  </a:moveTo>
                  <a:lnTo>
                    <a:pt x="1941" y="135"/>
                  </a:lnTo>
                  <a:lnTo>
                    <a:pt x="1941" y="358"/>
                  </a:lnTo>
                  <a:lnTo>
                    <a:pt x="1919" y="370"/>
                  </a:lnTo>
                  <a:lnTo>
                    <a:pt x="1895" y="382"/>
                  </a:lnTo>
                  <a:lnTo>
                    <a:pt x="1869" y="394"/>
                  </a:lnTo>
                  <a:lnTo>
                    <a:pt x="1839" y="408"/>
                  </a:lnTo>
                  <a:lnTo>
                    <a:pt x="1808" y="420"/>
                  </a:lnTo>
                  <a:lnTo>
                    <a:pt x="1774" y="434"/>
                  </a:lnTo>
                  <a:lnTo>
                    <a:pt x="1738" y="446"/>
                  </a:lnTo>
                  <a:lnTo>
                    <a:pt x="1698" y="456"/>
                  </a:lnTo>
                  <a:lnTo>
                    <a:pt x="1657" y="466"/>
                  </a:lnTo>
                  <a:lnTo>
                    <a:pt x="1613" y="474"/>
                  </a:lnTo>
                  <a:lnTo>
                    <a:pt x="1565" y="480"/>
                  </a:lnTo>
                  <a:lnTo>
                    <a:pt x="1516" y="484"/>
                  </a:lnTo>
                  <a:lnTo>
                    <a:pt x="1464" y="484"/>
                  </a:lnTo>
                  <a:lnTo>
                    <a:pt x="1410" y="482"/>
                  </a:lnTo>
                  <a:lnTo>
                    <a:pt x="1353" y="478"/>
                  </a:lnTo>
                  <a:lnTo>
                    <a:pt x="1293" y="468"/>
                  </a:lnTo>
                  <a:lnTo>
                    <a:pt x="1262" y="462"/>
                  </a:lnTo>
                  <a:lnTo>
                    <a:pt x="1228" y="454"/>
                  </a:lnTo>
                  <a:lnTo>
                    <a:pt x="1192" y="444"/>
                  </a:lnTo>
                  <a:lnTo>
                    <a:pt x="1154" y="432"/>
                  </a:lnTo>
                  <a:lnTo>
                    <a:pt x="1073" y="408"/>
                  </a:lnTo>
                  <a:lnTo>
                    <a:pt x="985" y="378"/>
                  </a:lnTo>
                  <a:lnTo>
                    <a:pt x="894" y="345"/>
                  </a:lnTo>
                  <a:lnTo>
                    <a:pt x="799" y="309"/>
                  </a:lnTo>
                  <a:lnTo>
                    <a:pt x="606" y="233"/>
                  </a:lnTo>
                  <a:lnTo>
                    <a:pt x="511" y="195"/>
                  </a:lnTo>
                  <a:lnTo>
                    <a:pt x="419" y="157"/>
                  </a:lnTo>
                  <a:lnTo>
                    <a:pt x="330" y="122"/>
                  </a:lnTo>
                  <a:lnTo>
                    <a:pt x="249" y="88"/>
                  </a:lnTo>
                  <a:lnTo>
                    <a:pt x="209" y="74"/>
                  </a:lnTo>
                  <a:lnTo>
                    <a:pt x="173" y="60"/>
                  </a:lnTo>
                  <a:lnTo>
                    <a:pt x="137" y="46"/>
                  </a:lnTo>
                  <a:lnTo>
                    <a:pt x="106" y="34"/>
                  </a:lnTo>
                  <a:lnTo>
                    <a:pt x="74" y="24"/>
                  </a:lnTo>
                  <a:lnTo>
                    <a:pt x="48" y="14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4080" y="3914640"/>
              <a:ext cx="3113280" cy="452520"/>
            </a:xfrm>
            <a:custGeom>
              <a:avLst/>
              <a:gdLst/>
              <a:ahLst/>
              <a:rect l="l" t="t" r="r" b="b"/>
              <a:pathLst>
                <a:path w="1961" h="285">
                  <a:moveTo>
                    <a:pt x="0" y="50"/>
                  </a:moveTo>
                  <a:lnTo>
                    <a:pt x="4" y="64"/>
                  </a:lnTo>
                  <a:lnTo>
                    <a:pt x="76" y="46"/>
                  </a:lnTo>
                  <a:lnTo>
                    <a:pt x="112" y="38"/>
                  </a:lnTo>
                  <a:lnTo>
                    <a:pt x="147" y="30"/>
                  </a:lnTo>
                  <a:lnTo>
                    <a:pt x="145" y="24"/>
                  </a:lnTo>
                  <a:lnTo>
                    <a:pt x="145" y="30"/>
                  </a:lnTo>
                  <a:lnTo>
                    <a:pt x="179" y="24"/>
                  </a:lnTo>
                  <a:lnTo>
                    <a:pt x="215" y="20"/>
                  </a:lnTo>
                  <a:lnTo>
                    <a:pt x="249" y="16"/>
                  </a:lnTo>
                  <a:lnTo>
                    <a:pt x="284" y="14"/>
                  </a:lnTo>
                  <a:lnTo>
                    <a:pt x="316" y="14"/>
                  </a:lnTo>
                  <a:lnTo>
                    <a:pt x="350" y="18"/>
                  </a:lnTo>
                  <a:lnTo>
                    <a:pt x="384" y="22"/>
                  </a:lnTo>
                  <a:lnTo>
                    <a:pt x="417" y="26"/>
                  </a:lnTo>
                  <a:lnTo>
                    <a:pt x="449" y="32"/>
                  </a:lnTo>
                  <a:lnTo>
                    <a:pt x="449" y="26"/>
                  </a:lnTo>
                  <a:lnTo>
                    <a:pt x="447" y="32"/>
                  </a:lnTo>
                  <a:lnTo>
                    <a:pt x="479" y="40"/>
                  </a:lnTo>
                  <a:lnTo>
                    <a:pt x="549" y="56"/>
                  </a:lnTo>
                  <a:lnTo>
                    <a:pt x="582" y="64"/>
                  </a:lnTo>
                  <a:lnTo>
                    <a:pt x="616" y="74"/>
                  </a:lnTo>
                  <a:lnTo>
                    <a:pt x="650" y="84"/>
                  </a:lnTo>
                  <a:lnTo>
                    <a:pt x="686" y="96"/>
                  </a:lnTo>
                  <a:lnTo>
                    <a:pt x="721" y="108"/>
                  </a:lnTo>
                  <a:lnTo>
                    <a:pt x="757" y="119"/>
                  </a:lnTo>
                  <a:lnTo>
                    <a:pt x="795" y="131"/>
                  </a:lnTo>
                  <a:lnTo>
                    <a:pt x="833" y="145"/>
                  </a:lnTo>
                  <a:lnTo>
                    <a:pt x="835" y="145"/>
                  </a:lnTo>
                  <a:lnTo>
                    <a:pt x="874" y="157"/>
                  </a:lnTo>
                  <a:lnTo>
                    <a:pt x="916" y="171"/>
                  </a:lnTo>
                  <a:lnTo>
                    <a:pt x="962" y="185"/>
                  </a:lnTo>
                  <a:lnTo>
                    <a:pt x="1005" y="199"/>
                  </a:lnTo>
                  <a:lnTo>
                    <a:pt x="1049" y="213"/>
                  </a:lnTo>
                  <a:lnTo>
                    <a:pt x="1093" y="225"/>
                  </a:lnTo>
                  <a:lnTo>
                    <a:pt x="1136" y="237"/>
                  </a:lnTo>
                  <a:lnTo>
                    <a:pt x="1156" y="243"/>
                  </a:lnTo>
                  <a:lnTo>
                    <a:pt x="1178" y="247"/>
                  </a:lnTo>
                  <a:lnTo>
                    <a:pt x="1214" y="255"/>
                  </a:lnTo>
                  <a:lnTo>
                    <a:pt x="1252" y="263"/>
                  </a:lnTo>
                  <a:lnTo>
                    <a:pt x="1254" y="263"/>
                  </a:lnTo>
                  <a:lnTo>
                    <a:pt x="1289" y="271"/>
                  </a:lnTo>
                  <a:lnTo>
                    <a:pt x="1323" y="277"/>
                  </a:lnTo>
                  <a:lnTo>
                    <a:pt x="1359" y="281"/>
                  </a:lnTo>
                  <a:lnTo>
                    <a:pt x="1391" y="283"/>
                  </a:lnTo>
                  <a:lnTo>
                    <a:pt x="1424" y="285"/>
                  </a:lnTo>
                  <a:lnTo>
                    <a:pt x="1460" y="283"/>
                  </a:lnTo>
                  <a:lnTo>
                    <a:pt x="1494" y="281"/>
                  </a:lnTo>
                  <a:lnTo>
                    <a:pt x="1532" y="275"/>
                  </a:lnTo>
                  <a:lnTo>
                    <a:pt x="1567" y="267"/>
                  </a:lnTo>
                  <a:lnTo>
                    <a:pt x="1569" y="267"/>
                  </a:lnTo>
                  <a:lnTo>
                    <a:pt x="1605" y="259"/>
                  </a:lnTo>
                  <a:lnTo>
                    <a:pt x="1641" y="249"/>
                  </a:lnTo>
                  <a:lnTo>
                    <a:pt x="1675" y="237"/>
                  </a:lnTo>
                  <a:lnTo>
                    <a:pt x="1706" y="227"/>
                  </a:lnTo>
                  <a:lnTo>
                    <a:pt x="1720" y="221"/>
                  </a:lnTo>
                  <a:lnTo>
                    <a:pt x="1734" y="215"/>
                  </a:lnTo>
                  <a:lnTo>
                    <a:pt x="1760" y="205"/>
                  </a:lnTo>
                  <a:lnTo>
                    <a:pt x="1784" y="191"/>
                  </a:lnTo>
                  <a:lnTo>
                    <a:pt x="1806" y="177"/>
                  </a:lnTo>
                  <a:lnTo>
                    <a:pt x="1808" y="175"/>
                  </a:lnTo>
                  <a:lnTo>
                    <a:pt x="1828" y="161"/>
                  </a:lnTo>
                  <a:lnTo>
                    <a:pt x="1845" y="147"/>
                  </a:lnTo>
                  <a:lnTo>
                    <a:pt x="1863" y="133"/>
                  </a:lnTo>
                  <a:lnTo>
                    <a:pt x="1879" y="121"/>
                  </a:lnTo>
                  <a:lnTo>
                    <a:pt x="1873" y="116"/>
                  </a:lnTo>
                  <a:lnTo>
                    <a:pt x="1877" y="123"/>
                  </a:lnTo>
                  <a:lnTo>
                    <a:pt x="1893" y="112"/>
                  </a:lnTo>
                  <a:lnTo>
                    <a:pt x="1889" y="106"/>
                  </a:lnTo>
                  <a:lnTo>
                    <a:pt x="1893" y="112"/>
                  </a:lnTo>
                  <a:lnTo>
                    <a:pt x="1905" y="104"/>
                  </a:lnTo>
                  <a:lnTo>
                    <a:pt x="1907" y="102"/>
                  </a:lnTo>
                  <a:lnTo>
                    <a:pt x="1917" y="94"/>
                  </a:lnTo>
                  <a:lnTo>
                    <a:pt x="1929" y="86"/>
                  </a:lnTo>
                  <a:lnTo>
                    <a:pt x="1937" y="78"/>
                  </a:lnTo>
                  <a:lnTo>
                    <a:pt x="1943" y="74"/>
                  </a:lnTo>
                  <a:lnTo>
                    <a:pt x="1951" y="66"/>
                  </a:lnTo>
                  <a:lnTo>
                    <a:pt x="1961" y="58"/>
                  </a:lnTo>
                  <a:lnTo>
                    <a:pt x="1953" y="48"/>
                  </a:lnTo>
                  <a:lnTo>
                    <a:pt x="1941" y="58"/>
                  </a:lnTo>
                  <a:lnTo>
                    <a:pt x="1935" y="64"/>
                  </a:lnTo>
                  <a:lnTo>
                    <a:pt x="1927" y="70"/>
                  </a:lnTo>
                  <a:lnTo>
                    <a:pt x="1919" y="76"/>
                  </a:lnTo>
                  <a:lnTo>
                    <a:pt x="1909" y="84"/>
                  </a:lnTo>
                  <a:lnTo>
                    <a:pt x="1897" y="92"/>
                  </a:lnTo>
                  <a:lnTo>
                    <a:pt x="1901" y="98"/>
                  </a:lnTo>
                  <a:lnTo>
                    <a:pt x="1899" y="90"/>
                  </a:lnTo>
                  <a:lnTo>
                    <a:pt x="1885" y="100"/>
                  </a:lnTo>
                  <a:lnTo>
                    <a:pt x="1885" y="102"/>
                  </a:lnTo>
                  <a:lnTo>
                    <a:pt x="1871" y="110"/>
                  </a:lnTo>
                  <a:lnTo>
                    <a:pt x="1869" y="112"/>
                  </a:lnTo>
                  <a:lnTo>
                    <a:pt x="1853" y="125"/>
                  </a:lnTo>
                  <a:lnTo>
                    <a:pt x="1836" y="137"/>
                  </a:lnTo>
                  <a:lnTo>
                    <a:pt x="1818" y="151"/>
                  </a:lnTo>
                  <a:lnTo>
                    <a:pt x="1798" y="165"/>
                  </a:lnTo>
                  <a:lnTo>
                    <a:pt x="1802" y="171"/>
                  </a:lnTo>
                  <a:lnTo>
                    <a:pt x="1800" y="165"/>
                  </a:lnTo>
                  <a:lnTo>
                    <a:pt x="1778" y="177"/>
                  </a:lnTo>
                  <a:lnTo>
                    <a:pt x="1754" y="191"/>
                  </a:lnTo>
                  <a:lnTo>
                    <a:pt x="1728" y="203"/>
                  </a:lnTo>
                  <a:lnTo>
                    <a:pt x="1714" y="207"/>
                  </a:lnTo>
                  <a:lnTo>
                    <a:pt x="1700" y="213"/>
                  </a:lnTo>
                  <a:lnTo>
                    <a:pt x="1669" y="225"/>
                  </a:lnTo>
                  <a:lnTo>
                    <a:pt x="1635" y="235"/>
                  </a:lnTo>
                  <a:lnTo>
                    <a:pt x="1599" y="245"/>
                  </a:lnTo>
                  <a:lnTo>
                    <a:pt x="1565" y="253"/>
                  </a:lnTo>
                  <a:lnTo>
                    <a:pt x="1567" y="261"/>
                  </a:lnTo>
                  <a:lnTo>
                    <a:pt x="1567" y="253"/>
                  </a:lnTo>
                  <a:lnTo>
                    <a:pt x="1532" y="261"/>
                  </a:lnTo>
                  <a:lnTo>
                    <a:pt x="1494" y="265"/>
                  </a:lnTo>
                  <a:lnTo>
                    <a:pt x="1460" y="269"/>
                  </a:lnTo>
                  <a:lnTo>
                    <a:pt x="1424" y="271"/>
                  </a:lnTo>
                  <a:lnTo>
                    <a:pt x="1391" y="269"/>
                  </a:lnTo>
                  <a:lnTo>
                    <a:pt x="1359" y="267"/>
                  </a:lnTo>
                  <a:lnTo>
                    <a:pt x="1323" y="263"/>
                  </a:lnTo>
                  <a:lnTo>
                    <a:pt x="1289" y="257"/>
                  </a:lnTo>
                  <a:lnTo>
                    <a:pt x="1254" y="249"/>
                  </a:lnTo>
                  <a:lnTo>
                    <a:pt x="1254" y="257"/>
                  </a:lnTo>
                  <a:lnTo>
                    <a:pt x="1256" y="251"/>
                  </a:lnTo>
                  <a:lnTo>
                    <a:pt x="1220" y="243"/>
                  </a:lnTo>
                  <a:lnTo>
                    <a:pt x="1180" y="235"/>
                  </a:lnTo>
                  <a:lnTo>
                    <a:pt x="1162" y="229"/>
                  </a:lnTo>
                  <a:lnTo>
                    <a:pt x="1140" y="225"/>
                  </a:lnTo>
                  <a:lnTo>
                    <a:pt x="1099" y="213"/>
                  </a:lnTo>
                  <a:lnTo>
                    <a:pt x="1055" y="201"/>
                  </a:lnTo>
                  <a:lnTo>
                    <a:pt x="1011" y="185"/>
                  </a:lnTo>
                  <a:lnTo>
                    <a:pt x="966" y="171"/>
                  </a:lnTo>
                  <a:lnTo>
                    <a:pt x="922" y="157"/>
                  </a:lnTo>
                  <a:lnTo>
                    <a:pt x="878" y="143"/>
                  </a:lnTo>
                  <a:lnTo>
                    <a:pt x="838" y="131"/>
                  </a:lnTo>
                  <a:lnTo>
                    <a:pt x="837" y="137"/>
                  </a:lnTo>
                  <a:lnTo>
                    <a:pt x="838" y="131"/>
                  </a:lnTo>
                  <a:lnTo>
                    <a:pt x="799" y="118"/>
                  </a:lnTo>
                  <a:lnTo>
                    <a:pt x="761" y="108"/>
                  </a:lnTo>
                  <a:lnTo>
                    <a:pt x="725" y="94"/>
                  </a:lnTo>
                  <a:lnTo>
                    <a:pt x="690" y="82"/>
                  </a:lnTo>
                  <a:lnTo>
                    <a:pt x="656" y="70"/>
                  </a:lnTo>
                  <a:lnTo>
                    <a:pt x="622" y="60"/>
                  </a:lnTo>
                  <a:lnTo>
                    <a:pt x="588" y="50"/>
                  </a:lnTo>
                  <a:lnTo>
                    <a:pt x="551" y="42"/>
                  </a:lnTo>
                  <a:lnTo>
                    <a:pt x="485" y="26"/>
                  </a:lnTo>
                  <a:lnTo>
                    <a:pt x="451" y="18"/>
                  </a:lnTo>
                  <a:lnTo>
                    <a:pt x="449" y="18"/>
                  </a:lnTo>
                  <a:lnTo>
                    <a:pt x="417" y="12"/>
                  </a:lnTo>
                  <a:lnTo>
                    <a:pt x="384" y="6"/>
                  </a:lnTo>
                  <a:lnTo>
                    <a:pt x="350" y="4"/>
                  </a:lnTo>
                  <a:lnTo>
                    <a:pt x="316" y="0"/>
                  </a:lnTo>
                  <a:lnTo>
                    <a:pt x="284" y="0"/>
                  </a:lnTo>
                  <a:lnTo>
                    <a:pt x="249" y="2"/>
                  </a:lnTo>
                  <a:lnTo>
                    <a:pt x="215" y="6"/>
                  </a:lnTo>
                  <a:lnTo>
                    <a:pt x="179" y="10"/>
                  </a:lnTo>
                  <a:lnTo>
                    <a:pt x="145" y="16"/>
                  </a:lnTo>
                  <a:lnTo>
                    <a:pt x="141" y="18"/>
                  </a:lnTo>
                  <a:lnTo>
                    <a:pt x="108" y="24"/>
                  </a:lnTo>
                  <a:lnTo>
                    <a:pt x="72" y="3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1200" y="3994200"/>
              <a:ext cx="72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2720" y="39942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20880" y="3994200"/>
              <a:ext cx="71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20600" y="399420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58760" y="3994200"/>
              <a:ext cx="76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60640" y="39942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98440" y="3994200"/>
              <a:ext cx="74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8520" y="399420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36680" y="3994200"/>
              <a:ext cx="76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0000" y="39942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74920" y="3994200"/>
              <a:ext cx="759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79680" y="39942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14600" y="3994200"/>
              <a:ext cx="745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17560" y="399420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55720" y="39942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57240" y="399420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93960" y="39942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5480" y="39942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33640" y="39942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33720" y="39942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71880" y="3994200"/>
              <a:ext cx="72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73400" y="39942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11560" y="3994200"/>
              <a:ext cx="745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11280" y="399420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49440" y="3994200"/>
              <a:ext cx="76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54200" y="3994200"/>
              <a:ext cx="64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87680" y="3994200"/>
              <a:ext cx="76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92440" y="39942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27360" y="3994200"/>
              <a:ext cx="745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30680" y="39942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68480" y="39942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70360" y="39942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08160" y="3994200"/>
              <a:ext cx="71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08240" y="399420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46400" y="39942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47920" y="39942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84640" y="39942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86160" y="39942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24320" y="3994200"/>
              <a:ext cx="745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24400" y="39942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62200" y="3994200"/>
              <a:ext cx="76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64080" y="39942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01880" y="3994200"/>
              <a:ext cx="74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05200" y="399420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40120" y="3994200"/>
              <a:ext cx="57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19480" y="3621240"/>
              <a:ext cx="62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87720" y="4057560"/>
              <a:ext cx="2746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87720" y="4064040"/>
              <a:ext cx="19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76000" y="40672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83200" y="4151160"/>
              <a:ext cx="2300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82840" y="415116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</a:rPr>
                <a:t>Ed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67160" y="4154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25800" y="4821120"/>
              <a:ext cx="5796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86040" y="5327640"/>
              <a:ext cx="7970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1200" y="4811760"/>
              <a:ext cx="30873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2520" y="3598920"/>
              <a:ext cx="318960" cy="449280"/>
            </a:xfrm>
            <a:custGeom>
              <a:avLst/>
              <a:gdLst/>
              <a:ahLst/>
              <a:rect l="l" t="t" r="r" b="b"/>
              <a:pathLst>
                <a:path w="201" h="283">
                  <a:moveTo>
                    <a:pt x="159" y="275"/>
                  </a:moveTo>
                  <a:lnTo>
                    <a:pt x="171" y="283"/>
                  </a:lnTo>
                  <a:lnTo>
                    <a:pt x="177" y="271"/>
                  </a:lnTo>
                  <a:lnTo>
                    <a:pt x="183" y="257"/>
                  </a:lnTo>
                  <a:lnTo>
                    <a:pt x="189" y="245"/>
                  </a:lnTo>
                  <a:lnTo>
                    <a:pt x="193" y="231"/>
                  </a:lnTo>
                  <a:lnTo>
                    <a:pt x="195" y="217"/>
                  </a:lnTo>
                  <a:lnTo>
                    <a:pt x="197" y="213"/>
                  </a:lnTo>
                  <a:lnTo>
                    <a:pt x="199" y="199"/>
                  </a:lnTo>
                  <a:lnTo>
                    <a:pt x="199" y="185"/>
                  </a:lnTo>
                  <a:lnTo>
                    <a:pt x="201" y="169"/>
                  </a:lnTo>
                  <a:lnTo>
                    <a:pt x="199" y="153"/>
                  </a:lnTo>
                  <a:lnTo>
                    <a:pt x="199" y="135"/>
                  </a:lnTo>
                  <a:lnTo>
                    <a:pt x="195" y="121"/>
                  </a:lnTo>
                  <a:lnTo>
                    <a:pt x="195" y="117"/>
                  </a:lnTo>
                  <a:lnTo>
                    <a:pt x="191" y="103"/>
                  </a:lnTo>
                  <a:lnTo>
                    <a:pt x="187" y="90"/>
                  </a:lnTo>
                  <a:lnTo>
                    <a:pt x="183" y="76"/>
                  </a:lnTo>
                  <a:lnTo>
                    <a:pt x="177" y="64"/>
                  </a:lnTo>
                  <a:lnTo>
                    <a:pt x="169" y="52"/>
                  </a:lnTo>
                  <a:lnTo>
                    <a:pt x="169" y="50"/>
                  </a:lnTo>
                  <a:lnTo>
                    <a:pt x="161" y="40"/>
                  </a:lnTo>
                  <a:lnTo>
                    <a:pt x="153" y="30"/>
                  </a:lnTo>
                  <a:lnTo>
                    <a:pt x="145" y="22"/>
                  </a:lnTo>
                  <a:lnTo>
                    <a:pt x="135" y="16"/>
                  </a:lnTo>
                  <a:lnTo>
                    <a:pt x="133" y="14"/>
                  </a:lnTo>
                  <a:lnTo>
                    <a:pt x="124" y="8"/>
                  </a:lnTo>
                  <a:lnTo>
                    <a:pt x="114" y="4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90" y="0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62" y="6"/>
                  </a:lnTo>
                  <a:lnTo>
                    <a:pt x="52" y="12"/>
                  </a:lnTo>
                  <a:lnTo>
                    <a:pt x="50" y="14"/>
                  </a:lnTo>
                  <a:lnTo>
                    <a:pt x="38" y="22"/>
                  </a:lnTo>
                  <a:lnTo>
                    <a:pt x="28" y="32"/>
                  </a:lnTo>
                  <a:lnTo>
                    <a:pt x="18" y="44"/>
                  </a:lnTo>
                  <a:lnTo>
                    <a:pt x="16" y="46"/>
                  </a:lnTo>
                  <a:lnTo>
                    <a:pt x="8" y="58"/>
                  </a:lnTo>
                  <a:lnTo>
                    <a:pt x="0" y="74"/>
                  </a:lnTo>
                  <a:lnTo>
                    <a:pt x="12" y="80"/>
                  </a:lnTo>
                  <a:lnTo>
                    <a:pt x="20" y="64"/>
                  </a:lnTo>
                  <a:lnTo>
                    <a:pt x="28" y="50"/>
                  </a:lnTo>
                  <a:lnTo>
                    <a:pt x="22" y="48"/>
                  </a:lnTo>
                  <a:lnTo>
                    <a:pt x="28" y="52"/>
                  </a:lnTo>
                  <a:lnTo>
                    <a:pt x="36" y="40"/>
                  </a:lnTo>
                  <a:lnTo>
                    <a:pt x="46" y="32"/>
                  </a:lnTo>
                  <a:lnTo>
                    <a:pt x="58" y="22"/>
                  </a:lnTo>
                  <a:lnTo>
                    <a:pt x="54" y="18"/>
                  </a:lnTo>
                  <a:lnTo>
                    <a:pt x="56" y="24"/>
                  </a:lnTo>
                  <a:lnTo>
                    <a:pt x="68" y="18"/>
                  </a:lnTo>
                  <a:lnTo>
                    <a:pt x="80" y="16"/>
                  </a:lnTo>
                  <a:lnTo>
                    <a:pt x="78" y="8"/>
                  </a:lnTo>
                  <a:lnTo>
                    <a:pt x="78" y="16"/>
                  </a:lnTo>
                  <a:lnTo>
                    <a:pt x="90" y="14"/>
                  </a:lnTo>
                  <a:lnTo>
                    <a:pt x="102" y="16"/>
                  </a:lnTo>
                  <a:lnTo>
                    <a:pt x="102" y="8"/>
                  </a:lnTo>
                  <a:lnTo>
                    <a:pt x="98" y="14"/>
                  </a:lnTo>
                  <a:lnTo>
                    <a:pt x="110" y="16"/>
                  </a:lnTo>
                  <a:lnTo>
                    <a:pt x="120" y="22"/>
                  </a:lnTo>
                  <a:lnTo>
                    <a:pt x="127" y="26"/>
                  </a:lnTo>
                  <a:lnTo>
                    <a:pt x="131" y="20"/>
                  </a:lnTo>
                  <a:lnTo>
                    <a:pt x="126" y="26"/>
                  </a:lnTo>
                  <a:lnTo>
                    <a:pt x="133" y="32"/>
                  </a:lnTo>
                  <a:lnTo>
                    <a:pt x="143" y="40"/>
                  </a:lnTo>
                  <a:lnTo>
                    <a:pt x="151" y="48"/>
                  </a:lnTo>
                  <a:lnTo>
                    <a:pt x="159" y="60"/>
                  </a:lnTo>
                  <a:lnTo>
                    <a:pt x="163" y="54"/>
                  </a:lnTo>
                  <a:lnTo>
                    <a:pt x="157" y="58"/>
                  </a:lnTo>
                  <a:lnTo>
                    <a:pt x="163" y="68"/>
                  </a:lnTo>
                  <a:lnTo>
                    <a:pt x="169" y="82"/>
                  </a:lnTo>
                  <a:lnTo>
                    <a:pt x="175" y="95"/>
                  </a:lnTo>
                  <a:lnTo>
                    <a:pt x="179" y="107"/>
                  </a:lnTo>
                  <a:lnTo>
                    <a:pt x="183" y="123"/>
                  </a:lnTo>
                  <a:lnTo>
                    <a:pt x="189" y="121"/>
                  </a:lnTo>
                  <a:lnTo>
                    <a:pt x="181" y="121"/>
                  </a:lnTo>
                  <a:lnTo>
                    <a:pt x="185" y="135"/>
                  </a:lnTo>
                  <a:lnTo>
                    <a:pt x="187" y="153"/>
                  </a:lnTo>
                  <a:lnTo>
                    <a:pt x="187" y="169"/>
                  </a:lnTo>
                  <a:lnTo>
                    <a:pt x="187" y="185"/>
                  </a:lnTo>
                  <a:lnTo>
                    <a:pt x="185" y="199"/>
                  </a:lnTo>
                  <a:lnTo>
                    <a:pt x="183" y="213"/>
                  </a:lnTo>
                  <a:lnTo>
                    <a:pt x="189" y="213"/>
                  </a:lnTo>
                  <a:lnTo>
                    <a:pt x="183" y="211"/>
                  </a:lnTo>
                  <a:lnTo>
                    <a:pt x="179" y="225"/>
                  </a:lnTo>
                  <a:lnTo>
                    <a:pt x="175" y="239"/>
                  </a:lnTo>
                  <a:lnTo>
                    <a:pt x="171" y="253"/>
                  </a:lnTo>
                  <a:lnTo>
                    <a:pt x="165" y="265"/>
                  </a:lnTo>
                  <a:lnTo>
                    <a:pt x="159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97360" y="3662280"/>
              <a:ext cx="166680" cy="131760"/>
            </a:xfrm>
            <a:custGeom>
              <a:avLst/>
              <a:gdLst/>
              <a:ahLst/>
              <a:rect l="l" t="t" r="r" b="b"/>
              <a:pathLst>
                <a:path w="105" h="83">
                  <a:moveTo>
                    <a:pt x="0" y="0"/>
                  </a:moveTo>
                  <a:lnTo>
                    <a:pt x="33" y="83"/>
                  </a:lnTo>
                  <a:lnTo>
                    <a:pt x="105" y="32"/>
                  </a:lnTo>
                  <a:lnTo>
                    <a:pt x="47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7280" y="3933720"/>
              <a:ext cx="317520" cy="446040"/>
            </a:xfrm>
            <a:custGeom>
              <a:avLst/>
              <a:gdLst/>
              <a:ahLst/>
              <a:rect l="l" t="t" r="r" b="b"/>
              <a:pathLst>
                <a:path w="200" h="281">
                  <a:moveTo>
                    <a:pt x="27" y="0"/>
                  </a:moveTo>
                  <a:lnTo>
                    <a:pt x="39" y="8"/>
                  </a:lnTo>
                  <a:lnTo>
                    <a:pt x="33" y="18"/>
                  </a:lnTo>
                  <a:lnTo>
                    <a:pt x="27" y="30"/>
                  </a:lnTo>
                  <a:lnTo>
                    <a:pt x="23" y="44"/>
                  </a:lnTo>
                  <a:lnTo>
                    <a:pt x="19" y="56"/>
                  </a:lnTo>
                  <a:lnTo>
                    <a:pt x="17" y="72"/>
                  </a:lnTo>
                  <a:lnTo>
                    <a:pt x="9" y="68"/>
                  </a:lnTo>
                  <a:lnTo>
                    <a:pt x="17" y="68"/>
                  </a:lnTo>
                  <a:lnTo>
                    <a:pt x="13" y="84"/>
                  </a:lnTo>
                  <a:lnTo>
                    <a:pt x="13" y="98"/>
                  </a:lnTo>
                  <a:lnTo>
                    <a:pt x="13" y="113"/>
                  </a:lnTo>
                  <a:lnTo>
                    <a:pt x="13" y="129"/>
                  </a:lnTo>
                  <a:lnTo>
                    <a:pt x="13" y="145"/>
                  </a:lnTo>
                  <a:lnTo>
                    <a:pt x="17" y="161"/>
                  </a:lnTo>
                  <a:lnTo>
                    <a:pt x="9" y="161"/>
                  </a:lnTo>
                  <a:lnTo>
                    <a:pt x="17" y="159"/>
                  </a:lnTo>
                  <a:lnTo>
                    <a:pt x="19" y="173"/>
                  </a:lnTo>
                  <a:lnTo>
                    <a:pt x="23" y="189"/>
                  </a:lnTo>
                  <a:lnTo>
                    <a:pt x="29" y="201"/>
                  </a:lnTo>
                  <a:lnTo>
                    <a:pt x="35" y="213"/>
                  </a:lnTo>
                  <a:lnTo>
                    <a:pt x="41" y="225"/>
                  </a:lnTo>
                  <a:lnTo>
                    <a:pt x="35" y="227"/>
                  </a:lnTo>
                  <a:lnTo>
                    <a:pt x="41" y="223"/>
                  </a:lnTo>
                  <a:lnTo>
                    <a:pt x="47" y="233"/>
                  </a:lnTo>
                  <a:lnTo>
                    <a:pt x="55" y="243"/>
                  </a:lnTo>
                  <a:lnTo>
                    <a:pt x="65" y="251"/>
                  </a:lnTo>
                  <a:lnTo>
                    <a:pt x="73" y="257"/>
                  </a:lnTo>
                  <a:lnTo>
                    <a:pt x="69" y="263"/>
                  </a:lnTo>
                  <a:lnTo>
                    <a:pt x="71" y="255"/>
                  </a:lnTo>
                  <a:lnTo>
                    <a:pt x="81" y="261"/>
                  </a:lnTo>
                  <a:lnTo>
                    <a:pt x="91" y="265"/>
                  </a:lnTo>
                  <a:lnTo>
                    <a:pt x="101" y="267"/>
                  </a:lnTo>
                  <a:lnTo>
                    <a:pt x="99" y="275"/>
                  </a:lnTo>
                  <a:lnTo>
                    <a:pt x="99" y="267"/>
                  </a:lnTo>
                  <a:lnTo>
                    <a:pt x="109" y="267"/>
                  </a:lnTo>
                  <a:lnTo>
                    <a:pt x="121" y="267"/>
                  </a:lnTo>
                  <a:lnTo>
                    <a:pt x="121" y="273"/>
                  </a:lnTo>
                  <a:lnTo>
                    <a:pt x="119" y="267"/>
                  </a:lnTo>
                  <a:lnTo>
                    <a:pt x="131" y="263"/>
                  </a:lnTo>
                  <a:lnTo>
                    <a:pt x="143" y="259"/>
                  </a:lnTo>
                  <a:lnTo>
                    <a:pt x="145" y="265"/>
                  </a:lnTo>
                  <a:lnTo>
                    <a:pt x="141" y="259"/>
                  </a:lnTo>
                  <a:lnTo>
                    <a:pt x="150" y="251"/>
                  </a:lnTo>
                  <a:lnTo>
                    <a:pt x="160" y="241"/>
                  </a:lnTo>
                  <a:lnTo>
                    <a:pt x="172" y="229"/>
                  </a:lnTo>
                  <a:lnTo>
                    <a:pt x="176" y="235"/>
                  </a:lnTo>
                  <a:lnTo>
                    <a:pt x="170" y="231"/>
                  </a:lnTo>
                  <a:lnTo>
                    <a:pt x="178" y="219"/>
                  </a:lnTo>
                  <a:lnTo>
                    <a:pt x="186" y="203"/>
                  </a:lnTo>
                  <a:lnTo>
                    <a:pt x="200" y="209"/>
                  </a:lnTo>
                  <a:lnTo>
                    <a:pt x="192" y="223"/>
                  </a:lnTo>
                  <a:lnTo>
                    <a:pt x="182" y="237"/>
                  </a:lnTo>
                  <a:lnTo>
                    <a:pt x="182" y="239"/>
                  </a:lnTo>
                  <a:lnTo>
                    <a:pt x="172" y="251"/>
                  </a:lnTo>
                  <a:lnTo>
                    <a:pt x="160" y="261"/>
                  </a:lnTo>
                  <a:lnTo>
                    <a:pt x="150" y="269"/>
                  </a:lnTo>
                  <a:lnTo>
                    <a:pt x="147" y="271"/>
                  </a:lnTo>
                  <a:lnTo>
                    <a:pt x="137" y="277"/>
                  </a:lnTo>
                  <a:lnTo>
                    <a:pt x="125" y="281"/>
                  </a:lnTo>
                  <a:lnTo>
                    <a:pt x="121" y="281"/>
                  </a:lnTo>
                  <a:lnTo>
                    <a:pt x="109" y="281"/>
                  </a:lnTo>
                  <a:lnTo>
                    <a:pt x="99" y="281"/>
                  </a:lnTo>
                  <a:lnTo>
                    <a:pt x="95" y="281"/>
                  </a:lnTo>
                  <a:lnTo>
                    <a:pt x="85" y="279"/>
                  </a:lnTo>
                  <a:lnTo>
                    <a:pt x="75" y="275"/>
                  </a:lnTo>
                  <a:lnTo>
                    <a:pt x="67" y="269"/>
                  </a:lnTo>
                  <a:lnTo>
                    <a:pt x="65" y="267"/>
                  </a:lnTo>
                  <a:lnTo>
                    <a:pt x="55" y="261"/>
                  </a:lnTo>
                  <a:lnTo>
                    <a:pt x="47" y="251"/>
                  </a:lnTo>
                  <a:lnTo>
                    <a:pt x="39" y="243"/>
                  </a:lnTo>
                  <a:lnTo>
                    <a:pt x="31" y="233"/>
                  </a:lnTo>
                  <a:lnTo>
                    <a:pt x="29" y="231"/>
                  </a:lnTo>
                  <a:lnTo>
                    <a:pt x="21" y="219"/>
                  </a:lnTo>
                  <a:lnTo>
                    <a:pt x="17" y="207"/>
                  </a:lnTo>
                  <a:lnTo>
                    <a:pt x="11" y="193"/>
                  </a:lnTo>
                  <a:lnTo>
                    <a:pt x="7" y="179"/>
                  </a:lnTo>
                  <a:lnTo>
                    <a:pt x="4" y="165"/>
                  </a:lnTo>
                  <a:lnTo>
                    <a:pt x="4" y="161"/>
                  </a:lnTo>
                  <a:lnTo>
                    <a:pt x="0" y="145"/>
                  </a:lnTo>
                  <a:lnTo>
                    <a:pt x="0" y="129"/>
                  </a:lnTo>
                  <a:lnTo>
                    <a:pt x="0" y="113"/>
                  </a:lnTo>
                  <a:lnTo>
                    <a:pt x="0" y="98"/>
                  </a:lnTo>
                  <a:lnTo>
                    <a:pt x="0" y="84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5" y="52"/>
                  </a:lnTo>
                  <a:lnTo>
                    <a:pt x="11" y="38"/>
                  </a:lnTo>
                  <a:lnTo>
                    <a:pt x="15" y="24"/>
                  </a:lnTo>
                  <a:lnTo>
                    <a:pt x="21" y="1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1480" y="4186080"/>
              <a:ext cx="166680" cy="133560"/>
            </a:xfrm>
            <a:custGeom>
              <a:avLst/>
              <a:gdLst/>
              <a:ahLst/>
              <a:rect l="l" t="t" r="r" b="b"/>
              <a:pathLst>
                <a:path w="105" h="84">
                  <a:moveTo>
                    <a:pt x="0" y="52"/>
                  </a:moveTo>
                  <a:lnTo>
                    <a:pt x="73" y="0"/>
                  </a:lnTo>
                  <a:lnTo>
                    <a:pt x="105" y="84"/>
                  </a:lnTo>
                  <a:lnTo>
                    <a:pt x="57" y="4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560" y="3997440"/>
              <a:ext cx="160560" cy="128520"/>
            </a:xfrm>
            <a:custGeom>
              <a:avLst/>
              <a:gdLst/>
              <a:ahLst/>
              <a:rect l="l" t="t" r="r" b="b"/>
              <a:pathLst>
                <a:path w="101" h="81">
                  <a:moveTo>
                    <a:pt x="49" y="0"/>
                  </a:moveTo>
                  <a:lnTo>
                    <a:pt x="0" y="81"/>
                  </a:lnTo>
                  <a:lnTo>
                    <a:pt x="101" y="8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6960" y="412596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1480" y="412596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41320" y="412596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5200" y="4010040"/>
              <a:ext cx="160200" cy="125280"/>
            </a:xfrm>
            <a:custGeom>
              <a:avLst/>
              <a:gdLst/>
              <a:ahLst/>
              <a:rect l="l" t="t" r="r" b="b"/>
              <a:pathLst>
                <a:path w="101" h="79">
                  <a:moveTo>
                    <a:pt x="52" y="0"/>
                  </a:moveTo>
                  <a:lnTo>
                    <a:pt x="0" y="79"/>
                  </a:lnTo>
                  <a:lnTo>
                    <a:pt x="101" y="7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1200" y="4122720"/>
              <a:ext cx="9446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9480" y="4214880"/>
              <a:ext cx="172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5640" y="42148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30240" y="4233960"/>
              <a:ext cx="19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19240" y="4332240"/>
              <a:ext cx="16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E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66120" y="42339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4840" y="3997440"/>
              <a:ext cx="43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6640" y="3930480"/>
              <a:ext cx="204840" cy="136800"/>
            </a:xfrm>
            <a:custGeom>
              <a:avLst/>
              <a:gdLst/>
              <a:ahLst/>
              <a:rect l="l" t="t" r="r" b="b"/>
              <a:pathLst>
                <a:path w="129" h="86">
                  <a:moveTo>
                    <a:pt x="0" y="86"/>
                  </a:moveTo>
                  <a:lnTo>
                    <a:pt x="129" y="42"/>
                  </a:lnTo>
                  <a:lnTo>
                    <a:pt x="0" y="0"/>
                  </a:lnTo>
                  <a:lnTo>
                    <a:pt x="42" y="4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44960" y="3997440"/>
              <a:ext cx="43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13200" y="3930480"/>
              <a:ext cx="208080" cy="136800"/>
            </a:xfrm>
            <a:custGeom>
              <a:avLst/>
              <a:gdLst/>
              <a:ahLst/>
              <a:rect l="l" t="t" r="r" b="b"/>
              <a:pathLst>
                <a:path w="131" h="86">
                  <a:moveTo>
                    <a:pt x="131" y="0"/>
                  </a:moveTo>
                  <a:lnTo>
                    <a:pt x="0" y="42"/>
                  </a:lnTo>
                  <a:lnTo>
                    <a:pt x="131" y="86"/>
                  </a:lnTo>
                  <a:lnTo>
                    <a:pt x="89" y="4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49640" y="4676760"/>
              <a:ext cx="6480" cy="5724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4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49640" y="474660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49640" y="4772160"/>
              <a:ext cx="6480" cy="55440"/>
            </a:xfrm>
            <a:custGeom>
              <a:avLst/>
              <a:gdLst/>
              <a:ahLst/>
              <a:rect l="l" t="t" r="r" b="b"/>
              <a:pathLst>
                <a:path w="4" h="35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49640" y="484020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49640" y="4865760"/>
              <a:ext cx="6480" cy="5724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49640" y="493560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49640" y="4960800"/>
              <a:ext cx="6480" cy="5724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49640" y="503064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49640" y="5056200"/>
              <a:ext cx="6480" cy="5724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49640" y="512604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49640" y="5151600"/>
              <a:ext cx="6480" cy="55440"/>
            </a:xfrm>
            <a:custGeom>
              <a:avLst/>
              <a:gdLst/>
              <a:ahLst/>
              <a:rect l="l" t="t" r="r" b="b"/>
              <a:pathLst>
                <a:path w="4" h="35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49640" y="521964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49640" y="5245200"/>
              <a:ext cx="6480" cy="5688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49640" y="531504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49640" y="5340240"/>
              <a:ext cx="6480" cy="5724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49640" y="541008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1200" y="4600440"/>
              <a:ext cx="91800" cy="446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24" y="18"/>
                  </a:lnTo>
                  <a:lnTo>
                    <a:pt x="46" y="26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56" y="18"/>
                  </a:lnTo>
                  <a:lnTo>
                    <a:pt x="54" y="16"/>
                  </a:lnTo>
                  <a:lnTo>
                    <a:pt x="52" y="16"/>
                  </a:lnTo>
                  <a:lnTo>
                    <a:pt x="48" y="14"/>
                  </a:lnTo>
                  <a:lnTo>
                    <a:pt x="26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7920" y="464508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76320" y="4670280"/>
              <a:ext cx="92160" cy="446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34" y="22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56" y="18"/>
                  </a:lnTo>
                  <a:lnTo>
                    <a:pt x="54" y="16"/>
                  </a:lnTo>
                  <a:lnTo>
                    <a:pt x="52" y="16"/>
                  </a:lnTo>
                  <a:lnTo>
                    <a:pt x="36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03400" y="471492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73240" y="4740120"/>
              <a:ext cx="90360" cy="4464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8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1" y="28"/>
                  </a:lnTo>
                  <a:lnTo>
                    <a:pt x="53" y="28"/>
                  </a:lnTo>
                  <a:lnTo>
                    <a:pt x="55" y="26"/>
                  </a:lnTo>
                  <a:lnTo>
                    <a:pt x="57" y="24"/>
                  </a:lnTo>
                  <a:lnTo>
                    <a:pt x="57" y="22"/>
                  </a:lnTo>
                  <a:lnTo>
                    <a:pt x="55" y="20"/>
                  </a:lnTo>
                  <a:lnTo>
                    <a:pt x="53" y="18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8520" y="478476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68360" y="4811760"/>
              <a:ext cx="90720" cy="4428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8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51" y="28"/>
                  </a:lnTo>
                  <a:lnTo>
                    <a:pt x="53" y="28"/>
                  </a:lnTo>
                  <a:lnTo>
                    <a:pt x="55" y="26"/>
                  </a:lnTo>
                  <a:lnTo>
                    <a:pt x="57" y="24"/>
                  </a:lnTo>
                  <a:lnTo>
                    <a:pt x="57" y="22"/>
                  </a:lnTo>
                  <a:lnTo>
                    <a:pt x="57" y="20"/>
                  </a:lnTo>
                  <a:lnTo>
                    <a:pt x="57" y="18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94000" y="4856040"/>
              <a:ext cx="3780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66720" y="4881600"/>
              <a:ext cx="8892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4" y="26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4" y="16"/>
                  </a:lnTo>
                  <a:lnTo>
                    <a:pt x="52" y="16"/>
                  </a:lnTo>
                  <a:lnTo>
                    <a:pt x="46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89120" y="4925880"/>
              <a:ext cx="38160" cy="2232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8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62200" y="4948200"/>
              <a:ext cx="92160" cy="446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6" y="26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6" y="20"/>
                  </a:lnTo>
                  <a:lnTo>
                    <a:pt x="54" y="18"/>
                  </a:lnTo>
                  <a:lnTo>
                    <a:pt x="52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87480" y="499284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60560" y="5014800"/>
              <a:ext cx="88920" cy="4464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4" y="16"/>
                  </a:lnTo>
                  <a:lnTo>
                    <a:pt x="52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87640" y="505620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55680" y="5078520"/>
              <a:ext cx="92160" cy="41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8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2" y="14"/>
                  </a:lnTo>
                  <a:lnTo>
                    <a:pt x="52" y="26"/>
                  </a:lnTo>
                  <a:lnTo>
                    <a:pt x="54" y="26"/>
                  </a:lnTo>
                  <a:lnTo>
                    <a:pt x="56" y="26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58" y="18"/>
                  </a:lnTo>
                  <a:lnTo>
                    <a:pt x="56" y="16"/>
                  </a:lnTo>
                  <a:lnTo>
                    <a:pt x="54" y="14"/>
                  </a:lnTo>
                  <a:lnTo>
                    <a:pt x="14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86000" y="511668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10" y="14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57280" y="5138640"/>
              <a:ext cx="92160" cy="3672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54" y="23"/>
                  </a:lnTo>
                  <a:lnTo>
                    <a:pt x="56" y="21"/>
                  </a:lnTo>
                  <a:lnTo>
                    <a:pt x="58" y="19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8" y="14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42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87600" y="516888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60680" y="5187960"/>
              <a:ext cx="90360" cy="3168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5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7" y="20"/>
                  </a:lnTo>
                  <a:lnTo>
                    <a:pt x="51" y="20"/>
                  </a:lnTo>
                  <a:lnTo>
                    <a:pt x="53" y="20"/>
                  </a:lnTo>
                  <a:lnTo>
                    <a:pt x="55" y="20"/>
                  </a:lnTo>
                  <a:lnTo>
                    <a:pt x="57" y="18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57" y="12"/>
                  </a:lnTo>
                  <a:lnTo>
                    <a:pt x="55" y="10"/>
                  </a:lnTo>
                  <a:lnTo>
                    <a:pt x="53" y="8"/>
                  </a:lnTo>
                  <a:lnTo>
                    <a:pt x="49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89200" y="5210280"/>
              <a:ext cx="38160" cy="2196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8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5219640"/>
              <a:ext cx="93600" cy="25560"/>
            </a:xfrm>
            <a:custGeom>
              <a:avLst/>
              <a:gdLst/>
              <a:ahLst/>
              <a:rect l="l" t="t" r="r" b="b"/>
              <a:pathLst>
                <a:path w="59" h="16">
                  <a:moveTo>
                    <a:pt x="8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37" y="16"/>
                  </a:lnTo>
                  <a:lnTo>
                    <a:pt x="51" y="16"/>
                  </a:lnTo>
                  <a:lnTo>
                    <a:pt x="53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9" y="12"/>
                  </a:lnTo>
                  <a:lnTo>
                    <a:pt x="59" y="10"/>
                  </a:lnTo>
                  <a:lnTo>
                    <a:pt x="57" y="8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39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97280" y="523224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12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2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73240" y="5232240"/>
              <a:ext cx="93960" cy="22320"/>
            </a:xfrm>
            <a:custGeom>
              <a:avLst/>
              <a:gdLst/>
              <a:ahLst/>
              <a:rect l="l" t="t" r="r" b="b"/>
              <a:pathLst>
                <a:path w="59" h="14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53" y="12"/>
                  </a:lnTo>
                  <a:lnTo>
                    <a:pt x="55" y="12"/>
                  </a:lnTo>
                  <a:lnTo>
                    <a:pt x="57" y="10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57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22" y="2"/>
                  </a:lnTo>
                  <a:lnTo>
                    <a:pt x="24" y="8"/>
                  </a:lnTo>
                  <a:lnTo>
                    <a:pt x="24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05000" y="523224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2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81320" y="5222880"/>
              <a:ext cx="93600" cy="25560"/>
            </a:xfrm>
            <a:custGeom>
              <a:avLst/>
              <a:gdLst/>
              <a:ahLst/>
              <a:rect l="l" t="t" r="r" b="b"/>
              <a:pathLst>
                <a:path w="59" h="16">
                  <a:moveTo>
                    <a:pt x="4" y="4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53" y="12"/>
                  </a:lnTo>
                  <a:lnTo>
                    <a:pt x="55" y="12"/>
                  </a:lnTo>
                  <a:lnTo>
                    <a:pt x="57" y="10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57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13080" y="521964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4" y="0"/>
                  </a:move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2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89400" y="5203800"/>
              <a:ext cx="90360" cy="2844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4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26" y="16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7" y="10"/>
                  </a:lnTo>
                  <a:lnTo>
                    <a:pt x="57" y="8"/>
                  </a:lnTo>
                  <a:lnTo>
                    <a:pt x="57" y="6"/>
                  </a:lnTo>
                  <a:lnTo>
                    <a:pt x="57" y="4"/>
                  </a:lnTo>
                  <a:lnTo>
                    <a:pt x="56" y="2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24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17920" y="5194440"/>
              <a:ext cx="38160" cy="2196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6" y="2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94240" y="5178600"/>
              <a:ext cx="95040" cy="28440"/>
            </a:xfrm>
            <a:custGeom>
              <a:avLst/>
              <a:gdLst/>
              <a:ahLst/>
              <a:rect l="l" t="t" r="r" b="b"/>
              <a:pathLst>
                <a:path w="60" h="18">
                  <a:moveTo>
                    <a:pt x="6" y="6"/>
                  </a:move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30" y="14"/>
                  </a:lnTo>
                  <a:lnTo>
                    <a:pt x="54" y="12"/>
                  </a:lnTo>
                  <a:lnTo>
                    <a:pt x="56" y="10"/>
                  </a:lnTo>
                  <a:lnTo>
                    <a:pt x="58" y="8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28" y="2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26000" y="5168880"/>
              <a:ext cx="37800" cy="2232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4" y="2"/>
                  </a:move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2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1960" y="51609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4" y="2"/>
                  </a:move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44" y="11"/>
                  </a:lnTo>
                  <a:lnTo>
                    <a:pt x="44" y="9"/>
                  </a:lnTo>
                  <a:lnTo>
                    <a:pt x="46" y="7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6" y="3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1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0560" y="3589200"/>
              <a:ext cx="3075120" cy="293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0560" y="3589200"/>
              <a:ext cx="0" cy="21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5400" y="375300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0" y="0"/>
                  </a:moveTo>
                  <a:lnTo>
                    <a:pt x="41" y="86"/>
                  </a:lnTo>
                  <a:lnTo>
                    <a:pt x="85" y="0"/>
                  </a:lnTo>
                  <a:lnTo>
                    <a:pt x="41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00160" y="358920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33560" y="3749760"/>
              <a:ext cx="136440" cy="13320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0" y="0"/>
                  </a:moveTo>
                  <a:lnTo>
                    <a:pt x="42" y="84"/>
                  </a:lnTo>
                  <a:lnTo>
                    <a:pt x="86" y="0"/>
                  </a:lnTo>
                  <a:lnTo>
                    <a:pt x="42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06520" y="358920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39920" y="3749760"/>
              <a:ext cx="135000" cy="1332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0" y="0"/>
                  </a:moveTo>
                  <a:lnTo>
                    <a:pt x="44" y="84"/>
                  </a:lnTo>
                  <a:lnTo>
                    <a:pt x="85" y="0"/>
                  </a:lnTo>
                  <a:lnTo>
                    <a:pt x="44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14680" y="358920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49520" y="3749760"/>
              <a:ext cx="135000" cy="1332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0" y="0"/>
                  </a:moveTo>
                  <a:lnTo>
                    <a:pt x="43" y="84"/>
                  </a:lnTo>
                  <a:lnTo>
                    <a:pt x="85" y="0"/>
                  </a:lnTo>
                  <a:lnTo>
                    <a:pt x="4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21040" y="358920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54080" y="3749760"/>
              <a:ext cx="136800" cy="13320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0" y="0"/>
                  </a:moveTo>
                  <a:lnTo>
                    <a:pt x="42" y="84"/>
                  </a:lnTo>
                  <a:lnTo>
                    <a:pt x="86" y="0"/>
                  </a:lnTo>
                  <a:lnTo>
                    <a:pt x="42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30280" y="358920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63680" y="3749760"/>
              <a:ext cx="135000" cy="1332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0" y="0"/>
                  </a:moveTo>
                  <a:lnTo>
                    <a:pt x="42" y="84"/>
                  </a:lnTo>
                  <a:lnTo>
                    <a:pt x="85" y="0"/>
                  </a:lnTo>
                  <a:lnTo>
                    <a:pt x="42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35200" y="358920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68600" y="3749760"/>
              <a:ext cx="136440" cy="13320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0" y="0"/>
                  </a:moveTo>
                  <a:lnTo>
                    <a:pt x="44" y="84"/>
                  </a:lnTo>
                  <a:lnTo>
                    <a:pt x="86" y="0"/>
                  </a:lnTo>
                  <a:lnTo>
                    <a:pt x="44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44800" y="358920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78200" y="3749760"/>
              <a:ext cx="136440" cy="13320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0" y="0"/>
                  </a:moveTo>
                  <a:lnTo>
                    <a:pt x="44" y="84"/>
                  </a:lnTo>
                  <a:lnTo>
                    <a:pt x="86" y="0"/>
                  </a:lnTo>
                  <a:lnTo>
                    <a:pt x="44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51160" y="358920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84560" y="3749760"/>
              <a:ext cx="135000" cy="1332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0" y="0"/>
                  </a:moveTo>
                  <a:lnTo>
                    <a:pt x="42" y="84"/>
                  </a:lnTo>
                  <a:lnTo>
                    <a:pt x="85" y="0"/>
                  </a:lnTo>
                  <a:lnTo>
                    <a:pt x="42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59320" y="358920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92360" y="3749760"/>
              <a:ext cx="136800" cy="13320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0" y="0"/>
                  </a:moveTo>
                  <a:lnTo>
                    <a:pt x="42" y="84"/>
                  </a:lnTo>
                  <a:lnTo>
                    <a:pt x="86" y="0"/>
                  </a:lnTo>
                  <a:lnTo>
                    <a:pt x="42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65680" y="358920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98720" y="3749760"/>
              <a:ext cx="135000" cy="1332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0" y="0"/>
                  </a:moveTo>
                  <a:lnTo>
                    <a:pt x="44" y="84"/>
                  </a:lnTo>
                  <a:lnTo>
                    <a:pt x="85" y="0"/>
                  </a:lnTo>
                  <a:lnTo>
                    <a:pt x="44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759200" y="3573360"/>
            <a:ext cx="4205520" cy="1832040"/>
            <a:chOff x="4759200" y="3573360"/>
            <a:chExt cx="4205520" cy="1832040"/>
          </a:xfrm>
        </p:grpSpPr>
        <p:sp>
          <p:nvSpPr>
            <p:cNvPr id="321" name=""/>
            <p:cNvSpPr/>
            <p:nvPr/>
          </p:nvSpPr>
          <p:spPr>
            <a:xfrm>
              <a:off x="4759200" y="3573360"/>
              <a:ext cx="83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238960" y="3975120"/>
              <a:ext cx="152640" cy="127080"/>
            </a:xfrm>
            <a:custGeom>
              <a:avLst/>
              <a:gdLst/>
              <a:ahLst/>
              <a:rect l="l" t="t" r="r" b="b"/>
              <a:pathLst>
                <a:path w="100" h="80">
                  <a:moveTo>
                    <a:pt x="49" y="0"/>
                  </a:moveTo>
                  <a:lnTo>
                    <a:pt x="0" y="80"/>
                  </a:lnTo>
                  <a:lnTo>
                    <a:pt x="100" y="8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09080" y="4148280"/>
              <a:ext cx="207720" cy="7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11960" y="4148280"/>
              <a:ext cx="19872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15200" y="4102200"/>
              <a:ext cx="20160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28160" y="4102200"/>
              <a:ext cx="37800" cy="428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96200" y="4102200"/>
              <a:ext cx="42840" cy="428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66040" y="4102200"/>
              <a:ext cx="34920" cy="428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61040" y="3981600"/>
              <a:ext cx="154080" cy="126720"/>
            </a:xfrm>
            <a:custGeom>
              <a:avLst/>
              <a:gdLst/>
              <a:ahLst/>
              <a:rect l="l" t="t" r="r" b="b"/>
              <a:pathLst>
                <a:path w="101" h="80">
                  <a:moveTo>
                    <a:pt x="51" y="0"/>
                  </a:moveTo>
                  <a:lnTo>
                    <a:pt x="0" y="80"/>
                  </a:lnTo>
                  <a:lnTo>
                    <a:pt x="101" y="8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34040" y="4111560"/>
              <a:ext cx="20484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37280" y="4111560"/>
              <a:ext cx="19836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564400" y="4030560"/>
              <a:ext cx="3970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585280" y="4014720"/>
              <a:ext cx="2444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84200" y="4024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728200" y="40273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742240" y="4098960"/>
              <a:ext cx="2224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42240" y="409896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</a:rPr>
                <a:t>Ed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916120" y="41022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5560" y="3971880"/>
              <a:ext cx="2997360" cy="309600"/>
            </a:xfrm>
            <a:custGeom>
              <a:avLst/>
              <a:gdLst/>
              <a:ahLst/>
              <a:rect l="l" t="t" r="r" b="b"/>
              <a:pathLst>
                <a:path w="1968" h="195">
                  <a:moveTo>
                    <a:pt x="4" y="4"/>
                  </a:moveTo>
                  <a:lnTo>
                    <a:pt x="0" y="16"/>
                  </a:lnTo>
                  <a:lnTo>
                    <a:pt x="6" y="18"/>
                  </a:lnTo>
                  <a:lnTo>
                    <a:pt x="14" y="21"/>
                  </a:lnTo>
                  <a:lnTo>
                    <a:pt x="22" y="23"/>
                  </a:lnTo>
                  <a:lnTo>
                    <a:pt x="30" y="25"/>
                  </a:lnTo>
                  <a:lnTo>
                    <a:pt x="50" y="29"/>
                  </a:lnTo>
                  <a:lnTo>
                    <a:pt x="71" y="35"/>
                  </a:lnTo>
                  <a:lnTo>
                    <a:pt x="95" y="41"/>
                  </a:lnTo>
                  <a:lnTo>
                    <a:pt x="121" y="47"/>
                  </a:lnTo>
                  <a:lnTo>
                    <a:pt x="147" y="53"/>
                  </a:lnTo>
                  <a:lnTo>
                    <a:pt x="174" y="62"/>
                  </a:lnTo>
                  <a:lnTo>
                    <a:pt x="230" y="74"/>
                  </a:lnTo>
                  <a:lnTo>
                    <a:pt x="259" y="82"/>
                  </a:lnTo>
                  <a:lnTo>
                    <a:pt x="287" y="88"/>
                  </a:lnTo>
                  <a:lnTo>
                    <a:pt x="313" y="95"/>
                  </a:lnTo>
                  <a:lnTo>
                    <a:pt x="338" y="101"/>
                  </a:lnTo>
                  <a:lnTo>
                    <a:pt x="362" y="107"/>
                  </a:lnTo>
                  <a:lnTo>
                    <a:pt x="386" y="111"/>
                  </a:lnTo>
                  <a:lnTo>
                    <a:pt x="406" y="115"/>
                  </a:lnTo>
                  <a:lnTo>
                    <a:pt x="423" y="119"/>
                  </a:lnTo>
                  <a:lnTo>
                    <a:pt x="443" y="125"/>
                  </a:lnTo>
                  <a:lnTo>
                    <a:pt x="459" y="130"/>
                  </a:lnTo>
                  <a:lnTo>
                    <a:pt x="495" y="138"/>
                  </a:lnTo>
                  <a:lnTo>
                    <a:pt x="528" y="144"/>
                  </a:lnTo>
                  <a:lnTo>
                    <a:pt x="530" y="144"/>
                  </a:lnTo>
                  <a:lnTo>
                    <a:pt x="562" y="150"/>
                  </a:lnTo>
                  <a:lnTo>
                    <a:pt x="595" y="156"/>
                  </a:lnTo>
                  <a:lnTo>
                    <a:pt x="629" y="162"/>
                  </a:lnTo>
                  <a:lnTo>
                    <a:pt x="649" y="164"/>
                  </a:lnTo>
                  <a:lnTo>
                    <a:pt x="667" y="169"/>
                  </a:lnTo>
                  <a:lnTo>
                    <a:pt x="708" y="173"/>
                  </a:lnTo>
                  <a:lnTo>
                    <a:pt x="750" y="177"/>
                  </a:lnTo>
                  <a:lnTo>
                    <a:pt x="793" y="183"/>
                  </a:lnTo>
                  <a:lnTo>
                    <a:pt x="839" y="187"/>
                  </a:lnTo>
                  <a:lnTo>
                    <a:pt x="882" y="191"/>
                  </a:lnTo>
                  <a:lnTo>
                    <a:pt x="928" y="193"/>
                  </a:lnTo>
                  <a:lnTo>
                    <a:pt x="971" y="195"/>
                  </a:lnTo>
                  <a:lnTo>
                    <a:pt x="1011" y="195"/>
                  </a:lnTo>
                  <a:lnTo>
                    <a:pt x="1050" y="195"/>
                  </a:lnTo>
                  <a:lnTo>
                    <a:pt x="1090" y="195"/>
                  </a:lnTo>
                  <a:lnTo>
                    <a:pt x="1127" y="195"/>
                  </a:lnTo>
                  <a:lnTo>
                    <a:pt x="1163" y="193"/>
                  </a:lnTo>
                  <a:lnTo>
                    <a:pt x="1201" y="189"/>
                  </a:lnTo>
                  <a:lnTo>
                    <a:pt x="1238" y="187"/>
                  </a:lnTo>
                  <a:lnTo>
                    <a:pt x="1276" y="183"/>
                  </a:lnTo>
                  <a:lnTo>
                    <a:pt x="1315" y="177"/>
                  </a:lnTo>
                  <a:lnTo>
                    <a:pt x="1355" y="171"/>
                  </a:lnTo>
                  <a:lnTo>
                    <a:pt x="1396" y="164"/>
                  </a:lnTo>
                  <a:lnTo>
                    <a:pt x="1440" y="156"/>
                  </a:lnTo>
                  <a:lnTo>
                    <a:pt x="1481" y="148"/>
                  </a:lnTo>
                  <a:lnTo>
                    <a:pt x="1483" y="146"/>
                  </a:lnTo>
                  <a:lnTo>
                    <a:pt x="1568" y="127"/>
                  </a:lnTo>
                  <a:lnTo>
                    <a:pt x="1612" y="117"/>
                  </a:lnTo>
                  <a:lnTo>
                    <a:pt x="1651" y="107"/>
                  </a:lnTo>
                  <a:lnTo>
                    <a:pt x="1673" y="103"/>
                  </a:lnTo>
                  <a:lnTo>
                    <a:pt x="1695" y="97"/>
                  </a:lnTo>
                  <a:lnTo>
                    <a:pt x="1739" y="82"/>
                  </a:lnTo>
                  <a:lnTo>
                    <a:pt x="1782" y="70"/>
                  </a:lnTo>
                  <a:lnTo>
                    <a:pt x="1826" y="58"/>
                  </a:lnTo>
                  <a:lnTo>
                    <a:pt x="1847" y="51"/>
                  </a:lnTo>
                  <a:lnTo>
                    <a:pt x="1869" y="43"/>
                  </a:lnTo>
                  <a:lnTo>
                    <a:pt x="1887" y="37"/>
                  </a:lnTo>
                  <a:lnTo>
                    <a:pt x="1907" y="33"/>
                  </a:lnTo>
                  <a:lnTo>
                    <a:pt x="1924" y="27"/>
                  </a:lnTo>
                  <a:lnTo>
                    <a:pt x="1940" y="21"/>
                  </a:lnTo>
                  <a:lnTo>
                    <a:pt x="1956" y="16"/>
                  </a:lnTo>
                  <a:lnTo>
                    <a:pt x="1968" y="12"/>
                  </a:lnTo>
                  <a:lnTo>
                    <a:pt x="1964" y="0"/>
                  </a:lnTo>
                  <a:lnTo>
                    <a:pt x="1950" y="4"/>
                  </a:lnTo>
                  <a:lnTo>
                    <a:pt x="1936" y="8"/>
                  </a:lnTo>
                  <a:lnTo>
                    <a:pt x="1918" y="14"/>
                  </a:lnTo>
                  <a:lnTo>
                    <a:pt x="1903" y="18"/>
                  </a:lnTo>
                  <a:lnTo>
                    <a:pt x="1883" y="25"/>
                  </a:lnTo>
                  <a:lnTo>
                    <a:pt x="1863" y="31"/>
                  </a:lnTo>
                  <a:lnTo>
                    <a:pt x="1843" y="37"/>
                  </a:lnTo>
                  <a:lnTo>
                    <a:pt x="1822" y="43"/>
                  </a:lnTo>
                  <a:lnTo>
                    <a:pt x="1778" y="58"/>
                  </a:lnTo>
                  <a:lnTo>
                    <a:pt x="1733" y="70"/>
                  </a:lnTo>
                  <a:lnTo>
                    <a:pt x="1689" y="82"/>
                  </a:lnTo>
                  <a:lnTo>
                    <a:pt x="1667" y="88"/>
                  </a:lnTo>
                  <a:lnTo>
                    <a:pt x="1648" y="95"/>
                  </a:lnTo>
                  <a:lnTo>
                    <a:pt x="1606" y="105"/>
                  </a:lnTo>
                  <a:lnTo>
                    <a:pt x="1564" y="115"/>
                  </a:lnTo>
                  <a:lnTo>
                    <a:pt x="1479" y="134"/>
                  </a:lnTo>
                  <a:lnTo>
                    <a:pt x="1481" y="140"/>
                  </a:lnTo>
                  <a:lnTo>
                    <a:pt x="1481" y="134"/>
                  </a:lnTo>
                  <a:lnTo>
                    <a:pt x="1440" y="142"/>
                  </a:lnTo>
                  <a:lnTo>
                    <a:pt x="1396" y="150"/>
                  </a:lnTo>
                  <a:lnTo>
                    <a:pt x="1355" y="156"/>
                  </a:lnTo>
                  <a:lnTo>
                    <a:pt x="1313" y="162"/>
                  </a:lnTo>
                  <a:lnTo>
                    <a:pt x="1276" y="169"/>
                  </a:lnTo>
                  <a:lnTo>
                    <a:pt x="1238" y="173"/>
                  </a:lnTo>
                  <a:lnTo>
                    <a:pt x="1201" y="175"/>
                  </a:lnTo>
                  <a:lnTo>
                    <a:pt x="1163" y="179"/>
                  </a:lnTo>
                  <a:lnTo>
                    <a:pt x="1127" y="181"/>
                  </a:lnTo>
                  <a:lnTo>
                    <a:pt x="1090" y="181"/>
                  </a:lnTo>
                  <a:lnTo>
                    <a:pt x="1050" y="183"/>
                  </a:lnTo>
                  <a:lnTo>
                    <a:pt x="1011" y="183"/>
                  </a:lnTo>
                  <a:lnTo>
                    <a:pt x="971" y="181"/>
                  </a:lnTo>
                  <a:lnTo>
                    <a:pt x="928" y="179"/>
                  </a:lnTo>
                  <a:lnTo>
                    <a:pt x="882" y="177"/>
                  </a:lnTo>
                  <a:lnTo>
                    <a:pt x="839" y="173"/>
                  </a:lnTo>
                  <a:lnTo>
                    <a:pt x="793" y="169"/>
                  </a:lnTo>
                  <a:lnTo>
                    <a:pt x="750" y="162"/>
                  </a:lnTo>
                  <a:lnTo>
                    <a:pt x="708" y="158"/>
                  </a:lnTo>
                  <a:lnTo>
                    <a:pt x="669" y="154"/>
                  </a:lnTo>
                  <a:lnTo>
                    <a:pt x="649" y="150"/>
                  </a:lnTo>
                  <a:lnTo>
                    <a:pt x="629" y="148"/>
                  </a:lnTo>
                  <a:lnTo>
                    <a:pt x="595" y="144"/>
                  </a:lnTo>
                  <a:lnTo>
                    <a:pt x="562" y="138"/>
                  </a:lnTo>
                  <a:lnTo>
                    <a:pt x="530" y="130"/>
                  </a:lnTo>
                  <a:lnTo>
                    <a:pt x="530" y="138"/>
                  </a:lnTo>
                  <a:lnTo>
                    <a:pt x="532" y="132"/>
                  </a:lnTo>
                  <a:lnTo>
                    <a:pt x="501" y="123"/>
                  </a:lnTo>
                  <a:lnTo>
                    <a:pt x="465" y="115"/>
                  </a:lnTo>
                  <a:lnTo>
                    <a:pt x="447" y="111"/>
                  </a:lnTo>
                  <a:lnTo>
                    <a:pt x="429" y="107"/>
                  </a:lnTo>
                  <a:lnTo>
                    <a:pt x="410" y="103"/>
                  </a:lnTo>
                  <a:lnTo>
                    <a:pt x="388" y="99"/>
                  </a:lnTo>
                  <a:lnTo>
                    <a:pt x="368" y="92"/>
                  </a:lnTo>
                  <a:lnTo>
                    <a:pt x="344" y="88"/>
                  </a:lnTo>
                  <a:lnTo>
                    <a:pt x="319" y="82"/>
                  </a:lnTo>
                  <a:lnTo>
                    <a:pt x="291" y="74"/>
                  </a:lnTo>
                  <a:lnTo>
                    <a:pt x="263" y="68"/>
                  </a:lnTo>
                  <a:lnTo>
                    <a:pt x="236" y="62"/>
                  </a:lnTo>
                  <a:lnTo>
                    <a:pt x="180" y="47"/>
                  </a:lnTo>
                  <a:lnTo>
                    <a:pt x="152" y="41"/>
                  </a:lnTo>
                  <a:lnTo>
                    <a:pt x="125" y="35"/>
                  </a:lnTo>
                  <a:lnTo>
                    <a:pt x="101" y="27"/>
                  </a:lnTo>
                  <a:lnTo>
                    <a:pt x="75" y="21"/>
                  </a:lnTo>
                  <a:lnTo>
                    <a:pt x="56" y="16"/>
                  </a:lnTo>
                  <a:lnTo>
                    <a:pt x="36" y="10"/>
                  </a:lnTo>
                  <a:lnTo>
                    <a:pt x="26" y="8"/>
                  </a:lnTo>
                  <a:lnTo>
                    <a:pt x="18" y="8"/>
                  </a:lnTo>
                  <a:lnTo>
                    <a:pt x="12" y="6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8880120" y="4849920"/>
              <a:ext cx="3240" cy="36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832960" y="4778280"/>
              <a:ext cx="101520" cy="111240"/>
            </a:xfrm>
            <a:custGeom>
              <a:avLst/>
              <a:gdLst/>
              <a:ahLst/>
              <a:rect l="l" t="t" r="r" b="b"/>
              <a:pathLst>
                <a:path w="67" h="70">
                  <a:moveTo>
                    <a:pt x="67" y="70"/>
                  </a:moveTo>
                  <a:lnTo>
                    <a:pt x="34" y="0"/>
                  </a:lnTo>
                  <a:lnTo>
                    <a:pt x="0" y="70"/>
                  </a:lnTo>
                  <a:lnTo>
                    <a:pt x="34" y="47"/>
                  </a:lnTo>
                  <a:lnTo>
                    <a:pt x="6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829720" y="5180040"/>
              <a:ext cx="101520" cy="1141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0" y="0"/>
                  </a:moveTo>
                  <a:lnTo>
                    <a:pt x="34" y="72"/>
                  </a:lnTo>
                  <a:lnTo>
                    <a:pt x="67" y="0"/>
                  </a:lnTo>
                  <a:lnTo>
                    <a:pt x="34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42280" y="4905360"/>
              <a:ext cx="4651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97720" y="4905360"/>
              <a:ext cx="2336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38960" y="4869000"/>
              <a:ext cx="19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577360" y="49179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07600" y="4883040"/>
              <a:ext cx="3124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58200" y="4981680"/>
              <a:ext cx="434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876160" y="4886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372520" y="4788000"/>
              <a:ext cx="55080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67480" y="5300640"/>
              <a:ext cx="14464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67240" y="4775040"/>
              <a:ext cx="29624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34120" y="3613320"/>
              <a:ext cx="10843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4120" y="39816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30960" y="39816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65880" y="39816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4160" y="3981600"/>
              <a:ext cx="64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97640" y="39816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99160" y="39816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30840" y="39816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30920" y="39816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5840" y="3981600"/>
              <a:ext cx="69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64120" y="3981600"/>
              <a:ext cx="64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99040" y="3981600"/>
              <a:ext cx="69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5880" y="39816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30800" y="3981600"/>
              <a:ext cx="69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29440" y="39816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64360" y="3981600"/>
              <a:ext cx="69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64440" y="3981600"/>
              <a:ext cx="61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96120" y="39816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92960" y="39816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27880" y="39816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26160" y="398160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64320" y="3981600"/>
              <a:ext cx="69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61160" y="39816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92840" y="39816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94360" y="39816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26400" y="3981600"/>
              <a:ext cx="72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26120" y="398160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61040" y="3981600"/>
              <a:ext cx="69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59680" y="39816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94600" y="39816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291440" y="39816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26360" y="3981600"/>
              <a:ext cx="69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23200" y="39816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458120" y="3981600"/>
              <a:ext cx="71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56400" y="3981600"/>
              <a:ext cx="129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91320" y="39816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88160" y="398160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23080" y="39816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24960" y="3981600"/>
              <a:ext cx="4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56640" y="39816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56720" y="39816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88400" y="3981600"/>
              <a:ext cx="73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089920" y="39816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24840" y="3981600"/>
              <a:ext cx="69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21680" y="39816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256600" y="3981600"/>
              <a:ext cx="52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70360" y="3984480"/>
              <a:ext cx="4161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16680" y="3916440"/>
              <a:ext cx="195120" cy="139680"/>
            </a:xfrm>
            <a:custGeom>
              <a:avLst/>
              <a:gdLst/>
              <a:ahLst/>
              <a:rect l="l" t="t" r="r" b="b"/>
              <a:pathLst>
                <a:path w="128" h="88">
                  <a:moveTo>
                    <a:pt x="0" y="88"/>
                  </a:moveTo>
                  <a:lnTo>
                    <a:pt x="128" y="43"/>
                  </a:lnTo>
                  <a:lnTo>
                    <a:pt x="0" y="0"/>
                  </a:lnTo>
                  <a:lnTo>
                    <a:pt x="41" y="43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470800" y="3971880"/>
              <a:ext cx="4161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348760" y="3903840"/>
              <a:ext cx="193680" cy="139680"/>
            </a:xfrm>
            <a:custGeom>
              <a:avLst/>
              <a:gdLst/>
              <a:ahLst/>
              <a:rect l="l" t="t" r="r" b="b"/>
              <a:pathLst>
                <a:path w="128" h="88">
                  <a:moveTo>
                    <a:pt x="128" y="0"/>
                  </a:moveTo>
                  <a:lnTo>
                    <a:pt x="0" y="43"/>
                  </a:lnTo>
                  <a:lnTo>
                    <a:pt x="128" y="88"/>
                  </a:lnTo>
                  <a:lnTo>
                    <a:pt x="87" y="43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400720" y="4788000"/>
              <a:ext cx="2889360" cy="500040"/>
            </a:xfrm>
            <a:custGeom>
              <a:avLst/>
              <a:gdLst/>
              <a:ahLst/>
              <a:rect l="l" t="t" r="r" b="b"/>
              <a:pathLst>
                <a:path w="1898" h="315">
                  <a:moveTo>
                    <a:pt x="0" y="0"/>
                  </a:moveTo>
                  <a:lnTo>
                    <a:pt x="118" y="60"/>
                  </a:lnTo>
                  <a:lnTo>
                    <a:pt x="237" y="115"/>
                  </a:lnTo>
                  <a:lnTo>
                    <a:pt x="356" y="169"/>
                  </a:lnTo>
                  <a:lnTo>
                    <a:pt x="474" y="216"/>
                  </a:lnTo>
                  <a:lnTo>
                    <a:pt x="534" y="239"/>
                  </a:lnTo>
                  <a:lnTo>
                    <a:pt x="593" y="257"/>
                  </a:lnTo>
                  <a:lnTo>
                    <a:pt x="652" y="274"/>
                  </a:lnTo>
                  <a:lnTo>
                    <a:pt x="712" y="288"/>
                  </a:lnTo>
                  <a:lnTo>
                    <a:pt x="771" y="300"/>
                  </a:lnTo>
                  <a:lnTo>
                    <a:pt x="830" y="309"/>
                  </a:lnTo>
                  <a:lnTo>
                    <a:pt x="890" y="313"/>
                  </a:lnTo>
                  <a:lnTo>
                    <a:pt x="949" y="315"/>
                  </a:lnTo>
                  <a:lnTo>
                    <a:pt x="1008" y="313"/>
                  </a:lnTo>
                  <a:lnTo>
                    <a:pt x="1068" y="309"/>
                  </a:lnTo>
                  <a:lnTo>
                    <a:pt x="1127" y="300"/>
                  </a:lnTo>
                  <a:lnTo>
                    <a:pt x="1186" y="288"/>
                  </a:lnTo>
                  <a:lnTo>
                    <a:pt x="1246" y="274"/>
                  </a:lnTo>
                  <a:lnTo>
                    <a:pt x="1305" y="257"/>
                  </a:lnTo>
                  <a:lnTo>
                    <a:pt x="1364" y="239"/>
                  </a:lnTo>
                  <a:lnTo>
                    <a:pt x="1424" y="216"/>
                  </a:lnTo>
                  <a:lnTo>
                    <a:pt x="1542" y="169"/>
                  </a:lnTo>
                  <a:lnTo>
                    <a:pt x="1661" y="115"/>
                  </a:lnTo>
                  <a:lnTo>
                    <a:pt x="1780" y="60"/>
                  </a:lnTo>
                  <a:lnTo>
                    <a:pt x="18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00720" y="4788000"/>
              <a:ext cx="2889360" cy="500040"/>
            </a:xfrm>
            <a:custGeom>
              <a:avLst/>
              <a:gdLst/>
              <a:ahLst/>
              <a:rect l="l" t="t" r="r" b="b"/>
              <a:pathLst>
                <a:path w="1898" h="315">
                  <a:moveTo>
                    <a:pt x="0" y="0"/>
                  </a:moveTo>
                  <a:lnTo>
                    <a:pt x="118" y="60"/>
                  </a:lnTo>
                  <a:lnTo>
                    <a:pt x="237" y="115"/>
                  </a:lnTo>
                  <a:lnTo>
                    <a:pt x="356" y="169"/>
                  </a:lnTo>
                  <a:lnTo>
                    <a:pt x="474" y="216"/>
                  </a:lnTo>
                  <a:lnTo>
                    <a:pt x="534" y="239"/>
                  </a:lnTo>
                  <a:lnTo>
                    <a:pt x="593" y="257"/>
                  </a:lnTo>
                  <a:lnTo>
                    <a:pt x="652" y="274"/>
                  </a:lnTo>
                  <a:lnTo>
                    <a:pt x="712" y="288"/>
                  </a:lnTo>
                  <a:lnTo>
                    <a:pt x="771" y="300"/>
                  </a:lnTo>
                  <a:lnTo>
                    <a:pt x="830" y="309"/>
                  </a:lnTo>
                  <a:lnTo>
                    <a:pt x="890" y="313"/>
                  </a:lnTo>
                  <a:lnTo>
                    <a:pt x="949" y="315"/>
                  </a:lnTo>
                  <a:lnTo>
                    <a:pt x="1008" y="313"/>
                  </a:lnTo>
                  <a:lnTo>
                    <a:pt x="1068" y="309"/>
                  </a:lnTo>
                  <a:lnTo>
                    <a:pt x="1127" y="300"/>
                  </a:lnTo>
                  <a:lnTo>
                    <a:pt x="1186" y="288"/>
                  </a:lnTo>
                  <a:lnTo>
                    <a:pt x="1246" y="274"/>
                  </a:lnTo>
                  <a:lnTo>
                    <a:pt x="1305" y="257"/>
                  </a:lnTo>
                  <a:lnTo>
                    <a:pt x="1364" y="239"/>
                  </a:lnTo>
                  <a:lnTo>
                    <a:pt x="1424" y="216"/>
                  </a:lnTo>
                  <a:lnTo>
                    <a:pt x="1542" y="169"/>
                  </a:lnTo>
                  <a:lnTo>
                    <a:pt x="1661" y="115"/>
                  </a:lnTo>
                  <a:lnTo>
                    <a:pt x="1780" y="60"/>
                  </a:lnTo>
                  <a:lnTo>
                    <a:pt x="1898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45400" y="4586400"/>
              <a:ext cx="6120" cy="5868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4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4" y="3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45400" y="465768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45400" y="4683240"/>
              <a:ext cx="6120" cy="5868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4" y="3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45400" y="47563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45400" y="4781520"/>
              <a:ext cx="6120" cy="5868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4" y="3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45400" y="48531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45400" y="4879800"/>
              <a:ext cx="6120" cy="5904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4" y="3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45400" y="495144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45400" y="4976640"/>
              <a:ext cx="6120" cy="5904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4" y="3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4" y="35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5400" y="5049720"/>
              <a:ext cx="612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45400" y="5075280"/>
              <a:ext cx="6120" cy="5868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4" y="3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5146560"/>
              <a:ext cx="612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45400" y="5173560"/>
              <a:ext cx="6120" cy="5868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4" y="3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45400" y="524520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45400" y="5272200"/>
              <a:ext cx="6120" cy="5868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4" y="3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5400" y="534348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45400" y="5369040"/>
              <a:ext cx="6120" cy="363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91000" y="4765680"/>
              <a:ext cx="87480" cy="4608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8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3" y="26"/>
                  </a:lnTo>
                  <a:lnTo>
                    <a:pt x="55" y="24"/>
                  </a:lnTo>
                  <a:lnTo>
                    <a:pt x="57" y="22"/>
                  </a:lnTo>
                  <a:lnTo>
                    <a:pt x="57" y="20"/>
                  </a:lnTo>
                  <a:lnTo>
                    <a:pt x="55" y="18"/>
                  </a:lnTo>
                  <a:lnTo>
                    <a:pt x="53" y="16"/>
                  </a:lnTo>
                  <a:lnTo>
                    <a:pt x="51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11960" y="4807080"/>
              <a:ext cx="363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6" y="0"/>
                  </a:moveTo>
                  <a:lnTo>
                    <a:pt x="4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5"/>
                  </a:lnTo>
                  <a:lnTo>
                    <a:pt x="24" y="13"/>
                  </a:lnTo>
                  <a:lnTo>
                    <a:pt x="24" y="11"/>
                  </a:lnTo>
                  <a:lnTo>
                    <a:pt x="22" y="9"/>
                  </a:lnTo>
                  <a:lnTo>
                    <a:pt x="20" y="7"/>
                  </a:lnTo>
                  <a:lnTo>
                    <a:pt x="18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80000" y="4834080"/>
              <a:ext cx="88920" cy="428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50" y="27"/>
                  </a:lnTo>
                  <a:lnTo>
                    <a:pt x="52" y="27"/>
                  </a:lnTo>
                  <a:lnTo>
                    <a:pt x="54" y="25"/>
                  </a:lnTo>
                  <a:lnTo>
                    <a:pt x="56" y="23"/>
                  </a:lnTo>
                  <a:lnTo>
                    <a:pt x="58" y="21"/>
                  </a:lnTo>
                  <a:lnTo>
                    <a:pt x="58" y="18"/>
                  </a:lnTo>
                  <a:lnTo>
                    <a:pt x="56" y="16"/>
                  </a:lnTo>
                  <a:lnTo>
                    <a:pt x="54" y="14"/>
                  </a:lnTo>
                  <a:lnTo>
                    <a:pt x="52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00600" y="4873680"/>
              <a:ext cx="3348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70440" y="4898880"/>
              <a:ext cx="87480" cy="3996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9" y="25"/>
                  </a:lnTo>
                  <a:lnTo>
                    <a:pt x="51" y="25"/>
                  </a:lnTo>
                  <a:lnTo>
                    <a:pt x="53" y="25"/>
                  </a:lnTo>
                  <a:lnTo>
                    <a:pt x="55" y="23"/>
                  </a:lnTo>
                  <a:lnTo>
                    <a:pt x="57" y="21"/>
                  </a:lnTo>
                  <a:lnTo>
                    <a:pt x="57" y="19"/>
                  </a:lnTo>
                  <a:lnTo>
                    <a:pt x="55" y="17"/>
                  </a:lnTo>
                  <a:lnTo>
                    <a:pt x="53" y="14"/>
                  </a:lnTo>
                  <a:lnTo>
                    <a:pt x="51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91040" y="4938840"/>
              <a:ext cx="36720" cy="2196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61240" y="4957920"/>
              <a:ext cx="85680" cy="396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51" y="25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7" y="19"/>
                  </a:lnTo>
                  <a:lnTo>
                    <a:pt x="57" y="17"/>
                  </a:lnTo>
                  <a:lnTo>
                    <a:pt x="55" y="15"/>
                  </a:lnTo>
                  <a:lnTo>
                    <a:pt x="53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80040" y="4994280"/>
              <a:ext cx="36720" cy="255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8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53120" y="5013360"/>
              <a:ext cx="85680" cy="3636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52" y="23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7" y="21"/>
                  </a:lnTo>
                  <a:lnTo>
                    <a:pt x="57" y="19"/>
                  </a:lnTo>
                  <a:lnTo>
                    <a:pt x="57" y="17"/>
                  </a:lnTo>
                  <a:lnTo>
                    <a:pt x="57" y="14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75520" y="5043600"/>
              <a:ext cx="36360" cy="2196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45360" y="5056200"/>
              <a:ext cx="90360" cy="34920"/>
            </a:xfrm>
            <a:custGeom>
              <a:avLst/>
              <a:gdLst/>
              <a:ahLst/>
              <a:rect l="l" t="t" r="r" b="b"/>
              <a:pathLst>
                <a:path w="59" h="22">
                  <a:moveTo>
                    <a:pt x="8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51" y="22"/>
                  </a:lnTo>
                  <a:lnTo>
                    <a:pt x="53" y="22"/>
                  </a:lnTo>
                  <a:lnTo>
                    <a:pt x="55" y="20"/>
                  </a:lnTo>
                  <a:lnTo>
                    <a:pt x="57" y="18"/>
                  </a:lnTo>
                  <a:lnTo>
                    <a:pt x="59" y="16"/>
                  </a:lnTo>
                  <a:lnTo>
                    <a:pt x="59" y="14"/>
                  </a:lnTo>
                  <a:lnTo>
                    <a:pt x="57" y="12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72080" y="5081760"/>
              <a:ext cx="3492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43720" y="5091120"/>
              <a:ext cx="889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20" y="15"/>
                  </a:lnTo>
                  <a:lnTo>
                    <a:pt x="52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5"/>
                  </a:lnTo>
                  <a:lnTo>
                    <a:pt x="58" y="13"/>
                  </a:lnTo>
                  <a:lnTo>
                    <a:pt x="58" y="11"/>
                  </a:lnTo>
                  <a:lnTo>
                    <a:pt x="58" y="9"/>
                  </a:lnTo>
                  <a:lnTo>
                    <a:pt x="56" y="7"/>
                  </a:lnTo>
                  <a:lnTo>
                    <a:pt x="54" y="5"/>
                  </a:lnTo>
                  <a:lnTo>
                    <a:pt x="2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67560" y="5105520"/>
              <a:ext cx="363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8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40640" y="5108400"/>
              <a:ext cx="88920" cy="22320"/>
            </a:xfrm>
            <a:custGeom>
              <a:avLst/>
              <a:gdLst/>
              <a:ahLst/>
              <a:rect l="l" t="t" r="r" b="b"/>
              <a:pathLst>
                <a:path w="59" h="14">
                  <a:moveTo>
                    <a:pt x="8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53" y="14"/>
                  </a:lnTo>
                  <a:lnTo>
                    <a:pt x="55" y="14"/>
                  </a:lnTo>
                  <a:lnTo>
                    <a:pt x="57" y="12"/>
                  </a:lnTo>
                  <a:lnTo>
                    <a:pt x="59" y="10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59" y="4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65920" y="5111640"/>
              <a:ext cx="363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8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37200" y="5105520"/>
              <a:ext cx="92160" cy="21960"/>
            </a:xfrm>
            <a:custGeom>
              <a:avLst/>
              <a:gdLst/>
              <a:ahLst/>
              <a:rect l="l" t="t" r="r" b="b"/>
              <a:pathLst>
                <a:path w="60" h="14">
                  <a:moveTo>
                    <a:pt x="6" y="2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56" y="12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64280" y="5099040"/>
              <a:ext cx="3672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6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37360" y="5078520"/>
              <a:ext cx="90360" cy="2988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4" y="6"/>
                  </a:move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47" y="15"/>
                  </a:lnTo>
                  <a:lnTo>
                    <a:pt x="53" y="13"/>
                  </a:lnTo>
                  <a:lnTo>
                    <a:pt x="55" y="13"/>
                  </a:lnTo>
                  <a:lnTo>
                    <a:pt x="57" y="10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57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5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261200" y="5065560"/>
              <a:ext cx="36360" cy="2232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6" y="2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32840" y="5040360"/>
              <a:ext cx="90360" cy="3492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6" y="10"/>
                  </a:moveTo>
                  <a:lnTo>
                    <a:pt x="4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38" y="16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6" y="2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36" y="4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56320" y="5022720"/>
              <a:ext cx="3672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6" y="4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29400" y="4991040"/>
              <a:ext cx="85680" cy="3816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4" y="12"/>
                  </a:move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28" y="20"/>
                  </a:lnTo>
                  <a:lnTo>
                    <a:pt x="51" y="12"/>
                  </a:lnTo>
                  <a:lnTo>
                    <a:pt x="53" y="12"/>
                  </a:lnTo>
                  <a:lnTo>
                    <a:pt x="55" y="10"/>
                  </a:lnTo>
                  <a:lnTo>
                    <a:pt x="57" y="8"/>
                  </a:lnTo>
                  <a:lnTo>
                    <a:pt x="57" y="6"/>
                  </a:lnTo>
                  <a:lnTo>
                    <a:pt x="55" y="4"/>
                  </a:lnTo>
                  <a:lnTo>
                    <a:pt x="53" y="2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26" y="8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48560" y="4970520"/>
              <a:ext cx="363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6" y="4"/>
                  </a:moveTo>
                  <a:lnTo>
                    <a:pt x="4" y="4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9840" y="4935600"/>
              <a:ext cx="88920" cy="41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4" y="14"/>
                  </a:move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20" y="22"/>
                  </a:lnTo>
                  <a:lnTo>
                    <a:pt x="52" y="12"/>
                  </a:lnTo>
                  <a:lnTo>
                    <a:pt x="54" y="10"/>
                  </a:lnTo>
                  <a:lnTo>
                    <a:pt x="56" y="8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56" y="2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18" y="10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42240" y="4911840"/>
              <a:ext cx="349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4" y="4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10640" y="4873680"/>
              <a:ext cx="87120" cy="4140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4" y="14"/>
                  </a:move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14" y="24"/>
                  </a:lnTo>
                  <a:lnTo>
                    <a:pt x="51" y="12"/>
                  </a:lnTo>
                  <a:lnTo>
                    <a:pt x="53" y="10"/>
                  </a:lnTo>
                  <a:lnTo>
                    <a:pt x="55" y="8"/>
                  </a:lnTo>
                  <a:lnTo>
                    <a:pt x="57" y="6"/>
                  </a:lnTo>
                  <a:lnTo>
                    <a:pt x="57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12" y="1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31240" y="4846680"/>
              <a:ext cx="363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4" y="4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101080" y="4803840"/>
              <a:ext cx="87120" cy="4608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4" y="17"/>
                  </a:move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55" y="5"/>
                  </a:lnTo>
                  <a:lnTo>
                    <a:pt x="53" y="2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6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221680" y="4781520"/>
              <a:ext cx="316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4" y="4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8932320" y="52419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244000" y="6453360"/>
            <a:ext cx="65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43E7-01F4-4675-8FD7-149E603D695B}" type="slidenum">
              <a:rPr b="0" lang="en-GB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3EC5-957C-4DE3-90D1-AD0BF28BDB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embers: theoretical backgrou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writing of 2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order cross-section check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r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ith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mat more convenient: adopted in the follow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58920" y="2060640"/>
          <a:ext cx="6649920" cy="88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60640"/>
                    <a:ext cx="664992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1547640" y="2997360"/>
          <a:ext cx="4376880" cy="8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97360"/>
                    <a:ext cx="43768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1619280" y="4005360"/>
          <a:ext cx="233208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4005360"/>
                    <a:ext cx="233208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A608-E3C4-4A20-826D-FA20EB0A4A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1:13:39Z</dcterms:created>
  <dc:creator>Klaus Weynand</dc:creator>
  <dc:description/>
  <dc:language>en-US</dc:language>
  <cp:lastModifiedBy>Klaus Weynand</cp:lastModifiedBy>
  <dcterms:modified xsi:type="dcterms:W3CDTF">2009-02-12T17:46:40Z</dcterms:modified>
  <cp:revision>63</cp:revision>
  <dc:subject/>
  <dc:title>asdasdsdsda</dc:title>
</cp:coreProperties>
</file>