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6D2F-E218-4BEC-9FE9-5C2DBCE11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0410-2023-4639-9476-374813171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15AB-20B6-4734-AE3C-DCD297A90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E124-D0D0-4CF6-81F1-82B6B38C4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73E0-77E0-4EAB-9733-E57888BC9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6BA9-D52A-4459-A164-FD08321C2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82C7-1FC6-4928-BFF4-95A30D212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4E75-E6B9-47EB-AEC8-0A97C5686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6D1B-655A-4FFA-BCE3-15D698A43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2ED5-34B8-4E2B-AB22-A417D3226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AFCD-C813-493B-BA54-AAD98FD36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F904-1A33-4B9B-A811-688EEC523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2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Introduction to Eurocode 1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277F-7E42-406C-AE99-2AE7EC5E8D22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1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ntroduction to the new Eurocod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886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roduction to Eurocode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546200" y="1487520"/>
          <a:ext cx="5692680" cy="40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487520"/>
                    <a:ext cx="569268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Flow chart for calculating snow load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0269-3C3D-4B67-9FED-0F4C6A9ECA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simple procedures below are for structures not susceptible to dynamic excit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more thorough treatments in EC1-1-4 should be used for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ildings taller than 200 m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ery slender or unusual structu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mporary structures (lower wind pressur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Wind loa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58E0-78C7-46AB-BFC5-AE84A29C6D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aracteristic wind load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based on the reference mean wind pressur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Arial"/>
              </a:rPr>
              <a:t>ref(0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which depends on the corresponding velocit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Arial"/>
              </a:rPr>
              <a:t>ref(0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Arial"/>
              </a:rPr>
              <a:t>ref(0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determined from national wind map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ref(0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0,5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·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·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v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ref(0)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cc33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density of air (= 1,25 kg/m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Wind loa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CC0E-13BC-42C1-BEFE-EBF59B289E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reference mean wind pressur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Arial"/>
              </a:rPr>
              <a:t>ref(0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modified to account for terrain category (Table 8.1) and height (Figure 8.3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5 basic categories of terrain are defin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a, coastal area exposed to the open s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gh open sea, lak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rmland with boundary hedges, small farms, hou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urban, industrial area, permanent fore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rban are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Terrain categor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22D2-5B5B-4DAA-9550-0A4AC42DC3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simple approach described here may be adopted for ‘flat’ terrai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rrain is ‘flat’ unless close to isolated hil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exposure coefficient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z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can be determined from Figure 8.3 which relat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‘‘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ference height’’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rrain catego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Terrain category - simplified ca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F9AE-6346-49F7-8AE2-3D52911061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xposure coefficient c</a:t>
            </a:r>
            <a:r>
              <a:rPr b="0" lang="en-GB" sz="3600" spc="-1" strike="noStrike" baseline="-25000">
                <a:solidFill>
                  <a:srgbClr val="000066"/>
                </a:solidFill>
                <a:latin typeface="Arial"/>
              </a:rPr>
              <a:t>e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(z)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>
            <a:lum contrast="18000"/>
          </a:blip>
          <a:srcRect l="13069" t="24545" r="971" b="4171"/>
          <a:stretch/>
        </p:blipFill>
        <p:spPr>
          <a:xfrm>
            <a:off x="1187280" y="1482840"/>
            <a:ext cx="6767640" cy="448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5CAD-9ED0-4E17-94DF-19313AEDBB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 classes of buildings may be consider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y are defined on the basis of the building height, h, divided by its crosswind width,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w rise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 &lt;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dium rise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 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h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&lt; 2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ri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&gt; 2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Reference heigh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C905-F254-4F39-A682-D523C395AC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Reference height - zon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18000"/>
          </a:blip>
          <a:srcRect l="29359" t="11697" r="20307" b="6312"/>
          <a:stretch/>
        </p:blipFill>
        <p:spPr>
          <a:xfrm>
            <a:off x="2484360" y="1484280"/>
            <a:ext cx="352116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0FE6-F23F-4514-8F8D-79E5213D92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Pressure coeffici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distribution of internal and external pressures on walls and roofs is represented by pressure coeffici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ternal pressure is assumed to be uniform and may be positive (pressure acting outwards) or negative (suction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external pressure distribution is non-uniform, and must be determined for each surfa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BE44-214E-44D9-89CB-625ADC582C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nal pressure coefficient,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Arial"/>
              </a:rPr>
              <a:t>pi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depends on the size and distribution of openings,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µ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pecial cases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ly distributed openings in a ‘square’ building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Arial"/>
              </a:rPr>
              <a:t>p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0,2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osed’ building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Arial"/>
              </a:rPr>
              <a:t>p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0,8 or -0,5 (worst case)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46160" y="2693880"/>
          <a:ext cx="697716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2693880"/>
                    <a:ext cx="697716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nternal pressure coefficien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54B5-C55C-4149-B58D-1D67386087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actions most relevant to building design and the corresponding parts of EN 1991 (EC1) ar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t 1-1:  Densities, self-weight, imposed loa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t 1-3:  Snow loa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t 1-4:  Wind loa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ther relevant part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 1990 - Basis of desig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 1991 Part 1-2:  Actions on structures exposed to fi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Relevant action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B4C6-928F-4CED-BD1D-D2E23C74FD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ternal pressure coefficients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Arial"/>
              </a:rPr>
              <a:t>p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ust be determined for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su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wo orthogonal wind dir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walls values of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Arial"/>
              </a:rPr>
              <a:t>p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re determin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lues of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Arial"/>
              </a:rPr>
              <a:t>p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for roofs depend on the shap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xternal pressure coefficien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E3A1-BBED-4622-AFBE-482BF3D652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xternal pressure coeffici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btained for each surface in relation to wind directi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15253" t="37294" r="8689" b="37884"/>
          <a:stretch/>
        </p:blipFill>
        <p:spPr>
          <a:xfrm>
            <a:off x="324000" y="2781360"/>
            <a:ext cx="835164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AC43-B0E8-4921-B22C-D815427838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nal and external pressures (or suctions) are calculated for each surface as follow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ternal pressure: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ternal pressure: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 wind pressure on a surface is the algebraic sum of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51280" y="2771640"/>
          <a:ext cx="2641680" cy="4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71640"/>
                    <a:ext cx="264168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851280" y="3373560"/>
          <a:ext cx="242892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373560"/>
                    <a:ext cx="24289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Net wind pressur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C880-3E16-4DFE-9196-918AC0C935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ad combinations can be simplified a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,35 G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+ 1,5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e dominant imposed load &amp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,35 G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+ 1,35 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re there are more than one imposed loa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ere loads have a beneficial effect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,9 G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Load combinations - UL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37FC-DBC3-408D-94A2-26C03045AC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ad combinations can be simplified a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,0 G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+ 1,0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e dominant imposed load, an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,0 G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+ 0,9 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re there are more than one imposed loa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Load combinations - SL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E673-5E30-487E-BA9E-540D35D254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lassification of action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tions may be classified according t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riation in durati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manent (dead load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ariable (imposed, wind, snow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ccidental (fire, impact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atial variati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xed; fre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atur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atic; dynami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79E0-A2DB-4760-A87F-8A0FAAC951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Nota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following notation is adopted in EC1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ad loads - G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osed loads - Q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now loads - Q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nd loads - 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cidental loads - A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ffices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sup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re used to signify lower and upper bound values respective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F06E-3864-4B6C-B73B-E63FA77F41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ad loads (self weight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manent, fixed a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lculated on basis of material densities and nominal dimens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clude allowances for partitions, services...etc as uniformly distributed loads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guidance for calculating values to u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timate based on experience and pract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1C5D-EC1A-4921-B3D3-C4D63DAC5A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mposed loa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riable, free a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aracteristic value based on building category (Tables 6.1 and 6.2)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- Residenti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 - Off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 - Assembly areas (5 sub-categori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 - Shopp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 - Stora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9044-957C-4D21-AC1D-587A00AF87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Reductions to imposed loa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um imposed load may not apply simultaneously throughout a buil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beams supporting large areas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 and columns in multi-storey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 construction reduction factors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an be applied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eam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olumn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746440" y="3645000"/>
          <a:ext cx="1825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440" y="3645000"/>
                    <a:ext cx="1825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627280" y="4797360"/>
          <a:ext cx="215568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4797360"/>
                    <a:ext cx="2155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DCC2-D720-47C2-A92F-A24651DE71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now load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aracteristic snow load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based on uniform accumulations on flat grou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determined from national snow map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me countries include adjustments for altitud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4393-5142-4047-A0B6-016B1EA187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now load on roofs - 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0" y="1628280"/>
            <a:ext cx="4316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1480" indent="-411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modified to account for roof form and shape using a shape coefficient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844640"/>
          <a:ext cx="4354560" cy="37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435456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3CB6-205A-4963-BC24-B0B9DA362B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1:13:39Z</dcterms:created>
  <dc:creator>Klaus Weynand</dc:creator>
  <dc:description/>
  <dc:language>en-US</dc:language>
  <cp:lastModifiedBy>Klaus Weynand</cp:lastModifiedBy>
  <dcterms:modified xsi:type="dcterms:W3CDTF">2009-02-11T08:54:28Z</dcterms:modified>
  <cp:revision>41</cp:revision>
  <dc:subject/>
  <dc:title>asdasdsdsda</dc:title>
</cp:coreProperties>
</file>