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7.png" ContentType="image/png"/>
  <Override PartName="/ppt/media/image32.wmf" ContentType="image/x-wmf"/>
  <Override PartName="/ppt/media/image7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6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7CC4-7248-4418-BCEB-5827F311A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13A9-FD91-4007-8888-2198B01A7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8B86-7FE6-4180-B099-5ABC282A6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38E4-1AF6-4634-B6C0-DC1C98CE7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F494-9ACD-4F9D-B9C3-2D79803C2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456F-20F3-4B0D-9E44-357B332BD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7406-6CC8-438E-BBB5-1690F62DA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3E62-26E3-40BB-8BA1-554B37679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3666-4A97-4081-8CBF-67EE764D6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E11B-CDFC-4541-8F95-3A64D188A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68BD-31FA-4CB3-8C80-31ABD5D75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FE9E-0321-4AA3-8C36-F4B1818A0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cture 16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Introduction to fire design according to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D8B7-F452-4A02-BAB3-D3E5BF72D839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08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ule 6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ire desig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886120"/>
            <a:ext cx="8281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ecture 1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troduction to fire design according to Eurocode 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8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606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5238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764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3527280" cy="4604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andard fire resistance furnace tes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9040" y="1546200"/>
            <a:ext cx="7554960" cy="4495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689120" y="4251240"/>
            <a:ext cx="2451240" cy="2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959B-B413-4808-A850-EB556E5FC8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andard fire resistance furnace tes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4360" y="1571760"/>
            <a:ext cx="7699320" cy="444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0E7A-BAF2-4D85-8CDE-BF960E408B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ssive Prot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ulating Boa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ypsum, Mineral fibre, Vermiculit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asy to apply, aesthetically acceptab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fficulties with complex detail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mentitious Spray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neral fibre or vermiculite in cement binder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eap to apply, but messy; clean-up may be expensiv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or aesthetics; normally used behind suspended ceiling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umescent Pai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corative finish under normal condition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pands on heating to produce insulating laye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n now be done off-sit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ructural fire protec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3A42-B6FC-4099-AD79-B6A34B8D0A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herent fire protection to steel bea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22360" y="1477800"/>
            <a:ext cx="8010360" cy="43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7085-05BB-4EF8-9A65-70991791C8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78920" y="2031840"/>
            <a:ext cx="424836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rength/stiffness reduction factors for elastic modulus and yield strength (2% strain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lastic modulus at 600°C reduced by about 70%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Yield strength at 600°C reduced by over 50%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eel stress-strain curves at high temperatu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186080" cy="448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FCA3-ADF3-4758-9E95-752AB5FE02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439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rength and stiffness reductions very similar for S235, S275, S355, S420 and S460 structural steels and hot-rolled reinforcing bars. (S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d-worked reinforcing bars S500 deteriorate more rapidly. (Rf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gradation of steel strength and stiffnes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4451400" cy="402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3777-C357-4AD0-B620-9C2B22A331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439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rength reduction fact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curate for normal density concrete with siliceous aggregat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servative for normal density concrete with calcareous aggrega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servative for light-weight concretes.  All types treated the sam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gradation of concrete strength and stiffnes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284720" y="1528920"/>
            <a:ext cx="4859280" cy="41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289B-2C47-4EF8-A2AA-96A01049B7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439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el thermal expansion stops during crystal structure change in the 700-800°C rang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crete unlikely to reach  700°C in time of a building fir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ght-weight concrete treated as having uniform thermal expansion coefficien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rmal expansion of steel and concre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40152" t="0" r="0" b="0"/>
          <a:stretch/>
        </p:blipFill>
        <p:spPr>
          <a:xfrm>
            <a:off x="4356000" y="1484280"/>
            <a:ext cx="4616640" cy="46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A3D1-7E44-4A6C-9DC7-F6AAF35313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ther steel thermal properti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651120" cy="45482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113360" cy="454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F8E3-C23C-423E-9804-377803AD53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stablishing Fire Resistance: Strategi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6592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4873-30B9-4209-8504-D2C2ABE0C2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8920" y="1599840"/>
            <a:ext cx="42483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eel softens progressively from 100-200°C up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ly 23% of ambient-temperature strength remains at 700°C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t 800°C strength reduced to 11% and at 900°C to 6%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lts at about 1500°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eel stress-strain curves at high temperatu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405680" y="1655640"/>
            <a:ext cx="4487040" cy="4404600"/>
            <a:chOff x="4405680" y="1655640"/>
            <a:chExt cx="4487040" cy="4404600"/>
          </a:xfrm>
        </p:grpSpPr>
        <p:sp>
          <p:nvSpPr>
            <p:cNvPr id="104" name=""/>
            <p:cNvSpPr/>
            <p:nvPr/>
          </p:nvSpPr>
          <p:spPr>
            <a:xfrm>
              <a:off x="6526440" y="57549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Strain (%)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77920" y="5503680"/>
              <a:ext cx="35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0.5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88720" y="5503680"/>
              <a:ext cx="35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1.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99600" y="5503680"/>
              <a:ext cx="35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1.5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28760" y="5503680"/>
              <a:ext cx="35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2.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05680" y="1655640"/>
              <a:ext cx="1724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Stress (N/mm</a:t>
              </a:r>
              <a:r>
                <a:rPr b="0" lang="en-US" sz="2000" spc="-1" strike="noStrike" baseline="30000">
                  <a:solidFill>
                    <a:srgbClr val="66ff33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993920" y="2486160"/>
              <a:ext cx="235800" cy="29034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19880" y="5396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21160" y="204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30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1160" y="255312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25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1160" y="312264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20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21160" y="365868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15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1160" y="420048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90640" y="470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4968000" y="2165400"/>
              <a:ext cx="3907800" cy="3231720"/>
              <a:chOff x="4968000" y="2165400"/>
              <a:chExt cx="3907800" cy="323172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4983120" y="2696760"/>
                <a:ext cx="57600" cy="2149560"/>
                <a:chOff x="4983120" y="2696760"/>
                <a:chExt cx="57600" cy="21495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4983120" y="4845240"/>
                  <a:ext cx="57600" cy="1080"/>
                </a:xfrm>
                <a:prstGeom prst="line">
                  <a:avLst/>
                </a:prstGeom>
                <a:ln w="2052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83120" y="4307400"/>
                  <a:ext cx="29520" cy="1440"/>
                </a:xfrm>
                <a:prstGeom prst="line">
                  <a:avLst/>
                </a:prstGeom>
                <a:ln w="2052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83120" y="3771720"/>
                  <a:ext cx="29520" cy="1440"/>
                </a:xfrm>
                <a:prstGeom prst="line">
                  <a:avLst/>
                </a:prstGeom>
                <a:ln w="2052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983120" y="3234240"/>
                  <a:ext cx="29520" cy="1080"/>
                </a:xfrm>
                <a:prstGeom prst="line">
                  <a:avLst/>
                </a:prstGeom>
                <a:ln w="2052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983120" y="4307400"/>
                  <a:ext cx="57600" cy="1440"/>
                </a:xfrm>
                <a:prstGeom prst="line">
                  <a:avLst/>
                </a:prstGeom>
                <a:ln w="2052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983120" y="3771720"/>
                  <a:ext cx="57600" cy="1440"/>
                </a:xfrm>
                <a:prstGeom prst="line">
                  <a:avLst/>
                </a:prstGeom>
                <a:ln w="2052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983120" y="3234240"/>
                  <a:ext cx="57600" cy="1080"/>
                </a:xfrm>
                <a:prstGeom prst="line">
                  <a:avLst/>
                </a:prstGeom>
                <a:ln w="2052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83120" y="2696760"/>
                  <a:ext cx="57600" cy="1440"/>
                </a:xfrm>
                <a:prstGeom prst="line">
                  <a:avLst/>
                </a:prstGeom>
                <a:ln w="2052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968000" y="2165400"/>
                <a:ext cx="3907800" cy="3231720"/>
                <a:chOff x="4968000" y="2165400"/>
                <a:chExt cx="3907800" cy="3231720"/>
              </a:xfrm>
            </p:grpSpPr>
            <p:sp>
              <p:nvSpPr>
                <p:cNvPr id="129" name=""/>
                <p:cNvSpPr/>
                <p:nvPr/>
              </p:nvSpPr>
              <p:spPr>
                <a:xfrm flipV="1">
                  <a:off x="4983120" y="2165400"/>
                  <a:ext cx="1440" cy="322488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130" name=""/>
                <p:cNvGrpSpPr/>
                <p:nvPr/>
              </p:nvGrpSpPr>
              <p:grpSpPr>
                <a:xfrm>
                  <a:off x="4968000" y="5370480"/>
                  <a:ext cx="3907800" cy="26640"/>
                  <a:chOff x="4968000" y="5370480"/>
                  <a:chExt cx="3907800" cy="266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>
                    <a:off x="4968000" y="5396040"/>
                    <a:ext cx="3907800" cy="1080"/>
                  </a:xfrm>
                  <a:prstGeom prst="line">
                    <a:avLst/>
                  </a:prstGeom>
                  <a:ln w="284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V="1">
                    <a:off x="5200560" y="5370480"/>
                    <a:ext cx="1440" cy="19080"/>
                  </a:xfrm>
                  <a:prstGeom prst="line">
                    <a:avLst/>
                  </a:prstGeom>
                  <a:ln w="2052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V="1">
                    <a:off x="5441400" y="5370480"/>
                    <a:ext cx="1800" cy="19080"/>
                  </a:xfrm>
                  <a:prstGeom prst="line">
                    <a:avLst/>
                  </a:prstGeom>
                  <a:ln w="2052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V="1">
                    <a:off x="5684040" y="5370480"/>
                    <a:ext cx="1800" cy="19080"/>
                  </a:xfrm>
                  <a:prstGeom prst="line">
                    <a:avLst/>
                  </a:prstGeom>
                  <a:ln w="2052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V="1">
                    <a:off x="5934960" y="5370480"/>
                    <a:ext cx="1440" cy="19080"/>
                  </a:xfrm>
                  <a:prstGeom prst="line">
                    <a:avLst/>
                  </a:prstGeom>
                  <a:ln w="2052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V="1">
                    <a:off x="6174360" y="5370480"/>
                    <a:ext cx="1440" cy="19080"/>
                  </a:xfrm>
                  <a:prstGeom prst="line">
                    <a:avLst/>
                  </a:prstGeom>
                  <a:ln w="2052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V="1">
                    <a:off x="6418440" y="5370480"/>
                    <a:ext cx="1800" cy="19080"/>
                  </a:xfrm>
                  <a:prstGeom prst="line">
                    <a:avLst/>
                  </a:prstGeom>
                  <a:ln w="2052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V="1">
                    <a:off x="6661440" y="5370480"/>
                    <a:ext cx="1440" cy="19080"/>
                  </a:xfrm>
                  <a:prstGeom prst="line">
                    <a:avLst/>
                  </a:prstGeom>
                  <a:ln w="2052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V="1">
                    <a:off x="6904080" y="5370480"/>
                    <a:ext cx="1440" cy="19080"/>
                  </a:xfrm>
                  <a:prstGeom prst="line">
                    <a:avLst/>
                  </a:prstGeom>
                  <a:ln w="2052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flipV="1">
                    <a:off x="7153200" y="5370480"/>
                    <a:ext cx="1800" cy="19080"/>
                  </a:xfrm>
                  <a:prstGeom prst="line">
                    <a:avLst/>
                  </a:prstGeom>
                  <a:ln w="2052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V="1">
                    <a:off x="7395840" y="5370480"/>
                    <a:ext cx="1800" cy="19080"/>
                  </a:xfrm>
                  <a:prstGeom prst="line">
                    <a:avLst/>
                  </a:prstGeom>
                  <a:ln w="2052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V="1">
                    <a:off x="7637040" y="5370480"/>
                    <a:ext cx="1440" cy="19080"/>
                  </a:xfrm>
                  <a:prstGeom prst="line">
                    <a:avLst/>
                  </a:prstGeom>
                  <a:ln w="2052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7882560" y="5370480"/>
                    <a:ext cx="1800" cy="19080"/>
                  </a:xfrm>
                  <a:prstGeom prst="line">
                    <a:avLst/>
                  </a:prstGeom>
                  <a:ln w="2052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8126640" y="5370480"/>
                    <a:ext cx="1800" cy="19080"/>
                  </a:xfrm>
                  <a:prstGeom prst="line">
                    <a:avLst/>
                  </a:prstGeom>
                  <a:ln w="2052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8371440" y="5370480"/>
                    <a:ext cx="1440" cy="19080"/>
                  </a:xfrm>
                  <a:prstGeom prst="line">
                    <a:avLst/>
                  </a:prstGeom>
                  <a:ln w="2052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V="1">
                    <a:off x="8613720" y="5370480"/>
                    <a:ext cx="1800" cy="19080"/>
                  </a:xfrm>
                  <a:prstGeom prst="line">
                    <a:avLst/>
                  </a:prstGeom>
                  <a:ln w="2052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7" name=""/>
            <p:cNvSpPr/>
            <p:nvPr/>
          </p:nvSpPr>
          <p:spPr>
            <a:xfrm>
              <a:off x="5330880" y="2170800"/>
              <a:ext cx="57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Arial"/>
                </a:rPr>
                <a:t>20°C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228640" y="2477880"/>
              <a:ext cx="3664080" cy="108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45960" y="5161680"/>
              <a:ext cx="415800" cy="47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84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8495"/>
                </a:path>
              </a:pathLst>
            </a:cu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88520" y="5077080"/>
              <a:ext cx="3899520" cy="312480"/>
            </a:xfrm>
            <a:custGeom>
              <a:avLst/>
              <a:gdLst/>
              <a:ahLst/>
              <a:rect l="l" t="t" r="r" b="b"/>
              <a:pathLst>
                <a:path w="2346" h="210">
                  <a:moveTo>
                    <a:pt x="2346" y="0"/>
                  </a:moveTo>
                  <a:lnTo>
                    <a:pt x="2038" y="6"/>
                  </a:lnTo>
                  <a:lnTo>
                    <a:pt x="1633" y="9"/>
                  </a:lnTo>
                  <a:lnTo>
                    <a:pt x="1351" y="17"/>
                  </a:lnTo>
                  <a:lnTo>
                    <a:pt x="1094" y="26"/>
                  </a:lnTo>
                  <a:lnTo>
                    <a:pt x="759" y="40"/>
                  </a:lnTo>
                  <a:lnTo>
                    <a:pt x="519" y="53"/>
                  </a:lnTo>
                  <a:lnTo>
                    <a:pt x="387" y="64"/>
                  </a:lnTo>
                  <a:lnTo>
                    <a:pt x="284" y="79"/>
                  </a:lnTo>
                  <a:lnTo>
                    <a:pt x="215" y="82"/>
                  </a:lnTo>
                  <a:lnTo>
                    <a:pt x="151" y="93"/>
                  </a:lnTo>
                  <a:lnTo>
                    <a:pt x="116" y="102"/>
                  </a:lnTo>
                  <a:lnTo>
                    <a:pt x="91" y="122"/>
                  </a:lnTo>
                  <a:lnTo>
                    <a:pt x="0" y="21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91760" y="4728600"/>
              <a:ext cx="3899520" cy="660960"/>
            </a:xfrm>
            <a:custGeom>
              <a:avLst/>
              <a:gdLst/>
              <a:ahLst/>
              <a:rect l="l" t="t" r="r" b="b"/>
              <a:pathLst>
                <a:path w="2346" h="443">
                  <a:moveTo>
                    <a:pt x="2346" y="0"/>
                  </a:moveTo>
                  <a:lnTo>
                    <a:pt x="1951" y="7"/>
                  </a:lnTo>
                  <a:lnTo>
                    <a:pt x="1664" y="16"/>
                  </a:lnTo>
                  <a:lnTo>
                    <a:pt x="1449" y="31"/>
                  </a:lnTo>
                  <a:lnTo>
                    <a:pt x="1213" y="46"/>
                  </a:lnTo>
                  <a:lnTo>
                    <a:pt x="1012" y="64"/>
                  </a:lnTo>
                  <a:lnTo>
                    <a:pt x="751" y="98"/>
                  </a:lnTo>
                  <a:lnTo>
                    <a:pt x="566" y="128"/>
                  </a:lnTo>
                  <a:lnTo>
                    <a:pt x="442" y="151"/>
                  </a:lnTo>
                  <a:lnTo>
                    <a:pt x="317" y="186"/>
                  </a:lnTo>
                  <a:lnTo>
                    <a:pt x="227" y="215"/>
                  </a:lnTo>
                  <a:lnTo>
                    <a:pt x="175" y="233"/>
                  </a:lnTo>
                  <a:lnTo>
                    <a:pt x="136" y="259"/>
                  </a:lnTo>
                  <a:lnTo>
                    <a:pt x="107" y="283"/>
                  </a:lnTo>
                  <a:lnTo>
                    <a:pt x="0" y="443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91760" y="4029840"/>
              <a:ext cx="3899520" cy="1350000"/>
            </a:xfrm>
            <a:custGeom>
              <a:avLst/>
              <a:gdLst/>
              <a:ahLst/>
              <a:rect l="l" t="t" r="r" b="b"/>
              <a:pathLst>
                <a:path w="2346" h="905">
                  <a:moveTo>
                    <a:pt x="2346" y="0"/>
                  </a:moveTo>
                  <a:lnTo>
                    <a:pt x="2079" y="5"/>
                  </a:lnTo>
                  <a:lnTo>
                    <a:pt x="1822" y="20"/>
                  </a:lnTo>
                  <a:lnTo>
                    <a:pt x="1385" y="58"/>
                  </a:lnTo>
                  <a:lnTo>
                    <a:pt x="1119" y="102"/>
                  </a:lnTo>
                  <a:lnTo>
                    <a:pt x="934" y="136"/>
                  </a:lnTo>
                  <a:lnTo>
                    <a:pt x="704" y="189"/>
                  </a:lnTo>
                  <a:lnTo>
                    <a:pt x="531" y="248"/>
                  </a:lnTo>
                  <a:lnTo>
                    <a:pt x="334" y="335"/>
                  </a:lnTo>
                  <a:lnTo>
                    <a:pt x="205" y="412"/>
                  </a:lnTo>
                  <a:lnTo>
                    <a:pt x="154" y="455"/>
                  </a:lnTo>
                  <a:lnTo>
                    <a:pt x="103" y="517"/>
                  </a:lnTo>
                  <a:lnTo>
                    <a:pt x="81" y="566"/>
                  </a:lnTo>
                  <a:lnTo>
                    <a:pt x="0" y="905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1760" y="3126600"/>
              <a:ext cx="3899520" cy="2253240"/>
            </a:xfrm>
            <a:custGeom>
              <a:avLst/>
              <a:gdLst/>
              <a:ahLst/>
              <a:rect l="l" t="t" r="r" b="b"/>
              <a:pathLst>
                <a:path w="2346" h="1510">
                  <a:moveTo>
                    <a:pt x="2346" y="0"/>
                  </a:moveTo>
                  <a:lnTo>
                    <a:pt x="2097" y="5"/>
                  </a:lnTo>
                  <a:lnTo>
                    <a:pt x="1766" y="29"/>
                  </a:lnTo>
                  <a:lnTo>
                    <a:pt x="1522" y="63"/>
                  </a:lnTo>
                  <a:lnTo>
                    <a:pt x="1321" y="96"/>
                  </a:lnTo>
                  <a:lnTo>
                    <a:pt x="1175" y="125"/>
                  </a:lnTo>
                  <a:lnTo>
                    <a:pt x="990" y="169"/>
                  </a:lnTo>
                  <a:lnTo>
                    <a:pt x="837" y="222"/>
                  </a:lnTo>
                  <a:lnTo>
                    <a:pt x="652" y="295"/>
                  </a:lnTo>
                  <a:lnTo>
                    <a:pt x="445" y="397"/>
                  </a:lnTo>
                  <a:lnTo>
                    <a:pt x="338" y="464"/>
                  </a:lnTo>
                  <a:lnTo>
                    <a:pt x="227" y="566"/>
                  </a:lnTo>
                  <a:lnTo>
                    <a:pt x="180" y="625"/>
                  </a:lnTo>
                  <a:lnTo>
                    <a:pt x="146" y="683"/>
                  </a:lnTo>
                  <a:lnTo>
                    <a:pt x="124" y="727"/>
                  </a:lnTo>
                  <a:lnTo>
                    <a:pt x="107" y="789"/>
                  </a:lnTo>
                  <a:lnTo>
                    <a:pt x="89" y="847"/>
                  </a:lnTo>
                  <a:lnTo>
                    <a:pt x="0" y="151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20560" y="2475360"/>
              <a:ext cx="3870720" cy="2626920"/>
            </a:xfrm>
            <a:custGeom>
              <a:avLst/>
              <a:gdLst/>
              <a:ahLst/>
              <a:rect l="l" t="t" r="r" b="b"/>
              <a:pathLst>
                <a:path w="2329" h="1759">
                  <a:moveTo>
                    <a:pt x="2329" y="0"/>
                  </a:moveTo>
                  <a:lnTo>
                    <a:pt x="2144" y="16"/>
                  </a:lnTo>
                  <a:lnTo>
                    <a:pt x="1973" y="24"/>
                  </a:lnTo>
                  <a:lnTo>
                    <a:pt x="1865" y="29"/>
                  </a:lnTo>
                  <a:lnTo>
                    <a:pt x="1591" y="77"/>
                  </a:lnTo>
                  <a:lnTo>
                    <a:pt x="1407" y="113"/>
                  </a:lnTo>
                  <a:lnTo>
                    <a:pt x="1166" y="179"/>
                  </a:lnTo>
                  <a:lnTo>
                    <a:pt x="986" y="246"/>
                  </a:lnTo>
                  <a:lnTo>
                    <a:pt x="820" y="315"/>
                  </a:lnTo>
                  <a:lnTo>
                    <a:pt x="665" y="403"/>
                  </a:lnTo>
                  <a:lnTo>
                    <a:pt x="524" y="494"/>
                  </a:lnTo>
                  <a:lnTo>
                    <a:pt x="398" y="585"/>
                  </a:lnTo>
                  <a:lnTo>
                    <a:pt x="245" y="751"/>
                  </a:lnTo>
                  <a:lnTo>
                    <a:pt x="176" y="857"/>
                  </a:lnTo>
                  <a:lnTo>
                    <a:pt x="133" y="944"/>
                  </a:lnTo>
                  <a:lnTo>
                    <a:pt x="107" y="1017"/>
                  </a:lnTo>
                  <a:lnTo>
                    <a:pt x="86" y="1104"/>
                  </a:lnTo>
                  <a:lnTo>
                    <a:pt x="0" y="1759"/>
                  </a:lnTo>
                </a:path>
              </a:pathLst>
            </a:custGeom>
            <a:noFill/>
            <a:ln w="2844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6680" y="2475360"/>
              <a:ext cx="3864240" cy="2629800"/>
            </a:xfrm>
            <a:custGeom>
              <a:avLst/>
              <a:gdLst/>
              <a:ahLst/>
              <a:rect l="l" t="t" r="r" b="b"/>
              <a:pathLst>
                <a:path w="2324" h="1762">
                  <a:moveTo>
                    <a:pt x="2324" y="0"/>
                  </a:moveTo>
                  <a:lnTo>
                    <a:pt x="1825" y="20"/>
                  </a:lnTo>
                  <a:lnTo>
                    <a:pt x="1509" y="64"/>
                  </a:lnTo>
                  <a:lnTo>
                    <a:pt x="1272" y="97"/>
                  </a:lnTo>
                  <a:lnTo>
                    <a:pt x="1003" y="160"/>
                  </a:lnTo>
                  <a:lnTo>
                    <a:pt x="776" y="222"/>
                  </a:lnTo>
                  <a:lnTo>
                    <a:pt x="630" y="282"/>
                  </a:lnTo>
                  <a:lnTo>
                    <a:pt x="385" y="403"/>
                  </a:lnTo>
                  <a:lnTo>
                    <a:pt x="291" y="465"/>
                  </a:lnTo>
                  <a:lnTo>
                    <a:pt x="200" y="549"/>
                  </a:lnTo>
                  <a:lnTo>
                    <a:pt x="141" y="645"/>
                  </a:lnTo>
                  <a:lnTo>
                    <a:pt x="114" y="687"/>
                  </a:lnTo>
                  <a:lnTo>
                    <a:pt x="97" y="736"/>
                  </a:lnTo>
                  <a:lnTo>
                    <a:pt x="85" y="795"/>
                  </a:lnTo>
                  <a:lnTo>
                    <a:pt x="0" y="1762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26680" y="2475360"/>
              <a:ext cx="3864240" cy="2614320"/>
            </a:xfrm>
            <a:custGeom>
              <a:avLst/>
              <a:gdLst/>
              <a:ahLst/>
              <a:rect l="l" t="t" r="r" b="b"/>
              <a:pathLst>
                <a:path w="2324" h="1751">
                  <a:moveTo>
                    <a:pt x="2324" y="0"/>
                  </a:moveTo>
                  <a:lnTo>
                    <a:pt x="1783" y="16"/>
                  </a:lnTo>
                  <a:lnTo>
                    <a:pt x="1487" y="33"/>
                  </a:lnTo>
                  <a:lnTo>
                    <a:pt x="1136" y="64"/>
                  </a:lnTo>
                  <a:lnTo>
                    <a:pt x="917" y="93"/>
                  </a:lnTo>
                  <a:lnTo>
                    <a:pt x="798" y="113"/>
                  </a:lnTo>
                  <a:lnTo>
                    <a:pt x="570" y="155"/>
                  </a:lnTo>
                  <a:lnTo>
                    <a:pt x="385" y="202"/>
                  </a:lnTo>
                  <a:lnTo>
                    <a:pt x="260" y="257"/>
                  </a:lnTo>
                  <a:lnTo>
                    <a:pt x="183" y="306"/>
                  </a:lnTo>
                  <a:lnTo>
                    <a:pt x="141" y="354"/>
                  </a:lnTo>
                  <a:lnTo>
                    <a:pt x="114" y="412"/>
                  </a:lnTo>
                  <a:lnTo>
                    <a:pt x="97" y="488"/>
                  </a:lnTo>
                  <a:lnTo>
                    <a:pt x="0" y="1751"/>
                  </a:lnTo>
                </a:path>
              </a:pathLst>
            </a:custGeom>
            <a:noFill/>
            <a:ln w="2844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19720" y="2541960"/>
              <a:ext cx="7124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200°C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62640" y="2786400"/>
              <a:ext cx="7124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300°C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6520" y="3051720"/>
              <a:ext cx="7124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400°C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7320" y="3353040"/>
              <a:ext cx="7124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500°C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75240" y="3983760"/>
              <a:ext cx="7124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600°C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81400" y="4634280"/>
              <a:ext cx="7124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700°C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64080" y="5009040"/>
              <a:ext cx="7124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800°C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112A-1C76-4930-9564-25282E0A81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stablishing fire resistance: the simple proces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618320" cy="247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F8C8-970C-4D99-8FD9-C6A2B1DDB0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nimum fire resistance periods - UK Building Regulation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6560" y="1420920"/>
            <a:ext cx="8353440" cy="461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3C2C-BBBF-479F-B532-497AB6805A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stablishing fire resistance: the simple proces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31800" y="1916280"/>
            <a:ext cx="7878960" cy="247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95D4-1DBC-485D-9635-4101B0AB93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oad reduction factor in fi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52280" y="1542960"/>
            <a:ext cx="8807400" cy="1373400"/>
            <a:chOff x="152280" y="1542960"/>
            <a:chExt cx="8807400" cy="1373400"/>
          </a:xfrm>
        </p:grpSpPr>
        <p:sp>
          <p:nvSpPr>
            <p:cNvPr id="231" name=""/>
            <p:cNvSpPr/>
            <p:nvPr/>
          </p:nvSpPr>
          <p:spPr>
            <a:xfrm>
              <a:off x="4809960" y="1825560"/>
              <a:ext cx="414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Relative to ambient-temperature design resistanc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232" name=""/>
            <p:cNvGraphicFramePr/>
            <p:nvPr/>
          </p:nvGraphicFramePr>
          <p:xfrm>
            <a:off x="2235240" y="1542960"/>
            <a:ext cx="2138400" cy="137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35240" y="1542960"/>
                      <a:ext cx="2138400" cy="1373400"/>
                    </a:xfrm>
                    <a:prstGeom prst="rect">
                      <a:avLst/>
                    </a:prstGeom>
                    <a:ln w="38160">
                      <a:solidFill>
                        <a:srgbClr val="000066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34" name=""/>
            <p:cNvSpPr/>
            <p:nvPr/>
          </p:nvSpPr>
          <p:spPr>
            <a:xfrm>
              <a:off x="152280" y="1673280"/>
              <a:ext cx="216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ither …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77840" y="3162240"/>
            <a:ext cx="8835840" cy="1373400"/>
            <a:chOff x="177840" y="3162240"/>
            <a:chExt cx="8835840" cy="1373400"/>
          </a:xfrm>
        </p:grpSpPr>
        <p:sp>
          <p:nvSpPr>
            <p:cNvPr id="236" name=""/>
            <p:cNvSpPr/>
            <p:nvPr/>
          </p:nvSpPr>
          <p:spPr>
            <a:xfrm>
              <a:off x="4863960" y="3319560"/>
              <a:ext cx="414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Relative to ambient-temperature design load </a:t>
              </a:r>
              <a:r>
                <a:rPr b="0" i="1" lang="en-GB" sz="2000" spc="-1" strike="noStrike">
                  <a:solidFill>
                    <a:srgbClr val="000066"/>
                  </a:solidFill>
                  <a:latin typeface="Arial"/>
                </a:rPr>
                <a:t>(more conservative)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7840" y="3292560"/>
              <a:ext cx="198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Or more usefully…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2235240" y="3162240"/>
                  <a:ext cx="2138400" cy="137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η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d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332000" y="4743360"/>
                <a:ext cx="403056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A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1143-1E4D-4438-948E-EF3ABA3D1D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C3 partial safety facto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27120" y="2862360"/>
            <a:ext cx="7099200" cy="1609560"/>
            <a:chOff x="627120" y="2862360"/>
            <a:chExt cx="7099200" cy="1609560"/>
          </a:xfrm>
        </p:grpSpPr>
        <p:sp>
          <p:nvSpPr>
            <p:cNvPr id="242" name=""/>
            <p:cNvSpPr/>
            <p:nvPr/>
          </p:nvSpPr>
          <p:spPr>
            <a:xfrm>
              <a:off x="627120" y="2862360"/>
              <a:ext cx="7099200" cy="1609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7120" y="2862360"/>
              <a:ext cx="7099200" cy="1609560"/>
            </a:xfrm>
            <a:prstGeom prst="rect">
              <a:avLst/>
            </a:prstGeom>
            <a:noFill/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25760" y="2973240"/>
            <a:ext cx="181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Fire limit sta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2720" y="3227400"/>
            <a:ext cx="17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57160" y="3452760"/>
            <a:ext cx="23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GA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40800" y="3340080"/>
            <a:ext cx="51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1,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58360" y="3340080"/>
            <a:ext cx="463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manent loads; accidental design situation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6840" y="3606840"/>
            <a:ext cx="21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41760" y="383220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1,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0800" y="3719520"/>
            <a:ext cx="51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0,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56920" y="3719520"/>
            <a:ext cx="429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bination factor; variable  loads, offic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54040" y="4100400"/>
            <a:ext cx="61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e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58840" y="3987720"/>
            <a:ext cx="21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75560" y="421308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2,1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44120" y="4062240"/>
            <a:ext cx="2563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is now recommended in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09560" y="4062240"/>
            <a:ext cx="945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EN 1991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67520" y="406224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158960" y="406224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94680" y="406224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384320" y="406224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38280" y="1573200"/>
            <a:ext cx="7088040" cy="1230480"/>
            <a:chOff x="638280" y="1573200"/>
            <a:chExt cx="7088040" cy="1230480"/>
          </a:xfrm>
        </p:grpSpPr>
        <p:sp>
          <p:nvSpPr>
            <p:cNvPr id="263" name=""/>
            <p:cNvSpPr/>
            <p:nvPr/>
          </p:nvSpPr>
          <p:spPr>
            <a:xfrm>
              <a:off x="638280" y="1573200"/>
              <a:ext cx="7088040" cy="1230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8280" y="1573200"/>
              <a:ext cx="7088040" cy="1230480"/>
            </a:xfrm>
            <a:prstGeom prst="rect">
              <a:avLst/>
            </a:prstGeom>
            <a:noFill/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738000" y="1685880"/>
            <a:ext cx="407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ient temperature strength desig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3880" y="1938240"/>
            <a:ext cx="17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68320" y="21636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52320" y="2050920"/>
            <a:ext cx="64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,3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67720" y="2050920"/>
            <a:ext cx="185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anent loads;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3880" y="2317680"/>
            <a:ext cx="17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67960" y="254304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,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51960" y="2430360"/>
            <a:ext cx="51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,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8440" y="243036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 load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593720" y="4707000"/>
            <a:ext cx="6865560" cy="1111320"/>
            <a:chOff x="1593720" y="4707000"/>
            <a:chExt cx="6865560" cy="1111320"/>
          </a:xfrm>
        </p:grpSpPr>
        <p:sp>
          <p:nvSpPr>
            <p:cNvPr id="275" name=""/>
            <p:cNvSpPr/>
            <p:nvPr/>
          </p:nvSpPr>
          <p:spPr>
            <a:xfrm>
              <a:off x="1603080" y="4707000"/>
              <a:ext cx="6787080" cy="111132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22160" y="4724280"/>
              <a:ext cx="6752520" cy="10782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62840" y="48099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63360" y="493560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.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80440" y="4809960"/>
              <a:ext cx="279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/G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58000" y="493560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31440" y="4815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73240" y="4815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13960" y="4815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55760" y="4815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93720" y="4724280"/>
              <a:ext cx="126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3720" y="4724280"/>
              <a:ext cx="126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06320" y="4724280"/>
              <a:ext cx="10774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83800" y="4724280"/>
              <a:ext cx="122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96400" y="4724280"/>
              <a:ext cx="14306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27400" y="4724280"/>
              <a:ext cx="108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38200" y="4724280"/>
              <a:ext cx="14277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66320" y="4724280"/>
              <a:ext cx="122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78920" y="4724280"/>
              <a:ext cx="14292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08120" y="4724280"/>
              <a:ext cx="122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20720" y="4724280"/>
              <a:ext cx="1427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48480" y="4724280"/>
              <a:ext cx="108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8480" y="4724280"/>
              <a:ext cx="108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93720" y="4737240"/>
              <a:ext cx="12600" cy="52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83800" y="4737240"/>
              <a:ext cx="12240" cy="52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27400" y="4737240"/>
              <a:ext cx="10800" cy="52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66320" y="4737240"/>
              <a:ext cx="12240" cy="52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08120" y="4737240"/>
              <a:ext cx="12240" cy="52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48480" y="4737240"/>
              <a:ext cx="10800" cy="52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63560" y="5340240"/>
              <a:ext cx="1911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25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55800" y="554508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41000" y="5349960"/>
              <a:ext cx="544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0,53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82800" y="5349960"/>
              <a:ext cx="544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0,46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22800" y="5349960"/>
              <a:ext cx="544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0,43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65320" y="5349960"/>
              <a:ext cx="544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0,41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93720" y="526104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06320" y="5261040"/>
              <a:ext cx="1077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83800" y="5261040"/>
              <a:ext cx="12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96400" y="5261040"/>
              <a:ext cx="14306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27400" y="526104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38200" y="5261040"/>
              <a:ext cx="1427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66320" y="5261040"/>
              <a:ext cx="12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78920" y="5261040"/>
              <a:ext cx="14292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08120" y="5261040"/>
              <a:ext cx="12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20720" y="5261040"/>
              <a:ext cx="1427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448480" y="526104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93720" y="5272200"/>
              <a:ext cx="12600" cy="53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93720" y="580392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93720" y="580392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06320" y="5803920"/>
              <a:ext cx="1077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83800" y="5272200"/>
              <a:ext cx="12240" cy="53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83800" y="5803920"/>
              <a:ext cx="12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96400" y="5803920"/>
              <a:ext cx="14306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27400" y="5272200"/>
              <a:ext cx="10800" cy="53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27400" y="580392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38200" y="5803920"/>
              <a:ext cx="1427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66320" y="5272200"/>
              <a:ext cx="12240" cy="53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66320" y="5803920"/>
              <a:ext cx="12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78920" y="5803920"/>
              <a:ext cx="14292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08120" y="5272200"/>
              <a:ext cx="12240" cy="53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08120" y="5803920"/>
              <a:ext cx="12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020720" y="5803920"/>
              <a:ext cx="1427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48480" y="5272200"/>
              <a:ext cx="10800" cy="53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48480" y="580392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448480" y="580392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03080" y="4707000"/>
              <a:ext cx="6787080" cy="1111320"/>
            </a:xfrm>
            <a:prstGeom prst="rect">
              <a:avLst/>
            </a:prstGeom>
            <a:noFill/>
            <a:ln cap="rnd"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71480" y="4255920"/>
            <a:ext cx="701640" cy="801720"/>
            <a:chOff x="771480" y="4255920"/>
            <a:chExt cx="701640" cy="801720"/>
          </a:xfrm>
        </p:grpSpPr>
        <p:sp>
          <p:nvSpPr>
            <p:cNvPr id="342" name=""/>
            <p:cNvSpPr/>
            <p:nvPr/>
          </p:nvSpPr>
          <p:spPr>
            <a:xfrm>
              <a:off x="771480" y="4255920"/>
              <a:ext cx="701640" cy="801720"/>
            </a:xfrm>
            <a:custGeom>
              <a:avLst/>
              <a:gdLst/>
              <a:ahLst/>
              <a:rect l="l" t="t" r="r" b="b"/>
              <a:pathLst>
                <a:path w="442" h="505">
                  <a:moveTo>
                    <a:pt x="442" y="419"/>
                  </a:moveTo>
                  <a:lnTo>
                    <a:pt x="257" y="334"/>
                  </a:lnTo>
                  <a:lnTo>
                    <a:pt x="257" y="391"/>
                  </a:lnTo>
                  <a:lnTo>
                    <a:pt x="56" y="391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448"/>
                  </a:lnTo>
                  <a:lnTo>
                    <a:pt x="257" y="448"/>
                  </a:lnTo>
                  <a:lnTo>
                    <a:pt x="257" y="505"/>
                  </a:lnTo>
                  <a:lnTo>
                    <a:pt x="442" y="4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1480" y="4255920"/>
              <a:ext cx="701640" cy="801720"/>
            </a:xfrm>
            <a:custGeom>
              <a:avLst/>
              <a:gdLst/>
              <a:ahLst/>
              <a:rect l="l" t="t" r="r" b="b"/>
              <a:pathLst>
                <a:path w="442" h="505">
                  <a:moveTo>
                    <a:pt x="442" y="419"/>
                  </a:moveTo>
                  <a:lnTo>
                    <a:pt x="257" y="334"/>
                  </a:lnTo>
                  <a:lnTo>
                    <a:pt x="257" y="391"/>
                  </a:lnTo>
                  <a:lnTo>
                    <a:pt x="56" y="391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448"/>
                  </a:lnTo>
                  <a:lnTo>
                    <a:pt x="257" y="448"/>
                  </a:lnTo>
                  <a:lnTo>
                    <a:pt x="257" y="505"/>
                  </a:lnTo>
                  <a:lnTo>
                    <a:pt x="442" y="419"/>
                  </a:lnTo>
                  <a:close/>
                </a:path>
              </a:pathLst>
            </a:custGeom>
            <a:noFill/>
            <a:ln cap="rnd"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603440" y="4707000"/>
            <a:ext cx="6859440" cy="1111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22520" y="4724280"/>
            <a:ext cx="6910200" cy="10782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63560" y="480996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67680" y="4935600"/>
            <a:ext cx="214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,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85840" y="4809960"/>
            <a:ext cx="279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/G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6640" y="493560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50880" y="48150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08160" y="48150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64000" y="48150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721280" y="48150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93720" y="4724280"/>
            <a:ext cx="129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93720" y="4724280"/>
            <a:ext cx="129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06680" y="4724280"/>
            <a:ext cx="108900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95680" y="4724280"/>
            <a:ext cx="1260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08280" y="4724280"/>
            <a:ext cx="144612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54400" y="4724280"/>
            <a:ext cx="111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5560" y="4724280"/>
            <a:ext cx="144324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08800" y="4724280"/>
            <a:ext cx="1260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21400" y="4724280"/>
            <a:ext cx="14446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66080" y="4724280"/>
            <a:ext cx="1260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78680" y="4724280"/>
            <a:ext cx="14428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521560" y="4724280"/>
            <a:ext cx="111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521560" y="4724280"/>
            <a:ext cx="111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93720" y="4737240"/>
            <a:ext cx="1296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695680" y="4737240"/>
            <a:ext cx="1260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54400" y="4737240"/>
            <a:ext cx="1116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08800" y="4737240"/>
            <a:ext cx="1260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66080" y="4737240"/>
            <a:ext cx="1260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63920" y="5340240"/>
            <a:ext cx="191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59400" y="554508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57560" y="534996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,53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14840" y="534996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,46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70680" y="534996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,43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27960" y="534996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,41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93720" y="5261040"/>
            <a:ext cx="12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06680" y="5261040"/>
            <a:ext cx="10890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95680" y="5261040"/>
            <a:ext cx="12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08280" y="5261040"/>
            <a:ext cx="14461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54400" y="52610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65560" y="5261040"/>
            <a:ext cx="14432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608800" y="5261040"/>
            <a:ext cx="12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21400" y="5261040"/>
            <a:ext cx="144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66080" y="5261040"/>
            <a:ext cx="12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078680" y="5261040"/>
            <a:ext cx="14428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521560" y="52610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93720" y="5272200"/>
            <a:ext cx="12960" cy="53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93720" y="5803920"/>
            <a:ext cx="12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93720" y="5803920"/>
            <a:ext cx="12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06680" y="5803920"/>
            <a:ext cx="10890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695680" y="5272200"/>
            <a:ext cx="12600" cy="53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695680" y="5803920"/>
            <a:ext cx="12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08280" y="5803920"/>
            <a:ext cx="14461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154400" y="5272200"/>
            <a:ext cx="11160" cy="53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54400" y="5803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65560" y="5803920"/>
            <a:ext cx="14432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608800" y="5272200"/>
            <a:ext cx="12600" cy="53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608800" y="5803920"/>
            <a:ext cx="12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21400" y="5803920"/>
            <a:ext cx="144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66080" y="5272200"/>
            <a:ext cx="12600" cy="53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66080" y="5803920"/>
            <a:ext cx="12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78680" y="5803920"/>
            <a:ext cx="14428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521560" y="5803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521560" y="5803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03440" y="4707000"/>
            <a:ext cx="6929280" cy="1111320"/>
          </a:xfrm>
          <a:prstGeom prst="rect">
            <a:avLst/>
          </a:prstGeom>
          <a:noFill/>
          <a:ln cap="rnd"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771480" y="4255920"/>
            <a:ext cx="701640" cy="801720"/>
            <a:chOff x="771480" y="4255920"/>
            <a:chExt cx="701640" cy="801720"/>
          </a:xfrm>
        </p:grpSpPr>
        <p:sp>
          <p:nvSpPr>
            <p:cNvPr id="409" name=""/>
            <p:cNvSpPr/>
            <p:nvPr/>
          </p:nvSpPr>
          <p:spPr>
            <a:xfrm>
              <a:off x="771480" y="4255920"/>
              <a:ext cx="701640" cy="801720"/>
            </a:xfrm>
            <a:custGeom>
              <a:avLst/>
              <a:gdLst/>
              <a:ahLst/>
              <a:rect l="l" t="t" r="r" b="b"/>
              <a:pathLst>
                <a:path w="442" h="505">
                  <a:moveTo>
                    <a:pt x="442" y="419"/>
                  </a:moveTo>
                  <a:lnTo>
                    <a:pt x="257" y="334"/>
                  </a:lnTo>
                  <a:lnTo>
                    <a:pt x="257" y="391"/>
                  </a:lnTo>
                  <a:lnTo>
                    <a:pt x="56" y="391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448"/>
                  </a:lnTo>
                  <a:lnTo>
                    <a:pt x="257" y="448"/>
                  </a:lnTo>
                  <a:lnTo>
                    <a:pt x="257" y="505"/>
                  </a:lnTo>
                  <a:lnTo>
                    <a:pt x="442" y="4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1480" y="4255920"/>
              <a:ext cx="701640" cy="801720"/>
            </a:xfrm>
            <a:custGeom>
              <a:avLst/>
              <a:gdLst/>
              <a:ahLst/>
              <a:rect l="l" t="t" r="r" b="b"/>
              <a:pathLst>
                <a:path w="442" h="505">
                  <a:moveTo>
                    <a:pt x="442" y="419"/>
                  </a:moveTo>
                  <a:lnTo>
                    <a:pt x="257" y="334"/>
                  </a:lnTo>
                  <a:lnTo>
                    <a:pt x="257" y="391"/>
                  </a:lnTo>
                  <a:lnTo>
                    <a:pt x="56" y="391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448"/>
                  </a:lnTo>
                  <a:lnTo>
                    <a:pt x="257" y="448"/>
                  </a:lnTo>
                  <a:lnTo>
                    <a:pt x="257" y="505"/>
                  </a:lnTo>
                  <a:lnTo>
                    <a:pt x="442" y="419"/>
                  </a:lnTo>
                  <a:close/>
                </a:path>
              </a:pathLst>
            </a:custGeom>
            <a:noFill/>
            <a:ln cap="rnd"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4761-CD51-4153-B20C-22A41EC3B6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stablishing fire resistance: the simple proces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878600" cy="247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45F1-9727-4076-8C09-9A0B390F8C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ember classification in fi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93000" cy="44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0D32-93BC-476D-A05F-C413EB3DE3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stablishing fire resistance: the simple proces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878600" cy="404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5BB2-BA76-4AFE-9004-AC9F93A6FF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“Degree of Utilisation”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942160" y="1562040"/>
            <a:ext cx="1928520" cy="1263600"/>
            <a:chOff x="5942160" y="1562040"/>
            <a:chExt cx="1928520" cy="1263600"/>
          </a:xfrm>
        </p:grpSpPr>
        <p:sp>
          <p:nvSpPr>
            <p:cNvPr id="419" name=""/>
            <p:cNvSpPr/>
            <p:nvPr/>
          </p:nvSpPr>
          <p:spPr>
            <a:xfrm>
              <a:off x="5942160" y="1562040"/>
              <a:ext cx="1928520" cy="1263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56200" y="1576440"/>
              <a:ext cx="1903680" cy="1238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38920" y="2179800"/>
              <a:ext cx="92700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81960" y="2484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22560" y="2484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67760" y="2484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09800" y="2484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58960" y="248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fi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72520" y="18684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414560" y="18684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263720" y="18684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fi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64360" y="21700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77800" y="223524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69960" y="161784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70280" y="187632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22800" y="1876320"/>
              <a:ext cx="235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42160" y="1562040"/>
              <a:ext cx="1928520" cy="1263600"/>
            </a:xfrm>
            <a:prstGeom prst="rect">
              <a:avLst/>
            </a:prstGeom>
            <a:noFill/>
            <a:ln cap="rnd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945720" y="16732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275440" y="1749600"/>
            <a:ext cx="1666800" cy="91800"/>
            <a:chOff x="5275440" y="1749600"/>
            <a:chExt cx="1666800" cy="91800"/>
          </a:xfrm>
        </p:grpSpPr>
        <p:sp>
          <p:nvSpPr>
            <p:cNvPr id="438" name=""/>
            <p:cNvSpPr/>
            <p:nvPr/>
          </p:nvSpPr>
          <p:spPr>
            <a:xfrm>
              <a:off x="5275440" y="1749600"/>
              <a:ext cx="1666800" cy="91800"/>
            </a:xfrm>
            <a:custGeom>
              <a:avLst/>
              <a:gdLst/>
              <a:ahLst/>
              <a:rect l="l" t="t" r="r" b="b"/>
              <a:pathLst>
                <a:path w="1050" h="58">
                  <a:moveTo>
                    <a:pt x="788" y="0"/>
                  </a:moveTo>
                  <a:lnTo>
                    <a:pt x="788" y="15"/>
                  </a:lnTo>
                  <a:lnTo>
                    <a:pt x="0" y="15"/>
                  </a:lnTo>
                  <a:lnTo>
                    <a:pt x="0" y="44"/>
                  </a:lnTo>
                  <a:lnTo>
                    <a:pt x="788" y="44"/>
                  </a:lnTo>
                  <a:lnTo>
                    <a:pt x="788" y="58"/>
                  </a:lnTo>
                  <a:lnTo>
                    <a:pt x="1050" y="29"/>
                  </a:lnTo>
                  <a:lnTo>
                    <a:pt x="78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75440" y="1749600"/>
              <a:ext cx="1666800" cy="91800"/>
            </a:xfrm>
            <a:custGeom>
              <a:avLst/>
              <a:gdLst/>
              <a:ahLst/>
              <a:rect l="l" t="t" r="r" b="b"/>
              <a:pathLst>
                <a:path w="1050" h="58">
                  <a:moveTo>
                    <a:pt x="788" y="0"/>
                  </a:moveTo>
                  <a:lnTo>
                    <a:pt x="788" y="15"/>
                  </a:lnTo>
                  <a:lnTo>
                    <a:pt x="0" y="15"/>
                  </a:lnTo>
                  <a:lnTo>
                    <a:pt x="0" y="44"/>
                  </a:lnTo>
                  <a:lnTo>
                    <a:pt x="788" y="44"/>
                  </a:lnTo>
                  <a:lnTo>
                    <a:pt x="788" y="58"/>
                  </a:lnTo>
                  <a:lnTo>
                    <a:pt x="1050" y="29"/>
                  </a:lnTo>
                  <a:lnTo>
                    <a:pt x="788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945720" y="16732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99640" y="1628640"/>
            <a:ext cx="419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s the design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ing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f a member in fire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5275440" y="1749600"/>
            <a:ext cx="1666800" cy="91800"/>
            <a:chOff x="5275440" y="1749600"/>
            <a:chExt cx="1666800" cy="91800"/>
          </a:xfrm>
        </p:grpSpPr>
        <p:sp>
          <p:nvSpPr>
            <p:cNvPr id="443" name=""/>
            <p:cNvSpPr/>
            <p:nvPr/>
          </p:nvSpPr>
          <p:spPr>
            <a:xfrm>
              <a:off x="5275440" y="1749600"/>
              <a:ext cx="1666800" cy="91800"/>
            </a:xfrm>
            <a:custGeom>
              <a:avLst/>
              <a:gdLst/>
              <a:ahLst/>
              <a:rect l="l" t="t" r="r" b="b"/>
              <a:pathLst>
                <a:path w="1050" h="58">
                  <a:moveTo>
                    <a:pt x="788" y="0"/>
                  </a:moveTo>
                  <a:lnTo>
                    <a:pt x="788" y="15"/>
                  </a:lnTo>
                  <a:lnTo>
                    <a:pt x="0" y="15"/>
                  </a:lnTo>
                  <a:lnTo>
                    <a:pt x="0" y="44"/>
                  </a:lnTo>
                  <a:lnTo>
                    <a:pt x="788" y="44"/>
                  </a:lnTo>
                  <a:lnTo>
                    <a:pt x="788" y="58"/>
                  </a:lnTo>
                  <a:lnTo>
                    <a:pt x="1050" y="29"/>
                  </a:lnTo>
                  <a:lnTo>
                    <a:pt x="78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75440" y="1749600"/>
              <a:ext cx="1666800" cy="91800"/>
            </a:xfrm>
            <a:custGeom>
              <a:avLst/>
              <a:gdLst/>
              <a:ahLst/>
              <a:rect l="l" t="t" r="r" b="b"/>
              <a:pathLst>
                <a:path w="1050" h="58">
                  <a:moveTo>
                    <a:pt x="788" y="0"/>
                  </a:moveTo>
                  <a:lnTo>
                    <a:pt x="788" y="15"/>
                  </a:lnTo>
                  <a:lnTo>
                    <a:pt x="0" y="15"/>
                  </a:lnTo>
                  <a:lnTo>
                    <a:pt x="0" y="44"/>
                  </a:lnTo>
                  <a:lnTo>
                    <a:pt x="788" y="44"/>
                  </a:lnTo>
                  <a:lnTo>
                    <a:pt x="788" y="58"/>
                  </a:lnTo>
                  <a:lnTo>
                    <a:pt x="1050" y="29"/>
                  </a:lnTo>
                  <a:lnTo>
                    <a:pt x="788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413320" y="2486160"/>
            <a:ext cx="1330560" cy="88920"/>
            <a:chOff x="5413320" y="2486160"/>
            <a:chExt cx="1330560" cy="88920"/>
          </a:xfrm>
        </p:grpSpPr>
        <p:sp>
          <p:nvSpPr>
            <p:cNvPr id="446" name=""/>
            <p:cNvSpPr/>
            <p:nvPr/>
          </p:nvSpPr>
          <p:spPr>
            <a:xfrm>
              <a:off x="5413320" y="2486160"/>
              <a:ext cx="1330560" cy="88920"/>
            </a:xfrm>
            <a:custGeom>
              <a:avLst/>
              <a:gdLst/>
              <a:ahLst/>
              <a:rect l="l" t="t" r="r" b="b"/>
              <a:pathLst>
                <a:path w="838" h="56">
                  <a:moveTo>
                    <a:pt x="628" y="0"/>
                  </a:moveTo>
                  <a:lnTo>
                    <a:pt x="628" y="14"/>
                  </a:lnTo>
                  <a:lnTo>
                    <a:pt x="0" y="14"/>
                  </a:lnTo>
                  <a:lnTo>
                    <a:pt x="0" y="42"/>
                  </a:lnTo>
                  <a:lnTo>
                    <a:pt x="628" y="42"/>
                  </a:lnTo>
                  <a:lnTo>
                    <a:pt x="628" y="56"/>
                  </a:lnTo>
                  <a:lnTo>
                    <a:pt x="838" y="28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13320" y="2486160"/>
              <a:ext cx="1330560" cy="88920"/>
            </a:xfrm>
            <a:custGeom>
              <a:avLst/>
              <a:gdLst/>
              <a:ahLst/>
              <a:rect l="l" t="t" r="r" b="b"/>
              <a:pathLst>
                <a:path w="838" h="56">
                  <a:moveTo>
                    <a:pt x="628" y="0"/>
                  </a:moveTo>
                  <a:lnTo>
                    <a:pt x="628" y="14"/>
                  </a:lnTo>
                  <a:lnTo>
                    <a:pt x="0" y="14"/>
                  </a:lnTo>
                  <a:lnTo>
                    <a:pt x="0" y="42"/>
                  </a:lnTo>
                  <a:lnTo>
                    <a:pt x="628" y="42"/>
                  </a:lnTo>
                  <a:lnTo>
                    <a:pt x="628" y="56"/>
                  </a:lnTo>
                  <a:lnTo>
                    <a:pt x="838" y="28"/>
                  </a:lnTo>
                  <a:lnTo>
                    <a:pt x="628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413320" y="2486160"/>
            <a:ext cx="1330560" cy="88920"/>
            <a:chOff x="5413320" y="2486160"/>
            <a:chExt cx="1330560" cy="88920"/>
          </a:xfrm>
        </p:grpSpPr>
        <p:sp>
          <p:nvSpPr>
            <p:cNvPr id="449" name=""/>
            <p:cNvSpPr/>
            <p:nvPr/>
          </p:nvSpPr>
          <p:spPr>
            <a:xfrm>
              <a:off x="5413320" y="2486160"/>
              <a:ext cx="1330560" cy="88920"/>
            </a:xfrm>
            <a:custGeom>
              <a:avLst/>
              <a:gdLst/>
              <a:ahLst/>
              <a:rect l="l" t="t" r="r" b="b"/>
              <a:pathLst>
                <a:path w="838" h="56">
                  <a:moveTo>
                    <a:pt x="628" y="0"/>
                  </a:moveTo>
                  <a:lnTo>
                    <a:pt x="628" y="14"/>
                  </a:lnTo>
                  <a:lnTo>
                    <a:pt x="0" y="14"/>
                  </a:lnTo>
                  <a:lnTo>
                    <a:pt x="0" y="42"/>
                  </a:lnTo>
                  <a:lnTo>
                    <a:pt x="628" y="42"/>
                  </a:lnTo>
                  <a:lnTo>
                    <a:pt x="628" y="56"/>
                  </a:lnTo>
                  <a:lnTo>
                    <a:pt x="838" y="28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13320" y="2486160"/>
              <a:ext cx="1330560" cy="88920"/>
            </a:xfrm>
            <a:custGeom>
              <a:avLst/>
              <a:gdLst/>
              <a:ahLst/>
              <a:rect l="l" t="t" r="r" b="b"/>
              <a:pathLst>
                <a:path w="838" h="56">
                  <a:moveTo>
                    <a:pt x="628" y="0"/>
                  </a:moveTo>
                  <a:lnTo>
                    <a:pt x="628" y="14"/>
                  </a:lnTo>
                  <a:lnTo>
                    <a:pt x="0" y="14"/>
                  </a:lnTo>
                  <a:lnTo>
                    <a:pt x="0" y="42"/>
                  </a:lnTo>
                  <a:lnTo>
                    <a:pt x="628" y="42"/>
                  </a:lnTo>
                  <a:lnTo>
                    <a:pt x="628" y="56"/>
                  </a:lnTo>
                  <a:lnTo>
                    <a:pt x="838" y="28"/>
                  </a:lnTo>
                  <a:lnTo>
                    <a:pt x="628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571760" y="3173400"/>
            <a:ext cx="6159240" cy="2712960"/>
            <a:chOff x="1571760" y="3173400"/>
            <a:chExt cx="6159240" cy="2712960"/>
          </a:xfrm>
        </p:grpSpPr>
        <p:sp>
          <p:nvSpPr>
            <p:cNvPr id="452" name=""/>
            <p:cNvSpPr/>
            <p:nvPr/>
          </p:nvSpPr>
          <p:spPr>
            <a:xfrm>
              <a:off x="1571760" y="3173400"/>
              <a:ext cx="6159240" cy="2712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71760" y="3173400"/>
              <a:ext cx="6159240" cy="2712960"/>
            </a:xfrm>
            <a:prstGeom prst="rect">
              <a:avLst/>
            </a:prstGeom>
            <a:noFill/>
            <a:ln cap="rnd"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674720" y="3911760"/>
            <a:ext cx="2602080" cy="1293480"/>
            <a:chOff x="1674720" y="3911760"/>
            <a:chExt cx="2602080" cy="1293480"/>
          </a:xfrm>
        </p:grpSpPr>
        <p:sp>
          <p:nvSpPr>
            <p:cNvPr id="455" name=""/>
            <p:cNvSpPr/>
            <p:nvPr/>
          </p:nvSpPr>
          <p:spPr>
            <a:xfrm>
              <a:off x="1674720" y="3911760"/>
              <a:ext cx="2602080" cy="12934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87680" y="3925800"/>
              <a:ext cx="2577960" cy="126864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3640" y="4560840"/>
              <a:ext cx="784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6400" y="441792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6400" y="423864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6400" y="467352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6400" y="398160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03480" y="441792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03480" y="423864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03480" y="467352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03480" y="398160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02840" y="425916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1200" y="48657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11440" y="48657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88640" y="42512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fi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88920" y="4251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41600" y="425124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17000" y="45529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fi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95480" y="4552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42880" y="4572000"/>
              <a:ext cx="2307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73040" y="3957480"/>
              <a:ext cx="2307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21800" y="4259160"/>
              <a:ext cx="246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55720" y="4259160"/>
              <a:ext cx="235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74720" y="3911760"/>
              <a:ext cx="2602080" cy="1293480"/>
            </a:xfrm>
            <a:prstGeom prst="rect">
              <a:avLst/>
            </a:prstGeom>
            <a:noFill/>
            <a:ln cap="rnd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1636200" y="3201840"/>
            <a:ext cx="2536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 simple version of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25040" y="3191040"/>
            <a:ext cx="2536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A simple version of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37280" y="3522600"/>
            <a:ext cx="2681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gree of Utilisation: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26480" y="3513240"/>
            <a:ext cx="2681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Degree of Utilisation: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571760" y="3173400"/>
            <a:ext cx="6159240" cy="2712960"/>
            <a:chOff x="1571760" y="3173400"/>
            <a:chExt cx="6159240" cy="2712960"/>
          </a:xfrm>
        </p:grpSpPr>
        <p:sp>
          <p:nvSpPr>
            <p:cNvPr id="484" name=""/>
            <p:cNvSpPr/>
            <p:nvPr/>
          </p:nvSpPr>
          <p:spPr>
            <a:xfrm>
              <a:off x="1571760" y="3173400"/>
              <a:ext cx="6159240" cy="2712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1760" y="3173400"/>
              <a:ext cx="6159240" cy="2712960"/>
            </a:xfrm>
            <a:prstGeom prst="rect">
              <a:avLst/>
            </a:prstGeom>
            <a:noFill/>
            <a:ln cap="rnd"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674720" y="3911760"/>
            <a:ext cx="2602080" cy="1293480"/>
            <a:chOff x="1674720" y="3911760"/>
            <a:chExt cx="2602080" cy="1293480"/>
          </a:xfrm>
        </p:grpSpPr>
        <p:sp>
          <p:nvSpPr>
            <p:cNvPr id="487" name=""/>
            <p:cNvSpPr/>
            <p:nvPr/>
          </p:nvSpPr>
          <p:spPr>
            <a:xfrm>
              <a:off x="1674720" y="3911760"/>
              <a:ext cx="2602080" cy="12934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87680" y="3925800"/>
              <a:ext cx="2577960" cy="126864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03640" y="4560840"/>
              <a:ext cx="784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46400" y="441792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46400" y="423864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046400" y="467352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46400" y="398160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03480" y="441792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03480" y="423864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003480" y="467352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03480" y="3981600"/>
              <a:ext cx="13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02840" y="425916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51200" y="48657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11440" y="48657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788640" y="42512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fi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88920" y="4251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41600" y="425124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17000" y="45529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fi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95480" y="4552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42880" y="4572000"/>
              <a:ext cx="2307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73040" y="3957480"/>
              <a:ext cx="2307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21800" y="4259160"/>
              <a:ext cx="246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55720" y="4259160"/>
              <a:ext cx="235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74720" y="3911760"/>
              <a:ext cx="2602080" cy="1293480"/>
            </a:xfrm>
            <a:prstGeom prst="rect">
              <a:avLst/>
            </a:prstGeom>
            <a:noFill/>
            <a:ln cap="rnd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1636200" y="3201840"/>
            <a:ext cx="2536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 simple version of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625040" y="3191040"/>
            <a:ext cx="2536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A simple version of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637280" y="3522600"/>
            <a:ext cx="2681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gree of Utilisation: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26480" y="3513240"/>
            <a:ext cx="2681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Degree of Utilisation: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417920" y="320040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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671000" y="3200400"/>
            <a:ext cx="30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n be used when no chance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670280" y="3468600"/>
            <a:ext cx="187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 overall or later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503760" y="34686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579000" y="346860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rsional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69560" y="3735360"/>
            <a:ext cx="90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ckling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551200" y="37353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417920" y="4094280"/>
            <a:ext cx="20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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669200" y="4094280"/>
            <a:ext cx="152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ervative if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56720" y="3978360"/>
            <a:ext cx="191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345720" y="418140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0000"/>
                </a:solidFill>
                <a:latin typeface="Times New Roman"/>
              </a:rPr>
              <a:t>fi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516000" y="409428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lculated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69200" y="4378320"/>
            <a:ext cx="171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 proportion of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48960" y="4378320"/>
            <a:ext cx="80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341040" y="4370400"/>
            <a:ext cx="80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sig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75320" y="4646520"/>
            <a:ext cx="81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667400" y="4638600"/>
            <a:ext cx="81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ad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4560" y="4646520"/>
            <a:ext cx="113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 ambient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69200" y="4915080"/>
            <a:ext cx="129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mperatur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662480" y="5484960"/>
            <a:ext cx="399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teel, material partial safety factors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90440" y="5324400"/>
            <a:ext cx="201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765040" y="5572080"/>
            <a:ext cx="288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048000" y="5484960"/>
            <a:ext cx="45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,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682680" y="5324400"/>
            <a:ext cx="201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856560" y="5572080"/>
            <a:ext cx="35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M.fi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203600" y="5484960"/>
            <a:ext cx="45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,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042920" y="2205000"/>
            <a:ext cx="44578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s a proportion of it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sistance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t ambient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mperature (t=0) but including material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fety factors for the fire limit state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D0C0-E826-4008-9952-C7F94401CD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stablishing fire resistance: the simple proces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892920" cy="454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4EC9-27E4-413F-9833-8E7D31ECE6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388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crete also loses strength and stiffness from 100°C upward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es not regain strength on cooling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igh temperature properties depend mainly on aggregate type used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crete stress-strain curves at high temperatu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140360" y="2276640"/>
            <a:ext cx="4857480" cy="302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64C2-5D16-45D8-9A2D-F77F5FADBE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ritical temperatures of steel memb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388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sed on Standard Fire curve.  Simple members onl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n-slender sections (Classes 1, 2, 3 treated the sam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ender (Class 4) sections treated conservatively (350°C), or see Annex E of EC3 Part 1-2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rcRect l="32242" t="0" r="0" b="0"/>
          <a:stretch/>
        </p:blipFill>
        <p:spPr>
          <a:xfrm>
            <a:off x="3959280" y="1628640"/>
            <a:ext cx="5076720" cy="436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725E-063B-4EF9-A800-C35D553042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stablishing fire resistance: the simple proces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892920" cy="455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6ABE-B9BC-4CE7-83ED-DC7AFFA808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tion factor Am/V - unprotected steel memb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29440" cy="460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A1FD-60DB-413B-B51C-9B37763370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tion factor Am/V - inherently protected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3240" cy="443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363F-ADEA-4B53-AA06-6FB5D12D67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tion factor Am/V - hollow sections exposed on all sid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573200" y="1865160"/>
            <a:ext cx="5996160" cy="365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B490-4D01-47B3-9DE3-1B3B9A29E83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stablishing fire resistance: the simple proces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819840" cy="451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206D-51B4-4D13-8AA1-29790EC2DA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emperature increase of unprotected steel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79280" y="155736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emperature increase in time step </a:t>
            </a:r>
            <a:r>
              <a:rPr b="0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324000" y="2060640"/>
          <a:ext cx="302400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60640"/>
                    <a:ext cx="3024000" cy="793800"/>
                  </a:xfrm>
                  <a:prstGeom prst="rect">
                    <a:avLst/>
                  </a:prstGeom>
                  <a:ln w="381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179280" y="3176640"/>
            <a:ext cx="31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eat flux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net.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has 2 par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79280" y="3608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diation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250920" y="4059360"/>
          <a:ext cx="5638680" cy="73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4059360"/>
                    <a:ext cx="5638680" cy="738000"/>
                  </a:xfrm>
                  <a:prstGeom prst="rect">
                    <a:avLst/>
                  </a:prstGeom>
                  <a:ln w="381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179280" y="497664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vection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4000" y="5473800"/>
                <a:ext cx="21621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4643280" y="1460520"/>
            <a:ext cx="41198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5A56-71F1-461D-98D6-7FAFA566B2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stablishing fire resistance: the simple proces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2400" cy="461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A278-A884-42D2-953C-834BF6B7F5D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tion fact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/ V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- protected steel memb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532640" cy="462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373C-51B4-4285-A0C2-A38931D7445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tion fact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/ V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- hollow sections exposed on all sid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3276720" y="1930320"/>
            <a:ext cx="2417760" cy="373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F90A-D78B-4E86-A964-416CDB4EB8F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uel + Oxidant = Combustion products + Ener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+ O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CO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+ 2H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 + 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The fire triangl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329000" y="2557440"/>
            <a:ext cx="3721320" cy="3092400"/>
            <a:chOff x="4329000" y="2557440"/>
            <a:chExt cx="3721320" cy="3092400"/>
          </a:xfrm>
        </p:grpSpPr>
        <p:sp>
          <p:nvSpPr>
            <p:cNvPr id="170" name=""/>
            <p:cNvSpPr/>
            <p:nvPr/>
          </p:nvSpPr>
          <p:spPr>
            <a:xfrm>
              <a:off x="4329000" y="2557440"/>
              <a:ext cx="3721320" cy="3092400"/>
            </a:xfrm>
            <a:prstGeom prst="triangle">
              <a:avLst>
                <a:gd name="adj" fmla="val 49995"/>
              </a:avLst>
            </a:prstGeom>
            <a:solidFill>
              <a:srgbClr val="fafd00"/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41960" y="3709800"/>
              <a:ext cx="201276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ction occurs when Oxygen/fuel mixture hot enough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802480" y="2060640"/>
            <a:ext cx="734760" cy="1314360"/>
            <a:chOff x="5802480" y="2060640"/>
            <a:chExt cx="734760" cy="1314360"/>
          </a:xfrm>
        </p:grpSpPr>
        <p:sp>
          <p:nvSpPr>
            <p:cNvPr id="173" name=""/>
            <p:cNvSpPr/>
            <p:nvPr/>
          </p:nvSpPr>
          <p:spPr>
            <a:xfrm>
              <a:off x="5802480" y="206064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Hea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02440" y="2571840"/>
              <a:ext cx="0" cy="80316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7305840" y="5194440"/>
            <a:ext cx="1660320" cy="841320"/>
            <a:chOff x="7305840" y="5194440"/>
            <a:chExt cx="1660320" cy="841320"/>
          </a:xfrm>
        </p:grpSpPr>
        <p:sp>
          <p:nvSpPr>
            <p:cNvPr id="176" name=""/>
            <p:cNvSpPr/>
            <p:nvPr/>
          </p:nvSpPr>
          <p:spPr>
            <a:xfrm>
              <a:off x="7850520" y="5641920"/>
              <a:ext cx="11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xygen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305840" y="5194440"/>
              <a:ext cx="722160" cy="47304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79560" y="5292720"/>
            <a:ext cx="1380960" cy="781200"/>
            <a:chOff x="3679560" y="5292720"/>
            <a:chExt cx="1380960" cy="781200"/>
          </a:xfrm>
        </p:grpSpPr>
        <p:sp>
          <p:nvSpPr>
            <p:cNvPr id="179" name=""/>
            <p:cNvSpPr/>
            <p:nvPr/>
          </p:nvSpPr>
          <p:spPr>
            <a:xfrm>
              <a:off x="3679560" y="5680080"/>
              <a:ext cx="704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uel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343040" y="5292720"/>
              <a:ext cx="717480" cy="34272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D9C0-2F50-4919-B2A6-FD2D409DF3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stablishing fire resistance: the simple process (protected steel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892920" cy="455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126E-16C3-4C70-A768-F09CD302B31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emperature increase of unprotected steel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79280" y="155736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ome heat stored in protection lay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0920" y="207972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eat stored in protection layer relative to heat stored in ste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0920" y="422100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emperature rise of steel in time increment </a:t>
            </a:r>
            <a:r>
              <a:rPr b="0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625320" y="2924280"/>
          <a:ext cx="218304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2924280"/>
                    <a:ext cx="2183040" cy="1009440"/>
                  </a:xfrm>
                  <a:prstGeom prst="rect">
                    <a:avLst/>
                  </a:prstGeom>
                  <a:ln w="381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395280" y="4984920"/>
          <a:ext cx="741672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4984920"/>
                    <a:ext cx="7416720" cy="1035000"/>
                  </a:xfrm>
                  <a:prstGeom prst="rect">
                    <a:avLst/>
                  </a:prstGeom>
                  <a:ln w="381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4643280" y="1484280"/>
            <a:ext cx="4227840" cy="33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48E2-3A34-4707-8F83-88E07ACF6D4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stablishing fire resistance: the simple process (protected steel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2400" cy="461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9E88-F071-4F0E-A8B5-E82A35003EE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daptation factors - beam with concrete slab on top flang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78032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375CB-A764-4261-A48D-5A01F40E66F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nrestrained bea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24720" cy="420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B23E-E3DC-4F19-A39C-51978598944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mpression members of Class 1, 2 or 3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86132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6037-2136-41E5-93F5-69635B8B94E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examp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062920" cy="440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654D-32DC-40B8-B8EE-F3674DBD853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ension member: strength desig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794360" cy="441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5D97-9DB5-4189-B0D7-1C932876580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ension member: critical temperatu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6897600" y="1814400"/>
            <a:ext cx="1251000" cy="4052880"/>
            <a:chOff x="6897600" y="1814400"/>
            <a:chExt cx="1251000" cy="4052880"/>
          </a:xfrm>
        </p:grpSpPr>
        <p:sp>
          <p:nvSpPr>
            <p:cNvPr id="599" name=""/>
            <p:cNvSpPr/>
            <p:nvPr/>
          </p:nvSpPr>
          <p:spPr>
            <a:xfrm>
              <a:off x="6897600" y="1814400"/>
              <a:ext cx="1251000" cy="405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97600" y="1814400"/>
              <a:ext cx="1251000" cy="4052880"/>
            </a:xfrm>
            <a:prstGeom prst="rect">
              <a:avLst/>
            </a:prstGeom>
            <a:noFill/>
            <a:ln cap="rnd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7101000" y="3022560"/>
            <a:ext cx="869760" cy="1354320"/>
            <a:chOff x="7101000" y="3022560"/>
            <a:chExt cx="869760" cy="1354320"/>
          </a:xfrm>
        </p:grpSpPr>
        <p:sp>
          <p:nvSpPr>
            <p:cNvPr id="602" name=""/>
            <p:cNvSpPr/>
            <p:nvPr/>
          </p:nvSpPr>
          <p:spPr>
            <a:xfrm>
              <a:off x="7101000" y="3022560"/>
              <a:ext cx="869760" cy="1354320"/>
            </a:xfrm>
            <a:custGeom>
              <a:avLst/>
              <a:gdLst/>
              <a:ahLst/>
              <a:rect l="l" t="t" r="r" b="b"/>
              <a:pathLst>
                <a:path w="548" h="853">
                  <a:moveTo>
                    <a:pt x="229" y="853"/>
                  </a:moveTo>
                  <a:lnTo>
                    <a:pt x="83" y="770"/>
                  </a:lnTo>
                  <a:lnTo>
                    <a:pt x="60" y="564"/>
                  </a:lnTo>
                  <a:lnTo>
                    <a:pt x="0" y="404"/>
                  </a:lnTo>
                  <a:lnTo>
                    <a:pt x="69" y="214"/>
                  </a:lnTo>
                  <a:lnTo>
                    <a:pt x="53" y="23"/>
                  </a:lnTo>
                  <a:lnTo>
                    <a:pt x="114" y="107"/>
                  </a:lnTo>
                  <a:lnTo>
                    <a:pt x="129" y="305"/>
                  </a:lnTo>
                  <a:lnTo>
                    <a:pt x="114" y="480"/>
                  </a:lnTo>
                  <a:lnTo>
                    <a:pt x="190" y="579"/>
                  </a:lnTo>
                  <a:lnTo>
                    <a:pt x="160" y="457"/>
                  </a:lnTo>
                  <a:lnTo>
                    <a:pt x="183" y="282"/>
                  </a:lnTo>
                  <a:lnTo>
                    <a:pt x="197" y="114"/>
                  </a:lnTo>
                  <a:lnTo>
                    <a:pt x="137" y="16"/>
                  </a:lnTo>
                  <a:lnTo>
                    <a:pt x="197" y="31"/>
                  </a:lnTo>
                  <a:lnTo>
                    <a:pt x="266" y="251"/>
                  </a:lnTo>
                  <a:lnTo>
                    <a:pt x="320" y="145"/>
                  </a:lnTo>
                  <a:lnTo>
                    <a:pt x="343" y="0"/>
                  </a:lnTo>
                  <a:lnTo>
                    <a:pt x="380" y="107"/>
                  </a:lnTo>
                  <a:lnTo>
                    <a:pt x="380" y="251"/>
                  </a:lnTo>
                  <a:lnTo>
                    <a:pt x="327" y="381"/>
                  </a:lnTo>
                  <a:lnTo>
                    <a:pt x="403" y="389"/>
                  </a:lnTo>
                  <a:lnTo>
                    <a:pt x="441" y="214"/>
                  </a:lnTo>
                  <a:lnTo>
                    <a:pt x="548" y="68"/>
                  </a:lnTo>
                  <a:lnTo>
                    <a:pt x="480" y="221"/>
                  </a:lnTo>
                  <a:lnTo>
                    <a:pt x="517" y="351"/>
                  </a:lnTo>
                  <a:lnTo>
                    <a:pt x="503" y="488"/>
                  </a:lnTo>
                  <a:lnTo>
                    <a:pt x="418" y="609"/>
                  </a:lnTo>
                  <a:lnTo>
                    <a:pt x="471" y="808"/>
                  </a:lnTo>
                  <a:lnTo>
                    <a:pt x="229" y="85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01000" y="3022560"/>
              <a:ext cx="869760" cy="1354320"/>
            </a:xfrm>
            <a:custGeom>
              <a:avLst/>
              <a:gdLst/>
              <a:ahLst/>
              <a:rect l="l" t="t" r="r" b="b"/>
              <a:pathLst>
                <a:path w="548" h="853">
                  <a:moveTo>
                    <a:pt x="229" y="853"/>
                  </a:moveTo>
                  <a:lnTo>
                    <a:pt x="83" y="770"/>
                  </a:lnTo>
                  <a:lnTo>
                    <a:pt x="60" y="564"/>
                  </a:lnTo>
                  <a:lnTo>
                    <a:pt x="0" y="404"/>
                  </a:lnTo>
                  <a:lnTo>
                    <a:pt x="69" y="214"/>
                  </a:lnTo>
                  <a:lnTo>
                    <a:pt x="53" y="23"/>
                  </a:lnTo>
                  <a:lnTo>
                    <a:pt x="114" y="107"/>
                  </a:lnTo>
                  <a:lnTo>
                    <a:pt x="129" y="305"/>
                  </a:lnTo>
                  <a:lnTo>
                    <a:pt x="114" y="480"/>
                  </a:lnTo>
                  <a:lnTo>
                    <a:pt x="190" y="579"/>
                  </a:lnTo>
                  <a:lnTo>
                    <a:pt x="160" y="457"/>
                  </a:lnTo>
                  <a:lnTo>
                    <a:pt x="183" y="282"/>
                  </a:lnTo>
                  <a:lnTo>
                    <a:pt x="197" y="114"/>
                  </a:lnTo>
                  <a:lnTo>
                    <a:pt x="137" y="16"/>
                  </a:lnTo>
                  <a:lnTo>
                    <a:pt x="197" y="31"/>
                  </a:lnTo>
                  <a:lnTo>
                    <a:pt x="266" y="251"/>
                  </a:lnTo>
                  <a:lnTo>
                    <a:pt x="320" y="145"/>
                  </a:lnTo>
                  <a:lnTo>
                    <a:pt x="343" y="0"/>
                  </a:lnTo>
                  <a:lnTo>
                    <a:pt x="380" y="107"/>
                  </a:lnTo>
                  <a:lnTo>
                    <a:pt x="380" y="251"/>
                  </a:lnTo>
                  <a:lnTo>
                    <a:pt x="327" y="381"/>
                  </a:lnTo>
                  <a:lnTo>
                    <a:pt x="403" y="389"/>
                  </a:lnTo>
                  <a:lnTo>
                    <a:pt x="441" y="214"/>
                  </a:lnTo>
                  <a:lnTo>
                    <a:pt x="548" y="68"/>
                  </a:lnTo>
                  <a:lnTo>
                    <a:pt x="480" y="221"/>
                  </a:lnTo>
                  <a:lnTo>
                    <a:pt x="517" y="351"/>
                  </a:lnTo>
                  <a:lnTo>
                    <a:pt x="503" y="488"/>
                  </a:lnTo>
                  <a:lnTo>
                    <a:pt x="418" y="609"/>
                  </a:lnTo>
                  <a:lnTo>
                    <a:pt x="471" y="808"/>
                  </a:lnTo>
                  <a:lnTo>
                    <a:pt x="229" y="853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 flipH="1">
            <a:off x="7553160" y="4700520"/>
            <a:ext cx="76320" cy="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7408800" y="2108160"/>
            <a:ext cx="284400" cy="254160"/>
            <a:chOff x="7408800" y="2108160"/>
            <a:chExt cx="284400" cy="254160"/>
          </a:xfrm>
        </p:grpSpPr>
        <p:sp>
          <p:nvSpPr>
            <p:cNvPr id="606" name=""/>
            <p:cNvSpPr/>
            <p:nvPr/>
          </p:nvSpPr>
          <p:spPr>
            <a:xfrm>
              <a:off x="7408800" y="2108160"/>
              <a:ext cx="284400" cy="254160"/>
            </a:xfrm>
            <a:custGeom>
              <a:avLst/>
              <a:gdLst/>
              <a:ahLst/>
              <a:rect l="l" t="t" r="r" b="b"/>
              <a:pathLst>
                <a:path w="179" h="160">
                  <a:moveTo>
                    <a:pt x="90" y="160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9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08800" y="2108160"/>
              <a:ext cx="284400" cy="254160"/>
            </a:xfrm>
            <a:custGeom>
              <a:avLst/>
              <a:gdLst/>
              <a:ahLst/>
              <a:rect l="l" t="t" r="r" b="b"/>
              <a:pathLst>
                <a:path w="179" h="160">
                  <a:moveTo>
                    <a:pt x="90" y="160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90" y="160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H="1">
            <a:off x="7880040" y="2108160"/>
            <a:ext cx="3492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7832880" y="2063520"/>
            <a:ext cx="48960" cy="44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7738920" y="1967040"/>
            <a:ext cx="142920" cy="141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645320" y="1943280"/>
            <a:ext cx="166680" cy="164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7553160" y="1943280"/>
            <a:ext cx="160560" cy="164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7453440" y="1943280"/>
            <a:ext cx="166680" cy="164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7361280" y="1943280"/>
            <a:ext cx="164880" cy="164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262640" y="1943280"/>
            <a:ext cx="171720" cy="164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219800" y="1942920"/>
            <a:ext cx="115920" cy="120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7219800" y="1943280"/>
            <a:ext cx="28800" cy="23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219800" y="2108160"/>
            <a:ext cx="71136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7553160" y="4532400"/>
            <a:ext cx="250920" cy="334800"/>
            <a:chOff x="7553160" y="4532400"/>
            <a:chExt cx="250920" cy="334800"/>
          </a:xfrm>
        </p:grpSpPr>
        <p:sp>
          <p:nvSpPr>
            <p:cNvPr id="620" name=""/>
            <p:cNvSpPr/>
            <p:nvPr/>
          </p:nvSpPr>
          <p:spPr>
            <a:xfrm>
              <a:off x="7553160" y="4532400"/>
              <a:ext cx="250920" cy="334800"/>
            </a:xfrm>
            <a:custGeom>
              <a:avLst/>
              <a:gdLst/>
              <a:ahLst/>
              <a:rect l="l" t="t" r="r" b="b"/>
              <a:pathLst>
                <a:path w="158" h="211">
                  <a:moveTo>
                    <a:pt x="0" y="106"/>
                  </a:moveTo>
                  <a:lnTo>
                    <a:pt x="158" y="0"/>
                  </a:lnTo>
                  <a:lnTo>
                    <a:pt x="158" y="2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53160" y="4532400"/>
              <a:ext cx="250920" cy="334800"/>
            </a:xfrm>
            <a:custGeom>
              <a:avLst/>
              <a:gdLst/>
              <a:ahLst/>
              <a:rect l="l" t="t" r="r" b="b"/>
              <a:pathLst>
                <a:path w="158" h="211">
                  <a:moveTo>
                    <a:pt x="0" y="106"/>
                  </a:moveTo>
                  <a:lnTo>
                    <a:pt x="158" y="0"/>
                  </a:lnTo>
                  <a:lnTo>
                    <a:pt x="158" y="211"/>
                  </a:lnTo>
                  <a:lnTo>
                    <a:pt x="0" y="106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7885080" y="4448160"/>
            <a:ext cx="1800" cy="554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8015040" y="4913280"/>
            <a:ext cx="36360" cy="41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920000" y="4819680"/>
            <a:ext cx="131760" cy="135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7884720" y="4721400"/>
            <a:ext cx="166680" cy="172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884720" y="4629240"/>
            <a:ext cx="166680" cy="16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884720" y="4533840"/>
            <a:ext cx="166680" cy="16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7885080" y="4448160"/>
            <a:ext cx="155520" cy="157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7884720" y="4448160"/>
            <a:ext cx="5868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885080" y="4447800"/>
            <a:ext cx="11160" cy="11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885080" y="4448160"/>
            <a:ext cx="1800" cy="554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7540560" y="2363760"/>
            <a:ext cx="42840" cy="2332080"/>
            <a:chOff x="7540560" y="2363760"/>
            <a:chExt cx="42840" cy="2332080"/>
          </a:xfrm>
        </p:grpSpPr>
        <p:sp>
          <p:nvSpPr>
            <p:cNvPr id="633" name=""/>
            <p:cNvSpPr/>
            <p:nvPr/>
          </p:nvSpPr>
          <p:spPr>
            <a:xfrm>
              <a:off x="7540560" y="2363760"/>
              <a:ext cx="42840" cy="233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40560" y="2363760"/>
              <a:ext cx="42840" cy="233208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7521480" y="2317680"/>
            <a:ext cx="76320" cy="77760"/>
            <a:chOff x="7521480" y="2317680"/>
            <a:chExt cx="76320" cy="77760"/>
          </a:xfrm>
        </p:grpSpPr>
        <p:sp>
          <p:nvSpPr>
            <p:cNvPr id="636" name=""/>
            <p:cNvSpPr/>
            <p:nvPr/>
          </p:nvSpPr>
          <p:spPr>
            <a:xfrm>
              <a:off x="7521480" y="2317680"/>
              <a:ext cx="76320" cy="7776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21480" y="2317680"/>
              <a:ext cx="76320" cy="7776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521480" y="4667400"/>
            <a:ext cx="79560" cy="75960"/>
            <a:chOff x="7521480" y="4667400"/>
            <a:chExt cx="79560" cy="75960"/>
          </a:xfrm>
        </p:grpSpPr>
        <p:sp>
          <p:nvSpPr>
            <p:cNvPr id="639" name=""/>
            <p:cNvSpPr/>
            <p:nvPr/>
          </p:nvSpPr>
          <p:spPr>
            <a:xfrm>
              <a:off x="7521480" y="4667400"/>
              <a:ext cx="79560" cy="7596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21480" y="4667400"/>
              <a:ext cx="79560" cy="7596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7808760" y="4573440"/>
            <a:ext cx="79560" cy="76320"/>
            <a:chOff x="7808760" y="4573440"/>
            <a:chExt cx="79560" cy="76320"/>
          </a:xfrm>
        </p:grpSpPr>
        <p:sp>
          <p:nvSpPr>
            <p:cNvPr id="642" name=""/>
            <p:cNvSpPr/>
            <p:nvPr/>
          </p:nvSpPr>
          <p:spPr>
            <a:xfrm>
              <a:off x="7808760" y="4573440"/>
              <a:ext cx="79560" cy="7632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808760" y="4573440"/>
              <a:ext cx="79560" cy="7632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7808760" y="4764240"/>
            <a:ext cx="79560" cy="80640"/>
            <a:chOff x="7808760" y="4764240"/>
            <a:chExt cx="79560" cy="80640"/>
          </a:xfrm>
        </p:grpSpPr>
        <p:sp>
          <p:nvSpPr>
            <p:cNvPr id="645" name=""/>
            <p:cNvSpPr/>
            <p:nvPr/>
          </p:nvSpPr>
          <p:spPr>
            <a:xfrm>
              <a:off x="7808760" y="4764240"/>
              <a:ext cx="79560" cy="8064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08760" y="4764240"/>
              <a:ext cx="79560" cy="8064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67640" y="2432160"/>
            <a:ext cx="217440" cy="372960"/>
            <a:chOff x="7667640" y="2432160"/>
            <a:chExt cx="217440" cy="372960"/>
          </a:xfrm>
        </p:grpSpPr>
        <p:sp>
          <p:nvSpPr>
            <p:cNvPr id="648" name=""/>
            <p:cNvSpPr/>
            <p:nvPr/>
          </p:nvSpPr>
          <p:spPr>
            <a:xfrm>
              <a:off x="7667640" y="2432160"/>
              <a:ext cx="217440" cy="372960"/>
            </a:xfrm>
            <a:custGeom>
              <a:avLst/>
              <a:gdLst/>
              <a:ahLst/>
              <a:rect l="l" t="t" r="r" b="b"/>
              <a:pathLst>
                <a:path w="137" h="235">
                  <a:moveTo>
                    <a:pt x="23" y="0"/>
                  </a:moveTo>
                  <a:lnTo>
                    <a:pt x="68" y="114"/>
                  </a:lnTo>
                  <a:lnTo>
                    <a:pt x="0" y="235"/>
                  </a:lnTo>
                  <a:lnTo>
                    <a:pt x="100" y="221"/>
                  </a:lnTo>
                  <a:lnTo>
                    <a:pt x="130" y="152"/>
                  </a:lnTo>
                  <a:lnTo>
                    <a:pt x="137" y="9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667640" y="2432160"/>
              <a:ext cx="217440" cy="372960"/>
            </a:xfrm>
            <a:custGeom>
              <a:avLst/>
              <a:gdLst/>
              <a:ahLst/>
              <a:rect l="l" t="t" r="r" b="b"/>
              <a:pathLst>
                <a:path w="137" h="235">
                  <a:moveTo>
                    <a:pt x="23" y="0"/>
                  </a:moveTo>
                  <a:lnTo>
                    <a:pt x="68" y="114"/>
                  </a:lnTo>
                  <a:lnTo>
                    <a:pt x="0" y="235"/>
                  </a:lnTo>
                  <a:lnTo>
                    <a:pt x="100" y="221"/>
                  </a:lnTo>
                  <a:lnTo>
                    <a:pt x="130" y="152"/>
                  </a:lnTo>
                  <a:lnTo>
                    <a:pt x="137" y="91"/>
                  </a:lnTo>
                  <a:lnTo>
                    <a:pt x="23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7186680" y="2395440"/>
            <a:ext cx="299880" cy="351000"/>
            <a:chOff x="7186680" y="2395440"/>
            <a:chExt cx="299880" cy="351000"/>
          </a:xfrm>
        </p:grpSpPr>
        <p:sp>
          <p:nvSpPr>
            <p:cNvPr id="651" name=""/>
            <p:cNvSpPr/>
            <p:nvPr/>
          </p:nvSpPr>
          <p:spPr>
            <a:xfrm>
              <a:off x="7186680" y="2395440"/>
              <a:ext cx="299880" cy="351000"/>
            </a:xfrm>
            <a:custGeom>
              <a:avLst/>
              <a:gdLst/>
              <a:ahLst/>
              <a:rect l="l" t="t" r="r" b="b"/>
              <a:pathLst>
                <a:path w="189" h="221">
                  <a:moveTo>
                    <a:pt x="91" y="0"/>
                  </a:moveTo>
                  <a:lnTo>
                    <a:pt x="129" y="99"/>
                  </a:lnTo>
                  <a:lnTo>
                    <a:pt x="0" y="153"/>
                  </a:lnTo>
                  <a:lnTo>
                    <a:pt x="7" y="221"/>
                  </a:lnTo>
                  <a:lnTo>
                    <a:pt x="113" y="183"/>
                  </a:lnTo>
                  <a:lnTo>
                    <a:pt x="189" y="9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86680" y="2395440"/>
              <a:ext cx="299880" cy="351000"/>
            </a:xfrm>
            <a:custGeom>
              <a:avLst/>
              <a:gdLst/>
              <a:ahLst/>
              <a:rect l="l" t="t" r="r" b="b"/>
              <a:pathLst>
                <a:path w="189" h="221">
                  <a:moveTo>
                    <a:pt x="91" y="0"/>
                  </a:moveTo>
                  <a:lnTo>
                    <a:pt x="129" y="99"/>
                  </a:lnTo>
                  <a:lnTo>
                    <a:pt x="0" y="153"/>
                  </a:lnTo>
                  <a:lnTo>
                    <a:pt x="7" y="221"/>
                  </a:lnTo>
                  <a:lnTo>
                    <a:pt x="113" y="183"/>
                  </a:lnTo>
                  <a:lnTo>
                    <a:pt x="189" y="92"/>
                  </a:lnTo>
                  <a:lnTo>
                    <a:pt x="91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6897600" y="1814400"/>
            <a:ext cx="1251000" cy="4052880"/>
            <a:chOff x="6897600" y="1814400"/>
            <a:chExt cx="1251000" cy="4052880"/>
          </a:xfrm>
        </p:grpSpPr>
        <p:sp>
          <p:nvSpPr>
            <p:cNvPr id="654" name=""/>
            <p:cNvSpPr/>
            <p:nvPr/>
          </p:nvSpPr>
          <p:spPr>
            <a:xfrm>
              <a:off x="6897600" y="1814400"/>
              <a:ext cx="1251000" cy="405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897600" y="1814400"/>
              <a:ext cx="1251000" cy="4052880"/>
            </a:xfrm>
            <a:prstGeom prst="rect">
              <a:avLst/>
            </a:prstGeom>
            <a:noFill/>
            <a:ln cap="rnd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7101000" y="3022560"/>
            <a:ext cx="869760" cy="1354320"/>
            <a:chOff x="7101000" y="3022560"/>
            <a:chExt cx="869760" cy="1354320"/>
          </a:xfrm>
        </p:grpSpPr>
        <p:sp>
          <p:nvSpPr>
            <p:cNvPr id="657" name=""/>
            <p:cNvSpPr/>
            <p:nvPr/>
          </p:nvSpPr>
          <p:spPr>
            <a:xfrm>
              <a:off x="7101000" y="3022560"/>
              <a:ext cx="869760" cy="1354320"/>
            </a:xfrm>
            <a:custGeom>
              <a:avLst/>
              <a:gdLst/>
              <a:ahLst/>
              <a:rect l="l" t="t" r="r" b="b"/>
              <a:pathLst>
                <a:path w="548" h="853">
                  <a:moveTo>
                    <a:pt x="229" y="853"/>
                  </a:moveTo>
                  <a:lnTo>
                    <a:pt x="83" y="770"/>
                  </a:lnTo>
                  <a:lnTo>
                    <a:pt x="60" y="564"/>
                  </a:lnTo>
                  <a:lnTo>
                    <a:pt x="0" y="404"/>
                  </a:lnTo>
                  <a:lnTo>
                    <a:pt x="69" y="214"/>
                  </a:lnTo>
                  <a:lnTo>
                    <a:pt x="53" y="23"/>
                  </a:lnTo>
                  <a:lnTo>
                    <a:pt x="114" y="107"/>
                  </a:lnTo>
                  <a:lnTo>
                    <a:pt x="129" y="305"/>
                  </a:lnTo>
                  <a:lnTo>
                    <a:pt x="114" y="480"/>
                  </a:lnTo>
                  <a:lnTo>
                    <a:pt x="190" y="579"/>
                  </a:lnTo>
                  <a:lnTo>
                    <a:pt x="160" y="457"/>
                  </a:lnTo>
                  <a:lnTo>
                    <a:pt x="183" y="282"/>
                  </a:lnTo>
                  <a:lnTo>
                    <a:pt x="197" y="114"/>
                  </a:lnTo>
                  <a:lnTo>
                    <a:pt x="137" y="16"/>
                  </a:lnTo>
                  <a:lnTo>
                    <a:pt x="197" y="31"/>
                  </a:lnTo>
                  <a:lnTo>
                    <a:pt x="266" y="251"/>
                  </a:lnTo>
                  <a:lnTo>
                    <a:pt x="320" y="145"/>
                  </a:lnTo>
                  <a:lnTo>
                    <a:pt x="343" y="0"/>
                  </a:lnTo>
                  <a:lnTo>
                    <a:pt x="380" y="107"/>
                  </a:lnTo>
                  <a:lnTo>
                    <a:pt x="380" y="251"/>
                  </a:lnTo>
                  <a:lnTo>
                    <a:pt x="327" y="381"/>
                  </a:lnTo>
                  <a:lnTo>
                    <a:pt x="403" y="389"/>
                  </a:lnTo>
                  <a:lnTo>
                    <a:pt x="441" y="214"/>
                  </a:lnTo>
                  <a:lnTo>
                    <a:pt x="548" y="68"/>
                  </a:lnTo>
                  <a:lnTo>
                    <a:pt x="480" y="221"/>
                  </a:lnTo>
                  <a:lnTo>
                    <a:pt x="517" y="351"/>
                  </a:lnTo>
                  <a:lnTo>
                    <a:pt x="503" y="488"/>
                  </a:lnTo>
                  <a:lnTo>
                    <a:pt x="418" y="609"/>
                  </a:lnTo>
                  <a:lnTo>
                    <a:pt x="471" y="808"/>
                  </a:lnTo>
                  <a:lnTo>
                    <a:pt x="229" y="85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101000" y="3022560"/>
              <a:ext cx="869760" cy="1354320"/>
            </a:xfrm>
            <a:custGeom>
              <a:avLst/>
              <a:gdLst/>
              <a:ahLst/>
              <a:rect l="l" t="t" r="r" b="b"/>
              <a:pathLst>
                <a:path w="548" h="853">
                  <a:moveTo>
                    <a:pt x="229" y="853"/>
                  </a:moveTo>
                  <a:lnTo>
                    <a:pt x="83" y="770"/>
                  </a:lnTo>
                  <a:lnTo>
                    <a:pt x="60" y="564"/>
                  </a:lnTo>
                  <a:lnTo>
                    <a:pt x="0" y="404"/>
                  </a:lnTo>
                  <a:lnTo>
                    <a:pt x="69" y="214"/>
                  </a:lnTo>
                  <a:lnTo>
                    <a:pt x="53" y="23"/>
                  </a:lnTo>
                  <a:lnTo>
                    <a:pt x="114" y="107"/>
                  </a:lnTo>
                  <a:lnTo>
                    <a:pt x="129" y="305"/>
                  </a:lnTo>
                  <a:lnTo>
                    <a:pt x="114" y="480"/>
                  </a:lnTo>
                  <a:lnTo>
                    <a:pt x="190" y="579"/>
                  </a:lnTo>
                  <a:lnTo>
                    <a:pt x="160" y="457"/>
                  </a:lnTo>
                  <a:lnTo>
                    <a:pt x="183" y="282"/>
                  </a:lnTo>
                  <a:lnTo>
                    <a:pt x="197" y="114"/>
                  </a:lnTo>
                  <a:lnTo>
                    <a:pt x="137" y="16"/>
                  </a:lnTo>
                  <a:lnTo>
                    <a:pt x="197" y="31"/>
                  </a:lnTo>
                  <a:lnTo>
                    <a:pt x="266" y="251"/>
                  </a:lnTo>
                  <a:lnTo>
                    <a:pt x="320" y="145"/>
                  </a:lnTo>
                  <a:lnTo>
                    <a:pt x="343" y="0"/>
                  </a:lnTo>
                  <a:lnTo>
                    <a:pt x="380" y="107"/>
                  </a:lnTo>
                  <a:lnTo>
                    <a:pt x="380" y="251"/>
                  </a:lnTo>
                  <a:lnTo>
                    <a:pt x="327" y="381"/>
                  </a:lnTo>
                  <a:lnTo>
                    <a:pt x="403" y="389"/>
                  </a:lnTo>
                  <a:lnTo>
                    <a:pt x="441" y="214"/>
                  </a:lnTo>
                  <a:lnTo>
                    <a:pt x="548" y="68"/>
                  </a:lnTo>
                  <a:lnTo>
                    <a:pt x="480" y="221"/>
                  </a:lnTo>
                  <a:lnTo>
                    <a:pt x="517" y="351"/>
                  </a:lnTo>
                  <a:lnTo>
                    <a:pt x="503" y="488"/>
                  </a:lnTo>
                  <a:lnTo>
                    <a:pt x="418" y="609"/>
                  </a:lnTo>
                  <a:lnTo>
                    <a:pt x="471" y="808"/>
                  </a:lnTo>
                  <a:lnTo>
                    <a:pt x="229" y="853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 flipH="1">
            <a:off x="7553160" y="4700520"/>
            <a:ext cx="76320" cy="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7408800" y="2108160"/>
            <a:ext cx="284400" cy="254160"/>
            <a:chOff x="7408800" y="2108160"/>
            <a:chExt cx="284400" cy="254160"/>
          </a:xfrm>
        </p:grpSpPr>
        <p:sp>
          <p:nvSpPr>
            <p:cNvPr id="661" name=""/>
            <p:cNvSpPr/>
            <p:nvPr/>
          </p:nvSpPr>
          <p:spPr>
            <a:xfrm>
              <a:off x="7408800" y="2108160"/>
              <a:ext cx="284400" cy="254160"/>
            </a:xfrm>
            <a:custGeom>
              <a:avLst/>
              <a:gdLst/>
              <a:ahLst/>
              <a:rect l="l" t="t" r="r" b="b"/>
              <a:pathLst>
                <a:path w="179" h="160">
                  <a:moveTo>
                    <a:pt x="90" y="160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9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408800" y="2108160"/>
              <a:ext cx="284400" cy="254160"/>
            </a:xfrm>
            <a:custGeom>
              <a:avLst/>
              <a:gdLst/>
              <a:ahLst/>
              <a:rect l="l" t="t" r="r" b="b"/>
              <a:pathLst>
                <a:path w="179" h="160">
                  <a:moveTo>
                    <a:pt x="90" y="160"/>
                  </a:moveTo>
                  <a:lnTo>
                    <a:pt x="179" y="0"/>
                  </a:lnTo>
                  <a:lnTo>
                    <a:pt x="0" y="0"/>
                  </a:lnTo>
                  <a:lnTo>
                    <a:pt x="90" y="160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 flipH="1">
            <a:off x="7880040" y="2108160"/>
            <a:ext cx="3492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7832880" y="2063520"/>
            <a:ext cx="48960" cy="44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7738920" y="1967040"/>
            <a:ext cx="142920" cy="141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7645320" y="1943280"/>
            <a:ext cx="166680" cy="164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7553160" y="1943280"/>
            <a:ext cx="160560" cy="164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7453440" y="1943280"/>
            <a:ext cx="166680" cy="164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7361280" y="1943280"/>
            <a:ext cx="164880" cy="164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7262640" y="1943280"/>
            <a:ext cx="171720" cy="164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7219800" y="1942920"/>
            <a:ext cx="115920" cy="120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7219800" y="1943280"/>
            <a:ext cx="28800" cy="23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219800" y="2108160"/>
            <a:ext cx="71136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7553160" y="4532400"/>
            <a:ext cx="250920" cy="334800"/>
            <a:chOff x="7553160" y="4532400"/>
            <a:chExt cx="250920" cy="334800"/>
          </a:xfrm>
        </p:grpSpPr>
        <p:sp>
          <p:nvSpPr>
            <p:cNvPr id="675" name=""/>
            <p:cNvSpPr/>
            <p:nvPr/>
          </p:nvSpPr>
          <p:spPr>
            <a:xfrm>
              <a:off x="7553160" y="4532400"/>
              <a:ext cx="250920" cy="334800"/>
            </a:xfrm>
            <a:custGeom>
              <a:avLst/>
              <a:gdLst/>
              <a:ahLst/>
              <a:rect l="l" t="t" r="r" b="b"/>
              <a:pathLst>
                <a:path w="158" h="211">
                  <a:moveTo>
                    <a:pt x="0" y="106"/>
                  </a:moveTo>
                  <a:lnTo>
                    <a:pt x="158" y="0"/>
                  </a:lnTo>
                  <a:lnTo>
                    <a:pt x="158" y="2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53160" y="4532400"/>
              <a:ext cx="250920" cy="334800"/>
            </a:xfrm>
            <a:custGeom>
              <a:avLst/>
              <a:gdLst/>
              <a:ahLst/>
              <a:rect l="l" t="t" r="r" b="b"/>
              <a:pathLst>
                <a:path w="158" h="211">
                  <a:moveTo>
                    <a:pt x="0" y="106"/>
                  </a:moveTo>
                  <a:lnTo>
                    <a:pt x="158" y="0"/>
                  </a:lnTo>
                  <a:lnTo>
                    <a:pt x="158" y="211"/>
                  </a:lnTo>
                  <a:lnTo>
                    <a:pt x="0" y="106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7885080" y="4448160"/>
            <a:ext cx="1800" cy="554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8015040" y="4913280"/>
            <a:ext cx="36360" cy="41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7920000" y="4819680"/>
            <a:ext cx="131760" cy="135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884720" y="4721400"/>
            <a:ext cx="166680" cy="172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7884720" y="4629240"/>
            <a:ext cx="166680" cy="16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7884720" y="4533840"/>
            <a:ext cx="166680" cy="16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7885080" y="4448160"/>
            <a:ext cx="155520" cy="157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7884720" y="4448160"/>
            <a:ext cx="5868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885080" y="4447800"/>
            <a:ext cx="11160" cy="11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885080" y="4448160"/>
            <a:ext cx="1800" cy="554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7540560" y="2363760"/>
            <a:ext cx="42840" cy="2332080"/>
            <a:chOff x="7540560" y="2363760"/>
            <a:chExt cx="42840" cy="2332080"/>
          </a:xfrm>
        </p:grpSpPr>
        <p:sp>
          <p:nvSpPr>
            <p:cNvPr id="688" name=""/>
            <p:cNvSpPr/>
            <p:nvPr/>
          </p:nvSpPr>
          <p:spPr>
            <a:xfrm>
              <a:off x="7540560" y="2363760"/>
              <a:ext cx="42840" cy="233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40560" y="2363760"/>
              <a:ext cx="42840" cy="233208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521480" y="2317680"/>
            <a:ext cx="76320" cy="77760"/>
            <a:chOff x="7521480" y="2317680"/>
            <a:chExt cx="76320" cy="77760"/>
          </a:xfrm>
        </p:grpSpPr>
        <p:sp>
          <p:nvSpPr>
            <p:cNvPr id="691" name=""/>
            <p:cNvSpPr/>
            <p:nvPr/>
          </p:nvSpPr>
          <p:spPr>
            <a:xfrm>
              <a:off x="7521480" y="2317680"/>
              <a:ext cx="76320" cy="7776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21480" y="2317680"/>
              <a:ext cx="76320" cy="7776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521480" y="4667400"/>
            <a:ext cx="79560" cy="75960"/>
            <a:chOff x="7521480" y="4667400"/>
            <a:chExt cx="79560" cy="75960"/>
          </a:xfrm>
        </p:grpSpPr>
        <p:sp>
          <p:nvSpPr>
            <p:cNvPr id="694" name=""/>
            <p:cNvSpPr/>
            <p:nvPr/>
          </p:nvSpPr>
          <p:spPr>
            <a:xfrm>
              <a:off x="7521480" y="4667400"/>
              <a:ext cx="79560" cy="7596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521480" y="4667400"/>
              <a:ext cx="79560" cy="7596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808760" y="4573440"/>
            <a:ext cx="79560" cy="76320"/>
            <a:chOff x="7808760" y="4573440"/>
            <a:chExt cx="79560" cy="76320"/>
          </a:xfrm>
        </p:grpSpPr>
        <p:sp>
          <p:nvSpPr>
            <p:cNvPr id="697" name=""/>
            <p:cNvSpPr/>
            <p:nvPr/>
          </p:nvSpPr>
          <p:spPr>
            <a:xfrm>
              <a:off x="7808760" y="4573440"/>
              <a:ext cx="79560" cy="7632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808760" y="4573440"/>
              <a:ext cx="79560" cy="7632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808760" y="4764240"/>
            <a:ext cx="79560" cy="80640"/>
            <a:chOff x="7808760" y="4764240"/>
            <a:chExt cx="79560" cy="80640"/>
          </a:xfrm>
        </p:grpSpPr>
        <p:sp>
          <p:nvSpPr>
            <p:cNvPr id="700" name=""/>
            <p:cNvSpPr/>
            <p:nvPr/>
          </p:nvSpPr>
          <p:spPr>
            <a:xfrm>
              <a:off x="7808760" y="4764240"/>
              <a:ext cx="79560" cy="8064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808760" y="4764240"/>
              <a:ext cx="79560" cy="8064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667640" y="2432160"/>
            <a:ext cx="217440" cy="372960"/>
            <a:chOff x="7667640" y="2432160"/>
            <a:chExt cx="217440" cy="372960"/>
          </a:xfrm>
        </p:grpSpPr>
        <p:sp>
          <p:nvSpPr>
            <p:cNvPr id="703" name=""/>
            <p:cNvSpPr/>
            <p:nvPr/>
          </p:nvSpPr>
          <p:spPr>
            <a:xfrm>
              <a:off x="7667640" y="2432160"/>
              <a:ext cx="217440" cy="372960"/>
            </a:xfrm>
            <a:custGeom>
              <a:avLst/>
              <a:gdLst/>
              <a:ahLst/>
              <a:rect l="l" t="t" r="r" b="b"/>
              <a:pathLst>
                <a:path w="137" h="235">
                  <a:moveTo>
                    <a:pt x="23" y="0"/>
                  </a:moveTo>
                  <a:lnTo>
                    <a:pt x="68" y="114"/>
                  </a:lnTo>
                  <a:lnTo>
                    <a:pt x="0" y="235"/>
                  </a:lnTo>
                  <a:lnTo>
                    <a:pt x="100" y="221"/>
                  </a:lnTo>
                  <a:lnTo>
                    <a:pt x="130" y="152"/>
                  </a:lnTo>
                  <a:lnTo>
                    <a:pt x="137" y="9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667640" y="2432160"/>
              <a:ext cx="217440" cy="372960"/>
            </a:xfrm>
            <a:custGeom>
              <a:avLst/>
              <a:gdLst/>
              <a:ahLst/>
              <a:rect l="l" t="t" r="r" b="b"/>
              <a:pathLst>
                <a:path w="137" h="235">
                  <a:moveTo>
                    <a:pt x="23" y="0"/>
                  </a:moveTo>
                  <a:lnTo>
                    <a:pt x="68" y="114"/>
                  </a:lnTo>
                  <a:lnTo>
                    <a:pt x="0" y="235"/>
                  </a:lnTo>
                  <a:lnTo>
                    <a:pt x="100" y="221"/>
                  </a:lnTo>
                  <a:lnTo>
                    <a:pt x="130" y="152"/>
                  </a:lnTo>
                  <a:lnTo>
                    <a:pt x="137" y="91"/>
                  </a:lnTo>
                  <a:lnTo>
                    <a:pt x="23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7186680" y="2395440"/>
            <a:ext cx="299880" cy="351000"/>
            <a:chOff x="7186680" y="2395440"/>
            <a:chExt cx="299880" cy="351000"/>
          </a:xfrm>
        </p:grpSpPr>
        <p:sp>
          <p:nvSpPr>
            <p:cNvPr id="706" name=""/>
            <p:cNvSpPr/>
            <p:nvPr/>
          </p:nvSpPr>
          <p:spPr>
            <a:xfrm>
              <a:off x="7186680" y="2395440"/>
              <a:ext cx="299880" cy="351000"/>
            </a:xfrm>
            <a:custGeom>
              <a:avLst/>
              <a:gdLst/>
              <a:ahLst/>
              <a:rect l="l" t="t" r="r" b="b"/>
              <a:pathLst>
                <a:path w="189" h="221">
                  <a:moveTo>
                    <a:pt x="91" y="0"/>
                  </a:moveTo>
                  <a:lnTo>
                    <a:pt x="129" y="99"/>
                  </a:lnTo>
                  <a:lnTo>
                    <a:pt x="0" y="153"/>
                  </a:lnTo>
                  <a:lnTo>
                    <a:pt x="7" y="221"/>
                  </a:lnTo>
                  <a:lnTo>
                    <a:pt x="113" y="183"/>
                  </a:lnTo>
                  <a:lnTo>
                    <a:pt x="189" y="9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86680" y="2395440"/>
              <a:ext cx="299880" cy="351000"/>
            </a:xfrm>
            <a:custGeom>
              <a:avLst/>
              <a:gdLst/>
              <a:ahLst/>
              <a:rect l="l" t="t" r="r" b="b"/>
              <a:pathLst>
                <a:path w="189" h="221">
                  <a:moveTo>
                    <a:pt x="91" y="0"/>
                  </a:moveTo>
                  <a:lnTo>
                    <a:pt x="129" y="99"/>
                  </a:lnTo>
                  <a:lnTo>
                    <a:pt x="0" y="153"/>
                  </a:lnTo>
                  <a:lnTo>
                    <a:pt x="7" y="221"/>
                  </a:lnTo>
                  <a:lnTo>
                    <a:pt x="113" y="183"/>
                  </a:lnTo>
                  <a:lnTo>
                    <a:pt x="189" y="92"/>
                  </a:lnTo>
                  <a:lnTo>
                    <a:pt x="91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7334640" y="556884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114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744320" y="5568840"/>
            <a:ext cx="266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kN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7547040" y="4791240"/>
            <a:ext cx="6120" cy="509400"/>
            <a:chOff x="7547040" y="4791240"/>
            <a:chExt cx="6120" cy="509400"/>
          </a:xfrm>
        </p:grpSpPr>
        <p:sp>
          <p:nvSpPr>
            <p:cNvPr id="711" name=""/>
            <p:cNvSpPr/>
            <p:nvPr/>
          </p:nvSpPr>
          <p:spPr>
            <a:xfrm>
              <a:off x="7547040" y="4791240"/>
              <a:ext cx="6120" cy="509400"/>
            </a:xfrm>
            <a:custGeom>
              <a:avLst/>
              <a:gdLst/>
              <a:ahLst/>
              <a:rect l="l" t="t" r="r" b="b"/>
              <a:pathLst>
                <a:path w="4" h="321">
                  <a:moveTo>
                    <a:pt x="0" y="2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18"/>
                  </a:lnTo>
                  <a:lnTo>
                    <a:pt x="4" y="320"/>
                  </a:lnTo>
                  <a:lnTo>
                    <a:pt x="4" y="321"/>
                  </a:lnTo>
                  <a:lnTo>
                    <a:pt x="3" y="321"/>
                  </a:lnTo>
                  <a:lnTo>
                    <a:pt x="2" y="321"/>
                  </a:lnTo>
                  <a:lnTo>
                    <a:pt x="0" y="320"/>
                  </a:lnTo>
                  <a:lnTo>
                    <a:pt x="0" y="3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7040" y="4791240"/>
              <a:ext cx="6120" cy="509400"/>
            </a:xfrm>
            <a:custGeom>
              <a:avLst/>
              <a:gdLst/>
              <a:ahLst/>
              <a:rect l="l" t="t" r="r" b="b"/>
              <a:pathLst>
                <a:path w="4" h="321">
                  <a:moveTo>
                    <a:pt x="0" y="2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18"/>
                  </a:lnTo>
                  <a:lnTo>
                    <a:pt x="4" y="320"/>
                  </a:lnTo>
                  <a:lnTo>
                    <a:pt x="4" y="321"/>
                  </a:lnTo>
                  <a:lnTo>
                    <a:pt x="3" y="321"/>
                  </a:lnTo>
                  <a:lnTo>
                    <a:pt x="2" y="321"/>
                  </a:lnTo>
                  <a:lnTo>
                    <a:pt x="0" y="320"/>
                  </a:lnTo>
                  <a:lnTo>
                    <a:pt x="0" y="318"/>
                  </a:lnTo>
                  <a:lnTo>
                    <a:pt x="0" y="2"/>
                  </a:lnTo>
                  <a:close/>
                </a:path>
              </a:pathLst>
            </a:custGeom>
            <a:noFill/>
            <a:ln cap="rnd"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7380360" y="5273640"/>
            <a:ext cx="333360" cy="171360"/>
            <a:chOff x="7380360" y="5273640"/>
            <a:chExt cx="333360" cy="171360"/>
          </a:xfrm>
        </p:grpSpPr>
        <p:sp>
          <p:nvSpPr>
            <p:cNvPr id="714" name=""/>
            <p:cNvSpPr/>
            <p:nvPr/>
          </p:nvSpPr>
          <p:spPr>
            <a:xfrm>
              <a:off x="7380360" y="5273640"/>
              <a:ext cx="333360" cy="171360"/>
            </a:xfrm>
            <a:custGeom>
              <a:avLst/>
              <a:gdLst/>
              <a:ahLst/>
              <a:rect l="l" t="t" r="r" b="b"/>
              <a:pathLst>
                <a:path w="210" h="108">
                  <a:moveTo>
                    <a:pt x="105" y="108"/>
                  </a:moveTo>
                  <a:lnTo>
                    <a:pt x="210" y="0"/>
                  </a:lnTo>
                  <a:lnTo>
                    <a:pt x="0" y="0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380360" y="5273640"/>
              <a:ext cx="333360" cy="171360"/>
            </a:xfrm>
            <a:custGeom>
              <a:avLst/>
              <a:gdLst/>
              <a:ahLst/>
              <a:rect l="l" t="t" r="r" b="b"/>
              <a:pathLst>
                <a:path w="210" h="108">
                  <a:moveTo>
                    <a:pt x="105" y="108"/>
                  </a:moveTo>
                  <a:lnTo>
                    <a:pt x="210" y="0"/>
                  </a:lnTo>
                  <a:lnTo>
                    <a:pt x="0" y="0"/>
                  </a:lnTo>
                  <a:lnTo>
                    <a:pt x="105" y="108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7334640" y="556884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114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744320" y="5568840"/>
            <a:ext cx="266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kN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547040" y="4791240"/>
            <a:ext cx="6120" cy="509400"/>
            <a:chOff x="7547040" y="4791240"/>
            <a:chExt cx="6120" cy="509400"/>
          </a:xfrm>
        </p:grpSpPr>
        <p:sp>
          <p:nvSpPr>
            <p:cNvPr id="719" name=""/>
            <p:cNvSpPr/>
            <p:nvPr/>
          </p:nvSpPr>
          <p:spPr>
            <a:xfrm>
              <a:off x="7547040" y="4791240"/>
              <a:ext cx="6120" cy="509400"/>
            </a:xfrm>
            <a:custGeom>
              <a:avLst/>
              <a:gdLst/>
              <a:ahLst/>
              <a:rect l="l" t="t" r="r" b="b"/>
              <a:pathLst>
                <a:path w="4" h="321">
                  <a:moveTo>
                    <a:pt x="0" y="2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18"/>
                  </a:lnTo>
                  <a:lnTo>
                    <a:pt x="4" y="320"/>
                  </a:lnTo>
                  <a:lnTo>
                    <a:pt x="4" y="321"/>
                  </a:lnTo>
                  <a:lnTo>
                    <a:pt x="3" y="321"/>
                  </a:lnTo>
                  <a:lnTo>
                    <a:pt x="2" y="321"/>
                  </a:lnTo>
                  <a:lnTo>
                    <a:pt x="0" y="320"/>
                  </a:lnTo>
                  <a:lnTo>
                    <a:pt x="0" y="3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47040" y="4791240"/>
              <a:ext cx="6120" cy="509400"/>
            </a:xfrm>
            <a:custGeom>
              <a:avLst/>
              <a:gdLst/>
              <a:ahLst/>
              <a:rect l="l" t="t" r="r" b="b"/>
              <a:pathLst>
                <a:path w="4" h="321">
                  <a:moveTo>
                    <a:pt x="0" y="2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18"/>
                  </a:lnTo>
                  <a:lnTo>
                    <a:pt x="4" y="320"/>
                  </a:lnTo>
                  <a:lnTo>
                    <a:pt x="4" y="321"/>
                  </a:lnTo>
                  <a:lnTo>
                    <a:pt x="3" y="321"/>
                  </a:lnTo>
                  <a:lnTo>
                    <a:pt x="2" y="321"/>
                  </a:lnTo>
                  <a:lnTo>
                    <a:pt x="0" y="320"/>
                  </a:lnTo>
                  <a:lnTo>
                    <a:pt x="0" y="318"/>
                  </a:lnTo>
                  <a:lnTo>
                    <a:pt x="0" y="2"/>
                  </a:lnTo>
                  <a:close/>
                </a:path>
              </a:pathLst>
            </a:custGeom>
            <a:noFill/>
            <a:ln cap="rnd"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7380360" y="5273640"/>
            <a:ext cx="333360" cy="171360"/>
            <a:chOff x="7380360" y="5273640"/>
            <a:chExt cx="333360" cy="171360"/>
          </a:xfrm>
        </p:grpSpPr>
        <p:sp>
          <p:nvSpPr>
            <p:cNvPr id="722" name=""/>
            <p:cNvSpPr/>
            <p:nvPr/>
          </p:nvSpPr>
          <p:spPr>
            <a:xfrm>
              <a:off x="7380360" y="5273640"/>
              <a:ext cx="333360" cy="171360"/>
            </a:xfrm>
            <a:custGeom>
              <a:avLst/>
              <a:gdLst/>
              <a:ahLst/>
              <a:rect l="l" t="t" r="r" b="b"/>
              <a:pathLst>
                <a:path w="210" h="108">
                  <a:moveTo>
                    <a:pt x="105" y="108"/>
                  </a:moveTo>
                  <a:lnTo>
                    <a:pt x="210" y="0"/>
                  </a:lnTo>
                  <a:lnTo>
                    <a:pt x="0" y="0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80360" y="5273640"/>
              <a:ext cx="333360" cy="171360"/>
            </a:xfrm>
            <a:custGeom>
              <a:avLst/>
              <a:gdLst/>
              <a:ahLst/>
              <a:rect l="l" t="t" r="r" b="b"/>
              <a:pathLst>
                <a:path w="210" h="108">
                  <a:moveTo>
                    <a:pt x="105" y="108"/>
                  </a:moveTo>
                  <a:lnTo>
                    <a:pt x="210" y="0"/>
                  </a:lnTo>
                  <a:lnTo>
                    <a:pt x="0" y="0"/>
                  </a:lnTo>
                  <a:lnTo>
                    <a:pt x="105" y="108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837720" y="3309840"/>
            <a:ext cx="2404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66"/>
                </a:solidFill>
                <a:latin typeface="Arial"/>
              </a:rPr>
              <a:t>Design resistance at 20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190320" y="3309840"/>
            <a:ext cx="8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66"/>
                </a:solidFill>
                <a:latin typeface="Arial"/>
              </a:rPr>
              <a:t>°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276360" y="3309840"/>
            <a:ext cx="278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66"/>
                </a:solidFill>
                <a:latin typeface="Arial"/>
              </a:rPr>
              <a:t>C, using fire safety factors: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837720" y="3610080"/>
            <a:ext cx="803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66"/>
                </a:solidFill>
                <a:latin typeface="Arial"/>
              </a:rPr>
              <a:t>(4.2.3.1)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123720" y="35719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309480" y="3711600"/>
            <a:ext cx="567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i.20.Rd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961080" y="3571920"/>
            <a:ext cx="22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172760" y="3575160"/>
            <a:ext cx="219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067 x 275 = 293,43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355440" y="3575160"/>
            <a:ext cx="31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k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37360" y="4270320"/>
            <a:ext cx="211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66"/>
                </a:solidFill>
                <a:latin typeface="Arial"/>
              </a:rPr>
              <a:t>Critical temperature: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124440" y="4276800"/>
            <a:ext cx="197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Degree of utilisation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055480" y="4168800"/>
            <a:ext cx="169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225760" y="43988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11520" y="4276800"/>
            <a:ext cx="18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=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594760" y="42768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48840" y="4398840"/>
            <a:ext cx="18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fi.d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91120" y="4276800"/>
            <a:ext cx="27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/ N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259680" y="4398840"/>
            <a:ext cx="48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fi.20.Rd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127680" y="4570560"/>
            <a:ext cx="186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114 / 293,43 = 0,39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39160" y="4938840"/>
            <a:ext cx="2160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66"/>
                </a:solidFill>
                <a:latin typeface="Arial"/>
              </a:rPr>
              <a:t>(4.2.4.2) or (Table 4.1)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4938840"/>
            <a:ext cx="1946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ritical temperature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30640" y="4830840"/>
            <a:ext cx="153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184360" y="50594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411880" y="4938840"/>
            <a:ext cx="54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= 624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947560" y="4938840"/>
            <a:ext cx="8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°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031440" y="49388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31960" y="1530360"/>
            <a:ext cx="2269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66"/>
                </a:solidFill>
                <a:latin typeface="Arial"/>
              </a:rPr>
              <a:t>Design loading in fire: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118320" y="15368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272400" y="1658880"/>
            <a:ext cx="18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fi.d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33040" y="1878120"/>
            <a:ext cx="803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66"/>
                </a:solidFill>
                <a:latin typeface="Arial"/>
              </a:rPr>
              <a:t>(2.4.2.1)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120480" y="1878120"/>
            <a:ext cx="193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ombination factor,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12640" y="1770120"/>
            <a:ext cx="20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215320" y="19987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1.1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465880" y="1878120"/>
            <a:ext cx="48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= 0,5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118320" y="21510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272400" y="2271600"/>
            <a:ext cx="18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fi.d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514320" y="2151000"/>
            <a:ext cx="18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=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02080" y="2125800"/>
            <a:ext cx="2032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Symbol"/>
                <a:ea typeface="Symbol"/>
              </a:rPr>
              <a:t>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06400" y="21258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Symbol"/>
                <a:ea typeface="Symbol"/>
              </a:rPr>
              <a:t>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675400" y="2125800"/>
            <a:ext cx="32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kN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B67C-A8B3-41CB-AFF8-34254EEEAA9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ension member: fire resistance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144360" y="1413000"/>
            <a:ext cx="882036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19A3-3105-4579-A311-8C345F1D515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ages of a natural fire - and the standard fire test curv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47640" y="1509840"/>
            <a:ext cx="5708880" cy="44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9894-43A0-4732-81D5-0184BD9431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Tension member: fire prot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902720" cy="473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849A-0AF6-44B5-B766-9E262F22DBB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teel beam: strength desig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20680" y="3100320"/>
            <a:ext cx="2730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ection Classification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73200" y="3409920"/>
            <a:ext cx="127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efficien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919520" y="3382920"/>
            <a:ext cx="11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92320" y="3409920"/>
            <a:ext cx="101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( 235 /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080880" y="34099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149280" y="35481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y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296520" y="34099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381840" y="34113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0,5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671640" y="3409920"/>
            <a:ext cx="715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0,9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71400" y="3778200"/>
            <a:ext cx="1573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ression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208960" y="3778200"/>
            <a:ext cx="69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lang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889000" y="3778200"/>
            <a:ext cx="14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023280" y="37782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149280" y="37782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217680" y="37782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350160" y="3778200"/>
            <a:ext cx="73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(15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065120" y="3778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199040" y="3778200"/>
            <a:ext cx="177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 x12)/12 = 9,5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803040" y="4151160"/>
            <a:ext cx="295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&lt; 0,85 x 33 x 0,92 = 25,8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121040" y="4524480"/>
            <a:ext cx="66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eb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770840" y="4524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96840" y="452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963440" y="452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097720" y="4524480"/>
            <a:ext cx="73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(25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12320" y="4524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940120" y="4524480"/>
            <a:ext cx="4662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x12)/12 = 17,8 &lt; 0,85 x 72 x 0,92 = 56,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22840" y="4898880"/>
            <a:ext cx="164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c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883160" y="4898880"/>
            <a:ext cx="1020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refo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74680" y="4898880"/>
            <a:ext cx="92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ass 1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31120" y="1757520"/>
            <a:ext cx="313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pplied bending moment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540800" y="2062080"/>
            <a:ext cx="21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747800" y="220032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Ed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026800" y="2062080"/>
            <a:ext cx="1491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49,59x5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/8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022120" y="2360520"/>
            <a:ext cx="1593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154,97 kN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025720" y="2610000"/>
            <a:ext cx="1554120" cy="15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4849920" y="1798560"/>
            <a:ext cx="4132080" cy="1528920"/>
            <a:chOff x="4849920" y="1798560"/>
            <a:chExt cx="4132080" cy="1528920"/>
          </a:xfrm>
        </p:grpSpPr>
        <p:sp>
          <p:nvSpPr>
            <p:cNvPr id="805" name=""/>
            <p:cNvSpPr/>
            <p:nvPr/>
          </p:nvSpPr>
          <p:spPr>
            <a:xfrm>
              <a:off x="4849920" y="1798560"/>
              <a:ext cx="4132080" cy="1528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49920" y="1798560"/>
              <a:ext cx="4132080" cy="152892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5735520" y="2298600"/>
            <a:ext cx="166680" cy="82800"/>
            <a:chOff x="5735520" y="2298600"/>
            <a:chExt cx="166680" cy="82800"/>
          </a:xfrm>
        </p:grpSpPr>
        <p:sp>
          <p:nvSpPr>
            <p:cNvPr id="808" name=""/>
            <p:cNvSpPr/>
            <p:nvPr/>
          </p:nvSpPr>
          <p:spPr>
            <a:xfrm>
              <a:off x="5735520" y="2298600"/>
              <a:ext cx="166680" cy="8280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0" y="0"/>
                  </a:moveTo>
                  <a:lnTo>
                    <a:pt x="52" y="52"/>
                  </a:lnTo>
                  <a:lnTo>
                    <a:pt x="1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35520" y="2298600"/>
              <a:ext cx="166680" cy="8280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0" y="0"/>
                  </a:moveTo>
                  <a:lnTo>
                    <a:pt x="52" y="52"/>
                  </a:lnTo>
                  <a:lnTo>
                    <a:pt x="10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5985000" y="2298600"/>
            <a:ext cx="163440" cy="82800"/>
            <a:chOff x="5985000" y="2298600"/>
            <a:chExt cx="163440" cy="82800"/>
          </a:xfrm>
        </p:grpSpPr>
        <p:sp>
          <p:nvSpPr>
            <p:cNvPr id="811" name=""/>
            <p:cNvSpPr/>
            <p:nvPr/>
          </p:nvSpPr>
          <p:spPr>
            <a:xfrm>
              <a:off x="5985000" y="2298600"/>
              <a:ext cx="163440" cy="828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0" y="0"/>
                  </a:moveTo>
                  <a:lnTo>
                    <a:pt x="51" y="52"/>
                  </a:lnTo>
                  <a:lnTo>
                    <a:pt x="10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985000" y="2298600"/>
              <a:ext cx="163440" cy="828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0" y="0"/>
                  </a:moveTo>
                  <a:lnTo>
                    <a:pt x="51" y="52"/>
                  </a:lnTo>
                  <a:lnTo>
                    <a:pt x="10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6243480" y="2298600"/>
            <a:ext cx="165240" cy="82800"/>
            <a:chOff x="6243480" y="2298600"/>
            <a:chExt cx="165240" cy="82800"/>
          </a:xfrm>
        </p:grpSpPr>
        <p:sp>
          <p:nvSpPr>
            <p:cNvPr id="814" name=""/>
            <p:cNvSpPr/>
            <p:nvPr/>
          </p:nvSpPr>
          <p:spPr>
            <a:xfrm>
              <a:off x="6243480" y="2298600"/>
              <a:ext cx="165240" cy="828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52" y="52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243480" y="2298600"/>
              <a:ext cx="165240" cy="828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52" y="52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6483240" y="2298600"/>
            <a:ext cx="165240" cy="82800"/>
            <a:chOff x="6483240" y="2298600"/>
            <a:chExt cx="165240" cy="82800"/>
          </a:xfrm>
        </p:grpSpPr>
        <p:sp>
          <p:nvSpPr>
            <p:cNvPr id="817" name=""/>
            <p:cNvSpPr/>
            <p:nvPr/>
          </p:nvSpPr>
          <p:spPr>
            <a:xfrm>
              <a:off x="6483240" y="2298600"/>
              <a:ext cx="165240" cy="828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53" y="52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483240" y="2298600"/>
              <a:ext cx="165240" cy="828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53" y="52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743880" y="2298600"/>
            <a:ext cx="166680" cy="82800"/>
            <a:chOff x="6743880" y="2298600"/>
            <a:chExt cx="166680" cy="82800"/>
          </a:xfrm>
        </p:grpSpPr>
        <p:sp>
          <p:nvSpPr>
            <p:cNvPr id="820" name=""/>
            <p:cNvSpPr/>
            <p:nvPr/>
          </p:nvSpPr>
          <p:spPr>
            <a:xfrm>
              <a:off x="6743880" y="2298600"/>
              <a:ext cx="166680" cy="8280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0" y="0"/>
                  </a:moveTo>
                  <a:lnTo>
                    <a:pt x="53" y="52"/>
                  </a:lnTo>
                  <a:lnTo>
                    <a:pt x="1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743880" y="2298600"/>
              <a:ext cx="166680" cy="8280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0" y="0"/>
                  </a:moveTo>
                  <a:lnTo>
                    <a:pt x="53" y="52"/>
                  </a:lnTo>
                  <a:lnTo>
                    <a:pt x="10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6999120" y="2298600"/>
            <a:ext cx="165240" cy="82800"/>
            <a:chOff x="6999120" y="2298600"/>
            <a:chExt cx="165240" cy="82800"/>
          </a:xfrm>
        </p:grpSpPr>
        <p:sp>
          <p:nvSpPr>
            <p:cNvPr id="823" name=""/>
            <p:cNvSpPr/>
            <p:nvPr/>
          </p:nvSpPr>
          <p:spPr>
            <a:xfrm>
              <a:off x="6999120" y="2298600"/>
              <a:ext cx="165240" cy="828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50" y="52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999120" y="2298600"/>
              <a:ext cx="165240" cy="828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50" y="52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7238880" y="2298600"/>
            <a:ext cx="169920" cy="82800"/>
            <a:chOff x="7238880" y="2298600"/>
            <a:chExt cx="169920" cy="82800"/>
          </a:xfrm>
        </p:grpSpPr>
        <p:sp>
          <p:nvSpPr>
            <p:cNvPr id="826" name=""/>
            <p:cNvSpPr/>
            <p:nvPr/>
          </p:nvSpPr>
          <p:spPr>
            <a:xfrm>
              <a:off x="7238880" y="2298600"/>
              <a:ext cx="169920" cy="82800"/>
            </a:xfrm>
            <a:custGeom>
              <a:avLst/>
              <a:gdLst/>
              <a:ahLst/>
              <a:rect l="l" t="t" r="r" b="b"/>
              <a:pathLst>
                <a:path w="107" h="52">
                  <a:moveTo>
                    <a:pt x="0" y="0"/>
                  </a:moveTo>
                  <a:lnTo>
                    <a:pt x="53" y="52"/>
                  </a:lnTo>
                  <a:lnTo>
                    <a:pt x="10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38880" y="2298600"/>
              <a:ext cx="169920" cy="82800"/>
            </a:xfrm>
            <a:custGeom>
              <a:avLst/>
              <a:gdLst/>
              <a:ahLst/>
              <a:rect l="l" t="t" r="r" b="b"/>
              <a:pathLst>
                <a:path w="107" h="52">
                  <a:moveTo>
                    <a:pt x="0" y="0"/>
                  </a:moveTo>
                  <a:lnTo>
                    <a:pt x="53" y="52"/>
                  </a:lnTo>
                  <a:lnTo>
                    <a:pt x="10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7480440" y="2298600"/>
            <a:ext cx="168120" cy="82800"/>
            <a:chOff x="7480440" y="2298600"/>
            <a:chExt cx="168120" cy="82800"/>
          </a:xfrm>
        </p:grpSpPr>
        <p:sp>
          <p:nvSpPr>
            <p:cNvPr id="829" name=""/>
            <p:cNvSpPr/>
            <p:nvPr/>
          </p:nvSpPr>
          <p:spPr>
            <a:xfrm>
              <a:off x="7480440" y="2298600"/>
              <a:ext cx="168120" cy="82800"/>
            </a:xfrm>
            <a:custGeom>
              <a:avLst/>
              <a:gdLst/>
              <a:ahLst/>
              <a:rect l="l" t="t" r="r" b="b"/>
              <a:pathLst>
                <a:path w="106" h="52">
                  <a:moveTo>
                    <a:pt x="0" y="0"/>
                  </a:moveTo>
                  <a:lnTo>
                    <a:pt x="54" y="52"/>
                  </a:lnTo>
                  <a:lnTo>
                    <a:pt x="10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480440" y="2298600"/>
              <a:ext cx="168120" cy="82800"/>
            </a:xfrm>
            <a:custGeom>
              <a:avLst/>
              <a:gdLst/>
              <a:ahLst/>
              <a:rect l="l" t="t" r="r" b="b"/>
              <a:pathLst>
                <a:path w="106" h="52">
                  <a:moveTo>
                    <a:pt x="0" y="0"/>
                  </a:moveTo>
                  <a:lnTo>
                    <a:pt x="54" y="52"/>
                  </a:lnTo>
                  <a:lnTo>
                    <a:pt x="10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7742160" y="2298600"/>
            <a:ext cx="162000" cy="82800"/>
            <a:chOff x="7742160" y="2298600"/>
            <a:chExt cx="162000" cy="82800"/>
          </a:xfrm>
        </p:grpSpPr>
        <p:sp>
          <p:nvSpPr>
            <p:cNvPr id="832" name=""/>
            <p:cNvSpPr/>
            <p:nvPr/>
          </p:nvSpPr>
          <p:spPr>
            <a:xfrm>
              <a:off x="7742160" y="2298600"/>
              <a:ext cx="162000" cy="8280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0" y="0"/>
                  </a:moveTo>
                  <a:lnTo>
                    <a:pt x="49" y="52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742160" y="2298600"/>
              <a:ext cx="162000" cy="8280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0" y="0"/>
                  </a:moveTo>
                  <a:lnTo>
                    <a:pt x="49" y="52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7978680" y="2298600"/>
            <a:ext cx="168480" cy="82800"/>
            <a:chOff x="7978680" y="2298600"/>
            <a:chExt cx="168480" cy="82800"/>
          </a:xfrm>
        </p:grpSpPr>
        <p:sp>
          <p:nvSpPr>
            <p:cNvPr id="835" name=""/>
            <p:cNvSpPr/>
            <p:nvPr/>
          </p:nvSpPr>
          <p:spPr>
            <a:xfrm>
              <a:off x="7978680" y="2298600"/>
              <a:ext cx="168480" cy="82800"/>
            </a:xfrm>
            <a:custGeom>
              <a:avLst/>
              <a:gdLst/>
              <a:ahLst/>
              <a:rect l="l" t="t" r="r" b="b"/>
              <a:pathLst>
                <a:path w="106" h="52">
                  <a:moveTo>
                    <a:pt x="0" y="0"/>
                  </a:moveTo>
                  <a:lnTo>
                    <a:pt x="53" y="52"/>
                  </a:lnTo>
                  <a:lnTo>
                    <a:pt x="10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78680" y="2298600"/>
              <a:ext cx="168480" cy="82800"/>
            </a:xfrm>
            <a:custGeom>
              <a:avLst/>
              <a:gdLst/>
              <a:ahLst/>
              <a:rect l="l" t="t" r="r" b="b"/>
              <a:pathLst>
                <a:path w="106" h="52">
                  <a:moveTo>
                    <a:pt x="0" y="0"/>
                  </a:moveTo>
                  <a:lnTo>
                    <a:pt x="53" y="52"/>
                  </a:lnTo>
                  <a:lnTo>
                    <a:pt x="10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8202600" y="2306520"/>
            <a:ext cx="162000" cy="84240"/>
            <a:chOff x="8202600" y="2306520"/>
            <a:chExt cx="162000" cy="84240"/>
          </a:xfrm>
        </p:grpSpPr>
        <p:sp>
          <p:nvSpPr>
            <p:cNvPr id="838" name=""/>
            <p:cNvSpPr/>
            <p:nvPr/>
          </p:nvSpPr>
          <p:spPr>
            <a:xfrm>
              <a:off x="8202600" y="2306520"/>
              <a:ext cx="162000" cy="84240"/>
            </a:xfrm>
            <a:custGeom>
              <a:avLst/>
              <a:gdLst/>
              <a:ahLst/>
              <a:rect l="l" t="t" r="r" b="b"/>
              <a:pathLst>
                <a:path w="102" h="53">
                  <a:moveTo>
                    <a:pt x="0" y="0"/>
                  </a:moveTo>
                  <a:lnTo>
                    <a:pt x="50" y="53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202600" y="2306520"/>
              <a:ext cx="162000" cy="84240"/>
            </a:xfrm>
            <a:custGeom>
              <a:avLst/>
              <a:gdLst/>
              <a:ahLst/>
              <a:rect l="l" t="t" r="r" b="b"/>
              <a:pathLst>
                <a:path w="102" h="53">
                  <a:moveTo>
                    <a:pt x="0" y="0"/>
                  </a:moveTo>
                  <a:lnTo>
                    <a:pt x="50" y="53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8456760" y="2306520"/>
            <a:ext cx="164880" cy="84240"/>
            <a:chOff x="8456760" y="2306520"/>
            <a:chExt cx="164880" cy="84240"/>
          </a:xfrm>
        </p:grpSpPr>
        <p:sp>
          <p:nvSpPr>
            <p:cNvPr id="841" name=""/>
            <p:cNvSpPr/>
            <p:nvPr/>
          </p:nvSpPr>
          <p:spPr>
            <a:xfrm>
              <a:off x="8456760" y="2306520"/>
              <a:ext cx="164880" cy="84240"/>
            </a:xfrm>
            <a:custGeom>
              <a:avLst/>
              <a:gdLst/>
              <a:ahLst/>
              <a:rect l="l" t="t" r="r" b="b"/>
              <a:pathLst>
                <a:path w="104" h="53">
                  <a:moveTo>
                    <a:pt x="0" y="0"/>
                  </a:moveTo>
                  <a:lnTo>
                    <a:pt x="53" y="53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456760" y="2306520"/>
              <a:ext cx="164880" cy="84240"/>
            </a:xfrm>
            <a:custGeom>
              <a:avLst/>
              <a:gdLst/>
              <a:ahLst/>
              <a:rect l="l" t="t" r="r" b="b"/>
              <a:pathLst>
                <a:path w="104" h="53">
                  <a:moveTo>
                    <a:pt x="0" y="0"/>
                  </a:moveTo>
                  <a:lnTo>
                    <a:pt x="53" y="53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5497560" y="2316240"/>
            <a:ext cx="162000" cy="82440"/>
            <a:chOff x="5497560" y="2316240"/>
            <a:chExt cx="162000" cy="82440"/>
          </a:xfrm>
        </p:grpSpPr>
        <p:sp>
          <p:nvSpPr>
            <p:cNvPr id="844" name=""/>
            <p:cNvSpPr/>
            <p:nvPr/>
          </p:nvSpPr>
          <p:spPr>
            <a:xfrm>
              <a:off x="5497560" y="2316240"/>
              <a:ext cx="16200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0" y="0"/>
                  </a:moveTo>
                  <a:lnTo>
                    <a:pt x="52" y="52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97560" y="2316240"/>
              <a:ext cx="16200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0" y="0"/>
                  </a:moveTo>
                  <a:lnTo>
                    <a:pt x="52" y="52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46" name=""/>
          <p:cNvSpPr/>
          <p:nvPr/>
        </p:nvSpPr>
        <p:spPr>
          <a:xfrm flipV="1">
            <a:off x="5175360" y="2445840"/>
            <a:ext cx="144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5059440" y="2460600"/>
            <a:ext cx="236520" cy="208080"/>
            <a:chOff x="5059440" y="2460600"/>
            <a:chExt cx="236520" cy="208080"/>
          </a:xfrm>
        </p:grpSpPr>
        <p:sp>
          <p:nvSpPr>
            <p:cNvPr id="848" name=""/>
            <p:cNvSpPr/>
            <p:nvPr/>
          </p:nvSpPr>
          <p:spPr>
            <a:xfrm>
              <a:off x="5059440" y="2460600"/>
              <a:ext cx="236520" cy="208080"/>
            </a:xfrm>
            <a:custGeom>
              <a:avLst/>
              <a:gdLst/>
              <a:ahLst/>
              <a:rect l="l" t="t" r="r" b="b"/>
              <a:pathLst>
                <a:path w="149" h="131">
                  <a:moveTo>
                    <a:pt x="73" y="0"/>
                  </a:moveTo>
                  <a:lnTo>
                    <a:pt x="0" y="131"/>
                  </a:lnTo>
                  <a:lnTo>
                    <a:pt x="149" y="131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059440" y="2460600"/>
              <a:ext cx="236520" cy="208080"/>
            </a:xfrm>
            <a:custGeom>
              <a:avLst/>
              <a:gdLst/>
              <a:ahLst/>
              <a:rect l="l" t="t" r="r" b="b"/>
              <a:pathLst>
                <a:path w="149" h="131">
                  <a:moveTo>
                    <a:pt x="73" y="0"/>
                  </a:moveTo>
                  <a:lnTo>
                    <a:pt x="0" y="131"/>
                  </a:lnTo>
                  <a:lnTo>
                    <a:pt x="149" y="131"/>
                  </a:lnTo>
                  <a:lnTo>
                    <a:pt x="73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8520120" y="2452680"/>
            <a:ext cx="255600" cy="222120"/>
            <a:chOff x="8520120" y="2452680"/>
            <a:chExt cx="255600" cy="222120"/>
          </a:xfrm>
        </p:grpSpPr>
        <p:sp>
          <p:nvSpPr>
            <p:cNvPr id="851" name=""/>
            <p:cNvSpPr/>
            <p:nvPr/>
          </p:nvSpPr>
          <p:spPr>
            <a:xfrm>
              <a:off x="8520120" y="2452680"/>
              <a:ext cx="255600" cy="222120"/>
            </a:xfrm>
            <a:custGeom>
              <a:avLst/>
              <a:gdLst/>
              <a:ahLst/>
              <a:rect l="l" t="t" r="r" b="b"/>
              <a:pathLst>
                <a:path w="161" h="140">
                  <a:moveTo>
                    <a:pt x="82" y="0"/>
                  </a:moveTo>
                  <a:lnTo>
                    <a:pt x="0" y="140"/>
                  </a:lnTo>
                  <a:lnTo>
                    <a:pt x="161" y="14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520120" y="2452680"/>
              <a:ext cx="255600" cy="222120"/>
            </a:xfrm>
            <a:custGeom>
              <a:avLst/>
              <a:gdLst/>
              <a:ahLst/>
              <a:rect l="l" t="t" r="r" b="b"/>
              <a:pathLst>
                <a:path w="161" h="140">
                  <a:moveTo>
                    <a:pt x="82" y="0"/>
                  </a:moveTo>
                  <a:lnTo>
                    <a:pt x="0" y="140"/>
                  </a:lnTo>
                  <a:lnTo>
                    <a:pt x="161" y="140"/>
                  </a:lnTo>
                  <a:lnTo>
                    <a:pt x="82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4937040" y="2668680"/>
            <a:ext cx="544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8923320" y="2828880"/>
            <a:ext cx="1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8897760" y="2808360"/>
            <a:ext cx="2700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829720" y="2846520"/>
            <a:ext cx="950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8729640" y="2806560"/>
            <a:ext cx="139680" cy="13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8638920" y="2806560"/>
            <a:ext cx="135000" cy="13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539200" y="2806560"/>
            <a:ext cx="139680" cy="13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8448480" y="2806560"/>
            <a:ext cx="136440" cy="13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8362800" y="2806560"/>
            <a:ext cx="12888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8362800" y="2806560"/>
            <a:ext cx="2880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417640" y="2798640"/>
            <a:ext cx="27000" cy="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5324040" y="2698920"/>
            <a:ext cx="120600" cy="11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229360" y="2668680"/>
            <a:ext cx="14904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5156280" y="2668680"/>
            <a:ext cx="14904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5062680" y="2668680"/>
            <a:ext cx="15084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4987440" y="2668680"/>
            <a:ext cx="15084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4937040" y="2668680"/>
            <a:ext cx="10656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937040" y="2668680"/>
            <a:ext cx="3348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4936680" y="2668680"/>
            <a:ext cx="972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937040" y="2668680"/>
            <a:ext cx="554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937040" y="2668680"/>
            <a:ext cx="544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074000" y="3103560"/>
            <a:ext cx="1622160" cy="144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5195520" y="3103560"/>
            <a:ext cx="1569960" cy="144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191200" y="2941560"/>
            <a:ext cx="1440" cy="34776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8669160" y="2941560"/>
            <a:ext cx="1800" cy="3492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191200" y="2995560"/>
            <a:ext cx="206280" cy="212760"/>
          </a:xfrm>
          <a:custGeom>
            <a:avLst/>
            <a:gdLst/>
            <a:ahLst/>
            <a:rect l="l" t="t" r="r" b="b"/>
            <a:pathLst>
              <a:path w="130" h="134">
                <a:moveTo>
                  <a:pt x="109" y="134"/>
                </a:moveTo>
                <a:lnTo>
                  <a:pt x="0" y="68"/>
                </a:lnTo>
                <a:lnTo>
                  <a:pt x="130" y="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456760" y="2995560"/>
            <a:ext cx="212400" cy="214200"/>
          </a:xfrm>
          <a:custGeom>
            <a:avLst/>
            <a:gdLst/>
            <a:ahLst/>
            <a:rect l="l" t="t" r="r" b="b"/>
            <a:pathLst>
              <a:path w="134" h="135">
                <a:moveTo>
                  <a:pt x="0" y="0"/>
                </a:moveTo>
                <a:lnTo>
                  <a:pt x="134" y="68"/>
                </a:lnTo>
                <a:lnTo>
                  <a:pt x="0" y="135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365880" y="181620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9,59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058160" y="181620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kN/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352000" y="2801880"/>
            <a:ext cx="591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43080" y="2498760"/>
            <a:ext cx="127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50/150/1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5175360" y="2427120"/>
            <a:ext cx="3485880" cy="19080"/>
            <a:chOff x="5175360" y="2427120"/>
            <a:chExt cx="3485880" cy="19080"/>
          </a:xfrm>
        </p:grpSpPr>
        <p:sp>
          <p:nvSpPr>
            <p:cNvPr id="885" name=""/>
            <p:cNvSpPr/>
            <p:nvPr/>
          </p:nvSpPr>
          <p:spPr>
            <a:xfrm>
              <a:off x="5175360" y="2427120"/>
              <a:ext cx="3485880" cy="19080"/>
            </a:xfrm>
            <a:custGeom>
              <a:avLst/>
              <a:gdLst/>
              <a:ahLst/>
              <a:rect l="l" t="t" r="r" b="b"/>
              <a:pathLst>
                <a:path w="2196" h="12">
                  <a:moveTo>
                    <a:pt x="6" y="12"/>
                  </a:moveTo>
                  <a:lnTo>
                    <a:pt x="5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2189" y="0"/>
                  </a:lnTo>
                  <a:lnTo>
                    <a:pt x="2190" y="0"/>
                  </a:lnTo>
                  <a:lnTo>
                    <a:pt x="2192" y="1"/>
                  </a:lnTo>
                  <a:lnTo>
                    <a:pt x="2195" y="1"/>
                  </a:lnTo>
                  <a:lnTo>
                    <a:pt x="2196" y="3"/>
                  </a:lnTo>
                  <a:lnTo>
                    <a:pt x="2196" y="4"/>
                  </a:lnTo>
                  <a:lnTo>
                    <a:pt x="2196" y="7"/>
                  </a:lnTo>
                  <a:lnTo>
                    <a:pt x="2196" y="9"/>
                  </a:lnTo>
                  <a:lnTo>
                    <a:pt x="2196" y="12"/>
                  </a:lnTo>
                  <a:lnTo>
                    <a:pt x="2195" y="12"/>
                  </a:lnTo>
                  <a:lnTo>
                    <a:pt x="2192" y="12"/>
                  </a:lnTo>
                  <a:lnTo>
                    <a:pt x="2190" y="12"/>
                  </a:lnTo>
                  <a:lnTo>
                    <a:pt x="2189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175360" y="2427120"/>
              <a:ext cx="3485880" cy="19080"/>
            </a:xfrm>
            <a:custGeom>
              <a:avLst/>
              <a:gdLst/>
              <a:ahLst/>
              <a:rect l="l" t="t" r="r" b="b"/>
              <a:pathLst>
                <a:path w="2196" h="12">
                  <a:moveTo>
                    <a:pt x="6" y="12"/>
                  </a:moveTo>
                  <a:lnTo>
                    <a:pt x="5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2189" y="0"/>
                  </a:lnTo>
                  <a:lnTo>
                    <a:pt x="2190" y="0"/>
                  </a:lnTo>
                  <a:lnTo>
                    <a:pt x="2192" y="1"/>
                  </a:lnTo>
                  <a:lnTo>
                    <a:pt x="2195" y="1"/>
                  </a:lnTo>
                  <a:lnTo>
                    <a:pt x="2196" y="3"/>
                  </a:lnTo>
                  <a:lnTo>
                    <a:pt x="2196" y="4"/>
                  </a:lnTo>
                  <a:lnTo>
                    <a:pt x="2196" y="7"/>
                  </a:lnTo>
                  <a:lnTo>
                    <a:pt x="2196" y="9"/>
                  </a:lnTo>
                  <a:lnTo>
                    <a:pt x="2196" y="12"/>
                  </a:lnTo>
                  <a:lnTo>
                    <a:pt x="2195" y="12"/>
                  </a:lnTo>
                  <a:lnTo>
                    <a:pt x="2192" y="12"/>
                  </a:lnTo>
                  <a:lnTo>
                    <a:pt x="2190" y="12"/>
                  </a:lnTo>
                  <a:lnTo>
                    <a:pt x="2189" y="12"/>
                  </a:lnTo>
                  <a:lnTo>
                    <a:pt x="6" y="12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5324400" y="2084400"/>
            <a:ext cx="180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5240160" y="2316240"/>
            <a:ext cx="165240" cy="82440"/>
            <a:chOff x="5240160" y="2316240"/>
            <a:chExt cx="165240" cy="82440"/>
          </a:xfrm>
        </p:grpSpPr>
        <p:sp>
          <p:nvSpPr>
            <p:cNvPr id="889" name=""/>
            <p:cNvSpPr/>
            <p:nvPr/>
          </p:nvSpPr>
          <p:spPr>
            <a:xfrm>
              <a:off x="5240160" y="2316240"/>
              <a:ext cx="165240" cy="8244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53" y="52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240160" y="2316240"/>
              <a:ext cx="165240" cy="8244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53" y="52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5583240" y="2084400"/>
            <a:ext cx="144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818320" y="2084400"/>
            <a:ext cx="144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066000" y="2084400"/>
            <a:ext cx="144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327720" y="2084400"/>
            <a:ext cx="180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567480" y="2084400"/>
            <a:ext cx="144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27760" y="2084400"/>
            <a:ext cx="180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078680" y="2084400"/>
            <a:ext cx="144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323120" y="2084400"/>
            <a:ext cx="144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566120" y="2084400"/>
            <a:ext cx="144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819920" y="2084400"/>
            <a:ext cx="180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062920" y="2084400"/>
            <a:ext cx="144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8283600" y="2090880"/>
            <a:ext cx="1440" cy="253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539200" y="2090880"/>
            <a:ext cx="1440" cy="253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5116680" y="2384280"/>
            <a:ext cx="115560" cy="112680"/>
            <a:chOff x="5116680" y="2384280"/>
            <a:chExt cx="115560" cy="112680"/>
          </a:xfrm>
        </p:grpSpPr>
        <p:sp>
          <p:nvSpPr>
            <p:cNvPr id="905" name=""/>
            <p:cNvSpPr/>
            <p:nvPr/>
          </p:nvSpPr>
          <p:spPr>
            <a:xfrm>
              <a:off x="5116680" y="2384280"/>
              <a:ext cx="115560" cy="11268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16680" y="2384280"/>
              <a:ext cx="115560" cy="11268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597880" y="2379600"/>
            <a:ext cx="115920" cy="112680"/>
            <a:chOff x="8597880" y="2379600"/>
            <a:chExt cx="115920" cy="112680"/>
          </a:xfrm>
        </p:grpSpPr>
        <p:sp>
          <p:nvSpPr>
            <p:cNvPr id="908" name=""/>
            <p:cNvSpPr/>
            <p:nvPr/>
          </p:nvSpPr>
          <p:spPr>
            <a:xfrm>
              <a:off x="8597880" y="2379600"/>
              <a:ext cx="115920" cy="11268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597880" y="2379600"/>
              <a:ext cx="115920" cy="11268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8518680" y="2684520"/>
            <a:ext cx="115560" cy="111240"/>
            <a:chOff x="8518680" y="2684520"/>
            <a:chExt cx="115560" cy="111240"/>
          </a:xfrm>
        </p:grpSpPr>
        <p:sp>
          <p:nvSpPr>
            <p:cNvPr id="911" name=""/>
            <p:cNvSpPr/>
            <p:nvPr/>
          </p:nvSpPr>
          <p:spPr>
            <a:xfrm>
              <a:off x="8518680" y="2684520"/>
              <a:ext cx="115560" cy="11124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518680" y="2684520"/>
              <a:ext cx="115560" cy="1112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8690040" y="2687760"/>
            <a:ext cx="117360" cy="112680"/>
            <a:chOff x="8690040" y="2687760"/>
            <a:chExt cx="117360" cy="112680"/>
          </a:xfrm>
        </p:grpSpPr>
        <p:sp>
          <p:nvSpPr>
            <p:cNvPr id="914" name=""/>
            <p:cNvSpPr/>
            <p:nvPr/>
          </p:nvSpPr>
          <p:spPr>
            <a:xfrm>
              <a:off x="8690040" y="2687760"/>
              <a:ext cx="117360" cy="11268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690040" y="2687760"/>
              <a:ext cx="117360" cy="11268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802560" y="2963880"/>
            <a:ext cx="353880" cy="307800"/>
            <a:chOff x="6802560" y="2963880"/>
            <a:chExt cx="353880" cy="307800"/>
          </a:xfrm>
        </p:grpSpPr>
        <p:sp>
          <p:nvSpPr>
            <p:cNvPr id="917" name=""/>
            <p:cNvSpPr/>
            <p:nvPr/>
          </p:nvSpPr>
          <p:spPr>
            <a:xfrm>
              <a:off x="6802560" y="2963880"/>
              <a:ext cx="353880" cy="307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02560" y="2963880"/>
              <a:ext cx="353880" cy="307800"/>
            </a:xfrm>
            <a:prstGeom prst="rect">
              <a:avLst/>
            </a:prstGeom>
            <a:noFill/>
            <a:ln cap="rnd"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6807960" y="298764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849920" y="1798560"/>
            <a:ext cx="4132080" cy="1528920"/>
            <a:chOff x="4849920" y="1798560"/>
            <a:chExt cx="4132080" cy="1528920"/>
          </a:xfrm>
        </p:grpSpPr>
        <p:sp>
          <p:nvSpPr>
            <p:cNvPr id="921" name=""/>
            <p:cNvSpPr/>
            <p:nvPr/>
          </p:nvSpPr>
          <p:spPr>
            <a:xfrm>
              <a:off x="4849920" y="1798560"/>
              <a:ext cx="4132080" cy="1528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849920" y="1798560"/>
              <a:ext cx="4132080" cy="152892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5735520" y="2298600"/>
            <a:ext cx="166680" cy="82800"/>
            <a:chOff x="5735520" y="2298600"/>
            <a:chExt cx="166680" cy="82800"/>
          </a:xfrm>
        </p:grpSpPr>
        <p:sp>
          <p:nvSpPr>
            <p:cNvPr id="924" name=""/>
            <p:cNvSpPr/>
            <p:nvPr/>
          </p:nvSpPr>
          <p:spPr>
            <a:xfrm>
              <a:off x="5735520" y="2298600"/>
              <a:ext cx="166680" cy="8280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0" y="0"/>
                  </a:moveTo>
                  <a:lnTo>
                    <a:pt x="52" y="52"/>
                  </a:lnTo>
                  <a:lnTo>
                    <a:pt x="1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735520" y="2298600"/>
              <a:ext cx="166680" cy="8280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0" y="0"/>
                  </a:moveTo>
                  <a:lnTo>
                    <a:pt x="52" y="52"/>
                  </a:lnTo>
                  <a:lnTo>
                    <a:pt x="10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985000" y="2298600"/>
            <a:ext cx="163440" cy="82800"/>
            <a:chOff x="5985000" y="2298600"/>
            <a:chExt cx="163440" cy="82800"/>
          </a:xfrm>
        </p:grpSpPr>
        <p:sp>
          <p:nvSpPr>
            <p:cNvPr id="927" name=""/>
            <p:cNvSpPr/>
            <p:nvPr/>
          </p:nvSpPr>
          <p:spPr>
            <a:xfrm>
              <a:off x="5985000" y="2298600"/>
              <a:ext cx="163440" cy="828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0" y="0"/>
                  </a:moveTo>
                  <a:lnTo>
                    <a:pt x="51" y="52"/>
                  </a:lnTo>
                  <a:lnTo>
                    <a:pt x="10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985000" y="2298600"/>
              <a:ext cx="163440" cy="828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0" y="0"/>
                  </a:moveTo>
                  <a:lnTo>
                    <a:pt x="51" y="52"/>
                  </a:lnTo>
                  <a:lnTo>
                    <a:pt x="10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6243480" y="2298600"/>
            <a:ext cx="165240" cy="82800"/>
            <a:chOff x="6243480" y="2298600"/>
            <a:chExt cx="165240" cy="82800"/>
          </a:xfrm>
        </p:grpSpPr>
        <p:sp>
          <p:nvSpPr>
            <p:cNvPr id="930" name=""/>
            <p:cNvSpPr/>
            <p:nvPr/>
          </p:nvSpPr>
          <p:spPr>
            <a:xfrm>
              <a:off x="6243480" y="2298600"/>
              <a:ext cx="165240" cy="828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52" y="52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243480" y="2298600"/>
              <a:ext cx="165240" cy="828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52" y="52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483240" y="2298600"/>
            <a:ext cx="165240" cy="82800"/>
            <a:chOff x="6483240" y="2298600"/>
            <a:chExt cx="165240" cy="82800"/>
          </a:xfrm>
        </p:grpSpPr>
        <p:sp>
          <p:nvSpPr>
            <p:cNvPr id="933" name=""/>
            <p:cNvSpPr/>
            <p:nvPr/>
          </p:nvSpPr>
          <p:spPr>
            <a:xfrm>
              <a:off x="6483240" y="2298600"/>
              <a:ext cx="165240" cy="828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53" y="52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483240" y="2298600"/>
              <a:ext cx="165240" cy="828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53" y="52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6743880" y="2298600"/>
            <a:ext cx="166680" cy="82800"/>
            <a:chOff x="6743880" y="2298600"/>
            <a:chExt cx="166680" cy="82800"/>
          </a:xfrm>
        </p:grpSpPr>
        <p:sp>
          <p:nvSpPr>
            <p:cNvPr id="936" name=""/>
            <p:cNvSpPr/>
            <p:nvPr/>
          </p:nvSpPr>
          <p:spPr>
            <a:xfrm>
              <a:off x="6743880" y="2298600"/>
              <a:ext cx="166680" cy="8280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0" y="0"/>
                  </a:moveTo>
                  <a:lnTo>
                    <a:pt x="53" y="52"/>
                  </a:lnTo>
                  <a:lnTo>
                    <a:pt x="1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3880" y="2298600"/>
              <a:ext cx="166680" cy="8280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0" y="0"/>
                  </a:moveTo>
                  <a:lnTo>
                    <a:pt x="53" y="52"/>
                  </a:lnTo>
                  <a:lnTo>
                    <a:pt x="10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6999120" y="2298600"/>
            <a:ext cx="165240" cy="82800"/>
            <a:chOff x="6999120" y="2298600"/>
            <a:chExt cx="165240" cy="82800"/>
          </a:xfrm>
        </p:grpSpPr>
        <p:sp>
          <p:nvSpPr>
            <p:cNvPr id="939" name=""/>
            <p:cNvSpPr/>
            <p:nvPr/>
          </p:nvSpPr>
          <p:spPr>
            <a:xfrm>
              <a:off x="6999120" y="2298600"/>
              <a:ext cx="165240" cy="828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50" y="52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999120" y="2298600"/>
              <a:ext cx="165240" cy="828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50" y="52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7238880" y="2298600"/>
            <a:ext cx="169920" cy="82800"/>
            <a:chOff x="7238880" y="2298600"/>
            <a:chExt cx="169920" cy="82800"/>
          </a:xfrm>
        </p:grpSpPr>
        <p:sp>
          <p:nvSpPr>
            <p:cNvPr id="942" name=""/>
            <p:cNvSpPr/>
            <p:nvPr/>
          </p:nvSpPr>
          <p:spPr>
            <a:xfrm>
              <a:off x="7238880" y="2298600"/>
              <a:ext cx="169920" cy="82800"/>
            </a:xfrm>
            <a:custGeom>
              <a:avLst/>
              <a:gdLst/>
              <a:ahLst/>
              <a:rect l="l" t="t" r="r" b="b"/>
              <a:pathLst>
                <a:path w="107" h="52">
                  <a:moveTo>
                    <a:pt x="0" y="0"/>
                  </a:moveTo>
                  <a:lnTo>
                    <a:pt x="53" y="52"/>
                  </a:lnTo>
                  <a:lnTo>
                    <a:pt x="10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38880" y="2298600"/>
              <a:ext cx="169920" cy="82800"/>
            </a:xfrm>
            <a:custGeom>
              <a:avLst/>
              <a:gdLst/>
              <a:ahLst/>
              <a:rect l="l" t="t" r="r" b="b"/>
              <a:pathLst>
                <a:path w="107" h="52">
                  <a:moveTo>
                    <a:pt x="0" y="0"/>
                  </a:moveTo>
                  <a:lnTo>
                    <a:pt x="53" y="52"/>
                  </a:lnTo>
                  <a:lnTo>
                    <a:pt x="10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7480440" y="2298600"/>
            <a:ext cx="168120" cy="82800"/>
            <a:chOff x="7480440" y="2298600"/>
            <a:chExt cx="168120" cy="82800"/>
          </a:xfrm>
        </p:grpSpPr>
        <p:sp>
          <p:nvSpPr>
            <p:cNvPr id="945" name=""/>
            <p:cNvSpPr/>
            <p:nvPr/>
          </p:nvSpPr>
          <p:spPr>
            <a:xfrm>
              <a:off x="7480440" y="2298600"/>
              <a:ext cx="168120" cy="82800"/>
            </a:xfrm>
            <a:custGeom>
              <a:avLst/>
              <a:gdLst/>
              <a:ahLst/>
              <a:rect l="l" t="t" r="r" b="b"/>
              <a:pathLst>
                <a:path w="106" h="52">
                  <a:moveTo>
                    <a:pt x="0" y="0"/>
                  </a:moveTo>
                  <a:lnTo>
                    <a:pt x="54" y="52"/>
                  </a:lnTo>
                  <a:lnTo>
                    <a:pt x="10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480440" y="2298600"/>
              <a:ext cx="168120" cy="82800"/>
            </a:xfrm>
            <a:custGeom>
              <a:avLst/>
              <a:gdLst/>
              <a:ahLst/>
              <a:rect l="l" t="t" r="r" b="b"/>
              <a:pathLst>
                <a:path w="106" h="52">
                  <a:moveTo>
                    <a:pt x="0" y="0"/>
                  </a:moveTo>
                  <a:lnTo>
                    <a:pt x="54" y="52"/>
                  </a:lnTo>
                  <a:lnTo>
                    <a:pt x="10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7742160" y="2298600"/>
            <a:ext cx="162000" cy="82800"/>
            <a:chOff x="7742160" y="2298600"/>
            <a:chExt cx="162000" cy="82800"/>
          </a:xfrm>
        </p:grpSpPr>
        <p:sp>
          <p:nvSpPr>
            <p:cNvPr id="948" name=""/>
            <p:cNvSpPr/>
            <p:nvPr/>
          </p:nvSpPr>
          <p:spPr>
            <a:xfrm>
              <a:off x="7742160" y="2298600"/>
              <a:ext cx="162000" cy="8280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0" y="0"/>
                  </a:moveTo>
                  <a:lnTo>
                    <a:pt x="49" y="52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742160" y="2298600"/>
              <a:ext cx="162000" cy="8280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0" y="0"/>
                  </a:moveTo>
                  <a:lnTo>
                    <a:pt x="49" y="52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7978680" y="2298600"/>
            <a:ext cx="168480" cy="82800"/>
            <a:chOff x="7978680" y="2298600"/>
            <a:chExt cx="168480" cy="82800"/>
          </a:xfrm>
        </p:grpSpPr>
        <p:sp>
          <p:nvSpPr>
            <p:cNvPr id="951" name=""/>
            <p:cNvSpPr/>
            <p:nvPr/>
          </p:nvSpPr>
          <p:spPr>
            <a:xfrm>
              <a:off x="7978680" y="2298600"/>
              <a:ext cx="168480" cy="82800"/>
            </a:xfrm>
            <a:custGeom>
              <a:avLst/>
              <a:gdLst/>
              <a:ahLst/>
              <a:rect l="l" t="t" r="r" b="b"/>
              <a:pathLst>
                <a:path w="106" h="52">
                  <a:moveTo>
                    <a:pt x="0" y="0"/>
                  </a:moveTo>
                  <a:lnTo>
                    <a:pt x="53" y="52"/>
                  </a:lnTo>
                  <a:lnTo>
                    <a:pt x="10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978680" y="2298600"/>
              <a:ext cx="168480" cy="82800"/>
            </a:xfrm>
            <a:custGeom>
              <a:avLst/>
              <a:gdLst/>
              <a:ahLst/>
              <a:rect l="l" t="t" r="r" b="b"/>
              <a:pathLst>
                <a:path w="106" h="52">
                  <a:moveTo>
                    <a:pt x="0" y="0"/>
                  </a:moveTo>
                  <a:lnTo>
                    <a:pt x="53" y="52"/>
                  </a:lnTo>
                  <a:lnTo>
                    <a:pt x="10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8202600" y="2306520"/>
            <a:ext cx="162000" cy="84240"/>
            <a:chOff x="8202600" y="2306520"/>
            <a:chExt cx="162000" cy="84240"/>
          </a:xfrm>
        </p:grpSpPr>
        <p:sp>
          <p:nvSpPr>
            <p:cNvPr id="954" name=""/>
            <p:cNvSpPr/>
            <p:nvPr/>
          </p:nvSpPr>
          <p:spPr>
            <a:xfrm>
              <a:off x="8202600" y="2306520"/>
              <a:ext cx="162000" cy="84240"/>
            </a:xfrm>
            <a:custGeom>
              <a:avLst/>
              <a:gdLst/>
              <a:ahLst/>
              <a:rect l="l" t="t" r="r" b="b"/>
              <a:pathLst>
                <a:path w="102" h="53">
                  <a:moveTo>
                    <a:pt x="0" y="0"/>
                  </a:moveTo>
                  <a:lnTo>
                    <a:pt x="50" y="53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202600" y="2306520"/>
              <a:ext cx="162000" cy="84240"/>
            </a:xfrm>
            <a:custGeom>
              <a:avLst/>
              <a:gdLst/>
              <a:ahLst/>
              <a:rect l="l" t="t" r="r" b="b"/>
              <a:pathLst>
                <a:path w="102" h="53">
                  <a:moveTo>
                    <a:pt x="0" y="0"/>
                  </a:moveTo>
                  <a:lnTo>
                    <a:pt x="50" y="53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8456760" y="2306520"/>
            <a:ext cx="164880" cy="84240"/>
            <a:chOff x="8456760" y="2306520"/>
            <a:chExt cx="164880" cy="84240"/>
          </a:xfrm>
        </p:grpSpPr>
        <p:sp>
          <p:nvSpPr>
            <p:cNvPr id="957" name=""/>
            <p:cNvSpPr/>
            <p:nvPr/>
          </p:nvSpPr>
          <p:spPr>
            <a:xfrm>
              <a:off x="8456760" y="2306520"/>
              <a:ext cx="164880" cy="84240"/>
            </a:xfrm>
            <a:custGeom>
              <a:avLst/>
              <a:gdLst/>
              <a:ahLst/>
              <a:rect l="l" t="t" r="r" b="b"/>
              <a:pathLst>
                <a:path w="104" h="53">
                  <a:moveTo>
                    <a:pt x="0" y="0"/>
                  </a:moveTo>
                  <a:lnTo>
                    <a:pt x="53" y="53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456760" y="2306520"/>
              <a:ext cx="164880" cy="84240"/>
            </a:xfrm>
            <a:custGeom>
              <a:avLst/>
              <a:gdLst/>
              <a:ahLst/>
              <a:rect l="l" t="t" r="r" b="b"/>
              <a:pathLst>
                <a:path w="104" h="53">
                  <a:moveTo>
                    <a:pt x="0" y="0"/>
                  </a:moveTo>
                  <a:lnTo>
                    <a:pt x="53" y="53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5497560" y="2316240"/>
            <a:ext cx="162000" cy="82440"/>
            <a:chOff x="5497560" y="2316240"/>
            <a:chExt cx="162000" cy="82440"/>
          </a:xfrm>
        </p:grpSpPr>
        <p:sp>
          <p:nvSpPr>
            <p:cNvPr id="960" name=""/>
            <p:cNvSpPr/>
            <p:nvPr/>
          </p:nvSpPr>
          <p:spPr>
            <a:xfrm>
              <a:off x="5497560" y="2316240"/>
              <a:ext cx="16200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0" y="0"/>
                  </a:moveTo>
                  <a:lnTo>
                    <a:pt x="52" y="52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97560" y="2316240"/>
              <a:ext cx="16200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0" y="0"/>
                  </a:moveTo>
                  <a:lnTo>
                    <a:pt x="52" y="52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 flipV="1">
            <a:off x="5175360" y="2445840"/>
            <a:ext cx="144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5059440" y="2460600"/>
            <a:ext cx="236520" cy="208080"/>
            <a:chOff x="5059440" y="2460600"/>
            <a:chExt cx="236520" cy="208080"/>
          </a:xfrm>
        </p:grpSpPr>
        <p:sp>
          <p:nvSpPr>
            <p:cNvPr id="964" name=""/>
            <p:cNvSpPr/>
            <p:nvPr/>
          </p:nvSpPr>
          <p:spPr>
            <a:xfrm>
              <a:off x="5059440" y="2460600"/>
              <a:ext cx="236520" cy="208080"/>
            </a:xfrm>
            <a:custGeom>
              <a:avLst/>
              <a:gdLst/>
              <a:ahLst/>
              <a:rect l="l" t="t" r="r" b="b"/>
              <a:pathLst>
                <a:path w="149" h="131">
                  <a:moveTo>
                    <a:pt x="73" y="0"/>
                  </a:moveTo>
                  <a:lnTo>
                    <a:pt x="0" y="131"/>
                  </a:lnTo>
                  <a:lnTo>
                    <a:pt x="149" y="131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059440" y="2460600"/>
              <a:ext cx="236520" cy="208080"/>
            </a:xfrm>
            <a:custGeom>
              <a:avLst/>
              <a:gdLst/>
              <a:ahLst/>
              <a:rect l="l" t="t" r="r" b="b"/>
              <a:pathLst>
                <a:path w="149" h="131">
                  <a:moveTo>
                    <a:pt x="73" y="0"/>
                  </a:moveTo>
                  <a:lnTo>
                    <a:pt x="0" y="131"/>
                  </a:lnTo>
                  <a:lnTo>
                    <a:pt x="149" y="131"/>
                  </a:lnTo>
                  <a:lnTo>
                    <a:pt x="73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8520120" y="2452680"/>
            <a:ext cx="255600" cy="222120"/>
            <a:chOff x="8520120" y="2452680"/>
            <a:chExt cx="255600" cy="222120"/>
          </a:xfrm>
        </p:grpSpPr>
        <p:sp>
          <p:nvSpPr>
            <p:cNvPr id="967" name=""/>
            <p:cNvSpPr/>
            <p:nvPr/>
          </p:nvSpPr>
          <p:spPr>
            <a:xfrm>
              <a:off x="8520120" y="2452680"/>
              <a:ext cx="255600" cy="222120"/>
            </a:xfrm>
            <a:custGeom>
              <a:avLst/>
              <a:gdLst/>
              <a:ahLst/>
              <a:rect l="l" t="t" r="r" b="b"/>
              <a:pathLst>
                <a:path w="161" h="140">
                  <a:moveTo>
                    <a:pt x="82" y="0"/>
                  </a:moveTo>
                  <a:lnTo>
                    <a:pt x="0" y="140"/>
                  </a:lnTo>
                  <a:lnTo>
                    <a:pt x="161" y="14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520120" y="2452680"/>
              <a:ext cx="255600" cy="222120"/>
            </a:xfrm>
            <a:custGeom>
              <a:avLst/>
              <a:gdLst/>
              <a:ahLst/>
              <a:rect l="l" t="t" r="r" b="b"/>
              <a:pathLst>
                <a:path w="161" h="140">
                  <a:moveTo>
                    <a:pt x="82" y="0"/>
                  </a:moveTo>
                  <a:lnTo>
                    <a:pt x="0" y="140"/>
                  </a:lnTo>
                  <a:lnTo>
                    <a:pt x="161" y="140"/>
                  </a:lnTo>
                  <a:lnTo>
                    <a:pt x="82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4937040" y="2668680"/>
            <a:ext cx="544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8923320" y="2828880"/>
            <a:ext cx="1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8897760" y="2808360"/>
            <a:ext cx="2700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8829720" y="2846520"/>
            <a:ext cx="950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8729640" y="2806560"/>
            <a:ext cx="139680" cy="13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8638920" y="2806560"/>
            <a:ext cx="135000" cy="13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8539200" y="2806560"/>
            <a:ext cx="139680" cy="13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8448480" y="2806560"/>
            <a:ext cx="136440" cy="13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8362800" y="2806560"/>
            <a:ext cx="12888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8362800" y="2806560"/>
            <a:ext cx="2880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417640" y="2798640"/>
            <a:ext cx="27000" cy="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5324040" y="2698920"/>
            <a:ext cx="120600" cy="11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229360" y="2668680"/>
            <a:ext cx="14904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5156280" y="2668680"/>
            <a:ext cx="14904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5062680" y="2668680"/>
            <a:ext cx="15084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4987440" y="2668680"/>
            <a:ext cx="15084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4937040" y="2668680"/>
            <a:ext cx="10656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4937040" y="2668680"/>
            <a:ext cx="3348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4936680" y="2668680"/>
            <a:ext cx="972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37040" y="2668680"/>
            <a:ext cx="554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937040" y="2668680"/>
            <a:ext cx="544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074000" y="3103560"/>
            <a:ext cx="1622160" cy="144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5195520" y="3103560"/>
            <a:ext cx="1569960" cy="144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91200" y="2941560"/>
            <a:ext cx="1440" cy="34776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8669160" y="2941560"/>
            <a:ext cx="1800" cy="3492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191200" y="2995560"/>
            <a:ext cx="206280" cy="212760"/>
          </a:xfrm>
          <a:custGeom>
            <a:avLst/>
            <a:gdLst/>
            <a:ahLst/>
            <a:rect l="l" t="t" r="r" b="b"/>
            <a:pathLst>
              <a:path w="130" h="134">
                <a:moveTo>
                  <a:pt x="109" y="134"/>
                </a:moveTo>
                <a:lnTo>
                  <a:pt x="0" y="68"/>
                </a:lnTo>
                <a:lnTo>
                  <a:pt x="130" y="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8456760" y="2995560"/>
            <a:ext cx="212400" cy="214200"/>
          </a:xfrm>
          <a:custGeom>
            <a:avLst/>
            <a:gdLst/>
            <a:ahLst/>
            <a:rect l="l" t="t" r="r" b="b"/>
            <a:pathLst>
              <a:path w="134" h="135">
                <a:moveTo>
                  <a:pt x="0" y="0"/>
                </a:moveTo>
                <a:lnTo>
                  <a:pt x="134" y="68"/>
                </a:lnTo>
                <a:lnTo>
                  <a:pt x="0" y="135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65880" y="181620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9,59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058160" y="181620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kN/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8352000" y="2801880"/>
            <a:ext cx="591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643080" y="2498760"/>
            <a:ext cx="127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50/150/1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5175360" y="2427120"/>
            <a:ext cx="3485880" cy="19080"/>
            <a:chOff x="5175360" y="2427120"/>
            <a:chExt cx="3485880" cy="19080"/>
          </a:xfrm>
        </p:grpSpPr>
        <p:sp>
          <p:nvSpPr>
            <p:cNvPr id="1001" name=""/>
            <p:cNvSpPr/>
            <p:nvPr/>
          </p:nvSpPr>
          <p:spPr>
            <a:xfrm>
              <a:off x="5175360" y="2427120"/>
              <a:ext cx="3485880" cy="19080"/>
            </a:xfrm>
            <a:custGeom>
              <a:avLst/>
              <a:gdLst/>
              <a:ahLst/>
              <a:rect l="l" t="t" r="r" b="b"/>
              <a:pathLst>
                <a:path w="2196" h="12">
                  <a:moveTo>
                    <a:pt x="6" y="12"/>
                  </a:moveTo>
                  <a:lnTo>
                    <a:pt x="5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2189" y="0"/>
                  </a:lnTo>
                  <a:lnTo>
                    <a:pt x="2190" y="0"/>
                  </a:lnTo>
                  <a:lnTo>
                    <a:pt x="2192" y="1"/>
                  </a:lnTo>
                  <a:lnTo>
                    <a:pt x="2195" y="1"/>
                  </a:lnTo>
                  <a:lnTo>
                    <a:pt x="2196" y="3"/>
                  </a:lnTo>
                  <a:lnTo>
                    <a:pt x="2196" y="4"/>
                  </a:lnTo>
                  <a:lnTo>
                    <a:pt x="2196" y="7"/>
                  </a:lnTo>
                  <a:lnTo>
                    <a:pt x="2196" y="9"/>
                  </a:lnTo>
                  <a:lnTo>
                    <a:pt x="2196" y="12"/>
                  </a:lnTo>
                  <a:lnTo>
                    <a:pt x="2195" y="12"/>
                  </a:lnTo>
                  <a:lnTo>
                    <a:pt x="2192" y="12"/>
                  </a:lnTo>
                  <a:lnTo>
                    <a:pt x="2190" y="12"/>
                  </a:lnTo>
                  <a:lnTo>
                    <a:pt x="2189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75360" y="2427120"/>
              <a:ext cx="3485880" cy="19080"/>
            </a:xfrm>
            <a:custGeom>
              <a:avLst/>
              <a:gdLst/>
              <a:ahLst/>
              <a:rect l="l" t="t" r="r" b="b"/>
              <a:pathLst>
                <a:path w="2196" h="12">
                  <a:moveTo>
                    <a:pt x="6" y="12"/>
                  </a:moveTo>
                  <a:lnTo>
                    <a:pt x="5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2189" y="0"/>
                  </a:lnTo>
                  <a:lnTo>
                    <a:pt x="2190" y="0"/>
                  </a:lnTo>
                  <a:lnTo>
                    <a:pt x="2192" y="1"/>
                  </a:lnTo>
                  <a:lnTo>
                    <a:pt x="2195" y="1"/>
                  </a:lnTo>
                  <a:lnTo>
                    <a:pt x="2196" y="3"/>
                  </a:lnTo>
                  <a:lnTo>
                    <a:pt x="2196" y="4"/>
                  </a:lnTo>
                  <a:lnTo>
                    <a:pt x="2196" y="7"/>
                  </a:lnTo>
                  <a:lnTo>
                    <a:pt x="2196" y="9"/>
                  </a:lnTo>
                  <a:lnTo>
                    <a:pt x="2196" y="12"/>
                  </a:lnTo>
                  <a:lnTo>
                    <a:pt x="2195" y="12"/>
                  </a:lnTo>
                  <a:lnTo>
                    <a:pt x="2192" y="12"/>
                  </a:lnTo>
                  <a:lnTo>
                    <a:pt x="2190" y="12"/>
                  </a:lnTo>
                  <a:lnTo>
                    <a:pt x="2189" y="12"/>
                  </a:lnTo>
                  <a:lnTo>
                    <a:pt x="6" y="12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5324400" y="2084400"/>
            <a:ext cx="180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5240160" y="2316240"/>
            <a:ext cx="165240" cy="82440"/>
            <a:chOff x="5240160" y="2316240"/>
            <a:chExt cx="165240" cy="82440"/>
          </a:xfrm>
        </p:grpSpPr>
        <p:sp>
          <p:nvSpPr>
            <p:cNvPr id="1005" name=""/>
            <p:cNvSpPr/>
            <p:nvPr/>
          </p:nvSpPr>
          <p:spPr>
            <a:xfrm>
              <a:off x="5240160" y="2316240"/>
              <a:ext cx="165240" cy="8244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53" y="52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40160" y="2316240"/>
              <a:ext cx="165240" cy="8244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0" y="0"/>
                  </a:moveTo>
                  <a:lnTo>
                    <a:pt x="53" y="52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5583240" y="2084400"/>
            <a:ext cx="144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818320" y="2084400"/>
            <a:ext cx="144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066000" y="2084400"/>
            <a:ext cx="144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327720" y="2084400"/>
            <a:ext cx="180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567480" y="2084400"/>
            <a:ext cx="144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827760" y="2084400"/>
            <a:ext cx="180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078680" y="2084400"/>
            <a:ext cx="144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323120" y="2084400"/>
            <a:ext cx="144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7566120" y="2084400"/>
            <a:ext cx="144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819920" y="2084400"/>
            <a:ext cx="180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8062920" y="2084400"/>
            <a:ext cx="1440" cy="252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8283600" y="2090880"/>
            <a:ext cx="1440" cy="253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539200" y="2090880"/>
            <a:ext cx="1440" cy="253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116680" y="2384280"/>
            <a:ext cx="115560" cy="112680"/>
            <a:chOff x="5116680" y="2384280"/>
            <a:chExt cx="115560" cy="112680"/>
          </a:xfrm>
        </p:grpSpPr>
        <p:sp>
          <p:nvSpPr>
            <p:cNvPr id="1021" name=""/>
            <p:cNvSpPr/>
            <p:nvPr/>
          </p:nvSpPr>
          <p:spPr>
            <a:xfrm>
              <a:off x="5116680" y="2384280"/>
              <a:ext cx="115560" cy="11268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116680" y="2384280"/>
              <a:ext cx="115560" cy="11268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8597880" y="2379600"/>
            <a:ext cx="115920" cy="112680"/>
            <a:chOff x="8597880" y="2379600"/>
            <a:chExt cx="115920" cy="112680"/>
          </a:xfrm>
        </p:grpSpPr>
        <p:sp>
          <p:nvSpPr>
            <p:cNvPr id="1024" name=""/>
            <p:cNvSpPr/>
            <p:nvPr/>
          </p:nvSpPr>
          <p:spPr>
            <a:xfrm>
              <a:off x="8597880" y="2379600"/>
              <a:ext cx="115920" cy="11268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7880" y="2379600"/>
              <a:ext cx="115920" cy="11268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8518680" y="2684520"/>
            <a:ext cx="115560" cy="111240"/>
            <a:chOff x="8518680" y="2684520"/>
            <a:chExt cx="115560" cy="111240"/>
          </a:xfrm>
        </p:grpSpPr>
        <p:sp>
          <p:nvSpPr>
            <p:cNvPr id="1027" name=""/>
            <p:cNvSpPr/>
            <p:nvPr/>
          </p:nvSpPr>
          <p:spPr>
            <a:xfrm>
              <a:off x="8518680" y="2684520"/>
              <a:ext cx="115560" cy="11124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518680" y="2684520"/>
              <a:ext cx="115560" cy="1112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8690040" y="2687760"/>
            <a:ext cx="117360" cy="112680"/>
            <a:chOff x="8690040" y="2687760"/>
            <a:chExt cx="117360" cy="112680"/>
          </a:xfrm>
        </p:grpSpPr>
        <p:sp>
          <p:nvSpPr>
            <p:cNvPr id="1030" name=""/>
            <p:cNvSpPr/>
            <p:nvPr/>
          </p:nvSpPr>
          <p:spPr>
            <a:xfrm>
              <a:off x="8690040" y="2687760"/>
              <a:ext cx="117360" cy="11268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690040" y="2687760"/>
              <a:ext cx="117360" cy="11268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802560" y="2963880"/>
            <a:ext cx="353880" cy="307800"/>
            <a:chOff x="6802560" y="2963880"/>
            <a:chExt cx="353880" cy="307800"/>
          </a:xfrm>
        </p:grpSpPr>
        <p:sp>
          <p:nvSpPr>
            <p:cNvPr id="1033" name=""/>
            <p:cNvSpPr/>
            <p:nvPr/>
          </p:nvSpPr>
          <p:spPr>
            <a:xfrm>
              <a:off x="6802560" y="2963880"/>
              <a:ext cx="353880" cy="307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802560" y="2963880"/>
              <a:ext cx="353880" cy="307800"/>
            </a:xfrm>
            <a:prstGeom prst="rect">
              <a:avLst/>
            </a:prstGeom>
            <a:noFill/>
            <a:ln cap="rnd"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6807960" y="298764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64880" y="2732040"/>
            <a:ext cx="25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y RHS 250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50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3B78-DB37-41C8-9350-CCE0DC8BD4F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teel beam: strength desig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3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107200" cy="44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5727-2CDF-4696-BA93-7D81CE61870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eel beam: design resistance at 20°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36160" y="4091040"/>
            <a:ext cx="29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ign resistance at 20°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134160" y="4091040"/>
            <a:ext cx="3283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, using fire safety factor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127880" y="4483080"/>
            <a:ext cx="229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 a Class 1 beam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351240" y="4483080"/>
            <a:ext cx="411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ith uniform temperature distribu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351200" y="4483080"/>
            <a:ext cx="14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131480" y="4780080"/>
            <a:ext cx="21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339200" y="4919760"/>
            <a:ext cx="567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i.20.Rd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953000" y="4780080"/>
            <a:ext cx="335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658.000 x 275 =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80,95kN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4394160" y="1790640"/>
            <a:ext cx="4610160" cy="1451160"/>
            <a:chOff x="4394160" y="1790640"/>
            <a:chExt cx="4610160" cy="1451160"/>
          </a:xfrm>
        </p:grpSpPr>
        <p:sp>
          <p:nvSpPr>
            <p:cNvPr id="1049" name=""/>
            <p:cNvSpPr/>
            <p:nvPr/>
          </p:nvSpPr>
          <p:spPr>
            <a:xfrm>
              <a:off x="4394160" y="1790640"/>
              <a:ext cx="4610160" cy="145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394160" y="1790640"/>
              <a:ext cx="4610160" cy="1451160"/>
            </a:xfrm>
            <a:prstGeom prst="rect">
              <a:avLst/>
            </a:prstGeom>
            <a:noFill/>
            <a:ln cap="rnd"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5373720" y="2460600"/>
            <a:ext cx="185760" cy="92160"/>
            <a:chOff x="5373720" y="2460600"/>
            <a:chExt cx="185760" cy="92160"/>
          </a:xfrm>
        </p:grpSpPr>
        <p:sp>
          <p:nvSpPr>
            <p:cNvPr id="1052" name=""/>
            <p:cNvSpPr/>
            <p:nvPr/>
          </p:nvSpPr>
          <p:spPr>
            <a:xfrm>
              <a:off x="5373720" y="24606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7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73720" y="24606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7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5649840" y="2460600"/>
            <a:ext cx="184320" cy="92160"/>
            <a:chOff x="5649840" y="2460600"/>
            <a:chExt cx="184320" cy="92160"/>
          </a:xfrm>
        </p:grpSpPr>
        <p:sp>
          <p:nvSpPr>
            <p:cNvPr id="1055" name=""/>
            <p:cNvSpPr/>
            <p:nvPr/>
          </p:nvSpPr>
          <p:spPr>
            <a:xfrm>
              <a:off x="5649840" y="2460600"/>
              <a:ext cx="18432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9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49840" y="2460600"/>
              <a:ext cx="18432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9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5940360" y="2460600"/>
            <a:ext cx="184320" cy="92160"/>
            <a:chOff x="5940360" y="2460600"/>
            <a:chExt cx="184320" cy="92160"/>
          </a:xfrm>
        </p:grpSpPr>
        <p:sp>
          <p:nvSpPr>
            <p:cNvPr id="1058" name=""/>
            <p:cNvSpPr/>
            <p:nvPr/>
          </p:nvSpPr>
          <p:spPr>
            <a:xfrm>
              <a:off x="5940360" y="2460600"/>
              <a:ext cx="18432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8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940360" y="2460600"/>
              <a:ext cx="18432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8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6208560" y="2460600"/>
            <a:ext cx="182880" cy="92160"/>
            <a:chOff x="6208560" y="2460600"/>
            <a:chExt cx="182880" cy="92160"/>
          </a:xfrm>
        </p:grpSpPr>
        <p:sp>
          <p:nvSpPr>
            <p:cNvPr id="1061" name=""/>
            <p:cNvSpPr/>
            <p:nvPr/>
          </p:nvSpPr>
          <p:spPr>
            <a:xfrm>
              <a:off x="6208560" y="2460600"/>
              <a:ext cx="182880" cy="9216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0"/>
                  </a:moveTo>
                  <a:lnTo>
                    <a:pt x="58" y="58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208560" y="2460600"/>
              <a:ext cx="182880" cy="9216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0"/>
                  </a:moveTo>
                  <a:lnTo>
                    <a:pt x="58" y="58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97640" y="2460600"/>
            <a:ext cx="187200" cy="92160"/>
            <a:chOff x="6497640" y="2460600"/>
            <a:chExt cx="187200" cy="92160"/>
          </a:xfrm>
        </p:grpSpPr>
        <p:sp>
          <p:nvSpPr>
            <p:cNvPr id="1064" name=""/>
            <p:cNvSpPr/>
            <p:nvPr/>
          </p:nvSpPr>
          <p:spPr>
            <a:xfrm>
              <a:off x="6497640" y="2460600"/>
              <a:ext cx="18720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0"/>
                  </a:moveTo>
                  <a:lnTo>
                    <a:pt x="59" y="58"/>
                  </a:lnTo>
                  <a:lnTo>
                    <a:pt x="1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97640" y="2460600"/>
              <a:ext cx="18720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0"/>
                  </a:moveTo>
                  <a:lnTo>
                    <a:pt x="59" y="58"/>
                  </a:lnTo>
                  <a:lnTo>
                    <a:pt x="11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6783480" y="2460600"/>
            <a:ext cx="185760" cy="92160"/>
            <a:chOff x="6783480" y="2460600"/>
            <a:chExt cx="185760" cy="92160"/>
          </a:xfrm>
        </p:grpSpPr>
        <p:sp>
          <p:nvSpPr>
            <p:cNvPr id="1067" name=""/>
            <p:cNvSpPr/>
            <p:nvPr/>
          </p:nvSpPr>
          <p:spPr>
            <a:xfrm>
              <a:off x="6783480" y="24606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6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783480" y="24606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6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7051680" y="2460600"/>
            <a:ext cx="189000" cy="92160"/>
            <a:chOff x="7051680" y="2460600"/>
            <a:chExt cx="189000" cy="92160"/>
          </a:xfrm>
        </p:grpSpPr>
        <p:sp>
          <p:nvSpPr>
            <p:cNvPr id="1070" name=""/>
            <p:cNvSpPr/>
            <p:nvPr/>
          </p:nvSpPr>
          <p:spPr>
            <a:xfrm>
              <a:off x="7051680" y="2460600"/>
              <a:ext cx="189000" cy="92160"/>
            </a:xfrm>
            <a:custGeom>
              <a:avLst/>
              <a:gdLst/>
              <a:ahLst/>
              <a:rect l="l" t="t" r="r" b="b"/>
              <a:pathLst>
                <a:path w="119" h="58">
                  <a:moveTo>
                    <a:pt x="0" y="0"/>
                  </a:moveTo>
                  <a:lnTo>
                    <a:pt x="60" y="58"/>
                  </a:lnTo>
                  <a:lnTo>
                    <a:pt x="1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51680" y="2460600"/>
              <a:ext cx="189000" cy="92160"/>
            </a:xfrm>
            <a:custGeom>
              <a:avLst/>
              <a:gdLst/>
              <a:ahLst/>
              <a:rect l="l" t="t" r="r" b="b"/>
              <a:pathLst>
                <a:path w="119" h="58">
                  <a:moveTo>
                    <a:pt x="0" y="0"/>
                  </a:moveTo>
                  <a:lnTo>
                    <a:pt x="60" y="58"/>
                  </a:lnTo>
                  <a:lnTo>
                    <a:pt x="11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7321680" y="2460600"/>
            <a:ext cx="185760" cy="92160"/>
            <a:chOff x="7321680" y="2460600"/>
            <a:chExt cx="185760" cy="92160"/>
          </a:xfrm>
        </p:grpSpPr>
        <p:sp>
          <p:nvSpPr>
            <p:cNvPr id="1073" name=""/>
            <p:cNvSpPr/>
            <p:nvPr/>
          </p:nvSpPr>
          <p:spPr>
            <a:xfrm>
              <a:off x="7321680" y="24606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60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321680" y="24606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60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7612200" y="2460600"/>
            <a:ext cx="179280" cy="92160"/>
            <a:chOff x="7612200" y="2460600"/>
            <a:chExt cx="179280" cy="92160"/>
          </a:xfrm>
        </p:grpSpPr>
        <p:sp>
          <p:nvSpPr>
            <p:cNvPr id="1076" name=""/>
            <p:cNvSpPr/>
            <p:nvPr/>
          </p:nvSpPr>
          <p:spPr>
            <a:xfrm>
              <a:off x="7612200" y="2460600"/>
              <a:ext cx="179280" cy="9216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0" y="0"/>
                  </a:moveTo>
                  <a:lnTo>
                    <a:pt x="55" y="5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612200" y="2460600"/>
              <a:ext cx="179280" cy="9216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0" y="0"/>
                  </a:moveTo>
                  <a:lnTo>
                    <a:pt x="55" y="5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7875720" y="2460600"/>
            <a:ext cx="187200" cy="92160"/>
            <a:chOff x="7875720" y="2460600"/>
            <a:chExt cx="187200" cy="92160"/>
          </a:xfrm>
        </p:grpSpPr>
        <p:sp>
          <p:nvSpPr>
            <p:cNvPr id="1079" name=""/>
            <p:cNvSpPr/>
            <p:nvPr/>
          </p:nvSpPr>
          <p:spPr>
            <a:xfrm>
              <a:off x="7875720" y="2460600"/>
              <a:ext cx="18720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0"/>
                  </a:moveTo>
                  <a:lnTo>
                    <a:pt x="60" y="58"/>
                  </a:lnTo>
                  <a:lnTo>
                    <a:pt x="1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875720" y="2460600"/>
              <a:ext cx="18720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0"/>
                  </a:moveTo>
                  <a:lnTo>
                    <a:pt x="60" y="58"/>
                  </a:lnTo>
                  <a:lnTo>
                    <a:pt x="11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8126280" y="2470320"/>
            <a:ext cx="181080" cy="93600"/>
            <a:chOff x="8126280" y="2470320"/>
            <a:chExt cx="181080" cy="93600"/>
          </a:xfrm>
        </p:grpSpPr>
        <p:sp>
          <p:nvSpPr>
            <p:cNvPr id="1082" name=""/>
            <p:cNvSpPr/>
            <p:nvPr/>
          </p:nvSpPr>
          <p:spPr>
            <a:xfrm>
              <a:off x="8126280" y="2470320"/>
              <a:ext cx="181080" cy="93600"/>
            </a:xfrm>
            <a:custGeom>
              <a:avLst/>
              <a:gdLst/>
              <a:ahLst/>
              <a:rect l="l" t="t" r="r" b="b"/>
              <a:pathLst>
                <a:path w="114" h="59">
                  <a:moveTo>
                    <a:pt x="0" y="0"/>
                  </a:moveTo>
                  <a:lnTo>
                    <a:pt x="56" y="59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126280" y="2470320"/>
              <a:ext cx="181080" cy="93600"/>
            </a:xfrm>
            <a:custGeom>
              <a:avLst/>
              <a:gdLst/>
              <a:ahLst/>
              <a:rect l="l" t="t" r="r" b="b"/>
              <a:pathLst>
                <a:path w="114" h="59">
                  <a:moveTo>
                    <a:pt x="0" y="0"/>
                  </a:moveTo>
                  <a:lnTo>
                    <a:pt x="56" y="59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8412120" y="2470320"/>
            <a:ext cx="184320" cy="93600"/>
            <a:chOff x="8412120" y="2470320"/>
            <a:chExt cx="184320" cy="93600"/>
          </a:xfrm>
        </p:grpSpPr>
        <p:sp>
          <p:nvSpPr>
            <p:cNvPr id="1085" name=""/>
            <p:cNvSpPr/>
            <p:nvPr/>
          </p:nvSpPr>
          <p:spPr>
            <a:xfrm>
              <a:off x="8412120" y="2470320"/>
              <a:ext cx="184320" cy="93600"/>
            </a:xfrm>
            <a:custGeom>
              <a:avLst/>
              <a:gdLst/>
              <a:ahLst/>
              <a:rect l="l" t="t" r="r" b="b"/>
              <a:pathLst>
                <a:path w="116" h="59">
                  <a:moveTo>
                    <a:pt x="0" y="0"/>
                  </a:moveTo>
                  <a:lnTo>
                    <a:pt x="57" y="59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412120" y="2470320"/>
              <a:ext cx="184320" cy="93600"/>
            </a:xfrm>
            <a:custGeom>
              <a:avLst/>
              <a:gdLst/>
              <a:ahLst/>
              <a:rect l="l" t="t" r="r" b="b"/>
              <a:pathLst>
                <a:path w="116" h="59">
                  <a:moveTo>
                    <a:pt x="0" y="0"/>
                  </a:moveTo>
                  <a:lnTo>
                    <a:pt x="57" y="59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5106960" y="2479680"/>
            <a:ext cx="181080" cy="92160"/>
            <a:chOff x="5106960" y="2479680"/>
            <a:chExt cx="181080" cy="92160"/>
          </a:xfrm>
        </p:grpSpPr>
        <p:sp>
          <p:nvSpPr>
            <p:cNvPr id="1088" name=""/>
            <p:cNvSpPr/>
            <p:nvPr/>
          </p:nvSpPr>
          <p:spPr>
            <a:xfrm>
              <a:off x="5106960" y="2479680"/>
              <a:ext cx="181080" cy="9216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0" y="0"/>
                  </a:moveTo>
                  <a:lnTo>
                    <a:pt x="59" y="58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106960" y="2479680"/>
              <a:ext cx="181080" cy="9216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0" y="0"/>
                  </a:moveTo>
                  <a:lnTo>
                    <a:pt x="59" y="58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90" name=""/>
          <p:cNvSpPr/>
          <p:nvPr/>
        </p:nvSpPr>
        <p:spPr>
          <a:xfrm flipV="1">
            <a:off x="4748040" y="2624040"/>
            <a:ext cx="1800" cy="77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4618080" y="2641680"/>
            <a:ext cx="263520" cy="230040"/>
            <a:chOff x="4618080" y="2641680"/>
            <a:chExt cx="263520" cy="230040"/>
          </a:xfrm>
        </p:grpSpPr>
        <p:sp>
          <p:nvSpPr>
            <p:cNvPr id="1092" name=""/>
            <p:cNvSpPr/>
            <p:nvPr/>
          </p:nvSpPr>
          <p:spPr>
            <a:xfrm>
              <a:off x="4618080" y="2641680"/>
              <a:ext cx="263520" cy="230040"/>
            </a:xfrm>
            <a:custGeom>
              <a:avLst/>
              <a:gdLst/>
              <a:ahLst/>
              <a:rect l="l" t="t" r="r" b="b"/>
              <a:pathLst>
                <a:path w="166" h="145">
                  <a:moveTo>
                    <a:pt x="82" y="0"/>
                  </a:moveTo>
                  <a:lnTo>
                    <a:pt x="0" y="145"/>
                  </a:lnTo>
                  <a:lnTo>
                    <a:pt x="166" y="145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18080" y="2641680"/>
              <a:ext cx="263520" cy="230040"/>
            </a:xfrm>
            <a:custGeom>
              <a:avLst/>
              <a:gdLst/>
              <a:ahLst/>
              <a:rect l="l" t="t" r="r" b="b"/>
              <a:pathLst>
                <a:path w="166" h="145">
                  <a:moveTo>
                    <a:pt x="82" y="0"/>
                  </a:moveTo>
                  <a:lnTo>
                    <a:pt x="0" y="145"/>
                  </a:lnTo>
                  <a:lnTo>
                    <a:pt x="166" y="145"/>
                  </a:lnTo>
                  <a:lnTo>
                    <a:pt x="82" y="0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8481960" y="2630520"/>
            <a:ext cx="285840" cy="249120"/>
            <a:chOff x="8481960" y="2630520"/>
            <a:chExt cx="285840" cy="249120"/>
          </a:xfrm>
        </p:grpSpPr>
        <p:sp>
          <p:nvSpPr>
            <p:cNvPr id="1095" name=""/>
            <p:cNvSpPr/>
            <p:nvPr/>
          </p:nvSpPr>
          <p:spPr>
            <a:xfrm>
              <a:off x="8481960" y="2630520"/>
              <a:ext cx="285840" cy="249120"/>
            </a:xfrm>
            <a:custGeom>
              <a:avLst/>
              <a:gdLst/>
              <a:ahLst/>
              <a:rect l="l" t="t" r="r" b="b"/>
              <a:pathLst>
                <a:path w="180" h="157">
                  <a:moveTo>
                    <a:pt x="91" y="0"/>
                  </a:moveTo>
                  <a:lnTo>
                    <a:pt x="0" y="157"/>
                  </a:lnTo>
                  <a:lnTo>
                    <a:pt x="180" y="15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481960" y="2630520"/>
              <a:ext cx="285840" cy="249120"/>
            </a:xfrm>
            <a:custGeom>
              <a:avLst/>
              <a:gdLst/>
              <a:ahLst/>
              <a:rect l="l" t="t" r="r" b="b"/>
              <a:pathLst>
                <a:path w="180" h="157">
                  <a:moveTo>
                    <a:pt x="91" y="0"/>
                  </a:moveTo>
                  <a:lnTo>
                    <a:pt x="0" y="157"/>
                  </a:lnTo>
                  <a:lnTo>
                    <a:pt x="180" y="157"/>
                  </a:lnTo>
                  <a:lnTo>
                    <a:pt x="91" y="0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4481640" y="2871720"/>
            <a:ext cx="6080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8930880" y="3178080"/>
            <a:ext cx="324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8901000" y="3152880"/>
            <a:ext cx="33480" cy="25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8826480" y="3070080"/>
            <a:ext cx="108000" cy="108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8714880" y="3025800"/>
            <a:ext cx="155880" cy="152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8613360" y="3025800"/>
            <a:ext cx="152280" cy="152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8502120" y="3025800"/>
            <a:ext cx="155880" cy="152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8400960" y="3025800"/>
            <a:ext cx="154080" cy="152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8305560" y="3025800"/>
            <a:ext cx="142920" cy="141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8305920" y="3025800"/>
            <a:ext cx="33120" cy="36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5018040" y="3017880"/>
            <a:ext cx="30240" cy="19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912920" y="2906640"/>
            <a:ext cx="135000" cy="130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808160" y="2871720"/>
            <a:ext cx="166680" cy="165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4726080" y="2871360"/>
            <a:ext cx="166680" cy="165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4621320" y="2871360"/>
            <a:ext cx="168120" cy="165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4538160" y="2871720"/>
            <a:ext cx="166680" cy="165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4481640" y="2871720"/>
            <a:ext cx="117360" cy="119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4481640" y="2871360"/>
            <a:ext cx="37800" cy="34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481280" y="2871720"/>
            <a:ext cx="11160" cy="11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481640" y="2871720"/>
            <a:ext cx="6174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481640" y="2871720"/>
            <a:ext cx="6080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292960" y="3021120"/>
            <a:ext cx="6620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4748040" y="2602080"/>
            <a:ext cx="3891240" cy="23760"/>
            <a:chOff x="4748040" y="2602080"/>
            <a:chExt cx="3891240" cy="23760"/>
          </a:xfrm>
        </p:grpSpPr>
        <p:sp>
          <p:nvSpPr>
            <p:cNvPr id="1120" name=""/>
            <p:cNvSpPr/>
            <p:nvPr/>
          </p:nvSpPr>
          <p:spPr>
            <a:xfrm>
              <a:off x="4748040" y="2602080"/>
              <a:ext cx="3891240" cy="23760"/>
            </a:xfrm>
            <a:custGeom>
              <a:avLst/>
              <a:gdLst/>
              <a:ahLst/>
              <a:rect l="l" t="t" r="r" b="b"/>
              <a:pathLst>
                <a:path w="2451" h="15">
                  <a:moveTo>
                    <a:pt x="6" y="15"/>
                  </a:move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2443" y="0"/>
                  </a:lnTo>
                  <a:lnTo>
                    <a:pt x="2444" y="0"/>
                  </a:lnTo>
                  <a:lnTo>
                    <a:pt x="2446" y="1"/>
                  </a:lnTo>
                  <a:lnTo>
                    <a:pt x="2450" y="1"/>
                  </a:lnTo>
                  <a:lnTo>
                    <a:pt x="2451" y="4"/>
                  </a:lnTo>
                  <a:lnTo>
                    <a:pt x="2451" y="5"/>
                  </a:lnTo>
                  <a:lnTo>
                    <a:pt x="2451" y="8"/>
                  </a:lnTo>
                  <a:lnTo>
                    <a:pt x="2451" y="10"/>
                  </a:lnTo>
                  <a:lnTo>
                    <a:pt x="2451" y="14"/>
                  </a:lnTo>
                  <a:lnTo>
                    <a:pt x="2450" y="14"/>
                  </a:lnTo>
                  <a:lnTo>
                    <a:pt x="2446" y="15"/>
                  </a:lnTo>
                  <a:lnTo>
                    <a:pt x="2444" y="15"/>
                  </a:lnTo>
                  <a:lnTo>
                    <a:pt x="2443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748040" y="2602080"/>
              <a:ext cx="3891240" cy="23760"/>
            </a:xfrm>
            <a:custGeom>
              <a:avLst/>
              <a:gdLst/>
              <a:ahLst/>
              <a:rect l="l" t="t" r="r" b="b"/>
              <a:pathLst>
                <a:path w="2451" h="15">
                  <a:moveTo>
                    <a:pt x="6" y="15"/>
                  </a:move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2443" y="0"/>
                  </a:lnTo>
                  <a:lnTo>
                    <a:pt x="2444" y="0"/>
                  </a:lnTo>
                  <a:lnTo>
                    <a:pt x="2446" y="1"/>
                  </a:lnTo>
                  <a:lnTo>
                    <a:pt x="2450" y="1"/>
                  </a:lnTo>
                  <a:lnTo>
                    <a:pt x="2451" y="4"/>
                  </a:lnTo>
                  <a:lnTo>
                    <a:pt x="2451" y="5"/>
                  </a:lnTo>
                  <a:lnTo>
                    <a:pt x="2451" y="8"/>
                  </a:lnTo>
                  <a:lnTo>
                    <a:pt x="2451" y="10"/>
                  </a:lnTo>
                  <a:lnTo>
                    <a:pt x="2451" y="14"/>
                  </a:lnTo>
                  <a:lnTo>
                    <a:pt x="2450" y="14"/>
                  </a:lnTo>
                  <a:lnTo>
                    <a:pt x="2446" y="15"/>
                  </a:lnTo>
                  <a:lnTo>
                    <a:pt x="2444" y="15"/>
                  </a:lnTo>
                  <a:lnTo>
                    <a:pt x="2443" y="15"/>
                  </a:lnTo>
                  <a:lnTo>
                    <a:pt x="6" y="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491328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4819680" y="2479680"/>
            <a:ext cx="183960" cy="92160"/>
            <a:chOff x="4819680" y="2479680"/>
            <a:chExt cx="183960" cy="92160"/>
          </a:xfrm>
        </p:grpSpPr>
        <p:sp>
          <p:nvSpPr>
            <p:cNvPr id="1124" name=""/>
            <p:cNvSpPr/>
            <p:nvPr/>
          </p:nvSpPr>
          <p:spPr>
            <a:xfrm>
              <a:off x="4819680" y="2479680"/>
              <a:ext cx="18396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9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819680" y="2479680"/>
              <a:ext cx="18396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9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26" name=""/>
          <p:cNvSpPr/>
          <p:nvPr/>
        </p:nvSpPr>
        <p:spPr>
          <a:xfrm>
            <a:off x="5202360" y="2219400"/>
            <a:ext cx="144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46408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74344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03396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30072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59124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872400" y="2219400"/>
            <a:ext cx="144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147080" y="2219400"/>
            <a:ext cx="144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41672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69932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797076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8215200" y="2227320"/>
            <a:ext cx="1800" cy="28404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8502480" y="2227320"/>
            <a:ext cx="1800" cy="28404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4681440" y="2556000"/>
            <a:ext cx="131760" cy="125280"/>
            <a:chOff x="4681440" y="2556000"/>
            <a:chExt cx="131760" cy="125280"/>
          </a:xfrm>
        </p:grpSpPr>
        <p:sp>
          <p:nvSpPr>
            <p:cNvPr id="1140" name=""/>
            <p:cNvSpPr/>
            <p:nvPr/>
          </p:nvSpPr>
          <p:spPr>
            <a:xfrm>
              <a:off x="4681440" y="2556000"/>
              <a:ext cx="131760" cy="12528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681440" y="2556000"/>
              <a:ext cx="131760" cy="12528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8566200" y="2549520"/>
            <a:ext cx="131760" cy="127080"/>
            <a:chOff x="8566200" y="2549520"/>
            <a:chExt cx="131760" cy="127080"/>
          </a:xfrm>
        </p:grpSpPr>
        <p:sp>
          <p:nvSpPr>
            <p:cNvPr id="1143" name=""/>
            <p:cNvSpPr/>
            <p:nvPr/>
          </p:nvSpPr>
          <p:spPr>
            <a:xfrm>
              <a:off x="8566200" y="2549520"/>
              <a:ext cx="131760" cy="12708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566200" y="2549520"/>
              <a:ext cx="131760" cy="12708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8478720" y="2887560"/>
            <a:ext cx="131760" cy="127080"/>
            <a:chOff x="8478720" y="2887560"/>
            <a:chExt cx="131760" cy="127080"/>
          </a:xfrm>
        </p:grpSpPr>
        <p:sp>
          <p:nvSpPr>
            <p:cNvPr id="1146" name=""/>
            <p:cNvSpPr/>
            <p:nvPr/>
          </p:nvSpPr>
          <p:spPr>
            <a:xfrm>
              <a:off x="8478720" y="2887560"/>
              <a:ext cx="131760" cy="12708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478720" y="2887560"/>
              <a:ext cx="131760" cy="12708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8670960" y="2892600"/>
            <a:ext cx="131760" cy="126720"/>
            <a:chOff x="8670960" y="2892600"/>
            <a:chExt cx="131760" cy="126720"/>
          </a:xfrm>
        </p:grpSpPr>
        <p:sp>
          <p:nvSpPr>
            <p:cNvPr id="1149" name=""/>
            <p:cNvSpPr/>
            <p:nvPr/>
          </p:nvSpPr>
          <p:spPr>
            <a:xfrm>
              <a:off x="8670960" y="2892600"/>
              <a:ext cx="131760" cy="12672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670960" y="2892600"/>
              <a:ext cx="131760" cy="12672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5167440" y="2657520"/>
            <a:ext cx="237960" cy="465120"/>
            <a:chOff x="5167440" y="2657520"/>
            <a:chExt cx="237960" cy="465120"/>
          </a:xfrm>
        </p:grpSpPr>
        <p:sp>
          <p:nvSpPr>
            <p:cNvPr id="1152" name=""/>
            <p:cNvSpPr/>
            <p:nvPr/>
          </p:nvSpPr>
          <p:spPr>
            <a:xfrm>
              <a:off x="5167440" y="2657520"/>
              <a:ext cx="237960" cy="465120"/>
            </a:xfrm>
            <a:custGeom>
              <a:avLst/>
              <a:gdLst/>
              <a:ahLst/>
              <a:rect l="l" t="t" r="r" b="b"/>
              <a:pathLst>
                <a:path w="150" h="293">
                  <a:moveTo>
                    <a:pt x="114" y="293"/>
                  </a:moveTo>
                  <a:lnTo>
                    <a:pt x="58" y="201"/>
                  </a:lnTo>
                  <a:lnTo>
                    <a:pt x="0" y="51"/>
                  </a:lnTo>
                  <a:lnTo>
                    <a:pt x="72" y="0"/>
                  </a:lnTo>
                  <a:lnTo>
                    <a:pt x="64" y="72"/>
                  </a:lnTo>
                  <a:lnTo>
                    <a:pt x="150" y="194"/>
                  </a:lnTo>
                  <a:lnTo>
                    <a:pt x="114" y="29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167440" y="2657520"/>
              <a:ext cx="237960" cy="465120"/>
            </a:xfrm>
            <a:custGeom>
              <a:avLst/>
              <a:gdLst/>
              <a:ahLst/>
              <a:rect l="l" t="t" r="r" b="b"/>
              <a:pathLst>
                <a:path w="150" h="293">
                  <a:moveTo>
                    <a:pt x="114" y="293"/>
                  </a:moveTo>
                  <a:lnTo>
                    <a:pt x="58" y="201"/>
                  </a:lnTo>
                  <a:lnTo>
                    <a:pt x="0" y="51"/>
                  </a:lnTo>
                  <a:lnTo>
                    <a:pt x="72" y="0"/>
                  </a:lnTo>
                  <a:lnTo>
                    <a:pt x="64" y="72"/>
                  </a:lnTo>
                  <a:lnTo>
                    <a:pt x="150" y="194"/>
                  </a:lnTo>
                  <a:lnTo>
                    <a:pt x="114" y="293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5405400" y="2681280"/>
            <a:ext cx="228600" cy="431640"/>
            <a:chOff x="5405400" y="2681280"/>
            <a:chExt cx="228600" cy="431640"/>
          </a:xfrm>
        </p:grpSpPr>
        <p:sp>
          <p:nvSpPr>
            <p:cNvPr id="1155" name=""/>
            <p:cNvSpPr/>
            <p:nvPr/>
          </p:nvSpPr>
          <p:spPr>
            <a:xfrm>
              <a:off x="5405400" y="2681280"/>
              <a:ext cx="228600" cy="431640"/>
            </a:xfrm>
            <a:custGeom>
              <a:avLst/>
              <a:gdLst/>
              <a:ahLst/>
              <a:rect l="l" t="t" r="r" b="b"/>
              <a:pathLst>
                <a:path w="144" h="272">
                  <a:moveTo>
                    <a:pt x="51" y="272"/>
                  </a:moveTo>
                  <a:lnTo>
                    <a:pt x="36" y="194"/>
                  </a:lnTo>
                  <a:lnTo>
                    <a:pt x="57" y="107"/>
                  </a:lnTo>
                  <a:lnTo>
                    <a:pt x="0" y="0"/>
                  </a:lnTo>
                  <a:lnTo>
                    <a:pt x="115" y="21"/>
                  </a:lnTo>
                  <a:lnTo>
                    <a:pt x="144" y="87"/>
                  </a:lnTo>
                  <a:lnTo>
                    <a:pt x="51" y="27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405400" y="2681280"/>
              <a:ext cx="228600" cy="431640"/>
            </a:xfrm>
            <a:custGeom>
              <a:avLst/>
              <a:gdLst/>
              <a:ahLst/>
              <a:rect l="l" t="t" r="r" b="b"/>
              <a:pathLst>
                <a:path w="144" h="272">
                  <a:moveTo>
                    <a:pt x="51" y="272"/>
                  </a:moveTo>
                  <a:lnTo>
                    <a:pt x="36" y="194"/>
                  </a:lnTo>
                  <a:lnTo>
                    <a:pt x="57" y="107"/>
                  </a:lnTo>
                  <a:lnTo>
                    <a:pt x="0" y="0"/>
                  </a:lnTo>
                  <a:lnTo>
                    <a:pt x="115" y="21"/>
                  </a:lnTo>
                  <a:lnTo>
                    <a:pt x="144" y="87"/>
                  </a:lnTo>
                  <a:lnTo>
                    <a:pt x="51" y="272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5691240" y="2693880"/>
            <a:ext cx="236520" cy="247680"/>
            <a:chOff x="5691240" y="2693880"/>
            <a:chExt cx="236520" cy="247680"/>
          </a:xfrm>
        </p:grpSpPr>
        <p:sp>
          <p:nvSpPr>
            <p:cNvPr id="1158" name=""/>
            <p:cNvSpPr/>
            <p:nvPr/>
          </p:nvSpPr>
          <p:spPr>
            <a:xfrm>
              <a:off x="5691240" y="2693880"/>
              <a:ext cx="236520" cy="247680"/>
            </a:xfrm>
            <a:custGeom>
              <a:avLst/>
              <a:gdLst/>
              <a:ahLst/>
              <a:rect l="l" t="t" r="r" b="b"/>
              <a:pathLst>
                <a:path w="149" h="156">
                  <a:moveTo>
                    <a:pt x="35" y="0"/>
                  </a:moveTo>
                  <a:lnTo>
                    <a:pt x="0" y="92"/>
                  </a:lnTo>
                  <a:lnTo>
                    <a:pt x="149" y="156"/>
                  </a:lnTo>
                  <a:lnTo>
                    <a:pt x="149" y="12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691240" y="2693880"/>
              <a:ext cx="236520" cy="247680"/>
            </a:xfrm>
            <a:custGeom>
              <a:avLst/>
              <a:gdLst/>
              <a:ahLst/>
              <a:rect l="l" t="t" r="r" b="b"/>
              <a:pathLst>
                <a:path w="149" h="156">
                  <a:moveTo>
                    <a:pt x="35" y="0"/>
                  </a:moveTo>
                  <a:lnTo>
                    <a:pt x="0" y="92"/>
                  </a:lnTo>
                  <a:lnTo>
                    <a:pt x="149" y="156"/>
                  </a:lnTo>
                  <a:lnTo>
                    <a:pt x="149" y="120"/>
                  </a:lnTo>
                  <a:lnTo>
                    <a:pt x="35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665680" y="2921040"/>
            <a:ext cx="227160" cy="191880"/>
            <a:chOff x="5665680" y="2921040"/>
            <a:chExt cx="227160" cy="191880"/>
          </a:xfrm>
        </p:grpSpPr>
        <p:sp>
          <p:nvSpPr>
            <p:cNvPr id="1161" name=""/>
            <p:cNvSpPr/>
            <p:nvPr/>
          </p:nvSpPr>
          <p:spPr>
            <a:xfrm>
              <a:off x="5665680" y="2921040"/>
              <a:ext cx="227160" cy="19188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0" y="121"/>
                  </a:moveTo>
                  <a:lnTo>
                    <a:pt x="44" y="49"/>
                  </a:lnTo>
                  <a:lnTo>
                    <a:pt x="22" y="0"/>
                  </a:lnTo>
                  <a:lnTo>
                    <a:pt x="143" y="5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65680" y="2921040"/>
              <a:ext cx="227160" cy="19188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0" y="121"/>
                  </a:moveTo>
                  <a:lnTo>
                    <a:pt x="44" y="49"/>
                  </a:lnTo>
                  <a:lnTo>
                    <a:pt x="22" y="0"/>
                  </a:lnTo>
                  <a:lnTo>
                    <a:pt x="143" y="56"/>
                  </a:lnTo>
                  <a:lnTo>
                    <a:pt x="0" y="121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6006960" y="2670120"/>
            <a:ext cx="444600" cy="432000"/>
            <a:chOff x="6006960" y="2670120"/>
            <a:chExt cx="444600" cy="432000"/>
          </a:xfrm>
        </p:grpSpPr>
        <p:sp>
          <p:nvSpPr>
            <p:cNvPr id="1164" name=""/>
            <p:cNvSpPr/>
            <p:nvPr/>
          </p:nvSpPr>
          <p:spPr>
            <a:xfrm>
              <a:off x="6006960" y="2670120"/>
              <a:ext cx="444600" cy="432000"/>
            </a:xfrm>
            <a:custGeom>
              <a:avLst/>
              <a:gdLst/>
              <a:ahLst/>
              <a:rect l="l" t="t" r="r" b="b"/>
              <a:pathLst>
                <a:path w="280" h="272">
                  <a:moveTo>
                    <a:pt x="29" y="272"/>
                  </a:moveTo>
                  <a:lnTo>
                    <a:pt x="7" y="201"/>
                  </a:lnTo>
                  <a:lnTo>
                    <a:pt x="0" y="79"/>
                  </a:lnTo>
                  <a:lnTo>
                    <a:pt x="86" y="35"/>
                  </a:lnTo>
                  <a:lnTo>
                    <a:pt x="143" y="0"/>
                  </a:lnTo>
                  <a:lnTo>
                    <a:pt x="79" y="114"/>
                  </a:lnTo>
                  <a:lnTo>
                    <a:pt x="100" y="172"/>
                  </a:lnTo>
                  <a:lnTo>
                    <a:pt x="172" y="143"/>
                  </a:lnTo>
                  <a:lnTo>
                    <a:pt x="186" y="79"/>
                  </a:lnTo>
                  <a:lnTo>
                    <a:pt x="194" y="7"/>
                  </a:lnTo>
                  <a:lnTo>
                    <a:pt x="280" y="71"/>
                  </a:lnTo>
                  <a:lnTo>
                    <a:pt x="222" y="150"/>
                  </a:lnTo>
                  <a:lnTo>
                    <a:pt x="172" y="222"/>
                  </a:lnTo>
                  <a:lnTo>
                    <a:pt x="29" y="27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006960" y="2670120"/>
              <a:ext cx="444600" cy="432000"/>
            </a:xfrm>
            <a:custGeom>
              <a:avLst/>
              <a:gdLst/>
              <a:ahLst/>
              <a:rect l="l" t="t" r="r" b="b"/>
              <a:pathLst>
                <a:path w="280" h="272">
                  <a:moveTo>
                    <a:pt x="29" y="272"/>
                  </a:moveTo>
                  <a:lnTo>
                    <a:pt x="7" y="201"/>
                  </a:lnTo>
                  <a:lnTo>
                    <a:pt x="0" y="79"/>
                  </a:lnTo>
                  <a:lnTo>
                    <a:pt x="86" y="35"/>
                  </a:lnTo>
                  <a:lnTo>
                    <a:pt x="143" y="0"/>
                  </a:lnTo>
                  <a:lnTo>
                    <a:pt x="79" y="114"/>
                  </a:lnTo>
                  <a:lnTo>
                    <a:pt x="100" y="172"/>
                  </a:lnTo>
                  <a:lnTo>
                    <a:pt x="172" y="143"/>
                  </a:lnTo>
                  <a:lnTo>
                    <a:pt x="186" y="79"/>
                  </a:lnTo>
                  <a:lnTo>
                    <a:pt x="194" y="7"/>
                  </a:lnTo>
                  <a:lnTo>
                    <a:pt x="280" y="71"/>
                  </a:lnTo>
                  <a:lnTo>
                    <a:pt x="222" y="150"/>
                  </a:lnTo>
                  <a:lnTo>
                    <a:pt x="172" y="222"/>
                  </a:lnTo>
                  <a:lnTo>
                    <a:pt x="29" y="272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496200" y="2725560"/>
            <a:ext cx="372960" cy="365400"/>
            <a:chOff x="6496200" y="2725560"/>
            <a:chExt cx="372960" cy="365400"/>
          </a:xfrm>
        </p:grpSpPr>
        <p:sp>
          <p:nvSpPr>
            <p:cNvPr id="1167" name=""/>
            <p:cNvSpPr/>
            <p:nvPr/>
          </p:nvSpPr>
          <p:spPr>
            <a:xfrm>
              <a:off x="6496200" y="2725560"/>
              <a:ext cx="372960" cy="365400"/>
            </a:xfrm>
            <a:custGeom>
              <a:avLst/>
              <a:gdLst/>
              <a:ahLst/>
              <a:rect l="l" t="t" r="r" b="b"/>
              <a:pathLst>
                <a:path w="235" h="230">
                  <a:moveTo>
                    <a:pt x="0" y="0"/>
                  </a:moveTo>
                  <a:lnTo>
                    <a:pt x="57" y="93"/>
                  </a:lnTo>
                  <a:lnTo>
                    <a:pt x="28" y="179"/>
                  </a:lnTo>
                  <a:lnTo>
                    <a:pt x="115" y="230"/>
                  </a:lnTo>
                  <a:lnTo>
                    <a:pt x="235" y="230"/>
                  </a:lnTo>
                  <a:lnTo>
                    <a:pt x="164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496200" y="2725560"/>
              <a:ext cx="372960" cy="365400"/>
            </a:xfrm>
            <a:custGeom>
              <a:avLst/>
              <a:gdLst/>
              <a:ahLst/>
              <a:rect l="l" t="t" r="r" b="b"/>
              <a:pathLst>
                <a:path w="235" h="230">
                  <a:moveTo>
                    <a:pt x="0" y="0"/>
                  </a:moveTo>
                  <a:lnTo>
                    <a:pt x="57" y="93"/>
                  </a:lnTo>
                  <a:lnTo>
                    <a:pt x="28" y="179"/>
                  </a:lnTo>
                  <a:lnTo>
                    <a:pt x="115" y="230"/>
                  </a:lnTo>
                  <a:lnTo>
                    <a:pt x="235" y="230"/>
                  </a:lnTo>
                  <a:lnTo>
                    <a:pt x="164" y="143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6848640" y="2714760"/>
            <a:ext cx="328320" cy="363240"/>
            <a:chOff x="6848640" y="2714760"/>
            <a:chExt cx="328320" cy="363240"/>
          </a:xfrm>
        </p:grpSpPr>
        <p:sp>
          <p:nvSpPr>
            <p:cNvPr id="1170" name=""/>
            <p:cNvSpPr/>
            <p:nvPr/>
          </p:nvSpPr>
          <p:spPr>
            <a:xfrm>
              <a:off x="6848640" y="2714760"/>
              <a:ext cx="328320" cy="363240"/>
            </a:xfrm>
            <a:custGeom>
              <a:avLst/>
              <a:gdLst/>
              <a:ahLst/>
              <a:rect l="l" t="t" r="r" b="b"/>
              <a:pathLst>
                <a:path w="207" h="229">
                  <a:moveTo>
                    <a:pt x="21" y="0"/>
                  </a:moveTo>
                  <a:lnTo>
                    <a:pt x="0" y="86"/>
                  </a:lnTo>
                  <a:lnTo>
                    <a:pt x="92" y="194"/>
                  </a:lnTo>
                  <a:lnTo>
                    <a:pt x="42" y="215"/>
                  </a:lnTo>
                  <a:lnTo>
                    <a:pt x="207" y="229"/>
                  </a:lnTo>
                  <a:lnTo>
                    <a:pt x="120" y="7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848640" y="2714760"/>
              <a:ext cx="328320" cy="363240"/>
            </a:xfrm>
            <a:custGeom>
              <a:avLst/>
              <a:gdLst/>
              <a:ahLst/>
              <a:rect l="l" t="t" r="r" b="b"/>
              <a:pathLst>
                <a:path w="207" h="229">
                  <a:moveTo>
                    <a:pt x="21" y="0"/>
                  </a:moveTo>
                  <a:lnTo>
                    <a:pt x="0" y="86"/>
                  </a:lnTo>
                  <a:lnTo>
                    <a:pt x="92" y="194"/>
                  </a:lnTo>
                  <a:lnTo>
                    <a:pt x="42" y="215"/>
                  </a:lnTo>
                  <a:lnTo>
                    <a:pt x="207" y="229"/>
                  </a:lnTo>
                  <a:lnTo>
                    <a:pt x="120" y="79"/>
                  </a:lnTo>
                  <a:lnTo>
                    <a:pt x="21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7164360" y="2738520"/>
            <a:ext cx="149400" cy="339480"/>
            <a:chOff x="7164360" y="2738520"/>
            <a:chExt cx="149400" cy="339480"/>
          </a:xfrm>
        </p:grpSpPr>
        <p:sp>
          <p:nvSpPr>
            <p:cNvPr id="1173" name=""/>
            <p:cNvSpPr/>
            <p:nvPr/>
          </p:nvSpPr>
          <p:spPr>
            <a:xfrm>
              <a:off x="7164360" y="2738520"/>
              <a:ext cx="149400" cy="339480"/>
            </a:xfrm>
            <a:custGeom>
              <a:avLst/>
              <a:gdLst/>
              <a:ahLst/>
              <a:rect l="l" t="t" r="r" b="b"/>
              <a:pathLst>
                <a:path w="94" h="214">
                  <a:moveTo>
                    <a:pt x="94" y="0"/>
                  </a:moveTo>
                  <a:lnTo>
                    <a:pt x="0" y="100"/>
                  </a:lnTo>
                  <a:lnTo>
                    <a:pt x="51" y="214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4360" y="2738520"/>
              <a:ext cx="149400" cy="339480"/>
            </a:xfrm>
            <a:custGeom>
              <a:avLst/>
              <a:gdLst/>
              <a:ahLst/>
              <a:rect l="l" t="t" r="r" b="b"/>
              <a:pathLst>
                <a:path w="94" h="214">
                  <a:moveTo>
                    <a:pt x="94" y="0"/>
                  </a:moveTo>
                  <a:lnTo>
                    <a:pt x="0" y="100"/>
                  </a:lnTo>
                  <a:lnTo>
                    <a:pt x="51" y="214"/>
                  </a:lnTo>
                  <a:lnTo>
                    <a:pt x="94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7346880" y="2714760"/>
            <a:ext cx="160560" cy="250560"/>
            <a:chOff x="7346880" y="2714760"/>
            <a:chExt cx="160560" cy="250560"/>
          </a:xfrm>
        </p:grpSpPr>
        <p:sp>
          <p:nvSpPr>
            <p:cNvPr id="1176" name=""/>
            <p:cNvSpPr/>
            <p:nvPr/>
          </p:nvSpPr>
          <p:spPr>
            <a:xfrm>
              <a:off x="7346880" y="2714760"/>
              <a:ext cx="160560" cy="250560"/>
            </a:xfrm>
            <a:custGeom>
              <a:avLst/>
              <a:gdLst/>
              <a:ahLst/>
              <a:rect l="l" t="t" r="r" b="b"/>
              <a:pathLst>
                <a:path w="101" h="158">
                  <a:moveTo>
                    <a:pt x="101" y="0"/>
                  </a:moveTo>
                  <a:lnTo>
                    <a:pt x="0" y="79"/>
                  </a:lnTo>
                  <a:lnTo>
                    <a:pt x="8" y="158"/>
                  </a:lnTo>
                  <a:lnTo>
                    <a:pt x="86" y="10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346880" y="2714760"/>
              <a:ext cx="160560" cy="250560"/>
            </a:xfrm>
            <a:custGeom>
              <a:avLst/>
              <a:gdLst/>
              <a:ahLst/>
              <a:rect l="l" t="t" r="r" b="b"/>
              <a:pathLst>
                <a:path w="101" h="158">
                  <a:moveTo>
                    <a:pt x="101" y="0"/>
                  </a:moveTo>
                  <a:lnTo>
                    <a:pt x="0" y="79"/>
                  </a:lnTo>
                  <a:lnTo>
                    <a:pt x="8" y="158"/>
                  </a:lnTo>
                  <a:lnTo>
                    <a:pt x="86" y="100"/>
                  </a:lnTo>
                  <a:lnTo>
                    <a:pt x="101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7529400" y="2670120"/>
            <a:ext cx="260640" cy="385920"/>
            <a:chOff x="7529400" y="2670120"/>
            <a:chExt cx="260640" cy="385920"/>
          </a:xfrm>
        </p:grpSpPr>
        <p:sp>
          <p:nvSpPr>
            <p:cNvPr id="1179" name=""/>
            <p:cNvSpPr/>
            <p:nvPr/>
          </p:nvSpPr>
          <p:spPr>
            <a:xfrm>
              <a:off x="7529400" y="2670120"/>
              <a:ext cx="260640" cy="385920"/>
            </a:xfrm>
            <a:custGeom>
              <a:avLst/>
              <a:gdLst/>
              <a:ahLst/>
              <a:rect l="l" t="t" r="r" b="b"/>
              <a:pathLst>
                <a:path w="164" h="243">
                  <a:moveTo>
                    <a:pt x="0" y="243"/>
                  </a:moveTo>
                  <a:lnTo>
                    <a:pt x="57" y="143"/>
                  </a:lnTo>
                  <a:lnTo>
                    <a:pt x="28" y="86"/>
                  </a:lnTo>
                  <a:lnTo>
                    <a:pt x="64" y="7"/>
                  </a:lnTo>
                  <a:lnTo>
                    <a:pt x="114" y="0"/>
                  </a:lnTo>
                  <a:lnTo>
                    <a:pt x="93" y="86"/>
                  </a:lnTo>
                  <a:lnTo>
                    <a:pt x="164" y="158"/>
                  </a:lnTo>
                  <a:lnTo>
                    <a:pt x="121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29400" y="2670120"/>
              <a:ext cx="260640" cy="385920"/>
            </a:xfrm>
            <a:custGeom>
              <a:avLst/>
              <a:gdLst/>
              <a:ahLst/>
              <a:rect l="l" t="t" r="r" b="b"/>
              <a:pathLst>
                <a:path w="164" h="243">
                  <a:moveTo>
                    <a:pt x="0" y="243"/>
                  </a:moveTo>
                  <a:lnTo>
                    <a:pt x="57" y="143"/>
                  </a:lnTo>
                  <a:lnTo>
                    <a:pt x="28" y="86"/>
                  </a:lnTo>
                  <a:lnTo>
                    <a:pt x="64" y="7"/>
                  </a:lnTo>
                  <a:lnTo>
                    <a:pt x="114" y="0"/>
                  </a:lnTo>
                  <a:lnTo>
                    <a:pt x="93" y="86"/>
                  </a:lnTo>
                  <a:lnTo>
                    <a:pt x="164" y="158"/>
                  </a:lnTo>
                  <a:lnTo>
                    <a:pt x="121" y="243"/>
                  </a:lnTo>
                  <a:lnTo>
                    <a:pt x="0" y="243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7778880" y="2714760"/>
            <a:ext cx="295200" cy="331560"/>
            <a:chOff x="7778880" y="2714760"/>
            <a:chExt cx="295200" cy="331560"/>
          </a:xfrm>
        </p:grpSpPr>
        <p:sp>
          <p:nvSpPr>
            <p:cNvPr id="1182" name=""/>
            <p:cNvSpPr/>
            <p:nvPr/>
          </p:nvSpPr>
          <p:spPr>
            <a:xfrm>
              <a:off x="7778880" y="2714760"/>
              <a:ext cx="295200" cy="331560"/>
            </a:xfrm>
            <a:custGeom>
              <a:avLst/>
              <a:gdLst/>
              <a:ahLst/>
              <a:rect l="l" t="t" r="r" b="b"/>
              <a:pathLst>
                <a:path w="186" h="209">
                  <a:moveTo>
                    <a:pt x="100" y="0"/>
                  </a:moveTo>
                  <a:lnTo>
                    <a:pt x="64" y="58"/>
                  </a:lnTo>
                  <a:lnTo>
                    <a:pt x="0" y="94"/>
                  </a:lnTo>
                  <a:lnTo>
                    <a:pt x="115" y="144"/>
                  </a:lnTo>
                  <a:lnTo>
                    <a:pt x="129" y="209"/>
                  </a:lnTo>
                  <a:lnTo>
                    <a:pt x="186" y="15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778880" y="2714760"/>
              <a:ext cx="295200" cy="331560"/>
            </a:xfrm>
            <a:custGeom>
              <a:avLst/>
              <a:gdLst/>
              <a:ahLst/>
              <a:rect l="l" t="t" r="r" b="b"/>
              <a:pathLst>
                <a:path w="186" h="209">
                  <a:moveTo>
                    <a:pt x="100" y="0"/>
                  </a:moveTo>
                  <a:lnTo>
                    <a:pt x="64" y="58"/>
                  </a:lnTo>
                  <a:lnTo>
                    <a:pt x="0" y="94"/>
                  </a:lnTo>
                  <a:lnTo>
                    <a:pt x="115" y="144"/>
                  </a:lnTo>
                  <a:lnTo>
                    <a:pt x="129" y="209"/>
                  </a:lnTo>
                  <a:lnTo>
                    <a:pt x="186" y="150"/>
                  </a:lnTo>
                  <a:lnTo>
                    <a:pt x="100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8029440" y="2657520"/>
            <a:ext cx="339840" cy="376200"/>
            <a:chOff x="8029440" y="2657520"/>
            <a:chExt cx="339840" cy="376200"/>
          </a:xfrm>
        </p:grpSpPr>
        <p:sp>
          <p:nvSpPr>
            <p:cNvPr id="1185" name=""/>
            <p:cNvSpPr/>
            <p:nvPr/>
          </p:nvSpPr>
          <p:spPr>
            <a:xfrm>
              <a:off x="8029440" y="2657520"/>
              <a:ext cx="339840" cy="376200"/>
            </a:xfrm>
            <a:custGeom>
              <a:avLst/>
              <a:gdLst/>
              <a:ahLst/>
              <a:rect l="l" t="t" r="r" b="b"/>
              <a:pathLst>
                <a:path w="214" h="237">
                  <a:moveTo>
                    <a:pt x="84" y="237"/>
                  </a:moveTo>
                  <a:lnTo>
                    <a:pt x="120" y="151"/>
                  </a:lnTo>
                  <a:lnTo>
                    <a:pt x="28" y="107"/>
                  </a:lnTo>
                  <a:lnTo>
                    <a:pt x="0" y="0"/>
                  </a:lnTo>
                  <a:lnTo>
                    <a:pt x="100" y="65"/>
                  </a:lnTo>
                  <a:lnTo>
                    <a:pt x="214" y="122"/>
                  </a:lnTo>
                  <a:lnTo>
                    <a:pt x="179" y="180"/>
                  </a:lnTo>
                  <a:lnTo>
                    <a:pt x="179" y="222"/>
                  </a:lnTo>
                  <a:lnTo>
                    <a:pt x="84" y="23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029440" y="2657520"/>
              <a:ext cx="339840" cy="376200"/>
            </a:xfrm>
            <a:custGeom>
              <a:avLst/>
              <a:gdLst/>
              <a:ahLst/>
              <a:rect l="l" t="t" r="r" b="b"/>
              <a:pathLst>
                <a:path w="214" h="237">
                  <a:moveTo>
                    <a:pt x="84" y="237"/>
                  </a:moveTo>
                  <a:lnTo>
                    <a:pt x="120" y="151"/>
                  </a:lnTo>
                  <a:lnTo>
                    <a:pt x="28" y="107"/>
                  </a:lnTo>
                  <a:lnTo>
                    <a:pt x="0" y="0"/>
                  </a:lnTo>
                  <a:lnTo>
                    <a:pt x="100" y="65"/>
                  </a:lnTo>
                  <a:lnTo>
                    <a:pt x="214" y="122"/>
                  </a:lnTo>
                  <a:lnTo>
                    <a:pt x="179" y="180"/>
                  </a:lnTo>
                  <a:lnTo>
                    <a:pt x="179" y="222"/>
                  </a:lnTo>
                  <a:lnTo>
                    <a:pt x="84" y="237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4394160" y="1790640"/>
            <a:ext cx="4610160" cy="1451160"/>
            <a:chOff x="4394160" y="1790640"/>
            <a:chExt cx="4610160" cy="1451160"/>
          </a:xfrm>
        </p:grpSpPr>
        <p:sp>
          <p:nvSpPr>
            <p:cNvPr id="1188" name=""/>
            <p:cNvSpPr/>
            <p:nvPr/>
          </p:nvSpPr>
          <p:spPr>
            <a:xfrm>
              <a:off x="4394160" y="1790640"/>
              <a:ext cx="4610160" cy="1451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394160" y="1790640"/>
              <a:ext cx="4610160" cy="1451160"/>
            </a:xfrm>
            <a:prstGeom prst="rect">
              <a:avLst/>
            </a:prstGeom>
            <a:noFill/>
            <a:ln cap="rnd"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5373720" y="2460600"/>
            <a:ext cx="185760" cy="92160"/>
            <a:chOff x="5373720" y="2460600"/>
            <a:chExt cx="185760" cy="92160"/>
          </a:xfrm>
        </p:grpSpPr>
        <p:sp>
          <p:nvSpPr>
            <p:cNvPr id="1191" name=""/>
            <p:cNvSpPr/>
            <p:nvPr/>
          </p:nvSpPr>
          <p:spPr>
            <a:xfrm>
              <a:off x="5373720" y="24606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7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373720" y="24606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7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5649840" y="2460600"/>
            <a:ext cx="184320" cy="92160"/>
            <a:chOff x="5649840" y="2460600"/>
            <a:chExt cx="184320" cy="92160"/>
          </a:xfrm>
        </p:grpSpPr>
        <p:sp>
          <p:nvSpPr>
            <p:cNvPr id="1194" name=""/>
            <p:cNvSpPr/>
            <p:nvPr/>
          </p:nvSpPr>
          <p:spPr>
            <a:xfrm>
              <a:off x="5649840" y="2460600"/>
              <a:ext cx="18432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9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649840" y="2460600"/>
              <a:ext cx="18432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9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940360" y="2460600"/>
            <a:ext cx="184320" cy="92160"/>
            <a:chOff x="5940360" y="2460600"/>
            <a:chExt cx="184320" cy="92160"/>
          </a:xfrm>
        </p:grpSpPr>
        <p:sp>
          <p:nvSpPr>
            <p:cNvPr id="1197" name=""/>
            <p:cNvSpPr/>
            <p:nvPr/>
          </p:nvSpPr>
          <p:spPr>
            <a:xfrm>
              <a:off x="5940360" y="2460600"/>
              <a:ext cx="18432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8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940360" y="2460600"/>
              <a:ext cx="18432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8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6208560" y="2460600"/>
            <a:ext cx="182880" cy="92160"/>
            <a:chOff x="6208560" y="2460600"/>
            <a:chExt cx="182880" cy="92160"/>
          </a:xfrm>
        </p:grpSpPr>
        <p:sp>
          <p:nvSpPr>
            <p:cNvPr id="1200" name=""/>
            <p:cNvSpPr/>
            <p:nvPr/>
          </p:nvSpPr>
          <p:spPr>
            <a:xfrm>
              <a:off x="6208560" y="2460600"/>
              <a:ext cx="182880" cy="9216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0"/>
                  </a:moveTo>
                  <a:lnTo>
                    <a:pt x="58" y="58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208560" y="2460600"/>
              <a:ext cx="182880" cy="9216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0"/>
                  </a:moveTo>
                  <a:lnTo>
                    <a:pt x="58" y="58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6497640" y="2460600"/>
            <a:ext cx="187200" cy="92160"/>
            <a:chOff x="6497640" y="2460600"/>
            <a:chExt cx="187200" cy="92160"/>
          </a:xfrm>
        </p:grpSpPr>
        <p:sp>
          <p:nvSpPr>
            <p:cNvPr id="1203" name=""/>
            <p:cNvSpPr/>
            <p:nvPr/>
          </p:nvSpPr>
          <p:spPr>
            <a:xfrm>
              <a:off x="6497640" y="2460600"/>
              <a:ext cx="18720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0"/>
                  </a:moveTo>
                  <a:lnTo>
                    <a:pt x="59" y="58"/>
                  </a:lnTo>
                  <a:lnTo>
                    <a:pt x="1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497640" y="2460600"/>
              <a:ext cx="18720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0"/>
                  </a:moveTo>
                  <a:lnTo>
                    <a:pt x="59" y="58"/>
                  </a:lnTo>
                  <a:lnTo>
                    <a:pt x="11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6783480" y="2460600"/>
            <a:ext cx="185760" cy="92160"/>
            <a:chOff x="6783480" y="2460600"/>
            <a:chExt cx="185760" cy="92160"/>
          </a:xfrm>
        </p:grpSpPr>
        <p:sp>
          <p:nvSpPr>
            <p:cNvPr id="1206" name=""/>
            <p:cNvSpPr/>
            <p:nvPr/>
          </p:nvSpPr>
          <p:spPr>
            <a:xfrm>
              <a:off x="6783480" y="24606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6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783480" y="24606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6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051680" y="2460600"/>
            <a:ext cx="189000" cy="92160"/>
            <a:chOff x="7051680" y="2460600"/>
            <a:chExt cx="189000" cy="92160"/>
          </a:xfrm>
        </p:grpSpPr>
        <p:sp>
          <p:nvSpPr>
            <p:cNvPr id="1209" name=""/>
            <p:cNvSpPr/>
            <p:nvPr/>
          </p:nvSpPr>
          <p:spPr>
            <a:xfrm>
              <a:off x="7051680" y="2460600"/>
              <a:ext cx="189000" cy="92160"/>
            </a:xfrm>
            <a:custGeom>
              <a:avLst/>
              <a:gdLst/>
              <a:ahLst/>
              <a:rect l="l" t="t" r="r" b="b"/>
              <a:pathLst>
                <a:path w="119" h="58">
                  <a:moveTo>
                    <a:pt x="0" y="0"/>
                  </a:moveTo>
                  <a:lnTo>
                    <a:pt x="60" y="58"/>
                  </a:lnTo>
                  <a:lnTo>
                    <a:pt x="1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051680" y="2460600"/>
              <a:ext cx="189000" cy="92160"/>
            </a:xfrm>
            <a:custGeom>
              <a:avLst/>
              <a:gdLst/>
              <a:ahLst/>
              <a:rect l="l" t="t" r="r" b="b"/>
              <a:pathLst>
                <a:path w="119" h="58">
                  <a:moveTo>
                    <a:pt x="0" y="0"/>
                  </a:moveTo>
                  <a:lnTo>
                    <a:pt x="60" y="58"/>
                  </a:lnTo>
                  <a:lnTo>
                    <a:pt x="11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7321680" y="2460600"/>
            <a:ext cx="185760" cy="92160"/>
            <a:chOff x="7321680" y="2460600"/>
            <a:chExt cx="185760" cy="92160"/>
          </a:xfrm>
        </p:grpSpPr>
        <p:sp>
          <p:nvSpPr>
            <p:cNvPr id="1212" name=""/>
            <p:cNvSpPr/>
            <p:nvPr/>
          </p:nvSpPr>
          <p:spPr>
            <a:xfrm>
              <a:off x="7321680" y="24606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60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321680" y="24606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60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7612200" y="2460600"/>
            <a:ext cx="179280" cy="92160"/>
            <a:chOff x="7612200" y="2460600"/>
            <a:chExt cx="179280" cy="92160"/>
          </a:xfrm>
        </p:grpSpPr>
        <p:sp>
          <p:nvSpPr>
            <p:cNvPr id="1215" name=""/>
            <p:cNvSpPr/>
            <p:nvPr/>
          </p:nvSpPr>
          <p:spPr>
            <a:xfrm>
              <a:off x="7612200" y="2460600"/>
              <a:ext cx="179280" cy="9216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0" y="0"/>
                  </a:moveTo>
                  <a:lnTo>
                    <a:pt x="55" y="5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612200" y="2460600"/>
              <a:ext cx="179280" cy="9216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0" y="0"/>
                  </a:moveTo>
                  <a:lnTo>
                    <a:pt x="55" y="5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7875720" y="2460600"/>
            <a:ext cx="187200" cy="92160"/>
            <a:chOff x="7875720" y="2460600"/>
            <a:chExt cx="187200" cy="92160"/>
          </a:xfrm>
        </p:grpSpPr>
        <p:sp>
          <p:nvSpPr>
            <p:cNvPr id="1218" name=""/>
            <p:cNvSpPr/>
            <p:nvPr/>
          </p:nvSpPr>
          <p:spPr>
            <a:xfrm>
              <a:off x="7875720" y="2460600"/>
              <a:ext cx="18720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0"/>
                  </a:moveTo>
                  <a:lnTo>
                    <a:pt x="60" y="58"/>
                  </a:lnTo>
                  <a:lnTo>
                    <a:pt x="1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875720" y="2460600"/>
              <a:ext cx="18720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0"/>
                  </a:moveTo>
                  <a:lnTo>
                    <a:pt x="60" y="58"/>
                  </a:lnTo>
                  <a:lnTo>
                    <a:pt x="11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8126280" y="2470320"/>
            <a:ext cx="181080" cy="93600"/>
            <a:chOff x="8126280" y="2470320"/>
            <a:chExt cx="181080" cy="93600"/>
          </a:xfrm>
        </p:grpSpPr>
        <p:sp>
          <p:nvSpPr>
            <p:cNvPr id="1221" name=""/>
            <p:cNvSpPr/>
            <p:nvPr/>
          </p:nvSpPr>
          <p:spPr>
            <a:xfrm>
              <a:off x="8126280" y="2470320"/>
              <a:ext cx="181080" cy="93600"/>
            </a:xfrm>
            <a:custGeom>
              <a:avLst/>
              <a:gdLst/>
              <a:ahLst/>
              <a:rect l="l" t="t" r="r" b="b"/>
              <a:pathLst>
                <a:path w="114" h="59">
                  <a:moveTo>
                    <a:pt x="0" y="0"/>
                  </a:moveTo>
                  <a:lnTo>
                    <a:pt x="56" y="59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126280" y="2470320"/>
              <a:ext cx="181080" cy="93600"/>
            </a:xfrm>
            <a:custGeom>
              <a:avLst/>
              <a:gdLst/>
              <a:ahLst/>
              <a:rect l="l" t="t" r="r" b="b"/>
              <a:pathLst>
                <a:path w="114" h="59">
                  <a:moveTo>
                    <a:pt x="0" y="0"/>
                  </a:moveTo>
                  <a:lnTo>
                    <a:pt x="56" y="59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8412120" y="2470320"/>
            <a:ext cx="184320" cy="93600"/>
            <a:chOff x="8412120" y="2470320"/>
            <a:chExt cx="184320" cy="93600"/>
          </a:xfrm>
        </p:grpSpPr>
        <p:sp>
          <p:nvSpPr>
            <p:cNvPr id="1224" name=""/>
            <p:cNvSpPr/>
            <p:nvPr/>
          </p:nvSpPr>
          <p:spPr>
            <a:xfrm>
              <a:off x="8412120" y="2470320"/>
              <a:ext cx="184320" cy="93600"/>
            </a:xfrm>
            <a:custGeom>
              <a:avLst/>
              <a:gdLst/>
              <a:ahLst/>
              <a:rect l="l" t="t" r="r" b="b"/>
              <a:pathLst>
                <a:path w="116" h="59">
                  <a:moveTo>
                    <a:pt x="0" y="0"/>
                  </a:moveTo>
                  <a:lnTo>
                    <a:pt x="57" y="59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412120" y="2470320"/>
              <a:ext cx="184320" cy="93600"/>
            </a:xfrm>
            <a:custGeom>
              <a:avLst/>
              <a:gdLst/>
              <a:ahLst/>
              <a:rect l="l" t="t" r="r" b="b"/>
              <a:pathLst>
                <a:path w="116" h="59">
                  <a:moveTo>
                    <a:pt x="0" y="0"/>
                  </a:moveTo>
                  <a:lnTo>
                    <a:pt x="57" y="59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5106960" y="2479680"/>
            <a:ext cx="181080" cy="92160"/>
            <a:chOff x="5106960" y="2479680"/>
            <a:chExt cx="181080" cy="92160"/>
          </a:xfrm>
        </p:grpSpPr>
        <p:sp>
          <p:nvSpPr>
            <p:cNvPr id="1227" name=""/>
            <p:cNvSpPr/>
            <p:nvPr/>
          </p:nvSpPr>
          <p:spPr>
            <a:xfrm>
              <a:off x="5106960" y="2479680"/>
              <a:ext cx="181080" cy="9216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0" y="0"/>
                  </a:moveTo>
                  <a:lnTo>
                    <a:pt x="59" y="58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106960" y="2479680"/>
              <a:ext cx="181080" cy="9216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0" y="0"/>
                  </a:moveTo>
                  <a:lnTo>
                    <a:pt x="59" y="58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29" name=""/>
          <p:cNvSpPr/>
          <p:nvPr/>
        </p:nvSpPr>
        <p:spPr>
          <a:xfrm flipV="1">
            <a:off x="4748040" y="2624040"/>
            <a:ext cx="1800" cy="77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4618080" y="2641680"/>
            <a:ext cx="263520" cy="230040"/>
            <a:chOff x="4618080" y="2641680"/>
            <a:chExt cx="263520" cy="230040"/>
          </a:xfrm>
        </p:grpSpPr>
        <p:sp>
          <p:nvSpPr>
            <p:cNvPr id="1231" name=""/>
            <p:cNvSpPr/>
            <p:nvPr/>
          </p:nvSpPr>
          <p:spPr>
            <a:xfrm>
              <a:off x="4618080" y="2641680"/>
              <a:ext cx="263520" cy="230040"/>
            </a:xfrm>
            <a:custGeom>
              <a:avLst/>
              <a:gdLst/>
              <a:ahLst/>
              <a:rect l="l" t="t" r="r" b="b"/>
              <a:pathLst>
                <a:path w="166" h="145">
                  <a:moveTo>
                    <a:pt x="82" y="0"/>
                  </a:moveTo>
                  <a:lnTo>
                    <a:pt x="0" y="145"/>
                  </a:lnTo>
                  <a:lnTo>
                    <a:pt x="166" y="145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618080" y="2641680"/>
              <a:ext cx="263520" cy="230040"/>
            </a:xfrm>
            <a:custGeom>
              <a:avLst/>
              <a:gdLst/>
              <a:ahLst/>
              <a:rect l="l" t="t" r="r" b="b"/>
              <a:pathLst>
                <a:path w="166" h="145">
                  <a:moveTo>
                    <a:pt x="82" y="0"/>
                  </a:moveTo>
                  <a:lnTo>
                    <a:pt x="0" y="145"/>
                  </a:lnTo>
                  <a:lnTo>
                    <a:pt x="166" y="145"/>
                  </a:lnTo>
                  <a:lnTo>
                    <a:pt x="82" y="0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8481960" y="2630520"/>
            <a:ext cx="285840" cy="249120"/>
            <a:chOff x="8481960" y="2630520"/>
            <a:chExt cx="285840" cy="249120"/>
          </a:xfrm>
        </p:grpSpPr>
        <p:sp>
          <p:nvSpPr>
            <p:cNvPr id="1234" name=""/>
            <p:cNvSpPr/>
            <p:nvPr/>
          </p:nvSpPr>
          <p:spPr>
            <a:xfrm>
              <a:off x="8481960" y="2630520"/>
              <a:ext cx="285840" cy="249120"/>
            </a:xfrm>
            <a:custGeom>
              <a:avLst/>
              <a:gdLst/>
              <a:ahLst/>
              <a:rect l="l" t="t" r="r" b="b"/>
              <a:pathLst>
                <a:path w="180" h="157">
                  <a:moveTo>
                    <a:pt x="91" y="0"/>
                  </a:moveTo>
                  <a:lnTo>
                    <a:pt x="0" y="157"/>
                  </a:lnTo>
                  <a:lnTo>
                    <a:pt x="180" y="15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481960" y="2630520"/>
              <a:ext cx="285840" cy="249120"/>
            </a:xfrm>
            <a:custGeom>
              <a:avLst/>
              <a:gdLst/>
              <a:ahLst/>
              <a:rect l="l" t="t" r="r" b="b"/>
              <a:pathLst>
                <a:path w="180" h="157">
                  <a:moveTo>
                    <a:pt x="91" y="0"/>
                  </a:moveTo>
                  <a:lnTo>
                    <a:pt x="0" y="157"/>
                  </a:lnTo>
                  <a:lnTo>
                    <a:pt x="180" y="157"/>
                  </a:lnTo>
                  <a:lnTo>
                    <a:pt x="91" y="0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4481640" y="2871720"/>
            <a:ext cx="6080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8930880" y="3178080"/>
            <a:ext cx="324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8901000" y="3152880"/>
            <a:ext cx="33480" cy="25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8826480" y="3070080"/>
            <a:ext cx="108000" cy="108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8714880" y="3025800"/>
            <a:ext cx="155880" cy="152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8613360" y="3025800"/>
            <a:ext cx="152280" cy="152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8502120" y="3025800"/>
            <a:ext cx="155880" cy="152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8400960" y="3025800"/>
            <a:ext cx="154080" cy="152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8305560" y="3025800"/>
            <a:ext cx="142920" cy="141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8305920" y="3025800"/>
            <a:ext cx="33120" cy="36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5018040" y="3017880"/>
            <a:ext cx="30240" cy="19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4912920" y="2906640"/>
            <a:ext cx="135000" cy="130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4808160" y="2871720"/>
            <a:ext cx="166680" cy="165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4726080" y="2871360"/>
            <a:ext cx="166680" cy="165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4621320" y="2871360"/>
            <a:ext cx="168120" cy="165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4538160" y="2871720"/>
            <a:ext cx="166680" cy="165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481640" y="2871720"/>
            <a:ext cx="117360" cy="119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4481640" y="2871360"/>
            <a:ext cx="37800" cy="34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4481280" y="2871720"/>
            <a:ext cx="11160" cy="11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481640" y="2871720"/>
            <a:ext cx="6174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481640" y="2871720"/>
            <a:ext cx="6080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8292960" y="3021120"/>
            <a:ext cx="6620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4748040" y="2602080"/>
            <a:ext cx="3891240" cy="23760"/>
            <a:chOff x="4748040" y="2602080"/>
            <a:chExt cx="3891240" cy="23760"/>
          </a:xfrm>
        </p:grpSpPr>
        <p:sp>
          <p:nvSpPr>
            <p:cNvPr id="1259" name=""/>
            <p:cNvSpPr/>
            <p:nvPr/>
          </p:nvSpPr>
          <p:spPr>
            <a:xfrm>
              <a:off x="4748040" y="2602080"/>
              <a:ext cx="3891240" cy="23760"/>
            </a:xfrm>
            <a:custGeom>
              <a:avLst/>
              <a:gdLst/>
              <a:ahLst/>
              <a:rect l="l" t="t" r="r" b="b"/>
              <a:pathLst>
                <a:path w="2451" h="15">
                  <a:moveTo>
                    <a:pt x="6" y="15"/>
                  </a:move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2443" y="0"/>
                  </a:lnTo>
                  <a:lnTo>
                    <a:pt x="2444" y="0"/>
                  </a:lnTo>
                  <a:lnTo>
                    <a:pt x="2446" y="1"/>
                  </a:lnTo>
                  <a:lnTo>
                    <a:pt x="2450" y="1"/>
                  </a:lnTo>
                  <a:lnTo>
                    <a:pt x="2451" y="4"/>
                  </a:lnTo>
                  <a:lnTo>
                    <a:pt x="2451" y="5"/>
                  </a:lnTo>
                  <a:lnTo>
                    <a:pt x="2451" y="8"/>
                  </a:lnTo>
                  <a:lnTo>
                    <a:pt x="2451" y="10"/>
                  </a:lnTo>
                  <a:lnTo>
                    <a:pt x="2451" y="14"/>
                  </a:lnTo>
                  <a:lnTo>
                    <a:pt x="2450" y="14"/>
                  </a:lnTo>
                  <a:lnTo>
                    <a:pt x="2446" y="15"/>
                  </a:lnTo>
                  <a:lnTo>
                    <a:pt x="2444" y="15"/>
                  </a:lnTo>
                  <a:lnTo>
                    <a:pt x="2443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48040" y="2602080"/>
              <a:ext cx="3891240" cy="23760"/>
            </a:xfrm>
            <a:custGeom>
              <a:avLst/>
              <a:gdLst/>
              <a:ahLst/>
              <a:rect l="l" t="t" r="r" b="b"/>
              <a:pathLst>
                <a:path w="2451" h="15">
                  <a:moveTo>
                    <a:pt x="6" y="15"/>
                  </a:move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2443" y="0"/>
                  </a:lnTo>
                  <a:lnTo>
                    <a:pt x="2444" y="0"/>
                  </a:lnTo>
                  <a:lnTo>
                    <a:pt x="2446" y="1"/>
                  </a:lnTo>
                  <a:lnTo>
                    <a:pt x="2450" y="1"/>
                  </a:lnTo>
                  <a:lnTo>
                    <a:pt x="2451" y="4"/>
                  </a:lnTo>
                  <a:lnTo>
                    <a:pt x="2451" y="5"/>
                  </a:lnTo>
                  <a:lnTo>
                    <a:pt x="2451" y="8"/>
                  </a:lnTo>
                  <a:lnTo>
                    <a:pt x="2451" y="10"/>
                  </a:lnTo>
                  <a:lnTo>
                    <a:pt x="2451" y="14"/>
                  </a:lnTo>
                  <a:lnTo>
                    <a:pt x="2450" y="14"/>
                  </a:lnTo>
                  <a:lnTo>
                    <a:pt x="2446" y="15"/>
                  </a:lnTo>
                  <a:lnTo>
                    <a:pt x="2444" y="15"/>
                  </a:lnTo>
                  <a:lnTo>
                    <a:pt x="2443" y="15"/>
                  </a:lnTo>
                  <a:lnTo>
                    <a:pt x="6" y="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491328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4819680" y="2479680"/>
            <a:ext cx="183960" cy="92160"/>
            <a:chOff x="4819680" y="2479680"/>
            <a:chExt cx="183960" cy="92160"/>
          </a:xfrm>
        </p:grpSpPr>
        <p:sp>
          <p:nvSpPr>
            <p:cNvPr id="1263" name=""/>
            <p:cNvSpPr/>
            <p:nvPr/>
          </p:nvSpPr>
          <p:spPr>
            <a:xfrm>
              <a:off x="4819680" y="2479680"/>
              <a:ext cx="18396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9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819680" y="2479680"/>
              <a:ext cx="18396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9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5202360" y="2219400"/>
            <a:ext cx="144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46408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74344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3396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30072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59124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872400" y="2219400"/>
            <a:ext cx="144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147080" y="2219400"/>
            <a:ext cx="144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41672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69932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970760" y="2219400"/>
            <a:ext cx="1800" cy="282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8215200" y="2227320"/>
            <a:ext cx="1800" cy="28404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8502480" y="2227320"/>
            <a:ext cx="1800" cy="28404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4681440" y="2556000"/>
            <a:ext cx="131760" cy="125280"/>
            <a:chOff x="4681440" y="2556000"/>
            <a:chExt cx="131760" cy="125280"/>
          </a:xfrm>
        </p:grpSpPr>
        <p:sp>
          <p:nvSpPr>
            <p:cNvPr id="1279" name=""/>
            <p:cNvSpPr/>
            <p:nvPr/>
          </p:nvSpPr>
          <p:spPr>
            <a:xfrm>
              <a:off x="4681440" y="2556000"/>
              <a:ext cx="131760" cy="12528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81440" y="2556000"/>
              <a:ext cx="131760" cy="12528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8566200" y="2549520"/>
            <a:ext cx="131760" cy="127080"/>
            <a:chOff x="8566200" y="2549520"/>
            <a:chExt cx="131760" cy="127080"/>
          </a:xfrm>
        </p:grpSpPr>
        <p:sp>
          <p:nvSpPr>
            <p:cNvPr id="1282" name=""/>
            <p:cNvSpPr/>
            <p:nvPr/>
          </p:nvSpPr>
          <p:spPr>
            <a:xfrm>
              <a:off x="8566200" y="2549520"/>
              <a:ext cx="131760" cy="12708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566200" y="2549520"/>
              <a:ext cx="131760" cy="12708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8478720" y="2887560"/>
            <a:ext cx="131760" cy="127080"/>
            <a:chOff x="8478720" y="2887560"/>
            <a:chExt cx="131760" cy="127080"/>
          </a:xfrm>
        </p:grpSpPr>
        <p:sp>
          <p:nvSpPr>
            <p:cNvPr id="1285" name=""/>
            <p:cNvSpPr/>
            <p:nvPr/>
          </p:nvSpPr>
          <p:spPr>
            <a:xfrm>
              <a:off x="8478720" y="2887560"/>
              <a:ext cx="131760" cy="12708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478720" y="2887560"/>
              <a:ext cx="131760" cy="12708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8670960" y="2892600"/>
            <a:ext cx="131760" cy="126720"/>
            <a:chOff x="8670960" y="2892600"/>
            <a:chExt cx="131760" cy="126720"/>
          </a:xfrm>
        </p:grpSpPr>
        <p:sp>
          <p:nvSpPr>
            <p:cNvPr id="1288" name=""/>
            <p:cNvSpPr/>
            <p:nvPr/>
          </p:nvSpPr>
          <p:spPr>
            <a:xfrm>
              <a:off x="8670960" y="2892600"/>
              <a:ext cx="131760" cy="12672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670960" y="2892600"/>
              <a:ext cx="131760" cy="12672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5167440" y="2657520"/>
            <a:ext cx="237960" cy="465120"/>
            <a:chOff x="5167440" y="2657520"/>
            <a:chExt cx="237960" cy="465120"/>
          </a:xfrm>
        </p:grpSpPr>
        <p:sp>
          <p:nvSpPr>
            <p:cNvPr id="1291" name=""/>
            <p:cNvSpPr/>
            <p:nvPr/>
          </p:nvSpPr>
          <p:spPr>
            <a:xfrm>
              <a:off x="5167440" y="2657520"/>
              <a:ext cx="237960" cy="465120"/>
            </a:xfrm>
            <a:custGeom>
              <a:avLst/>
              <a:gdLst/>
              <a:ahLst/>
              <a:rect l="l" t="t" r="r" b="b"/>
              <a:pathLst>
                <a:path w="150" h="293">
                  <a:moveTo>
                    <a:pt x="114" y="293"/>
                  </a:moveTo>
                  <a:lnTo>
                    <a:pt x="58" y="201"/>
                  </a:lnTo>
                  <a:lnTo>
                    <a:pt x="0" y="51"/>
                  </a:lnTo>
                  <a:lnTo>
                    <a:pt x="72" y="0"/>
                  </a:lnTo>
                  <a:lnTo>
                    <a:pt x="64" y="72"/>
                  </a:lnTo>
                  <a:lnTo>
                    <a:pt x="150" y="194"/>
                  </a:lnTo>
                  <a:lnTo>
                    <a:pt x="114" y="29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167440" y="2657520"/>
              <a:ext cx="237960" cy="465120"/>
            </a:xfrm>
            <a:custGeom>
              <a:avLst/>
              <a:gdLst/>
              <a:ahLst/>
              <a:rect l="l" t="t" r="r" b="b"/>
              <a:pathLst>
                <a:path w="150" h="293">
                  <a:moveTo>
                    <a:pt x="114" y="293"/>
                  </a:moveTo>
                  <a:lnTo>
                    <a:pt x="58" y="201"/>
                  </a:lnTo>
                  <a:lnTo>
                    <a:pt x="0" y="51"/>
                  </a:lnTo>
                  <a:lnTo>
                    <a:pt x="72" y="0"/>
                  </a:lnTo>
                  <a:lnTo>
                    <a:pt x="64" y="72"/>
                  </a:lnTo>
                  <a:lnTo>
                    <a:pt x="150" y="194"/>
                  </a:lnTo>
                  <a:lnTo>
                    <a:pt x="114" y="293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5405400" y="2681280"/>
            <a:ext cx="228600" cy="431640"/>
            <a:chOff x="5405400" y="2681280"/>
            <a:chExt cx="228600" cy="431640"/>
          </a:xfrm>
        </p:grpSpPr>
        <p:sp>
          <p:nvSpPr>
            <p:cNvPr id="1294" name=""/>
            <p:cNvSpPr/>
            <p:nvPr/>
          </p:nvSpPr>
          <p:spPr>
            <a:xfrm>
              <a:off x="5405400" y="2681280"/>
              <a:ext cx="228600" cy="431640"/>
            </a:xfrm>
            <a:custGeom>
              <a:avLst/>
              <a:gdLst/>
              <a:ahLst/>
              <a:rect l="l" t="t" r="r" b="b"/>
              <a:pathLst>
                <a:path w="144" h="272">
                  <a:moveTo>
                    <a:pt x="51" y="272"/>
                  </a:moveTo>
                  <a:lnTo>
                    <a:pt x="36" y="194"/>
                  </a:lnTo>
                  <a:lnTo>
                    <a:pt x="57" y="107"/>
                  </a:lnTo>
                  <a:lnTo>
                    <a:pt x="0" y="0"/>
                  </a:lnTo>
                  <a:lnTo>
                    <a:pt x="115" y="21"/>
                  </a:lnTo>
                  <a:lnTo>
                    <a:pt x="144" y="87"/>
                  </a:lnTo>
                  <a:lnTo>
                    <a:pt x="51" y="27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405400" y="2681280"/>
              <a:ext cx="228600" cy="431640"/>
            </a:xfrm>
            <a:custGeom>
              <a:avLst/>
              <a:gdLst/>
              <a:ahLst/>
              <a:rect l="l" t="t" r="r" b="b"/>
              <a:pathLst>
                <a:path w="144" h="272">
                  <a:moveTo>
                    <a:pt x="51" y="272"/>
                  </a:moveTo>
                  <a:lnTo>
                    <a:pt x="36" y="194"/>
                  </a:lnTo>
                  <a:lnTo>
                    <a:pt x="57" y="107"/>
                  </a:lnTo>
                  <a:lnTo>
                    <a:pt x="0" y="0"/>
                  </a:lnTo>
                  <a:lnTo>
                    <a:pt x="115" y="21"/>
                  </a:lnTo>
                  <a:lnTo>
                    <a:pt x="144" y="87"/>
                  </a:lnTo>
                  <a:lnTo>
                    <a:pt x="51" y="272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5691240" y="2693880"/>
            <a:ext cx="236520" cy="247680"/>
            <a:chOff x="5691240" y="2693880"/>
            <a:chExt cx="236520" cy="247680"/>
          </a:xfrm>
        </p:grpSpPr>
        <p:sp>
          <p:nvSpPr>
            <p:cNvPr id="1297" name=""/>
            <p:cNvSpPr/>
            <p:nvPr/>
          </p:nvSpPr>
          <p:spPr>
            <a:xfrm>
              <a:off x="5691240" y="2693880"/>
              <a:ext cx="236520" cy="247680"/>
            </a:xfrm>
            <a:custGeom>
              <a:avLst/>
              <a:gdLst/>
              <a:ahLst/>
              <a:rect l="l" t="t" r="r" b="b"/>
              <a:pathLst>
                <a:path w="149" h="156">
                  <a:moveTo>
                    <a:pt x="35" y="0"/>
                  </a:moveTo>
                  <a:lnTo>
                    <a:pt x="0" y="92"/>
                  </a:lnTo>
                  <a:lnTo>
                    <a:pt x="149" y="156"/>
                  </a:lnTo>
                  <a:lnTo>
                    <a:pt x="149" y="12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691240" y="2693880"/>
              <a:ext cx="236520" cy="247680"/>
            </a:xfrm>
            <a:custGeom>
              <a:avLst/>
              <a:gdLst/>
              <a:ahLst/>
              <a:rect l="l" t="t" r="r" b="b"/>
              <a:pathLst>
                <a:path w="149" h="156">
                  <a:moveTo>
                    <a:pt x="35" y="0"/>
                  </a:moveTo>
                  <a:lnTo>
                    <a:pt x="0" y="92"/>
                  </a:lnTo>
                  <a:lnTo>
                    <a:pt x="149" y="156"/>
                  </a:lnTo>
                  <a:lnTo>
                    <a:pt x="149" y="120"/>
                  </a:lnTo>
                  <a:lnTo>
                    <a:pt x="35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665680" y="2921040"/>
            <a:ext cx="227160" cy="191880"/>
            <a:chOff x="5665680" y="2921040"/>
            <a:chExt cx="227160" cy="191880"/>
          </a:xfrm>
        </p:grpSpPr>
        <p:sp>
          <p:nvSpPr>
            <p:cNvPr id="1300" name=""/>
            <p:cNvSpPr/>
            <p:nvPr/>
          </p:nvSpPr>
          <p:spPr>
            <a:xfrm>
              <a:off x="5665680" y="2921040"/>
              <a:ext cx="227160" cy="19188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0" y="121"/>
                  </a:moveTo>
                  <a:lnTo>
                    <a:pt x="44" y="49"/>
                  </a:lnTo>
                  <a:lnTo>
                    <a:pt x="22" y="0"/>
                  </a:lnTo>
                  <a:lnTo>
                    <a:pt x="143" y="5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665680" y="2921040"/>
              <a:ext cx="227160" cy="19188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0" y="121"/>
                  </a:moveTo>
                  <a:lnTo>
                    <a:pt x="44" y="49"/>
                  </a:lnTo>
                  <a:lnTo>
                    <a:pt x="22" y="0"/>
                  </a:lnTo>
                  <a:lnTo>
                    <a:pt x="143" y="56"/>
                  </a:lnTo>
                  <a:lnTo>
                    <a:pt x="0" y="121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6006960" y="2670120"/>
            <a:ext cx="444600" cy="432000"/>
            <a:chOff x="6006960" y="2670120"/>
            <a:chExt cx="444600" cy="432000"/>
          </a:xfrm>
        </p:grpSpPr>
        <p:sp>
          <p:nvSpPr>
            <p:cNvPr id="1303" name=""/>
            <p:cNvSpPr/>
            <p:nvPr/>
          </p:nvSpPr>
          <p:spPr>
            <a:xfrm>
              <a:off x="6006960" y="2670120"/>
              <a:ext cx="444600" cy="432000"/>
            </a:xfrm>
            <a:custGeom>
              <a:avLst/>
              <a:gdLst/>
              <a:ahLst/>
              <a:rect l="l" t="t" r="r" b="b"/>
              <a:pathLst>
                <a:path w="280" h="272">
                  <a:moveTo>
                    <a:pt x="29" y="272"/>
                  </a:moveTo>
                  <a:lnTo>
                    <a:pt x="7" y="201"/>
                  </a:lnTo>
                  <a:lnTo>
                    <a:pt x="0" y="79"/>
                  </a:lnTo>
                  <a:lnTo>
                    <a:pt x="86" y="35"/>
                  </a:lnTo>
                  <a:lnTo>
                    <a:pt x="143" y="0"/>
                  </a:lnTo>
                  <a:lnTo>
                    <a:pt x="79" y="114"/>
                  </a:lnTo>
                  <a:lnTo>
                    <a:pt x="100" y="172"/>
                  </a:lnTo>
                  <a:lnTo>
                    <a:pt x="172" y="143"/>
                  </a:lnTo>
                  <a:lnTo>
                    <a:pt x="186" y="79"/>
                  </a:lnTo>
                  <a:lnTo>
                    <a:pt x="194" y="7"/>
                  </a:lnTo>
                  <a:lnTo>
                    <a:pt x="280" y="71"/>
                  </a:lnTo>
                  <a:lnTo>
                    <a:pt x="222" y="150"/>
                  </a:lnTo>
                  <a:lnTo>
                    <a:pt x="172" y="222"/>
                  </a:lnTo>
                  <a:lnTo>
                    <a:pt x="29" y="27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006960" y="2670120"/>
              <a:ext cx="444600" cy="432000"/>
            </a:xfrm>
            <a:custGeom>
              <a:avLst/>
              <a:gdLst/>
              <a:ahLst/>
              <a:rect l="l" t="t" r="r" b="b"/>
              <a:pathLst>
                <a:path w="280" h="272">
                  <a:moveTo>
                    <a:pt x="29" y="272"/>
                  </a:moveTo>
                  <a:lnTo>
                    <a:pt x="7" y="201"/>
                  </a:lnTo>
                  <a:lnTo>
                    <a:pt x="0" y="79"/>
                  </a:lnTo>
                  <a:lnTo>
                    <a:pt x="86" y="35"/>
                  </a:lnTo>
                  <a:lnTo>
                    <a:pt x="143" y="0"/>
                  </a:lnTo>
                  <a:lnTo>
                    <a:pt x="79" y="114"/>
                  </a:lnTo>
                  <a:lnTo>
                    <a:pt x="100" y="172"/>
                  </a:lnTo>
                  <a:lnTo>
                    <a:pt x="172" y="143"/>
                  </a:lnTo>
                  <a:lnTo>
                    <a:pt x="186" y="79"/>
                  </a:lnTo>
                  <a:lnTo>
                    <a:pt x="194" y="7"/>
                  </a:lnTo>
                  <a:lnTo>
                    <a:pt x="280" y="71"/>
                  </a:lnTo>
                  <a:lnTo>
                    <a:pt x="222" y="150"/>
                  </a:lnTo>
                  <a:lnTo>
                    <a:pt x="172" y="222"/>
                  </a:lnTo>
                  <a:lnTo>
                    <a:pt x="29" y="272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6496200" y="2725560"/>
            <a:ext cx="372960" cy="365400"/>
            <a:chOff x="6496200" y="2725560"/>
            <a:chExt cx="372960" cy="365400"/>
          </a:xfrm>
        </p:grpSpPr>
        <p:sp>
          <p:nvSpPr>
            <p:cNvPr id="1306" name=""/>
            <p:cNvSpPr/>
            <p:nvPr/>
          </p:nvSpPr>
          <p:spPr>
            <a:xfrm>
              <a:off x="6496200" y="2725560"/>
              <a:ext cx="372960" cy="365400"/>
            </a:xfrm>
            <a:custGeom>
              <a:avLst/>
              <a:gdLst/>
              <a:ahLst/>
              <a:rect l="l" t="t" r="r" b="b"/>
              <a:pathLst>
                <a:path w="235" h="230">
                  <a:moveTo>
                    <a:pt x="0" y="0"/>
                  </a:moveTo>
                  <a:lnTo>
                    <a:pt x="57" y="93"/>
                  </a:lnTo>
                  <a:lnTo>
                    <a:pt x="28" y="179"/>
                  </a:lnTo>
                  <a:lnTo>
                    <a:pt x="115" y="230"/>
                  </a:lnTo>
                  <a:lnTo>
                    <a:pt x="235" y="230"/>
                  </a:lnTo>
                  <a:lnTo>
                    <a:pt x="164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496200" y="2725560"/>
              <a:ext cx="372960" cy="365400"/>
            </a:xfrm>
            <a:custGeom>
              <a:avLst/>
              <a:gdLst/>
              <a:ahLst/>
              <a:rect l="l" t="t" r="r" b="b"/>
              <a:pathLst>
                <a:path w="235" h="230">
                  <a:moveTo>
                    <a:pt x="0" y="0"/>
                  </a:moveTo>
                  <a:lnTo>
                    <a:pt x="57" y="93"/>
                  </a:lnTo>
                  <a:lnTo>
                    <a:pt x="28" y="179"/>
                  </a:lnTo>
                  <a:lnTo>
                    <a:pt x="115" y="230"/>
                  </a:lnTo>
                  <a:lnTo>
                    <a:pt x="235" y="230"/>
                  </a:lnTo>
                  <a:lnTo>
                    <a:pt x="164" y="143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848640" y="2714760"/>
            <a:ext cx="328320" cy="363240"/>
            <a:chOff x="6848640" y="2714760"/>
            <a:chExt cx="328320" cy="363240"/>
          </a:xfrm>
        </p:grpSpPr>
        <p:sp>
          <p:nvSpPr>
            <p:cNvPr id="1309" name=""/>
            <p:cNvSpPr/>
            <p:nvPr/>
          </p:nvSpPr>
          <p:spPr>
            <a:xfrm>
              <a:off x="6848640" y="2714760"/>
              <a:ext cx="328320" cy="363240"/>
            </a:xfrm>
            <a:custGeom>
              <a:avLst/>
              <a:gdLst/>
              <a:ahLst/>
              <a:rect l="l" t="t" r="r" b="b"/>
              <a:pathLst>
                <a:path w="207" h="229">
                  <a:moveTo>
                    <a:pt x="21" y="0"/>
                  </a:moveTo>
                  <a:lnTo>
                    <a:pt x="0" y="86"/>
                  </a:lnTo>
                  <a:lnTo>
                    <a:pt x="92" y="194"/>
                  </a:lnTo>
                  <a:lnTo>
                    <a:pt x="42" y="215"/>
                  </a:lnTo>
                  <a:lnTo>
                    <a:pt x="207" y="229"/>
                  </a:lnTo>
                  <a:lnTo>
                    <a:pt x="120" y="7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848640" y="2714760"/>
              <a:ext cx="328320" cy="363240"/>
            </a:xfrm>
            <a:custGeom>
              <a:avLst/>
              <a:gdLst/>
              <a:ahLst/>
              <a:rect l="l" t="t" r="r" b="b"/>
              <a:pathLst>
                <a:path w="207" h="229">
                  <a:moveTo>
                    <a:pt x="21" y="0"/>
                  </a:moveTo>
                  <a:lnTo>
                    <a:pt x="0" y="86"/>
                  </a:lnTo>
                  <a:lnTo>
                    <a:pt x="92" y="194"/>
                  </a:lnTo>
                  <a:lnTo>
                    <a:pt x="42" y="215"/>
                  </a:lnTo>
                  <a:lnTo>
                    <a:pt x="207" y="229"/>
                  </a:lnTo>
                  <a:lnTo>
                    <a:pt x="120" y="79"/>
                  </a:lnTo>
                  <a:lnTo>
                    <a:pt x="21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7164360" y="2738520"/>
            <a:ext cx="149400" cy="339480"/>
            <a:chOff x="7164360" y="2738520"/>
            <a:chExt cx="149400" cy="339480"/>
          </a:xfrm>
        </p:grpSpPr>
        <p:sp>
          <p:nvSpPr>
            <p:cNvPr id="1312" name=""/>
            <p:cNvSpPr/>
            <p:nvPr/>
          </p:nvSpPr>
          <p:spPr>
            <a:xfrm>
              <a:off x="7164360" y="2738520"/>
              <a:ext cx="149400" cy="339480"/>
            </a:xfrm>
            <a:custGeom>
              <a:avLst/>
              <a:gdLst/>
              <a:ahLst/>
              <a:rect l="l" t="t" r="r" b="b"/>
              <a:pathLst>
                <a:path w="94" h="214">
                  <a:moveTo>
                    <a:pt x="94" y="0"/>
                  </a:moveTo>
                  <a:lnTo>
                    <a:pt x="0" y="100"/>
                  </a:lnTo>
                  <a:lnTo>
                    <a:pt x="51" y="214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164360" y="2738520"/>
              <a:ext cx="149400" cy="339480"/>
            </a:xfrm>
            <a:custGeom>
              <a:avLst/>
              <a:gdLst/>
              <a:ahLst/>
              <a:rect l="l" t="t" r="r" b="b"/>
              <a:pathLst>
                <a:path w="94" h="214">
                  <a:moveTo>
                    <a:pt x="94" y="0"/>
                  </a:moveTo>
                  <a:lnTo>
                    <a:pt x="0" y="100"/>
                  </a:lnTo>
                  <a:lnTo>
                    <a:pt x="51" y="214"/>
                  </a:lnTo>
                  <a:lnTo>
                    <a:pt x="94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7346880" y="2714760"/>
            <a:ext cx="160560" cy="250560"/>
            <a:chOff x="7346880" y="2714760"/>
            <a:chExt cx="160560" cy="250560"/>
          </a:xfrm>
        </p:grpSpPr>
        <p:sp>
          <p:nvSpPr>
            <p:cNvPr id="1315" name=""/>
            <p:cNvSpPr/>
            <p:nvPr/>
          </p:nvSpPr>
          <p:spPr>
            <a:xfrm>
              <a:off x="7346880" y="2714760"/>
              <a:ext cx="160560" cy="250560"/>
            </a:xfrm>
            <a:custGeom>
              <a:avLst/>
              <a:gdLst/>
              <a:ahLst/>
              <a:rect l="l" t="t" r="r" b="b"/>
              <a:pathLst>
                <a:path w="101" h="158">
                  <a:moveTo>
                    <a:pt x="101" y="0"/>
                  </a:moveTo>
                  <a:lnTo>
                    <a:pt x="0" y="79"/>
                  </a:lnTo>
                  <a:lnTo>
                    <a:pt x="8" y="158"/>
                  </a:lnTo>
                  <a:lnTo>
                    <a:pt x="86" y="10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46880" y="2714760"/>
              <a:ext cx="160560" cy="250560"/>
            </a:xfrm>
            <a:custGeom>
              <a:avLst/>
              <a:gdLst/>
              <a:ahLst/>
              <a:rect l="l" t="t" r="r" b="b"/>
              <a:pathLst>
                <a:path w="101" h="158">
                  <a:moveTo>
                    <a:pt x="101" y="0"/>
                  </a:moveTo>
                  <a:lnTo>
                    <a:pt x="0" y="79"/>
                  </a:lnTo>
                  <a:lnTo>
                    <a:pt x="8" y="158"/>
                  </a:lnTo>
                  <a:lnTo>
                    <a:pt x="86" y="100"/>
                  </a:lnTo>
                  <a:lnTo>
                    <a:pt x="101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7529400" y="2670120"/>
            <a:ext cx="260640" cy="385920"/>
            <a:chOff x="7529400" y="2670120"/>
            <a:chExt cx="260640" cy="385920"/>
          </a:xfrm>
        </p:grpSpPr>
        <p:sp>
          <p:nvSpPr>
            <p:cNvPr id="1318" name=""/>
            <p:cNvSpPr/>
            <p:nvPr/>
          </p:nvSpPr>
          <p:spPr>
            <a:xfrm>
              <a:off x="7529400" y="2670120"/>
              <a:ext cx="260640" cy="385920"/>
            </a:xfrm>
            <a:custGeom>
              <a:avLst/>
              <a:gdLst/>
              <a:ahLst/>
              <a:rect l="l" t="t" r="r" b="b"/>
              <a:pathLst>
                <a:path w="164" h="243">
                  <a:moveTo>
                    <a:pt x="0" y="243"/>
                  </a:moveTo>
                  <a:lnTo>
                    <a:pt x="57" y="143"/>
                  </a:lnTo>
                  <a:lnTo>
                    <a:pt x="28" y="86"/>
                  </a:lnTo>
                  <a:lnTo>
                    <a:pt x="64" y="7"/>
                  </a:lnTo>
                  <a:lnTo>
                    <a:pt x="114" y="0"/>
                  </a:lnTo>
                  <a:lnTo>
                    <a:pt x="93" y="86"/>
                  </a:lnTo>
                  <a:lnTo>
                    <a:pt x="164" y="158"/>
                  </a:lnTo>
                  <a:lnTo>
                    <a:pt x="121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529400" y="2670120"/>
              <a:ext cx="260640" cy="385920"/>
            </a:xfrm>
            <a:custGeom>
              <a:avLst/>
              <a:gdLst/>
              <a:ahLst/>
              <a:rect l="l" t="t" r="r" b="b"/>
              <a:pathLst>
                <a:path w="164" h="243">
                  <a:moveTo>
                    <a:pt x="0" y="243"/>
                  </a:moveTo>
                  <a:lnTo>
                    <a:pt x="57" y="143"/>
                  </a:lnTo>
                  <a:lnTo>
                    <a:pt x="28" y="86"/>
                  </a:lnTo>
                  <a:lnTo>
                    <a:pt x="64" y="7"/>
                  </a:lnTo>
                  <a:lnTo>
                    <a:pt x="114" y="0"/>
                  </a:lnTo>
                  <a:lnTo>
                    <a:pt x="93" y="86"/>
                  </a:lnTo>
                  <a:lnTo>
                    <a:pt x="164" y="158"/>
                  </a:lnTo>
                  <a:lnTo>
                    <a:pt x="121" y="243"/>
                  </a:lnTo>
                  <a:lnTo>
                    <a:pt x="0" y="243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7778880" y="2714760"/>
            <a:ext cx="295200" cy="331560"/>
            <a:chOff x="7778880" y="2714760"/>
            <a:chExt cx="295200" cy="331560"/>
          </a:xfrm>
        </p:grpSpPr>
        <p:sp>
          <p:nvSpPr>
            <p:cNvPr id="1321" name=""/>
            <p:cNvSpPr/>
            <p:nvPr/>
          </p:nvSpPr>
          <p:spPr>
            <a:xfrm>
              <a:off x="7778880" y="2714760"/>
              <a:ext cx="295200" cy="331560"/>
            </a:xfrm>
            <a:custGeom>
              <a:avLst/>
              <a:gdLst/>
              <a:ahLst/>
              <a:rect l="l" t="t" r="r" b="b"/>
              <a:pathLst>
                <a:path w="186" h="209">
                  <a:moveTo>
                    <a:pt x="100" y="0"/>
                  </a:moveTo>
                  <a:lnTo>
                    <a:pt x="64" y="58"/>
                  </a:lnTo>
                  <a:lnTo>
                    <a:pt x="0" y="94"/>
                  </a:lnTo>
                  <a:lnTo>
                    <a:pt x="115" y="144"/>
                  </a:lnTo>
                  <a:lnTo>
                    <a:pt x="129" y="209"/>
                  </a:lnTo>
                  <a:lnTo>
                    <a:pt x="186" y="15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778880" y="2714760"/>
              <a:ext cx="295200" cy="331560"/>
            </a:xfrm>
            <a:custGeom>
              <a:avLst/>
              <a:gdLst/>
              <a:ahLst/>
              <a:rect l="l" t="t" r="r" b="b"/>
              <a:pathLst>
                <a:path w="186" h="209">
                  <a:moveTo>
                    <a:pt x="100" y="0"/>
                  </a:moveTo>
                  <a:lnTo>
                    <a:pt x="64" y="58"/>
                  </a:lnTo>
                  <a:lnTo>
                    <a:pt x="0" y="94"/>
                  </a:lnTo>
                  <a:lnTo>
                    <a:pt x="115" y="144"/>
                  </a:lnTo>
                  <a:lnTo>
                    <a:pt x="129" y="209"/>
                  </a:lnTo>
                  <a:lnTo>
                    <a:pt x="186" y="150"/>
                  </a:lnTo>
                  <a:lnTo>
                    <a:pt x="100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8029440" y="2657520"/>
            <a:ext cx="339840" cy="376200"/>
            <a:chOff x="8029440" y="2657520"/>
            <a:chExt cx="339840" cy="376200"/>
          </a:xfrm>
        </p:grpSpPr>
        <p:sp>
          <p:nvSpPr>
            <p:cNvPr id="1324" name=""/>
            <p:cNvSpPr/>
            <p:nvPr/>
          </p:nvSpPr>
          <p:spPr>
            <a:xfrm>
              <a:off x="8029440" y="2657520"/>
              <a:ext cx="339840" cy="376200"/>
            </a:xfrm>
            <a:custGeom>
              <a:avLst/>
              <a:gdLst/>
              <a:ahLst/>
              <a:rect l="l" t="t" r="r" b="b"/>
              <a:pathLst>
                <a:path w="214" h="237">
                  <a:moveTo>
                    <a:pt x="84" y="237"/>
                  </a:moveTo>
                  <a:lnTo>
                    <a:pt x="120" y="151"/>
                  </a:lnTo>
                  <a:lnTo>
                    <a:pt x="28" y="107"/>
                  </a:lnTo>
                  <a:lnTo>
                    <a:pt x="0" y="0"/>
                  </a:lnTo>
                  <a:lnTo>
                    <a:pt x="100" y="65"/>
                  </a:lnTo>
                  <a:lnTo>
                    <a:pt x="214" y="122"/>
                  </a:lnTo>
                  <a:lnTo>
                    <a:pt x="179" y="180"/>
                  </a:lnTo>
                  <a:lnTo>
                    <a:pt x="179" y="222"/>
                  </a:lnTo>
                  <a:lnTo>
                    <a:pt x="84" y="23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029440" y="2657520"/>
              <a:ext cx="339840" cy="376200"/>
            </a:xfrm>
            <a:custGeom>
              <a:avLst/>
              <a:gdLst/>
              <a:ahLst/>
              <a:rect l="l" t="t" r="r" b="b"/>
              <a:pathLst>
                <a:path w="214" h="237">
                  <a:moveTo>
                    <a:pt x="84" y="237"/>
                  </a:moveTo>
                  <a:lnTo>
                    <a:pt x="120" y="151"/>
                  </a:lnTo>
                  <a:lnTo>
                    <a:pt x="28" y="107"/>
                  </a:lnTo>
                  <a:lnTo>
                    <a:pt x="0" y="0"/>
                  </a:lnTo>
                  <a:lnTo>
                    <a:pt x="100" y="65"/>
                  </a:lnTo>
                  <a:lnTo>
                    <a:pt x="214" y="122"/>
                  </a:lnTo>
                  <a:lnTo>
                    <a:pt x="179" y="180"/>
                  </a:lnTo>
                  <a:lnTo>
                    <a:pt x="179" y="222"/>
                  </a:lnTo>
                  <a:lnTo>
                    <a:pt x="84" y="237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26" name=""/>
          <p:cNvSpPr/>
          <p:nvPr/>
        </p:nvSpPr>
        <p:spPr>
          <a:xfrm>
            <a:off x="6351840" y="1871640"/>
            <a:ext cx="566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2,8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039080" y="187164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N/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6160" y="2131920"/>
            <a:ext cx="274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ign loading in fire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903040" y="2138400"/>
            <a:ext cx="21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110040" y="2278080"/>
            <a:ext cx="220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i.d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112400" y="2924280"/>
            <a:ext cx="2207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bination factor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257280" y="2798640"/>
            <a:ext cx="235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495960" y="30639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1.1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4320" y="2924280"/>
            <a:ext cx="573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0,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1109160" y="3573360"/>
            <a:ext cx="21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316160" y="3713040"/>
            <a:ext cx="220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i.d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1595880" y="3573360"/>
            <a:ext cx="2317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(1.9 + 0,5 3,8) 6 5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908880" y="3573360"/>
            <a:ext cx="1139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/8 = 71,2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073480" y="3573360"/>
            <a:ext cx="145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71,25 kN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3B5B-1DC1-49F9-A2B9-290BE553344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teel beam: critical temperatur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44080" y="1682640"/>
            <a:ext cx="3889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66"/>
                </a:solidFill>
                <a:latin typeface="Arial"/>
              </a:rPr>
              <a:t>For a beam supporting a concrete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992840" y="1682640"/>
            <a:ext cx="550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ff9900"/>
                </a:solidFill>
                <a:latin typeface="Arial"/>
              </a:rPr>
              <a:t>slab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40840" y="1976400"/>
            <a:ext cx="1599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66"/>
                </a:solidFill>
                <a:latin typeface="Arial"/>
              </a:rPr>
              <a:t>on top flange: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41920" y="2452680"/>
            <a:ext cx="738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66"/>
                </a:solidFill>
                <a:latin typeface="Arial"/>
              </a:rPr>
              <a:t>4.2.3.3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123920" y="2452680"/>
            <a:ext cx="20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329120" y="2592360"/>
            <a:ext cx="43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66"/>
                </a:solidFill>
                <a:latin typeface="Arial"/>
              </a:rPr>
              <a:t>fi.t.Rd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11160" y="2452680"/>
            <a:ext cx="409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= 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227320" y="259236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66"/>
                </a:solidFill>
                <a:latin typeface="Arial"/>
              </a:rPr>
              <a:t>fi.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350080" y="255096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Symbol"/>
                <a:ea typeface="Symbol"/>
              </a:rPr>
              <a:t>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2548080" y="2592360"/>
            <a:ext cx="25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66"/>
                </a:solidFill>
                <a:latin typeface="Arial"/>
              </a:rPr>
              <a:t>.Rd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2793600" y="245268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/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860920" y="2328840"/>
            <a:ext cx="188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700" spc="-1" strike="noStrike">
                <a:solidFill>
                  <a:srgbClr val="000066"/>
                </a:solidFill>
                <a:latin typeface="Symbol"/>
                <a:ea typeface="Symbol"/>
              </a:rPr>
              <a:t>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049560" y="2592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138840" y="2328840"/>
            <a:ext cx="188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700" spc="-1" strike="noStrike">
                <a:solidFill>
                  <a:srgbClr val="000066"/>
                </a:solidFill>
                <a:latin typeface="Symbol"/>
                <a:ea typeface="Symbol"/>
              </a:rPr>
              <a:t>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3325680" y="2592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24280" y="2741760"/>
            <a:ext cx="188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700" spc="-1" strike="noStrike">
                <a:solidFill>
                  <a:srgbClr val="000066"/>
                </a:solidFill>
                <a:latin typeface="Symbol"/>
                <a:ea typeface="Symbol"/>
              </a:rPr>
              <a:t>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311120" y="3005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469160" y="2865600"/>
            <a:ext cx="543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= 0,7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124280" y="3152880"/>
            <a:ext cx="188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700" spc="-1" strike="noStrike">
                <a:solidFill>
                  <a:srgbClr val="000066"/>
                </a:solidFill>
                <a:latin typeface="Symbol"/>
                <a:ea typeface="Symbol"/>
              </a:rPr>
              <a:t>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311120" y="3416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469160" y="3276720"/>
            <a:ext cx="543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= 1,0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123920" y="3589200"/>
            <a:ext cx="20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329120" y="3728880"/>
            <a:ext cx="43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66"/>
                </a:solidFill>
                <a:latin typeface="Arial"/>
              </a:rPr>
              <a:t>fi.t.Rd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790640" y="3589200"/>
            <a:ext cx="196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= 180,95/(0,7x1,0)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985200" y="3589200"/>
            <a:ext cx="1373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= 258,5 kN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45880" y="4275000"/>
            <a:ext cx="3873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66"/>
                </a:solidFill>
                <a:latin typeface="Arial"/>
              </a:rPr>
              <a:t>Critical Temperature of the Beam: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41560" y="477684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66"/>
                </a:solidFill>
                <a:latin typeface="Arial"/>
              </a:rPr>
              <a:t>4.2.4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852480" y="4776840"/>
            <a:ext cx="483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.2 or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010600" y="4776840"/>
            <a:ext cx="219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Degree of utilisation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242600" y="4653000"/>
            <a:ext cx="198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7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438800" y="4916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597920" y="4776840"/>
            <a:ext cx="249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= 71,25 / 258,5 = 0,276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42640" y="5189400"/>
            <a:ext cx="10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66"/>
                </a:solidFill>
                <a:latin typeface="Arial"/>
              </a:rPr>
              <a:t>Table 4.1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011320" y="5189400"/>
            <a:ext cx="3111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Critical temperature of beam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166000" y="5065560"/>
            <a:ext cx="178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7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343480" y="532908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66"/>
                </a:solidFill>
                <a:latin typeface="Arial"/>
              </a:rPr>
              <a:t>cr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544360" y="5189400"/>
            <a:ext cx="677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= 676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6232680" y="5189400"/>
            <a:ext cx="96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°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329520" y="518940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4361040" y="1703520"/>
            <a:ext cx="4572000" cy="1439640"/>
            <a:chOff x="4361040" y="1703520"/>
            <a:chExt cx="4572000" cy="1439640"/>
          </a:xfrm>
        </p:grpSpPr>
        <p:grpSp>
          <p:nvGrpSpPr>
            <p:cNvPr id="1381" name=""/>
            <p:cNvGrpSpPr/>
            <p:nvPr/>
          </p:nvGrpSpPr>
          <p:grpSpPr>
            <a:xfrm>
              <a:off x="4361040" y="1703520"/>
              <a:ext cx="4572000" cy="1439640"/>
              <a:chOff x="4361040" y="1703520"/>
              <a:chExt cx="4572000" cy="1439640"/>
            </a:xfrm>
          </p:grpSpPr>
          <p:sp>
            <p:nvSpPr>
              <p:cNvPr id="1382" name=""/>
              <p:cNvSpPr/>
              <p:nvPr/>
            </p:nvSpPr>
            <p:spPr>
              <a:xfrm>
                <a:off x="4361040" y="1703520"/>
                <a:ext cx="4572000" cy="14396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361040" y="1703520"/>
                <a:ext cx="4572000" cy="1439640"/>
              </a:xfrm>
              <a:prstGeom prst="rect">
                <a:avLst/>
              </a:prstGeom>
              <a:noFill/>
              <a:ln cap="rnd"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5332320" y="2367000"/>
              <a:ext cx="184320" cy="92160"/>
              <a:chOff x="5332320" y="2367000"/>
              <a:chExt cx="184320" cy="92160"/>
            </a:xfrm>
          </p:grpSpPr>
          <p:sp>
            <p:nvSpPr>
              <p:cNvPr id="1385" name=""/>
              <p:cNvSpPr/>
              <p:nvPr/>
            </p:nvSpPr>
            <p:spPr>
              <a:xfrm>
                <a:off x="5332320" y="2367000"/>
                <a:ext cx="184320" cy="92160"/>
              </a:xfrm>
              <a:custGeom>
                <a:avLst/>
                <a:gdLst/>
                <a:ahLst/>
                <a:rect l="l" t="t" r="r" b="b"/>
                <a:pathLst>
                  <a:path w="116" h="58">
                    <a:moveTo>
                      <a:pt x="0" y="0"/>
                    </a:moveTo>
                    <a:lnTo>
                      <a:pt x="57" y="58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332320" y="2367000"/>
                <a:ext cx="184320" cy="92160"/>
              </a:xfrm>
              <a:custGeom>
                <a:avLst/>
                <a:gdLst/>
                <a:ahLst/>
                <a:rect l="l" t="t" r="r" b="b"/>
                <a:pathLst>
                  <a:path w="116" h="58">
                    <a:moveTo>
                      <a:pt x="0" y="0"/>
                    </a:moveTo>
                    <a:lnTo>
                      <a:pt x="57" y="58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5607000" y="2367000"/>
              <a:ext cx="182520" cy="92160"/>
              <a:chOff x="5607000" y="2367000"/>
              <a:chExt cx="182520" cy="92160"/>
            </a:xfrm>
          </p:grpSpPr>
          <p:sp>
            <p:nvSpPr>
              <p:cNvPr id="1388" name=""/>
              <p:cNvSpPr/>
              <p:nvPr/>
            </p:nvSpPr>
            <p:spPr>
              <a:xfrm>
                <a:off x="5607000" y="2367000"/>
                <a:ext cx="182520" cy="92160"/>
              </a:xfrm>
              <a:custGeom>
                <a:avLst/>
                <a:gdLst/>
                <a:ahLst/>
                <a:rect l="l" t="t" r="r" b="b"/>
                <a:pathLst>
                  <a:path w="115" h="58">
                    <a:moveTo>
                      <a:pt x="0" y="0"/>
                    </a:moveTo>
                    <a:lnTo>
                      <a:pt x="58" y="58"/>
                    </a:lnTo>
                    <a:lnTo>
                      <a:pt x="1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607000" y="2367000"/>
                <a:ext cx="182520" cy="92160"/>
              </a:xfrm>
              <a:custGeom>
                <a:avLst/>
                <a:gdLst/>
                <a:ahLst/>
                <a:rect l="l" t="t" r="r" b="b"/>
                <a:pathLst>
                  <a:path w="115" h="58">
                    <a:moveTo>
                      <a:pt x="0" y="0"/>
                    </a:moveTo>
                    <a:lnTo>
                      <a:pt x="58" y="58"/>
                    </a:lnTo>
                    <a:lnTo>
                      <a:pt x="115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5894280" y="2367000"/>
              <a:ext cx="182520" cy="92160"/>
              <a:chOff x="5894280" y="2367000"/>
              <a:chExt cx="182520" cy="92160"/>
            </a:xfrm>
          </p:grpSpPr>
          <p:sp>
            <p:nvSpPr>
              <p:cNvPr id="1391" name=""/>
              <p:cNvSpPr/>
              <p:nvPr/>
            </p:nvSpPr>
            <p:spPr>
              <a:xfrm>
                <a:off x="5894280" y="2367000"/>
                <a:ext cx="182520" cy="92160"/>
              </a:xfrm>
              <a:custGeom>
                <a:avLst/>
                <a:gdLst/>
                <a:ahLst/>
                <a:rect l="l" t="t" r="r" b="b"/>
                <a:pathLst>
                  <a:path w="115" h="58">
                    <a:moveTo>
                      <a:pt x="0" y="0"/>
                    </a:moveTo>
                    <a:lnTo>
                      <a:pt x="57" y="58"/>
                    </a:lnTo>
                    <a:lnTo>
                      <a:pt x="1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894280" y="2367000"/>
                <a:ext cx="182520" cy="92160"/>
              </a:xfrm>
              <a:custGeom>
                <a:avLst/>
                <a:gdLst/>
                <a:ahLst/>
                <a:rect l="l" t="t" r="r" b="b"/>
                <a:pathLst>
                  <a:path w="115" h="58">
                    <a:moveTo>
                      <a:pt x="0" y="0"/>
                    </a:moveTo>
                    <a:lnTo>
                      <a:pt x="57" y="58"/>
                    </a:lnTo>
                    <a:lnTo>
                      <a:pt x="115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6159600" y="2367000"/>
              <a:ext cx="180720" cy="92160"/>
              <a:chOff x="6159600" y="2367000"/>
              <a:chExt cx="180720" cy="92160"/>
            </a:xfrm>
          </p:grpSpPr>
          <p:sp>
            <p:nvSpPr>
              <p:cNvPr id="1394" name=""/>
              <p:cNvSpPr/>
              <p:nvPr/>
            </p:nvSpPr>
            <p:spPr>
              <a:xfrm>
                <a:off x="6159600" y="2367000"/>
                <a:ext cx="180720" cy="92160"/>
              </a:xfrm>
              <a:custGeom>
                <a:avLst/>
                <a:gdLst/>
                <a:ahLst/>
                <a:rect l="l" t="t" r="r" b="b"/>
                <a:pathLst>
                  <a:path w="114" h="58">
                    <a:moveTo>
                      <a:pt x="0" y="0"/>
                    </a:moveTo>
                    <a:lnTo>
                      <a:pt x="58" y="58"/>
                    </a:lnTo>
                    <a:lnTo>
                      <a:pt x="1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159600" y="2367000"/>
                <a:ext cx="180720" cy="92160"/>
              </a:xfrm>
              <a:custGeom>
                <a:avLst/>
                <a:gdLst/>
                <a:ahLst/>
                <a:rect l="l" t="t" r="r" b="b"/>
                <a:pathLst>
                  <a:path w="114" h="58">
                    <a:moveTo>
                      <a:pt x="0" y="0"/>
                    </a:moveTo>
                    <a:lnTo>
                      <a:pt x="58" y="58"/>
                    </a:lnTo>
                    <a:lnTo>
                      <a:pt x="114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6446880" y="2367000"/>
              <a:ext cx="185760" cy="92160"/>
              <a:chOff x="6446880" y="2367000"/>
              <a:chExt cx="185760" cy="92160"/>
            </a:xfrm>
          </p:grpSpPr>
          <p:sp>
            <p:nvSpPr>
              <p:cNvPr id="1397" name=""/>
              <p:cNvSpPr/>
              <p:nvPr/>
            </p:nvSpPr>
            <p:spPr>
              <a:xfrm>
                <a:off x="6446880" y="2367000"/>
                <a:ext cx="185760" cy="92160"/>
              </a:xfrm>
              <a:custGeom>
                <a:avLst/>
                <a:gdLst/>
                <a:ahLst/>
                <a:rect l="l" t="t" r="r" b="b"/>
                <a:pathLst>
                  <a:path w="117" h="58">
                    <a:moveTo>
                      <a:pt x="0" y="0"/>
                    </a:moveTo>
                    <a:lnTo>
                      <a:pt x="59" y="58"/>
                    </a:lnTo>
                    <a:lnTo>
                      <a:pt x="1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446880" y="2367000"/>
                <a:ext cx="185760" cy="92160"/>
              </a:xfrm>
              <a:custGeom>
                <a:avLst/>
                <a:gdLst/>
                <a:ahLst/>
                <a:rect l="l" t="t" r="r" b="b"/>
                <a:pathLst>
                  <a:path w="117" h="58">
                    <a:moveTo>
                      <a:pt x="0" y="0"/>
                    </a:moveTo>
                    <a:lnTo>
                      <a:pt x="59" y="58"/>
                    </a:lnTo>
                    <a:lnTo>
                      <a:pt x="117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6730920" y="2367000"/>
              <a:ext cx="182520" cy="92160"/>
              <a:chOff x="6730920" y="2367000"/>
              <a:chExt cx="182520" cy="92160"/>
            </a:xfrm>
          </p:grpSpPr>
          <p:sp>
            <p:nvSpPr>
              <p:cNvPr id="1400" name=""/>
              <p:cNvSpPr/>
              <p:nvPr/>
            </p:nvSpPr>
            <p:spPr>
              <a:xfrm>
                <a:off x="6730920" y="2367000"/>
                <a:ext cx="182520" cy="92160"/>
              </a:xfrm>
              <a:custGeom>
                <a:avLst/>
                <a:gdLst/>
                <a:ahLst/>
                <a:rect l="l" t="t" r="r" b="b"/>
                <a:pathLst>
                  <a:path w="115" h="58">
                    <a:moveTo>
                      <a:pt x="0" y="0"/>
                    </a:moveTo>
                    <a:lnTo>
                      <a:pt x="55" y="58"/>
                    </a:lnTo>
                    <a:lnTo>
                      <a:pt x="1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730920" y="2367000"/>
                <a:ext cx="182520" cy="92160"/>
              </a:xfrm>
              <a:custGeom>
                <a:avLst/>
                <a:gdLst/>
                <a:ahLst/>
                <a:rect l="l" t="t" r="r" b="b"/>
                <a:pathLst>
                  <a:path w="115" h="58">
                    <a:moveTo>
                      <a:pt x="0" y="0"/>
                    </a:moveTo>
                    <a:lnTo>
                      <a:pt x="55" y="58"/>
                    </a:lnTo>
                    <a:lnTo>
                      <a:pt x="115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6997680" y="2367000"/>
              <a:ext cx="185760" cy="92160"/>
              <a:chOff x="6997680" y="2367000"/>
              <a:chExt cx="185760" cy="92160"/>
            </a:xfrm>
          </p:grpSpPr>
          <p:sp>
            <p:nvSpPr>
              <p:cNvPr id="1403" name=""/>
              <p:cNvSpPr/>
              <p:nvPr/>
            </p:nvSpPr>
            <p:spPr>
              <a:xfrm>
                <a:off x="6997680" y="2367000"/>
                <a:ext cx="185760" cy="92160"/>
              </a:xfrm>
              <a:custGeom>
                <a:avLst/>
                <a:gdLst/>
                <a:ahLst/>
                <a:rect l="l" t="t" r="r" b="b"/>
                <a:pathLst>
                  <a:path w="117" h="58">
                    <a:moveTo>
                      <a:pt x="0" y="0"/>
                    </a:moveTo>
                    <a:lnTo>
                      <a:pt x="58" y="58"/>
                    </a:lnTo>
                    <a:lnTo>
                      <a:pt x="1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997680" y="2367000"/>
                <a:ext cx="185760" cy="92160"/>
              </a:xfrm>
              <a:custGeom>
                <a:avLst/>
                <a:gdLst/>
                <a:ahLst/>
                <a:rect l="l" t="t" r="r" b="b"/>
                <a:pathLst>
                  <a:path w="117" h="58">
                    <a:moveTo>
                      <a:pt x="0" y="0"/>
                    </a:moveTo>
                    <a:lnTo>
                      <a:pt x="58" y="58"/>
                    </a:lnTo>
                    <a:lnTo>
                      <a:pt x="117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7264440" y="2367000"/>
              <a:ext cx="183960" cy="92160"/>
              <a:chOff x="7264440" y="2367000"/>
              <a:chExt cx="183960" cy="92160"/>
            </a:xfrm>
          </p:grpSpPr>
          <p:sp>
            <p:nvSpPr>
              <p:cNvPr id="1406" name=""/>
              <p:cNvSpPr/>
              <p:nvPr/>
            </p:nvSpPr>
            <p:spPr>
              <a:xfrm>
                <a:off x="7264440" y="2367000"/>
                <a:ext cx="183960" cy="92160"/>
              </a:xfrm>
              <a:custGeom>
                <a:avLst/>
                <a:gdLst/>
                <a:ahLst/>
                <a:rect l="l" t="t" r="r" b="b"/>
                <a:pathLst>
                  <a:path w="116" h="58">
                    <a:moveTo>
                      <a:pt x="0" y="0"/>
                    </a:moveTo>
                    <a:lnTo>
                      <a:pt x="59" y="58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264440" y="2367000"/>
                <a:ext cx="183960" cy="92160"/>
              </a:xfrm>
              <a:custGeom>
                <a:avLst/>
                <a:gdLst/>
                <a:ahLst/>
                <a:rect l="l" t="t" r="r" b="b"/>
                <a:pathLst>
                  <a:path w="116" h="58">
                    <a:moveTo>
                      <a:pt x="0" y="0"/>
                    </a:moveTo>
                    <a:lnTo>
                      <a:pt x="59" y="58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7551720" y="2367000"/>
              <a:ext cx="179280" cy="92160"/>
              <a:chOff x="7551720" y="2367000"/>
              <a:chExt cx="179280" cy="92160"/>
            </a:xfrm>
          </p:grpSpPr>
          <p:sp>
            <p:nvSpPr>
              <p:cNvPr id="1409" name=""/>
              <p:cNvSpPr/>
              <p:nvPr/>
            </p:nvSpPr>
            <p:spPr>
              <a:xfrm>
                <a:off x="7551720" y="2367000"/>
                <a:ext cx="179280" cy="92160"/>
              </a:xfrm>
              <a:custGeom>
                <a:avLst/>
                <a:gdLst/>
                <a:ahLst/>
                <a:rect l="l" t="t" r="r" b="b"/>
                <a:pathLst>
                  <a:path w="113" h="58">
                    <a:moveTo>
                      <a:pt x="0" y="0"/>
                    </a:moveTo>
                    <a:lnTo>
                      <a:pt x="55" y="58"/>
                    </a:lnTo>
                    <a:lnTo>
                      <a:pt x="1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551720" y="2367000"/>
                <a:ext cx="179280" cy="92160"/>
              </a:xfrm>
              <a:custGeom>
                <a:avLst/>
                <a:gdLst/>
                <a:ahLst/>
                <a:rect l="l" t="t" r="r" b="b"/>
                <a:pathLst>
                  <a:path w="113" h="58">
                    <a:moveTo>
                      <a:pt x="0" y="0"/>
                    </a:moveTo>
                    <a:lnTo>
                      <a:pt x="55" y="58"/>
                    </a:lnTo>
                    <a:lnTo>
                      <a:pt x="113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7813800" y="2367000"/>
              <a:ext cx="185760" cy="92160"/>
              <a:chOff x="7813800" y="2367000"/>
              <a:chExt cx="185760" cy="92160"/>
            </a:xfrm>
          </p:grpSpPr>
          <p:sp>
            <p:nvSpPr>
              <p:cNvPr id="1412" name=""/>
              <p:cNvSpPr/>
              <p:nvPr/>
            </p:nvSpPr>
            <p:spPr>
              <a:xfrm>
                <a:off x="7813800" y="2367000"/>
                <a:ext cx="185760" cy="92160"/>
              </a:xfrm>
              <a:custGeom>
                <a:avLst/>
                <a:gdLst/>
                <a:ahLst/>
                <a:rect l="l" t="t" r="r" b="b"/>
                <a:pathLst>
                  <a:path w="117" h="58">
                    <a:moveTo>
                      <a:pt x="0" y="0"/>
                    </a:moveTo>
                    <a:lnTo>
                      <a:pt x="59" y="58"/>
                    </a:lnTo>
                    <a:lnTo>
                      <a:pt x="1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813800" y="2367000"/>
                <a:ext cx="185760" cy="92160"/>
              </a:xfrm>
              <a:custGeom>
                <a:avLst/>
                <a:gdLst/>
                <a:ahLst/>
                <a:rect l="l" t="t" r="r" b="b"/>
                <a:pathLst>
                  <a:path w="117" h="58">
                    <a:moveTo>
                      <a:pt x="0" y="0"/>
                    </a:moveTo>
                    <a:lnTo>
                      <a:pt x="59" y="58"/>
                    </a:lnTo>
                    <a:lnTo>
                      <a:pt x="117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8061480" y="2376360"/>
              <a:ext cx="180720" cy="93960"/>
              <a:chOff x="8061480" y="2376360"/>
              <a:chExt cx="180720" cy="93960"/>
            </a:xfrm>
          </p:grpSpPr>
          <p:sp>
            <p:nvSpPr>
              <p:cNvPr id="1415" name=""/>
              <p:cNvSpPr/>
              <p:nvPr/>
            </p:nvSpPr>
            <p:spPr>
              <a:xfrm>
                <a:off x="8061480" y="2376360"/>
                <a:ext cx="180720" cy="93960"/>
              </a:xfrm>
              <a:custGeom>
                <a:avLst/>
                <a:gdLst/>
                <a:ahLst/>
                <a:rect l="l" t="t" r="r" b="b"/>
                <a:pathLst>
                  <a:path w="114" h="59">
                    <a:moveTo>
                      <a:pt x="0" y="0"/>
                    </a:moveTo>
                    <a:lnTo>
                      <a:pt x="57" y="59"/>
                    </a:lnTo>
                    <a:lnTo>
                      <a:pt x="1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8061480" y="2376360"/>
                <a:ext cx="180720" cy="93960"/>
              </a:xfrm>
              <a:custGeom>
                <a:avLst/>
                <a:gdLst/>
                <a:ahLst/>
                <a:rect l="l" t="t" r="r" b="b"/>
                <a:pathLst>
                  <a:path w="114" h="59">
                    <a:moveTo>
                      <a:pt x="0" y="0"/>
                    </a:moveTo>
                    <a:lnTo>
                      <a:pt x="57" y="59"/>
                    </a:lnTo>
                    <a:lnTo>
                      <a:pt x="114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8345520" y="2376360"/>
              <a:ext cx="182520" cy="93960"/>
              <a:chOff x="8345520" y="2376360"/>
              <a:chExt cx="182520" cy="93960"/>
            </a:xfrm>
          </p:grpSpPr>
          <p:sp>
            <p:nvSpPr>
              <p:cNvPr id="1418" name=""/>
              <p:cNvSpPr/>
              <p:nvPr/>
            </p:nvSpPr>
            <p:spPr>
              <a:xfrm>
                <a:off x="8345520" y="2376360"/>
                <a:ext cx="182520" cy="93960"/>
              </a:xfrm>
              <a:custGeom>
                <a:avLst/>
                <a:gdLst/>
                <a:ahLst/>
                <a:rect l="l" t="t" r="r" b="b"/>
                <a:pathLst>
                  <a:path w="115" h="59">
                    <a:moveTo>
                      <a:pt x="0" y="0"/>
                    </a:moveTo>
                    <a:lnTo>
                      <a:pt x="57" y="59"/>
                    </a:lnTo>
                    <a:lnTo>
                      <a:pt x="1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8345520" y="2376360"/>
                <a:ext cx="182520" cy="93960"/>
              </a:xfrm>
              <a:custGeom>
                <a:avLst/>
                <a:gdLst/>
                <a:ahLst/>
                <a:rect l="l" t="t" r="r" b="b"/>
                <a:pathLst>
                  <a:path w="115" h="59">
                    <a:moveTo>
                      <a:pt x="0" y="0"/>
                    </a:moveTo>
                    <a:lnTo>
                      <a:pt x="57" y="59"/>
                    </a:lnTo>
                    <a:lnTo>
                      <a:pt x="115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5067360" y="2387520"/>
              <a:ext cx="181080" cy="90720"/>
              <a:chOff x="5067360" y="2387520"/>
              <a:chExt cx="181080" cy="90720"/>
            </a:xfrm>
          </p:grpSpPr>
          <p:sp>
            <p:nvSpPr>
              <p:cNvPr id="1421" name=""/>
              <p:cNvSpPr/>
              <p:nvPr/>
            </p:nvSpPr>
            <p:spPr>
              <a:xfrm>
                <a:off x="5067360" y="2387520"/>
                <a:ext cx="181080" cy="9072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0" y="0"/>
                    </a:moveTo>
                    <a:lnTo>
                      <a:pt x="59" y="57"/>
                    </a:lnTo>
                    <a:lnTo>
                      <a:pt x="1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067360" y="2387520"/>
                <a:ext cx="181080" cy="9072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0" y="0"/>
                    </a:moveTo>
                    <a:lnTo>
                      <a:pt x="59" y="57"/>
                    </a:lnTo>
                    <a:lnTo>
                      <a:pt x="114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 flipV="1">
              <a:off x="4711680" y="2529000"/>
              <a:ext cx="1440" cy="79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24" name=""/>
            <p:cNvGrpSpPr/>
            <p:nvPr/>
          </p:nvGrpSpPr>
          <p:grpSpPr>
            <a:xfrm>
              <a:off x="4583160" y="2546280"/>
              <a:ext cx="261720" cy="228600"/>
              <a:chOff x="4583160" y="2546280"/>
              <a:chExt cx="261720" cy="228600"/>
            </a:xfrm>
          </p:grpSpPr>
          <p:sp>
            <p:nvSpPr>
              <p:cNvPr id="1425" name=""/>
              <p:cNvSpPr/>
              <p:nvPr/>
            </p:nvSpPr>
            <p:spPr>
              <a:xfrm>
                <a:off x="4583160" y="2546280"/>
                <a:ext cx="261720" cy="228600"/>
              </a:xfrm>
              <a:custGeom>
                <a:avLst/>
                <a:gdLst/>
                <a:ahLst/>
                <a:rect l="l" t="t" r="r" b="b"/>
                <a:pathLst>
                  <a:path w="165" h="144">
                    <a:moveTo>
                      <a:pt x="81" y="0"/>
                    </a:moveTo>
                    <a:lnTo>
                      <a:pt x="0" y="144"/>
                    </a:lnTo>
                    <a:lnTo>
                      <a:pt x="165" y="144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583160" y="2546280"/>
                <a:ext cx="261720" cy="228600"/>
              </a:xfrm>
              <a:custGeom>
                <a:avLst/>
                <a:gdLst/>
                <a:ahLst/>
                <a:rect l="l" t="t" r="r" b="b"/>
                <a:pathLst>
                  <a:path w="165" h="144">
                    <a:moveTo>
                      <a:pt x="81" y="0"/>
                    </a:moveTo>
                    <a:lnTo>
                      <a:pt x="0" y="144"/>
                    </a:lnTo>
                    <a:lnTo>
                      <a:pt x="165" y="144"/>
                    </a:lnTo>
                    <a:lnTo>
                      <a:pt x="81" y="0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8415360" y="2535120"/>
              <a:ext cx="282600" cy="247680"/>
              <a:chOff x="8415360" y="2535120"/>
              <a:chExt cx="282600" cy="247680"/>
            </a:xfrm>
          </p:grpSpPr>
          <p:sp>
            <p:nvSpPr>
              <p:cNvPr id="1428" name=""/>
              <p:cNvSpPr/>
              <p:nvPr/>
            </p:nvSpPr>
            <p:spPr>
              <a:xfrm>
                <a:off x="8415360" y="2535120"/>
                <a:ext cx="282600" cy="247680"/>
              </a:xfrm>
              <a:custGeom>
                <a:avLst/>
                <a:gdLst/>
                <a:ahLst/>
                <a:rect l="l" t="t" r="r" b="b"/>
                <a:pathLst>
                  <a:path w="178" h="156">
                    <a:moveTo>
                      <a:pt x="90" y="0"/>
                    </a:moveTo>
                    <a:lnTo>
                      <a:pt x="0" y="156"/>
                    </a:lnTo>
                    <a:lnTo>
                      <a:pt x="178" y="156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415360" y="2535120"/>
                <a:ext cx="282600" cy="247680"/>
              </a:xfrm>
              <a:custGeom>
                <a:avLst/>
                <a:gdLst/>
                <a:ahLst/>
                <a:rect l="l" t="t" r="r" b="b"/>
                <a:pathLst>
                  <a:path w="178" h="156">
                    <a:moveTo>
                      <a:pt x="90" y="0"/>
                    </a:moveTo>
                    <a:lnTo>
                      <a:pt x="0" y="156"/>
                    </a:lnTo>
                    <a:lnTo>
                      <a:pt x="178" y="156"/>
                    </a:lnTo>
                    <a:lnTo>
                      <a:pt x="90" y="0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430" name=""/>
            <p:cNvSpPr/>
            <p:nvPr/>
          </p:nvSpPr>
          <p:spPr>
            <a:xfrm>
              <a:off x="4448160" y="2774880"/>
              <a:ext cx="6015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8859600" y="3078000"/>
              <a:ext cx="4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8831160" y="3053880"/>
              <a:ext cx="33480" cy="25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8756640" y="2973240"/>
              <a:ext cx="108000" cy="106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8645040" y="2928960"/>
              <a:ext cx="155880" cy="150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8547120" y="2928960"/>
              <a:ext cx="149040" cy="150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8435880" y="2928960"/>
              <a:ext cx="154080" cy="150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8334000" y="2928960"/>
              <a:ext cx="152280" cy="150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8240760" y="2928960"/>
              <a:ext cx="141120" cy="138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8240760" y="2928960"/>
              <a:ext cx="33120" cy="34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4979880" y="2921040"/>
              <a:ext cx="28800" cy="17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4874760" y="2809800"/>
              <a:ext cx="133560" cy="128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772160" y="2774880"/>
              <a:ext cx="164880" cy="163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4689360" y="2774880"/>
              <a:ext cx="166680" cy="163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4586400" y="2774880"/>
              <a:ext cx="166680" cy="163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4505400" y="2774880"/>
              <a:ext cx="164880" cy="163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4448160" y="2774880"/>
              <a:ext cx="115920" cy="117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V="1">
              <a:off x="4448160" y="2774520"/>
              <a:ext cx="36360" cy="34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4447800" y="2774880"/>
              <a:ext cx="11160" cy="12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448160" y="2774880"/>
              <a:ext cx="6112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448160" y="2774880"/>
              <a:ext cx="6015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228160" y="2924280"/>
              <a:ext cx="655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52" name=""/>
            <p:cNvGrpSpPr/>
            <p:nvPr/>
          </p:nvGrpSpPr>
          <p:grpSpPr>
            <a:xfrm>
              <a:off x="4711680" y="2508120"/>
              <a:ext cx="3859200" cy="24120"/>
              <a:chOff x="4711680" y="2508120"/>
              <a:chExt cx="3859200" cy="24120"/>
            </a:xfrm>
          </p:grpSpPr>
          <p:sp>
            <p:nvSpPr>
              <p:cNvPr id="1453" name=""/>
              <p:cNvSpPr/>
              <p:nvPr/>
            </p:nvSpPr>
            <p:spPr>
              <a:xfrm>
                <a:off x="4711680" y="2508120"/>
                <a:ext cx="3859200" cy="24120"/>
              </a:xfrm>
              <a:custGeom>
                <a:avLst/>
                <a:gdLst/>
                <a:ahLst/>
                <a:rect l="l" t="t" r="r" b="b"/>
                <a:pathLst>
                  <a:path w="2431" h="15">
                    <a:moveTo>
                      <a:pt x="6" y="15"/>
                    </a:moveTo>
                    <a:lnTo>
                      <a:pt x="5" y="15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2423" y="0"/>
                    </a:lnTo>
                    <a:lnTo>
                      <a:pt x="2424" y="0"/>
                    </a:lnTo>
                    <a:lnTo>
                      <a:pt x="2426" y="1"/>
                    </a:lnTo>
                    <a:lnTo>
                      <a:pt x="2430" y="1"/>
                    </a:lnTo>
                    <a:lnTo>
                      <a:pt x="2431" y="4"/>
                    </a:lnTo>
                    <a:lnTo>
                      <a:pt x="2431" y="5"/>
                    </a:lnTo>
                    <a:lnTo>
                      <a:pt x="2431" y="8"/>
                    </a:lnTo>
                    <a:lnTo>
                      <a:pt x="2431" y="10"/>
                    </a:lnTo>
                    <a:lnTo>
                      <a:pt x="2431" y="13"/>
                    </a:lnTo>
                    <a:lnTo>
                      <a:pt x="2430" y="13"/>
                    </a:lnTo>
                    <a:lnTo>
                      <a:pt x="2426" y="15"/>
                    </a:lnTo>
                    <a:lnTo>
                      <a:pt x="2424" y="15"/>
                    </a:lnTo>
                    <a:lnTo>
                      <a:pt x="2423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711680" y="2508120"/>
                <a:ext cx="3859200" cy="24120"/>
              </a:xfrm>
              <a:custGeom>
                <a:avLst/>
                <a:gdLst/>
                <a:ahLst/>
                <a:rect l="l" t="t" r="r" b="b"/>
                <a:pathLst>
                  <a:path w="2431" h="15">
                    <a:moveTo>
                      <a:pt x="6" y="15"/>
                    </a:moveTo>
                    <a:lnTo>
                      <a:pt x="5" y="15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2423" y="0"/>
                    </a:lnTo>
                    <a:lnTo>
                      <a:pt x="2424" y="0"/>
                    </a:lnTo>
                    <a:lnTo>
                      <a:pt x="2426" y="1"/>
                    </a:lnTo>
                    <a:lnTo>
                      <a:pt x="2430" y="1"/>
                    </a:lnTo>
                    <a:lnTo>
                      <a:pt x="2431" y="4"/>
                    </a:lnTo>
                    <a:lnTo>
                      <a:pt x="2431" y="5"/>
                    </a:lnTo>
                    <a:lnTo>
                      <a:pt x="2431" y="8"/>
                    </a:lnTo>
                    <a:lnTo>
                      <a:pt x="2431" y="10"/>
                    </a:lnTo>
                    <a:lnTo>
                      <a:pt x="2431" y="13"/>
                    </a:lnTo>
                    <a:lnTo>
                      <a:pt x="2430" y="13"/>
                    </a:lnTo>
                    <a:lnTo>
                      <a:pt x="2426" y="15"/>
                    </a:lnTo>
                    <a:lnTo>
                      <a:pt x="2424" y="15"/>
                    </a:lnTo>
                    <a:lnTo>
                      <a:pt x="2423" y="15"/>
                    </a:lnTo>
                    <a:lnTo>
                      <a:pt x="6" y="15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455" name=""/>
            <p:cNvSpPr/>
            <p:nvPr/>
          </p:nvSpPr>
          <p:spPr>
            <a:xfrm>
              <a:off x="4875120" y="2128680"/>
              <a:ext cx="1800" cy="27972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4782960" y="2387520"/>
              <a:ext cx="182880" cy="90720"/>
              <a:chOff x="4782960" y="2387520"/>
              <a:chExt cx="182880" cy="90720"/>
            </a:xfrm>
          </p:grpSpPr>
          <p:sp>
            <p:nvSpPr>
              <p:cNvPr id="1457" name=""/>
              <p:cNvSpPr/>
              <p:nvPr/>
            </p:nvSpPr>
            <p:spPr>
              <a:xfrm>
                <a:off x="4782960" y="2387520"/>
                <a:ext cx="182880" cy="90720"/>
              </a:xfrm>
              <a:custGeom>
                <a:avLst/>
                <a:gdLst/>
                <a:ahLst/>
                <a:rect l="l" t="t" r="r" b="b"/>
                <a:pathLst>
                  <a:path w="115" h="57">
                    <a:moveTo>
                      <a:pt x="0" y="0"/>
                    </a:moveTo>
                    <a:lnTo>
                      <a:pt x="58" y="57"/>
                    </a:lnTo>
                    <a:lnTo>
                      <a:pt x="1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782960" y="2387520"/>
                <a:ext cx="182880" cy="90720"/>
              </a:xfrm>
              <a:custGeom>
                <a:avLst/>
                <a:gdLst/>
                <a:ahLst/>
                <a:rect l="l" t="t" r="r" b="b"/>
                <a:pathLst>
                  <a:path w="115" h="57">
                    <a:moveTo>
                      <a:pt x="0" y="0"/>
                    </a:moveTo>
                    <a:lnTo>
                      <a:pt x="58" y="57"/>
                    </a:lnTo>
                    <a:lnTo>
                      <a:pt x="115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459" name=""/>
            <p:cNvSpPr/>
            <p:nvPr/>
          </p:nvSpPr>
          <p:spPr>
            <a:xfrm>
              <a:off x="5162400" y="2128680"/>
              <a:ext cx="1800" cy="27972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423040" y="2128680"/>
              <a:ext cx="1440" cy="27972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699160" y="2128680"/>
              <a:ext cx="1440" cy="27972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86440" y="2128680"/>
              <a:ext cx="1440" cy="27972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1400" y="2128680"/>
              <a:ext cx="1800" cy="27972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540480" y="2128680"/>
              <a:ext cx="1440" cy="27972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818400" y="2128680"/>
              <a:ext cx="1440" cy="27972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089840" y="2128680"/>
              <a:ext cx="1440" cy="27972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358040" y="2128680"/>
              <a:ext cx="1440" cy="27972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639200" y="2128680"/>
              <a:ext cx="1440" cy="27972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907400" y="2128680"/>
              <a:ext cx="1440" cy="27972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151840" y="2136600"/>
              <a:ext cx="0" cy="28116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435880" y="2136600"/>
              <a:ext cx="1800" cy="28116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72" name=""/>
            <p:cNvGrpSpPr/>
            <p:nvPr/>
          </p:nvGrpSpPr>
          <p:grpSpPr>
            <a:xfrm>
              <a:off x="4645080" y="2462040"/>
              <a:ext cx="131760" cy="123840"/>
              <a:chOff x="4645080" y="2462040"/>
              <a:chExt cx="131760" cy="123840"/>
            </a:xfrm>
          </p:grpSpPr>
          <p:sp>
            <p:nvSpPr>
              <p:cNvPr id="1473" name=""/>
              <p:cNvSpPr/>
              <p:nvPr/>
            </p:nvSpPr>
            <p:spPr>
              <a:xfrm>
                <a:off x="4645080" y="2462040"/>
                <a:ext cx="131760" cy="123840"/>
              </a:xfrm>
              <a:prstGeom prst="ellipse">
                <a:avLst/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645080" y="2462040"/>
                <a:ext cx="131760" cy="123840"/>
              </a:xfrm>
              <a:prstGeom prst="ellipse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8499600" y="2455920"/>
              <a:ext cx="129960" cy="125280"/>
              <a:chOff x="8499600" y="2455920"/>
              <a:chExt cx="129960" cy="125280"/>
            </a:xfrm>
          </p:grpSpPr>
          <p:sp>
            <p:nvSpPr>
              <p:cNvPr id="1476" name=""/>
              <p:cNvSpPr/>
              <p:nvPr/>
            </p:nvSpPr>
            <p:spPr>
              <a:xfrm>
                <a:off x="8499600" y="2455920"/>
                <a:ext cx="129960" cy="125280"/>
              </a:xfrm>
              <a:prstGeom prst="ellipse">
                <a:avLst/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8499600" y="2455920"/>
                <a:ext cx="129960" cy="125280"/>
              </a:xfrm>
              <a:prstGeom prst="ellipse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78" name=""/>
            <p:cNvGrpSpPr/>
            <p:nvPr/>
          </p:nvGrpSpPr>
          <p:grpSpPr>
            <a:xfrm>
              <a:off x="8412120" y="2792520"/>
              <a:ext cx="130320" cy="125280"/>
              <a:chOff x="8412120" y="2792520"/>
              <a:chExt cx="130320" cy="125280"/>
            </a:xfrm>
          </p:grpSpPr>
          <p:sp>
            <p:nvSpPr>
              <p:cNvPr id="1479" name=""/>
              <p:cNvSpPr/>
              <p:nvPr/>
            </p:nvSpPr>
            <p:spPr>
              <a:xfrm>
                <a:off x="8412120" y="2792520"/>
                <a:ext cx="130320" cy="125280"/>
              </a:xfrm>
              <a:prstGeom prst="ellipse">
                <a:avLst/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8412120" y="2792520"/>
                <a:ext cx="130320" cy="125280"/>
              </a:xfrm>
              <a:prstGeom prst="ellipse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8602560" y="2795760"/>
              <a:ext cx="130320" cy="126720"/>
              <a:chOff x="8602560" y="2795760"/>
              <a:chExt cx="130320" cy="126720"/>
            </a:xfrm>
          </p:grpSpPr>
          <p:sp>
            <p:nvSpPr>
              <p:cNvPr id="1482" name=""/>
              <p:cNvSpPr/>
              <p:nvPr/>
            </p:nvSpPr>
            <p:spPr>
              <a:xfrm>
                <a:off x="8602560" y="2795760"/>
                <a:ext cx="130320" cy="126720"/>
              </a:xfrm>
              <a:prstGeom prst="ellipse">
                <a:avLst/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8602560" y="2795760"/>
                <a:ext cx="130320" cy="126720"/>
              </a:xfrm>
              <a:prstGeom prst="ellipse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84" name=""/>
            <p:cNvGrpSpPr/>
            <p:nvPr/>
          </p:nvGrpSpPr>
          <p:grpSpPr>
            <a:xfrm>
              <a:off x="5127480" y="2563920"/>
              <a:ext cx="236520" cy="460440"/>
              <a:chOff x="5127480" y="2563920"/>
              <a:chExt cx="236520" cy="460440"/>
            </a:xfrm>
          </p:grpSpPr>
          <p:sp>
            <p:nvSpPr>
              <p:cNvPr id="1485" name=""/>
              <p:cNvSpPr/>
              <p:nvPr/>
            </p:nvSpPr>
            <p:spPr>
              <a:xfrm>
                <a:off x="5127480" y="2563920"/>
                <a:ext cx="236520" cy="460440"/>
              </a:xfrm>
              <a:custGeom>
                <a:avLst/>
                <a:gdLst/>
                <a:ahLst/>
                <a:rect l="l" t="t" r="r" b="b"/>
                <a:pathLst>
                  <a:path w="149" h="290">
                    <a:moveTo>
                      <a:pt x="113" y="290"/>
                    </a:moveTo>
                    <a:lnTo>
                      <a:pt x="57" y="199"/>
                    </a:lnTo>
                    <a:lnTo>
                      <a:pt x="0" y="50"/>
                    </a:lnTo>
                    <a:lnTo>
                      <a:pt x="71" y="0"/>
                    </a:lnTo>
                    <a:lnTo>
                      <a:pt x="63" y="71"/>
                    </a:lnTo>
                    <a:lnTo>
                      <a:pt x="149" y="192"/>
                    </a:lnTo>
                    <a:lnTo>
                      <a:pt x="113" y="29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127480" y="2563920"/>
                <a:ext cx="236520" cy="460440"/>
              </a:xfrm>
              <a:custGeom>
                <a:avLst/>
                <a:gdLst/>
                <a:ahLst/>
                <a:rect l="l" t="t" r="r" b="b"/>
                <a:pathLst>
                  <a:path w="149" h="290">
                    <a:moveTo>
                      <a:pt x="113" y="290"/>
                    </a:moveTo>
                    <a:lnTo>
                      <a:pt x="57" y="199"/>
                    </a:lnTo>
                    <a:lnTo>
                      <a:pt x="0" y="50"/>
                    </a:lnTo>
                    <a:lnTo>
                      <a:pt x="71" y="0"/>
                    </a:lnTo>
                    <a:lnTo>
                      <a:pt x="63" y="71"/>
                    </a:lnTo>
                    <a:lnTo>
                      <a:pt x="149" y="192"/>
                    </a:lnTo>
                    <a:lnTo>
                      <a:pt x="113" y="290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5364000" y="2585880"/>
              <a:ext cx="225720" cy="428760"/>
              <a:chOff x="5364000" y="2585880"/>
              <a:chExt cx="225720" cy="428760"/>
            </a:xfrm>
          </p:grpSpPr>
          <p:sp>
            <p:nvSpPr>
              <p:cNvPr id="1488" name=""/>
              <p:cNvSpPr/>
              <p:nvPr/>
            </p:nvSpPr>
            <p:spPr>
              <a:xfrm>
                <a:off x="5364000" y="2585880"/>
                <a:ext cx="225720" cy="428760"/>
              </a:xfrm>
              <a:custGeom>
                <a:avLst/>
                <a:gdLst/>
                <a:ahLst/>
                <a:rect l="l" t="t" r="r" b="b"/>
                <a:pathLst>
                  <a:path w="142" h="270">
                    <a:moveTo>
                      <a:pt x="50" y="270"/>
                    </a:moveTo>
                    <a:lnTo>
                      <a:pt x="36" y="192"/>
                    </a:lnTo>
                    <a:lnTo>
                      <a:pt x="56" y="106"/>
                    </a:lnTo>
                    <a:lnTo>
                      <a:pt x="0" y="0"/>
                    </a:lnTo>
                    <a:lnTo>
                      <a:pt x="114" y="21"/>
                    </a:lnTo>
                    <a:lnTo>
                      <a:pt x="142" y="86"/>
                    </a:lnTo>
                    <a:lnTo>
                      <a:pt x="50" y="27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364000" y="2585880"/>
                <a:ext cx="225720" cy="428760"/>
              </a:xfrm>
              <a:custGeom>
                <a:avLst/>
                <a:gdLst/>
                <a:ahLst/>
                <a:rect l="l" t="t" r="r" b="b"/>
                <a:pathLst>
                  <a:path w="142" h="270">
                    <a:moveTo>
                      <a:pt x="50" y="270"/>
                    </a:moveTo>
                    <a:lnTo>
                      <a:pt x="36" y="192"/>
                    </a:lnTo>
                    <a:lnTo>
                      <a:pt x="56" y="106"/>
                    </a:lnTo>
                    <a:lnTo>
                      <a:pt x="0" y="0"/>
                    </a:lnTo>
                    <a:lnTo>
                      <a:pt x="114" y="21"/>
                    </a:lnTo>
                    <a:lnTo>
                      <a:pt x="142" y="86"/>
                    </a:lnTo>
                    <a:lnTo>
                      <a:pt x="50" y="270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5646600" y="2598840"/>
              <a:ext cx="236520" cy="245880"/>
              <a:chOff x="5646600" y="2598840"/>
              <a:chExt cx="236520" cy="245880"/>
            </a:xfrm>
          </p:grpSpPr>
          <p:sp>
            <p:nvSpPr>
              <p:cNvPr id="1491" name=""/>
              <p:cNvSpPr/>
              <p:nvPr/>
            </p:nvSpPr>
            <p:spPr>
              <a:xfrm>
                <a:off x="5646600" y="2598840"/>
                <a:ext cx="236520" cy="245880"/>
              </a:xfrm>
              <a:custGeom>
                <a:avLst/>
                <a:gdLst/>
                <a:ahLst/>
                <a:rect l="l" t="t" r="r" b="b"/>
                <a:pathLst>
                  <a:path w="149" h="155">
                    <a:moveTo>
                      <a:pt x="35" y="0"/>
                    </a:moveTo>
                    <a:lnTo>
                      <a:pt x="0" y="92"/>
                    </a:lnTo>
                    <a:lnTo>
                      <a:pt x="149" y="155"/>
                    </a:lnTo>
                    <a:lnTo>
                      <a:pt x="149" y="12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646600" y="2598840"/>
                <a:ext cx="236520" cy="245880"/>
              </a:xfrm>
              <a:custGeom>
                <a:avLst/>
                <a:gdLst/>
                <a:ahLst/>
                <a:rect l="l" t="t" r="r" b="b"/>
                <a:pathLst>
                  <a:path w="149" h="155">
                    <a:moveTo>
                      <a:pt x="35" y="0"/>
                    </a:moveTo>
                    <a:lnTo>
                      <a:pt x="0" y="92"/>
                    </a:lnTo>
                    <a:lnTo>
                      <a:pt x="149" y="155"/>
                    </a:lnTo>
                    <a:lnTo>
                      <a:pt x="149" y="120"/>
                    </a:lnTo>
                    <a:lnTo>
                      <a:pt x="35" y="0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5621400" y="2824200"/>
              <a:ext cx="225360" cy="190440"/>
              <a:chOff x="5621400" y="2824200"/>
              <a:chExt cx="225360" cy="190440"/>
            </a:xfrm>
          </p:grpSpPr>
          <p:sp>
            <p:nvSpPr>
              <p:cNvPr id="1494" name=""/>
              <p:cNvSpPr/>
              <p:nvPr/>
            </p:nvSpPr>
            <p:spPr>
              <a:xfrm>
                <a:off x="5621400" y="2824200"/>
                <a:ext cx="225360" cy="190440"/>
              </a:xfrm>
              <a:custGeom>
                <a:avLst/>
                <a:gdLst/>
                <a:ahLst/>
                <a:rect l="l" t="t" r="r" b="b"/>
                <a:pathLst>
                  <a:path w="142" h="120">
                    <a:moveTo>
                      <a:pt x="0" y="120"/>
                    </a:moveTo>
                    <a:lnTo>
                      <a:pt x="44" y="48"/>
                    </a:lnTo>
                    <a:lnTo>
                      <a:pt x="23" y="0"/>
                    </a:lnTo>
                    <a:lnTo>
                      <a:pt x="142" y="56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621400" y="2824200"/>
                <a:ext cx="225360" cy="190440"/>
              </a:xfrm>
              <a:custGeom>
                <a:avLst/>
                <a:gdLst/>
                <a:ahLst/>
                <a:rect l="l" t="t" r="r" b="b"/>
                <a:pathLst>
                  <a:path w="142" h="120">
                    <a:moveTo>
                      <a:pt x="0" y="120"/>
                    </a:moveTo>
                    <a:lnTo>
                      <a:pt x="44" y="48"/>
                    </a:lnTo>
                    <a:lnTo>
                      <a:pt x="23" y="0"/>
                    </a:lnTo>
                    <a:lnTo>
                      <a:pt x="142" y="56"/>
                    </a:lnTo>
                    <a:lnTo>
                      <a:pt x="0" y="120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5961240" y="2575080"/>
              <a:ext cx="439560" cy="428400"/>
              <a:chOff x="5961240" y="2575080"/>
              <a:chExt cx="439560" cy="428400"/>
            </a:xfrm>
          </p:grpSpPr>
          <p:sp>
            <p:nvSpPr>
              <p:cNvPr id="1497" name=""/>
              <p:cNvSpPr/>
              <p:nvPr/>
            </p:nvSpPr>
            <p:spPr>
              <a:xfrm>
                <a:off x="5961240" y="2575080"/>
                <a:ext cx="439560" cy="428400"/>
              </a:xfrm>
              <a:custGeom>
                <a:avLst/>
                <a:gdLst/>
                <a:ahLst/>
                <a:rect l="l" t="t" r="r" b="b"/>
                <a:pathLst>
                  <a:path w="277" h="270">
                    <a:moveTo>
                      <a:pt x="29" y="270"/>
                    </a:moveTo>
                    <a:lnTo>
                      <a:pt x="7" y="199"/>
                    </a:lnTo>
                    <a:lnTo>
                      <a:pt x="0" y="79"/>
                    </a:lnTo>
                    <a:lnTo>
                      <a:pt x="85" y="35"/>
                    </a:lnTo>
                    <a:lnTo>
                      <a:pt x="142" y="0"/>
                    </a:lnTo>
                    <a:lnTo>
                      <a:pt x="78" y="114"/>
                    </a:lnTo>
                    <a:lnTo>
                      <a:pt x="99" y="171"/>
                    </a:lnTo>
                    <a:lnTo>
                      <a:pt x="171" y="142"/>
                    </a:lnTo>
                    <a:lnTo>
                      <a:pt x="184" y="79"/>
                    </a:lnTo>
                    <a:lnTo>
                      <a:pt x="192" y="7"/>
                    </a:lnTo>
                    <a:lnTo>
                      <a:pt x="277" y="71"/>
                    </a:lnTo>
                    <a:lnTo>
                      <a:pt x="220" y="149"/>
                    </a:lnTo>
                    <a:lnTo>
                      <a:pt x="171" y="221"/>
                    </a:lnTo>
                    <a:lnTo>
                      <a:pt x="29" y="27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961240" y="2575080"/>
                <a:ext cx="439560" cy="428400"/>
              </a:xfrm>
              <a:custGeom>
                <a:avLst/>
                <a:gdLst/>
                <a:ahLst/>
                <a:rect l="l" t="t" r="r" b="b"/>
                <a:pathLst>
                  <a:path w="277" h="270">
                    <a:moveTo>
                      <a:pt x="29" y="270"/>
                    </a:moveTo>
                    <a:lnTo>
                      <a:pt x="7" y="199"/>
                    </a:lnTo>
                    <a:lnTo>
                      <a:pt x="0" y="79"/>
                    </a:lnTo>
                    <a:lnTo>
                      <a:pt x="85" y="35"/>
                    </a:lnTo>
                    <a:lnTo>
                      <a:pt x="142" y="0"/>
                    </a:lnTo>
                    <a:lnTo>
                      <a:pt x="78" y="114"/>
                    </a:lnTo>
                    <a:lnTo>
                      <a:pt x="99" y="171"/>
                    </a:lnTo>
                    <a:lnTo>
                      <a:pt x="171" y="142"/>
                    </a:lnTo>
                    <a:lnTo>
                      <a:pt x="184" y="79"/>
                    </a:lnTo>
                    <a:lnTo>
                      <a:pt x="192" y="7"/>
                    </a:lnTo>
                    <a:lnTo>
                      <a:pt x="277" y="71"/>
                    </a:lnTo>
                    <a:lnTo>
                      <a:pt x="220" y="149"/>
                    </a:lnTo>
                    <a:lnTo>
                      <a:pt x="171" y="221"/>
                    </a:lnTo>
                    <a:lnTo>
                      <a:pt x="29" y="270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6445080" y="2630520"/>
              <a:ext cx="371520" cy="361800"/>
              <a:chOff x="6445080" y="2630520"/>
              <a:chExt cx="371520" cy="361800"/>
            </a:xfrm>
          </p:grpSpPr>
          <p:sp>
            <p:nvSpPr>
              <p:cNvPr id="1500" name=""/>
              <p:cNvSpPr/>
              <p:nvPr/>
            </p:nvSpPr>
            <p:spPr>
              <a:xfrm>
                <a:off x="6445080" y="2630520"/>
                <a:ext cx="371520" cy="361800"/>
              </a:xfrm>
              <a:custGeom>
                <a:avLst/>
                <a:gdLst/>
                <a:ahLst/>
                <a:rect l="l" t="t" r="r" b="b"/>
                <a:pathLst>
                  <a:path w="234" h="228">
                    <a:moveTo>
                      <a:pt x="0" y="0"/>
                    </a:moveTo>
                    <a:lnTo>
                      <a:pt x="57" y="92"/>
                    </a:lnTo>
                    <a:lnTo>
                      <a:pt x="28" y="178"/>
                    </a:lnTo>
                    <a:lnTo>
                      <a:pt x="114" y="228"/>
                    </a:lnTo>
                    <a:lnTo>
                      <a:pt x="234" y="228"/>
                    </a:lnTo>
                    <a:lnTo>
                      <a:pt x="163" y="1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445080" y="2630520"/>
                <a:ext cx="371520" cy="361800"/>
              </a:xfrm>
              <a:custGeom>
                <a:avLst/>
                <a:gdLst/>
                <a:ahLst/>
                <a:rect l="l" t="t" r="r" b="b"/>
                <a:pathLst>
                  <a:path w="234" h="228">
                    <a:moveTo>
                      <a:pt x="0" y="0"/>
                    </a:moveTo>
                    <a:lnTo>
                      <a:pt x="57" y="92"/>
                    </a:lnTo>
                    <a:lnTo>
                      <a:pt x="28" y="178"/>
                    </a:lnTo>
                    <a:lnTo>
                      <a:pt x="114" y="228"/>
                    </a:lnTo>
                    <a:lnTo>
                      <a:pt x="234" y="228"/>
                    </a:lnTo>
                    <a:lnTo>
                      <a:pt x="163" y="14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6794640" y="2619360"/>
              <a:ext cx="326880" cy="360360"/>
              <a:chOff x="6794640" y="2619360"/>
              <a:chExt cx="326880" cy="360360"/>
            </a:xfrm>
          </p:grpSpPr>
          <p:sp>
            <p:nvSpPr>
              <p:cNvPr id="1503" name=""/>
              <p:cNvSpPr/>
              <p:nvPr/>
            </p:nvSpPr>
            <p:spPr>
              <a:xfrm>
                <a:off x="6794640" y="2619360"/>
                <a:ext cx="326880" cy="360360"/>
              </a:xfrm>
              <a:custGeom>
                <a:avLst/>
                <a:gdLst/>
                <a:ahLst/>
                <a:rect l="l" t="t" r="r" b="b"/>
                <a:pathLst>
                  <a:path w="206" h="227">
                    <a:moveTo>
                      <a:pt x="21" y="0"/>
                    </a:moveTo>
                    <a:lnTo>
                      <a:pt x="0" y="86"/>
                    </a:lnTo>
                    <a:lnTo>
                      <a:pt x="92" y="193"/>
                    </a:lnTo>
                    <a:lnTo>
                      <a:pt x="42" y="213"/>
                    </a:lnTo>
                    <a:lnTo>
                      <a:pt x="206" y="227"/>
                    </a:lnTo>
                    <a:lnTo>
                      <a:pt x="120" y="79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794640" y="2619360"/>
                <a:ext cx="326880" cy="360360"/>
              </a:xfrm>
              <a:custGeom>
                <a:avLst/>
                <a:gdLst/>
                <a:ahLst/>
                <a:rect l="l" t="t" r="r" b="b"/>
                <a:pathLst>
                  <a:path w="206" h="227">
                    <a:moveTo>
                      <a:pt x="21" y="0"/>
                    </a:moveTo>
                    <a:lnTo>
                      <a:pt x="0" y="86"/>
                    </a:lnTo>
                    <a:lnTo>
                      <a:pt x="92" y="193"/>
                    </a:lnTo>
                    <a:lnTo>
                      <a:pt x="42" y="213"/>
                    </a:lnTo>
                    <a:lnTo>
                      <a:pt x="206" y="227"/>
                    </a:lnTo>
                    <a:lnTo>
                      <a:pt x="120" y="79"/>
                    </a:lnTo>
                    <a:lnTo>
                      <a:pt x="21" y="0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7108920" y="2643120"/>
              <a:ext cx="147600" cy="336600"/>
              <a:chOff x="7108920" y="2643120"/>
              <a:chExt cx="147600" cy="336600"/>
            </a:xfrm>
          </p:grpSpPr>
          <p:sp>
            <p:nvSpPr>
              <p:cNvPr id="1506" name=""/>
              <p:cNvSpPr/>
              <p:nvPr/>
            </p:nvSpPr>
            <p:spPr>
              <a:xfrm>
                <a:off x="7108920" y="2643120"/>
                <a:ext cx="147600" cy="336600"/>
              </a:xfrm>
              <a:custGeom>
                <a:avLst/>
                <a:gdLst/>
                <a:ahLst/>
                <a:rect l="l" t="t" r="r" b="b"/>
                <a:pathLst>
                  <a:path w="93" h="212">
                    <a:moveTo>
                      <a:pt x="93" y="0"/>
                    </a:moveTo>
                    <a:lnTo>
                      <a:pt x="0" y="99"/>
                    </a:lnTo>
                    <a:lnTo>
                      <a:pt x="50" y="212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108920" y="2643120"/>
                <a:ext cx="147600" cy="336600"/>
              </a:xfrm>
              <a:custGeom>
                <a:avLst/>
                <a:gdLst/>
                <a:ahLst/>
                <a:rect l="l" t="t" r="r" b="b"/>
                <a:pathLst>
                  <a:path w="93" h="212">
                    <a:moveTo>
                      <a:pt x="93" y="0"/>
                    </a:moveTo>
                    <a:lnTo>
                      <a:pt x="0" y="99"/>
                    </a:lnTo>
                    <a:lnTo>
                      <a:pt x="50" y="212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7289640" y="2619360"/>
              <a:ext cx="157320" cy="249120"/>
              <a:chOff x="7289640" y="2619360"/>
              <a:chExt cx="157320" cy="249120"/>
            </a:xfrm>
          </p:grpSpPr>
          <p:sp>
            <p:nvSpPr>
              <p:cNvPr id="1509" name=""/>
              <p:cNvSpPr/>
              <p:nvPr/>
            </p:nvSpPr>
            <p:spPr>
              <a:xfrm>
                <a:off x="7289640" y="2619360"/>
                <a:ext cx="157320" cy="249120"/>
              </a:xfrm>
              <a:custGeom>
                <a:avLst/>
                <a:gdLst/>
                <a:ahLst/>
                <a:rect l="l" t="t" r="r" b="b"/>
                <a:pathLst>
                  <a:path w="99" h="157">
                    <a:moveTo>
                      <a:pt x="99" y="0"/>
                    </a:moveTo>
                    <a:lnTo>
                      <a:pt x="0" y="79"/>
                    </a:lnTo>
                    <a:lnTo>
                      <a:pt x="8" y="157"/>
                    </a:lnTo>
                    <a:lnTo>
                      <a:pt x="85" y="99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289640" y="2619360"/>
                <a:ext cx="157320" cy="249120"/>
              </a:xfrm>
              <a:custGeom>
                <a:avLst/>
                <a:gdLst/>
                <a:ahLst/>
                <a:rect l="l" t="t" r="r" b="b"/>
                <a:pathLst>
                  <a:path w="99" h="157">
                    <a:moveTo>
                      <a:pt x="99" y="0"/>
                    </a:moveTo>
                    <a:lnTo>
                      <a:pt x="0" y="79"/>
                    </a:lnTo>
                    <a:lnTo>
                      <a:pt x="8" y="157"/>
                    </a:lnTo>
                    <a:lnTo>
                      <a:pt x="85" y="99"/>
                    </a:lnTo>
                    <a:lnTo>
                      <a:pt x="99" y="0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7470720" y="2575080"/>
              <a:ext cx="257400" cy="382320"/>
              <a:chOff x="7470720" y="2575080"/>
              <a:chExt cx="257400" cy="382320"/>
            </a:xfrm>
          </p:grpSpPr>
          <p:sp>
            <p:nvSpPr>
              <p:cNvPr id="1512" name=""/>
              <p:cNvSpPr/>
              <p:nvPr/>
            </p:nvSpPr>
            <p:spPr>
              <a:xfrm>
                <a:off x="7470720" y="2575080"/>
                <a:ext cx="257400" cy="3823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241"/>
                    </a:moveTo>
                    <a:lnTo>
                      <a:pt x="56" y="142"/>
                    </a:lnTo>
                    <a:lnTo>
                      <a:pt x="28" y="85"/>
                    </a:lnTo>
                    <a:lnTo>
                      <a:pt x="64" y="7"/>
                    </a:lnTo>
                    <a:lnTo>
                      <a:pt x="113" y="0"/>
                    </a:lnTo>
                    <a:lnTo>
                      <a:pt x="92" y="85"/>
                    </a:lnTo>
                    <a:lnTo>
                      <a:pt x="162" y="157"/>
                    </a:lnTo>
                    <a:lnTo>
                      <a:pt x="120" y="241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470720" y="2575080"/>
                <a:ext cx="257400" cy="3823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241"/>
                    </a:moveTo>
                    <a:lnTo>
                      <a:pt x="56" y="142"/>
                    </a:lnTo>
                    <a:lnTo>
                      <a:pt x="28" y="85"/>
                    </a:lnTo>
                    <a:lnTo>
                      <a:pt x="64" y="7"/>
                    </a:lnTo>
                    <a:lnTo>
                      <a:pt x="113" y="0"/>
                    </a:lnTo>
                    <a:lnTo>
                      <a:pt x="92" y="85"/>
                    </a:lnTo>
                    <a:lnTo>
                      <a:pt x="162" y="157"/>
                    </a:lnTo>
                    <a:lnTo>
                      <a:pt x="120" y="241"/>
                    </a:lnTo>
                    <a:lnTo>
                      <a:pt x="0" y="241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7716960" y="2619360"/>
              <a:ext cx="293400" cy="328680"/>
              <a:chOff x="7716960" y="2619360"/>
              <a:chExt cx="293400" cy="328680"/>
            </a:xfrm>
          </p:grpSpPr>
          <p:sp>
            <p:nvSpPr>
              <p:cNvPr id="1515" name=""/>
              <p:cNvSpPr/>
              <p:nvPr/>
            </p:nvSpPr>
            <p:spPr>
              <a:xfrm>
                <a:off x="7716960" y="2619360"/>
                <a:ext cx="293400" cy="328680"/>
              </a:xfrm>
              <a:custGeom>
                <a:avLst/>
                <a:gdLst/>
                <a:ahLst/>
                <a:rect l="l" t="t" r="r" b="b"/>
                <a:pathLst>
                  <a:path w="185" h="207">
                    <a:moveTo>
                      <a:pt x="100" y="0"/>
                    </a:moveTo>
                    <a:lnTo>
                      <a:pt x="64" y="57"/>
                    </a:lnTo>
                    <a:lnTo>
                      <a:pt x="0" y="93"/>
                    </a:lnTo>
                    <a:lnTo>
                      <a:pt x="114" y="143"/>
                    </a:lnTo>
                    <a:lnTo>
                      <a:pt x="129" y="207"/>
                    </a:lnTo>
                    <a:lnTo>
                      <a:pt x="185" y="149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716960" y="2619360"/>
                <a:ext cx="293400" cy="328680"/>
              </a:xfrm>
              <a:custGeom>
                <a:avLst/>
                <a:gdLst/>
                <a:ahLst/>
                <a:rect l="l" t="t" r="r" b="b"/>
                <a:pathLst>
                  <a:path w="185" h="207">
                    <a:moveTo>
                      <a:pt x="100" y="0"/>
                    </a:moveTo>
                    <a:lnTo>
                      <a:pt x="64" y="57"/>
                    </a:lnTo>
                    <a:lnTo>
                      <a:pt x="0" y="93"/>
                    </a:lnTo>
                    <a:lnTo>
                      <a:pt x="114" y="143"/>
                    </a:lnTo>
                    <a:lnTo>
                      <a:pt x="129" y="207"/>
                    </a:lnTo>
                    <a:lnTo>
                      <a:pt x="185" y="149"/>
                    </a:lnTo>
                    <a:lnTo>
                      <a:pt x="100" y="0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17" name=""/>
            <p:cNvGrpSpPr/>
            <p:nvPr/>
          </p:nvGrpSpPr>
          <p:grpSpPr>
            <a:xfrm>
              <a:off x="7966080" y="2563920"/>
              <a:ext cx="336600" cy="372960"/>
              <a:chOff x="7966080" y="2563920"/>
              <a:chExt cx="336600" cy="372960"/>
            </a:xfrm>
          </p:grpSpPr>
          <p:sp>
            <p:nvSpPr>
              <p:cNvPr id="1518" name=""/>
              <p:cNvSpPr/>
              <p:nvPr/>
            </p:nvSpPr>
            <p:spPr>
              <a:xfrm>
                <a:off x="7966080" y="2563920"/>
                <a:ext cx="336600" cy="372960"/>
              </a:xfrm>
              <a:custGeom>
                <a:avLst/>
                <a:gdLst/>
                <a:ahLst/>
                <a:rect l="l" t="t" r="r" b="b"/>
                <a:pathLst>
                  <a:path w="212" h="235">
                    <a:moveTo>
                      <a:pt x="84" y="235"/>
                    </a:moveTo>
                    <a:lnTo>
                      <a:pt x="120" y="149"/>
                    </a:lnTo>
                    <a:lnTo>
                      <a:pt x="28" y="106"/>
                    </a:lnTo>
                    <a:lnTo>
                      <a:pt x="0" y="0"/>
                    </a:lnTo>
                    <a:lnTo>
                      <a:pt x="99" y="64"/>
                    </a:lnTo>
                    <a:lnTo>
                      <a:pt x="212" y="121"/>
                    </a:lnTo>
                    <a:lnTo>
                      <a:pt x="177" y="178"/>
                    </a:lnTo>
                    <a:lnTo>
                      <a:pt x="177" y="220"/>
                    </a:lnTo>
                    <a:lnTo>
                      <a:pt x="84" y="2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966080" y="2563920"/>
                <a:ext cx="336600" cy="372960"/>
              </a:xfrm>
              <a:custGeom>
                <a:avLst/>
                <a:gdLst/>
                <a:ahLst/>
                <a:rect l="l" t="t" r="r" b="b"/>
                <a:pathLst>
                  <a:path w="212" h="235">
                    <a:moveTo>
                      <a:pt x="84" y="235"/>
                    </a:moveTo>
                    <a:lnTo>
                      <a:pt x="120" y="149"/>
                    </a:lnTo>
                    <a:lnTo>
                      <a:pt x="28" y="106"/>
                    </a:lnTo>
                    <a:lnTo>
                      <a:pt x="0" y="0"/>
                    </a:lnTo>
                    <a:lnTo>
                      <a:pt x="99" y="64"/>
                    </a:lnTo>
                    <a:lnTo>
                      <a:pt x="212" y="121"/>
                    </a:lnTo>
                    <a:lnTo>
                      <a:pt x="177" y="178"/>
                    </a:lnTo>
                    <a:lnTo>
                      <a:pt x="177" y="220"/>
                    </a:lnTo>
                    <a:lnTo>
                      <a:pt x="84" y="235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520" name=""/>
          <p:cNvSpPr/>
          <p:nvPr/>
        </p:nvSpPr>
        <p:spPr>
          <a:xfrm>
            <a:off x="6304680" y="1782720"/>
            <a:ext cx="671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71,25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985080" y="1782720"/>
            <a:ext cx="563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kN/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4361040" y="1703520"/>
            <a:ext cx="4572000" cy="1439640"/>
            <a:chOff x="4361040" y="1703520"/>
            <a:chExt cx="4572000" cy="1439640"/>
          </a:xfrm>
        </p:grpSpPr>
        <p:sp>
          <p:nvSpPr>
            <p:cNvPr id="1523" name=""/>
            <p:cNvSpPr/>
            <p:nvPr/>
          </p:nvSpPr>
          <p:spPr>
            <a:xfrm>
              <a:off x="4361040" y="1703520"/>
              <a:ext cx="4572000" cy="1439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61040" y="1703520"/>
              <a:ext cx="4572000" cy="1439640"/>
            </a:xfrm>
            <a:prstGeom prst="rect">
              <a:avLst/>
            </a:prstGeom>
            <a:noFill/>
            <a:ln cap="rnd"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5332320" y="2367000"/>
            <a:ext cx="184320" cy="92160"/>
            <a:chOff x="5332320" y="2367000"/>
            <a:chExt cx="184320" cy="92160"/>
          </a:xfrm>
        </p:grpSpPr>
        <p:sp>
          <p:nvSpPr>
            <p:cNvPr id="1526" name=""/>
            <p:cNvSpPr/>
            <p:nvPr/>
          </p:nvSpPr>
          <p:spPr>
            <a:xfrm>
              <a:off x="5332320" y="2367000"/>
              <a:ext cx="18432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7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332320" y="2367000"/>
              <a:ext cx="18432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7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28" name=""/>
          <p:cNvGrpSpPr/>
          <p:nvPr/>
        </p:nvGrpSpPr>
        <p:grpSpPr>
          <a:xfrm>
            <a:off x="5607000" y="2367000"/>
            <a:ext cx="182520" cy="92160"/>
            <a:chOff x="5607000" y="2367000"/>
            <a:chExt cx="182520" cy="92160"/>
          </a:xfrm>
        </p:grpSpPr>
        <p:sp>
          <p:nvSpPr>
            <p:cNvPr id="1529" name=""/>
            <p:cNvSpPr/>
            <p:nvPr/>
          </p:nvSpPr>
          <p:spPr>
            <a:xfrm>
              <a:off x="5607000" y="2367000"/>
              <a:ext cx="182520" cy="9216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0"/>
                  </a:moveTo>
                  <a:lnTo>
                    <a:pt x="58" y="58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607000" y="2367000"/>
              <a:ext cx="182520" cy="9216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0"/>
                  </a:moveTo>
                  <a:lnTo>
                    <a:pt x="58" y="58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5894280" y="2367000"/>
            <a:ext cx="182520" cy="92160"/>
            <a:chOff x="5894280" y="2367000"/>
            <a:chExt cx="182520" cy="92160"/>
          </a:xfrm>
        </p:grpSpPr>
        <p:sp>
          <p:nvSpPr>
            <p:cNvPr id="1532" name=""/>
            <p:cNvSpPr/>
            <p:nvPr/>
          </p:nvSpPr>
          <p:spPr>
            <a:xfrm>
              <a:off x="5894280" y="2367000"/>
              <a:ext cx="182520" cy="9216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0"/>
                  </a:moveTo>
                  <a:lnTo>
                    <a:pt x="57" y="58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894280" y="2367000"/>
              <a:ext cx="182520" cy="9216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0"/>
                  </a:moveTo>
                  <a:lnTo>
                    <a:pt x="57" y="58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6159600" y="2367000"/>
            <a:ext cx="180720" cy="92160"/>
            <a:chOff x="6159600" y="2367000"/>
            <a:chExt cx="180720" cy="92160"/>
          </a:xfrm>
        </p:grpSpPr>
        <p:sp>
          <p:nvSpPr>
            <p:cNvPr id="1535" name=""/>
            <p:cNvSpPr/>
            <p:nvPr/>
          </p:nvSpPr>
          <p:spPr>
            <a:xfrm>
              <a:off x="6159600" y="2367000"/>
              <a:ext cx="180720" cy="9216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0" y="0"/>
                  </a:moveTo>
                  <a:lnTo>
                    <a:pt x="58" y="58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159600" y="2367000"/>
              <a:ext cx="180720" cy="9216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0" y="0"/>
                  </a:moveTo>
                  <a:lnTo>
                    <a:pt x="58" y="58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6446880" y="2367000"/>
            <a:ext cx="185760" cy="92160"/>
            <a:chOff x="6446880" y="2367000"/>
            <a:chExt cx="185760" cy="92160"/>
          </a:xfrm>
        </p:grpSpPr>
        <p:sp>
          <p:nvSpPr>
            <p:cNvPr id="1538" name=""/>
            <p:cNvSpPr/>
            <p:nvPr/>
          </p:nvSpPr>
          <p:spPr>
            <a:xfrm>
              <a:off x="6446880" y="23670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9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446880" y="23670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9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730920" y="2367000"/>
            <a:ext cx="182520" cy="92160"/>
            <a:chOff x="6730920" y="2367000"/>
            <a:chExt cx="182520" cy="92160"/>
          </a:xfrm>
        </p:grpSpPr>
        <p:sp>
          <p:nvSpPr>
            <p:cNvPr id="1541" name=""/>
            <p:cNvSpPr/>
            <p:nvPr/>
          </p:nvSpPr>
          <p:spPr>
            <a:xfrm>
              <a:off x="6730920" y="2367000"/>
              <a:ext cx="182520" cy="9216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0"/>
                  </a:moveTo>
                  <a:lnTo>
                    <a:pt x="55" y="58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30920" y="2367000"/>
              <a:ext cx="182520" cy="9216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0"/>
                  </a:moveTo>
                  <a:lnTo>
                    <a:pt x="55" y="58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6997680" y="2367000"/>
            <a:ext cx="185760" cy="92160"/>
            <a:chOff x="6997680" y="2367000"/>
            <a:chExt cx="185760" cy="92160"/>
          </a:xfrm>
        </p:grpSpPr>
        <p:sp>
          <p:nvSpPr>
            <p:cNvPr id="1544" name=""/>
            <p:cNvSpPr/>
            <p:nvPr/>
          </p:nvSpPr>
          <p:spPr>
            <a:xfrm>
              <a:off x="6997680" y="23670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8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997680" y="23670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8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7264440" y="2367000"/>
            <a:ext cx="183960" cy="92160"/>
            <a:chOff x="7264440" y="2367000"/>
            <a:chExt cx="183960" cy="92160"/>
          </a:xfrm>
        </p:grpSpPr>
        <p:sp>
          <p:nvSpPr>
            <p:cNvPr id="1547" name=""/>
            <p:cNvSpPr/>
            <p:nvPr/>
          </p:nvSpPr>
          <p:spPr>
            <a:xfrm>
              <a:off x="7264440" y="2367000"/>
              <a:ext cx="18396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9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264440" y="2367000"/>
              <a:ext cx="18396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9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7551720" y="2367000"/>
            <a:ext cx="179280" cy="92160"/>
            <a:chOff x="7551720" y="2367000"/>
            <a:chExt cx="179280" cy="92160"/>
          </a:xfrm>
        </p:grpSpPr>
        <p:sp>
          <p:nvSpPr>
            <p:cNvPr id="1550" name=""/>
            <p:cNvSpPr/>
            <p:nvPr/>
          </p:nvSpPr>
          <p:spPr>
            <a:xfrm>
              <a:off x="7551720" y="2367000"/>
              <a:ext cx="179280" cy="9216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0" y="0"/>
                  </a:moveTo>
                  <a:lnTo>
                    <a:pt x="55" y="5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551720" y="2367000"/>
              <a:ext cx="179280" cy="9216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0" y="0"/>
                  </a:moveTo>
                  <a:lnTo>
                    <a:pt x="55" y="5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7813800" y="2367000"/>
            <a:ext cx="185760" cy="92160"/>
            <a:chOff x="7813800" y="2367000"/>
            <a:chExt cx="185760" cy="92160"/>
          </a:xfrm>
        </p:grpSpPr>
        <p:sp>
          <p:nvSpPr>
            <p:cNvPr id="1553" name=""/>
            <p:cNvSpPr/>
            <p:nvPr/>
          </p:nvSpPr>
          <p:spPr>
            <a:xfrm>
              <a:off x="7813800" y="23670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9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813800" y="23670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9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8061480" y="2376360"/>
            <a:ext cx="180720" cy="93960"/>
            <a:chOff x="8061480" y="2376360"/>
            <a:chExt cx="180720" cy="93960"/>
          </a:xfrm>
        </p:grpSpPr>
        <p:sp>
          <p:nvSpPr>
            <p:cNvPr id="1556" name=""/>
            <p:cNvSpPr/>
            <p:nvPr/>
          </p:nvSpPr>
          <p:spPr>
            <a:xfrm>
              <a:off x="8061480" y="2376360"/>
              <a:ext cx="180720" cy="93960"/>
            </a:xfrm>
            <a:custGeom>
              <a:avLst/>
              <a:gdLst/>
              <a:ahLst/>
              <a:rect l="l" t="t" r="r" b="b"/>
              <a:pathLst>
                <a:path w="114" h="59">
                  <a:moveTo>
                    <a:pt x="0" y="0"/>
                  </a:moveTo>
                  <a:lnTo>
                    <a:pt x="57" y="59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061480" y="2376360"/>
              <a:ext cx="180720" cy="93960"/>
            </a:xfrm>
            <a:custGeom>
              <a:avLst/>
              <a:gdLst/>
              <a:ahLst/>
              <a:rect l="l" t="t" r="r" b="b"/>
              <a:pathLst>
                <a:path w="114" h="59">
                  <a:moveTo>
                    <a:pt x="0" y="0"/>
                  </a:moveTo>
                  <a:lnTo>
                    <a:pt x="57" y="59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8345520" y="2376360"/>
            <a:ext cx="182520" cy="93960"/>
            <a:chOff x="8345520" y="2376360"/>
            <a:chExt cx="182520" cy="93960"/>
          </a:xfrm>
        </p:grpSpPr>
        <p:sp>
          <p:nvSpPr>
            <p:cNvPr id="1559" name=""/>
            <p:cNvSpPr/>
            <p:nvPr/>
          </p:nvSpPr>
          <p:spPr>
            <a:xfrm>
              <a:off x="8345520" y="2376360"/>
              <a:ext cx="182520" cy="93960"/>
            </a:xfrm>
            <a:custGeom>
              <a:avLst/>
              <a:gdLst/>
              <a:ahLst/>
              <a:rect l="l" t="t" r="r" b="b"/>
              <a:pathLst>
                <a:path w="115" h="59">
                  <a:moveTo>
                    <a:pt x="0" y="0"/>
                  </a:moveTo>
                  <a:lnTo>
                    <a:pt x="57" y="59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345520" y="2376360"/>
              <a:ext cx="182520" cy="93960"/>
            </a:xfrm>
            <a:custGeom>
              <a:avLst/>
              <a:gdLst/>
              <a:ahLst/>
              <a:rect l="l" t="t" r="r" b="b"/>
              <a:pathLst>
                <a:path w="115" h="59">
                  <a:moveTo>
                    <a:pt x="0" y="0"/>
                  </a:moveTo>
                  <a:lnTo>
                    <a:pt x="57" y="59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5067360" y="2387520"/>
            <a:ext cx="181080" cy="90720"/>
            <a:chOff x="5067360" y="2387520"/>
            <a:chExt cx="181080" cy="90720"/>
          </a:xfrm>
        </p:grpSpPr>
        <p:sp>
          <p:nvSpPr>
            <p:cNvPr id="1562" name=""/>
            <p:cNvSpPr/>
            <p:nvPr/>
          </p:nvSpPr>
          <p:spPr>
            <a:xfrm>
              <a:off x="5067360" y="2387520"/>
              <a:ext cx="181080" cy="90720"/>
            </a:xfrm>
            <a:custGeom>
              <a:avLst/>
              <a:gdLst/>
              <a:ahLst/>
              <a:rect l="l" t="t" r="r" b="b"/>
              <a:pathLst>
                <a:path w="114" h="57">
                  <a:moveTo>
                    <a:pt x="0" y="0"/>
                  </a:moveTo>
                  <a:lnTo>
                    <a:pt x="59" y="57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067360" y="2387520"/>
              <a:ext cx="181080" cy="90720"/>
            </a:xfrm>
            <a:custGeom>
              <a:avLst/>
              <a:gdLst/>
              <a:ahLst/>
              <a:rect l="l" t="t" r="r" b="b"/>
              <a:pathLst>
                <a:path w="114" h="57">
                  <a:moveTo>
                    <a:pt x="0" y="0"/>
                  </a:moveTo>
                  <a:lnTo>
                    <a:pt x="59" y="57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64" name=""/>
          <p:cNvSpPr/>
          <p:nvPr/>
        </p:nvSpPr>
        <p:spPr>
          <a:xfrm flipV="1">
            <a:off x="4711680" y="2529000"/>
            <a:ext cx="1440" cy="79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83160" y="2546280"/>
            <a:ext cx="261720" cy="228600"/>
            <a:chOff x="4583160" y="2546280"/>
            <a:chExt cx="261720" cy="228600"/>
          </a:xfrm>
        </p:grpSpPr>
        <p:sp>
          <p:nvSpPr>
            <p:cNvPr id="1566" name=""/>
            <p:cNvSpPr/>
            <p:nvPr/>
          </p:nvSpPr>
          <p:spPr>
            <a:xfrm>
              <a:off x="4583160" y="2546280"/>
              <a:ext cx="261720" cy="228600"/>
            </a:xfrm>
            <a:custGeom>
              <a:avLst/>
              <a:gdLst/>
              <a:ahLst/>
              <a:rect l="l" t="t" r="r" b="b"/>
              <a:pathLst>
                <a:path w="165" h="144">
                  <a:moveTo>
                    <a:pt x="81" y="0"/>
                  </a:moveTo>
                  <a:lnTo>
                    <a:pt x="0" y="144"/>
                  </a:lnTo>
                  <a:lnTo>
                    <a:pt x="165" y="14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583160" y="2546280"/>
              <a:ext cx="261720" cy="228600"/>
            </a:xfrm>
            <a:custGeom>
              <a:avLst/>
              <a:gdLst/>
              <a:ahLst/>
              <a:rect l="l" t="t" r="r" b="b"/>
              <a:pathLst>
                <a:path w="165" h="144">
                  <a:moveTo>
                    <a:pt x="81" y="0"/>
                  </a:moveTo>
                  <a:lnTo>
                    <a:pt x="0" y="144"/>
                  </a:lnTo>
                  <a:lnTo>
                    <a:pt x="165" y="144"/>
                  </a:lnTo>
                  <a:lnTo>
                    <a:pt x="81" y="0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8415360" y="2535120"/>
            <a:ext cx="282600" cy="247680"/>
            <a:chOff x="8415360" y="2535120"/>
            <a:chExt cx="282600" cy="247680"/>
          </a:xfrm>
        </p:grpSpPr>
        <p:sp>
          <p:nvSpPr>
            <p:cNvPr id="1569" name=""/>
            <p:cNvSpPr/>
            <p:nvPr/>
          </p:nvSpPr>
          <p:spPr>
            <a:xfrm>
              <a:off x="8415360" y="2535120"/>
              <a:ext cx="282600" cy="247680"/>
            </a:xfrm>
            <a:custGeom>
              <a:avLst/>
              <a:gdLst/>
              <a:ahLst/>
              <a:rect l="l" t="t" r="r" b="b"/>
              <a:pathLst>
                <a:path w="178" h="156">
                  <a:moveTo>
                    <a:pt x="90" y="0"/>
                  </a:moveTo>
                  <a:lnTo>
                    <a:pt x="0" y="156"/>
                  </a:lnTo>
                  <a:lnTo>
                    <a:pt x="178" y="156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8415360" y="2535120"/>
              <a:ext cx="282600" cy="247680"/>
            </a:xfrm>
            <a:custGeom>
              <a:avLst/>
              <a:gdLst/>
              <a:ahLst/>
              <a:rect l="l" t="t" r="r" b="b"/>
              <a:pathLst>
                <a:path w="178" h="156">
                  <a:moveTo>
                    <a:pt x="90" y="0"/>
                  </a:moveTo>
                  <a:lnTo>
                    <a:pt x="0" y="156"/>
                  </a:lnTo>
                  <a:lnTo>
                    <a:pt x="178" y="156"/>
                  </a:lnTo>
                  <a:lnTo>
                    <a:pt x="90" y="0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4448160" y="2774880"/>
            <a:ext cx="6015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8859600" y="3078000"/>
            <a:ext cx="4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8831160" y="3053880"/>
            <a:ext cx="33480" cy="25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8756640" y="2973240"/>
            <a:ext cx="108000" cy="106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8645040" y="2928960"/>
            <a:ext cx="155880" cy="150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8547120" y="2928960"/>
            <a:ext cx="149040" cy="150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8435880" y="2928960"/>
            <a:ext cx="154080" cy="150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8334000" y="2928960"/>
            <a:ext cx="152280" cy="150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8240760" y="2928960"/>
            <a:ext cx="141120" cy="138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8240760" y="2928960"/>
            <a:ext cx="33120" cy="34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4979880" y="2921040"/>
            <a:ext cx="28800" cy="17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4874760" y="2809800"/>
            <a:ext cx="133560" cy="128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4772160" y="2774880"/>
            <a:ext cx="164880" cy="16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4689360" y="2774880"/>
            <a:ext cx="166680" cy="16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flipV="1">
            <a:off x="4586400" y="2774880"/>
            <a:ext cx="166680" cy="16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4505400" y="2774880"/>
            <a:ext cx="164880" cy="16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4448160" y="2774880"/>
            <a:ext cx="115920" cy="117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4448160" y="2774520"/>
            <a:ext cx="36360" cy="34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4447800" y="2774880"/>
            <a:ext cx="11160" cy="1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4448160" y="2774880"/>
            <a:ext cx="6112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4448160" y="2774880"/>
            <a:ext cx="6015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228160" y="2924280"/>
            <a:ext cx="6555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93" name=""/>
          <p:cNvGrpSpPr/>
          <p:nvPr/>
        </p:nvGrpSpPr>
        <p:grpSpPr>
          <a:xfrm>
            <a:off x="4711680" y="2508120"/>
            <a:ext cx="3859200" cy="24120"/>
            <a:chOff x="4711680" y="2508120"/>
            <a:chExt cx="3859200" cy="24120"/>
          </a:xfrm>
        </p:grpSpPr>
        <p:sp>
          <p:nvSpPr>
            <p:cNvPr id="1594" name=""/>
            <p:cNvSpPr/>
            <p:nvPr/>
          </p:nvSpPr>
          <p:spPr>
            <a:xfrm>
              <a:off x="4711680" y="2508120"/>
              <a:ext cx="3859200" cy="24120"/>
            </a:xfrm>
            <a:custGeom>
              <a:avLst/>
              <a:gdLst/>
              <a:ahLst/>
              <a:rect l="l" t="t" r="r" b="b"/>
              <a:pathLst>
                <a:path w="2431" h="15">
                  <a:moveTo>
                    <a:pt x="6" y="15"/>
                  </a:moveTo>
                  <a:lnTo>
                    <a:pt x="5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2423" y="0"/>
                  </a:lnTo>
                  <a:lnTo>
                    <a:pt x="2424" y="0"/>
                  </a:lnTo>
                  <a:lnTo>
                    <a:pt x="2426" y="1"/>
                  </a:lnTo>
                  <a:lnTo>
                    <a:pt x="2430" y="1"/>
                  </a:lnTo>
                  <a:lnTo>
                    <a:pt x="2431" y="4"/>
                  </a:lnTo>
                  <a:lnTo>
                    <a:pt x="2431" y="5"/>
                  </a:lnTo>
                  <a:lnTo>
                    <a:pt x="2431" y="8"/>
                  </a:lnTo>
                  <a:lnTo>
                    <a:pt x="2431" y="10"/>
                  </a:lnTo>
                  <a:lnTo>
                    <a:pt x="2431" y="13"/>
                  </a:lnTo>
                  <a:lnTo>
                    <a:pt x="2430" y="13"/>
                  </a:lnTo>
                  <a:lnTo>
                    <a:pt x="2426" y="15"/>
                  </a:lnTo>
                  <a:lnTo>
                    <a:pt x="2424" y="15"/>
                  </a:lnTo>
                  <a:lnTo>
                    <a:pt x="2423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711680" y="2508120"/>
              <a:ext cx="3859200" cy="24120"/>
            </a:xfrm>
            <a:custGeom>
              <a:avLst/>
              <a:gdLst/>
              <a:ahLst/>
              <a:rect l="l" t="t" r="r" b="b"/>
              <a:pathLst>
                <a:path w="2431" h="15">
                  <a:moveTo>
                    <a:pt x="6" y="15"/>
                  </a:moveTo>
                  <a:lnTo>
                    <a:pt x="5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2423" y="0"/>
                  </a:lnTo>
                  <a:lnTo>
                    <a:pt x="2424" y="0"/>
                  </a:lnTo>
                  <a:lnTo>
                    <a:pt x="2426" y="1"/>
                  </a:lnTo>
                  <a:lnTo>
                    <a:pt x="2430" y="1"/>
                  </a:lnTo>
                  <a:lnTo>
                    <a:pt x="2431" y="4"/>
                  </a:lnTo>
                  <a:lnTo>
                    <a:pt x="2431" y="5"/>
                  </a:lnTo>
                  <a:lnTo>
                    <a:pt x="2431" y="8"/>
                  </a:lnTo>
                  <a:lnTo>
                    <a:pt x="2431" y="10"/>
                  </a:lnTo>
                  <a:lnTo>
                    <a:pt x="2431" y="13"/>
                  </a:lnTo>
                  <a:lnTo>
                    <a:pt x="2430" y="13"/>
                  </a:lnTo>
                  <a:lnTo>
                    <a:pt x="2426" y="15"/>
                  </a:lnTo>
                  <a:lnTo>
                    <a:pt x="2424" y="15"/>
                  </a:lnTo>
                  <a:lnTo>
                    <a:pt x="2423" y="15"/>
                  </a:lnTo>
                  <a:lnTo>
                    <a:pt x="6" y="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96" name=""/>
          <p:cNvSpPr/>
          <p:nvPr/>
        </p:nvSpPr>
        <p:spPr>
          <a:xfrm>
            <a:off x="4875120" y="2128680"/>
            <a:ext cx="180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97" name=""/>
          <p:cNvGrpSpPr/>
          <p:nvPr/>
        </p:nvGrpSpPr>
        <p:grpSpPr>
          <a:xfrm>
            <a:off x="4782960" y="2387520"/>
            <a:ext cx="182880" cy="90720"/>
            <a:chOff x="4782960" y="2387520"/>
            <a:chExt cx="182880" cy="90720"/>
          </a:xfrm>
        </p:grpSpPr>
        <p:sp>
          <p:nvSpPr>
            <p:cNvPr id="1598" name=""/>
            <p:cNvSpPr/>
            <p:nvPr/>
          </p:nvSpPr>
          <p:spPr>
            <a:xfrm>
              <a:off x="4782960" y="2387520"/>
              <a:ext cx="182880" cy="90720"/>
            </a:xfrm>
            <a:custGeom>
              <a:avLst/>
              <a:gdLst/>
              <a:ahLst/>
              <a:rect l="l" t="t" r="r" b="b"/>
              <a:pathLst>
                <a:path w="115" h="57">
                  <a:moveTo>
                    <a:pt x="0" y="0"/>
                  </a:moveTo>
                  <a:lnTo>
                    <a:pt x="58" y="57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782960" y="2387520"/>
              <a:ext cx="182880" cy="90720"/>
            </a:xfrm>
            <a:custGeom>
              <a:avLst/>
              <a:gdLst/>
              <a:ahLst/>
              <a:rect l="l" t="t" r="r" b="b"/>
              <a:pathLst>
                <a:path w="115" h="57">
                  <a:moveTo>
                    <a:pt x="0" y="0"/>
                  </a:moveTo>
                  <a:lnTo>
                    <a:pt x="58" y="57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00" name=""/>
          <p:cNvSpPr/>
          <p:nvPr/>
        </p:nvSpPr>
        <p:spPr>
          <a:xfrm>
            <a:off x="5162400" y="2128680"/>
            <a:ext cx="180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542304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569916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598644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6251400" y="2128680"/>
            <a:ext cx="180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654048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681840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708984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735804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763920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790740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8151840" y="2136600"/>
            <a:ext cx="0" cy="28116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8435880" y="2136600"/>
            <a:ext cx="1800" cy="28116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13" name=""/>
          <p:cNvGrpSpPr/>
          <p:nvPr/>
        </p:nvGrpSpPr>
        <p:grpSpPr>
          <a:xfrm>
            <a:off x="4645080" y="2462040"/>
            <a:ext cx="131760" cy="123840"/>
            <a:chOff x="4645080" y="2462040"/>
            <a:chExt cx="131760" cy="123840"/>
          </a:xfrm>
        </p:grpSpPr>
        <p:sp>
          <p:nvSpPr>
            <p:cNvPr id="1614" name=""/>
            <p:cNvSpPr/>
            <p:nvPr/>
          </p:nvSpPr>
          <p:spPr>
            <a:xfrm>
              <a:off x="4645080" y="2462040"/>
              <a:ext cx="131760" cy="12384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645080" y="2462040"/>
              <a:ext cx="131760" cy="12384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8499600" y="2455920"/>
            <a:ext cx="129960" cy="125280"/>
            <a:chOff x="8499600" y="2455920"/>
            <a:chExt cx="129960" cy="125280"/>
          </a:xfrm>
        </p:grpSpPr>
        <p:sp>
          <p:nvSpPr>
            <p:cNvPr id="1617" name=""/>
            <p:cNvSpPr/>
            <p:nvPr/>
          </p:nvSpPr>
          <p:spPr>
            <a:xfrm>
              <a:off x="8499600" y="2455920"/>
              <a:ext cx="129960" cy="12528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499600" y="2455920"/>
              <a:ext cx="129960" cy="12528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8412120" y="2792520"/>
            <a:ext cx="130320" cy="125280"/>
            <a:chOff x="8412120" y="2792520"/>
            <a:chExt cx="130320" cy="125280"/>
          </a:xfrm>
        </p:grpSpPr>
        <p:sp>
          <p:nvSpPr>
            <p:cNvPr id="1620" name=""/>
            <p:cNvSpPr/>
            <p:nvPr/>
          </p:nvSpPr>
          <p:spPr>
            <a:xfrm>
              <a:off x="8412120" y="2792520"/>
              <a:ext cx="130320" cy="12528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412120" y="2792520"/>
              <a:ext cx="130320" cy="12528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8602560" y="2795760"/>
            <a:ext cx="130320" cy="126720"/>
            <a:chOff x="8602560" y="2795760"/>
            <a:chExt cx="130320" cy="126720"/>
          </a:xfrm>
        </p:grpSpPr>
        <p:sp>
          <p:nvSpPr>
            <p:cNvPr id="1623" name=""/>
            <p:cNvSpPr/>
            <p:nvPr/>
          </p:nvSpPr>
          <p:spPr>
            <a:xfrm>
              <a:off x="8602560" y="2795760"/>
              <a:ext cx="130320" cy="12672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8602560" y="2795760"/>
              <a:ext cx="130320" cy="12672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5127480" y="2563920"/>
            <a:ext cx="236520" cy="460440"/>
            <a:chOff x="5127480" y="2563920"/>
            <a:chExt cx="236520" cy="460440"/>
          </a:xfrm>
        </p:grpSpPr>
        <p:sp>
          <p:nvSpPr>
            <p:cNvPr id="1626" name=""/>
            <p:cNvSpPr/>
            <p:nvPr/>
          </p:nvSpPr>
          <p:spPr>
            <a:xfrm>
              <a:off x="5127480" y="2563920"/>
              <a:ext cx="236520" cy="460440"/>
            </a:xfrm>
            <a:custGeom>
              <a:avLst/>
              <a:gdLst/>
              <a:ahLst/>
              <a:rect l="l" t="t" r="r" b="b"/>
              <a:pathLst>
                <a:path w="149" h="290">
                  <a:moveTo>
                    <a:pt x="113" y="290"/>
                  </a:moveTo>
                  <a:lnTo>
                    <a:pt x="57" y="199"/>
                  </a:lnTo>
                  <a:lnTo>
                    <a:pt x="0" y="50"/>
                  </a:lnTo>
                  <a:lnTo>
                    <a:pt x="71" y="0"/>
                  </a:lnTo>
                  <a:lnTo>
                    <a:pt x="63" y="71"/>
                  </a:lnTo>
                  <a:lnTo>
                    <a:pt x="149" y="192"/>
                  </a:lnTo>
                  <a:lnTo>
                    <a:pt x="113" y="29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127480" y="2563920"/>
              <a:ext cx="236520" cy="460440"/>
            </a:xfrm>
            <a:custGeom>
              <a:avLst/>
              <a:gdLst/>
              <a:ahLst/>
              <a:rect l="l" t="t" r="r" b="b"/>
              <a:pathLst>
                <a:path w="149" h="290">
                  <a:moveTo>
                    <a:pt x="113" y="290"/>
                  </a:moveTo>
                  <a:lnTo>
                    <a:pt x="57" y="199"/>
                  </a:lnTo>
                  <a:lnTo>
                    <a:pt x="0" y="50"/>
                  </a:lnTo>
                  <a:lnTo>
                    <a:pt x="71" y="0"/>
                  </a:lnTo>
                  <a:lnTo>
                    <a:pt x="63" y="71"/>
                  </a:lnTo>
                  <a:lnTo>
                    <a:pt x="149" y="192"/>
                  </a:lnTo>
                  <a:lnTo>
                    <a:pt x="113" y="29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28" name=""/>
          <p:cNvGrpSpPr/>
          <p:nvPr/>
        </p:nvGrpSpPr>
        <p:grpSpPr>
          <a:xfrm>
            <a:off x="5364000" y="2585880"/>
            <a:ext cx="225720" cy="428760"/>
            <a:chOff x="5364000" y="2585880"/>
            <a:chExt cx="225720" cy="428760"/>
          </a:xfrm>
        </p:grpSpPr>
        <p:sp>
          <p:nvSpPr>
            <p:cNvPr id="1629" name=""/>
            <p:cNvSpPr/>
            <p:nvPr/>
          </p:nvSpPr>
          <p:spPr>
            <a:xfrm>
              <a:off x="5364000" y="2585880"/>
              <a:ext cx="225720" cy="428760"/>
            </a:xfrm>
            <a:custGeom>
              <a:avLst/>
              <a:gdLst/>
              <a:ahLst/>
              <a:rect l="l" t="t" r="r" b="b"/>
              <a:pathLst>
                <a:path w="142" h="270">
                  <a:moveTo>
                    <a:pt x="50" y="270"/>
                  </a:moveTo>
                  <a:lnTo>
                    <a:pt x="36" y="192"/>
                  </a:lnTo>
                  <a:lnTo>
                    <a:pt x="56" y="106"/>
                  </a:lnTo>
                  <a:lnTo>
                    <a:pt x="0" y="0"/>
                  </a:lnTo>
                  <a:lnTo>
                    <a:pt x="114" y="21"/>
                  </a:lnTo>
                  <a:lnTo>
                    <a:pt x="142" y="86"/>
                  </a:lnTo>
                  <a:lnTo>
                    <a:pt x="50" y="2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64000" y="2585880"/>
              <a:ext cx="225720" cy="428760"/>
            </a:xfrm>
            <a:custGeom>
              <a:avLst/>
              <a:gdLst/>
              <a:ahLst/>
              <a:rect l="l" t="t" r="r" b="b"/>
              <a:pathLst>
                <a:path w="142" h="270">
                  <a:moveTo>
                    <a:pt x="50" y="270"/>
                  </a:moveTo>
                  <a:lnTo>
                    <a:pt x="36" y="192"/>
                  </a:lnTo>
                  <a:lnTo>
                    <a:pt x="56" y="106"/>
                  </a:lnTo>
                  <a:lnTo>
                    <a:pt x="0" y="0"/>
                  </a:lnTo>
                  <a:lnTo>
                    <a:pt x="114" y="21"/>
                  </a:lnTo>
                  <a:lnTo>
                    <a:pt x="142" y="86"/>
                  </a:lnTo>
                  <a:lnTo>
                    <a:pt x="50" y="27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5646600" y="2598840"/>
            <a:ext cx="236520" cy="245880"/>
            <a:chOff x="5646600" y="2598840"/>
            <a:chExt cx="236520" cy="245880"/>
          </a:xfrm>
        </p:grpSpPr>
        <p:sp>
          <p:nvSpPr>
            <p:cNvPr id="1632" name=""/>
            <p:cNvSpPr/>
            <p:nvPr/>
          </p:nvSpPr>
          <p:spPr>
            <a:xfrm>
              <a:off x="5646600" y="2598840"/>
              <a:ext cx="236520" cy="245880"/>
            </a:xfrm>
            <a:custGeom>
              <a:avLst/>
              <a:gdLst/>
              <a:ahLst/>
              <a:rect l="l" t="t" r="r" b="b"/>
              <a:pathLst>
                <a:path w="149" h="155">
                  <a:moveTo>
                    <a:pt x="35" y="0"/>
                  </a:moveTo>
                  <a:lnTo>
                    <a:pt x="0" y="92"/>
                  </a:lnTo>
                  <a:lnTo>
                    <a:pt x="149" y="155"/>
                  </a:lnTo>
                  <a:lnTo>
                    <a:pt x="149" y="12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646600" y="2598840"/>
              <a:ext cx="236520" cy="245880"/>
            </a:xfrm>
            <a:custGeom>
              <a:avLst/>
              <a:gdLst/>
              <a:ahLst/>
              <a:rect l="l" t="t" r="r" b="b"/>
              <a:pathLst>
                <a:path w="149" h="155">
                  <a:moveTo>
                    <a:pt x="35" y="0"/>
                  </a:moveTo>
                  <a:lnTo>
                    <a:pt x="0" y="92"/>
                  </a:lnTo>
                  <a:lnTo>
                    <a:pt x="149" y="155"/>
                  </a:lnTo>
                  <a:lnTo>
                    <a:pt x="149" y="120"/>
                  </a:lnTo>
                  <a:lnTo>
                    <a:pt x="35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34" name=""/>
          <p:cNvGrpSpPr/>
          <p:nvPr/>
        </p:nvGrpSpPr>
        <p:grpSpPr>
          <a:xfrm>
            <a:off x="5621400" y="2824200"/>
            <a:ext cx="225360" cy="190440"/>
            <a:chOff x="5621400" y="2824200"/>
            <a:chExt cx="225360" cy="190440"/>
          </a:xfrm>
        </p:grpSpPr>
        <p:sp>
          <p:nvSpPr>
            <p:cNvPr id="1635" name=""/>
            <p:cNvSpPr/>
            <p:nvPr/>
          </p:nvSpPr>
          <p:spPr>
            <a:xfrm>
              <a:off x="5621400" y="2824200"/>
              <a:ext cx="225360" cy="190440"/>
            </a:xfrm>
            <a:custGeom>
              <a:avLst/>
              <a:gdLst/>
              <a:ahLst/>
              <a:rect l="l" t="t" r="r" b="b"/>
              <a:pathLst>
                <a:path w="142" h="120">
                  <a:moveTo>
                    <a:pt x="0" y="120"/>
                  </a:moveTo>
                  <a:lnTo>
                    <a:pt x="44" y="48"/>
                  </a:lnTo>
                  <a:lnTo>
                    <a:pt x="23" y="0"/>
                  </a:lnTo>
                  <a:lnTo>
                    <a:pt x="142" y="56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621400" y="2824200"/>
              <a:ext cx="225360" cy="190440"/>
            </a:xfrm>
            <a:custGeom>
              <a:avLst/>
              <a:gdLst/>
              <a:ahLst/>
              <a:rect l="l" t="t" r="r" b="b"/>
              <a:pathLst>
                <a:path w="142" h="120">
                  <a:moveTo>
                    <a:pt x="0" y="120"/>
                  </a:moveTo>
                  <a:lnTo>
                    <a:pt x="44" y="48"/>
                  </a:lnTo>
                  <a:lnTo>
                    <a:pt x="23" y="0"/>
                  </a:lnTo>
                  <a:lnTo>
                    <a:pt x="142" y="56"/>
                  </a:lnTo>
                  <a:lnTo>
                    <a:pt x="0" y="12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37" name=""/>
          <p:cNvGrpSpPr/>
          <p:nvPr/>
        </p:nvGrpSpPr>
        <p:grpSpPr>
          <a:xfrm>
            <a:off x="5961240" y="2575080"/>
            <a:ext cx="439560" cy="428400"/>
            <a:chOff x="5961240" y="2575080"/>
            <a:chExt cx="439560" cy="428400"/>
          </a:xfrm>
        </p:grpSpPr>
        <p:sp>
          <p:nvSpPr>
            <p:cNvPr id="1638" name=""/>
            <p:cNvSpPr/>
            <p:nvPr/>
          </p:nvSpPr>
          <p:spPr>
            <a:xfrm>
              <a:off x="5961240" y="2575080"/>
              <a:ext cx="439560" cy="428400"/>
            </a:xfrm>
            <a:custGeom>
              <a:avLst/>
              <a:gdLst/>
              <a:ahLst/>
              <a:rect l="l" t="t" r="r" b="b"/>
              <a:pathLst>
                <a:path w="277" h="270">
                  <a:moveTo>
                    <a:pt x="29" y="270"/>
                  </a:moveTo>
                  <a:lnTo>
                    <a:pt x="7" y="199"/>
                  </a:lnTo>
                  <a:lnTo>
                    <a:pt x="0" y="79"/>
                  </a:lnTo>
                  <a:lnTo>
                    <a:pt x="85" y="35"/>
                  </a:lnTo>
                  <a:lnTo>
                    <a:pt x="142" y="0"/>
                  </a:lnTo>
                  <a:lnTo>
                    <a:pt x="78" y="114"/>
                  </a:lnTo>
                  <a:lnTo>
                    <a:pt x="99" y="171"/>
                  </a:lnTo>
                  <a:lnTo>
                    <a:pt x="171" y="142"/>
                  </a:lnTo>
                  <a:lnTo>
                    <a:pt x="184" y="79"/>
                  </a:lnTo>
                  <a:lnTo>
                    <a:pt x="192" y="7"/>
                  </a:lnTo>
                  <a:lnTo>
                    <a:pt x="277" y="71"/>
                  </a:lnTo>
                  <a:lnTo>
                    <a:pt x="220" y="149"/>
                  </a:lnTo>
                  <a:lnTo>
                    <a:pt x="171" y="221"/>
                  </a:lnTo>
                  <a:lnTo>
                    <a:pt x="29" y="2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961240" y="2575080"/>
              <a:ext cx="439560" cy="428400"/>
            </a:xfrm>
            <a:custGeom>
              <a:avLst/>
              <a:gdLst/>
              <a:ahLst/>
              <a:rect l="l" t="t" r="r" b="b"/>
              <a:pathLst>
                <a:path w="277" h="270">
                  <a:moveTo>
                    <a:pt x="29" y="270"/>
                  </a:moveTo>
                  <a:lnTo>
                    <a:pt x="7" y="199"/>
                  </a:lnTo>
                  <a:lnTo>
                    <a:pt x="0" y="79"/>
                  </a:lnTo>
                  <a:lnTo>
                    <a:pt x="85" y="35"/>
                  </a:lnTo>
                  <a:lnTo>
                    <a:pt x="142" y="0"/>
                  </a:lnTo>
                  <a:lnTo>
                    <a:pt x="78" y="114"/>
                  </a:lnTo>
                  <a:lnTo>
                    <a:pt x="99" y="171"/>
                  </a:lnTo>
                  <a:lnTo>
                    <a:pt x="171" y="142"/>
                  </a:lnTo>
                  <a:lnTo>
                    <a:pt x="184" y="79"/>
                  </a:lnTo>
                  <a:lnTo>
                    <a:pt x="192" y="7"/>
                  </a:lnTo>
                  <a:lnTo>
                    <a:pt x="277" y="71"/>
                  </a:lnTo>
                  <a:lnTo>
                    <a:pt x="220" y="149"/>
                  </a:lnTo>
                  <a:lnTo>
                    <a:pt x="171" y="221"/>
                  </a:lnTo>
                  <a:lnTo>
                    <a:pt x="29" y="27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40" name=""/>
          <p:cNvGrpSpPr/>
          <p:nvPr/>
        </p:nvGrpSpPr>
        <p:grpSpPr>
          <a:xfrm>
            <a:off x="6445080" y="2630520"/>
            <a:ext cx="371520" cy="361800"/>
            <a:chOff x="6445080" y="2630520"/>
            <a:chExt cx="371520" cy="361800"/>
          </a:xfrm>
        </p:grpSpPr>
        <p:sp>
          <p:nvSpPr>
            <p:cNvPr id="1641" name=""/>
            <p:cNvSpPr/>
            <p:nvPr/>
          </p:nvSpPr>
          <p:spPr>
            <a:xfrm>
              <a:off x="6445080" y="2630520"/>
              <a:ext cx="371520" cy="36180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0"/>
                  </a:moveTo>
                  <a:lnTo>
                    <a:pt x="57" y="92"/>
                  </a:lnTo>
                  <a:lnTo>
                    <a:pt x="28" y="178"/>
                  </a:lnTo>
                  <a:lnTo>
                    <a:pt x="114" y="228"/>
                  </a:lnTo>
                  <a:lnTo>
                    <a:pt x="234" y="228"/>
                  </a:lnTo>
                  <a:lnTo>
                    <a:pt x="163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445080" y="2630520"/>
              <a:ext cx="371520" cy="36180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0"/>
                  </a:moveTo>
                  <a:lnTo>
                    <a:pt x="57" y="92"/>
                  </a:lnTo>
                  <a:lnTo>
                    <a:pt x="28" y="178"/>
                  </a:lnTo>
                  <a:lnTo>
                    <a:pt x="114" y="228"/>
                  </a:lnTo>
                  <a:lnTo>
                    <a:pt x="234" y="228"/>
                  </a:lnTo>
                  <a:lnTo>
                    <a:pt x="163" y="142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6794640" y="2619360"/>
            <a:ext cx="326880" cy="360360"/>
            <a:chOff x="6794640" y="2619360"/>
            <a:chExt cx="326880" cy="360360"/>
          </a:xfrm>
        </p:grpSpPr>
        <p:sp>
          <p:nvSpPr>
            <p:cNvPr id="1644" name=""/>
            <p:cNvSpPr/>
            <p:nvPr/>
          </p:nvSpPr>
          <p:spPr>
            <a:xfrm>
              <a:off x="6794640" y="2619360"/>
              <a:ext cx="326880" cy="36036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21" y="0"/>
                  </a:moveTo>
                  <a:lnTo>
                    <a:pt x="0" y="86"/>
                  </a:lnTo>
                  <a:lnTo>
                    <a:pt x="92" y="193"/>
                  </a:lnTo>
                  <a:lnTo>
                    <a:pt x="42" y="213"/>
                  </a:lnTo>
                  <a:lnTo>
                    <a:pt x="206" y="227"/>
                  </a:lnTo>
                  <a:lnTo>
                    <a:pt x="120" y="7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794640" y="2619360"/>
              <a:ext cx="326880" cy="36036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21" y="0"/>
                  </a:moveTo>
                  <a:lnTo>
                    <a:pt x="0" y="86"/>
                  </a:lnTo>
                  <a:lnTo>
                    <a:pt x="92" y="193"/>
                  </a:lnTo>
                  <a:lnTo>
                    <a:pt x="42" y="213"/>
                  </a:lnTo>
                  <a:lnTo>
                    <a:pt x="206" y="227"/>
                  </a:lnTo>
                  <a:lnTo>
                    <a:pt x="120" y="79"/>
                  </a:lnTo>
                  <a:lnTo>
                    <a:pt x="21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7108920" y="2643120"/>
            <a:ext cx="147600" cy="336600"/>
            <a:chOff x="7108920" y="2643120"/>
            <a:chExt cx="147600" cy="336600"/>
          </a:xfrm>
        </p:grpSpPr>
        <p:sp>
          <p:nvSpPr>
            <p:cNvPr id="1647" name=""/>
            <p:cNvSpPr/>
            <p:nvPr/>
          </p:nvSpPr>
          <p:spPr>
            <a:xfrm>
              <a:off x="7108920" y="2643120"/>
              <a:ext cx="147600" cy="33660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3" y="0"/>
                  </a:moveTo>
                  <a:lnTo>
                    <a:pt x="0" y="99"/>
                  </a:lnTo>
                  <a:lnTo>
                    <a:pt x="50" y="21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108920" y="2643120"/>
              <a:ext cx="147600" cy="33660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3" y="0"/>
                  </a:moveTo>
                  <a:lnTo>
                    <a:pt x="0" y="99"/>
                  </a:lnTo>
                  <a:lnTo>
                    <a:pt x="50" y="212"/>
                  </a:lnTo>
                  <a:lnTo>
                    <a:pt x="93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7289640" y="2619360"/>
            <a:ext cx="157320" cy="249120"/>
            <a:chOff x="7289640" y="2619360"/>
            <a:chExt cx="157320" cy="249120"/>
          </a:xfrm>
        </p:grpSpPr>
        <p:sp>
          <p:nvSpPr>
            <p:cNvPr id="1650" name=""/>
            <p:cNvSpPr/>
            <p:nvPr/>
          </p:nvSpPr>
          <p:spPr>
            <a:xfrm>
              <a:off x="7289640" y="2619360"/>
              <a:ext cx="157320" cy="24912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99" y="0"/>
                  </a:moveTo>
                  <a:lnTo>
                    <a:pt x="0" y="79"/>
                  </a:lnTo>
                  <a:lnTo>
                    <a:pt x="8" y="157"/>
                  </a:lnTo>
                  <a:lnTo>
                    <a:pt x="85" y="99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289640" y="2619360"/>
              <a:ext cx="157320" cy="24912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99" y="0"/>
                  </a:moveTo>
                  <a:lnTo>
                    <a:pt x="0" y="79"/>
                  </a:lnTo>
                  <a:lnTo>
                    <a:pt x="8" y="157"/>
                  </a:lnTo>
                  <a:lnTo>
                    <a:pt x="85" y="99"/>
                  </a:lnTo>
                  <a:lnTo>
                    <a:pt x="99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7470720" y="2575080"/>
            <a:ext cx="257400" cy="382320"/>
            <a:chOff x="7470720" y="2575080"/>
            <a:chExt cx="257400" cy="382320"/>
          </a:xfrm>
        </p:grpSpPr>
        <p:sp>
          <p:nvSpPr>
            <p:cNvPr id="1653" name=""/>
            <p:cNvSpPr/>
            <p:nvPr/>
          </p:nvSpPr>
          <p:spPr>
            <a:xfrm>
              <a:off x="7470720" y="2575080"/>
              <a:ext cx="257400" cy="3823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241"/>
                  </a:moveTo>
                  <a:lnTo>
                    <a:pt x="56" y="142"/>
                  </a:lnTo>
                  <a:lnTo>
                    <a:pt x="28" y="85"/>
                  </a:lnTo>
                  <a:lnTo>
                    <a:pt x="64" y="7"/>
                  </a:lnTo>
                  <a:lnTo>
                    <a:pt x="113" y="0"/>
                  </a:lnTo>
                  <a:lnTo>
                    <a:pt x="92" y="85"/>
                  </a:lnTo>
                  <a:lnTo>
                    <a:pt x="162" y="157"/>
                  </a:lnTo>
                  <a:lnTo>
                    <a:pt x="120" y="241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470720" y="2575080"/>
              <a:ext cx="257400" cy="3823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241"/>
                  </a:moveTo>
                  <a:lnTo>
                    <a:pt x="56" y="142"/>
                  </a:lnTo>
                  <a:lnTo>
                    <a:pt x="28" y="85"/>
                  </a:lnTo>
                  <a:lnTo>
                    <a:pt x="64" y="7"/>
                  </a:lnTo>
                  <a:lnTo>
                    <a:pt x="113" y="0"/>
                  </a:lnTo>
                  <a:lnTo>
                    <a:pt x="92" y="85"/>
                  </a:lnTo>
                  <a:lnTo>
                    <a:pt x="162" y="157"/>
                  </a:lnTo>
                  <a:lnTo>
                    <a:pt x="120" y="241"/>
                  </a:lnTo>
                  <a:lnTo>
                    <a:pt x="0" y="241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7716960" y="2619360"/>
            <a:ext cx="293400" cy="328680"/>
            <a:chOff x="7716960" y="2619360"/>
            <a:chExt cx="293400" cy="328680"/>
          </a:xfrm>
        </p:grpSpPr>
        <p:sp>
          <p:nvSpPr>
            <p:cNvPr id="1656" name=""/>
            <p:cNvSpPr/>
            <p:nvPr/>
          </p:nvSpPr>
          <p:spPr>
            <a:xfrm>
              <a:off x="7716960" y="2619360"/>
              <a:ext cx="293400" cy="328680"/>
            </a:xfrm>
            <a:custGeom>
              <a:avLst/>
              <a:gdLst/>
              <a:ahLst/>
              <a:rect l="l" t="t" r="r" b="b"/>
              <a:pathLst>
                <a:path w="185" h="207">
                  <a:moveTo>
                    <a:pt x="100" y="0"/>
                  </a:moveTo>
                  <a:lnTo>
                    <a:pt x="64" y="57"/>
                  </a:lnTo>
                  <a:lnTo>
                    <a:pt x="0" y="93"/>
                  </a:lnTo>
                  <a:lnTo>
                    <a:pt x="114" y="143"/>
                  </a:lnTo>
                  <a:lnTo>
                    <a:pt x="129" y="207"/>
                  </a:lnTo>
                  <a:lnTo>
                    <a:pt x="185" y="149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716960" y="2619360"/>
              <a:ext cx="293400" cy="328680"/>
            </a:xfrm>
            <a:custGeom>
              <a:avLst/>
              <a:gdLst/>
              <a:ahLst/>
              <a:rect l="l" t="t" r="r" b="b"/>
              <a:pathLst>
                <a:path w="185" h="207">
                  <a:moveTo>
                    <a:pt x="100" y="0"/>
                  </a:moveTo>
                  <a:lnTo>
                    <a:pt x="64" y="57"/>
                  </a:lnTo>
                  <a:lnTo>
                    <a:pt x="0" y="93"/>
                  </a:lnTo>
                  <a:lnTo>
                    <a:pt x="114" y="143"/>
                  </a:lnTo>
                  <a:lnTo>
                    <a:pt x="129" y="207"/>
                  </a:lnTo>
                  <a:lnTo>
                    <a:pt x="185" y="149"/>
                  </a:lnTo>
                  <a:lnTo>
                    <a:pt x="100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7966080" y="2563920"/>
            <a:ext cx="336600" cy="372960"/>
            <a:chOff x="7966080" y="2563920"/>
            <a:chExt cx="336600" cy="372960"/>
          </a:xfrm>
        </p:grpSpPr>
        <p:sp>
          <p:nvSpPr>
            <p:cNvPr id="1659" name=""/>
            <p:cNvSpPr/>
            <p:nvPr/>
          </p:nvSpPr>
          <p:spPr>
            <a:xfrm>
              <a:off x="7966080" y="2563920"/>
              <a:ext cx="336600" cy="372960"/>
            </a:xfrm>
            <a:custGeom>
              <a:avLst/>
              <a:gdLst/>
              <a:ahLst/>
              <a:rect l="l" t="t" r="r" b="b"/>
              <a:pathLst>
                <a:path w="212" h="235">
                  <a:moveTo>
                    <a:pt x="84" y="235"/>
                  </a:moveTo>
                  <a:lnTo>
                    <a:pt x="120" y="149"/>
                  </a:lnTo>
                  <a:lnTo>
                    <a:pt x="28" y="106"/>
                  </a:lnTo>
                  <a:lnTo>
                    <a:pt x="0" y="0"/>
                  </a:lnTo>
                  <a:lnTo>
                    <a:pt x="99" y="64"/>
                  </a:lnTo>
                  <a:lnTo>
                    <a:pt x="212" y="121"/>
                  </a:lnTo>
                  <a:lnTo>
                    <a:pt x="177" y="178"/>
                  </a:lnTo>
                  <a:lnTo>
                    <a:pt x="177" y="220"/>
                  </a:lnTo>
                  <a:lnTo>
                    <a:pt x="84" y="23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966080" y="2563920"/>
              <a:ext cx="336600" cy="372960"/>
            </a:xfrm>
            <a:custGeom>
              <a:avLst/>
              <a:gdLst/>
              <a:ahLst/>
              <a:rect l="l" t="t" r="r" b="b"/>
              <a:pathLst>
                <a:path w="212" h="235">
                  <a:moveTo>
                    <a:pt x="84" y="235"/>
                  </a:moveTo>
                  <a:lnTo>
                    <a:pt x="120" y="149"/>
                  </a:lnTo>
                  <a:lnTo>
                    <a:pt x="28" y="106"/>
                  </a:lnTo>
                  <a:lnTo>
                    <a:pt x="0" y="0"/>
                  </a:lnTo>
                  <a:lnTo>
                    <a:pt x="99" y="64"/>
                  </a:lnTo>
                  <a:lnTo>
                    <a:pt x="212" y="121"/>
                  </a:lnTo>
                  <a:lnTo>
                    <a:pt x="177" y="178"/>
                  </a:lnTo>
                  <a:lnTo>
                    <a:pt x="177" y="220"/>
                  </a:lnTo>
                  <a:lnTo>
                    <a:pt x="84" y="235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61" name=""/>
          <p:cNvGrpSpPr/>
          <p:nvPr/>
        </p:nvGrpSpPr>
        <p:grpSpPr>
          <a:xfrm>
            <a:off x="4361040" y="1703520"/>
            <a:ext cx="4572000" cy="1439640"/>
            <a:chOff x="4361040" y="1703520"/>
            <a:chExt cx="4572000" cy="1439640"/>
          </a:xfrm>
        </p:grpSpPr>
        <p:sp>
          <p:nvSpPr>
            <p:cNvPr id="1662" name=""/>
            <p:cNvSpPr/>
            <p:nvPr/>
          </p:nvSpPr>
          <p:spPr>
            <a:xfrm>
              <a:off x="4361040" y="1703520"/>
              <a:ext cx="4572000" cy="1439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361040" y="1703520"/>
              <a:ext cx="4572000" cy="1439640"/>
            </a:xfrm>
            <a:prstGeom prst="rect">
              <a:avLst/>
            </a:prstGeom>
            <a:noFill/>
            <a:ln cap="rnd"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5332320" y="2367000"/>
            <a:ext cx="184320" cy="92160"/>
            <a:chOff x="5332320" y="2367000"/>
            <a:chExt cx="184320" cy="92160"/>
          </a:xfrm>
        </p:grpSpPr>
        <p:sp>
          <p:nvSpPr>
            <p:cNvPr id="1665" name=""/>
            <p:cNvSpPr/>
            <p:nvPr/>
          </p:nvSpPr>
          <p:spPr>
            <a:xfrm>
              <a:off x="5332320" y="2367000"/>
              <a:ext cx="18432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7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332320" y="2367000"/>
              <a:ext cx="18432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7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67" name=""/>
          <p:cNvGrpSpPr/>
          <p:nvPr/>
        </p:nvGrpSpPr>
        <p:grpSpPr>
          <a:xfrm>
            <a:off x="5607000" y="2367000"/>
            <a:ext cx="182520" cy="92160"/>
            <a:chOff x="5607000" y="2367000"/>
            <a:chExt cx="182520" cy="92160"/>
          </a:xfrm>
        </p:grpSpPr>
        <p:sp>
          <p:nvSpPr>
            <p:cNvPr id="1668" name=""/>
            <p:cNvSpPr/>
            <p:nvPr/>
          </p:nvSpPr>
          <p:spPr>
            <a:xfrm>
              <a:off x="5607000" y="2367000"/>
              <a:ext cx="182520" cy="9216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0"/>
                  </a:moveTo>
                  <a:lnTo>
                    <a:pt x="58" y="58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607000" y="2367000"/>
              <a:ext cx="182520" cy="9216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0"/>
                  </a:moveTo>
                  <a:lnTo>
                    <a:pt x="58" y="58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5894280" y="2367000"/>
            <a:ext cx="182520" cy="92160"/>
            <a:chOff x="5894280" y="2367000"/>
            <a:chExt cx="182520" cy="92160"/>
          </a:xfrm>
        </p:grpSpPr>
        <p:sp>
          <p:nvSpPr>
            <p:cNvPr id="1671" name=""/>
            <p:cNvSpPr/>
            <p:nvPr/>
          </p:nvSpPr>
          <p:spPr>
            <a:xfrm>
              <a:off x="5894280" y="2367000"/>
              <a:ext cx="182520" cy="9216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0"/>
                  </a:moveTo>
                  <a:lnTo>
                    <a:pt x="57" y="58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894280" y="2367000"/>
              <a:ext cx="182520" cy="9216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0"/>
                  </a:moveTo>
                  <a:lnTo>
                    <a:pt x="57" y="58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159600" y="2367000"/>
            <a:ext cx="180720" cy="92160"/>
            <a:chOff x="6159600" y="2367000"/>
            <a:chExt cx="180720" cy="92160"/>
          </a:xfrm>
        </p:grpSpPr>
        <p:sp>
          <p:nvSpPr>
            <p:cNvPr id="1674" name=""/>
            <p:cNvSpPr/>
            <p:nvPr/>
          </p:nvSpPr>
          <p:spPr>
            <a:xfrm>
              <a:off x="6159600" y="2367000"/>
              <a:ext cx="180720" cy="9216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0" y="0"/>
                  </a:moveTo>
                  <a:lnTo>
                    <a:pt x="58" y="58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159600" y="2367000"/>
              <a:ext cx="180720" cy="9216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0" y="0"/>
                  </a:moveTo>
                  <a:lnTo>
                    <a:pt x="58" y="58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6446880" y="2367000"/>
            <a:ext cx="185760" cy="92160"/>
            <a:chOff x="6446880" y="2367000"/>
            <a:chExt cx="185760" cy="92160"/>
          </a:xfrm>
        </p:grpSpPr>
        <p:sp>
          <p:nvSpPr>
            <p:cNvPr id="1677" name=""/>
            <p:cNvSpPr/>
            <p:nvPr/>
          </p:nvSpPr>
          <p:spPr>
            <a:xfrm>
              <a:off x="6446880" y="23670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9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446880" y="23670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9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79" name=""/>
          <p:cNvGrpSpPr/>
          <p:nvPr/>
        </p:nvGrpSpPr>
        <p:grpSpPr>
          <a:xfrm>
            <a:off x="6730920" y="2367000"/>
            <a:ext cx="182520" cy="92160"/>
            <a:chOff x="6730920" y="2367000"/>
            <a:chExt cx="182520" cy="92160"/>
          </a:xfrm>
        </p:grpSpPr>
        <p:sp>
          <p:nvSpPr>
            <p:cNvPr id="1680" name=""/>
            <p:cNvSpPr/>
            <p:nvPr/>
          </p:nvSpPr>
          <p:spPr>
            <a:xfrm>
              <a:off x="6730920" y="2367000"/>
              <a:ext cx="182520" cy="9216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0"/>
                  </a:moveTo>
                  <a:lnTo>
                    <a:pt x="55" y="58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30920" y="2367000"/>
              <a:ext cx="182520" cy="9216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0"/>
                  </a:moveTo>
                  <a:lnTo>
                    <a:pt x="55" y="58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6997680" y="2367000"/>
            <a:ext cx="185760" cy="92160"/>
            <a:chOff x="6997680" y="2367000"/>
            <a:chExt cx="185760" cy="92160"/>
          </a:xfrm>
        </p:grpSpPr>
        <p:sp>
          <p:nvSpPr>
            <p:cNvPr id="1683" name=""/>
            <p:cNvSpPr/>
            <p:nvPr/>
          </p:nvSpPr>
          <p:spPr>
            <a:xfrm>
              <a:off x="6997680" y="23670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8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997680" y="23670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8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85" name=""/>
          <p:cNvGrpSpPr/>
          <p:nvPr/>
        </p:nvGrpSpPr>
        <p:grpSpPr>
          <a:xfrm>
            <a:off x="7264440" y="2367000"/>
            <a:ext cx="183960" cy="92160"/>
            <a:chOff x="7264440" y="2367000"/>
            <a:chExt cx="183960" cy="92160"/>
          </a:xfrm>
        </p:grpSpPr>
        <p:sp>
          <p:nvSpPr>
            <p:cNvPr id="1686" name=""/>
            <p:cNvSpPr/>
            <p:nvPr/>
          </p:nvSpPr>
          <p:spPr>
            <a:xfrm>
              <a:off x="7264440" y="2367000"/>
              <a:ext cx="18396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9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264440" y="2367000"/>
              <a:ext cx="183960" cy="92160"/>
            </a:xfrm>
            <a:custGeom>
              <a:avLst/>
              <a:gdLst/>
              <a:ahLst/>
              <a:rect l="l" t="t" r="r" b="b"/>
              <a:pathLst>
                <a:path w="116" h="58">
                  <a:moveTo>
                    <a:pt x="0" y="0"/>
                  </a:moveTo>
                  <a:lnTo>
                    <a:pt x="59" y="58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7551720" y="2367000"/>
            <a:ext cx="179280" cy="92160"/>
            <a:chOff x="7551720" y="2367000"/>
            <a:chExt cx="179280" cy="92160"/>
          </a:xfrm>
        </p:grpSpPr>
        <p:sp>
          <p:nvSpPr>
            <p:cNvPr id="1689" name=""/>
            <p:cNvSpPr/>
            <p:nvPr/>
          </p:nvSpPr>
          <p:spPr>
            <a:xfrm>
              <a:off x="7551720" y="2367000"/>
              <a:ext cx="179280" cy="9216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0" y="0"/>
                  </a:moveTo>
                  <a:lnTo>
                    <a:pt x="55" y="5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551720" y="2367000"/>
              <a:ext cx="179280" cy="9216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0" y="0"/>
                  </a:moveTo>
                  <a:lnTo>
                    <a:pt x="55" y="5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7813800" y="2367000"/>
            <a:ext cx="185760" cy="92160"/>
            <a:chOff x="7813800" y="2367000"/>
            <a:chExt cx="185760" cy="92160"/>
          </a:xfrm>
        </p:grpSpPr>
        <p:sp>
          <p:nvSpPr>
            <p:cNvPr id="1692" name=""/>
            <p:cNvSpPr/>
            <p:nvPr/>
          </p:nvSpPr>
          <p:spPr>
            <a:xfrm>
              <a:off x="7813800" y="23670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9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813800" y="2367000"/>
              <a:ext cx="18576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0"/>
                  </a:moveTo>
                  <a:lnTo>
                    <a:pt x="59" y="5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94" name=""/>
          <p:cNvGrpSpPr/>
          <p:nvPr/>
        </p:nvGrpSpPr>
        <p:grpSpPr>
          <a:xfrm>
            <a:off x="8061480" y="2376360"/>
            <a:ext cx="180720" cy="93960"/>
            <a:chOff x="8061480" y="2376360"/>
            <a:chExt cx="180720" cy="93960"/>
          </a:xfrm>
        </p:grpSpPr>
        <p:sp>
          <p:nvSpPr>
            <p:cNvPr id="1695" name=""/>
            <p:cNvSpPr/>
            <p:nvPr/>
          </p:nvSpPr>
          <p:spPr>
            <a:xfrm>
              <a:off x="8061480" y="2376360"/>
              <a:ext cx="180720" cy="93960"/>
            </a:xfrm>
            <a:custGeom>
              <a:avLst/>
              <a:gdLst/>
              <a:ahLst/>
              <a:rect l="l" t="t" r="r" b="b"/>
              <a:pathLst>
                <a:path w="114" h="59">
                  <a:moveTo>
                    <a:pt x="0" y="0"/>
                  </a:moveTo>
                  <a:lnTo>
                    <a:pt x="57" y="59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061480" y="2376360"/>
              <a:ext cx="180720" cy="93960"/>
            </a:xfrm>
            <a:custGeom>
              <a:avLst/>
              <a:gdLst/>
              <a:ahLst/>
              <a:rect l="l" t="t" r="r" b="b"/>
              <a:pathLst>
                <a:path w="114" h="59">
                  <a:moveTo>
                    <a:pt x="0" y="0"/>
                  </a:moveTo>
                  <a:lnTo>
                    <a:pt x="57" y="59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8345520" y="2376360"/>
            <a:ext cx="182520" cy="93960"/>
            <a:chOff x="8345520" y="2376360"/>
            <a:chExt cx="182520" cy="93960"/>
          </a:xfrm>
        </p:grpSpPr>
        <p:sp>
          <p:nvSpPr>
            <p:cNvPr id="1698" name=""/>
            <p:cNvSpPr/>
            <p:nvPr/>
          </p:nvSpPr>
          <p:spPr>
            <a:xfrm>
              <a:off x="8345520" y="2376360"/>
              <a:ext cx="182520" cy="93960"/>
            </a:xfrm>
            <a:custGeom>
              <a:avLst/>
              <a:gdLst/>
              <a:ahLst/>
              <a:rect l="l" t="t" r="r" b="b"/>
              <a:pathLst>
                <a:path w="115" h="59">
                  <a:moveTo>
                    <a:pt x="0" y="0"/>
                  </a:moveTo>
                  <a:lnTo>
                    <a:pt x="57" y="59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8345520" y="2376360"/>
              <a:ext cx="182520" cy="93960"/>
            </a:xfrm>
            <a:custGeom>
              <a:avLst/>
              <a:gdLst/>
              <a:ahLst/>
              <a:rect l="l" t="t" r="r" b="b"/>
              <a:pathLst>
                <a:path w="115" h="59">
                  <a:moveTo>
                    <a:pt x="0" y="0"/>
                  </a:moveTo>
                  <a:lnTo>
                    <a:pt x="57" y="59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00" name=""/>
          <p:cNvGrpSpPr/>
          <p:nvPr/>
        </p:nvGrpSpPr>
        <p:grpSpPr>
          <a:xfrm>
            <a:off x="5067360" y="2387520"/>
            <a:ext cx="181080" cy="90720"/>
            <a:chOff x="5067360" y="2387520"/>
            <a:chExt cx="181080" cy="90720"/>
          </a:xfrm>
        </p:grpSpPr>
        <p:sp>
          <p:nvSpPr>
            <p:cNvPr id="1701" name=""/>
            <p:cNvSpPr/>
            <p:nvPr/>
          </p:nvSpPr>
          <p:spPr>
            <a:xfrm>
              <a:off x="5067360" y="2387520"/>
              <a:ext cx="181080" cy="90720"/>
            </a:xfrm>
            <a:custGeom>
              <a:avLst/>
              <a:gdLst/>
              <a:ahLst/>
              <a:rect l="l" t="t" r="r" b="b"/>
              <a:pathLst>
                <a:path w="114" h="57">
                  <a:moveTo>
                    <a:pt x="0" y="0"/>
                  </a:moveTo>
                  <a:lnTo>
                    <a:pt x="59" y="57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067360" y="2387520"/>
              <a:ext cx="181080" cy="90720"/>
            </a:xfrm>
            <a:custGeom>
              <a:avLst/>
              <a:gdLst/>
              <a:ahLst/>
              <a:rect l="l" t="t" r="r" b="b"/>
              <a:pathLst>
                <a:path w="114" h="57">
                  <a:moveTo>
                    <a:pt x="0" y="0"/>
                  </a:moveTo>
                  <a:lnTo>
                    <a:pt x="59" y="57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03" name=""/>
          <p:cNvSpPr/>
          <p:nvPr/>
        </p:nvSpPr>
        <p:spPr>
          <a:xfrm flipV="1">
            <a:off x="4711680" y="2529000"/>
            <a:ext cx="1440" cy="79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4583160" y="2546280"/>
            <a:ext cx="261720" cy="228600"/>
            <a:chOff x="4583160" y="2546280"/>
            <a:chExt cx="261720" cy="228600"/>
          </a:xfrm>
        </p:grpSpPr>
        <p:sp>
          <p:nvSpPr>
            <p:cNvPr id="1705" name=""/>
            <p:cNvSpPr/>
            <p:nvPr/>
          </p:nvSpPr>
          <p:spPr>
            <a:xfrm>
              <a:off x="4583160" y="2546280"/>
              <a:ext cx="261720" cy="228600"/>
            </a:xfrm>
            <a:custGeom>
              <a:avLst/>
              <a:gdLst/>
              <a:ahLst/>
              <a:rect l="l" t="t" r="r" b="b"/>
              <a:pathLst>
                <a:path w="165" h="144">
                  <a:moveTo>
                    <a:pt x="81" y="0"/>
                  </a:moveTo>
                  <a:lnTo>
                    <a:pt x="0" y="144"/>
                  </a:lnTo>
                  <a:lnTo>
                    <a:pt x="165" y="14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583160" y="2546280"/>
              <a:ext cx="261720" cy="228600"/>
            </a:xfrm>
            <a:custGeom>
              <a:avLst/>
              <a:gdLst/>
              <a:ahLst/>
              <a:rect l="l" t="t" r="r" b="b"/>
              <a:pathLst>
                <a:path w="165" h="144">
                  <a:moveTo>
                    <a:pt x="81" y="0"/>
                  </a:moveTo>
                  <a:lnTo>
                    <a:pt x="0" y="144"/>
                  </a:lnTo>
                  <a:lnTo>
                    <a:pt x="165" y="144"/>
                  </a:lnTo>
                  <a:lnTo>
                    <a:pt x="81" y="0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07" name=""/>
          <p:cNvGrpSpPr/>
          <p:nvPr/>
        </p:nvGrpSpPr>
        <p:grpSpPr>
          <a:xfrm>
            <a:off x="8415360" y="2535120"/>
            <a:ext cx="282600" cy="247680"/>
            <a:chOff x="8415360" y="2535120"/>
            <a:chExt cx="282600" cy="247680"/>
          </a:xfrm>
        </p:grpSpPr>
        <p:sp>
          <p:nvSpPr>
            <p:cNvPr id="1708" name=""/>
            <p:cNvSpPr/>
            <p:nvPr/>
          </p:nvSpPr>
          <p:spPr>
            <a:xfrm>
              <a:off x="8415360" y="2535120"/>
              <a:ext cx="282600" cy="247680"/>
            </a:xfrm>
            <a:custGeom>
              <a:avLst/>
              <a:gdLst/>
              <a:ahLst/>
              <a:rect l="l" t="t" r="r" b="b"/>
              <a:pathLst>
                <a:path w="178" h="156">
                  <a:moveTo>
                    <a:pt x="90" y="0"/>
                  </a:moveTo>
                  <a:lnTo>
                    <a:pt x="0" y="156"/>
                  </a:lnTo>
                  <a:lnTo>
                    <a:pt x="178" y="156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415360" y="2535120"/>
              <a:ext cx="282600" cy="247680"/>
            </a:xfrm>
            <a:custGeom>
              <a:avLst/>
              <a:gdLst/>
              <a:ahLst/>
              <a:rect l="l" t="t" r="r" b="b"/>
              <a:pathLst>
                <a:path w="178" h="156">
                  <a:moveTo>
                    <a:pt x="90" y="0"/>
                  </a:moveTo>
                  <a:lnTo>
                    <a:pt x="0" y="156"/>
                  </a:lnTo>
                  <a:lnTo>
                    <a:pt x="178" y="156"/>
                  </a:lnTo>
                  <a:lnTo>
                    <a:pt x="90" y="0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10" name=""/>
          <p:cNvSpPr/>
          <p:nvPr/>
        </p:nvSpPr>
        <p:spPr>
          <a:xfrm>
            <a:off x="4448160" y="2774880"/>
            <a:ext cx="6015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 flipH="1">
            <a:off x="8859600" y="3078000"/>
            <a:ext cx="4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8831160" y="3053880"/>
            <a:ext cx="33480" cy="25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8756640" y="2973240"/>
            <a:ext cx="108000" cy="106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>
            <a:off x="8645040" y="2928960"/>
            <a:ext cx="155880" cy="150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H="1">
            <a:off x="8547120" y="2928960"/>
            <a:ext cx="149040" cy="150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8435880" y="2928960"/>
            <a:ext cx="154080" cy="150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8334000" y="2928960"/>
            <a:ext cx="152280" cy="150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8240760" y="2928960"/>
            <a:ext cx="141120" cy="138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 flipH="1">
            <a:off x="8240760" y="2928960"/>
            <a:ext cx="33120" cy="34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>
            <a:off x="4979880" y="2921040"/>
            <a:ext cx="28800" cy="17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4874760" y="2809800"/>
            <a:ext cx="133560" cy="128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H="1">
            <a:off x="4772160" y="2774880"/>
            <a:ext cx="164880" cy="16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4689360" y="2774880"/>
            <a:ext cx="166680" cy="16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4586400" y="2774880"/>
            <a:ext cx="166680" cy="16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H="1">
            <a:off x="4505400" y="2774880"/>
            <a:ext cx="164880" cy="16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4448160" y="2774880"/>
            <a:ext cx="115920" cy="117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4448160" y="2774520"/>
            <a:ext cx="36360" cy="34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4447800" y="2774880"/>
            <a:ext cx="11160" cy="1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4448160" y="2774880"/>
            <a:ext cx="6112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4448160" y="2774880"/>
            <a:ext cx="6015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228160" y="2924280"/>
            <a:ext cx="6555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4711680" y="2508120"/>
            <a:ext cx="3859200" cy="24120"/>
            <a:chOff x="4711680" y="2508120"/>
            <a:chExt cx="3859200" cy="24120"/>
          </a:xfrm>
        </p:grpSpPr>
        <p:sp>
          <p:nvSpPr>
            <p:cNvPr id="1733" name=""/>
            <p:cNvSpPr/>
            <p:nvPr/>
          </p:nvSpPr>
          <p:spPr>
            <a:xfrm>
              <a:off x="4711680" y="2508120"/>
              <a:ext cx="3859200" cy="24120"/>
            </a:xfrm>
            <a:custGeom>
              <a:avLst/>
              <a:gdLst/>
              <a:ahLst/>
              <a:rect l="l" t="t" r="r" b="b"/>
              <a:pathLst>
                <a:path w="2431" h="15">
                  <a:moveTo>
                    <a:pt x="6" y="15"/>
                  </a:moveTo>
                  <a:lnTo>
                    <a:pt x="5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2423" y="0"/>
                  </a:lnTo>
                  <a:lnTo>
                    <a:pt x="2424" y="0"/>
                  </a:lnTo>
                  <a:lnTo>
                    <a:pt x="2426" y="1"/>
                  </a:lnTo>
                  <a:lnTo>
                    <a:pt x="2430" y="1"/>
                  </a:lnTo>
                  <a:lnTo>
                    <a:pt x="2431" y="4"/>
                  </a:lnTo>
                  <a:lnTo>
                    <a:pt x="2431" y="5"/>
                  </a:lnTo>
                  <a:lnTo>
                    <a:pt x="2431" y="8"/>
                  </a:lnTo>
                  <a:lnTo>
                    <a:pt x="2431" y="10"/>
                  </a:lnTo>
                  <a:lnTo>
                    <a:pt x="2431" y="13"/>
                  </a:lnTo>
                  <a:lnTo>
                    <a:pt x="2430" y="13"/>
                  </a:lnTo>
                  <a:lnTo>
                    <a:pt x="2426" y="15"/>
                  </a:lnTo>
                  <a:lnTo>
                    <a:pt x="2424" y="15"/>
                  </a:lnTo>
                  <a:lnTo>
                    <a:pt x="2423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711680" y="2508120"/>
              <a:ext cx="3859200" cy="24120"/>
            </a:xfrm>
            <a:custGeom>
              <a:avLst/>
              <a:gdLst/>
              <a:ahLst/>
              <a:rect l="l" t="t" r="r" b="b"/>
              <a:pathLst>
                <a:path w="2431" h="15">
                  <a:moveTo>
                    <a:pt x="6" y="15"/>
                  </a:moveTo>
                  <a:lnTo>
                    <a:pt x="5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2423" y="0"/>
                  </a:lnTo>
                  <a:lnTo>
                    <a:pt x="2424" y="0"/>
                  </a:lnTo>
                  <a:lnTo>
                    <a:pt x="2426" y="1"/>
                  </a:lnTo>
                  <a:lnTo>
                    <a:pt x="2430" y="1"/>
                  </a:lnTo>
                  <a:lnTo>
                    <a:pt x="2431" y="4"/>
                  </a:lnTo>
                  <a:lnTo>
                    <a:pt x="2431" y="5"/>
                  </a:lnTo>
                  <a:lnTo>
                    <a:pt x="2431" y="8"/>
                  </a:lnTo>
                  <a:lnTo>
                    <a:pt x="2431" y="10"/>
                  </a:lnTo>
                  <a:lnTo>
                    <a:pt x="2431" y="13"/>
                  </a:lnTo>
                  <a:lnTo>
                    <a:pt x="2430" y="13"/>
                  </a:lnTo>
                  <a:lnTo>
                    <a:pt x="2426" y="15"/>
                  </a:lnTo>
                  <a:lnTo>
                    <a:pt x="2424" y="15"/>
                  </a:lnTo>
                  <a:lnTo>
                    <a:pt x="2423" y="15"/>
                  </a:lnTo>
                  <a:lnTo>
                    <a:pt x="6" y="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4875120" y="2128680"/>
            <a:ext cx="180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36" name=""/>
          <p:cNvGrpSpPr/>
          <p:nvPr/>
        </p:nvGrpSpPr>
        <p:grpSpPr>
          <a:xfrm>
            <a:off x="4782960" y="2387520"/>
            <a:ext cx="182880" cy="90720"/>
            <a:chOff x="4782960" y="2387520"/>
            <a:chExt cx="182880" cy="90720"/>
          </a:xfrm>
        </p:grpSpPr>
        <p:sp>
          <p:nvSpPr>
            <p:cNvPr id="1737" name=""/>
            <p:cNvSpPr/>
            <p:nvPr/>
          </p:nvSpPr>
          <p:spPr>
            <a:xfrm>
              <a:off x="4782960" y="2387520"/>
              <a:ext cx="182880" cy="90720"/>
            </a:xfrm>
            <a:custGeom>
              <a:avLst/>
              <a:gdLst/>
              <a:ahLst/>
              <a:rect l="l" t="t" r="r" b="b"/>
              <a:pathLst>
                <a:path w="115" h="57">
                  <a:moveTo>
                    <a:pt x="0" y="0"/>
                  </a:moveTo>
                  <a:lnTo>
                    <a:pt x="58" y="57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782960" y="2387520"/>
              <a:ext cx="182880" cy="90720"/>
            </a:xfrm>
            <a:custGeom>
              <a:avLst/>
              <a:gdLst/>
              <a:ahLst/>
              <a:rect l="l" t="t" r="r" b="b"/>
              <a:pathLst>
                <a:path w="115" h="57">
                  <a:moveTo>
                    <a:pt x="0" y="0"/>
                  </a:moveTo>
                  <a:lnTo>
                    <a:pt x="58" y="57"/>
                  </a:lnTo>
                  <a:lnTo>
                    <a:pt x="1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5162400" y="2128680"/>
            <a:ext cx="180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542304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569916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98644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6251400" y="2128680"/>
            <a:ext cx="180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654048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81840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708984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735804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763920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7907400" y="2128680"/>
            <a:ext cx="1440" cy="2797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8151840" y="2136600"/>
            <a:ext cx="0" cy="28116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8435880" y="2136600"/>
            <a:ext cx="1800" cy="28116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52" name=""/>
          <p:cNvGrpSpPr/>
          <p:nvPr/>
        </p:nvGrpSpPr>
        <p:grpSpPr>
          <a:xfrm>
            <a:off x="4645080" y="2462040"/>
            <a:ext cx="131760" cy="123840"/>
            <a:chOff x="4645080" y="2462040"/>
            <a:chExt cx="131760" cy="123840"/>
          </a:xfrm>
        </p:grpSpPr>
        <p:sp>
          <p:nvSpPr>
            <p:cNvPr id="1753" name=""/>
            <p:cNvSpPr/>
            <p:nvPr/>
          </p:nvSpPr>
          <p:spPr>
            <a:xfrm>
              <a:off x="4645080" y="2462040"/>
              <a:ext cx="131760" cy="12384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645080" y="2462040"/>
              <a:ext cx="131760" cy="12384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55" name=""/>
          <p:cNvGrpSpPr/>
          <p:nvPr/>
        </p:nvGrpSpPr>
        <p:grpSpPr>
          <a:xfrm>
            <a:off x="8499600" y="2455920"/>
            <a:ext cx="129960" cy="125280"/>
            <a:chOff x="8499600" y="2455920"/>
            <a:chExt cx="129960" cy="125280"/>
          </a:xfrm>
        </p:grpSpPr>
        <p:sp>
          <p:nvSpPr>
            <p:cNvPr id="1756" name=""/>
            <p:cNvSpPr/>
            <p:nvPr/>
          </p:nvSpPr>
          <p:spPr>
            <a:xfrm>
              <a:off x="8499600" y="2455920"/>
              <a:ext cx="129960" cy="12528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499600" y="2455920"/>
              <a:ext cx="129960" cy="12528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58" name=""/>
          <p:cNvGrpSpPr/>
          <p:nvPr/>
        </p:nvGrpSpPr>
        <p:grpSpPr>
          <a:xfrm>
            <a:off x="8412120" y="2792520"/>
            <a:ext cx="130320" cy="125280"/>
            <a:chOff x="8412120" y="2792520"/>
            <a:chExt cx="130320" cy="125280"/>
          </a:xfrm>
        </p:grpSpPr>
        <p:sp>
          <p:nvSpPr>
            <p:cNvPr id="1759" name=""/>
            <p:cNvSpPr/>
            <p:nvPr/>
          </p:nvSpPr>
          <p:spPr>
            <a:xfrm>
              <a:off x="8412120" y="2792520"/>
              <a:ext cx="130320" cy="12528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412120" y="2792520"/>
              <a:ext cx="130320" cy="12528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61" name=""/>
          <p:cNvGrpSpPr/>
          <p:nvPr/>
        </p:nvGrpSpPr>
        <p:grpSpPr>
          <a:xfrm>
            <a:off x="8602560" y="2795760"/>
            <a:ext cx="130320" cy="126720"/>
            <a:chOff x="8602560" y="2795760"/>
            <a:chExt cx="130320" cy="126720"/>
          </a:xfrm>
        </p:grpSpPr>
        <p:sp>
          <p:nvSpPr>
            <p:cNvPr id="1762" name=""/>
            <p:cNvSpPr/>
            <p:nvPr/>
          </p:nvSpPr>
          <p:spPr>
            <a:xfrm>
              <a:off x="8602560" y="2795760"/>
              <a:ext cx="130320" cy="12672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602560" y="2795760"/>
              <a:ext cx="130320" cy="126720"/>
            </a:xfrm>
            <a:prstGeom prst="ellipse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64" name=""/>
          <p:cNvGrpSpPr/>
          <p:nvPr/>
        </p:nvGrpSpPr>
        <p:grpSpPr>
          <a:xfrm>
            <a:off x="5127480" y="2563920"/>
            <a:ext cx="236520" cy="460440"/>
            <a:chOff x="5127480" y="2563920"/>
            <a:chExt cx="236520" cy="460440"/>
          </a:xfrm>
        </p:grpSpPr>
        <p:sp>
          <p:nvSpPr>
            <p:cNvPr id="1765" name=""/>
            <p:cNvSpPr/>
            <p:nvPr/>
          </p:nvSpPr>
          <p:spPr>
            <a:xfrm>
              <a:off x="5127480" y="2563920"/>
              <a:ext cx="236520" cy="460440"/>
            </a:xfrm>
            <a:custGeom>
              <a:avLst/>
              <a:gdLst/>
              <a:ahLst/>
              <a:rect l="l" t="t" r="r" b="b"/>
              <a:pathLst>
                <a:path w="149" h="290">
                  <a:moveTo>
                    <a:pt x="113" y="290"/>
                  </a:moveTo>
                  <a:lnTo>
                    <a:pt x="57" y="199"/>
                  </a:lnTo>
                  <a:lnTo>
                    <a:pt x="0" y="50"/>
                  </a:lnTo>
                  <a:lnTo>
                    <a:pt x="71" y="0"/>
                  </a:lnTo>
                  <a:lnTo>
                    <a:pt x="63" y="71"/>
                  </a:lnTo>
                  <a:lnTo>
                    <a:pt x="149" y="192"/>
                  </a:lnTo>
                  <a:lnTo>
                    <a:pt x="113" y="29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127480" y="2563920"/>
              <a:ext cx="236520" cy="460440"/>
            </a:xfrm>
            <a:custGeom>
              <a:avLst/>
              <a:gdLst/>
              <a:ahLst/>
              <a:rect l="l" t="t" r="r" b="b"/>
              <a:pathLst>
                <a:path w="149" h="290">
                  <a:moveTo>
                    <a:pt x="113" y="290"/>
                  </a:moveTo>
                  <a:lnTo>
                    <a:pt x="57" y="199"/>
                  </a:lnTo>
                  <a:lnTo>
                    <a:pt x="0" y="50"/>
                  </a:lnTo>
                  <a:lnTo>
                    <a:pt x="71" y="0"/>
                  </a:lnTo>
                  <a:lnTo>
                    <a:pt x="63" y="71"/>
                  </a:lnTo>
                  <a:lnTo>
                    <a:pt x="149" y="192"/>
                  </a:lnTo>
                  <a:lnTo>
                    <a:pt x="113" y="29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5364000" y="2585880"/>
            <a:ext cx="225720" cy="428760"/>
            <a:chOff x="5364000" y="2585880"/>
            <a:chExt cx="225720" cy="428760"/>
          </a:xfrm>
        </p:grpSpPr>
        <p:sp>
          <p:nvSpPr>
            <p:cNvPr id="1768" name=""/>
            <p:cNvSpPr/>
            <p:nvPr/>
          </p:nvSpPr>
          <p:spPr>
            <a:xfrm>
              <a:off x="5364000" y="2585880"/>
              <a:ext cx="225720" cy="428760"/>
            </a:xfrm>
            <a:custGeom>
              <a:avLst/>
              <a:gdLst/>
              <a:ahLst/>
              <a:rect l="l" t="t" r="r" b="b"/>
              <a:pathLst>
                <a:path w="142" h="270">
                  <a:moveTo>
                    <a:pt x="50" y="270"/>
                  </a:moveTo>
                  <a:lnTo>
                    <a:pt x="36" y="192"/>
                  </a:lnTo>
                  <a:lnTo>
                    <a:pt x="56" y="106"/>
                  </a:lnTo>
                  <a:lnTo>
                    <a:pt x="0" y="0"/>
                  </a:lnTo>
                  <a:lnTo>
                    <a:pt x="114" y="21"/>
                  </a:lnTo>
                  <a:lnTo>
                    <a:pt x="142" y="86"/>
                  </a:lnTo>
                  <a:lnTo>
                    <a:pt x="50" y="2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364000" y="2585880"/>
              <a:ext cx="225720" cy="428760"/>
            </a:xfrm>
            <a:custGeom>
              <a:avLst/>
              <a:gdLst/>
              <a:ahLst/>
              <a:rect l="l" t="t" r="r" b="b"/>
              <a:pathLst>
                <a:path w="142" h="270">
                  <a:moveTo>
                    <a:pt x="50" y="270"/>
                  </a:moveTo>
                  <a:lnTo>
                    <a:pt x="36" y="192"/>
                  </a:lnTo>
                  <a:lnTo>
                    <a:pt x="56" y="106"/>
                  </a:lnTo>
                  <a:lnTo>
                    <a:pt x="0" y="0"/>
                  </a:lnTo>
                  <a:lnTo>
                    <a:pt x="114" y="21"/>
                  </a:lnTo>
                  <a:lnTo>
                    <a:pt x="142" y="86"/>
                  </a:lnTo>
                  <a:lnTo>
                    <a:pt x="50" y="27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5646600" y="2598840"/>
            <a:ext cx="236520" cy="245880"/>
            <a:chOff x="5646600" y="2598840"/>
            <a:chExt cx="236520" cy="245880"/>
          </a:xfrm>
        </p:grpSpPr>
        <p:sp>
          <p:nvSpPr>
            <p:cNvPr id="1771" name=""/>
            <p:cNvSpPr/>
            <p:nvPr/>
          </p:nvSpPr>
          <p:spPr>
            <a:xfrm>
              <a:off x="5646600" y="2598840"/>
              <a:ext cx="236520" cy="245880"/>
            </a:xfrm>
            <a:custGeom>
              <a:avLst/>
              <a:gdLst/>
              <a:ahLst/>
              <a:rect l="l" t="t" r="r" b="b"/>
              <a:pathLst>
                <a:path w="149" h="155">
                  <a:moveTo>
                    <a:pt x="35" y="0"/>
                  </a:moveTo>
                  <a:lnTo>
                    <a:pt x="0" y="92"/>
                  </a:lnTo>
                  <a:lnTo>
                    <a:pt x="149" y="155"/>
                  </a:lnTo>
                  <a:lnTo>
                    <a:pt x="149" y="12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646600" y="2598840"/>
              <a:ext cx="236520" cy="245880"/>
            </a:xfrm>
            <a:custGeom>
              <a:avLst/>
              <a:gdLst/>
              <a:ahLst/>
              <a:rect l="l" t="t" r="r" b="b"/>
              <a:pathLst>
                <a:path w="149" h="155">
                  <a:moveTo>
                    <a:pt x="35" y="0"/>
                  </a:moveTo>
                  <a:lnTo>
                    <a:pt x="0" y="92"/>
                  </a:lnTo>
                  <a:lnTo>
                    <a:pt x="149" y="155"/>
                  </a:lnTo>
                  <a:lnTo>
                    <a:pt x="149" y="120"/>
                  </a:lnTo>
                  <a:lnTo>
                    <a:pt x="35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73" name=""/>
          <p:cNvGrpSpPr/>
          <p:nvPr/>
        </p:nvGrpSpPr>
        <p:grpSpPr>
          <a:xfrm>
            <a:off x="5621400" y="2824200"/>
            <a:ext cx="225360" cy="190440"/>
            <a:chOff x="5621400" y="2824200"/>
            <a:chExt cx="225360" cy="190440"/>
          </a:xfrm>
        </p:grpSpPr>
        <p:sp>
          <p:nvSpPr>
            <p:cNvPr id="1774" name=""/>
            <p:cNvSpPr/>
            <p:nvPr/>
          </p:nvSpPr>
          <p:spPr>
            <a:xfrm>
              <a:off x="5621400" y="2824200"/>
              <a:ext cx="225360" cy="190440"/>
            </a:xfrm>
            <a:custGeom>
              <a:avLst/>
              <a:gdLst/>
              <a:ahLst/>
              <a:rect l="l" t="t" r="r" b="b"/>
              <a:pathLst>
                <a:path w="142" h="120">
                  <a:moveTo>
                    <a:pt x="0" y="120"/>
                  </a:moveTo>
                  <a:lnTo>
                    <a:pt x="44" y="48"/>
                  </a:lnTo>
                  <a:lnTo>
                    <a:pt x="23" y="0"/>
                  </a:lnTo>
                  <a:lnTo>
                    <a:pt x="142" y="56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621400" y="2824200"/>
              <a:ext cx="225360" cy="190440"/>
            </a:xfrm>
            <a:custGeom>
              <a:avLst/>
              <a:gdLst/>
              <a:ahLst/>
              <a:rect l="l" t="t" r="r" b="b"/>
              <a:pathLst>
                <a:path w="142" h="120">
                  <a:moveTo>
                    <a:pt x="0" y="120"/>
                  </a:moveTo>
                  <a:lnTo>
                    <a:pt x="44" y="48"/>
                  </a:lnTo>
                  <a:lnTo>
                    <a:pt x="23" y="0"/>
                  </a:lnTo>
                  <a:lnTo>
                    <a:pt x="142" y="56"/>
                  </a:lnTo>
                  <a:lnTo>
                    <a:pt x="0" y="12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76" name=""/>
          <p:cNvGrpSpPr/>
          <p:nvPr/>
        </p:nvGrpSpPr>
        <p:grpSpPr>
          <a:xfrm>
            <a:off x="5961240" y="2575080"/>
            <a:ext cx="439560" cy="428400"/>
            <a:chOff x="5961240" y="2575080"/>
            <a:chExt cx="439560" cy="428400"/>
          </a:xfrm>
        </p:grpSpPr>
        <p:sp>
          <p:nvSpPr>
            <p:cNvPr id="1777" name=""/>
            <p:cNvSpPr/>
            <p:nvPr/>
          </p:nvSpPr>
          <p:spPr>
            <a:xfrm>
              <a:off x="5961240" y="2575080"/>
              <a:ext cx="439560" cy="428400"/>
            </a:xfrm>
            <a:custGeom>
              <a:avLst/>
              <a:gdLst/>
              <a:ahLst/>
              <a:rect l="l" t="t" r="r" b="b"/>
              <a:pathLst>
                <a:path w="277" h="270">
                  <a:moveTo>
                    <a:pt x="29" y="270"/>
                  </a:moveTo>
                  <a:lnTo>
                    <a:pt x="7" y="199"/>
                  </a:lnTo>
                  <a:lnTo>
                    <a:pt x="0" y="79"/>
                  </a:lnTo>
                  <a:lnTo>
                    <a:pt x="85" y="35"/>
                  </a:lnTo>
                  <a:lnTo>
                    <a:pt x="142" y="0"/>
                  </a:lnTo>
                  <a:lnTo>
                    <a:pt x="78" y="114"/>
                  </a:lnTo>
                  <a:lnTo>
                    <a:pt x="99" y="171"/>
                  </a:lnTo>
                  <a:lnTo>
                    <a:pt x="171" y="142"/>
                  </a:lnTo>
                  <a:lnTo>
                    <a:pt x="184" y="79"/>
                  </a:lnTo>
                  <a:lnTo>
                    <a:pt x="192" y="7"/>
                  </a:lnTo>
                  <a:lnTo>
                    <a:pt x="277" y="71"/>
                  </a:lnTo>
                  <a:lnTo>
                    <a:pt x="220" y="149"/>
                  </a:lnTo>
                  <a:lnTo>
                    <a:pt x="171" y="221"/>
                  </a:lnTo>
                  <a:lnTo>
                    <a:pt x="29" y="2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961240" y="2575080"/>
              <a:ext cx="439560" cy="428400"/>
            </a:xfrm>
            <a:custGeom>
              <a:avLst/>
              <a:gdLst/>
              <a:ahLst/>
              <a:rect l="l" t="t" r="r" b="b"/>
              <a:pathLst>
                <a:path w="277" h="270">
                  <a:moveTo>
                    <a:pt x="29" y="270"/>
                  </a:moveTo>
                  <a:lnTo>
                    <a:pt x="7" y="199"/>
                  </a:lnTo>
                  <a:lnTo>
                    <a:pt x="0" y="79"/>
                  </a:lnTo>
                  <a:lnTo>
                    <a:pt x="85" y="35"/>
                  </a:lnTo>
                  <a:lnTo>
                    <a:pt x="142" y="0"/>
                  </a:lnTo>
                  <a:lnTo>
                    <a:pt x="78" y="114"/>
                  </a:lnTo>
                  <a:lnTo>
                    <a:pt x="99" y="171"/>
                  </a:lnTo>
                  <a:lnTo>
                    <a:pt x="171" y="142"/>
                  </a:lnTo>
                  <a:lnTo>
                    <a:pt x="184" y="79"/>
                  </a:lnTo>
                  <a:lnTo>
                    <a:pt x="192" y="7"/>
                  </a:lnTo>
                  <a:lnTo>
                    <a:pt x="277" y="71"/>
                  </a:lnTo>
                  <a:lnTo>
                    <a:pt x="220" y="149"/>
                  </a:lnTo>
                  <a:lnTo>
                    <a:pt x="171" y="221"/>
                  </a:lnTo>
                  <a:lnTo>
                    <a:pt x="29" y="27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79" name=""/>
          <p:cNvGrpSpPr/>
          <p:nvPr/>
        </p:nvGrpSpPr>
        <p:grpSpPr>
          <a:xfrm>
            <a:off x="6445080" y="2630520"/>
            <a:ext cx="371520" cy="361800"/>
            <a:chOff x="6445080" y="2630520"/>
            <a:chExt cx="371520" cy="361800"/>
          </a:xfrm>
        </p:grpSpPr>
        <p:sp>
          <p:nvSpPr>
            <p:cNvPr id="1780" name=""/>
            <p:cNvSpPr/>
            <p:nvPr/>
          </p:nvSpPr>
          <p:spPr>
            <a:xfrm>
              <a:off x="6445080" y="2630520"/>
              <a:ext cx="371520" cy="36180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0"/>
                  </a:moveTo>
                  <a:lnTo>
                    <a:pt x="57" y="92"/>
                  </a:lnTo>
                  <a:lnTo>
                    <a:pt x="28" y="178"/>
                  </a:lnTo>
                  <a:lnTo>
                    <a:pt x="114" y="228"/>
                  </a:lnTo>
                  <a:lnTo>
                    <a:pt x="234" y="228"/>
                  </a:lnTo>
                  <a:lnTo>
                    <a:pt x="163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445080" y="2630520"/>
              <a:ext cx="371520" cy="36180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0"/>
                  </a:moveTo>
                  <a:lnTo>
                    <a:pt x="57" y="92"/>
                  </a:lnTo>
                  <a:lnTo>
                    <a:pt x="28" y="178"/>
                  </a:lnTo>
                  <a:lnTo>
                    <a:pt x="114" y="228"/>
                  </a:lnTo>
                  <a:lnTo>
                    <a:pt x="234" y="228"/>
                  </a:lnTo>
                  <a:lnTo>
                    <a:pt x="163" y="142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6794640" y="2619360"/>
            <a:ext cx="326880" cy="360360"/>
            <a:chOff x="6794640" y="2619360"/>
            <a:chExt cx="326880" cy="360360"/>
          </a:xfrm>
        </p:grpSpPr>
        <p:sp>
          <p:nvSpPr>
            <p:cNvPr id="1783" name=""/>
            <p:cNvSpPr/>
            <p:nvPr/>
          </p:nvSpPr>
          <p:spPr>
            <a:xfrm>
              <a:off x="6794640" y="2619360"/>
              <a:ext cx="326880" cy="36036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21" y="0"/>
                  </a:moveTo>
                  <a:lnTo>
                    <a:pt x="0" y="86"/>
                  </a:lnTo>
                  <a:lnTo>
                    <a:pt x="92" y="193"/>
                  </a:lnTo>
                  <a:lnTo>
                    <a:pt x="42" y="213"/>
                  </a:lnTo>
                  <a:lnTo>
                    <a:pt x="206" y="227"/>
                  </a:lnTo>
                  <a:lnTo>
                    <a:pt x="120" y="7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794640" y="2619360"/>
              <a:ext cx="326880" cy="36036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21" y="0"/>
                  </a:moveTo>
                  <a:lnTo>
                    <a:pt x="0" y="86"/>
                  </a:lnTo>
                  <a:lnTo>
                    <a:pt x="92" y="193"/>
                  </a:lnTo>
                  <a:lnTo>
                    <a:pt x="42" y="213"/>
                  </a:lnTo>
                  <a:lnTo>
                    <a:pt x="206" y="227"/>
                  </a:lnTo>
                  <a:lnTo>
                    <a:pt x="120" y="79"/>
                  </a:lnTo>
                  <a:lnTo>
                    <a:pt x="21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7108920" y="2643120"/>
            <a:ext cx="147600" cy="336600"/>
            <a:chOff x="7108920" y="2643120"/>
            <a:chExt cx="147600" cy="336600"/>
          </a:xfrm>
        </p:grpSpPr>
        <p:sp>
          <p:nvSpPr>
            <p:cNvPr id="1786" name=""/>
            <p:cNvSpPr/>
            <p:nvPr/>
          </p:nvSpPr>
          <p:spPr>
            <a:xfrm>
              <a:off x="7108920" y="2643120"/>
              <a:ext cx="147600" cy="33660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3" y="0"/>
                  </a:moveTo>
                  <a:lnTo>
                    <a:pt x="0" y="99"/>
                  </a:lnTo>
                  <a:lnTo>
                    <a:pt x="50" y="21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108920" y="2643120"/>
              <a:ext cx="147600" cy="33660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3" y="0"/>
                  </a:moveTo>
                  <a:lnTo>
                    <a:pt x="0" y="99"/>
                  </a:lnTo>
                  <a:lnTo>
                    <a:pt x="50" y="212"/>
                  </a:lnTo>
                  <a:lnTo>
                    <a:pt x="93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7289640" y="2619360"/>
            <a:ext cx="157320" cy="249120"/>
            <a:chOff x="7289640" y="2619360"/>
            <a:chExt cx="157320" cy="249120"/>
          </a:xfrm>
        </p:grpSpPr>
        <p:sp>
          <p:nvSpPr>
            <p:cNvPr id="1789" name=""/>
            <p:cNvSpPr/>
            <p:nvPr/>
          </p:nvSpPr>
          <p:spPr>
            <a:xfrm>
              <a:off x="7289640" y="2619360"/>
              <a:ext cx="157320" cy="24912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99" y="0"/>
                  </a:moveTo>
                  <a:lnTo>
                    <a:pt x="0" y="79"/>
                  </a:lnTo>
                  <a:lnTo>
                    <a:pt x="8" y="157"/>
                  </a:lnTo>
                  <a:lnTo>
                    <a:pt x="85" y="99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289640" y="2619360"/>
              <a:ext cx="157320" cy="24912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99" y="0"/>
                  </a:moveTo>
                  <a:lnTo>
                    <a:pt x="0" y="79"/>
                  </a:lnTo>
                  <a:lnTo>
                    <a:pt x="8" y="157"/>
                  </a:lnTo>
                  <a:lnTo>
                    <a:pt x="85" y="99"/>
                  </a:lnTo>
                  <a:lnTo>
                    <a:pt x="99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91" name=""/>
          <p:cNvGrpSpPr/>
          <p:nvPr/>
        </p:nvGrpSpPr>
        <p:grpSpPr>
          <a:xfrm>
            <a:off x="7470720" y="2575080"/>
            <a:ext cx="257400" cy="382320"/>
            <a:chOff x="7470720" y="2575080"/>
            <a:chExt cx="257400" cy="382320"/>
          </a:xfrm>
        </p:grpSpPr>
        <p:sp>
          <p:nvSpPr>
            <p:cNvPr id="1792" name=""/>
            <p:cNvSpPr/>
            <p:nvPr/>
          </p:nvSpPr>
          <p:spPr>
            <a:xfrm>
              <a:off x="7470720" y="2575080"/>
              <a:ext cx="257400" cy="3823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241"/>
                  </a:moveTo>
                  <a:lnTo>
                    <a:pt x="56" y="142"/>
                  </a:lnTo>
                  <a:lnTo>
                    <a:pt x="28" y="85"/>
                  </a:lnTo>
                  <a:lnTo>
                    <a:pt x="64" y="7"/>
                  </a:lnTo>
                  <a:lnTo>
                    <a:pt x="113" y="0"/>
                  </a:lnTo>
                  <a:lnTo>
                    <a:pt x="92" y="85"/>
                  </a:lnTo>
                  <a:lnTo>
                    <a:pt x="162" y="157"/>
                  </a:lnTo>
                  <a:lnTo>
                    <a:pt x="120" y="241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470720" y="2575080"/>
              <a:ext cx="257400" cy="3823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241"/>
                  </a:moveTo>
                  <a:lnTo>
                    <a:pt x="56" y="142"/>
                  </a:lnTo>
                  <a:lnTo>
                    <a:pt x="28" y="85"/>
                  </a:lnTo>
                  <a:lnTo>
                    <a:pt x="64" y="7"/>
                  </a:lnTo>
                  <a:lnTo>
                    <a:pt x="113" y="0"/>
                  </a:lnTo>
                  <a:lnTo>
                    <a:pt x="92" y="85"/>
                  </a:lnTo>
                  <a:lnTo>
                    <a:pt x="162" y="157"/>
                  </a:lnTo>
                  <a:lnTo>
                    <a:pt x="120" y="241"/>
                  </a:lnTo>
                  <a:lnTo>
                    <a:pt x="0" y="241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94" name=""/>
          <p:cNvGrpSpPr/>
          <p:nvPr/>
        </p:nvGrpSpPr>
        <p:grpSpPr>
          <a:xfrm>
            <a:off x="7716960" y="2619360"/>
            <a:ext cx="293400" cy="328680"/>
            <a:chOff x="7716960" y="2619360"/>
            <a:chExt cx="293400" cy="328680"/>
          </a:xfrm>
        </p:grpSpPr>
        <p:sp>
          <p:nvSpPr>
            <p:cNvPr id="1795" name=""/>
            <p:cNvSpPr/>
            <p:nvPr/>
          </p:nvSpPr>
          <p:spPr>
            <a:xfrm>
              <a:off x="7716960" y="2619360"/>
              <a:ext cx="293400" cy="328680"/>
            </a:xfrm>
            <a:custGeom>
              <a:avLst/>
              <a:gdLst/>
              <a:ahLst/>
              <a:rect l="l" t="t" r="r" b="b"/>
              <a:pathLst>
                <a:path w="185" h="207">
                  <a:moveTo>
                    <a:pt x="100" y="0"/>
                  </a:moveTo>
                  <a:lnTo>
                    <a:pt x="64" y="57"/>
                  </a:lnTo>
                  <a:lnTo>
                    <a:pt x="0" y="93"/>
                  </a:lnTo>
                  <a:lnTo>
                    <a:pt x="114" y="143"/>
                  </a:lnTo>
                  <a:lnTo>
                    <a:pt x="129" y="207"/>
                  </a:lnTo>
                  <a:lnTo>
                    <a:pt x="185" y="149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716960" y="2619360"/>
              <a:ext cx="293400" cy="328680"/>
            </a:xfrm>
            <a:custGeom>
              <a:avLst/>
              <a:gdLst/>
              <a:ahLst/>
              <a:rect l="l" t="t" r="r" b="b"/>
              <a:pathLst>
                <a:path w="185" h="207">
                  <a:moveTo>
                    <a:pt x="100" y="0"/>
                  </a:moveTo>
                  <a:lnTo>
                    <a:pt x="64" y="57"/>
                  </a:lnTo>
                  <a:lnTo>
                    <a:pt x="0" y="93"/>
                  </a:lnTo>
                  <a:lnTo>
                    <a:pt x="114" y="143"/>
                  </a:lnTo>
                  <a:lnTo>
                    <a:pt x="129" y="207"/>
                  </a:lnTo>
                  <a:lnTo>
                    <a:pt x="185" y="149"/>
                  </a:lnTo>
                  <a:lnTo>
                    <a:pt x="100" y="0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7966080" y="2563920"/>
            <a:ext cx="336600" cy="372960"/>
            <a:chOff x="7966080" y="2563920"/>
            <a:chExt cx="336600" cy="372960"/>
          </a:xfrm>
        </p:grpSpPr>
        <p:sp>
          <p:nvSpPr>
            <p:cNvPr id="1798" name=""/>
            <p:cNvSpPr/>
            <p:nvPr/>
          </p:nvSpPr>
          <p:spPr>
            <a:xfrm>
              <a:off x="7966080" y="2563920"/>
              <a:ext cx="336600" cy="372960"/>
            </a:xfrm>
            <a:custGeom>
              <a:avLst/>
              <a:gdLst/>
              <a:ahLst/>
              <a:rect l="l" t="t" r="r" b="b"/>
              <a:pathLst>
                <a:path w="212" h="235">
                  <a:moveTo>
                    <a:pt x="84" y="235"/>
                  </a:moveTo>
                  <a:lnTo>
                    <a:pt x="120" y="149"/>
                  </a:lnTo>
                  <a:lnTo>
                    <a:pt x="28" y="106"/>
                  </a:lnTo>
                  <a:lnTo>
                    <a:pt x="0" y="0"/>
                  </a:lnTo>
                  <a:lnTo>
                    <a:pt x="99" y="64"/>
                  </a:lnTo>
                  <a:lnTo>
                    <a:pt x="212" y="121"/>
                  </a:lnTo>
                  <a:lnTo>
                    <a:pt x="177" y="178"/>
                  </a:lnTo>
                  <a:lnTo>
                    <a:pt x="177" y="220"/>
                  </a:lnTo>
                  <a:lnTo>
                    <a:pt x="84" y="23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966080" y="2563920"/>
              <a:ext cx="336600" cy="372960"/>
            </a:xfrm>
            <a:custGeom>
              <a:avLst/>
              <a:gdLst/>
              <a:ahLst/>
              <a:rect l="l" t="t" r="r" b="b"/>
              <a:pathLst>
                <a:path w="212" h="235">
                  <a:moveTo>
                    <a:pt x="84" y="235"/>
                  </a:moveTo>
                  <a:lnTo>
                    <a:pt x="120" y="149"/>
                  </a:lnTo>
                  <a:lnTo>
                    <a:pt x="28" y="106"/>
                  </a:lnTo>
                  <a:lnTo>
                    <a:pt x="0" y="0"/>
                  </a:lnTo>
                  <a:lnTo>
                    <a:pt x="99" y="64"/>
                  </a:lnTo>
                  <a:lnTo>
                    <a:pt x="212" y="121"/>
                  </a:lnTo>
                  <a:lnTo>
                    <a:pt x="177" y="178"/>
                  </a:lnTo>
                  <a:lnTo>
                    <a:pt x="177" y="220"/>
                  </a:lnTo>
                  <a:lnTo>
                    <a:pt x="84" y="235"/>
                  </a:lnTo>
                  <a:close/>
                </a:path>
              </a:pathLst>
            </a:custGeom>
            <a:noFill/>
            <a:ln cap="rnd"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00" name=""/>
          <p:cNvSpPr/>
          <p:nvPr/>
        </p:nvSpPr>
        <p:spPr>
          <a:xfrm>
            <a:off x="6304320" y="17827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22,8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6985080" y="1782720"/>
            <a:ext cx="563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kN/m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81F2-ADE8-4CF5-A13C-71D77C979D5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teel beam: fire resistance tim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03" name="" descr=""/>
          <p:cNvPicPr/>
          <p:nvPr/>
        </p:nvPicPr>
        <p:blipFill>
          <a:blip r:embed="rId1"/>
          <a:stretch/>
        </p:blipFill>
        <p:spPr>
          <a:xfrm>
            <a:off x="468360" y="1415880"/>
            <a:ext cx="8175600" cy="460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4445-C44C-465D-A211-52FD71C0884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teel beam: fire prot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05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897680" cy="465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8869-BEED-4888-85D7-B7F76B3FD49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teel column: strength desig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6730920" y="1585800"/>
            <a:ext cx="1771560" cy="3988080"/>
            <a:chOff x="6730920" y="1585800"/>
            <a:chExt cx="1771560" cy="3988080"/>
          </a:xfrm>
        </p:grpSpPr>
        <p:sp>
          <p:nvSpPr>
            <p:cNvPr id="1808" name=""/>
            <p:cNvSpPr/>
            <p:nvPr/>
          </p:nvSpPr>
          <p:spPr>
            <a:xfrm>
              <a:off x="6730920" y="1585800"/>
              <a:ext cx="1771560" cy="3988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730920" y="1585800"/>
              <a:ext cx="1771560" cy="3988080"/>
            </a:xfrm>
            <a:prstGeom prst="rect">
              <a:avLst/>
            </a:prstGeom>
            <a:noFill/>
            <a:ln cap="rnd"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10" name=""/>
          <p:cNvSpPr/>
          <p:nvPr/>
        </p:nvSpPr>
        <p:spPr>
          <a:xfrm>
            <a:off x="7493040" y="2573280"/>
            <a:ext cx="77760" cy="3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6918480" y="2573280"/>
            <a:ext cx="306360" cy="360"/>
          </a:xfrm>
          <a:custGeom>
            <a:avLst/>
            <a:gdLst/>
            <a:ahLst/>
            <a:rect l="l" t="t" r="r" b="b"/>
            <a:pathLst>
              <a:path w="193" h="0">
                <a:moveTo>
                  <a:pt x="0" y="0"/>
                </a:moveTo>
                <a:lnTo>
                  <a:pt x="146" y="0"/>
                </a:lnTo>
                <a:lnTo>
                  <a:pt x="193" y="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6918480" y="5035680"/>
            <a:ext cx="349200" cy="288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6961320" y="379080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,5m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074000" y="2573280"/>
            <a:ext cx="0" cy="119376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7074000" y="3981600"/>
            <a:ext cx="74520" cy="1054080"/>
          </a:xfrm>
          <a:custGeom>
            <a:avLst/>
            <a:gdLst/>
            <a:ahLst/>
            <a:rect l="l" t="t" r="r" b="b"/>
            <a:pathLst>
              <a:path w="47" h="664">
                <a:moveTo>
                  <a:pt x="0" y="0"/>
                </a:moveTo>
                <a:lnTo>
                  <a:pt x="0" y="664"/>
                </a:lnTo>
                <a:lnTo>
                  <a:pt x="47" y="556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6996240" y="4869000"/>
            <a:ext cx="82440" cy="174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6996240" y="2573280"/>
            <a:ext cx="152280" cy="176400"/>
          </a:xfrm>
          <a:custGeom>
            <a:avLst/>
            <a:gdLst/>
            <a:ahLst/>
            <a:rect l="l" t="t" r="r" b="b"/>
            <a:pathLst>
              <a:path w="96" h="111">
                <a:moveTo>
                  <a:pt x="0" y="111"/>
                </a:moveTo>
                <a:lnTo>
                  <a:pt x="48" y="0"/>
                </a:lnTo>
                <a:lnTo>
                  <a:pt x="96" y="111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18" name=""/>
          <p:cNvGrpSpPr/>
          <p:nvPr/>
        </p:nvGrpSpPr>
        <p:grpSpPr>
          <a:xfrm>
            <a:off x="7380360" y="5035680"/>
            <a:ext cx="261720" cy="263520"/>
            <a:chOff x="7380360" y="5035680"/>
            <a:chExt cx="261720" cy="263520"/>
          </a:xfrm>
        </p:grpSpPr>
        <p:sp>
          <p:nvSpPr>
            <p:cNvPr id="1819" name=""/>
            <p:cNvSpPr/>
            <p:nvPr/>
          </p:nvSpPr>
          <p:spPr>
            <a:xfrm>
              <a:off x="7380360" y="5035680"/>
              <a:ext cx="261720" cy="263520"/>
            </a:xfrm>
            <a:custGeom>
              <a:avLst/>
              <a:gdLst/>
              <a:ahLst/>
              <a:rect l="l" t="t" r="r" b="b"/>
              <a:pathLst>
                <a:path w="165" h="166">
                  <a:moveTo>
                    <a:pt x="84" y="0"/>
                  </a:moveTo>
                  <a:lnTo>
                    <a:pt x="0" y="166"/>
                  </a:lnTo>
                  <a:lnTo>
                    <a:pt x="165" y="16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380360" y="5035680"/>
              <a:ext cx="261720" cy="263520"/>
            </a:xfrm>
            <a:custGeom>
              <a:avLst/>
              <a:gdLst/>
              <a:ahLst/>
              <a:rect l="l" t="t" r="r" b="b"/>
              <a:pathLst>
                <a:path w="165" h="166">
                  <a:moveTo>
                    <a:pt x="84" y="0"/>
                  </a:moveTo>
                  <a:lnTo>
                    <a:pt x="0" y="166"/>
                  </a:lnTo>
                  <a:lnTo>
                    <a:pt x="165" y="166"/>
                  </a:lnTo>
                  <a:lnTo>
                    <a:pt x="84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21" name=""/>
          <p:cNvSpPr/>
          <p:nvPr/>
        </p:nvSpPr>
        <p:spPr>
          <a:xfrm flipH="1">
            <a:off x="7211880" y="5308560"/>
            <a:ext cx="658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7380360" y="5035680"/>
            <a:ext cx="261720" cy="263520"/>
            <a:chOff x="7380360" y="5035680"/>
            <a:chExt cx="261720" cy="263520"/>
          </a:xfrm>
        </p:grpSpPr>
        <p:sp>
          <p:nvSpPr>
            <p:cNvPr id="1823" name=""/>
            <p:cNvSpPr/>
            <p:nvPr/>
          </p:nvSpPr>
          <p:spPr>
            <a:xfrm>
              <a:off x="7380360" y="5035680"/>
              <a:ext cx="261720" cy="263520"/>
            </a:xfrm>
            <a:custGeom>
              <a:avLst/>
              <a:gdLst/>
              <a:ahLst/>
              <a:rect l="l" t="t" r="r" b="b"/>
              <a:pathLst>
                <a:path w="165" h="166">
                  <a:moveTo>
                    <a:pt x="84" y="0"/>
                  </a:moveTo>
                  <a:lnTo>
                    <a:pt x="0" y="166"/>
                  </a:lnTo>
                  <a:lnTo>
                    <a:pt x="165" y="16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380360" y="5035680"/>
              <a:ext cx="261720" cy="263520"/>
            </a:xfrm>
            <a:custGeom>
              <a:avLst/>
              <a:gdLst/>
              <a:ahLst/>
              <a:rect l="l" t="t" r="r" b="b"/>
              <a:pathLst>
                <a:path w="165" h="166">
                  <a:moveTo>
                    <a:pt x="84" y="0"/>
                  </a:moveTo>
                  <a:lnTo>
                    <a:pt x="0" y="166"/>
                  </a:lnTo>
                  <a:lnTo>
                    <a:pt x="165" y="166"/>
                  </a:lnTo>
                  <a:lnTo>
                    <a:pt x="84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25" name=""/>
          <p:cNvSpPr/>
          <p:nvPr/>
        </p:nvSpPr>
        <p:spPr>
          <a:xfrm flipH="1">
            <a:off x="7211880" y="5308560"/>
            <a:ext cx="658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7380360" y="5035680"/>
            <a:ext cx="261720" cy="263520"/>
            <a:chOff x="7380360" y="5035680"/>
            <a:chExt cx="261720" cy="263520"/>
          </a:xfrm>
        </p:grpSpPr>
        <p:sp>
          <p:nvSpPr>
            <p:cNvPr id="1827" name=""/>
            <p:cNvSpPr/>
            <p:nvPr/>
          </p:nvSpPr>
          <p:spPr>
            <a:xfrm>
              <a:off x="7380360" y="5035680"/>
              <a:ext cx="261720" cy="263520"/>
            </a:xfrm>
            <a:custGeom>
              <a:avLst/>
              <a:gdLst/>
              <a:ahLst/>
              <a:rect l="l" t="t" r="r" b="b"/>
              <a:pathLst>
                <a:path w="165" h="166">
                  <a:moveTo>
                    <a:pt x="84" y="0"/>
                  </a:moveTo>
                  <a:lnTo>
                    <a:pt x="0" y="166"/>
                  </a:lnTo>
                  <a:lnTo>
                    <a:pt x="165" y="16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380360" y="5035680"/>
              <a:ext cx="261720" cy="263520"/>
            </a:xfrm>
            <a:custGeom>
              <a:avLst/>
              <a:gdLst/>
              <a:ahLst/>
              <a:rect l="l" t="t" r="r" b="b"/>
              <a:pathLst>
                <a:path w="165" h="166">
                  <a:moveTo>
                    <a:pt x="84" y="0"/>
                  </a:moveTo>
                  <a:lnTo>
                    <a:pt x="0" y="166"/>
                  </a:lnTo>
                  <a:lnTo>
                    <a:pt x="165" y="166"/>
                  </a:lnTo>
                  <a:lnTo>
                    <a:pt x="84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29" name=""/>
          <p:cNvSpPr/>
          <p:nvPr/>
        </p:nvSpPr>
        <p:spPr>
          <a:xfrm flipH="1">
            <a:off x="7211880" y="5308560"/>
            <a:ext cx="658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>
            <a:off x="7211880" y="5308560"/>
            <a:ext cx="658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7799040" y="5454720"/>
            <a:ext cx="28440" cy="30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 flipH="1">
            <a:off x="7724880" y="5365800"/>
            <a:ext cx="10296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flipH="1">
            <a:off x="7642080" y="5308560"/>
            <a:ext cx="15408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7564320" y="5308560"/>
            <a:ext cx="15552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 flipH="1">
            <a:off x="7488000" y="5308560"/>
            <a:ext cx="15228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7410240" y="5308560"/>
            <a:ext cx="15228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flipH="1">
            <a:off x="7331040" y="5308560"/>
            <a:ext cx="15552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7253280" y="5308560"/>
            <a:ext cx="15408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7211520" y="5308560"/>
            <a:ext cx="117720" cy="135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7211880" y="5308560"/>
            <a:ext cx="3816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7211880" y="5308560"/>
            <a:ext cx="658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7529400" y="2441520"/>
            <a:ext cx="228600" cy="301680"/>
            <a:chOff x="7529400" y="2441520"/>
            <a:chExt cx="228600" cy="301680"/>
          </a:xfrm>
        </p:grpSpPr>
        <p:sp>
          <p:nvSpPr>
            <p:cNvPr id="1843" name=""/>
            <p:cNvSpPr/>
            <p:nvPr/>
          </p:nvSpPr>
          <p:spPr>
            <a:xfrm>
              <a:off x="7529400" y="2441520"/>
              <a:ext cx="228600" cy="301680"/>
            </a:xfrm>
            <a:custGeom>
              <a:avLst/>
              <a:gdLst/>
              <a:ahLst/>
              <a:rect l="l" t="t" r="r" b="b"/>
              <a:pathLst>
                <a:path w="144" h="190">
                  <a:moveTo>
                    <a:pt x="0" y="95"/>
                  </a:moveTo>
                  <a:lnTo>
                    <a:pt x="144" y="190"/>
                  </a:lnTo>
                  <a:lnTo>
                    <a:pt x="144" y="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529400" y="2441520"/>
              <a:ext cx="228600" cy="301680"/>
            </a:xfrm>
            <a:custGeom>
              <a:avLst/>
              <a:gdLst/>
              <a:ahLst/>
              <a:rect l="l" t="t" r="r" b="b"/>
              <a:pathLst>
                <a:path w="144" h="190">
                  <a:moveTo>
                    <a:pt x="0" y="95"/>
                  </a:moveTo>
                  <a:lnTo>
                    <a:pt x="144" y="190"/>
                  </a:lnTo>
                  <a:lnTo>
                    <a:pt x="144" y="0"/>
                  </a:lnTo>
                  <a:lnTo>
                    <a:pt x="0" y="95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45" name=""/>
          <p:cNvSpPr/>
          <p:nvPr/>
        </p:nvSpPr>
        <p:spPr>
          <a:xfrm flipV="1">
            <a:off x="7835760" y="2329920"/>
            <a:ext cx="1800" cy="576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H="1">
            <a:off x="7965720" y="2830680"/>
            <a:ext cx="20520" cy="25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7887960" y="2741760"/>
            <a:ext cx="98280" cy="114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 flipH="1">
            <a:off x="7835400" y="2649600"/>
            <a:ext cx="150840" cy="181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7835400" y="2563920"/>
            <a:ext cx="150840" cy="17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7835400" y="2478240"/>
            <a:ext cx="150840" cy="171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flipH="1">
            <a:off x="7835400" y="2389320"/>
            <a:ext cx="150840" cy="17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H="1">
            <a:off x="7835400" y="2330280"/>
            <a:ext cx="11916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7835760" y="2330280"/>
            <a:ext cx="44640" cy="54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7835760" y="2329920"/>
            <a:ext cx="5040" cy="8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V="1">
            <a:off x="7835760" y="2329920"/>
            <a:ext cx="1800" cy="576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7590600" y="38354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50/150/12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7502400" y="2592360"/>
            <a:ext cx="27000" cy="11160"/>
            <a:chOff x="7502400" y="2592360"/>
            <a:chExt cx="27000" cy="11160"/>
          </a:xfrm>
        </p:grpSpPr>
        <p:sp>
          <p:nvSpPr>
            <p:cNvPr id="1858" name=""/>
            <p:cNvSpPr/>
            <p:nvPr/>
          </p:nvSpPr>
          <p:spPr>
            <a:xfrm>
              <a:off x="7502400" y="2592360"/>
              <a:ext cx="2700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7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502400" y="2592360"/>
              <a:ext cx="2700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7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0" y="7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860" name=""/>
          <p:cNvGrpSpPr/>
          <p:nvPr/>
        </p:nvGrpSpPr>
        <p:grpSpPr>
          <a:xfrm>
            <a:off x="7502400" y="5038560"/>
            <a:ext cx="27000" cy="14400"/>
            <a:chOff x="7502400" y="5038560"/>
            <a:chExt cx="27000" cy="14400"/>
          </a:xfrm>
        </p:grpSpPr>
        <p:sp>
          <p:nvSpPr>
            <p:cNvPr id="1861" name=""/>
            <p:cNvSpPr/>
            <p:nvPr/>
          </p:nvSpPr>
          <p:spPr>
            <a:xfrm>
              <a:off x="7502400" y="50385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7" y="0"/>
                  </a:moveTo>
                  <a:lnTo>
                    <a:pt x="17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502400" y="50385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7" y="0"/>
                  </a:moveTo>
                  <a:lnTo>
                    <a:pt x="17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7507440" y="2608200"/>
            <a:ext cx="15840" cy="2424240"/>
            <a:chOff x="7507440" y="2608200"/>
            <a:chExt cx="15840" cy="2424240"/>
          </a:xfrm>
        </p:grpSpPr>
        <p:sp>
          <p:nvSpPr>
            <p:cNvPr id="1864" name=""/>
            <p:cNvSpPr/>
            <p:nvPr/>
          </p:nvSpPr>
          <p:spPr>
            <a:xfrm>
              <a:off x="7507440" y="2608200"/>
              <a:ext cx="15840" cy="242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507440" y="2608200"/>
              <a:ext cx="15840" cy="2424240"/>
            </a:xfrm>
            <a:prstGeom prst="rect">
              <a:avLst/>
            </a:prstGeom>
            <a:noFill/>
            <a:ln cap="rnd"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866" name=""/>
          <p:cNvGrpSpPr/>
          <p:nvPr/>
        </p:nvGrpSpPr>
        <p:grpSpPr>
          <a:xfrm>
            <a:off x="7385040" y="1697040"/>
            <a:ext cx="1079280" cy="733320"/>
            <a:chOff x="7385040" y="1697040"/>
            <a:chExt cx="1079280" cy="733320"/>
          </a:xfrm>
        </p:grpSpPr>
        <p:sp>
          <p:nvSpPr>
            <p:cNvPr id="1867" name=""/>
            <p:cNvSpPr/>
            <p:nvPr/>
          </p:nvSpPr>
          <p:spPr>
            <a:xfrm>
              <a:off x="7590960" y="188136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Arial"/>
                </a:rPr>
                <a:t>991,8 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198280" y="188136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Arial"/>
                </a:rPr>
                <a:t>kN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869" name=""/>
            <p:cNvGrpSpPr/>
            <p:nvPr/>
          </p:nvGrpSpPr>
          <p:grpSpPr>
            <a:xfrm>
              <a:off x="7385040" y="2176560"/>
              <a:ext cx="263520" cy="253800"/>
              <a:chOff x="7385040" y="2176560"/>
              <a:chExt cx="263520" cy="253800"/>
            </a:xfrm>
          </p:grpSpPr>
          <p:sp>
            <p:nvSpPr>
              <p:cNvPr id="1870" name=""/>
              <p:cNvSpPr/>
              <p:nvPr/>
            </p:nvSpPr>
            <p:spPr>
              <a:xfrm>
                <a:off x="7385040" y="2176560"/>
                <a:ext cx="263520" cy="253800"/>
              </a:xfrm>
              <a:custGeom>
                <a:avLst/>
                <a:gdLst/>
                <a:ahLst/>
                <a:rect l="l" t="t" r="r" b="b"/>
                <a:pathLst>
                  <a:path w="166" h="160">
                    <a:moveTo>
                      <a:pt x="0" y="0"/>
                    </a:moveTo>
                    <a:lnTo>
                      <a:pt x="166" y="0"/>
                    </a:lnTo>
                    <a:lnTo>
                      <a:pt x="83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385040" y="2176560"/>
                <a:ext cx="263520" cy="253800"/>
              </a:xfrm>
              <a:custGeom>
                <a:avLst/>
                <a:gdLst/>
                <a:ahLst/>
                <a:rect l="l" t="t" r="r" b="b"/>
                <a:pathLst>
                  <a:path w="166" h="160">
                    <a:moveTo>
                      <a:pt x="0" y="0"/>
                    </a:moveTo>
                    <a:lnTo>
                      <a:pt x="166" y="0"/>
                    </a:lnTo>
                    <a:lnTo>
                      <a:pt x="83" y="1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872" name=""/>
            <p:cNvSpPr/>
            <p:nvPr/>
          </p:nvSpPr>
          <p:spPr>
            <a:xfrm>
              <a:off x="7513560" y="1697040"/>
              <a:ext cx="3240" cy="54612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7464600" y="5000760"/>
            <a:ext cx="96840" cy="104760"/>
            <a:chOff x="7464600" y="5000760"/>
            <a:chExt cx="96840" cy="104760"/>
          </a:xfrm>
        </p:grpSpPr>
        <p:sp>
          <p:nvSpPr>
            <p:cNvPr id="1874" name=""/>
            <p:cNvSpPr/>
            <p:nvPr/>
          </p:nvSpPr>
          <p:spPr>
            <a:xfrm>
              <a:off x="7464600" y="5000760"/>
              <a:ext cx="96840" cy="10476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464600" y="5000760"/>
              <a:ext cx="96840" cy="10476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7464600" y="2546280"/>
            <a:ext cx="96840" cy="101520"/>
            <a:chOff x="7464600" y="2546280"/>
            <a:chExt cx="96840" cy="101520"/>
          </a:xfrm>
        </p:grpSpPr>
        <p:sp>
          <p:nvSpPr>
            <p:cNvPr id="1877" name=""/>
            <p:cNvSpPr/>
            <p:nvPr/>
          </p:nvSpPr>
          <p:spPr>
            <a:xfrm>
              <a:off x="7464600" y="2546280"/>
              <a:ext cx="96840" cy="10152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464600" y="2546280"/>
              <a:ext cx="96840" cy="10152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7746840" y="2455920"/>
            <a:ext cx="95400" cy="104760"/>
            <a:chOff x="7746840" y="2455920"/>
            <a:chExt cx="95400" cy="104760"/>
          </a:xfrm>
        </p:grpSpPr>
        <p:sp>
          <p:nvSpPr>
            <p:cNvPr id="1880" name=""/>
            <p:cNvSpPr/>
            <p:nvPr/>
          </p:nvSpPr>
          <p:spPr>
            <a:xfrm>
              <a:off x="7746840" y="2455920"/>
              <a:ext cx="95400" cy="10476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746840" y="2455920"/>
              <a:ext cx="95400" cy="10476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7746840" y="2647800"/>
            <a:ext cx="95400" cy="104760"/>
            <a:chOff x="7746840" y="2647800"/>
            <a:chExt cx="95400" cy="104760"/>
          </a:xfrm>
        </p:grpSpPr>
        <p:sp>
          <p:nvSpPr>
            <p:cNvPr id="1883" name=""/>
            <p:cNvSpPr/>
            <p:nvPr/>
          </p:nvSpPr>
          <p:spPr>
            <a:xfrm>
              <a:off x="7746840" y="2647800"/>
              <a:ext cx="95400" cy="10476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746840" y="2647800"/>
              <a:ext cx="95400" cy="10476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885" name=""/>
          <p:cNvGrpSpPr/>
          <p:nvPr/>
        </p:nvGrpSpPr>
        <p:grpSpPr>
          <a:xfrm>
            <a:off x="6730920" y="1585800"/>
            <a:ext cx="1771560" cy="3988080"/>
            <a:chOff x="6730920" y="1585800"/>
            <a:chExt cx="1771560" cy="3988080"/>
          </a:xfrm>
        </p:grpSpPr>
        <p:sp>
          <p:nvSpPr>
            <p:cNvPr id="1886" name=""/>
            <p:cNvSpPr/>
            <p:nvPr/>
          </p:nvSpPr>
          <p:spPr>
            <a:xfrm>
              <a:off x="6730920" y="1585800"/>
              <a:ext cx="1771560" cy="3988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730920" y="1585800"/>
              <a:ext cx="1771560" cy="3988080"/>
            </a:xfrm>
            <a:prstGeom prst="rect">
              <a:avLst/>
            </a:prstGeom>
            <a:noFill/>
            <a:ln cap="rnd"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88" name=""/>
          <p:cNvSpPr/>
          <p:nvPr/>
        </p:nvSpPr>
        <p:spPr>
          <a:xfrm>
            <a:off x="7493040" y="2573280"/>
            <a:ext cx="77760" cy="3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6918480" y="2573280"/>
            <a:ext cx="306360" cy="360"/>
          </a:xfrm>
          <a:custGeom>
            <a:avLst/>
            <a:gdLst/>
            <a:ahLst/>
            <a:rect l="l" t="t" r="r" b="b"/>
            <a:pathLst>
              <a:path w="193" h="0">
                <a:moveTo>
                  <a:pt x="0" y="0"/>
                </a:moveTo>
                <a:lnTo>
                  <a:pt x="146" y="0"/>
                </a:lnTo>
                <a:lnTo>
                  <a:pt x="193" y="0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6918480" y="5035680"/>
            <a:ext cx="349200" cy="288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6961320" y="379080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,5m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7074000" y="2573280"/>
            <a:ext cx="0" cy="119376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7074000" y="3981600"/>
            <a:ext cx="74520" cy="1054080"/>
          </a:xfrm>
          <a:custGeom>
            <a:avLst/>
            <a:gdLst/>
            <a:ahLst/>
            <a:rect l="l" t="t" r="r" b="b"/>
            <a:pathLst>
              <a:path w="47" h="664">
                <a:moveTo>
                  <a:pt x="0" y="0"/>
                </a:moveTo>
                <a:lnTo>
                  <a:pt x="0" y="664"/>
                </a:lnTo>
                <a:lnTo>
                  <a:pt x="47" y="556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6996240" y="4869000"/>
            <a:ext cx="82440" cy="174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6996240" y="2573280"/>
            <a:ext cx="152280" cy="176400"/>
          </a:xfrm>
          <a:custGeom>
            <a:avLst/>
            <a:gdLst/>
            <a:ahLst/>
            <a:rect l="l" t="t" r="r" b="b"/>
            <a:pathLst>
              <a:path w="96" h="111">
                <a:moveTo>
                  <a:pt x="0" y="111"/>
                </a:moveTo>
                <a:lnTo>
                  <a:pt x="48" y="0"/>
                </a:lnTo>
                <a:lnTo>
                  <a:pt x="96" y="111"/>
                </a:ln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96" name=""/>
          <p:cNvGrpSpPr/>
          <p:nvPr/>
        </p:nvGrpSpPr>
        <p:grpSpPr>
          <a:xfrm>
            <a:off x="7380360" y="5035680"/>
            <a:ext cx="261720" cy="263520"/>
            <a:chOff x="7380360" y="5035680"/>
            <a:chExt cx="261720" cy="263520"/>
          </a:xfrm>
        </p:grpSpPr>
        <p:sp>
          <p:nvSpPr>
            <p:cNvPr id="1897" name=""/>
            <p:cNvSpPr/>
            <p:nvPr/>
          </p:nvSpPr>
          <p:spPr>
            <a:xfrm>
              <a:off x="7380360" y="5035680"/>
              <a:ext cx="261720" cy="263520"/>
            </a:xfrm>
            <a:custGeom>
              <a:avLst/>
              <a:gdLst/>
              <a:ahLst/>
              <a:rect l="l" t="t" r="r" b="b"/>
              <a:pathLst>
                <a:path w="165" h="166">
                  <a:moveTo>
                    <a:pt x="84" y="0"/>
                  </a:moveTo>
                  <a:lnTo>
                    <a:pt x="0" y="166"/>
                  </a:lnTo>
                  <a:lnTo>
                    <a:pt x="165" y="16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7380360" y="5035680"/>
              <a:ext cx="261720" cy="263520"/>
            </a:xfrm>
            <a:custGeom>
              <a:avLst/>
              <a:gdLst/>
              <a:ahLst/>
              <a:rect l="l" t="t" r="r" b="b"/>
              <a:pathLst>
                <a:path w="165" h="166">
                  <a:moveTo>
                    <a:pt x="84" y="0"/>
                  </a:moveTo>
                  <a:lnTo>
                    <a:pt x="0" y="166"/>
                  </a:lnTo>
                  <a:lnTo>
                    <a:pt x="165" y="166"/>
                  </a:lnTo>
                  <a:lnTo>
                    <a:pt x="84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99" name=""/>
          <p:cNvSpPr/>
          <p:nvPr/>
        </p:nvSpPr>
        <p:spPr>
          <a:xfrm flipH="1">
            <a:off x="7211880" y="5308560"/>
            <a:ext cx="658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7380360" y="5035680"/>
            <a:ext cx="261720" cy="263520"/>
            <a:chOff x="7380360" y="5035680"/>
            <a:chExt cx="261720" cy="263520"/>
          </a:xfrm>
        </p:grpSpPr>
        <p:sp>
          <p:nvSpPr>
            <p:cNvPr id="1901" name=""/>
            <p:cNvSpPr/>
            <p:nvPr/>
          </p:nvSpPr>
          <p:spPr>
            <a:xfrm>
              <a:off x="7380360" y="5035680"/>
              <a:ext cx="261720" cy="263520"/>
            </a:xfrm>
            <a:custGeom>
              <a:avLst/>
              <a:gdLst/>
              <a:ahLst/>
              <a:rect l="l" t="t" r="r" b="b"/>
              <a:pathLst>
                <a:path w="165" h="166">
                  <a:moveTo>
                    <a:pt x="84" y="0"/>
                  </a:moveTo>
                  <a:lnTo>
                    <a:pt x="0" y="166"/>
                  </a:lnTo>
                  <a:lnTo>
                    <a:pt x="165" y="16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380360" y="5035680"/>
              <a:ext cx="261720" cy="263520"/>
            </a:xfrm>
            <a:custGeom>
              <a:avLst/>
              <a:gdLst/>
              <a:ahLst/>
              <a:rect l="l" t="t" r="r" b="b"/>
              <a:pathLst>
                <a:path w="165" h="166">
                  <a:moveTo>
                    <a:pt x="84" y="0"/>
                  </a:moveTo>
                  <a:lnTo>
                    <a:pt x="0" y="166"/>
                  </a:lnTo>
                  <a:lnTo>
                    <a:pt x="165" y="166"/>
                  </a:lnTo>
                  <a:lnTo>
                    <a:pt x="84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03" name=""/>
          <p:cNvSpPr/>
          <p:nvPr/>
        </p:nvSpPr>
        <p:spPr>
          <a:xfrm flipH="1">
            <a:off x="7211880" y="5308560"/>
            <a:ext cx="658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04" name=""/>
          <p:cNvGrpSpPr/>
          <p:nvPr/>
        </p:nvGrpSpPr>
        <p:grpSpPr>
          <a:xfrm>
            <a:off x="7380360" y="5035680"/>
            <a:ext cx="261720" cy="263520"/>
            <a:chOff x="7380360" y="5035680"/>
            <a:chExt cx="261720" cy="263520"/>
          </a:xfrm>
        </p:grpSpPr>
        <p:sp>
          <p:nvSpPr>
            <p:cNvPr id="1905" name=""/>
            <p:cNvSpPr/>
            <p:nvPr/>
          </p:nvSpPr>
          <p:spPr>
            <a:xfrm>
              <a:off x="7380360" y="5035680"/>
              <a:ext cx="261720" cy="263520"/>
            </a:xfrm>
            <a:custGeom>
              <a:avLst/>
              <a:gdLst/>
              <a:ahLst/>
              <a:rect l="l" t="t" r="r" b="b"/>
              <a:pathLst>
                <a:path w="165" h="166">
                  <a:moveTo>
                    <a:pt x="84" y="0"/>
                  </a:moveTo>
                  <a:lnTo>
                    <a:pt x="0" y="166"/>
                  </a:lnTo>
                  <a:lnTo>
                    <a:pt x="165" y="16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380360" y="5035680"/>
              <a:ext cx="261720" cy="263520"/>
            </a:xfrm>
            <a:custGeom>
              <a:avLst/>
              <a:gdLst/>
              <a:ahLst/>
              <a:rect l="l" t="t" r="r" b="b"/>
              <a:pathLst>
                <a:path w="165" h="166">
                  <a:moveTo>
                    <a:pt x="84" y="0"/>
                  </a:moveTo>
                  <a:lnTo>
                    <a:pt x="0" y="166"/>
                  </a:lnTo>
                  <a:lnTo>
                    <a:pt x="165" y="166"/>
                  </a:lnTo>
                  <a:lnTo>
                    <a:pt x="84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07" name=""/>
          <p:cNvSpPr/>
          <p:nvPr/>
        </p:nvSpPr>
        <p:spPr>
          <a:xfrm flipH="1">
            <a:off x="7211880" y="5308560"/>
            <a:ext cx="658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7211880" y="5308560"/>
            <a:ext cx="658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 flipH="1">
            <a:off x="7799040" y="5454720"/>
            <a:ext cx="28440" cy="30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7724880" y="5365800"/>
            <a:ext cx="10296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7642080" y="5308560"/>
            <a:ext cx="15408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 flipH="1">
            <a:off x="7564320" y="5308560"/>
            <a:ext cx="15552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 flipH="1">
            <a:off x="7488000" y="5308560"/>
            <a:ext cx="15228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 flipH="1">
            <a:off x="7410240" y="5308560"/>
            <a:ext cx="15228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7331040" y="5308560"/>
            <a:ext cx="15552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 flipH="1">
            <a:off x="7253280" y="5308560"/>
            <a:ext cx="15408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7211520" y="5308560"/>
            <a:ext cx="117720" cy="135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 flipH="1">
            <a:off x="7211880" y="5308560"/>
            <a:ext cx="38160" cy="4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 flipH="1">
            <a:off x="7211880" y="5308560"/>
            <a:ext cx="658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20" name=""/>
          <p:cNvGrpSpPr/>
          <p:nvPr/>
        </p:nvGrpSpPr>
        <p:grpSpPr>
          <a:xfrm>
            <a:off x="7529400" y="2441520"/>
            <a:ext cx="228600" cy="301680"/>
            <a:chOff x="7529400" y="2441520"/>
            <a:chExt cx="228600" cy="301680"/>
          </a:xfrm>
        </p:grpSpPr>
        <p:sp>
          <p:nvSpPr>
            <p:cNvPr id="1921" name=""/>
            <p:cNvSpPr/>
            <p:nvPr/>
          </p:nvSpPr>
          <p:spPr>
            <a:xfrm>
              <a:off x="7529400" y="2441520"/>
              <a:ext cx="228600" cy="301680"/>
            </a:xfrm>
            <a:custGeom>
              <a:avLst/>
              <a:gdLst/>
              <a:ahLst/>
              <a:rect l="l" t="t" r="r" b="b"/>
              <a:pathLst>
                <a:path w="144" h="190">
                  <a:moveTo>
                    <a:pt x="0" y="95"/>
                  </a:moveTo>
                  <a:lnTo>
                    <a:pt x="144" y="190"/>
                  </a:lnTo>
                  <a:lnTo>
                    <a:pt x="144" y="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529400" y="2441520"/>
              <a:ext cx="228600" cy="301680"/>
            </a:xfrm>
            <a:custGeom>
              <a:avLst/>
              <a:gdLst/>
              <a:ahLst/>
              <a:rect l="l" t="t" r="r" b="b"/>
              <a:pathLst>
                <a:path w="144" h="190">
                  <a:moveTo>
                    <a:pt x="0" y="95"/>
                  </a:moveTo>
                  <a:lnTo>
                    <a:pt x="144" y="190"/>
                  </a:lnTo>
                  <a:lnTo>
                    <a:pt x="144" y="0"/>
                  </a:lnTo>
                  <a:lnTo>
                    <a:pt x="0" y="95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23" name=""/>
          <p:cNvSpPr/>
          <p:nvPr/>
        </p:nvSpPr>
        <p:spPr>
          <a:xfrm flipV="1">
            <a:off x="7835760" y="2329920"/>
            <a:ext cx="1800" cy="576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 flipH="1">
            <a:off x="7965720" y="2830680"/>
            <a:ext cx="20520" cy="25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 flipH="1">
            <a:off x="7887960" y="2741760"/>
            <a:ext cx="98280" cy="114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 flipH="1">
            <a:off x="7835400" y="2649600"/>
            <a:ext cx="150840" cy="181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 flipH="1">
            <a:off x="7835400" y="2563920"/>
            <a:ext cx="150840" cy="17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 flipH="1">
            <a:off x="7835400" y="2478240"/>
            <a:ext cx="150840" cy="171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7835400" y="2389320"/>
            <a:ext cx="150840" cy="17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 flipH="1">
            <a:off x="7835400" y="2330280"/>
            <a:ext cx="11916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 flipH="1">
            <a:off x="7835760" y="2330280"/>
            <a:ext cx="44640" cy="54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 flipV="1">
            <a:off x="7835760" y="2329920"/>
            <a:ext cx="5040" cy="8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7835760" y="2329920"/>
            <a:ext cx="1800" cy="576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7590600" y="38354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50/150/12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35" name=""/>
          <p:cNvGrpSpPr/>
          <p:nvPr/>
        </p:nvGrpSpPr>
        <p:grpSpPr>
          <a:xfrm>
            <a:off x="7502400" y="2592360"/>
            <a:ext cx="27000" cy="11160"/>
            <a:chOff x="7502400" y="2592360"/>
            <a:chExt cx="27000" cy="11160"/>
          </a:xfrm>
        </p:grpSpPr>
        <p:sp>
          <p:nvSpPr>
            <p:cNvPr id="1936" name=""/>
            <p:cNvSpPr/>
            <p:nvPr/>
          </p:nvSpPr>
          <p:spPr>
            <a:xfrm>
              <a:off x="7502400" y="2592360"/>
              <a:ext cx="2700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7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502400" y="2592360"/>
              <a:ext cx="2700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7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0" y="7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502400" y="5038560"/>
            <a:ext cx="27000" cy="14400"/>
            <a:chOff x="7502400" y="5038560"/>
            <a:chExt cx="27000" cy="14400"/>
          </a:xfrm>
        </p:grpSpPr>
        <p:sp>
          <p:nvSpPr>
            <p:cNvPr id="1939" name=""/>
            <p:cNvSpPr/>
            <p:nvPr/>
          </p:nvSpPr>
          <p:spPr>
            <a:xfrm>
              <a:off x="7502400" y="50385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7" y="0"/>
                  </a:moveTo>
                  <a:lnTo>
                    <a:pt x="17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502400" y="50385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7" y="0"/>
                  </a:moveTo>
                  <a:lnTo>
                    <a:pt x="17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941" name=""/>
          <p:cNvGrpSpPr/>
          <p:nvPr/>
        </p:nvGrpSpPr>
        <p:grpSpPr>
          <a:xfrm>
            <a:off x="7507440" y="2608200"/>
            <a:ext cx="15840" cy="2424240"/>
            <a:chOff x="7507440" y="2608200"/>
            <a:chExt cx="15840" cy="2424240"/>
          </a:xfrm>
        </p:grpSpPr>
        <p:sp>
          <p:nvSpPr>
            <p:cNvPr id="1942" name=""/>
            <p:cNvSpPr/>
            <p:nvPr/>
          </p:nvSpPr>
          <p:spPr>
            <a:xfrm>
              <a:off x="7507440" y="2608200"/>
              <a:ext cx="15840" cy="242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507440" y="2608200"/>
              <a:ext cx="15840" cy="2424240"/>
            </a:xfrm>
            <a:prstGeom prst="rect">
              <a:avLst/>
            </a:prstGeom>
            <a:noFill/>
            <a:ln cap="rnd"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44" name=""/>
          <p:cNvSpPr/>
          <p:nvPr/>
        </p:nvSpPr>
        <p:spPr>
          <a:xfrm>
            <a:off x="7590960" y="1881360"/>
            <a:ext cx="60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991,8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8198280" y="1881360"/>
            <a:ext cx="266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kN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7385040" y="2176560"/>
            <a:ext cx="263520" cy="253800"/>
            <a:chOff x="7385040" y="2176560"/>
            <a:chExt cx="263520" cy="253800"/>
          </a:xfrm>
        </p:grpSpPr>
        <p:sp>
          <p:nvSpPr>
            <p:cNvPr id="1947" name=""/>
            <p:cNvSpPr/>
            <p:nvPr/>
          </p:nvSpPr>
          <p:spPr>
            <a:xfrm>
              <a:off x="7385040" y="2176560"/>
              <a:ext cx="263520" cy="253800"/>
            </a:xfrm>
            <a:custGeom>
              <a:avLst/>
              <a:gdLst/>
              <a:ahLst/>
              <a:rect l="l" t="t" r="r" b="b"/>
              <a:pathLst>
                <a:path w="166" h="160">
                  <a:moveTo>
                    <a:pt x="0" y="0"/>
                  </a:moveTo>
                  <a:lnTo>
                    <a:pt x="166" y="0"/>
                  </a:lnTo>
                  <a:lnTo>
                    <a:pt x="83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385040" y="2176560"/>
              <a:ext cx="263520" cy="253800"/>
            </a:xfrm>
            <a:custGeom>
              <a:avLst/>
              <a:gdLst/>
              <a:ahLst/>
              <a:rect l="l" t="t" r="r" b="b"/>
              <a:pathLst>
                <a:path w="166" h="160">
                  <a:moveTo>
                    <a:pt x="0" y="0"/>
                  </a:moveTo>
                  <a:lnTo>
                    <a:pt x="166" y="0"/>
                  </a:lnTo>
                  <a:lnTo>
                    <a:pt x="83" y="16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49" name=""/>
          <p:cNvSpPr/>
          <p:nvPr/>
        </p:nvSpPr>
        <p:spPr>
          <a:xfrm>
            <a:off x="7513560" y="1697040"/>
            <a:ext cx="3240" cy="546120"/>
          </a:xfrm>
          <a:prstGeom prst="line">
            <a:avLst/>
          </a:prstGeom>
          <a:ln w="33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7590960" y="1881360"/>
            <a:ext cx="60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991,8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8198280" y="1881360"/>
            <a:ext cx="266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kN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7385040" y="2176560"/>
            <a:ext cx="263520" cy="253800"/>
            <a:chOff x="7385040" y="2176560"/>
            <a:chExt cx="263520" cy="253800"/>
          </a:xfrm>
        </p:grpSpPr>
        <p:sp>
          <p:nvSpPr>
            <p:cNvPr id="1953" name=""/>
            <p:cNvSpPr/>
            <p:nvPr/>
          </p:nvSpPr>
          <p:spPr>
            <a:xfrm>
              <a:off x="7385040" y="2176560"/>
              <a:ext cx="263520" cy="253800"/>
            </a:xfrm>
            <a:custGeom>
              <a:avLst/>
              <a:gdLst/>
              <a:ahLst/>
              <a:rect l="l" t="t" r="r" b="b"/>
              <a:pathLst>
                <a:path w="166" h="160">
                  <a:moveTo>
                    <a:pt x="0" y="0"/>
                  </a:moveTo>
                  <a:lnTo>
                    <a:pt x="166" y="0"/>
                  </a:lnTo>
                  <a:lnTo>
                    <a:pt x="83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385040" y="2176560"/>
              <a:ext cx="263520" cy="253800"/>
            </a:xfrm>
            <a:custGeom>
              <a:avLst/>
              <a:gdLst/>
              <a:ahLst/>
              <a:rect l="l" t="t" r="r" b="b"/>
              <a:pathLst>
                <a:path w="166" h="160">
                  <a:moveTo>
                    <a:pt x="0" y="0"/>
                  </a:moveTo>
                  <a:lnTo>
                    <a:pt x="166" y="0"/>
                  </a:lnTo>
                  <a:lnTo>
                    <a:pt x="83" y="16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55" name=""/>
          <p:cNvSpPr/>
          <p:nvPr/>
        </p:nvSpPr>
        <p:spPr>
          <a:xfrm>
            <a:off x="7513560" y="1697040"/>
            <a:ext cx="3240" cy="546120"/>
          </a:xfrm>
          <a:prstGeom prst="line">
            <a:avLst/>
          </a:prstGeom>
          <a:ln w="33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56" name=""/>
          <p:cNvGrpSpPr/>
          <p:nvPr/>
        </p:nvGrpSpPr>
        <p:grpSpPr>
          <a:xfrm>
            <a:off x="7464600" y="5000760"/>
            <a:ext cx="96840" cy="104760"/>
            <a:chOff x="7464600" y="5000760"/>
            <a:chExt cx="96840" cy="104760"/>
          </a:xfrm>
        </p:grpSpPr>
        <p:sp>
          <p:nvSpPr>
            <p:cNvPr id="1957" name=""/>
            <p:cNvSpPr/>
            <p:nvPr/>
          </p:nvSpPr>
          <p:spPr>
            <a:xfrm>
              <a:off x="7464600" y="5000760"/>
              <a:ext cx="96840" cy="10476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464600" y="5000760"/>
              <a:ext cx="96840" cy="10476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959" name=""/>
          <p:cNvGrpSpPr/>
          <p:nvPr/>
        </p:nvGrpSpPr>
        <p:grpSpPr>
          <a:xfrm>
            <a:off x="7464600" y="2546280"/>
            <a:ext cx="96840" cy="101520"/>
            <a:chOff x="7464600" y="2546280"/>
            <a:chExt cx="96840" cy="101520"/>
          </a:xfrm>
        </p:grpSpPr>
        <p:sp>
          <p:nvSpPr>
            <p:cNvPr id="1960" name=""/>
            <p:cNvSpPr/>
            <p:nvPr/>
          </p:nvSpPr>
          <p:spPr>
            <a:xfrm>
              <a:off x="7464600" y="2546280"/>
              <a:ext cx="96840" cy="10152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464600" y="2546280"/>
              <a:ext cx="96840" cy="10152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962" name=""/>
          <p:cNvGrpSpPr/>
          <p:nvPr/>
        </p:nvGrpSpPr>
        <p:grpSpPr>
          <a:xfrm>
            <a:off x="7746840" y="2455920"/>
            <a:ext cx="95400" cy="104760"/>
            <a:chOff x="7746840" y="2455920"/>
            <a:chExt cx="95400" cy="104760"/>
          </a:xfrm>
        </p:grpSpPr>
        <p:sp>
          <p:nvSpPr>
            <p:cNvPr id="1963" name=""/>
            <p:cNvSpPr/>
            <p:nvPr/>
          </p:nvSpPr>
          <p:spPr>
            <a:xfrm>
              <a:off x="7746840" y="2455920"/>
              <a:ext cx="95400" cy="10476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746840" y="2455920"/>
              <a:ext cx="95400" cy="10476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7746840" y="2647800"/>
            <a:ext cx="95400" cy="104760"/>
            <a:chOff x="7746840" y="2647800"/>
            <a:chExt cx="95400" cy="104760"/>
          </a:xfrm>
        </p:grpSpPr>
        <p:sp>
          <p:nvSpPr>
            <p:cNvPr id="1966" name=""/>
            <p:cNvSpPr/>
            <p:nvPr/>
          </p:nvSpPr>
          <p:spPr>
            <a:xfrm>
              <a:off x="7746840" y="2647800"/>
              <a:ext cx="95400" cy="10476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746840" y="2647800"/>
              <a:ext cx="95400" cy="10476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68" name=""/>
          <p:cNvSpPr/>
          <p:nvPr/>
        </p:nvSpPr>
        <p:spPr>
          <a:xfrm>
            <a:off x="760680" y="3565440"/>
            <a:ext cx="2658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66"/>
                </a:solidFill>
                <a:latin typeface="Arial"/>
              </a:rPr>
              <a:t>Compression Resistance: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1552680" y="3922560"/>
            <a:ext cx="1263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Slenderness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3679200" y="3809880"/>
            <a:ext cx="16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931200" y="3922560"/>
            <a:ext cx="19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= 3,5 / 0,0544 = 64,3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3575880" y="4179960"/>
            <a:ext cx="16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3744720" y="4378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3927960" y="4292640"/>
            <a:ext cx="60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= 86,8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1550520" y="4572000"/>
            <a:ext cx="1096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Normalised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2730240" y="4572000"/>
            <a:ext cx="2980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slenderness = 64,3/86,8 = 0,74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864720" y="4838760"/>
            <a:ext cx="4946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Reduction factor (curve c for cold formed sections),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5886360" y="481644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Symbol"/>
                <a:ea typeface="Symbol"/>
              </a:rPr>
              <a:t>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6067800" y="4838760"/>
            <a:ext cx="60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= 0,70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860400" y="514656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982800" y="529596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138320" y="5168880"/>
            <a:ext cx="243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= 1 for Class 1 sections; 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3588120" y="5146560"/>
            <a:ext cx="122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694680" y="52959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953880" y="5168880"/>
            <a:ext cx="605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= [1,0]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859680" y="5499000"/>
            <a:ext cx="192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Buckling resistance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2815200" y="54990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2976120" y="5626080"/>
            <a:ext cx="29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b.Rd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336480" y="5499000"/>
            <a:ext cx="18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=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3525840" y="547704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Symbol"/>
                <a:ea typeface="Symbol"/>
              </a:rPr>
              <a:t>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3708360" y="547704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828960" y="56260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3984480" y="5499000"/>
            <a:ext cx="20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A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192560" y="5499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4252680" y="5626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y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4383360" y="549900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/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4488480" y="5477040"/>
            <a:ext cx="122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4593240" y="562608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4853520" y="5499000"/>
            <a:ext cx="72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= 1157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5591520" y="5499000"/>
            <a:ext cx="266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kN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5922360" y="5499000"/>
            <a:ext cx="786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&gt; 991,8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864360" y="5803920"/>
            <a:ext cx="1593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... therefore OK.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760320" y="1463760"/>
            <a:ext cx="1756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66"/>
                </a:solidFill>
                <a:latin typeface="Arial"/>
              </a:rPr>
              <a:t>Design Loading: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3134160" y="14684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3295800" y="1593720"/>
            <a:ext cx="17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d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3470400" y="1468440"/>
            <a:ext cx="1052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= 991,8 kN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710640" y="1819440"/>
            <a:ext cx="2222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Try RHS 150</a:t>
            </a:r>
            <a:r>
              <a:rPr b="1" lang="en-US" sz="17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150</a:t>
            </a:r>
            <a:r>
              <a:rPr b="1" lang="en-US" sz="17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765360" y="2171880"/>
            <a:ext cx="4309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66"/>
                </a:solidFill>
                <a:latin typeface="Arial"/>
              </a:rPr>
              <a:t>Section Classification in the fire situation: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1308240" y="2416320"/>
            <a:ext cx="13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1554840" y="2529000"/>
            <a:ext cx="738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= (235/f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2304720" y="2655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y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374560" y="25290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2448360" y="25351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0,5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2707200" y="2529000"/>
            <a:ext cx="60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= 0,92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1159560" y="2808360"/>
            <a:ext cx="287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 /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1452600" y="28083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1513080" y="29354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1673280" y="2808360"/>
            <a:ext cx="678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= (150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2363760" y="28083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–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2547720" y="2808360"/>
            <a:ext cx="2027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2 (12+24)) / 12 = 6,5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1159200" y="3116160"/>
            <a:ext cx="48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&lt; 33 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1654200" y="31100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1776240" y="3116160"/>
            <a:ext cx="168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0,92 0,85 = 25,81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3485520" y="311616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826440" y="3116160"/>
            <a:ext cx="72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lass 1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D804-4FBA-4CFD-ADAE-4AD92A5C43D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Steel column: design resistance at 20°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27" name=""/>
          <p:cNvGrpSpPr/>
          <p:nvPr/>
        </p:nvGrpSpPr>
        <p:grpSpPr>
          <a:xfrm>
            <a:off x="6918480" y="1635120"/>
            <a:ext cx="1947600" cy="4387680"/>
            <a:chOff x="6918480" y="1635120"/>
            <a:chExt cx="1947600" cy="4387680"/>
          </a:xfrm>
        </p:grpSpPr>
        <p:sp>
          <p:nvSpPr>
            <p:cNvPr id="2028" name=""/>
            <p:cNvSpPr/>
            <p:nvPr/>
          </p:nvSpPr>
          <p:spPr>
            <a:xfrm>
              <a:off x="6918480" y="1635120"/>
              <a:ext cx="1947600" cy="4387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18480" y="1635120"/>
              <a:ext cx="1947600" cy="4387680"/>
            </a:xfrm>
            <a:prstGeom prst="rect">
              <a:avLst/>
            </a:prstGeom>
            <a:noFill/>
            <a:ln cap="rnd"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30" name=""/>
          <p:cNvSpPr/>
          <p:nvPr/>
        </p:nvSpPr>
        <p:spPr>
          <a:xfrm>
            <a:off x="7493040" y="2722680"/>
            <a:ext cx="856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7367760" y="5430960"/>
            <a:ext cx="288720" cy="288720"/>
            <a:chOff x="7367760" y="5430960"/>
            <a:chExt cx="288720" cy="288720"/>
          </a:xfrm>
        </p:grpSpPr>
        <p:sp>
          <p:nvSpPr>
            <p:cNvPr id="2032" name=""/>
            <p:cNvSpPr/>
            <p:nvPr/>
          </p:nvSpPr>
          <p:spPr>
            <a:xfrm>
              <a:off x="7367760" y="5430960"/>
              <a:ext cx="288720" cy="2887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3" y="0"/>
                  </a:moveTo>
                  <a:lnTo>
                    <a:pt x="0" y="182"/>
                  </a:lnTo>
                  <a:lnTo>
                    <a:pt x="182" y="18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367760" y="5430960"/>
              <a:ext cx="288720" cy="2887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3" y="0"/>
                  </a:moveTo>
                  <a:lnTo>
                    <a:pt x="0" y="182"/>
                  </a:lnTo>
                  <a:lnTo>
                    <a:pt x="182" y="182"/>
                  </a:lnTo>
                  <a:lnTo>
                    <a:pt x="93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34" name=""/>
          <p:cNvSpPr/>
          <p:nvPr/>
        </p:nvSpPr>
        <p:spPr>
          <a:xfrm flipH="1">
            <a:off x="7183080" y="5730840"/>
            <a:ext cx="725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35" name=""/>
          <p:cNvGrpSpPr/>
          <p:nvPr/>
        </p:nvGrpSpPr>
        <p:grpSpPr>
          <a:xfrm>
            <a:off x="7367760" y="5430960"/>
            <a:ext cx="288720" cy="288720"/>
            <a:chOff x="7367760" y="5430960"/>
            <a:chExt cx="288720" cy="288720"/>
          </a:xfrm>
        </p:grpSpPr>
        <p:sp>
          <p:nvSpPr>
            <p:cNvPr id="2036" name=""/>
            <p:cNvSpPr/>
            <p:nvPr/>
          </p:nvSpPr>
          <p:spPr>
            <a:xfrm>
              <a:off x="7367760" y="5430960"/>
              <a:ext cx="288720" cy="2887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3" y="0"/>
                  </a:moveTo>
                  <a:lnTo>
                    <a:pt x="0" y="182"/>
                  </a:lnTo>
                  <a:lnTo>
                    <a:pt x="182" y="18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367760" y="5430960"/>
              <a:ext cx="288720" cy="2887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3" y="0"/>
                  </a:moveTo>
                  <a:lnTo>
                    <a:pt x="0" y="182"/>
                  </a:lnTo>
                  <a:lnTo>
                    <a:pt x="182" y="182"/>
                  </a:lnTo>
                  <a:lnTo>
                    <a:pt x="93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38" name=""/>
          <p:cNvSpPr/>
          <p:nvPr/>
        </p:nvSpPr>
        <p:spPr>
          <a:xfrm flipH="1">
            <a:off x="7183080" y="5730840"/>
            <a:ext cx="725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7367760" y="5430960"/>
            <a:ext cx="288720" cy="288720"/>
            <a:chOff x="7367760" y="5430960"/>
            <a:chExt cx="288720" cy="288720"/>
          </a:xfrm>
        </p:grpSpPr>
        <p:sp>
          <p:nvSpPr>
            <p:cNvPr id="2040" name=""/>
            <p:cNvSpPr/>
            <p:nvPr/>
          </p:nvSpPr>
          <p:spPr>
            <a:xfrm>
              <a:off x="7367760" y="5430960"/>
              <a:ext cx="288720" cy="2887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3" y="0"/>
                  </a:moveTo>
                  <a:lnTo>
                    <a:pt x="0" y="182"/>
                  </a:lnTo>
                  <a:lnTo>
                    <a:pt x="182" y="18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367760" y="5430960"/>
              <a:ext cx="288720" cy="2887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3" y="0"/>
                  </a:moveTo>
                  <a:lnTo>
                    <a:pt x="0" y="182"/>
                  </a:lnTo>
                  <a:lnTo>
                    <a:pt x="182" y="182"/>
                  </a:lnTo>
                  <a:lnTo>
                    <a:pt x="93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42" name=""/>
          <p:cNvSpPr/>
          <p:nvPr/>
        </p:nvSpPr>
        <p:spPr>
          <a:xfrm flipH="1">
            <a:off x="7183080" y="5730840"/>
            <a:ext cx="725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7183080" y="5730840"/>
            <a:ext cx="725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>
            <a:off x="7829640" y="5891040"/>
            <a:ext cx="3024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H="1">
            <a:off x="7746840" y="5792760"/>
            <a:ext cx="1130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 flipH="1">
            <a:off x="7656480" y="5730840"/>
            <a:ext cx="16992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H="1">
            <a:off x="7572240" y="5730840"/>
            <a:ext cx="16992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 flipH="1">
            <a:off x="7486560" y="5730840"/>
            <a:ext cx="1684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flipH="1">
            <a:off x="7402320" y="5730840"/>
            <a:ext cx="16812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>
            <a:off x="7315200" y="5730840"/>
            <a:ext cx="1713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>
            <a:off x="7229160" y="5730840"/>
            <a:ext cx="16812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 flipH="1">
            <a:off x="7183440" y="5730840"/>
            <a:ext cx="13032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flipH="1">
            <a:off x="7183080" y="5730840"/>
            <a:ext cx="428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7183080" y="5730840"/>
            <a:ext cx="725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55" name=""/>
          <p:cNvGrpSpPr/>
          <p:nvPr/>
        </p:nvGrpSpPr>
        <p:grpSpPr>
          <a:xfrm>
            <a:off x="7532640" y="2576520"/>
            <a:ext cx="250920" cy="331920"/>
            <a:chOff x="7532640" y="2576520"/>
            <a:chExt cx="250920" cy="331920"/>
          </a:xfrm>
        </p:grpSpPr>
        <p:sp>
          <p:nvSpPr>
            <p:cNvPr id="2056" name=""/>
            <p:cNvSpPr/>
            <p:nvPr/>
          </p:nvSpPr>
          <p:spPr>
            <a:xfrm>
              <a:off x="7532640" y="2576520"/>
              <a:ext cx="250920" cy="331920"/>
            </a:xfrm>
            <a:custGeom>
              <a:avLst/>
              <a:gdLst/>
              <a:ahLst/>
              <a:rect l="l" t="t" r="r" b="b"/>
              <a:pathLst>
                <a:path w="158" h="209">
                  <a:moveTo>
                    <a:pt x="0" y="105"/>
                  </a:moveTo>
                  <a:lnTo>
                    <a:pt x="158" y="209"/>
                  </a:lnTo>
                  <a:lnTo>
                    <a:pt x="158" y="0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532640" y="2576520"/>
              <a:ext cx="250920" cy="331920"/>
            </a:xfrm>
            <a:custGeom>
              <a:avLst/>
              <a:gdLst/>
              <a:ahLst/>
              <a:rect l="l" t="t" r="r" b="b"/>
              <a:pathLst>
                <a:path w="158" h="209">
                  <a:moveTo>
                    <a:pt x="0" y="105"/>
                  </a:moveTo>
                  <a:lnTo>
                    <a:pt x="158" y="209"/>
                  </a:lnTo>
                  <a:lnTo>
                    <a:pt x="158" y="0"/>
                  </a:lnTo>
                  <a:lnTo>
                    <a:pt x="0" y="105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58" name=""/>
          <p:cNvSpPr/>
          <p:nvPr/>
        </p:nvSpPr>
        <p:spPr>
          <a:xfrm flipV="1">
            <a:off x="7869240" y="2454120"/>
            <a:ext cx="1440" cy="63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 flipH="1">
            <a:off x="8013600" y="3005280"/>
            <a:ext cx="2232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 flipH="1">
            <a:off x="7926480" y="2906640"/>
            <a:ext cx="10944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 flipH="1">
            <a:off x="7868880" y="2806560"/>
            <a:ext cx="16668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 flipH="1">
            <a:off x="7868880" y="2709720"/>
            <a:ext cx="1666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7868880" y="2617920"/>
            <a:ext cx="166680" cy="18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 flipH="1">
            <a:off x="7868880" y="2519280"/>
            <a:ext cx="16668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7869240" y="2454120"/>
            <a:ext cx="13176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7868880" y="2454120"/>
            <a:ext cx="50760" cy="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7869240" y="2454120"/>
            <a:ext cx="648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 flipV="1">
            <a:off x="7869240" y="2454120"/>
            <a:ext cx="1440" cy="63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9" name=""/>
          <p:cNvGrpSpPr/>
          <p:nvPr/>
        </p:nvGrpSpPr>
        <p:grpSpPr>
          <a:xfrm>
            <a:off x="7502400" y="2743200"/>
            <a:ext cx="30240" cy="11160"/>
            <a:chOff x="7502400" y="2743200"/>
            <a:chExt cx="30240" cy="11160"/>
          </a:xfrm>
        </p:grpSpPr>
        <p:sp>
          <p:nvSpPr>
            <p:cNvPr id="2070" name=""/>
            <p:cNvSpPr/>
            <p:nvPr/>
          </p:nvSpPr>
          <p:spPr>
            <a:xfrm>
              <a:off x="7502400" y="274320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7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502400" y="274320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7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0" y="7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72" name=""/>
          <p:cNvGrpSpPr/>
          <p:nvPr/>
        </p:nvGrpSpPr>
        <p:grpSpPr>
          <a:xfrm>
            <a:off x="7772400" y="2592360"/>
            <a:ext cx="104760" cy="115920"/>
            <a:chOff x="7772400" y="2592360"/>
            <a:chExt cx="104760" cy="115920"/>
          </a:xfrm>
        </p:grpSpPr>
        <p:sp>
          <p:nvSpPr>
            <p:cNvPr id="2073" name=""/>
            <p:cNvSpPr/>
            <p:nvPr/>
          </p:nvSpPr>
          <p:spPr>
            <a:xfrm>
              <a:off x="7772400" y="2592360"/>
              <a:ext cx="104760" cy="11592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772400" y="2592360"/>
              <a:ext cx="104760" cy="11592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7772400" y="2803680"/>
            <a:ext cx="104760" cy="115560"/>
            <a:chOff x="7772400" y="2803680"/>
            <a:chExt cx="104760" cy="115560"/>
          </a:xfrm>
        </p:grpSpPr>
        <p:sp>
          <p:nvSpPr>
            <p:cNvPr id="2076" name=""/>
            <p:cNvSpPr/>
            <p:nvPr/>
          </p:nvSpPr>
          <p:spPr>
            <a:xfrm>
              <a:off x="7772400" y="2803680"/>
              <a:ext cx="104760" cy="11556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772400" y="2803680"/>
              <a:ext cx="104760" cy="11556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78" name=""/>
          <p:cNvGrpSpPr/>
          <p:nvPr/>
        </p:nvGrpSpPr>
        <p:grpSpPr>
          <a:xfrm>
            <a:off x="7689960" y="3203640"/>
            <a:ext cx="247680" cy="425520"/>
            <a:chOff x="7689960" y="3203640"/>
            <a:chExt cx="247680" cy="425520"/>
          </a:xfrm>
        </p:grpSpPr>
        <p:sp>
          <p:nvSpPr>
            <p:cNvPr id="2079" name=""/>
            <p:cNvSpPr/>
            <p:nvPr/>
          </p:nvSpPr>
          <p:spPr>
            <a:xfrm>
              <a:off x="7689960" y="3203640"/>
              <a:ext cx="247680" cy="425520"/>
            </a:xfrm>
            <a:custGeom>
              <a:avLst/>
              <a:gdLst/>
              <a:ahLst/>
              <a:rect l="l" t="t" r="r" b="b"/>
              <a:pathLst>
                <a:path w="156" h="268">
                  <a:moveTo>
                    <a:pt x="26" y="0"/>
                  </a:moveTo>
                  <a:lnTo>
                    <a:pt x="78" y="130"/>
                  </a:lnTo>
                  <a:lnTo>
                    <a:pt x="0" y="268"/>
                  </a:lnTo>
                  <a:lnTo>
                    <a:pt x="114" y="252"/>
                  </a:lnTo>
                  <a:lnTo>
                    <a:pt x="148" y="174"/>
                  </a:lnTo>
                  <a:lnTo>
                    <a:pt x="156" y="10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689960" y="3203640"/>
              <a:ext cx="247680" cy="425520"/>
            </a:xfrm>
            <a:custGeom>
              <a:avLst/>
              <a:gdLst/>
              <a:ahLst/>
              <a:rect l="l" t="t" r="r" b="b"/>
              <a:pathLst>
                <a:path w="156" h="268">
                  <a:moveTo>
                    <a:pt x="26" y="0"/>
                  </a:moveTo>
                  <a:lnTo>
                    <a:pt x="78" y="130"/>
                  </a:lnTo>
                  <a:lnTo>
                    <a:pt x="0" y="268"/>
                  </a:lnTo>
                  <a:lnTo>
                    <a:pt x="114" y="252"/>
                  </a:lnTo>
                  <a:lnTo>
                    <a:pt x="148" y="174"/>
                  </a:lnTo>
                  <a:lnTo>
                    <a:pt x="156" y="104"/>
                  </a:lnTo>
                  <a:lnTo>
                    <a:pt x="26" y="0"/>
                  </a:lnTo>
                  <a:close/>
                </a:path>
              </a:pathLst>
            </a:custGeom>
            <a:noFill/>
            <a:ln cap="rnd"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7140600" y="3162240"/>
            <a:ext cx="341280" cy="399960"/>
            <a:chOff x="7140600" y="3162240"/>
            <a:chExt cx="341280" cy="399960"/>
          </a:xfrm>
        </p:grpSpPr>
        <p:sp>
          <p:nvSpPr>
            <p:cNvPr id="2082" name=""/>
            <p:cNvSpPr/>
            <p:nvPr/>
          </p:nvSpPr>
          <p:spPr>
            <a:xfrm>
              <a:off x="7140600" y="3162240"/>
              <a:ext cx="341280" cy="399960"/>
            </a:xfrm>
            <a:custGeom>
              <a:avLst/>
              <a:gdLst/>
              <a:ahLst/>
              <a:rect l="l" t="t" r="r" b="b"/>
              <a:pathLst>
                <a:path w="215" h="252">
                  <a:moveTo>
                    <a:pt x="104" y="0"/>
                  </a:moveTo>
                  <a:lnTo>
                    <a:pt x="147" y="112"/>
                  </a:lnTo>
                  <a:lnTo>
                    <a:pt x="0" y="174"/>
                  </a:lnTo>
                  <a:lnTo>
                    <a:pt x="8" y="252"/>
                  </a:lnTo>
                  <a:lnTo>
                    <a:pt x="130" y="208"/>
                  </a:lnTo>
                  <a:lnTo>
                    <a:pt x="215" y="10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140600" y="3162240"/>
              <a:ext cx="341280" cy="399960"/>
            </a:xfrm>
            <a:custGeom>
              <a:avLst/>
              <a:gdLst/>
              <a:ahLst/>
              <a:rect l="l" t="t" r="r" b="b"/>
              <a:pathLst>
                <a:path w="215" h="252">
                  <a:moveTo>
                    <a:pt x="104" y="0"/>
                  </a:moveTo>
                  <a:lnTo>
                    <a:pt x="147" y="112"/>
                  </a:lnTo>
                  <a:lnTo>
                    <a:pt x="0" y="174"/>
                  </a:lnTo>
                  <a:lnTo>
                    <a:pt x="8" y="252"/>
                  </a:lnTo>
                  <a:lnTo>
                    <a:pt x="130" y="208"/>
                  </a:lnTo>
                  <a:lnTo>
                    <a:pt x="215" y="104"/>
                  </a:lnTo>
                  <a:lnTo>
                    <a:pt x="104" y="0"/>
                  </a:lnTo>
                  <a:close/>
                </a:path>
              </a:pathLst>
            </a:custGeom>
            <a:noFill/>
            <a:ln cap="rnd"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7043760" y="3852720"/>
            <a:ext cx="992160" cy="1546200"/>
            <a:chOff x="7043760" y="3852720"/>
            <a:chExt cx="992160" cy="1546200"/>
          </a:xfrm>
        </p:grpSpPr>
        <p:sp>
          <p:nvSpPr>
            <p:cNvPr id="2085" name=""/>
            <p:cNvSpPr/>
            <p:nvPr/>
          </p:nvSpPr>
          <p:spPr>
            <a:xfrm>
              <a:off x="7043760" y="3852720"/>
              <a:ext cx="992160" cy="1546200"/>
            </a:xfrm>
            <a:custGeom>
              <a:avLst/>
              <a:gdLst/>
              <a:ahLst/>
              <a:rect l="l" t="t" r="r" b="b"/>
              <a:pathLst>
                <a:path w="625" h="974">
                  <a:moveTo>
                    <a:pt x="260" y="974"/>
                  </a:moveTo>
                  <a:lnTo>
                    <a:pt x="94" y="879"/>
                  </a:lnTo>
                  <a:lnTo>
                    <a:pt x="68" y="643"/>
                  </a:lnTo>
                  <a:lnTo>
                    <a:pt x="0" y="461"/>
                  </a:lnTo>
                  <a:lnTo>
                    <a:pt x="78" y="244"/>
                  </a:lnTo>
                  <a:lnTo>
                    <a:pt x="60" y="26"/>
                  </a:lnTo>
                  <a:lnTo>
                    <a:pt x="130" y="122"/>
                  </a:lnTo>
                  <a:lnTo>
                    <a:pt x="146" y="349"/>
                  </a:lnTo>
                  <a:lnTo>
                    <a:pt x="130" y="548"/>
                  </a:lnTo>
                  <a:lnTo>
                    <a:pt x="216" y="661"/>
                  </a:lnTo>
                  <a:lnTo>
                    <a:pt x="182" y="522"/>
                  </a:lnTo>
                  <a:lnTo>
                    <a:pt x="208" y="322"/>
                  </a:lnTo>
                  <a:lnTo>
                    <a:pt x="224" y="130"/>
                  </a:lnTo>
                  <a:lnTo>
                    <a:pt x="156" y="18"/>
                  </a:lnTo>
                  <a:lnTo>
                    <a:pt x="224" y="36"/>
                  </a:lnTo>
                  <a:lnTo>
                    <a:pt x="303" y="287"/>
                  </a:lnTo>
                  <a:lnTo>
                    <a:pt x="364" y="166"/>
                  </a:lnTo>
                  <a:lnTo>
                    <a:pt x="390" y="0"/>
                  </a:lnTo>
                  <a:lnTo>
                    <a:pt x="433" y="122"/>
                  </a:lnTo>
                  <a:lnTo>
                    <a:pt x="433" y="287"/>
                  </a:lnTo>
                  <a:lnTo>
                    <a:pt x="372" y="435"/>
                  </a:lnTo>
                  <a:lnTo>
                    <a:pt x="459" y="444"/>
                  </a:lnTo>
                  <a:lnTo>
                    <a:pt x="503" y="244"/>
                  </a:lnTo>
                  <a:lnTo>
                    <a:pt x="625" y="78"/>
                  </a:lnTo>
                  <a:lnTo>
                    <a:pt x="547" y="252"/>
                  </a:lnTo>
                  <a:lnTo>
                    <a:pt x="589" y="401"/>
                  </a:lnTo>
                  <a:lnTo>
                    <a:pt x="573" y="557"/>
                  </a:lnTo>
                  <a:lnTo>
                    <a:pt x="477" y="695"/>
                  </a:lnTo>
                  <a:lnTo>
                    <a:pt x="537" y="922"/>
                  </a:lnTo>
                  <a:lnTo>
                    <a:pt x="260" y="9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043760" y="3852720"/>
              <a:ext cx="992160" cy="1546200"/>
            </a:xfrm>
            <a:custGeom>
              <a:avLst/>
              <a:gdLst/>
              <a:ahLst/>
              <a:rect l="l" t="t" r="r" b="b"/>
              <a:pathLst>
                <a:path w="625" h="974">
                  <a:moveTo>
                    <a:pt x="260" y="974"/>
                  </a:moveTo>
                  <a:lnTo>
                    <a:pt x="94" y="879"/>
                  </a:lnTo>
                  <a:lnTo>
                    <a:pt x="68" y="643"/>
                  </a:lnTo>
                  <a:lnTo>
                    <a:pt x="0" y="461"/>
                  </a:lnTo>
                  <a:lnTo>
                    <a:pt x="78" y="244"/>
                  </a:lnTo>
                  <a:lnTo>
                    <a:pt x="60" y="26"/>
                  </a:lnTo>
                  <a:lnTo>
                    <a:pt x="130" y="122"/>
                  </a:lnTo>
                  <a:lnTo>
                    <a:pt x="146" y="349"/>
                  </a:lnTo>
                  <a:lnTo>
                    <a:pt x="130" y="548"/>
                  </a:lnTo>
                  <a:lnTo>
                    <a:pt x="216" y="661"/>
                  </a:lnTo>
                  <a:lnTo>
                    <a:pt x="182" y="522"/>
                  </a:lnTo>
                  <a:lnTo>
                    <a:pt x="208" y="322"/>
                  </a:lnTo>
                  <a:lnTo>
                    <a:pt x="224" y="130"/>
                  </a:lnTo>
                  <a:lnTo>
                    <a:pt x="156" y="18"/>
                  </a:lnTo>
                  <a:lnTo>
                    <a:pt x="224" y="36"/>
                  </a:lnTo>
                  <a:lnTo>
                    <a:pt x="303" y="287"/>
                  </a:lnTo>
                  <a:lnTo>
                    <a:pt x="364" y="166"/>
                  </a:lnTo>
                  <a:lnTo>
                    <a:pt x="390" y="0"/>
                  </a:lnTo>
                  <a:lnTo>
                    <a:pt x="433" y="122"/>
                  </a:lnTo>
                  <a:lnTo>
                    <a:pt x="433" y="287"/>
                  </a:lnTo>
                  <a:lnTo>
                    <a:pt x="372" y="435"/>
                  </a:lnTo>
                  <a:lnTo>
                    <a:pt x="459" y="444"/>
                  </a:lnTo>
                  <a:lnTo>
                    <a:pt x="503" y="244"/>
                  </a:lnTo>
                  <a:lnTo>
                    <a:pt x="625" y="78"/>
                  </a:lnTo>
                  <a:lnTo>
                    <a:pt x="547" y="252"/>
                  </a:lnTo>
                  <a:lnTo>
                    <a:pt x="589" y="401"/>
                  </a:lnTo>
                  <a:lnTo>
                    <a:pt x="573" y="557"/>
                  </a:lnTo>
                  <a:lnTo>
                    <a:pt x="477" y="695"/>
                  </a:lnTo>
                  <a:lnTo>
                    <a:pt x="537" y="922"/>
                  </a:lnTo>
                  <a:lnTo>
                    <a:pt x="260" y="974"/>
                  </a:lnTo>
                  <a:close/>
                </a:path>
              </a:pathLst>
            </a:custGeom>
            <a:noFill/>
            <a:ln cap="rnd"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7508880" y="2760840"/>
            <a:ext cx="17280" cy="2665080"/>
            <a:chOff x="7508880" y="2760840"/>
            <a:chExt cx="17280" cy="2665080"/>
          </a:xfrm>
        </p:grpSpPr>
        <p:sp>
          <p:nvSpPr>
            <p:cNvPr id="2088" name=""/>
            <p:cNvSpPr/>
            <p:nvPr/>
          </p:nvSpPr>
          <p:spPr>
            <a:xfrm>
              <a:off x="7508880" y="2760840"/>
              <a:ext cx="17280" cy="266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508880" y="2760840"/>
              <a:ext cx="17280" cy="2665080"/>
            </a:xfrm>
            <a:prstGeom prst="rect">
              <a:avLst/>
            </a:prstGeom>
            <a:noFill/>
            <a:ln cap="rnd"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7461360" y="2692440"/>
            <a:ext cx="106200" cy="111240"/>
            <a:chOff x="7461360" y="2692440"/>
            <a:chExt cx="106200" cy="111240"/>
          </a:xfrm>
        </p:grpSpPr>
        <p:sp>
          <p:nvSpPr>
            <p:cNvPr id="2091" name=""/>
            <p:cNvSpPr/>
            <p:nvPr/>
          </p:nvSpPr>
          <p:spPr>
            <a:xfrm>
              <a:off x="7461360" y="2692440"/>
              <a:ext cx="106200" cy="11124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461360" y="2692440"/>
              <a:ext cx="106200" cy="1112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7502400" y="5432400"/>
            <a:ext cx="30240" cy="17640"/>
            <a:chOff x="7502400" y="5432400"/>
            <a:chExt cx="30240" cy="17640"/>
          </a:xfrm>
        </p:grpSpPr>
        <p:sp>
          <p:nvSpPr>
            <p:cNvPr id="2094" name=""/>
            <p:cNvSpPr/>
            <p:nvPr/>
          </p:nvSpPr>
          <p:spPr>
            <a:xfrm>
              <a:off x="7502400" y="5432400"/>
              <a:ext cx="30240" cy="1764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9" y="0"/>
                  </a:moveTo>
                  <a:lnTo>
                    <a:pt x="19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502400" y="5432400"/>
              <a:ext cx="30240" cy="1764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9" y="0"/>
                  </a:moveTo>
                  <a:lnTo>
                    <a:pt x="19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96" name=""/>
          <p:cNvGrpSpPr/>
          <p:nvPr/>
        </p:nvGrpSpPr>
        <p:grpSpPr>
          <a:xfrm>
            <a:off x="7461360" y="5392800"/>
            <a:ext cx="106200" cy="114120"/>
            <a:chOff x="7461360" y="5392800"/>
            <a:chExt cx="106200" cy="114120"/>
          </a:xfrm>
        </p:grpSpPr>
        <p:sp>
          <p:nvSpPr>
            <p:cNvPr id="2097" name=""/>
            <p:cNvSpPr/>
            <p:nvPr/>
          </p:nvSpPr>
          <p:spPr>
            <a:xfrm>
              <a:off x="7461360" y="5392800"/>
              <a:ext cx="106200" cy="11412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461360" y="5392800"/>
              <a:ext cx="106200" cy="11412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6918480" y="1635120"/>
            <a:ext cx="1947600" cy="4387680"/>
            <a:chOff x="6918480" y="1635120"/>
            <a:chExt cx="1947600" cy="4387680"/>
          </a:xfrm>
        </p:grpSpPr>
        <p:sp>
          <p:nvSpPr>
            <p:cNvPr id="2100" name=""/>
            <p:cNvSpPr/>
            <p:nvPr/>
          </p:nvSpPr>
          <p:spPr>
            <a:xfrm>
              <a:off x="6918480" y="1635120"/>
              <a:ext cx="1947600" cy="4387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918480" y="1635120"/>
              <a:ext cx="1947600" cy="4387680"/>
            </a:xfrm>
            <a:prstGeom prst="rect">
              <a:avLst/>
            </a:prstGeom>
            <a:noFill/>
            <a:ln cap="rnd"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02" name=""/>
          <p:cNvSpPr/>
          <p:nvPr/>
        </p:nvSpPr>
        <p:spPr>
          <a:xfrm>
            <a:off x="7493040" y="2722680"/>
            <a:ext cx="856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7367760" y="5430960"/>
            <a:ext cx="288720" cy="288720"/>
            <a:chOff x="7367760" y="5430960"/>
            <a:chExt cx="288720" cy="288720"/>
          </a:xfrm>
        </p:grpSpPr>
        <p:sp>
          <p:nvSpPr>
            <p:cNvPr id="2104" name=""/>
            <p:cNvSpPr/>
            <p:nvPr/>
          </p:nvSpPr>
          <p:spPr>
            <a:xfrm>
              <a:off x="7367760" y="5430960"/>
              <a:ext cx="288720" cy="2887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3" y="0"/>
                  </a:moveTo>
                  <a:lnTo>
                    <a:pt x="0" y="182"/>
                  </a:lnTo>
                  <a:lnTo>
                    <a:pt x="182" y="18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367760" y="5430960"/>
              <a:ext cx="288720" cy="2887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3" y="0"/>
                  </a:moveTo>
                  <a:lnTo>
                    <a:pt x="0" y="182"/>
                  </a:lnTo>
                  <a:lnTo>
                    <a:pt x="182" y="182"/>
                  </a:lnTo>
                  <a:lnTo>
                    <a:pt x="93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06" name=""/>
          <p:cNvSpPr/>
          <p:nvPr/>
        </p:nvSpPr>
        <p:spPr>
          <a:xfrm flipH="1">
            <a:off x="7183080" y="5730840"/>
            <a:ext cx="725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7367760" y="5430960"/>
            <a:ext cx="288720" cy="288720"/>
            <a:chOff x="7367760" y="5430960"/>
            <a:chExt cx="288720" cy="288720"/>
          </a:xfrm>
        </p:grpSpPr>
        <p:sp>
          <p:nvSpPr>
            <p:cNvPr id="2108" name=""/>
            <p:cNvSpPr/>
            <p:nvPr/>
          </p:nvSpPr>
          <p:spPr>
            <a:xfrm>
              <a:off x="7367760" y="5430960"/>
              <a:ext cx="288720" cy="2887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3" y="0"/>
                  </a:moveTo>
                  <a:lnTo>
                    <a:pt x="0" y="182"/>
                  </a:lnTo>
                  <a:lnTo>
                    <a:pt x="182" y="18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367760" y="5430960"/>
              <a:ext cx="288720" cy="2887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3" y="0"/>
                  </a:moveTo>
                  <a:lnTo>
                    <a:pt x="0" y="182"/>
                  </a:lnTo>
                  <a:lnTo>
                    <a:pt x="182" y="182"/>
                  </a:lnTo>
                  <a:lnTo>
                    <a:pt x="93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10" name=""/>
          <p:cNvSpPr/>
          <p:nvPr/>
        </p:nvSpPr>
        <p:spPr>
          <a:xfrm flipH="1">
            <a:off x="7183080" y="5730840"/>
            <a:ext cx="725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11" name=""/>
          <p:cNvGrpSpPr/>
          <p:nvPr/>
        </p:nvGrpSpPr>
        <p:grpSpPr>
          <a:xfrm>
            <a:off x="7367760" y="5430960"/>
            <a:ext cx="288720" cy="288720"/>
            <a:chOff x="7367760" y="5430960"/>
            <a:chExt cx="288720" cy="288720"/>
          </a:xfrm>
        </p:grpSpPr>
        <p:sp>
          <p:nvSpPr>
            <p:cNvPr id="2112" name=""/>
            <p:cNvSpPr/>
            <p:nvPr/>
          </p:nvSpPr>
          <p:spPr>
            <a:xfrm>
              <a:off x="7367760" y="5430960"/>
              <a:ext cx="288720" cy="2887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3" y="0"/>
                  </a:moveTo>
                  <a:lnTo>
                    <a:pt x="0" y="182"/>
                  </a:lnTo>
                  <a:lnTo>
                    <a:pt x="182" y="18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367760" y="5430960"/>
              <a:ext cx="288720" cy="2887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3" y="0"/>
                  </a:moveTo>
                  <a:lnTo>
                    <a:pt x="0" y="182"/>
                  </a:lnTo>
                  <a:lnTo>
                    <a:pt x="182" y="182"/>
                  </a:lnTo>
                  <a:lnTo>
                    <a:pt x="93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14" name=""/>
          <p:cNvSpPr/>
          <p:nvPr/>
        </p:nvSpPr>
        <p:spPr>
          <a:xfrm flipH="1">
            <a:off x="7183080" y="5730840"/>
            <a:ext cx="725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 flipH="1">
            <a:off x="7183080" y="5730840"/>
            <a:ext cx="725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 flipH="1">
            <a:off x="7829640" y="5891040"/>
            <a:ext cx="3024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 flipH="1">
            <a:off x="7746840" y="5792760"/>
            <a:ext cx="1130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H="1">
            <a:off x="7656480" y="5730840"/>
            <a:ext cx="16992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 flipH="1">
            <a:off x="7572240" y="5730840"/>
            <a:ext cx="16992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 flipH="1">
            <a:off x="7486560" y="5730840"/>
            <a:ext cx="1684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7402320" y="5730840"/>
            <a:ext cx="16812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 flipH="1">
            <a:off x="7315200" y="5730840"/>
            <a:ext cx="1713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 flipH="1">
            <a:off x="7229160" y="5730840"/>
            <a:ext cx="16812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 flipH="1">
            <a:off x="7183440" y="5730840"/>
            <a:ext cx="13032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 flipH="1">
            <a:off x="7183080" y="5730840"/>
            <a:ext cx="428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7183080" y="5730840"/>
            <a:ext cx="725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7532640" y="2576520"/>
            <a:ext cx="250920" cy="331920"/>
            <a:chOff x="7532640" y="2576520"/>
            <a:chExt cx="250920" cy="331920"/>
          </a:xfrm>
        </p:grpSpPr>
        <p:sp>
          <p:nvSpPr>
            <p:cNvPr id="2128" name=""/>
            <p:cNvSpPr/>
            <p:nvPr/>
          </p:nvSpPr>
          <p:spPr>
            <a:xfrm>
              <a:off x="7532640" y="2576520"/>
              <a:ext cx="250920" cy="331920"/>
            </a:xfrm>
            <a:custGeom>
              <a:avLst/>
              <a:gdLst/>
              <a:ahLst/>
              <a:rect l="l" t="t" r="r" b="b"/>
              <a:pathLst>
                <a:path w="158" h="209">
                  <a:moveTo>
                    <a:pt x="0" y="105"/>
                  </a:moveTo>
                  <a:lnTo>
                    <a:pt x="158" y="209"/>
                  </a:lnTo>
                  <a:lnTo>
                    <a:pt x="158" y="0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532640" y="2576520"/>
              <a:ext cx="250920" cy="331920"/>
            </a:xfrm>
            <a:custGeom>
              <a:avLst/>
              <a:gdLst/>
              <a:ahLst/>
              <a:rect l="l" t="t" r="r" b="b"/>
              <a:pathLst>
                <a:path w="158" h="209">
                  <a:moveTo>
                    <a:pt x="0" y="105"/>
                  </a:moveTo>
                  <a:lnTo>
                    <a:pt x="158" y="209"/>
                  </a:lnTo>
                  <a:lnTo>
                    <a:pt x="158" y="0"/>
                  </a:lnTo>
                  <a:lnTo>
                    <a:pt x="0" y="105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30" name=""/>
          <p:cNvSpPr/>
          <p:nvPr/>
        </p:nvSpPr>
        <p:spPr>
          <a:xfrm flipV="1">
            <a:off x="7869240" y="2454120"/>
            <a:ext cx="1440" cy="63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 flipH="1">
            <a:off x="8013600" y="3005280"/>
            <a:ext cx="2232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 flipH="1">
            <a:off x="7926480" y="2906640"/>
            <a:ext cx="10944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 flipH="1">
            <a:off x="7868880" y="2806560"/>
            <a:ext cx="16668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 flipH="1">
            <a:off x="7868880" y="2709720"/>
            <a:ext cx="1666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7868880" y="2617920"/>
            <a:ext cx="166680" cy="18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 flipH="1">
            <a:off x="7868880" y="2519280"/>
            <a:ext cx="16668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7869240" y="2454120"/>
            <a:ext cx="13176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7868880" y="2454120"/>
            <a:ext cx="50760" cy="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V="1">
            <a:off x="7869240" y="2454120"/>
            <a:ext cx="648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 flipV="1">
            <a:off x="7869240" y="2454120"/>
            <a:ext cx="1440" cy="63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41" name=""/>
          <p:cNvGrpSpPr/>
          <p:nvPr/>
        </p:nvGrpSpPr>
        <p:grpSpPr>
          <a:xfrm>
            <a:off x="7502400" y="2743200"/>
            <a:ext cx="30240" cy="11160"/>
            <a:chOff x="7502400" y="2743200"/>
            <a:chExt cx="30240" cy="11160"/>
          </a:xfrm>
        </p:grpSpPr>
        <p:sp>
          <p:nvSpPr>
            <p:cNvPr id="2142" name=""/>
            <p:cNvSpPr/>
            <p:nvPr/>
          </p:nvSpPr>
          <p:spPr>
            <a:xfrm>
              <a:off x="7502400" y="274320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7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502400" y="274320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7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0" y="7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7772400" y="2592360"/>
            <a:ext cx="104760" cy="115920"/>
            <a:chOff x="7772400" y="2592360"/>
            <a:chExt cx="104760" cy="115920"/>
          </a:xfrm>
        </p:grpSpPr>
        <p:sp>
          <p:nvSpPr>
            <p:cNvPr id="2145" name=""/>
            <p:cNvSpPr/>
            <p:nvPr/>
          </p:nvSpPr>
          <p:spPr>
            <a:xfrm>
              <a:off x="7772400" y="2592360"/>
              <a:ext cx="104760" cy="11592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772400" y="2592360"/>
              <a:ext cx="104760" cy="11592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7772400" y="2803680"/>
            <a:ext cx="104760" cy="115560"/>
            <a:chOff x="7772400" y="2803680"/>
            <a:chExt cx="104760" cy="115560"/>
          </a:xfrm>
        </p:grpSpPr>
        <p:sp>
          <p:nvSpPr>
            <p:cNvPr id="2148" name=""/>
            <p:cNvSpPr/>
            <p:nvPr/>
          </p:nvSpPr>
          <p:spPr>
            <a:xfrm>
              <a:off x="7772400" y="2803680"/>
              <a:ext cx="104760" cy="11556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772400" y="2803680"/>
              <a:ext cx="104760" cy="11556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7689960" y="3203640"/>
            <a:ext cx="247680" cy="425520"/>
            <a:chOff x="7689960" y="3203640"/>
            <a:chExt cx="247680" cy="425520"/>
          </a:xfrm>
        </p:grpSpPr>
        <p:sp>
          <p:nvSpPr>
            <p:cNvPr id="2151" name=""/>
            <p:cNvSpPr/>
            <p:nvPr/>
          </p:nvSpPr>
          <p:spPr>
            <a:xfrm>
              <a:off x="7689960" y="3203640"/>
              <a:ext cx="247680" cy="425520"/>
            </a:xfrm>
            <a:custGeom>
              <a:avLst/>
              <a:gdLst/>
              <a:ahLst/>
              <a:rect l="l" t="t" r="r" b="b"/>
              <a:pathLst>
                <a:path w="156" h="268">
                  <a:moveTo>
                    <a:pt x="26" y="0"/>
                  </a:moveTo>
                  <a:lnTo>
                    <a:pt x="78" y="130"/>
                  </a:lnTo>
                  <a:lnTo>
                    <a:pt x="0" y="268"/>
                  </a:lnTo>
                  <a:lnTo>
                    <a:pt x="114" y="252"/>
                  </a:lnTo>
                  <a:lnTo>
                    <a:pt x="148" y="174"/>
                  </a:lnTo>
                  <a:lnTo>
                    <a:pt x="156" y="10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689960" y="3203640"/>
              <a:ext cx="247680" cy="425520"/>
            </a:xfrm>
            <a:custGeom>
              <a:avLst/>
              <a:gdLst/>
              <a:ahLst/>
              <a:rect l="l" t="t" r="r" b="b"/>
              <a:pathLst>
                <a:path w="156" h="268">
                  <a:moveTo>
                    <a:pt x="26" y="0"/>
                  </a:moveTo>
                  <a:lnTo>
                    <a:pt x="78" y="130"/>
                  </a:lnTo>
                  <a:lnTo>
                    <a:pt x="0" y="268"/>
                  </a:lnTo>
                  <a:lnTo>
                    <a:pt x="114" y="252"/>
                  </a:lnTo>
                  <a:lnTo>
                    <a:pt x="148" y="174"/>
                  </a:lnTo>
                  <a:lnTo>
                    <a:pt x="156" y="104"/>
                  </a:lnTo>
                  <a:lnTo>
                    <a:pt x="26" y="0"/>
                  </a:lnTo>
                  <a:close/>
                </a:path>
              </a:pathLst>
            </a:custGeom>
            <a:noFill/>
            <a:ln cap="rnd"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7140600" y="3162240"/>
            <a:ext cx="341280" cy="399960"/>
            <a:chOff x="7140600" y="3162240"/>
            <a:chExt cx="341280" cy="399960"/>
          </a:xfrm>
        </p:grpSpPr>
        <p:sp>
          <p:nvSpPr>
            <p:cNvPr id="2154" name=""/>
            <p:cNvSpPr/>
            <p:nvPr/>
          </p:nvSpPr>
          <p:spPr>
            <a:xfrm>
              <a:off x="7140600" y="3162240"/>
              <a:ext cx="341280" cy="399960"/>
            </a:xfrm>
            <a:custGeom>
              <a:avLst/>
              <a:gdLst/>
              <a:ahLst/>
              <a:rect l="l" t="t" r="r" b="b"/>
              <a:pathLst>
                <a:path w="215" h="252">
                  <a:moveTo>
                    <a:pt x="104" y="0"/>
                  </a:moveTo>
                  <a:lnTo>
                    <a:pt x="147" y="112"/>
                  </a:lnTo>
                  <a:lnTo>
                    <a:pt x="0" y="174"/>
                  </a:lnTo>
                  <a:lnTo>
                    <a:pt x="8" y="252"/>
                  </a:lnTo>
                  <a:lnTo>
                    <a:pt x="130" y="208"/>
                  </a:lnTo>
                  <a:lnTo>
                    <a:pt x="215" y="10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140600" y="3162240"/>
              <a:ext cx="341280" cy="399960"/>
            </a:xfrm>
            <a:custGeom>
              <a:avLst/>
              <a:gdLst/>
              <a:ahLst/>
              <a:rect l="l" t="t" r="r" b="b"/>
              <a:pathLst>
                <a:path w="215" h="252">
                  <a:moveTo>
                    <a:pt x="104" y="0"/>
                  </a:moveTo>
                  <a:lnTo>
                    <a:pt x="147" y="112"/>
                  </a:lnTo>
                  <a:lnTo>
                    <a:pt x="0" y="174"/>
                  </a:lnTo>
                  <a:lnTo>
                    <a:pt x="8" y="252"/>
                  </a:lnTo>
                  <a:lnTo>
                    <a:pt x="130" y="208"/>
                  </a:lnTo>
                  <a:lnTo>
                    <a:pt x="215" y="104"/>
                  </a:lnTo>
                  <a:lnTo>
                    <a:pt x="104" y="0"/>
                  </a:lnTo>
                  <a:close/>
                </a:path>
              </a:pathLst>
            </a:custGeom>
            <a:noFill/>
            <a:ln cap="rnd"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7043760" y="3852720"/>
            <a:ext cx="992160" cy="1546200"/>
            <a:chOff x="7043760" y="3852720"/>
            <a:chExt cx="992160" cy="1546200"/>
          </a:xfrm>
        </p:grpSpPr>
        <p:sp>
          <p:nvSpPr>
            <p:cNvPr id="2157" name=""/>
            <p:cNvSpPr/>
            <p:nvPr/>
          </p:nvSpPr>
          <p:spPr>
            <a:xfrm>
              <a:off x="7043760" y="3852720"/>
              <a:ext cx="992160" cy="1546200"/>
            </a:xfrm>
            <a:custGeom>
              <a:avLst/>
              <a:gdLst/>
              <a:ahLst/>
              <a:rect l="l" t="t" r="r" b="b"/>
              <a:pathLst>
                <a:path w="625" h="974">
                  <a:moveTo>
                    <a:pt x="260" y="974"/>
                  </a:moveTo>
                  <a:lnTo>
                    <a:pt x="94" y="879"/>
                  </a:lnTo>
                  <a:lnTo>
                    <a:pt x="68" y="643"/>
                  </a:lnTo>
                  <a:lnTo>
                    <a:pt x="0" y="461"/>
                  </a:lnTo>
                  <a:lnTo>
                    <a:pt x="78" y="244"/>
                  </a:lnTo>
                  <a:lnTo>
                    <a:pt x="60" y="26"/>
                  </a:lnTo>
                  <a:lnTo>
                    <a:pt x="130" y="122"/>
                  </a:lnTo>
                  <a:lnTo>
                    <a:pt x="146" y="349"/>
                  </a:lnTo>
                  <a:lnTo>
                    <a:pt x="130" y="548"/>
                  </a:lnTo>
                  <a:lnTo>
                    <a:pt x="216" y="661"/>
                  </a:lnTo>
                  <a:lnTo>
                    <a:pt x="182" y="522"/>
                  </a:lnTo>
                  <a:lnTo>
                    <a:pt x="208" y="322"/>
                  </a:lnTo>
                  <a:lnTo>
                    <a:pt x="224" y="130"/>
                  </a:lnTo>
                  <a:lnTo>
                    <a:pt x="156" y="18"/>
                  </a:lnTo>
                  <a:lnTo>
                    <a:pt x="224" y="36"/>
                  </a:lnTo>
                  <a:lnTo>
                    <a:pt x="303" y="287"/>
                  </a:lnTo>
                  <a:lnTo>
                    <a:pt x="364" y="166"/>
                  </a:lnTo>
                  <a:lnTo>
                    <a:pt x="390" y="0"/>
                  </a:lnTo>
                  <a:lnTo>
                    <a:pt x="433" y="122"/>
                  </a:lnTo>
                  <a:lnTo>
                    <a:pt x="433" y="287"/>
                  </a:lnTo>
                  <a:lnTo>
                    <a:pt x="372" y="435"/>
                  </a:lnTo>
                  <a:lnTo>
                    <a:pt x="459" y="444"/>
                  </a:lnTo>
                  <a:lnTo>
                    <a:pt x="503" y="244"/>
                  </a:lnTo>
                  <a:lnTo>
                    <a:pt x="625" y="78"/>
                  </a:lnTo>
                  <a:lnTo>
                    <a:pt x="547" y="252"/>
                  </a:lnTo>
                  <a:lnTo>
                    <a:pt x="589" y="401"/>
                  </a:lnTo>
                  <a:lnTo>
                    <a:pt x="573" y="557"/>
                  </a:lnTo>
                  <a:lnTo>
                    <a:pt x="477" y="695"/>
                  </a:lnTo>
                  <a:lnTo>
                    <a:pt x="537" y="922"/>
                  </a:lnTo>
                  <a:lnTo>
                    <a:pt x="260" y="9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043760" y="3852720"/>
              <a:ext cx="992160" cy="1546200"/>
            </a:xfrm>
            <a:custGeom>
              <a:avLst/>
              <a:gdLst/>
              <a:ahLst/>
              <a:rect l="l" t="t" r="r" b="b"/>
              <a:pathLst>
                <a:path w="625" h="974">
                  <a:moveTo>
                    <a:pt x="260" y="974"/>
                  </a:moveTo>
                  <a:lnTo>
                    <a:pt x="94" y="879"/>
                  </a:lnTo>
                  <a:lnTo>
                    <a:pt x="68" y="643"/>
                  </a:lnTo>
                  <a:lnTo>
                    <a:pt x="0" y="461"/>
                  </a:lnTo>
                  <a:lnTo>
                    <a:pt x="78" y="244"/>
                  </a:lnTo>
                  <a:lnTo>
                    <a:pt x="60" y="26"/>
                  </a:lnTo>
                  <a:lnTo>
                    <a:pt x="130" y="122"/>
                  </a:lnTo>
                  <a:lnTo>
                    <a:pt x="146" y="349"/>
                  </a:lnTo>
                  <a:lnTo>
                    <a:pt x="130" y="548"/>
                  </a:lnTo>
                  <a:lnTo>
                    <a:pt x="216" y="661"/>
                  </a:lnTo>
                  <a:lnTo>
                    <a:pt x="182" y="522"/>
                  </a:lnTo>
                  <a:lnTo>
                    <a:pt x="208" y="322"/>
                  </a:lnTo>
                  <a:lnTo>
                    <a:pt x="224" y="130"/>
                  </a:lnTo>
                  <a:lnTo>
                    <a:pt x="156" y="18"/>
                  </a:lnTo>
                  <a:lnTo>
                    <a:pt x="224" y="36"/>
                  </a:lnTo>
                  <a:lnTo>
                    <a:pt x="303" y="287"/>
                  </a:lnTo>
                  <a:lnTo>
                    <a:pt x="364" y="166"/>
                  </a:lnTo>
                  <a:lnTo>
                    <a:pt x="390" y="0"/>
                  </a:lnTo>
                  <a:lnTo>
                    <a:pt x="433" y="122"/>
                  </a:lnTo>
                  <a:lnTo>
                    <a:pt x="433" y="287"/>
                  </a:lnTo>
                  <a:lnTo>
                    <a:pt x="372" y="435"/>
                  </a:lnTo>
                  <a:lnTo>
                    <a:pt x="459" y="444"/>
                  </a:lnTo>
                  <a:lnTo>
                    <a:pt x="503" y="244"/>
                  </a:lnTo>
                  <a:lnTo>
                    <a:pt x="625" y="78"/>
                  </a:lnTo>
                  <a:lnTo>
                    <a:pt x="547" y="252"/>
                  </a:lnTo>
                  <a:lnTo>
                    <a:pt x="589" y="401"/>
                  </a:lnTo>
                  <a:lnTo>
                    <a:pt x="573" y="557"/>
                  </a:lnTo>
                  <a:lnTo>
                    <a:pt x="477" y="695"/>
                  </a:lnTo>
                  <a:lnTo>
                    <a:pt x="537" y="922"/>
                  </a:lnTo>
                  <a:lnTo>
                    <a:pt x="260" y="974"/>
                  </a:lnTo>
                  <a:close/>
                </a:path>
              </a:pathLst>
            </a:custGeom>
            <a:noFill/>
            <a:ln cap="rnd"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59" name=""/>
          <p:cNvGrpSpPr/>
          <p:nvPr/>
        </p:nvGrpSpPr>
        <p:grpSpPr>
          <a:xfrm>
            <a:off x="7508880" y="2760840"/>
            <a:ext cx="17280" cy="2665080"/>
            <a:chOff x="7508880" y="2760840"/>
            <a:chExt cx="17280" cy="2665080"/>
          </a:xfrm>
        </p:grpSpPr>
        <p:sp>
          <p:nvSpPr>
            <p:cNvPr id="2160" name=""/>
            <p:cNvSpPr/>
            <p:nvPr/>
          </p:nvSpPr>
          <p:spPr>
            <a:xfrm>
              <a:off x="7508880" y="2760840"/>
              <a:ext cx="17280" cy="266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508880" y="2760840"/>
              <a:ext cx="17280" cy="2665080"/>
            </a:xfrm>
            <a:prstGeom prst="rect">
              <a:avLst/>
            </a:prstGeom>
            <a:noFill/>
            <a:ln cap="rnd"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7461360" y="2692440"/>
            <a:ext cx="106200" cy="111240"/>
            <a:chOff x="7461360" y="2692440"/>
            <a:chExt cx="106200" cy="111240"/>
          </a:xfrm>
        </p:grpSpPr>
        <p:sp>
          <p:nvSpPr>
            <p:cNvPr id="2163" name=""/>
            <p:cNvSpPr/>
            <p:nvPr/>
          </p:nvSpPr>
          <p:spPr>
            <a:xfrm>
              <a:off x="7461360" y="2692440"/>
              <a:ext cx="106200" cy="11124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461360" y="2692440"/>
              <a:ext cx="106200" cy="1112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7502400" y="5432400"/>
            <a:ext cx="30240" cy="17640"/>
            <a:chOff x="7502400" y="5432400"/>
            <a:chExt cx="30240" cy="17640"/>
          </a:xfrm>
        </p:grpSpPr>
        <p:sp>
          <p:nvSpPr>
            <p:cNvPr id="2166" name=""/>
            <p:cNvSpPr/>
            <p:nvPr/>
          </p:nvSpPr>
          <p:spPr>
            <a:xfrm>
              <a:off x="7502400" y="5432400"/>
              <a:ext cx="30240" cy="1764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9" y="0"/>
                  </a:moveTo>
                  <a:lnTo>
                    <a:pt x="19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502400" y="5432400"/>
              <a:ext cx="30240" cy="1764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9" y="0"/>
                  </a:moveTo>
                  <a:lnTo>
                    <a:pt x="19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68" name=""/>
          <p:cNvGrpSpPr/>
          <p:nvPr/>
        </p:nvGrpSpPr>
        <p:grpSpPr>
          <a:xfrm>
            <a:off x="7461360" y="5392800"/>
            <a:ext cx="106200" cy="114120"/>
            <a:chOff x="7461360" y="5392800"/>
            <a:chExt cx="106200" cy="114120"/>
          </a:xfrm>
        </p:grpSpPr>
        <p:sp>
          <p:nvSpPr>
            <p:cNvPr id="2169" name=""/>
            <p:cNvSpPr/>
            <p:nvPr/>
          </p:nvSpPr>
          <p:spPr>
            <a:xfrm>
              <a:off x="7461360" y="5392800"/>
              <a:ext cx="106200" cy="114120"/>
            </a:xfrm>
            <a:prstGeom prst="ellipse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461360" y="5392800"/>
              <a:ext cx="106200" cy="11412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71" name=""/>
          <p:cNvSpPr/>
          <p:nvPr/>
        </p:nvSpPr>
        <p:spPr>
          <a:xfrm>
            <a:off x="7599960" y="196056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456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8069400" y="1960560"/>
            <a:ext cx="294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kN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73" name=""/>
          <p:cNvGrpSpPr/>
          <p:nvPr/>
        </p:nvGrpSpPr>
        <p:grpSpPr>
          <a:xfrm>
            <a:off x="7373880" y="2284560"/>
            <a:ext cx="290520" cy="279360"/>
            <a:chOff x="7373880" y="2284560"/>
            <a:chExt cx="290520" cy="279360"/>
          </a:xfrm>
        </p:grpSpPr>
        <p:sp>
          <p:nvSpPr>
            <p:cNvPr id="2174" name=""/>
            <p:cNvSpPr/>
            <p:nvPr/>
          </p:nvSpPr>
          <p:spPr>
            <a:xfrm>
              <a:off x="7373880" y="2284560"/>
              <a:ext cx="290520" cy="279360"/>
            </a:xfrm>
            <a:custGeom>
              <a:avLst/>
              <a:gdLst/>
              <a:ahLst/>
              <a:rect l="l" t="t" r="r" b="b"/>
              <a:pathLst>
                <a:path w="183" h="176">
                  <a:moveTo>
                    <a:pt x="0" y="0"/>
                  </a:moveTo>
                  <a:lnTo>
                    <a:pt x="183" y="0"/>
                  </a:lnTo>
                  <a:lnTo>
                    <a:pt x="92" y="1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373880" y="2284560"/>
              <a:ext cx="290520" cy="279360"/>
            </a:xfrm>
            <a:custGeom>
              <a:avLst/>
              <a:gdLst/>
              <a:ahLst/>
              <a:rect l="l" t="t" r="r" b="b"/>
              <a:pathLst>
                <a:path w="183" h="176">
                  <a:moveTo>
                    <a:pt x="0" y="0"/>
                  </a:moveTo>
                  <a:lnTo>
                    <a:pt x="183" y="0"/>
                  </a:lnTo>
                  <a:lnTo>
                    <a:pt x="92" y="176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76" name=""/>
          <p:cNvSpPr/>
          <p:nvPr/>
        </p:nvSpPr>
        <p:spPr>
          <a:xfrm>
            <a:off x="7515360" y="1757520"/>
            <a:ext cx="2880" cy="601560"/>
          </a:xfrm>
          <a:prstGeom prst="line">
            <a:avLst/>
          </a:prstGeom>
          <a:ln w="36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7599960" y="196056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456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8069400" y="1960560"/>
            <a:ext cx="294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kN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7373880" y="2284560"/>
            <a:ext cx="290520" cy="279360"/>
            <a:chOff x="7373880" y="2284560"/>
            <a:chExt cx="290520" cy="279360"/>
          </a:xfrm>
        </p:grpSpPr>
        <p:sp>
          <p:nvSpPr>
            <p:cNvPr id="2180" name=""/>
            <p:cNvSpPr/>
            <p:nvPr/>
          </p:nvSpPr>
          <p:spPr>
            <a:xfrm>
              <a:off x="7373880" y="2284560"/>
              <a:ext cx="290520" cy="279360"/>
            </a:xfrm>
            <a:custGeom>
              <a:avLst/>
              <a:gdLst/>
              <a:ahLst/>
              <a:rect l="l" t="t" r="r" b="b"/>
              <a:pathLst>
                <a:path w="183" h="176">
                  <a:moveTo>
                    <a:pt x="0" y="0"/>
                  </a:moveTo>
                  <a:lnTo>
                    <a:pt x="183" y="0"/>
                  </a:lnTo>
                  <a:lnTo>
                    <a:pt x="92" y="1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373880" y="2284560"/>
              <a:ext cx="290520" cy="279360"/>
            </a:xfrm>
            <a:custGeom>
              <a:avLst/>
              <a:gdLst/>
              <a:ahLst/>
              <a:rect l="l" t="t" r="r" b="b"/>
              <a:pathLst>
                <a:path w="183" h="176">
                  <a:moveTo>
                    <a:pt x="0" y="0"/>
                  </a:moveTo>
                  <a:lnTo>
                    <a:pt x="183" y="0"/>
                  </a:lnTo>
                  <a:lnTo>
                    <a:pt x="92" y="176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82" name=""/>
          <p:cNvSpPr/>
          <p:nvPr/>
        </p:nvSpPr>
        <p:spPr>
          <a:xfrm>
            <a:off x="7515360" y="1757520"/>
            <a:ext cx="2880" cy="601560"/>
          </a:xfrm>
          <a:prstGeom prst="line">
            <a:avLst/>
          </a:prstGeom>
          <a:ln w="36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338040" y="1538280"/>
            <a:ext cx="253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66"/>
                </a:solidFill>
                <a:latin typeface="Arial"/>
              </a:rPr>
              <a:t>Design loading in fire: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3348000" y="154476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3523680" y="168264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fi.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1300320" y="198900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1474200" y="212724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fi.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1771560" y="1989000"/>
            <a:ext cx="208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=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1981800" y="1989000"/>
            <a:ext cx="286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(1,9 + 0,5 x 3,8) x 5 x 6 x 4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4898160" y="1989000"/>
            <a:ext cx="677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= 456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5575320" y="1989000"/>
            <a:ext cx="294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kN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92" name=""/>
          <p:cNvGrpSpPr/>
          <p:nvPr/>
        </p:nvGrpSpPr>
        <p:grpSpPr>
          <a:xfrm>
            <a:off x="8116920" y="2798640"/>
            <a:ext cx="496800" cy="2708280"/>
            <a:chOff x="8116920" y="2798640"/>
            <a:chExt cx="496800" cy="2708280"/>
          </a:xfrm>
        </p:grpSpPr>
        <p:sp>
          <p:nvSpPr>
            <p:cNvPr id="2193" name=""/>
            <p:cNvSpPr/>
            <p:nvPr/>
          </p:nvSpPr>
          <p:spPr>
            <a:xfrm>
              <a:off x="8269200" y="2798640"/>
              <a:ext cx="344520" cy="2622600"/>
            </a:xfrm>
            <a:custGeom>
              <a:avLst/>
              <a:gdLst/>
              <a:ahLst/>
              <a:rect l="l" t="t" r="r" b="b"/>
              <a:pathLst>
                <a:path w="217" h="1652">
                  <a:moveTo>
                    <a:pt x="5" y="0"/>
                  </a:moveTo>
                  <a:cubicBezTo>
                    <a:pt x="5" y="25"/>
                    <a:pt x="0" y="91"/>
                    <a:pt x="7" y="152"/>
                  </a:cubicBezTo>
                  <a:cubicBezTo>
                    <a:pt x="14" y="213"/>
                    <a:pt x="32" y="307"/>
                    <a:pt x="43" y="365"/>
                  </a:cubicBezTo>
                  <a:cubicBezTo>
                    <a:pt x="55" y="423"/>
                    <a:pt x="61" y="456"/>
                    <a:pt x="74" y="502"/>
                  </a:cubicBezTo>
                  <a:cubicBezTo>
                    <a:pt x="86" y="549"/>
                    <a:pt x="101" y="588"/>
                    <a:pt x="119" y="647"/>
                  </a:cubicBezTo>
                  <a:cubicBezTo>
                    <a:pt x="137" y="706"/>
                    <a:pt x="169" y="785"/>
                    <a:pt x="184" y="854"/>
                  </a:cubicBezTo>
                  <a:cubicBezTo>
                    <a:pt x="199" y="924"/>
                    <a:pt x="206" y="1003"/>
                    <a:pt x="211" y="1066"/>
                  </a:cubicBezTo>
                  <a:cubicBezTo>
                    <a:pt x="215" y="1128"/>
                    <a:pt x="217" y="1184"/>
                    <a:pt x="211" y="1233"/>
                  </a:cubicBezTo>
                  <a:cubicBezTo>
                    <a:pt x="204" y="1283"/>
                    <a:pt x="191" y="1314"/>
                    <a:pt x="172" y="1363"/>
                  </a:cubicBezTo>
                  <a:cubicBezTo>
                    <a:pt x="154" y="1411"/>
                    <a:pt x="131" y="1474"/>
                    <a:pt x="104" y="1522"/>
                  </a:cubicBezTo>
                  <a:cubicBezTo>
                    <a:pt x="77" y="1571"/>
                    <a:pt x="32" y="1625"/>
                    <a:pt x="13" y="1652"/>
                  </a:cubicBezTo>
                </a:path>
              </a:pathLst>
            </a:custGeom>
            <a:noFill/>
            <a:ln w="36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8116920" y="2803680"/>
              <a:ext cx="317520" cy="0"/>
            </a:xfrm>
            <a:prstGeom prst="line">
              <a:avLst/>
            </a:prstGeom>
            <a:ln w="36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195" name=""/>
            <p:cNvGrpSpPr/>
            <p:nvPr/>
          </p:nvGrpSpPr>
          <p:grpSpPr>
            <a:xfrm>
              <a:off x="8232840" y="5392800"/>
              <a:ext cx="104760" cy="114120"/>
              <a:chOff x="8232840" y="5392800"/>
              <a:chExt cx="104760" cy="114120"/>
            </a:xfrm>
          </p:grpSpPr>
          <p:sp>
            <p:nvSpPr>
              <p:cNvPr id="2196" name=""/>
              <p:cNvSpPr/>
              <p:nvPr/>
            </p:nvSpPr>
            <p:spPr>
              <a:xfrm>
                <a:off x="8232840" y="5392800"/>
                <a:ext cx="104760" cy="114120"/>
              </a:xfrm>
              <a:prstGeom prst="ellipse">
                <a:avLst/>
              </a:prstGeom>
              <a:solidFill>
                <a:srgbClr val="ffff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8232840" y="5392800"/>
                <a:ext cx="104760" cy="114120"/>
              </a:xfrm>
              <a:prstGeom prst="ellipse">
                <a:avLst/>
              </a:prstGeom>
              <a:noFill/>
              <a:ln cap="rnd" w="36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2198" name=""/>
          <p:cNvSpPr/>
          <p:nvPr/>
        </p:nvSpPr>
        <p:spPr>
          <a:xfrm>
            <a:off x="8661240" y="3595680"/>
            <a:ext cx="71640" cy="1862280"/>
          </a:xfrm>
          <a:custGeom>
            <a:avLst/>
            <a:gdLst/>
            <a:ahLst/>
            <a:rect l="l" t="t" r="r" b="b"/>
            <a:pathLst>
              <a:path w="45" h="1173">
                <a:moveTo>
                  <a:pt x="28" y="69"/>
                </a:moveTo>
                <a:lnTo>
                  <a:pt x="28" y="1104"/>
                </a:lnTo>
                <a:lnTo>
                  <a:pt x="17" y="1104"/>
                </a:lnTo>
                <a:lnTo>
                  <a:pt x="17" y="69"/>
                </a:lnTo>
                <a:lnTo>
                  <a:pt x="28" y="69"/>
                </a:lnTo>
                <a:close/>
                <a:moveTo>
                  <a:pt x="0" y="76"/>
                </a:moveTo>
                <a:lnTo>
                  <a:pt x="23" y="0"/>
                </a:lnTo>
                <a:lnTo>
                  <a:pt x="45" y="76"/>
                </a:lnTo>
                <a:lnTo>
                  <a:pt x="0" y="76"/>
                </a:lnTo>
                <a:close/>
                <a:moveTo>
                  <a:pt x="45" y="1097"/>
                </a:moveTo>
                <a:lnTo>
                  <a:pt x="23" y="1173"/>
                </a:lnTo>
                <a:lnTo>
                  <a:pt x="0" y="1097"/>
                </a:lnTo>
                <a:lnTo>
                  <a:pt x="45" y="109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 flipH="1">
            <a:off x="8431200" y="3608280"/>
            <a:ext cx="326880" cy="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 flipH="1">
            <a:off x="8394840" y="5457960"/>
            <a:ext cx="350640" cy="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8269200" y="2798640"/>
            <a:ext cx="344520" cy="2622600"/>
          </a:xfrm>
          <a:custGeom>
            <a:avLst/>
            <a:gdLst/>
            <a:ahLst/>
            <a:rect l="l" t="t" r="r" b="b"/>
            <a:pathLst>
              <a:path w="217" h="1652">
                <a:moveTo>
                  <a:pt x="5" y="0"/>
                </a:moveTo>
                <a:cubicBezTo>
                  <a:pt x="5" y="25"/>
                  <a:pt x="0" y="91"/>
                  <a:pt x="7" y="152"/>
                </a:cubicBezTo>
                <a:cubicBezTo>
                  <a:pt x="14" y="213"/>
                  <a:pt x="32" y="307"/>
                  <a:pt x="43" y="365"/>
                </a:cubicBezTo>
                <a:cubicBezTo>
                  <a:pt x="55" y="423"/>
                  <a:pt x="61" y="456"/>
                  <a:pt x="74" y="502"/>
                </a:cubicBezTo>
                <a:cubicBezTo>
                  <a:pt x="86" y="549"/>
                  <a:pt x="101" y="588"/>
                  <a:pt x="119" y="647"/>
                </a:cubicBezTo>
                <a:cubicBezTo>
                  <a:pt x="137" y="706"/>
                  <a:pt x="169" y="785"/>
                  <a:pt x="184" y="854"/>
                </a:cubicBezTo>
                <a:cubicBezTo>
                  <a:pt x="199" y="924"/>
                  <a:pt x="206" y="1003"/>
                  <a:pt x="211" y="1066"/>
                </a:cubicBezTo>
                <a:cubicBezTo>
                  <a:pt x="215" y="1128"/>
                  <a:pt x="217" y="1184"/>
                  <a:pt x="211" y="1233"/>
                </a:cubicBezTo>
                <a:cubicBezTo>
                  <a:pt x="204" y="1283"/>
                  <a:pt x="191" y="1314"/>
                  <a:pt x="172" y="1363"/>
                </a:cubicBezTo>
                <a:cubicBezTo>
                  <a:pt x="154" y="1411"/>
                  <a:pt x="131" y="1474"/>
                  <a:pt x="104" y="1522"/>
                </a:cubicBezTo>
                <a:cubicBezTo>
                  <a:pt x="77" y="1571"/>
                  <a:pt x="32" y="1625"/>
                  <a:pt x="13" y="1652"/>
                </a:cubicBezTo>
              </a:path>
            </a:pathLst>
          </a:custGeom>
          <a:noFill/>
          <a:ln w="36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8116920" y="2803680"/>
            <a:ext cx="317520" cy="0"/>
          </a:xfrm>
          <a:prstGeom prst="line">
            <a:avLst/>
          </a:prstGeom>
          <a:ln w="36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8232840" y="5392800"/>
            <a:ext cx="104760" cy="114120"/>
            <a:chOff x="8232840" y="5392800"/>
            <a:chExt cx="104760" cy="114120"/>
          </a:xfrm>
        </p:grpSpPr>
        <p:sp>
          <p:nvSpPr>
            <p:cNvPr id="2204" name=""/>
            <p:cNvSpPr/>
            <p:nvPr/>
          </p:nvSpPr>
          <p:spPr>
            <a:xfrm>
              <a:off x="8232840" y="5392800"/>
              <a:ext cx="104760" cy="114120"/>
            </a:xfrm>
            <a:prstGeom prst="ellipse">
              <a:avLst/>
            </a:prstGeom>
            <a:solidFill>
              <a:srgbClr val="ff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232840" y="5392800"/>
              <a:ext cx="104760" cy="114120"/>
            </a:xfrm>
            <a:prstGeom prst="ellipse">
              <a:avLst/>
            </a:prstGeom>
            <a:noFill/>
            <a:ln cap="rnd" w="36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206" name=""/>
          <p:cNvSpPr/>
          <p:nvPr/>
        </p:nvSpPr>
        <p:spPr>
          <a:xfrm>
            <a:off x="8269200" y="2798640"/>
            <a:ext cx="344520" cy="2622600"/>
          </a:xfrm>
          <a:custGeom>
            <a:avLst/>
            <a:gdLst/>
            <a:ahLst/>
            <a:rect l="l" t="t" r="r" b="b"/>
            <a:pathLst>
              <a:path w="217" h="1652">
                <a:moveTo>
                  <a:pt x="5" y="0"/>
                </a:moveTo>
                <a:cubicBezTo>
                  <a:pt x="5" y="25"/>
                  <a:pt x="0" y="91"/>
                  <a:pt x="7" y="152"/>
                </a:cubicBezTo>
                <a:cubicBezTo>
                  <a:pt x="14" y="213"/>
                  <a:pt x="32" y="307"/>
                  <a:pt x="43" y="365"/>
                </a:cubicBezTo>
                <a:cubicBezTo>
                  <a:pt x="55" y="423"/>
                  <a:pt x="61" y="456"/>
                  <a:pt x="74" y="502"/>
                </a:cubicBezTo>
                <a:cubicBezTo>
                  <a:pt x="86" y="549"/>
                  <a:pt x="101" y="588"/>
                  <a:pt x="119" y="647"/>
                </a:cubicBezTo>
                <a:cubicBezTo>
                  <a:pt x="137" y="706"/>
                  <a:pt x="169" y="785"/>
                  <a:pt x="184" y="854"/>
                </a:cubicBezTo>
                <a:cubicBezTo>
                  <a:pt x="199" y="924"/>
                  <a:pt x="206" y="1003"/>
                  <a:pt x="211" y="1066"/>
                </a:cubicBezTo>
                <a:cubicBezTo>
                  <a:pt x="215" y="1128"/>
                  <a:pt x="217" y="1184"/>
                  <a:pt x="211" y="1233"/>
                </a:cubicBezTo>
                <a:cubicBezTo>
                  <a:pt x="204" y="1283"/>
                  <a:pt x="191" y="1314"/>
                  <a:pt x="172" y="1363"/>
                </a:cubicBezTo>
                <a:cubicBezTo>
                  <a:pt x="154" y="1411"/>
                  <a:pt x="131" y="1474"/>
                  <a:pt x="104" y="1522"/>
                </a:cubicBezTo>
                <a:cubicBezTo>
                  <a:pt x="77" y="1571"/>
                  <a:pt x="32" y="1625"/>
                  <a:pt x="13" y="1652"/>
                </a:cubicBezTo>
              </a:path>
            </a:pathLst>
          </a:custGeom>
          <a:noFill/>
          <a:ln w="36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8116920" y="2803680"/>
            <a:ext cx="317520" cy="0"/>
          </a:xfrm>
          <a:prstGeom prst="line">
            <a:avLst/>
          </a:prstGeom>
          <a:ln w="36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08" name=""/>
          <p:cNvGrpSpPr/>
          <p:nvPr/>
        </p:nvGrpSpPr>
        <p:grpSpPr>
          <a:xfrm>
            <a:off x="8232840" y="5392800"/>
            <a:ext cx="104760" cy="114120"/>
            <a:chOff x="8232840" y="5392800"/>
            <a:chExt cx="104760" cy="114120"/>
          </a:xfrm>
        </p:grpSpPr>
        <p:sp>
          <p:nvSpPr>
            <p:cNvPr id="2209" name=""/>
            <p:cNvSpPr/>
            <p:nvPr/>
          </p:nvSpPr>
          <p:spPr>
            <a:xfrm>
              <a:off x="8232840" y="5392800"/>
              <a:ext cx="104760" cy="114120"/>
            </a:xfrm>
            <a:prstGeom prst="ellipse">
              <a:avLst/>
            </a:prstGeom>
            <a:solidFill>
              <a:srgbClr val="ff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232840" y="5392800"/>
              <a:ext cx="104760" cy="114120"/>
            </a:xfrm>
            <a:prstGeom prst="ellipse">
              <a:avLst/>
            </a:prstGeom>
            <a:noFill/>
            <a:ln cap="rnd" w="36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211" name=""/>
          <p:cNvSpPr/>
          <p:nvPr/>
        </p:nvSpPr>
        <p:spPr>
          <a:xfrm>
            <a:off x="8661240" y="3595680"/>
            <a:ext cx="71640" cy="1862280"/>
          </a:xfrm>
          <a:custGeom>
            <a:avLst/>
            <a:gdLst/>
            <a:ahLst/>
            <a:rect l="l" t="t" r="r" b="b"/>
            <a:pathLst>
              <a:path w="45" h="1173">
                <a:moveTo>
                  <a:pt x="28" y="69"/>
                </a:moveTo>
                <a:lnTo>
                  <a:pt x="28" y="1104"/>
                </a:lnTo>
                <a:lnTo>
                  <a:pt x="17" y="1104"/>
                </a:lnTo>
                <a:lnTo>
                  <a:pt x="17" y="69"/>
                </a:lnTo>
                <a:lnTo>
                  <a:pt x="28" y="69"/>
                </a:lnTo>
                <a:close/>
                <a:moveTo>
                  <a:pt x="0" y="76"/>
                </a:moveTo>
                <a:lnTo>
                  <a:pt x="23" y="0"/>
                </a:lnTo>
                <a:lnTo>
                  <a:pt x="45" y="76"/>
                </a:lnTo>
                <a:lnTo>
                  <a:pt x="0" y="76"/>
                </a:lnTo>
                <a:close/>
                <a:moveTo>
                  <a:pt x="45" y="1097"/>
                </a:moveTo>
                <a:lnTo>
                  <a:pt x="23" y="1173"/>
                </a:lnTo>
                <a:lnTo>
                  <a:pt x="0" y="1097"/>
                </a:lnTo>
                <a:lnTo>
                  <a:pt x="45" y="109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8431200" y="3608280"/>
            <a:ext cx="326880" cy="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8394840" y="5457960"/>
            <a:ext cx="350640" cy="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840960" y="245124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1046880" y="2610000"/>
            <a:ext cx="66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</a:rPr>
              <a:t>b,fi,t,Rd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1762920" y="2451240"/>
            <a:ext cx="252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66"/>
                </a:solidFill>
                <a:latin typeface="Arial"/>
              </a:rPr>
              <a:t>= 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2071440" y="2417760"/>
            <a:ext cx="160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66"/>
                </a:solidFill>
                <a:latin typeface="Symbol"/>
                <a:ea typeface="Symbol"/>
              </a:rPr>
              <a:t>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2231280" y="26100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</a:rPr>
              <a:t>fi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2421000" y="2451240"/>
            <a:ext cx="276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66"/>
                </a:solidFill>
                <a:latin typeface="Arial"/>
              </a:rPr>
              <a:t>A 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2703240" y="245124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66"/>
                </a:solidFill>
                <a:latin typeface="Arial"/>
              </a:rPr>
              <a:t>k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2848320" y="2610000"/>
            <a:ext cx="150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</a:rPr>
              <a:t>y.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2993760" y="25876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</a:rPr>
              <a:t>q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3096360" y="2610000"/>
            <a:ext cx="36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</a:rPr>
              <a:t>max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3502080" y="245124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3598200" y="26100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3768480" y="2451240"/>
            <a:ext cx="162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66"/>
                </a:solidFill>
                <a:latin typeface="Arial"/>
              </a:rPr>
              <a:t>/ 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3900600" y="2417760"/>
            <a:ext cx="16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4040640" y="2610000"/>
            <a:ext cx="30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</a:rPr>
              <a:t>M.fi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31240" y="3038400"/>
            <a:ext cx="508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Effective length factor = 0,7 for lowest storey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833400" y="3386160"/>
            <a:ext cx="510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with pinned base ( intermediate storey would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838440" y="3733920"/>
            <a:ext cx="11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ave 0,5)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835200" y="4327560"/>
            <a:ext cx="35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ote: this is a favourable effec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837000" y="4927680"/>
            <a:ext cx="185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=&gt; Slendernes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3022560" y="4894200"/>
            <a:ext cx="307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66"/>
                </a:solidFill>
                <a:latin typeface="Symbol"/>
                <a:ea typeface="Symbol"/>
              </a:rPr>
              <a:t></a:t>
            </a:r>
            <a:endParaRPr b="0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3473280" y="4927680"/>
            <a:ext cx="1910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= 0.7 x 64,3 = 4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3024-CD6A-434C-ABBE-EF9D989381C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eel column: design resistance in the fire situ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957240" y="1544760"/>
            <a:ext cx="226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FIRST ITERATION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958320" y="2036880"/>
            <a:ext cx="403164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ssume that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the fire situation=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4953960" y="2030400"/>
            <a:ext cx="518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0,85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4954680" y="2308320"/>
            <a:ext cx="474480" cy="25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5496120" y="2036880"/>
            <a:ext cx="1698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x 86,8 = 73,78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953280" y="2517840"/>
            <a:ext cx="4272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Note: this is an unfavourable effect (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5219640" y="251784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5506200" y="2517840"/>
            <a:ext cx="271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decreasing faster then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8232480" y="251784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66"/>
                </a:solidFill>
                <a:latin typeface="Times New Roman"/>
              </a:rPr>
              <a:t>f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8316720" y="266868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8459640" y="251784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573840" y="2981160"/>
            <a:ext cx="214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11440" y="3011400"/>
            <a:ext cx="524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Normalised slenderness in the fire situation: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227280" y="298116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6441480" y="3011400"/>
            <a:ext cx="142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Times New Roman"/>
              </a:rPr>
              <a:t>/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6584760" y="298116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6732000" y="3162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6876000" y="3011400"/>
            <a:ext cx="2090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= 45/73,78 = 0,61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954720" y="3471840"/>
            <a:ext cx="2818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Reduction factor in fire,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3917520" y="34416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Symbol"/>
                <a:ea typeface="Symbol"/>
              </a:rPr>
              <a:t>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4066200" y="3621240"/>
            <a:ext cx="11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fi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4355280" y="3471840"/>
            <a:ext cx="749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= 0,67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5432400" y="3511440"/>
            <a:ext cx="16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C3: 4.2.3.2 (2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49000" y="40212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741600" y="4172040"/>
            <a:ext cx="66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.fi.0.Rd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423440" y="4021200"/>
            <a:ext cx="113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= 0,67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2453760" y="4021200"/>
            <a:ext cx="97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610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3247560" y="4021200"/>
            <a:ext cx="532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3706920" y="4021200"/>
            <a:ext cx="20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0,275 / 1 = 1124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5779440" y="4021200"/>
            <a:ext cx="32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kN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954360" y="4581360"/>
            <a:ext cx="250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Degree of utilization,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3335040" y="4551480"/>
            <a:ext cx="154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3490200" y="4732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3646800" y="4581360"/>
            <a:ext cx="2460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= 456 / 1124 = 0,406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955440" y="5137200"/>
            <a:ext cx="2401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Critical temperature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3638520" y="5106960"/>
            <a:ext cx="1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779280" y="52862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cr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4053600" y="5137200"/>
            <a:ext cx="749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= 617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4749480" y="5137200"/>
            <a:ext cx="107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Times New Roman"/>
              </a:rPr>
              <a:t>°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4859280" y="51372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956160" y="5686560"/>
            <a:ext cx="605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66"/>
                </a:solidFill>
                <a:latin typeface="Times New Roman"/>
              </a:rPr>
              <a:t>=&gt; K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1571040" y="5837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1748880" y="5686560"/>
            <a:ext cx="1046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= 0,279; 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2725200" y="568656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2905920" y="583740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imes New Roman"/>
              </a:rPr>
              <a:t>fy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3102480" y="5686560"/>
            <a:ext cx="26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= 0,210; (0,210/0,279)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5794560" y="56912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,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6300000" y="5686560"/>
            <a:ext cx="896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= 0,868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A5CAC-EF50-4FD4-8D8C-AE5A9CFEE3D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EC1 (ISO834) standard fire curv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87280" y="1468440"/>
            <a:ext cx="644868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2E7B-A99B-4459-85F5-A2C33CBB87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eel column: design resistance in the fire situ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654480" y="1608120"/>
            <a:ext cx="251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ITER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655200" y="2116080"/>
            <a:ext cx="14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818280" y="23130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988560" y="2149560"/>
            <a:ext cx="2283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the fire situation=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3490200" y="21495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3587760" y="2143080"/>
            <a:ext cx="581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,85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3589200" y="2449440"/>
            <a:ext cx="6210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4283280" y="21430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,868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4284720" y="2449440"/>
            <a:ext cx="669960" cy="25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5026320" y="2149560"/>
            <a:ext cx="98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x 86,8 =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6090480" y="2149560"/>
            <a:ext cx="80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73,78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7034400" y="214956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75,34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231480" y="265104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650520" y="2651040"/>
            <a:ext cx="14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888120" y="2684520"/>
            <a:ext cx="13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/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045800" y="2651040"/>
            <a:ext cx="14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1208880" y="2847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1378800" y="2684520"/>
            <a:ext cx="1500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45/75,34 =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2990160" y="2684520"/>
            <a:ext cx="66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0,61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3784680" y="2684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,597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650880" y="3191040"/>
            <a:ext cx="268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duction factor in fire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3587400" y="3157560"/>
            <a:ext cx="14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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3750120" y="3354480"/>
            <a:ext cx="11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fi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3946680" y="3191040"/>
            <a:ext cx="22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4188960" y="3191040"/>
            <a:ext cx="66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0,67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4981680" y="319104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,679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6462720" y="3191040"/>
            <a:ext cx="179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C3: 4.2.3.2 (2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207720" y="37940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20840" y="3957480"/>
            <a:ext cx="66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.fi.0.Rd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1164240" y="3794040"/>
            <a:ext cx="1200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0,679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2306880" y="3794040"/>
            <a:ext cx="947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610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3126600" y="3794040"/>
            <a:ext cx="52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524400" y="3794040"/>
            <a:ext cx="127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,275 / 1 =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4893480" y="3794040"/>
            <a:ext cx="73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124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5764320" y="37940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139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6433200" y="3794040"/>
            <a:ext cx="31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652680" y="4410000"/>
            <a:ext cx="2390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gree of utilization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3266640" y="437688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3437640" y="4573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3607200" y="4410000"/>
            <a:ext cx="171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456 / 1139 =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5442480" y="4410000"/>
            <a:ext cx="80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0,406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6388200" y="44100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,40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51600" y="5019840"/>
            <a:ext cx="229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ritical temperature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3115440" y="498636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3271320" y="51832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cr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3498480" y="5019840"/>
            <a:ext cx="645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62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4153680" y="5019840"/>
            <a:ext cx="102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°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4272120" y="5019840"/>
            <a:ext cx="41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 (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4603680" y="498636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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4871160" y="50198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617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5319000" y="5019840"/>
            <a:ext cx="102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°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5437800" y="5019840"/>
            <a:ext cx="270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3780000" y="2997360"/>
            <a:ext cx="669600" cy="25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5003640" y="3500280"/>
            <a:ext cx="669960" cy="25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5796000" y="4076640"/>
            <a:ext cx="900000" cy="25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6372360" y="4724280"/>
            <a:ext cx="669960" cy="25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5FF4-A2AC-47E8-BD60-6AFE27802E7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eel column: design resistance in the fire situ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618480" y="1798560"/>
            <a:ext cx="741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te: Working in the load domain, that means calculating the loa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616320" y="2152800"/>
            <a:ext cx="724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aring capacity in the fire situation after a certain required time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621720" y="2509920"/>
            <a:ext cx="5160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.g. 30 minutes, would not imply any iterati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FBE5-C50B-4683-9FC5-28C3F14B7F5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eel column: critical temperature, fire resistance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47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197920" cy="454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490B-24A7-4C79-AAB7-F6C4635C9E5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410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re resistance times based on standard fire curve - NOT on survival in real fir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C1 Parametric Fire temperature-time curves.  Based on fire load and compartment properties (&lt; 500 m</a:t>
            </a:r>
            <a:r>
              <a:rPr b="0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. Only allowed with calculation model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fferent EC1 time-temperature curv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811400" cy="444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42A5-3880-4926-90A1-49EAF43FBB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4464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ches times to given temperature of the element in a natural fire and in Standard Fir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ed to rate fire severity or element performance relative to furnace tes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ime-equivalen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16560" y="1484280"/>
            <a:ext cx="4376520" cy="4584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03280" y="2492280"/>
            <a:ext cx="5616720" cy="352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588B-F6A3-4F08-AEE3-E3D3768B75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2852640"/>
            <a:ext cx="424836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re Testing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ad kept constant, fire temperature increased using Standard Fire curve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um deflection criterion for fire resistance of beams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ad capacity criterion for fire resistance of colum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urnace tests on structural elem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624200" cy="1014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0" y="2852640"/>
            <a:ext cx="424800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29840" indent="-429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ble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29840" indent="-429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mited range of spans feasible, simply supported beams most of the tim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29840" indent="-429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ffects of continuity ignored.  Beams fail by “run-away”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29840" indent="-429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traint to thermal expansion by surrounding structure ignored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2C39-AC9E-4871-92AE-594F2E9DEE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1:13:39Z</dcterms:created>
  <dc:creator>Klaus Weynand</dc:creator>
  <dc:description/>
  <dc:language>en-US</dc:language>
  <cp:lastModifiedBy>Klaus Weynand</cp:lastModifiedBy>
  <dcterms:modified xsi:type="dcterms:W3CDTF">2009-02-20T15:02:23Z</dcterms:modified>
  <cp:revision>110</cp:revision>
  <dc:subject/>
  <dc:title>asdasdsdsda</dc:title>
</cp:coreProperties>
</file>